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143-5541-44C0-8DC7-8C242EC0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5EC-12A0-4E5F-91D8-7609EC89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4F1-3025-42B6-BF45-CECF609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AD9-9FD9-48AB-B574-1D902DDC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8FE-D186-4F5C-9E7C-E93B52A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5D6-7B0B-432C-90B3-D0921C5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D0F-8323-4F45-90AD-6D6D475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518-D119-47CE-8B06-D0CE2071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774-AE6B-483F-A87C-08193D0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C79-B1E6-4668-9813-248A80C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D74-0A81-4311-9522-8761EFB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9F8-9656-4866-9541-3DE9652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4D6E-2608-48C8-A152-DB450B4C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09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ежим оккупации на Дальнем Востоке во время Гражданской войны: деятельность иностранных развед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БАРОВСК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имир Арсеньев — пис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 развед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424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16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е военнослужащие шагают 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. Светланской во Влади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ители армий интервентов на Дальнем 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440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2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...для армии нет ничего более близкого, чем шпионы; нет больших наград чем для шпионов; нет дел более секретных, чем шпионские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нь-цзы «Искусство вой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98064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лз Пойндек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2 апреля 1868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сентября 19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юрист и политик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ilesPoindexter.jpg"/>
          <p:cNvPicPr/>
          <p:nvPr/>
        </p:nvPicPr>
        <p:blipFill>
          <a:blip r:embed="rId1"/>
          <a:stretch/>
        </p:blipFill>
        <p:spPr>
          <a:xfrm>
            <a:off x="468360" y="1052640"/>
            <a:ext cx="4103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0280" y="2052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11280" y="691920"/>
            <a:ext cx="4475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притязания Америки весьма крупные, а Япония не брезгует нич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считаю Дальний Восток потерянным для нас, если не навсегда, то на некоторый промежуток врем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  письма Денник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1 октября 1918 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мирал Колчак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Александр Васильевич Колчак."/>
          <p:cNvPicPr/>
          <p:nvPr/>
        </p:nvPicPr>
        <p:blipFill>
          <a:blip r:embed="rId1"/>
          <a:stretch/>
        </p:blipFill>
        <p:spPr>
          <a:xfrm>
            <a:off x="324000" y="549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истофоров В.С. – член-корреспондент РАН, доктор юридических наук, проф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Василий Христофоров.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понские интервенты на Дальнем 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94316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гей Корнилов – ведущий библиотечного проекта «Объяснения», г. Владив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58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373720"/>
            <a:ext cx="396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мерсет Моэ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74 — 19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оману «Эшенден или Британский агент» (1928) и  рассказу «Сон» (1936) можно достаточно точно установить, что делал агент Сомервиль во Владивос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917-Моэм" descr=""/>
          <p:cNvPicPr/>
          <p:nvPr/>
        </p:nvPicPr>
        <p:blipFill>
          <a:blip r:embed="rId1"/>
          <a:stretch/>
        </p:blipFill>
        <p:spPr>
          <a:xfrm>
            <a:off x="542880" y="836640"/>
            <a:ext cx="3598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0T11:34:10Z</dcterms:created>
  <dc:creator>Ольга</dc:creator>
  <dc:description/>
  <dc:language>en-US</dc:language>
  <cp:lastModifiedBy>MatushkinaON</cp:lastModifiedBy>
  <dcterms:modified xsi:type="dcterms:W3CDTF">2023-07-07T01:33:05Z</dcterms:modified>
  <cp:revision>5</cp:revision>
  <dc:subject/>
  <dc:title>Слайд 1</dc:title>
</cp:coreProperties>
</file>