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088-4EA9-459F-86E3-D4DDEE3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D66-0003-41B7-A447-8CF8A6D6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821-3DF6-49A4-93EF-8D5F6FCC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333-A133-4B02-ADEA-0165CDA8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056-0C63-409E-951B-11EC23DE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F19-3132-4D1F-AD8F-2BDB66AC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6AD-6EBD-4280-A925-FE528E78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709-5089-434A-B627-4A14758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717-D97B-4D6C-9E2E-2B9854C9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9FD-F2C5-4E76-A1AC-91B4E6C9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60A-764D-4510-A1B2-A086F748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A57-8C5B-4068-BC0B-0D36155C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4E8-4FBC-48A0-9643-80276E6C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09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8064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ежим оккупации на Дальнем Востоке во время Гражданской войны: деятельность иностранных развед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БАРОВСК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ладимир Арсеньев — пис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  развед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84360" y="260280"/>
            <a:ext cx="424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168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е военнослужащие шагают п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. Светланской во Владивост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ители армий интервентов на Дальнем Вост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440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032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...для армии нет ничего более близкого, чем шпионы; нет больших наград чем для шпионов; нет дел более секретных, чем шпионские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нь-цзы «Искусство вой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7960" y="980640"/>
            <a:ext cx="4244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йлз Пойндек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2 апреля 1868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сентября 194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й юрист и политик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MilesPoindexter.jpg"/>
          <p:cNvPicPr/>
          <p:nvPr/>
        </p:nvPicPr>
        <p:blipFill>
          <a:blip r:embed="rId1"/>
          <a:stretch/>
        </p:blipFill>
        <p:spPr>
          <a:xfrm>
            <a:off x="468360" y="1052640"/>
            <a:ext cx="41036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0280" y="2052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11280" y="691920"/>
            <a:ext cx="4475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притязания Америки весьма крупные, а Япония не брезгует нич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считаю Дальний Восток потерянным для нас, если не навсегда, то на некоторый промежуток време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з  письма Денник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1 октября 1918 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дмирал Колчак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Александр Васильевич Колчак."/>
          <p:cNvPicPr/>
          <p:nvPr/>
        </p:nvPicPr>
        <p:blipFill>
          <a:blip r:embed="rId1"/>
          <a:stretch/>
        </p:blipFill>
        <p:spPr>
          <a:xfrm>
            <a:off x="324000" y="549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истофоров В.С. – член-корреспондент РАН, доктор юридических наук, профес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Василий Христофоров."/>
          <p:cNvPicPr/>
          <p:nvPr/>
        </p:nvPicPr>
        <p:blipFill>
          <a:blip r:embed="rId1"/>
          <a:stretch/>
        </p:blipFill>
        <p:spPr>
          <a:xfrm>
            <a:off x="468360" y="476280"/>
            <a:ext cx="792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понские интервенты на Дальнем Вост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36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94316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гей Корнилов – ведущий библиотечного проекта «Объяснения», г. Владиво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58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373720"/>
            <a:ext cx="396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мерсет Моэ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874 — 19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40388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оману «Эшенден или Британский агент» (1928) и  рассказу «Сон» (1936) можно достаточно точно установить, что делал агент Сомервиль во Владивост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1917-Моэм" descr=""/>
          <p:cNvPicPr/>
          <p:nvPr/>
        </p:nvPicPr>
        <p:blipFill>
          <a:blip r:embed="rId1"/>
          <a:stretch/>
        </p:blipFill>
        <p:spPr>
          <a:xfrm>
            <a:off x="542880" y="836640"/>
            <a:ext cx="3598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0T11:34:10Z</dcterms:created>
  <dc:creator>Ольга</dc:creator>
  <dc:description/>
  <dc:language>en-US</dc:language>
  <cp:lastModifiedBy>MatushkinaON</cp:lastModifiedBy>
  <dcterms:modified xsi:type="dcterms:W3CDTF">2023-07-07T01:33:05Z</dcterms:modified>
  <cp:revision>5</cp:revision>
  <dc:subject/>
  <dc:title>Слайд 1</dc:title>
</cp:coreProperties>
</file>