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F31-0127-444A-B019-4773C20A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13A7-4E7C-4BE7-A92B-C8C518D8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C4C-788D-4C99-87DA-64D9140B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50A-82AC-46D4-ABEC-E2114423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FB8-B334-4877-A84B-65FA523F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17E-AE7D-4EF6-82B5-488AAB68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3D3-8122-4EBF-A0E9-5099E031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ADBA-AE66-4624-8280-ADBD1798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104-A5C5-43CC-9B74-579257A6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E5F-33CF-443F-9153-12263CD6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3FD-CCEE-457E-B3AB-A01C457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E34-9B49-49F2-9B46-46F40987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205A-CA2D-4AFF-B2E8-1F4F4ACD47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«Объем пирамид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нева И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высоту пирамиды  пирамиды если сторона основания равны 3  и 4 , а объем равен 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3" descr="https://fs01.urokimatematiki.ru/e/000fb0-005.jpg"/>
          <p:cNvPicPr/>
          <p:nvPr/>
        </p:nvPicPr>
        <p:blipFill>
          <a:blip r:embed="rId1"/>
          <a:stretch/>
        </p:blipFill>
        <p:spPr>
          <a:xfrm>
            <a:off x="1295280" y="304920"/>
            <a:ext cx="72993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Объект 3" descr="https://ds04.infourok.ru/uploads/ex/0e79/00173ff8-6295f8a8/3/640/img18.jpg"/>
          <p:cNvPicPr/>
          <p:nvPr/>
        </p:nvPicPr>
        <p:blipFill>
          <a:blip r:embed="rId1"/>
          <a:stretch/>
        </p:blipFill>
        <p:spPr>
          <a:xfrm>
            <a:off x="1066680" y="228600"/>
            <a:ext cx="7696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СТ. </a:t>
            </a:r>
            <a:br>
              <a:rPr sz="14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 Напишите формулу для нахождения объема пирамиды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Ответ 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Вычислите объём пирамиды если площадь ее основания 25 см2 а высота 6 см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 ___________________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.В основании  пирамиды квадрат со стороной 7 см. Найдите объем пирамиды если высота равна 10 см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Ответ ______________________________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Найдите высоту пирамиды если площадь основания 15 см2 , а объём 45 см3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 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C:\Documents and Settings\Mikharevagv\Мои документы\Мои рисунки\nambe9.gif"/>
          <p:cNvPicPr/>
          <p:nvPr/>
        </p:nvPicPr>
        <p:blipFill>
          <a:blip r:embed="rId1"/>
          <a:stretch/>
        </p:blipFill>
        <p:spPr>
          <a:xfrm>
            <a:off x="838080" y="5207040"/>
            <a:ext cx="78487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5О 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130 СМ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9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Объект 3"/>
              <p:cNvSpPr txBox="1"/>
              <p:nvPr/>
            </p:nvSpPr>
            <p:spPr>
              <a:xfrm>
                <a:off x="1905120" y="380880"/>
                <a:ext cx="16002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00200" y="190512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Я задумался сегодня о 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Для меня было неожиданным, новым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Больше всего мне заполнилось сегодн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Больше всего мне понравилось сегодня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Мне было интересно, когд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33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Book Antiqua"/>
              </a:rPr>
              <a:t>Мне было трудн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139840" cy="274320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ходной би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вызвало затрудн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Что я хотел бы узнать по теме объем пирами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Домашнее задание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Book Antiqua"/>
              </a:rPr>
              <a:t>ПУНКТ №199 СТ.352 №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3457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90360" y="4568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Все на свете боится времен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а время боится пирами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(Арабская пословица </a:t>
            </a:r>
            <a:r>
              <a:rPr b="0" lang="en-US" sz="2000" spc="-1" strike="noStrike">
                <a:solidFill>
                  <a:srgbClr val="333399"/>
                </a:solidFill>
                <a:latin typeface="Monotype Corsiva"/>
              </a:rPr>
              <a:t>XIII</a:t>
            </a: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 в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опия 0002-002-Piramida-mnogogrannik-osnovanie-kotorogo-mnogougolnik-a-ostalnye"/>
          <p:cNvPicPr/>
          <p:nvPr/>
        </p:nvPicPr>
        <p:blipFill>
          <a:blip r:embed="rId1"/>
          <a:stretch/>
        </p:blipFill>
        <p:spPr>
          <a:xfrm>
            <a:off x="2362320" y="2666880"/>
            <a:ext cx="5410080" cy="367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333399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учающ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Изучение понятия «объем пирамиды»  и практическое применение полученных знаний при решении приклад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умение проводить параллель между экономическими и математическими понят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Развивающ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витие творческого отношения  обучающихся к применению теоретических знаний к прикладным вопросам математики и эконом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формирование у обучающихся информационной и коммуникационной  компетен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развитие внимания, памяти, речи, логического мышления при решении задач, умения анализир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Воспитательна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и развитие коммуникационных способностей: работа в группе, в па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научного отношения к решению жизненных проб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спитание самостоятельности, самоконтроля, самооцен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ронтальный 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ой многогранник называется пирамид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172200" y="16765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430" h="21600">
                <a:moveTo>
                  <a:pt x="57709" y="3794"/>
                </a:moveTo>
                <a:lnTo>
                  <a:pt x="71722" y="10800"/>
                </a:lnTo>
                <a:lnTo>
                  <a:pt x="57709" y="1780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62120" y="20574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90000" indent="-900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овите и покажите на рисунке: основание пирамиды, высоту, рёбра, боковые грани, вершину пирами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172200" y="22860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1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1" y="20200"/>
                </a:lnTo>
                <a:lnTo>
                  <a:pt x="76331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1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31" h="21600">
                <a:moveTo>
                  <a:pt x="31859" y="3794"/>
                </a:moveTo>
                <a:lnTo>
                  <a:pt x="45872" y="10800"/>
                </a:lnTo>
                <a:lnTo>
                  <a:pt x="31859" y="17806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62120" y="297180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101880" indent="-101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кая пирамида называется правильной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172200" y="320040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7073" h="21600">
                <a:moveTo>
                  <a:pt x="41530" y="3794"/>
                </a:moveTo>
                <a:lnTo>
                  <a:pt x="55543" y="10800"/>
                </a:lnTo>
                <a:lnTo>
                  <a:pt x="41530" y="17806"/>
                </a:lnTo>
                <a:close/>
              </a:path>
            </a:pathLst>
          </a:cu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85800" y="3733920"/>
            <a:ext cx="533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ормула для нахождения объёма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353280" y="3962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3794"/>
                </a:moveTo>
                <a:lnTo>
                  <a:pt x="39389" y="10800"/>
                </a:lnTo>
                <a:lnTo>
                  <a:pt x="25377" y="17806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77724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5360" y="304560"/>
            <a:ext cx="78487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Пирамидой называется тело,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образованное плоским многоугольником (основание), точкой, не лежащей в плоскости этого многоугольника (вершина), и всех отрезков, соединяющих точки основания с верш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828800" y="2590920"/>
            <a:ext cx="6477120" cy="39542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477120" cy="59058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3" descr="https://im0-tub-ru.yandex.net/i?id=07379b9ba2656f8403b19d15eeccb7d9-l&amp;n=13"/>
          <p:cNvPicPr/>
          <p:nvPr/>
        </p:nvPicPr>
        <p:blipFill>
          <a:blip r:embed="rId1"/>
          <a:stretch/>
        </p:blipFill>
        <p:spPr>
          <a:xfrm>
            <a:off x="762120" y="533520"/>
            <a:ext cx="7848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74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 Antiqua"/>
              </a:rPr>
              <a:t>Объем пирамиды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вычисляется по формуле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де S — площадь основания и h — высо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ъём пирамиды равен одной третей площади основания на выс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3124080" y="1447920"/>
                <a:ext cx="30924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AutoShape 6"/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4570560" y="406404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– 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2895480" y="4902120"/>
                <a:ext cx="56181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" name="Group 7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72" name="Freeform 8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>
                <a:gd name="textAreaLeft" fmla="*/ 0 w 3858120"/>
                <a:gd name="textAreaRight" fmla="*/ 3858480 w 38581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250920" y="3789360"/>
              <a:ext cx="3889440" cy="115236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3629" h="1360">
                  <a:moveTo>
                    <a:pt x="0" y="1360"/>
                  </a:moveTo>
                  <a:lnTo>
                    <a:pt x="1588" y="0"/>
                  </a:lnTo>
                  <a:lnTo>
                    <a:pt x="3629" y="0"/>
                  </a:lnTo>
                </a:path>
              </a:pathLst>
            </a:cu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Line 10"/>
          <p:cNvSpPr/>
          <p:nvPr/>
        </p:nvSpPr>
        <p:spPr>
          <a:xfrm flipV="1">
            <a:off x="2124000" y="1557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124000" y="1557360"/>
            <a:ext cx="201636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1620720" y="422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16945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268360" y="256536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250920" y="3789360"/>
            <a:ext cx="3889440" cy="1154160"/>
            <a:chOff x="250920" y="3789360"/>
            <a:chExt cx="3889440" cy="1154160"/>
          </a:xfrm>
        </p:grpSpPr>
        <p:sp>
          <p:nvSpPr>
            <p:cNvPr id="84" name="Freeform 29"/>
            <p:cNvSpPr/>
            <p:nvPr/>
          </p:nvSpPr>
          <p:spPr>
            <a:xfrm>
              <a:off x="250920" y="3789360"/>
              <a:ext cx="3858120" cy="1154160"/>
            </a:xfrm>
            <a:custGeom>
              <a:avLst/>
              <a:gdLst>
                <a:gd name="textAreaLeft" fmla="*/ 0 w 3858120"/>
                <a:gd name="textAreaRight" fmla="*/ 3858480 w 3858120"/>
                <a:gd name="textAreaTop" fmla="*/ 0 h 1154160"/>
                <a:gd name="textAreaBottom" fmla="*/ 1154520 h 1154160"/>
              </a:gdLst>
              <a:ahLst/>
              <a:rect l="textAreaLeft" t="textAreaTop" r="textAreaRight" b="textAreaBottom"/>
              <a:pathLst>
                <a:path w="3600" h="1362">
                  <a:moveTo>
                    <a:pt x="0" y="1362"/>
                  </a:moveTo>
                  <a:cubicBezTo>
                    <a:pt x="35" y="1350"/>
                    <a:pt x="62" y="1362"/>
                    <a:pt x="100" y="1362"/>
                  </a:cubicBezTo>
                  <a:lnTo>
                    <a:pt x="2058" y="1360"/>
                  </a:lnTo>
                  <a:lnTo>
                    <a:pt x="3600" y="0"/>
                  </a:lnTo>
                </a:path>
              </a:pathLst>
            </a:custGeom>
            <a:solidFill>
              <a:srgbClr val="99cc00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250920" y="3789360"/>
              <a:ext cx="3889440" cy="1152360"/>
            </a:xfrm>
            <a:prstGeom prst="pie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Line 31"/>
          <p:cNvSpPr/>
          <p:nvPr/>
        </p:nvSpPr>
        <p:spPr>
          <a:xfrm flipH="1" flipV="1">
            <a:off x="2124000" y="1557000"/>
            <a:ext cx="93600" cy="2808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H="1">
            <a:off x="250560" y="1557360"/>
            <a:ext cx="1873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124000" y="1557360"/>
            <a:ext cx="2872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 flipH="1">
            <a:off x="1979280" y="1557360"/>
            <a:ext cx="144360" cy="2232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5"/>
          <p:cNvSpPr/>
          <p:nvPr/>
        </p:nvSpPr>
        <p:spPr>
          <a:xfrm>
            <a:off x="162108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7"/>
          <p:cNvGrpSpPr/>
          <p:nvPr/>
        </p:nvGrpSpPr>
        <p:grpSpPr>
          <a:xfrm>
            <a:off x="900000" y="5084640"/>
            <a:ext cx="720720" cy="531000"/>
            <a:chOff x="900000" y="5084640"/>
            <a:chExt cx="720720" cy="531000"/>
          </a:xfrm>
        </p:grpSpPr>
        <p:sp>
          <p:nvSpPr>
            <p:cNvPr id="92" name="Text Box 48"/>
            <p:cNvSpPr/>
            <p:nvPr/>
          </p:nvSpPr>
          <p:spPr>
            <a:xfrm>
              <a:off x="900000" y="5155920"/>
              <a:ext cx="3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5"/>
                <p:cNvSpPr txBox="1"/>
                <p:nvPr/>
              </p:nvSpPr>
              <p:spPr>
                <a:xfrm>
                  <a:off x="1115640" y="5084640"/>
                  <a:ext cx="50508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" name="TextBox 30"/>
          <p:cNvSpPr/>
          <p:nvPr/>
        </p:nvSpPr>
        <p:spPr>
          <a:xfrm>
            <a:off x="3132000" y="806400"/>
            <a:ext cx="48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: АВ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квадр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= 2     , ОК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1"/>
          <p:cNvSpPr/>
          <p:nvPr/>
        </p:nvSpPr>
        <p:spPr>
          <a:xfrm>
            <a:off x="4832280" y="3249720"/>
            <a:ext cx="40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     ·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6497640" y="3203640"/>
                <a:ext cx="441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7329600" y="3171960"/>
                <a:ext cx="48564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8" name="TextBox 31"/>
          <p:cNvSpPr/>
          <p:nvPr/>
        </p:nvSpPr>
        <p:spPr>
          <a:xfrm>
            <a:off x="7843680" y="322740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50800" y="19224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Объект 2"/>
              <p:cNvSpPr txBox="1"/>
              <p:nvPr/>
            </p:nvSpPr>
            <p:spPr>
              <a:xfrm>
                <a:off x="5440320" y="1592280"/>
                <a:ext cx="287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1" name="TextBox 3"/>
          <p:cNvSpPr/>
          <p:nvPr/>
        </p:nvSpPr>
        <p:spPr>
          <a:xfrm>
            <a:off x="2520" y="44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069080" y="33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2316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1"/>
          <p:cNvSpPr/>
          <p:nvPr/>
        </p:nvSpPr>
        <p:spPr>
          <a:xfrm flipV="1">
            <a:off x="250920" y="3789000"/>
            <a:ext cx="388944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3"/>
          <p:cNvSpPr/>
          <p:nvPr/>
        </p:nvSpPr>
        <p:spPr>
          <a:xfrm>
            <a:off x="1979640" y="3789360"/>
            <a:ext cx="476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762120" y="34452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timus</dc:creator>
  <dc:description/>
  <dc:language>en-US</dc:language>
  <cp:lastModifiedBy>Инна</cp:lastModifiedBy>
  <dcterms:modified xsi:type="dcterms:W3CDTF">2023-07-06T19:07:31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