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audio2.wav" ContentType="audio/x-wav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audio1.wav" ContentType="audio/x-wav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1BB-EB67-48A4-B447-F1B173DA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5D5-9D79-4ECC-8E8D-30134E70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1DD-959B-45BA-8695-2EEFF8E1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17D-A943-4220-96AF-3149CDFC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9232-073A-425E-A58A-877A9656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5DCF-8DD9-4DB9-B6FB-E85965C4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03C6-003B-4EE4-8345-608F01D1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BF93-2B96-4426-9763-4CF9F806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E7E7-7F18-4AC2-AE5D-CB320536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4A33-990E-4AA2-A2A7-B8595993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B4DC-C553-4ECD-A282-70CE653C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06D-D6F9-47E4-B399-76FEDABB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5DD3-F46F-417B-A476-FFF0D0B0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2B77-14E4-4075-93B1-B841DF22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69B8-7F92-4EF7-A702-4F6E9C05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F938-5BBE-4DA2-8263-6ADDFDA4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DA0A-AE86-44FD-9FD2-E04ED52C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37E-2464-4E41-BD80-8DDD492D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456-009B-451A-88B0-3623D39E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F89-572E-45B9-AFD0-ACB05BC9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DC9-24ED-413F-A5D8-3E1DE002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981-9706-48FB-BD89-C06E4AE7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B90-B8D3-4EF1-A8A0-27D2ABC0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196-9108-41C4-9DC9-8921EEC0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D8649D-DEF3-4AEB-9681-6A8D1954F4A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313D76-2F8E-46D1-8FC1-DA3D8FC6B78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audio2.wav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audio" Target="../media/audio2.wav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audio2.wav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audio2.wav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audio" Target="../media/audio1.wav"/><Relationship Id="rId5" Type="http://schemas.openxmlformats.org/officeDocument/2006/relationships/audio" Target="../media/audio2.wav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4" name="Picture 2" descr="C:\Users\вика\Desktop\8 июляНовая папка (4)\016.jpg"/>
          <p:cNvPicPr/>
          <p:nvPr/>
        </p:nvPicPr>
        <p:blipFill>
          <a:blip r:embed="rId1"/>
          <a:stretch/>
        </p:blipFill>
        <p:spPr>
          <a:xfrm>
            <a:off x="-609480" y="63360"/>
            <a:ext cx="9753120" cy="7314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1503000" y="1793880"/>
            <a:ext cx="6336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f1ec"/>
                </a:solidFill>
                <a:latin typeface="Calibri"/>
              </a:rPr>
              <a:t>День семь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1ec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fff1ec"/>
                </a:solidFill>
                <a:latin typeface="Calibri"/>
              </a:rPr>
              <a:t>любви  и вер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3045600" y="3645360"/>
            <a:ext cx="325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Игра – презентация для дет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4860000" y="6117840"/>
            <a:ext cx="3251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готовила: Леликова Татьяна Игор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вика\Desktop\8 июляНовая папка (4)\i.jpg"/>
          <p:cNvPicPr/>
          <p:nvPr/>
        </p:nvPicPr>
        <p:blipFill>
          <a:blip r:embed="rId2"/>
          <a:stretch/>
        </p:blipFill>
        <p:spPr>
          <a:xfrm>
            <a:off x="6660360" y="548640"/>
            <a:ext cx="2483280" cy="17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3996000" y="1623240"/>
            <a:ext cx="3816000" cy="1553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Я у мамы не од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У неё ещё есть с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ядом с ним я малов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Для меня о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6300360" y="3717000"/>
            <a:ext cx="2843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брый сос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6372360" y="4653000"/>
            <a:ext cx="2771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арший б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5364000" y="3717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57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5436360" y="4653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вика\Desktop\8 июляНовая папка (4)\1408960950_13.png"/>
          <p:cNvPicPr/>
          <p:nvPr/>
        </p:nvPicPr>
        <p:blipFill>
          <a:blip r:embed="rId3"/>
          <a:stretch/>
        </p:blipFill>
        <p:spPr>
          <a:xfrm>
            <a:off x="3420000" y="3141000"/>
            <a:ext cx="201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delay="0" evt="onClick">
                    <p:tgtEl>
                      <p:spTgt spid="155"/>
                    </p:tgtEl>
                  </p:cond>
                </p:stCondLst>
                <p:childTnLst>
                  <p:par>
                    <p:cTn id="93" fill="hold">
                      <p:stCondLst>
                        <p:cond delay="0"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delay="0" evt="onClick">
                    <p:tgtEl>
                      <p:spTgt spid="154"/>
                    </p:tgtEl>
                  </p:cond>
                </p:stCondLst>
                <p:childTnLst>
                  <p:par>
                    <p:cTn id="100" fill="hold">
                      <p:stCondLst>
                        <p:cond delay="0"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0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3708000" y="1052640"/>
            <a:ext cx="43891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мы старшая сестра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 виду вовсе не ста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 улыбкой спросит: «Как живет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в гости к нам приех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5796000" y="4077000"/>
            <a:ext cx="1439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ё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796000" y="4725000"/>
            <a:ext cx="1273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6"/>
          <p:cNvSpPr/>
          <p:nvPr/>
        </p:nvSpPr>
        <p:spPr>
          <a:xfrm>
            <a:off x="4932000" y="4797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65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4932360" y="4077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660360" y="3141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delay="0" evt="onClick">
                    <p:tgtEl>
                      <p:spTgt spid="163"/>
                    </p:tgtEl>
                  </p:cond>
                </p:stCondLst>
                <p:childTnLst>
                  <p:par>
                    <p:cTn id="108" fill="hold">
                      <p:stCondLst>
                        <p:cond delay="0"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delay="0" evt="onClick">
                    <p:tgtEl>
                      <p:spTgt spid="162"/>
                    </p:tgtEl>
                  </p:cond>
                </p:stCondLst>
                <p:childTnLst>
                  <p:par>
                    <p:cTn id="115" fill="hold">
                      <p:stCondLst>
                        <p:cond delay="0"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3636000" y="1052640"/>
            <a:ext cx="4486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должите утвер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«Вся семья вместе, …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4572000" y="2133000"/>
            <a:ext cx="4912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ак можно и чаю поп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4572000" y="2853000"/>
            <a:ext cx="3888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ак и душ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3708360" y="2925000"/>
            <a:ext cx="718560" cy="66348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7"/>
          <p:cNvSpPr/>
          <p:nvPr/>
        </p:nvSpPr>
        <p:spPr>
          <a:xfrm>
            <a:off x="3708000" y="2133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74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588360" y="2925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delay="0" evt="onClick">
                    <p:tgtEl>
                      <p:spTgt spid="171"/>
                    </p:tgtEl>
                  </p:cond>
                </p:stCondLst>
                <p:childTnLst>
                  <p:par>
                    <p:cTn id="123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delay="0" evt="onClick">
                    <p:tgtEl>
                      <p:spTgt spid="170"/>
                    </p:tgtEl>
                  </p:cond>
                </p:stCondLst>
                <p:childTnLst>
                  <p:par>
                    <p:cTn id="130" fill="hold">
                      <p:stCondLst>
                        <p:cond delay="0"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"/>
          <p:cNvSpPr/>
          <p:nvPr/>
        </p:nvSpPr>
        <p:spPr>
          <a:xfrm>
            <a:off x="3636000" y="1124640"/>
            <a:ext cx="4680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каком месяце отмечается День П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Февронии - Всероссийский день семь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любви и вер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7236360" y="378900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7308360" y="4653000"/>
            <a:ext cx="136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ю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6"/>
          <p:cNvSpPr/>
          <p:nvPr/>
        </p:nvSpPr>
        <p:spPr>
          <a:xfrm>
            <a:off x="6300360" y="3789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81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6372720" y="4653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вика\Desktop\8 июляНовая папка (4)\1408960950_13.png"/>
          <p:cNvPicPr/>
          <p:nvPr/>
        </p:nvPicPr>
        <p:blipFill>
          <a:blip r:embed="rId3"/>
          <a:stretch/>
        </p:blipFill>
        <p:spPr>
          <a:xfrm>
            <a:off x="3924000" y="3213000"/>
            <a:ext cx="201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delay="0" evt="onClick">
                    <p:tgtEl>
                      <p:spTgt spid="178"/>
                    </p:tgtEl>
                  </p:cond>
                </p:stCondLst>
                <p:childTnLst>
                  <p:par>
                    <p:cTn id="138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4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delay="0" evt="onClick">
                    <p:tgtEl>
                      <p:spTgt spid="179"/>
                    </p:tgtEl>
                  </p:cond>
                </p:stCondLst>
                <p:childTnLst>
                  <p:par>
                    <p:cTn id="145" fill="hold">
                      <p:stCondLst>
                        <p:cond delay="0"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4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 flipV="1" rot="10800000">
            <a:off x="3708360" y="1091160"/>
            <a:ext cx="4824000" cy="222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ой цветок является символом Всероссий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дня семьи, любви и верности (Дня Петра и Февронии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5148000" y="3645000"/>
            <a:ext cx="193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м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5220000" y="4581000"/>
            <a:ext cx="139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4068360" y="3645000"/>
            <a:ext cx="718560" cy="59148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8"/>
          <p:cNvSpPr/>
          <p:nvPr/>
        </p:nvSpPr>
        <p:spPr>
          <a:xfrm>
            <a:off x="4068000" y="4581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90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732360" y="3069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153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delay="0" evt="onClick">
                    <p:tgtEl>
                      <p:spTgt spid="187"/>
                    </p:tgtEl>
                  </p:cond>
                </p:stCondLst>
                <p:childTnLst>
                  <p:par>
                    <p:cTn id="160" fill="hold">
                      <p:stCondLst>
                        <p:cond delay="0"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6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3852000" y="1845000"/>
            <a:ext cx="50421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акие птицы символизирует вер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6732360" y="3357000"/>
            <a:ext cx="172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лас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6804360" y="4221000"/>
            <a:ext cx="1583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лебе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5940720" y="4221000"/>
            <a:ext cx="718560" cy="5914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8"/>
          <p:cNvSpPr/>
          <p:nvPr/>
        </p:nvSpPr>
        <p:spPr>
          <a:xfrm>
            <a:off x="5940000" y="3357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99" name="Picture 2" descr="C:\Users\вика\Desktop\8 июляНовая папка (4)\1408960950_13.png"/>
          <p:cNvPicPr/>
          <p:nvPr/>
        </p:nvPicPr>
        <p:blipFill>
          <a:blip r:embed="rId3"/>
          <a:stretch/>
        </p:blipFill>
        <p:spPr>
          <a:xfrm>
            <a:off x="3852000" y="2853000"/>
            <a:ext cx="201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delay="0" evt="onClick">
                    <p:tgtEl>
                      <p:spTgt spid="196"/>
                    </p:tgtEl>
                  </p:cond>
                </p:stCondLst>
                <p:childTnLst>
                  <p:par>
                    <p:cTn id="168" fill="hold">
                      <p:stCondLst>
                        <p:cond delay="0"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delay="0" evt="onClick">
                    <p:tgtEl>
                      <p:spTgt spid="195"/>
                    </p:tgtEl>
                  </p:cond>
                </p:stCondLst>
                <p:childTnLst>
                  <p:par>
                    <p:cTn id="175" fill="hold">
                      <p:stCondLst>
                        <p:cond delay="0"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776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альчиковая гимнастик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оугольник 12"/>
          <p:cNvSpPr/>
          <p:nvPr/>
        </p:nvSpPr>
        <p:spPr>
          <a:xfrm>
            <a:off x="4140000" y="1536120"/>
            <a:ext cx="4302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"Семь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ку сжать в кулак, поочередно разжимать пальцы, начиная с больш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т пальчик - дед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т пальчик - баб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т пальчик - пап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т пальчик - мамоч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тот пальчик -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от и вся моя семья (энергично сжать руку в кулак несколько ра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" descr="C:\Users\вика\Desktop\8 июляНовая папка (4)\016.jpg"/>
          <p:cNvPicPr/>
          <p:nvPr/>
        </p:nvPicPr>
        <p:blipFill>
          <a:blip r:embed="rId1"/>
          <a:stretch/>
        </p:blipFill>
        <p:spPr>
          <a:xfrm>
            <a:off x="0" y="0"/>
            <a:ext cx="9753120" cy="73148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2699640" y="908640"/>
            <a:ext cx="6911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аша игра завершила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3492000" y="357480"/>
            <a:ext cx="3542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орогие ребята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7"/>
          <p:cNvSpPr/>
          <p:nvPr/>
        </p:nvSpPr>
        <p:spPr>
          <a:xfrm>
            <a:off x="3348000" y="1772640"/>
            <a:ext cx="4381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ы, все молодц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3348000" y="2637000"/>
            <a:ext cx="4722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До новых встреч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 flipV="1" rot="10800000">
            <a:off x="2988000" y="6143040"/>
            <a:ext cx="507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Users\вика\Desktop\8 июляНовая папка (4)\1408960950_13.png"/>
          <p:cNvPicPr/>
          <p:nvPr/>
        </p:nvPicPr>
        <p:blipFill>
          <a:blip r:embed="rId2"/>
          <a:stretch/>
        </p:blipFill>
        <p:spPr>
          <a:xfrm>
            <a:off x="2771640" y="3357000"/>
            <a:ext cx="1439640" cy="203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207120" y="3285000"/>
            <a:ext cx="14918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:\Users\вика\Desktop\8 июляНовая папка (4)\DQmbLdnx96XG2ohadeNxaAgPMWNSooz1xr11PHiEp3HR4jm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9096200">
            <a:off x="304920" y="638640"/>
            <a:ext cx="1327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 rot="19012800">
            <a:off x="412560" y="1130400"/>
            <a:ext cx="1785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пап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 rot="18856800">
            <a:off x="425160" y="2241720"/>
            <a:ext cx="1445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брат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1979640" y="1917000"/>
            <a:ext cx="801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Я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592960" y="1412640"/>
            <a:ext cx="2686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наша друж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7524360" y="1917000"/>
            <a:ext cx="1619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ем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32328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3636000" y="980640"/>
            <a:ext cx="309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авила иг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924000" y="1484640"/>
            <a:ext cx="46800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ан вопрос и два варианта от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 правильном ответе вылетает  божья коровка и звучат аплодисмен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е правильный ответ сопровожд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рабанной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об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Users\вика\Desktop\8 июляНовая папка (4)\1408961006_14.png"/>
          <p:cNvPicPr/>
          <p:nvPr/>
        </p:nvPicPr>
        <p:blipFill>
          <a:blip r:embed="rId2"/>
          <a:stretch/>
        </p:blipFill>
        <p:spPr>
          <a:xfrm>
            <a:off x="7025040" y="3213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4140000" y="15566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708000" y="1185480"/>
            <a:ext cx="4824000" cy="222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ез чего на белом с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зрослым не прожить и дет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то поддержит вас, друз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Ваша дружная..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6516360" y="3861000"/>
            <a:ext cx="18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мп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6516360" y="4581000"/>
            <a:ext cx="1583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5724360" y="4581000"/>
            <a:ext cx="718560" cy="5914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1"/>
          <p:cNvSpPr/>
          <p:nvPr/>
        </p:nvSpPr>
        <p:spPr>
          <a:xfrm>
            <a:off x="5724000" y="3861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10" name="Picture 2" descr="C:\Users\вика\Desktop\8 июляНовая папка (4)\1408960950_13.png"/>
          <p:cNvPicPr/>
          <p:nvPr/>
        </p:nvPicPr>
        <p:blipFill>
          <a:blip r:embed="rId3"/>
          <a:stretch/>
        </p:blipFill>
        <p:spPr>
          <a:xfrm>
            <a:off x="3564000" y="3357000"/>
            <a:ext cx="1872000" cy="28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10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3852000" y="1412640"/>
            <a:ext cx="47419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н все может, все ум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сех храбрее и силь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Штанга для него как, в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у конечно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796000" y="3645000"/>
            <a:ext cx="1656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796000" y="4509000"/>
            <a:ext cx="1223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я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5004000" y="4581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17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5004360" y="3717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660360" y="2997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delay="0" evt="onClick">
                    <p:tgtEl>
                      <p:spTgt spid="115"/>
                    </p:tgtEl>
                  </p:cond>
                </p:stCondLst>
                <p:childTnLst>
                  <p:par>
                    <p:cTn id="18" fill="hold">
                      <p:stCondLst>
                        <p:cond delay="0"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3708000" y="1845000"/>
            <a:ext cx="417600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милее всех на св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го любят очень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 вопрос отвечу пря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— 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сех милее наша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652000" y="3933000"/>
            <a:ext cx="172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е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727600" y="4797000"/>
            <a:ext cx="1004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4716000" y="3933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25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4716360" y="4725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804360" y="2997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delay="0" evt="onClick">
                    <p:tgtEl>
                      <p:spTgt spid="122"/>
                    </p:tgtEl>
                  </p:cond>
                </p:stCondLst>
                <p:childTnLst>
                  <p:par>
                    <p:cTn id="33" fill="hold">
                      <p:stCondLst>
                        <p:cond delay="0"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3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delay="0" evt="onClick">
                    <p:tgtEl>
                      <p:spTgt spid="123"/>
                    </p:tgtEl>
                  </p:cond>
                </p:stCondLst>
                <p:childTnLst>
                  <p:par>
                    <p:cTn id="40" fill="hold">
                      <p:stCondLst>
                        <p:cond delay="0"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4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3780000" y="1628640"/>
            <a:ext cx="45439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любить не ус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ироги для нас печ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кусные оладуш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то наш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6948360" y="3861000"/>
            <a:ext cx="187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т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6876360" y="4653000"/>
            <a:ext cx="18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б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6012000" y="3861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33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6012720" y="4653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вика\Desktop\8 июляНовая папка (4)\1408960950_13.png"/>
          <p:cNvPicPr/>
          <p:nvPr/>
        </p:nvPicPr>
        <p:blipFill>
          <a:blip r:embed="rId3"/>
          <a:stretch/>
        </p:blipFill>
        <p:spPr>
          <a:xfrm>
            <a:off x="3780000" y="3285000"/>
            <a:ext cx="201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delay="0" evt="onClick">
                    <p:tgtEl>
                      <p:spTgt spid="131"/>
                    </p:tgtEl>
                  </p:cond>
                </p:stCondLst>
                <p:childTnLst>
                  <p:par>
                    <p:cTn id="48" fill="hold">
                      <p:stCondLst>
                        <p:cond delay="0"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delay="0" evt="onClick">
                    <p:tgtEl>
                      <p:spTgt spid="130"/>
                    </p:tgtEl>
                  </p:cond>
                </p:stCondLst>
                <p:childTnLst>
                  <p:par>
                    <p:cTn id="55" fill="hold">
                      <p:stCondLst>
                        <p:cond delay="0"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3708000" y="1268640"/>
            <a:ext cx="4608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всю жизнь работ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кружал заб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нуков, бабушку, дет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важал простых люд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 пенсии уж много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естареющий наш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6300360" y="4077000"/>
            <a:ext cx="935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228360" y="4797000"/>
            <a:ext cx="1295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5364000" y="4869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41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5364360" y="4149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вика\Desktop\8 июляНовая папка (4)\1408961006_14.png"/>
          <p:cNvPicPr/>
          <p:nvPr/>
        </p:nvPicPr>
        <p:blipFill>
          <a:blip r:embed="rId3"/>
          <a:stretch/>
        </p:blipFill>
        <p:spPr>
          <a:xfrm>
            <a:off x="6732360" y="2925000"/>
            <a:ext cx="2118600" cy="29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delay="0" evt="onClick">
                    <p:tgtEl>
                      <p:spTgt spid="138"/>
                    </p:tgtEl>
                  </p:cond>
                </p:stCondLst>
                <p:childTnLst>
                  <p:par>
                    <p:cTn id="63" fill="hold">
                      <p:stCondLst>
                        <p:cond delay="0"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delay="0" evt="onClick">
                    <p:tgtEl>
                      <p:spTgt spid="139"/>
                    </p:tgtEl>
                  </p:cond>
                </p:stCondLst>
                <p:childTnLst>
                  <p:par>
                    <p:cTn id="70" fill="hold">
                      <p:stCondLst>
                        <p:cond delay="0"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C:\Users\вика\Desktop\8 июляНовая папка (4)\4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3636000" y="1268640"/>
            <a:ext cx="57236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то любит и меня, и брат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о больше любит наряжать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чень модная девчонка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я старшая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6732360" y="3429000"/>
            <a:ext cx="1944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дру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6876360" y="4293000"/>
            <a:ext cx="172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естр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5940000" y="3429000"/>
            <a:ext cx="719640" cy="575640"/>
          </a:xfrm>
          <a:prstGeom prst="rect">
            <a:avLst/>
          </a:prstGeom>
          <a:solidFill>
            <a:srgbClr val="ffffff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49" name="Picture 2" descr="C:\Users\вика\Desktop\8 июляНовая папка (4)\525023624.jpg"/>
          <p:cNvPicPr/>
          <p:nvPr/>
        </p:nvPicPr>
        <p:blipFill>
          <a:blip r:embed="rId2"/>
          <a:stretch/>
        </p:blipFill>
        <p:spPr>
          <a:xfrm flipH="1">
            <a:off x="6012720" y="4293000"/>
            <a:ext cx="718560" cy="59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вика\Desktop\8 июляНовая папка (4)\1408960950_13.png"/>
          <p:cNvPicPr/>
          <p:nvPr/>
        </p:nvPicPr>
        <p:blipFill>
          <a:blip r:embed="rId3"/>
          <a:stretch/>
        </p:blipFill>
        <p:spPr>
          <a:xfrm>
            <a:off x="3852000" y="3141000"/>
            <a:ext cx="201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78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0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delay="0" evt="onClick">
                    <p:tgtEl>
                      <p:spTgt spid="146"/>
                    </p:tgtEl>
                  </p:cond>
                </p:stCondLst>
                <p:childTnLst>
                  <p:par>
                    <p:cTn id="85" fill="hold">
                      <p:stCondLst>
                        <p:cond delay="0"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  <Words>379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30T13:55:44Z</dcterms:created>
  <dc:creator>вика</dc:creator>
  <dc:description/>
  <dc:language>en-US</dc:language>
  <cp:lastModifiedBy>Ал Леликов</cp:lastModifiedBy>
  <dcterms:modified xsi:type="dcterms:W3CDTF">2023-07-06T16:12:4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