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audio2.wav" ContentType="audio/x-wav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audio1.wav" ContentType="audio/x-wav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D79-D072-4355-89AB-24CCF06D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657-8414-473E-8955-E06E7FF1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88C-DE32-41B1-8381-4B3FE1BF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C9C-5353-4709-8A8C-555911CF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9A8F-4453-49FD-B0CC-ACE6E070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706A-AA03-453D-9924-8842E646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C1DF-C64D-4F80-AC08-3118AFDF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FC4D-431A-4792-BEFA-B744613C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336E-A91E-4C1B-B582-09103702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1FB9-6E2A-4AA9-9E9D-57C5171D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93C2-AC6F-4C29-B620-53599F3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DFB-907A-4D87-AEB7-0E5CE07E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5001-E95D-4AAC-BD00-5A30826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0F5F-B6F3-4E15-8636-23683157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31FB-78BA-4C7E-9156-42792E14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07EC-E7B7-4815-BAAA-791319BB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2099-5804-4387-BDD2-3816E9BD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FDA-DD38-42E8-9815-341F3E2D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216-C473-4331-AE71-833AB56C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AFA-1861-4986-A445-52F4B1B6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673-319F-4B9E-AD06-1E70EB93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1AD-C363-4473-8CC4-62047FF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83D-A8B2-44D4-BC1A-8E915F72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17F-E116-4646-A52F-5724B357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58355C-D40A-4051-83CC-7497EE4E27C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974828-4B37-46A3-99B0-4542CBF887E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2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2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2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2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4" name="Picture 2" descr="C:\Users\вика\Desktop\8 июляНовая папка (4)\016.jpg"/>
          <p:cNvPicPr/>
          <p:nvPr/>
        </p:nvPicPr>
        <p:blipFill>
          <a:blip r:embed="rId1"/>
          <a:stretch/>
        </p:blipFill>
        <p:spPr>
          <a:xfrm>
            <a:off x="-609480" y="63360"/>
            <a:ext cx="9753120" cy="7314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503000" y="1793880"/>
            <a:ext cx="6336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1ec"/>
                </a:solidFill>
                <a:latin typeface="Calibri"/>
              </a:rPr>
              <a:t>День семь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1ec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fff1ec"/>
                </a:solidFill>
                <a:latin typeface="Calibri"/>
              </a:rPr>
              <a:t>любви  и вер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045600" y="3645360"/>
            <a:ext cx="325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Игра – презентация для де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860000" y="6117840"/>
            <a:ext cx="325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готовила: Леликова Татьяна Игор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вика\Desktop\8 июляНовая папка (4)\i.jpg"/>
          <p:cNvPicPr/>
          <p:nvPr/>
        </p:nvPicPr>
        <p:blipFill>
          <a:blip r:embed="rId2"/>
          <a:stretch/>
        </p:blipFill>
        <p:spPr>
          <a:xfrm>
            <a:off x="6660360" y="548640"/>
            <a:ext cx="2483280" cy="17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3996000" y="1623240"/>
            <a:ext cx="381600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Я у мамы не од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 неё ещё есть с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ядом с ним я малов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Для меня 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6300360" y="3717000"/>
            <a:ext cx="2843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брый сос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6372360" y="4653000"/>
            <a:ext cx="277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арший б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5364000" y="3717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57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436360" y="4653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420000" y="3141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delay="0" evt="onClick">
                    <p:tgtEl>
                      <p:spTgt spid="155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delay="0" evt="onClick">
                    <p:tgtEl>
                      <p:spTgt spid="154"/>
                    </p:tgtEl>
                  </p:cond>
                </p:stCondLst>
                <p:childTnLst>
                  <p:par>
                    <p:cTn id="100" fill="hold">
                      <p:stCondLst>
                        <p:cond delay="0"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0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3708000" y="1052640"/>
            <a:ext cx="43891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мы старшая сестра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виду вовсе не ста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улыбкой спросит: «Как живет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в гости к нам приех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796000" y="4077000"/>
            <a:ext cx="143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ё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796000" y="4725000"/>
            <a:ext cx="1273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4932000" y="4797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65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4932360" y="4077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660360" y="3141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delay="0" evt="onClick">
                    <p:tgtEl>
                      <p:spTgt spid="163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delay="0" evt="onClick">
                    <p:tgtEl>
                      <p:spTgt spid="162"/>
                    </p:tgtEl>
                  </p:cond>
                </p:stCondLst>
                <p:childTnLst>
                  <p:par>
                    <p:cTn id="115" fill="hold">
                      <p:stCondLst>
                        <p:cond delay="0"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3636000" y="1052640"/>
            <a:ext cx="4486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олжите утвер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Вся семья вместе, …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4572000" y="2133000"/>
            <a:ext cx="491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ак можно и чаю поп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572000" y="2853000"/>
            <a:ext cx="3888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ак и душ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3708360" y="2925000"/>
            <a:ext cx="718560" cy="6634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7"/>
          <p:cNvSpPr/>
          <p:nvPr/>
        </p:nvSpPr>
        <p:spPr>
          <a:xfrm>
            <a:off x="3708000" y="2133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4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588360" y="2925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123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delay="0" evt="onClick">
                    <p:tgtEl>
                      <p:spTgt spid="170"/>
                    </p:tgtEl>
                  </p:cond>
                </p:stCondLst>
                <p:childTnLst>
                  <p:par>
                    <p:cTn id="130" fill="hold">
                      <p:stCondLst>
                        <p:cond delay="0"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3636000" y="1124640"/>
            <a:ext cx="4680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каком месяце отмечается День П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Февронии - Всероссийский день семь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любви и вер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7236360" y="378900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7308360" y="465300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ю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6"/>
          <p:cNvSpPr/>
          <p:nvPr/>
        </p:nvSpPr>
        <p:spPr>
          <a:xfrm>
            <a:off x="6300360" y="3789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81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6372720" y="4653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924000" y="3213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138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4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145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4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 flipV="1" rot="10800000">
            <a:off x="3708360" y="1091160"/>
            <a:ext cx="4824000" cy="222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й цветок является символом Всероссий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ня семьи, любви и верности (Дня Петра и Февронии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5148000" y="3645000"/>
            <a:ext cx="193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м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5220000" y="4581000"/>
            <a:ext cx="139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4068360" y="3645000"/>
            <a:ext cx="718560" cy="59148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8"/>
          <p:cNvSpPr/>
          <p:nvPr/>
        </p:nvSpPr>
        <p:spPr>
          <a:xfrm>
            <a:off x="4068000" y="4581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90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732360" y="3069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153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delay="0" evt="onClick">
                    <p:tgtEl>
                      <p:spTgt spid="187"/>
                    </p:tgtEl>
                  </p:cond>
                </p:stCondLst>
                <p:childTnLst>
                  <p:par>
                    <p:cTn id="160" fill="hold">
                      <p:stCondLst>
                        <p:cond delay="0"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3852000" y="1845000"/>
            <a:ext cx="50421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кие птицы символизирует вер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6732360" y="3357000"/>
            <a:ext cx="172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лас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6804360" y="4221000"/>
            <a:ext cx="1583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леб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940720" y="4221000"/>
            <a:ext cx="718560" cy="5914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8"/>
          <p:cNvSpPr/>
          <p:nvPr/>
        </p:nvSpPr>
        <p:spPr>
          <a:xfrm>
            <a:off x="5940000" y="3357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99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852000" y="2853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delay="0" evt="onClick">
                    <p:tgtEl>
                      <p:spTgt spid="196"/>
                    </p:tgtEl>
                  </p:cond>
                </p:stCondLst>
                <p:childTnLst>
                  <p:par>
                    <p:cTn id="168" fill="hold">
                      <p:stCondLst>
                        <p:cond delay="0"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195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776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альчиковая гимнастик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12"/>
          <p:cNvSpPr/>
          <p:nvPr/>
        </p:nvSpPr>
        <p:spPr>
          <a:xfrm>
            <a:off x="4140000" y="1536120"/>
            <a:ext cx="4302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"Семь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ку сжать в кулак, поочередно разжимать пальцы, начиная с больш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дед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баб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пап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мам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от и вся моя семья (энергично сжать руку в кулак несколько р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" descr="C:\Users\вика\Desktop\8 июляНовая папка (4)\016.jpg"/>
          <p:cNvPicPr/>
          <p:nvPr/>
        </p:nvPicPr>
        <p:blipFill>
          <a:blip r:embed="rId1"/>
          <a:stretch/>
        </p:blipFill>
        <p:spPr>
          <a:xfrm>
            <a:off x="0" y="0"/>
            <a:ext cx="9753120" cy="73148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2699640" y="908640"/>
            <a:ext cx="6911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аша игра завершила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3492000" y="357480"/>
            <a:ext cx="3542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орогие ребята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3348000" y="1772640"/>
            <a:ext cx="4381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ы, все 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3348000" y="2637000"/>
            <a:ext cx="4722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До новых встреч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 flipV="1" rot="10800000">
            <a:off x="2988000" y="6143040"/>
            <a:ext cx="507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вика\Desktop\8 июляНовая папка (4)\1408960950_13.png"/>
          <p:cNvPicPr/>
          <p:nvPr/>
        </p:nvPicPr>
        <p:blipFill>
          <a:blip r:embed="rId2"/>
          <a:stretch/>
        </p:blipFill>
        <p:spPr>
          <a:xfrm>
            <a:off x="2771640" y="3357000"/>
            <a:ext cx="1439640" cy="203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207120" y="3285000"/>
            <a:ext cx="14918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вика\Desktop\8 июляНовая папка (4)\DQmbLdnx96XG2ohadeNxaAgPMWNSooz1xr11PHiEp3HR4jm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9096200">
            <a:off x="304920" y="638640"/>
            <a:ext cx="1327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 rot="19012800">
            <a:off x="412560" y="1130400"/>
            <a:ext cx="1785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ап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 rot="18856800">
            <a:off x="425160" y="2241720"/>
            <a:ext cx="1445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брат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979640" y="1917000"/>
            <a:ext cx="801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Я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592960" y="1412640"/>
            <a:ext cx="2686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наша друж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7524360" y="1917000"/>
            <a:ext cx="1619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м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32328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3636000" y="980640"/>
            <a:ext cx="30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авила иг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924000" y="1484640"/>
            <a:ext cx="46800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ан вопрос и два варианта от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 правильном ответе вылетает  божья коровка и звучат аплодисмен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е правильный ответ сопровожд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рабанной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б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вика\Desktop\8 июляНовая папка (4)\1408961006_14.png"/>
          <p:cNvPicPr/>
          <p:nvPr/>
        </p:nvPicPr>
        <p:blipFill>
          <a:blip r:embed="rId2"/>
          <a:stretch/>
        </p:blipFill>
        <p:spPr>
          <a:xfrm>
            <a:off x="7025040" y="3213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4140000" y="15566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708000" y="1185480"/>
            <a:ext cx="4824000" cy="222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 чего на белом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зрослым не прожить и дет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то поддержит вас, друз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Ваша дружная..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516360" y="3861000"/>
            <a:ext cx="18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п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516360" y="4581000"/>
            <a:ext cx="1583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724360" y="4581000"/>
            <a:ext cx="718560" cy="5914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1"/>
          <p:cNvSpPr/>
          <p:nvPr/>
        </p:nvSpPr>
        <p:spPr>
          <a:xfrm>
            <a:off x="5724000" y="3861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10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564000" y="3357000"/>
            <a:ext cx="1872000" cy="28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10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3852000" y="1412640"/>
            <a:ext cx="47419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н все может, все ум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сех храбрее и силь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Штанга для него как, в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у конечно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796000" y="3645000"/>
            <a:ext cx="1656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796000" y="4509000"/>
            <a:ext cx="1223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я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5004000" y="4581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17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004360" y="3717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660360" y="2997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delay="0" evt="onClick">
                    <p:tgtEl>
                      <p:spTgt spid="115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3708000" y="1845000"/>
            <a:ext cx="417600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милее всех на св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го любят очень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 вопрос отвечу пря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— 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сех милее наша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652000" y="3933000"/>
            <a:ext cx="172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е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727600" y="4797000"/>
            <a:ext cx="1004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4716000" y="3933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25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4716360" y="4725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804360" y="2997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delay="0" evt="onClick">
                    <p:tgtEl>
                      <p:spTgt spid="122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delay="0" evt="onClick">
                    <p:tgtEl>
                      <p:spTgt spid="123"/>
                    </p:tgtEl>
                  </p:cond>
                </p:stCondLst>
                <p:childTnLst>
                  <p:par>
                    <p:cTn id="40" fill="hold">
                      <p:stCondLst>
                        <p:cond delay="0"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3780000" y="1628640"/>
            <a:ext cx="45439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любить не ус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ироги для нас печ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кусные оладу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о наш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6948360" y="3861000"/>
            <a:ext cx="187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т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6876360" y="4653000"/>
            <a:ext cx="18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6012000" y="3861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33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6012720" y="4653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780000" y="3285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delay="0" evt="onClick">
                    <p:tgtEl>
                      <p:spTgt spid="131"/>
                    </p:tgtEl>
                  </p:cond>
                </p:stCondLst>
                <p:childTnLst>
                  <p:par>
                    <p:cTn id="48" fill="hold">
                      <p:stCondLst>
                        <p:cond delay="0"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delay="0" evt="onClick">
                    <p:tgtEl>
                      <p:spTgt spid="130"/>
                    </p:tgtEl>
                  </p:cond>
                </p:stCondLst>
                <p:childTnLst>
                  <p:par>
                    <p:cTn id="55" fill="hold">
                      <p:stCondLst>
                        <p:cond delay="0"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3708000" y="1268640"/>
            <a:ext cx="460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всю жизнь работ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кружал заб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нуков, бабушку, дет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важал простых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 пенсии уж много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естареющий наш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6300360" y="4077000"/>
            <a:ext cx="93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228360" y="4797000"/>
            <a:ext cx="129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5364000" y="4869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41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364360" y="4149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732360" y="2925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63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139"/>
                    </p:tgtEl>
                  </p:cond>
                </p:stCondLst>
                <p:childTnLst>
                  <p:par>
                    <p:cTn id="70" fill="hold">
                      <p:stCondLst>
                        <p:cond delay="0"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3636000" y="1268640"/>
            <a:ext cx="57236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любит и меня, и брат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 больше любит наряжать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ень модная девчонка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я старша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6732360" y="3429000"/>
            <a:ext cx="1944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дру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6876360" y="4293000"/>
            <a:ext cx="172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естр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5940000" y="3429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49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6012720" y="4293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852000" y="3141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78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85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  <Words>379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30T13:55:44Z</dcterms:created>
  <dc:creator>вика</dc:creator>
  <dc:description/>
  <dc:language>en-US</dc:language>
  <cp:lastModifiedBy>Ал Леликов</cp:lastModifiedBy>
  <dcterms:modified xsi:type="dcterms:W3CDTF">2023-07-06T16:12:4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