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7A5-A126-4328-8073-6C0D7CC8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4158-1F01-43DF-86CB-831716CA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D3F57-A539-4FAE-B4B6-1B615070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60955-E26A-469C-9E41-3F969E6B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786DC-F817-4E97-B492-8A83538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7B32F-85D2-41AC-B493-3BD8BAAA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C749C-9933-45B3-B5B1-C7F11CF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11F28-74D3-4ED2-927E-77659026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B5D0D-7441-4252-BF47-A2AD8655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709CB-FC0C-444C-B803-D4FD3CFB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1A38C-4961-4C16-8E6D-894DB118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6D487-F0AB-4CA9-AC70-C4B7DBA3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7DA-E734-4D48-9426-B8FC6755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2350C-B2F2-44B5-8F6D-B7D89E13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6B5A9-EBCA-47F8-86F1-864B74F2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35F32-A738-4EAF-B094-122017B0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01DF1-AD96-41F6-BB6E-AA563BE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2C75B-8807-4906-98F7-A7A671E0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78733-30CB-4511-BB36-7E644AEE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CA965-B2D5-4503-9C79-1CF2C25E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51668-6A0C-458D-9A38-0B71DCE8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DD77A-312E-47E0-931E-BE4177A7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479FE-EBCC-4DDC-89A2-4D53234C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8DF-B8FD-49DD-8628-C224C43C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0537D-292D-45C8-B7ED-5DE84181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6B872-2532-4090-B057-225D7F26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D6EF0-5763-4FCB-8F78-778E62C5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D8E93-8F81-4E66-8C2B-8B350B5E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B52F9-A321-401A-89E3-B94A4D58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879D1-AFDF-4F2D-899E-C3B1D0B0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4153F-3761-4F22-84F4-D6A1E95D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F085D-618F-4569-82DB-32E8149B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98366-C384-465C-AA9C-738F7D3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577F8-56B2-4E75-8319-BF1957F6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1424-40C4-4455-B893-24E3675C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3F63B-EA61-4499-9477-1F1D120D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3BE49-81D0-4D45-ABAA-3BF8832D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53F1D-8C23-489B-B8B2-A0845084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A9826-87D5-4AFF-8653-E0D1FAD6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10237-5425-42FF-813F-EAA884CA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BF3E6-BEA9-4323-B0FD-8FC92C5B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68CF1-915F-4383-B8BE-D4E51427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09690-D6AF-4C8F-AED6-CE919C27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9EC0B-CD3D-4FD2-BE49-96F61013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11CE5-723B-4206-9787-E98D3D45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C499-1B30-4644-87CB-A37D2EC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2B164-8981-4E61-8C3A-173A9178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0F4B6-4370-423E-9468-A3BB7430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2FECA-727E-401C-BD8E-C326A93B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BC898-4899-4AF5-97B8-EDAC5E89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4490F-0B02-4C1F-ACD4-08408B2B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3E3BE-99B3-4502-8ED6-2DC751D9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2B516-81C9-48CE-B72D-6251581B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E3A74-3EBD-4F43-8079-B014AAF9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EB949-9CAC-4322-8BCB-8A845852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693F4-55CD-4E50-BCE8-A3A50B6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AA02-492F-4E5D-B8DC-B5DFE245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D1401-FC61-436F-A4B0-4F6888BF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D4270-3FF8-4DE1-8BB0-3507E168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AB5FA-B262-42C2-9DC1-C4BA2E5B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0E3E6-6641-4307-96CB-07AE320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A423C-2B2C-47BA-8152-C082973B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7F3BF-5362-4257-9798-48381E27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E2C48-D7E8-4C9B-8277-86E9204B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42F7F-B109-4F8C-A0C8-085F61E7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9EC7E-7A51-46F0-93C5-1C476436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5E902-D5F7-42B3-96CA-3E11F3D0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1AD4-CD3B-47F7-8ECE-3BBC0E45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E62ED-BC11-4C57-8E9A-730A22D3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ECD0D-DEC4-4919-97D4-70011E1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C3920-0DFE-4143-B119-E876EEDF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4EDAA0-F918-449C-9A8C-D6EED930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6A9F2-2B65-4312-9C42-C4B6BDF5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2250F-0FDF-4B7F-BF27-36577BE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5C393-0CCF-46C5-AAED-2DF2BAB5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61FF2-E212-4609-899B-784AD8B1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1279F3-DF73-40C9-A9F9-B99035B7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BE163-4905-428C-A90F-CD0367E0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0BC7-9655-489D-A4B0-711E0E21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05B19-039E-4530-BC1B-F4CBEC92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F0DB7-C654-4539-94E2-1322C4DB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AA8DC-3136-4B2B-A740-617812F5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F4829-7E61-4385-88A1-840F607C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A2EA4-6291-4927-BA48-EC50B543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DC47C-F3E3-4341-A311-243B415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64E8A-F01F-45B1-957A-B2C1BF17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A9C2C-F41B-472D-8F2C-9DC54555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DDF5EB-02C7-41E6-82D9-BD190BCB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1D311-A9F4-4183-9C1D-798B4D3D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B60E-15B6-4A65-B0D3-3A0555BB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B8418-BB10-4D95-8D0C-FC841AB9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E42B9F-4F78-4942-9698-84014B83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55803-C525-4E61-AB13-993EAD93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7B984A-5490-4B90-ADC1-77177764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CD049-800E-4F9C-B773-4C8D68E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367C8-7A7B-4DDA-A24A-B00D1040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FA045-49A0-4F33-8F22-A2B3EC28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6518E-8A9C-4923-8AD0-55FD1EC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4FB55-D19D-4C46-A2F8-722D1141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4B860-716D-4A91-970E-A798294E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EE2D-D627-4349-9475-CD1933E3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15DA36-FDBB-4B10-88DC-9655028C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EF3A1-AE12-441A-AF38-FD4D1147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FE403-4F11-4F7A-9130-40793960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7B247-721A-403D-BD83-1B288EE2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91CBB-C8D2-4F9E-BD40-06AB3141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EF8AD-234F-4721-BBBF-DFF0412C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22928-B187-4241-81D9-8B342626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8F86A-81EB-4315-AE2B-2C35F6EB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5B37A-77AD-40EB-9840-0DFFC670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472847-B587-4C79-AC95-281EE5D0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A86-5D43-4CB1-9D72-A1C103DF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270F-22E2-434C-B1D7-F9B44AB1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F6F576-5BFD-47F7-B47F-D6389052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4883B2-5FBF-49B9-8C08-F49F6BD3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7DF9C-C8FA-4C7C-94FD-3686D0C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57AF8-6C33-4C9A-A732-8E93394D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2B3B2-AD2D-4A30-A17B-AB574A9E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0FBB-8ECB-43A6-9906-86F4442A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816C-22C6-4678-8C49-BC8D6D5B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A59A-A1EC-4751-804B-FF7D1D83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F5B2-7831-42EA-A053-A8C012D6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B005-42D0-4513-A277-C6F9FEA3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EDB4-289B-4182-81CF-CB5DA626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196A-FB3A-4A48-B2EB-FD6024B2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4778-A940-476B-A8C1-0534067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D1F8-800B-4575-A806-81ED7E00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ABD-1026-4B92-A9F6-FB172008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ED893-37E1-4A2F-929D-8C57C43A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990D-1D44-46A1-93FA-3D6B60B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ABA6-FD98-4D3E-BD45-F57840F4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8DE4-0DB3-42E3-A65A-1751921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588C-7E65-493A-824F-345F9225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2F0B-65DB-4FFE-B7A6-F41E877D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605F-F99E-4AE0-98DB-C1EB8846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7F02-EADD-4BD8-B87F-7BAE1970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05834-3D4D-403A-91EA-BED517D3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D2DB6-D561-4DB8-9A27-EBF99A72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616-D745-40F1-866C-E8E2B5A0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8B3B-DF75-4079-AB39-3218568B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C71E-ECEE-4778-AE12-8EB98887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CA30-7B11-4F7B-86AC-3AE78EA6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67F5C-1829-44ED-BE89-12BDEA1A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445D-0BD0-4191-9AEB-12B81CB1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03C62-0A17-446F-B100-5456628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B3AD-D936-43E3-9743-45D5FBE0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FE59-821E-408E-826C-5E999C64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ECB8-5BAC-4FA6-8F2A-2D8ACE40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36EB0-C026-4623-BCE2-B4B532BA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2F1-2BF3-4C9E-94E4-A0A86C56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17D5A-0AD9-4A8B-91B2-3C4800CA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8B7CE-6613-44BE-894A-5210A536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560A-1983-4E51-8B48-138C1E89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311BE-1AE7-489A-8F20-4C5852AB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F467-8CB7-4AD5-BF0A-983F809C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E381B-203F-4E11-9997-E7445F79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7D6A1-04F2-4964-9CC7-AA45531C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72E4-4A6B-42EF-B872-7D1631C4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8540A-18D8-46CA-9735-D751BCAD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177AC-4B04-4760-9DA8-D5A821A5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6BD-8EBE-4ED9-AFAA-B42FF1E3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C5643-010D-4453-ABC1-F947D28C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6D584-98EA-45EB-A01E-341528AB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FAAB4-BCAE-4160-96A3-B0CFEFE1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FEDF8-3F25-4FEB-B098-9E468F82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78E3-DE2F-4FAC-8605-C2B74353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7C58-5F3A-40D9-97CB-685A90D2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1CCED-832F-4C3C-9F30-7CF2A1BB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D3D72-116F-4669-BEC5-94B5A31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8E65-44B2-4E63-85FE-1EB0BC0B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DD68D-CBD0-440D-9E71-2D89A71F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83C-53E5-4D31-ACBE-980F6D68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96A01-15AA-4E86-9CEF-5E974880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C61D2-C971-4F96-998A-12F5B914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A2F0E-773A-43DD-B1FB-5F9A803D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3CCE-8AFF-4CB9-8920-1894DD4E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1B75F-E8D9-45C5-A5A9-F0F4FEE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F936F-38A9-459D-897E-4997D153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61CA7-DAED-453B-98EA-1F43D73C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DD132-0285-4099-AD90-4C2389D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D97BB-EBAB-4882-B04B-3AE1D8A0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37124-5C88-4456-8849-7450DC1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56C-37DE-483E-864F-D53FE664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4B60-442D-4ACA-86BD-45F0DBB0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8EA2C-348C-4406-A827-1C21EEAB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8807A-F922-4EE9-BE78-4C9AF632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F22BB-5639-4C72-8D09-FEB3EFC2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9E2AA-04B1-442A-8A8B-87D01C7D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D386D-1B9D-4ADA-B3F7-399BC1FA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A37FA-E413-493A-8D5B-C4F2CFA6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4CE33-183C-47BB-BAEE-DE017924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02BC-1F61-4B21-9BF5-8A0B64B8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80EDE-CC3F-4033-B951-AAE6DF8C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1E6-2936-4AD9-A0DC-03080837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5D991-B961-4D82-B592-CAEFF189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E677-4144-436D-B434-A56B9B11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33066-9D4C-425F-A7BF-80FF7FDF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8C9E-A4D4-4CF1-94D6-0E66853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DB7F8-D0A3-4304-979D-037EAAB3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F13D1-6E9A-4ECE-A279-AADB64B7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4251-E069-4C31-931B-EF9CA76B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BB61A-4B20-4DCE-B636-36395F2F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957CB-A5CA-4C38-B632-94DBE654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E275C-EC7E-4F8D-811F-4DA76AFC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31F40-C453-44B7-BAEF-858FF03AB6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8C3CE-8959-410B-9C5D-6801E74560C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6F0E3-2DD7-4D14-987E-FB25AEE2053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03076-6B17-45F2-9929-7EBB921337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EF0CF-1FCE-49D5-ADE5-5A69E4E391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2F5C5-FF8A-4E84-AF7F-F1EE011777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30D14-1EA0-43B0-B56D-061892A190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B2FAA-D499-43A4-9B2D-F9AFAF76CB5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802FB-155D-4D89-9F9B-1986D953E0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E76EA-0769-4F48-A079-CA52F9DA7A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93EE9-2F4D-4564-8537-69718B2C356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C6815-E5DB-44C2-BFD8-5BE2E26D46C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74A9B-1CA8-4A41-8699-317547C4EB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9C3A6-9AB7-4926-8F5D-CC000825BB0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E8D22-2E76-423D-8668-2A2C20CEDD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E577E-A571-4EF3-8A99-9793A2AD22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7C0C4-8610-46E6-9CD5-535994C999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7583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скучный урок </a:t>
            </a:r>
            <a:br>
              <a:rPr sz="4000"/>
            </a:b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“A TRAVEL TO GRAMMAR COUNTRY”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Путешествие в Страну Грамматики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TextBox 2"/>
          <p:cNvSpPr/>
          <p:nvPr/>
        </p:nvSpPr>
        <p:spPr>
          <a:xfrm>
            <a:off x="2500200" y="378612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21.04.2023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План урока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рганизационный момен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Фонетическая разминка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 повторение форм глагола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сновной этап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вторение  образования пяти основных грамматических времё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одведение итог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Заключительный этап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Заголовок 1" descr=""/>
          <p:cNvPicPr/>
          <p:nvPr/>
        </p:nvPicPr>
        <p:blipFill>
          <a:blip r:embed="rId1"/>
          <a:stretch/>
        </p:blipFill>
        <p:spPr>
          <a:xfrm>
            <a:off x="781200" y="706320"/>
            <a:ext cx="5303520" cy="1013040"/>
          </a:xfrm>
          <a:prstGeom prst="rect">
            <a:avLst/>
          </a:prstGeom>
          <a:ln w="0">
            <a:noFill/>
          </a:ln>
        </p:spPr>
      </p:pic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1428480" y="2071440"/>
            <a:ext cx="7057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а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правила образования пяти времён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t Simple, The Present Continuous, The Past Simple, The Past Continuou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вающа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огическое мышление ,умение анализировать, сравнивать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тельная 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оммуникативные умения учащихс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1"/>
          <p:cNvSpPr/>
          <p:nvPr/>
        </p:nvSpPr>
        <p:spPr>
          <a:xfrm>
            <a:off x="1547640" y="404640"/>
            <a:ext cx="6120000" cy="28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Тип урока: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рок обобщения и систематизации знаний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Форма урок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: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игра- соревнование позволяет учитывать возрастные особенности учащихся,  развивает навыки работы в группах, формирует навыки коммуникативного общени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Режимы работы: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учитель-ученик, ученик- ученик, ученик - групп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182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entury Gothic"/>
              </a:rPr>
              <a:t>УЧАЩИЕСЯ ДОЛЖНЫ УМЕТЬ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ОБЪЯСНИТЬ ПРАВИЛА ОБРАЗОВАНИЯ ПЯТИ ОСНОВНЫХ ГРАММАТИЧЕСКИХ ВРЕМЁН</a:t>
            </a:r>
            <a:r>
              <a:rPr b="1" lang="ru-RU" sz="2300" spc="-1" strike="noStrike">
                <a:solidFill>
                  <a:srgbClr val="404040"/>
                </a:solidFill>
                <a:latin typeface="Century Gothic"/>
              </a:rPr>
              <a:t>: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ить предложения из отдельных слов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ть вопросы к подчёркнутым членам предложения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ить грамматические ошибки в предложении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крывать скобки, нужную грамматическую форму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лять небольшие грамматические сказки</a:t>
            </a: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en the brackets: 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1- in  the Present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2- in the  Pa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He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o wash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car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 They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to work)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in the garden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She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 not to buy)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food in the supermarke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They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have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fast.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On Monday our lessons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to start)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at half past eigh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7" name=""/>
          <p:cNvGraphicFramePr/>
          <p:nvPr/>
        </p:nvGraphicFramePr>
        <p:xfrm>
          <a:off x="1332000" y="3092400"/>
          <a:ext cx="5883120" cy="3351240"/>
        </p:xfrm>
        <a:graphic>
          <a:graphicData uri="http://schemas.openxmlformats.org/drawingml/2006/table">
            <a:tbl>
              <a:tblPr/>
              <a:tblGrid>
                <a:gridCol w="1368360"/>
                <a:gridCol w="3384360"/>
                <a:gridCol w="1130400"/>
              </a:tblGrid>
              <a:tr h="61596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3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5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r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 a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en  to 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ch T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t your grand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cdcc"/>
                    </a:solidFill>
                  </a:tcPr>
                </a:tc>
              </a:tr>
            </a:tbl>
          </a:graphicData>
        </a:graphic>
      </p:graphicFrame>
      <p:pic>
        <p:nvPicPr>
          <p:cNvPr id="1188" name="Рисунок 9" descr=""/>
          <p:cNvPicPr/>
          <p:nvPr/>
        </p:nvPicPr>
        <p:blipFill>
          <a:blip r:embed="rId1"/>
          <a:stretch/>
        </p:blipFill>
        <p:spPr>
          <a:xfrm>
            <a:off x="8072280" y="4221000"/>
            <a:ext cx="714600" cy="2208240"/>
          </a:xfrm>
          <a:prstGeom prst="rect">
            <a:avLst/>
          </a:prstGeom>
          <a:ln w="0">
            <a:noFill/>
          </a:ln>
        </p:spPr>
      </p:pic>
      <p:sp>
        <p:nvSpPr>
          <p:cNvPr id="1189" name="TextBox 1"/>
          <p:cNvSpPr/>
          <p:nvPr/>
        </p:nvSpPr>
        <p:spPr>
          <a:xfrm>
            <a:off x="1332000" y="476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me some questions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0" name="Рисунок 2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178000" cy="2519280"/>
          </a:xfrm>
          <a:prstGeom prst="rect">
            <a:avLst/>
          </a:prstGeom>
          <a:ln w="0">
            <a:noFill/>
          </a:ln>
        </p:spPr>
      </p:pic>
      <p:sp>
        <p:nvSpPr>
          <p:cNvPr id="1191" name="TextBox 3"/>
          <p:cNvSpPr/>
          <p:nvPr/>
        </p:nvSpPr>
        <p:spPr>
          <a:xfrm>
            <a:off x="7667640" y="2724120"/>
            <a:ext cx="9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07:09:11Z</dcterms:created>
  <dc:creator>Вася</dc:creator>
  <dc:description/>
  <dc:language>en-US</dc:language>
  <cp:lastModifiedBy>Александра</cp:lastModifiedBy>
  <dcterms:modified xsi:type="dcterms:W3CDTF">2023-04-20T11:20:26Z</dcterms:modified>
  <cp:revision>42</cp:revision>
  <dc:subject/>
  <dc:title>Николайчук  Елена Васильевна, учитель английского языка  Муниципального Общеобразовательного Учреждения « Средняя общеобразовательная школа № 10 с углубленным изучением английского языка» город Находка, Приморский край</dc:title>
</cp:coreProperties>
</file>