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6C5-6083-4800-8B94-7DF17C1A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D1E-051D-4AF4-A3DC-CF487E21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F0B76-5E90-473E-B8B5-B5ED904E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18388-5434-424D-80C0-DEBB5F0F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E3989-81F9-4EC2-84EC-23BEBF43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DDC7E-B89F-4590-8EC1-669D765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688ED-B751-4709-A93A-0015E6E0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40117-80B3-44D7-B9BC-CDEC34A6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7E1AA-D4AE-49F4-B2B3-32C87730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938DF-E338-4E64-907B-50688F5B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672BC-AC23-45CE-A50D-63C0C171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3AC6C-8690-4BB2-98DC-B6187177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294-7019-4C22-B72D-AEC94F1E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138A6-B791-4104-B84D-D04B1915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D3260-2399-4D50-B860-9CACF3B9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6A1DA-C1AE-4108-B271-56246ED3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B4FA3-8ADE-42C9-BD90-552C6F40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4FA4D-BDA4-4C94-8561-15BFFD6B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CDA8F-6E27-4F93-BDBD-A28FB849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869D3-A85E-4F5A-9F77-72B2208F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A056F-FAAF-4996-ADC8-A1AC924A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D809F-06BB-4B0E-8766-A5C191B9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ACEA0-6127-4A03-B30D-414802B2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60C-444B-4CD2-ADF4-130984E1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E6C51-5B23-426C-A2AC-25DC2E4A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7C480-51CA-4094-9541-4908AC6E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443AA-90F7-4C8F-AB26-10BC934C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BD23F-A291-4BDB-BE72-F22F017E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78E28-CDEC-458C-B6A7-B60AFA3F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ACF01-BC4A-411E-94B5-CEDC89FB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D035F-26FB-46AA-9582-BECBAD94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5CCEE-2F7D-4A02-8064-9E6301C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757A9-6002-432F-810D-489B3805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B104B-A00B-42FB-B278-63F2D81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2A27-9D7E-4D88-BCB3-2CAA8127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B1F11-CF28-418C-971A-D850191E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6AE50-A7AF-4F95-89EF-0DD37D39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42C68-4765-4A1D-8828-F35AD455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C3574-8EC0-4E78-B5A9-030C36DD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4F89B-7E80-4472-A92C-A5D26ABC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A56A2-06F8-4EF3-B2EE-F6D5EAF2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AE7E5-CBC1-45CA-A427-E722EE39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1235E-B4E6-434F-B990-09BD7923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D0210-4BBF-4009-B93C-6AD0AEBC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C3F74-43B6-44D7-97CE-AC8B7975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E243-0CE6-4A72-96D7-61FF35E6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518C7-AF22-48A2-A7FA-2FD76A0B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59E5C-F051-49FE-BB42-1B6E70FD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B58B6-2331-410B-9A5F-E8DC3184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EAB53-BEBD-422C-A155-DA567E4E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ABB34-5732-42EF-B26B-FF837AF2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C1D6D-4EF6-4528-95F6-CA36887A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0381F-CA4C-4D78-BCAB-0815C33D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76D49-13E6-4D7C-B3A3-D288E37A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BEF18-B511-466D-9D61-E9B983EE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71EDF-F156-434E-B542-48D2AC16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5A89-313C-4D72-A3CE-B4FBF374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0B97D-B7E6-4105-86BA-1783F112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3B7DD-E1AB-481B-8446-47F47237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F6E11-E649-4CD8-9470-5FA0CB02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FE5AB-7776-4B9F-B85F-76700AD2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F07CC-84CE-420C-A9F7-2CDB924C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B9FAB-2170-49AD-8521-EFED8649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1535C-80D7-403F-B327-F347C9EE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CC8E2-A8D5-4108-B93B-F4677905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3C905-0F74-41D3-B88B-3729D74D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A2BDE-EB57-41A2-B4E7-8924974D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DD2E-F6B7-4814-8B5E-0D67D4D2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93606-5A53-42A8-95D0-06D9C0AC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93C8A-38C5-4308-9484-13E5BE30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C193F-4C2D-4AE3-98A1-3B5BD83B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59257-67BB-426E-9428-C1C5CC75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ECB46C-F760-4DCF-9F73-870A8B73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1ABEB-F551-45DF-A3B6-171218F1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46642-DA89-4DF0-986D-6F453EA7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EC40D-055A-435C-B255-0239D12B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97484-E179-4F7A-A294-E8EF3AAA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C1978-A175-45E3-B44E-5CFEBFB5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EB6F-C634-403E-AB30-E4147B4F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3D0FE-2888-476E-AE34-F2387C64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FB2B3-A69C-4754-8F8C-86F2E2F9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C4770-CA70-4040-93DE-40A681B0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64BD8E-7B80-4D15-B29A-06834F94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FC5DD-D15A-44D4-BCD1-1B6E60E9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7073B-8E60-45F7-B738-63A94CA6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E279C-7F2C-4E16-9A96-CA08D075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36B81-C388-4A4D-9F84-BBBAC98F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3FA71-3B83-4590-9FEF-6461953A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618E16-2A27-46CF-B343-21E94235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A294-C0DC-4CCF-AB3E-5386B353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E873D-153D-44BF-B46F-8E5D1F70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C45AB-43BF-4C2A-9F05-38D14E89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CF7A1-4B6C-4D72-B326-EB29DE05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11E43-0A2C-450F-BF21-17B352DC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343B4-C7AD-4053-A483-82D1AC66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8B010F-95D8-4A3F-907E-CCFCDAD7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7D0AF-FED1-4602-9FB7-0882A641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EFBF7-EEE7-431E-B762-35F4B6E4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C75244-FA0A-4C9E-B93E-0902BFEC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440DD-479B-4712-9546-0B0F745E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AFA3-7998-40B1-BB7B-5EF31CF3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D54B9-D4BC-45E7-8DAF-A5E33186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DDBF7-32AA-4023-9733-0940E12D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990C2-B636-4E6A-A5C5-20541B8A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8ACF0-A03D-428B-9911-50A9B335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F3C37-0518-43C4-812B-699B4CBA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32668D-35EC-4988-9E53-7F0DBC8A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51B87-C051-40EA-8EE4-4030B432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1D329-D49B-494A-B3B4-65CAF990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BAA7C-832B-4345-9EB1-A4CE1D21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68C20-7514-4A7A-9A7B-93F98988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9DD-FDF0-44E6-9AD0-263508A1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E1D5-3BDD-40F3-8C19-3699C7AA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453819-12A5-49DC-BEE3-47F1AF0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EE305E-415A-49C7-BADB-0FF4AEA6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759311-A704-4062-BB7E-9F53E54F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C5E37-F356-48E2-9F4D-7DAAC9EA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AECE3-97B5-47EF-9C40-67438644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0CB6-B4F6-4B4E-B551-CC5BADEF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CED2-C273-4E05-93C8-61AC359F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C14E-478C-49FC-90FA-16BE3FFC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F9EA-A5E2-4E54-83E7-9583E290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2C05F-9461-40FC-ABBC-2899EAF2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AA1B-CE6D-4485-BF08-F32ADD1F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E376E-82B0-4F96-9CC8-C1AE0D60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CBE3-A7AD-4D11-AA5C-1A9152D6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8571B-0034-4BF7-9828-D6FA4543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F4B-7193-4EE1-8552-71A7F671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F50D-D887-4047-BBC2-995B6CD9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055A-29F6-4017-989D-0666ECE7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0C1E-ACEF-4D8B-BBA4-D3F88A93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D3CEA-E73D-4CB4-99BA-34FA4F6F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5AF7B-061E-4370-9C93-352333B0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9CC9-80B9-44CA-84E9-AB8EDB1A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F5F0-F734-4EDB-AADB-CEC49762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DCD60-CBA8-4B56-9956-F200F432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91721-005A-4085-AB8C-F3F9F7EF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52996-33A6-4823-8113-BD0465A1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03D-8B7B-4405-BA3C-0FBFD966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E7A8C-78B0-4E0D-83A9-5436BA25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2A46-C514-4E1F-9633-79FB2199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8588-BC7C-4E13-9EE3-51795F18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C7A1E-D184-432E-8B5D-39446B60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7B99B-AA73-4E38-8531-514E3AEE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9E19B-1D1B-4BB8-A99B-3C93597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DDF5-7BDD-45E2-B9CB-76B63B5C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0B86-5766-46B6-AB73-DEDF22C7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73C47-14DB-4C1C-930C-E2CB31A9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83BA6-F27D-4D9E-820F-41151091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7CA-EDBE-457C-AC35-2F8651E2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6D8D4-B737-4C28-A5D6-DC200532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9BEDE-0FA5-4FE5-B838-882AC123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026BA-F438-4C55-807D-6E4C7881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2D1AC-6806-48D3-A99A-B8B44F42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A2AE4-262E-49BA-BCF7-C1B8FDAE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F9EC5-FFAC-41EB-9DED-0EB034E4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62F87-4304-4EE1-9477-1ABB0078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75419-6A43-4BBF-A46B-1B3C3AC4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330B1-EB83-47B9-A43C-7BF6D4D0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B8D26-FE32-4585-8FF5-B54A6675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10A-9241-41BE-9FE7-D21A9C6E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1647D-E659-48F5-B4A9-23E63072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52621-B540-462F-A2D2-0C80BA6D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1F0D1-3B34-4850-8A4D-7981996B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8C944-96FC-4403-8ED1-B764B628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E3889-5D1C-4E3A-B544-11844421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6DFFB-02C5-452E-8883-3AF46D40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F1D97-15B6-4E0F-A28B-0FD4CEE1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13152-90A3-422D-B0DA-3947799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4DB19-C1BA-4730-BD77-D02CE2AA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0022-B5E1-4798-8BA5-8269132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ECF-95B4-4D32-AE3A-7CD968A0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6A398-19AC-40AB-A6C1-AA572BA9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2789C-6609-41CF-946F-1D5885D0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C40C8-E2E0-42FE-BFEA-D5058831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EAECF-43FF-45AD-8D47-0E913CA1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2BFBE-E8CF-455E-8DC5-E8E77D5C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6A43E-EEAF-4557-A397-9409B78C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8707C-52A2-4D24-B11B-494BCB5A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073E6-C630-4F21-A1F4-AC8B6E41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63119-03B1-417C-AA22-4E13CDE9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CDF05-EC71-46C1-9745-43BDE010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B0C-AC06-4D3B-8482-57E4B173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72D79-8330-4BB0-A7AE-CD6A2FAC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75AE-C593-467F-B190-7E5E00B7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A277E-9C30-43C8-A7D2-37ADDAA5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96BA1-391E-41B1-8DFD-F06050A5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81828-7355-4A76-B411-951EB1AE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ECDB6-F0D1-4F3E-9B7A-9A3555C6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6D84E-EB33-4ED0-BDD5-93F86363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5A4A5-D5CF-4AB2-A73A-A214313A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FD6FD-5FB4-4172-B400-7AE4DFD8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3A688-B2FB-41C0-BC04-5C123458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7B7-66B4-4C33-80D6-7D76C81E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5E01A-068E-4F49-A49F-FADC8175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D2647-8DBA-42E0-BAA1-FD71404A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957E0-2A11-4653-A8BC-F40C383D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C8BC9-18F4-42D3-90CA-1BEEA444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B8E16-011F-4DB7-9338-A3C27D95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25BC6-A36E-4DA3-A6F2-F86D60B6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ED261-BEDB-4BAA-ACF5-CC2DEEC9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03FB8-0AD2-486F-8262-F0DE1320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12E45-6B03-444A-A2C5-C47E5421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CFF88-A6EE-4A0C-8FB1-B4177EF7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0B16B-F28C-4F80-A6B6-79188AD724B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CA4D8-2204-4294-B75E-094EF8BB0B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2628D-1E15-4444-A877-89A53CB89C7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8A273-0244-4172-9B4C-74E53E08ECF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67DE1-11E0-414A-AF6F-F857992597A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1806C-E9B7-48A6-B43A-548F3C7DE7C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0B48C-A3B6-4D2D-A067-B9D765EC6F6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7700B-B1B5-416D-86F3-453102D2A38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2741A-A28C-4E41-B0FC-3EAD56625A2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1BB08-9E8C-42DF-95BE-71FC26C9537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675B4-E3F3-42D0-A459-0A277B44537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69AE7-A66C-474A-AC9B-F8D8D908E39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6806B-8CDD-4563-9173-272BA4DC2A4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534D3-06AC-4F2E-9419-58776C3750A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FBF44-4BBB-4853-9EE9-DFE2A5FD2B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657C7-0638-40E1-8ADA-7259D5702C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F9D61-E272-4C58-8228-0E613E6196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75834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скучный урок </a:t>
            </a:r>
            <a:br>
              <a:rPr sz="4000"/>
            </a:b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“A TRAVEL TO GRAMMAR COUNTRY”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Путешествие в Страну Грамматики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TextBox 2"/>
          <p:cNvSpPr/>
          <p:nvPr/>
        </p:nvSpPr>
        <p:spPr>
          <a:xfrm>
            <a:off x="2500200" y="378612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21.04.2023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План урока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рганизационный момен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Фонетическая разминка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 повторение форм глагола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сновной этап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вторение  образования пяти основных грамматических времё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дведение итог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Заключительный этап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Заголовок 1" descr=""/>
          <p:cNvPicPr/>
          <p:nvPr/>
        </p:nvPicPr>
        <p:blipFill>
          <a:blip r:embed="rId1"/>
          <a:stretch/>
        </p:blipFill>
        <p:spPr>
          <a:xfrm>
            <a:off x="781200" y="706320"/>
            <a:ext cx="5303520" cy="1013040"/>
          </a:xfrm>
          <a:prstGeom prst="rect">
            <a:avLst/>
          </a:prstGeom>
          <a:ln w="0">
            <a:noFill/>
          </a:ln>
        </p:spPr>
      </p:pic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1428480" y="2071440"/>
            <a:ext cx="7057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а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правила образования пяти времён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ent Simple, The Present Continuous, The Past Simple, The Past Continuou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вающа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огическое мышление ,умение анализировать, сравнивать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тельная 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оммуникативные умения учащихс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Прямоугольник 1"/>
          <p:cNvSpPr/>
          <p:nvPr/>
        </p:nvSpPr>
        <p:spPr>
          <a:xfrm>
            <a:off x="1547640" y="404640"/>
            <a:ext cx="6120000" cy="28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Тип урока: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рок обобщения и систематизации знаний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Форма урок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: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игра- соревнование позволяет учитывать возрастные особенности учащихся,  развивает навыки работы в группах, формирует навыки коммуникативного общени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Режимы работы: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читель-ученик, ученик- ученик, ученик - групп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182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УЧАЩИЕСЯ ДОЛЖНЫ УМЕТЬ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БЪЯСНИТЬ ПРАВИЛА ОБРАЗОВАНИЯ ПЯТИ ОСНОВНЫХ ГРАММАТИЧЕСКИХ ВРЕМЁН</a:t>
            </a:r>
            <a:r>
              <a:rPr b="1" lang="ru-RU" sz="2300" spc="-1" strike="noStrike">
                <a:solidFill>
                  <a:srgbClr val="404040"/>
                </a:solidFill>
                <a:latin typeface="Century Gothic"/>
              </a:rPr>
              <a:t>: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ить предложения из отдельных слов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ть вопросы к подчёркнутым членам предложения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ить грамматические ошибки в предложении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крывать скобки, нужную грамматическую форму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лять небольшие грамматические сказки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newsflash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en the brackets: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1- in  the Present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2- in the  Pas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He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to wash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car 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 They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to work) 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 the garde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She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 not to buy)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food in the supermarke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They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have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fast.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On Monday our lessons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to start) 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t half past eigh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7" name=""/>
          <p:cNvGraphicFramePr/>
          <p:nvPr/>
        </p:nvGraphicFramePr>
        <p:xfrm>
          <a:off x="1332000" y="3092400"/>
          <a:ext cx="5883120" cy="3351240"/>
        </p:xfrm>
        <a:graphic>
          <a:graphicData uri="http://schemas.openxmlformats.org/drawingml/2006/table">
            <a:tbl>
              <a:tblPr/>
              <a:tblGrid>
                <a:gridCol w="1368360"/>
                <a:gridCol w="3384360"/>
                <a:gridCol w="1130400"/>
              </a:tblGrid>
              <a:tr h="61596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5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r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a 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en  to 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ch T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t your grandm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  <p:pic>
        <p:nvPicPr>
          <p:cNvPr id="1188" name="Рисунок 9" descr=""/>
          <p:cNvPicPr/>
          <p:nvPr/>
        </p:nvPicPr>
        <p:blipFill>
          <a:blip r:embed="rId1"/>
          <a:stretch/>
        </p:blipFill>
        <p:spPr>
          <a:xfrm>
            <a:off x="8072280" y="4221000"/>
            <a:ext cx="714600" cy="2208240"/>
          </a:xfrm>
          <a:prstGeom prst="rect">
            <a:avLst/>
          </a:prstGeom>
          <a:ln w="0">
            <a:noFill/>
          </a:ln>
        </p:spPr>
      </p:pic>
      <p:sp>
        <p:nvSpPr>
          <p:cNvPr id="1189" name="TextBox 1"/>
          <p:cNvSpPr/>
          <p:nvPr/>
        </p:nvSpPr>
        <p:spPr>
          <a:xfrm>
            <a:off x="1332000" y="476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me some questions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0" name="Рисунок 2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2178000" cy="2519280"/>
          </a:xfrm>
          <a:prstGeom prst="rect">
            <a:avLst/>
          </a:prstGeom>
          <a:ln w="0">
            <a:noFill/>
          </a:ln>
        </p:spPr>
      </p:pic>
      <p:sp>
        <p:nvSpPr>
          <p:cNvPr id="1191" name="TextBox 3"/>
          <p:cNvSpPr/>
          <p:nvPr/>
        </p:nvSpPr>
        <p:spPr>
          <a:xfrm>
            <a:off x="7667640" y="272412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07:09:11Z</dcterms:created>
  <dc:creator>Вася</dc:creator>
  <dc:description/>
  <dc:language>en-US</dc:language>
  <cp:lastModifiedBy>Александра</cp:lastModifiedBy>
  <dcterms:modified xsi:type="dcterms:W3CDTF">2023-04-20T11:20:26Z</dcterms:modified>
  <cp:revision>42</cp:revision>
  <dc:subject/>
  <dc:title>Николайчук  Елена Васильевна, учитель английского языка  Муниципального Общеобразовательного Учреждения « Средняя общеобразовательная школа № 10 с углубленным изучением английского языка» город Находка, Приморский край</dc:title>
</cp:coreProperties>
</file>