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E1E-E7C9-401E-ACE0-E271D5A8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F13-E8E6-43A1-A582-8070A20E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2B2-85B3-46CD-8052-C423E3D6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0CE-52B1-4261-A744-08DE63AC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40DE-E6BD-4F97-A97F-8965F050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84D6-1E9D-4C06-A0F5-2DEB7118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2EA1-212C-4FB0-9430-581778D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AA38-34C4-465A-A125-2FC35EF0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F93F-90A6-4750-A93B-719DB69A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3285-D7CB-49B5-81DA-9C922F93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335B-B422-4604-B41B-C3211BF9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06D-59DC-4A1E-96C8-AD501F64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2039-6294-46D8-ACBB-5B0D326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03E5-0305-4D2B-9B05-03F9ECC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1419-EB0F-4619-AB71-E55DEA63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CFCD-301D-4588-8F98-F7E0DFF4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268F-5AC6-4AE1-B565-1843DEED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23D22-5DAE-44F1-B13A-52C047D0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812A6-7AD5-49BC-8CD8-3F960921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F57EE-08B9-4BF2-9E8B-A3ECBE8F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B29F7-B6A3-45FD-ABA5-AB3952AA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B74C1-FC08-41A1-A867-A51A3666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1BD-FA2A-443C-8E6A-36775340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EE925-3985-4C3B-8B0E-0668FDA7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F271E-79B8-402A-995A-E2EAE85E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77407-49B9-4747-A887-674095D7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19D98-4577-4EF1-81AC-86DAD3B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4DB17-F3A1-4959-A3BF-B986DCA3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ED0D5-28E2-4E4F-BE19-BE4F4C95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F9BFE-4C7B-4A7B-AD9E-F4F545DB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DA231-BC1C-4B96-8A56-56559A96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C50C-9465-4271-B8F6-26E20E08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07E4-9B16-4327-ABF3-4DB53F3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CFD-4CD9-4576-B44C-017EB9B5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F978-38F1-4258-8887-53B3DF19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E461-D7BF-4995-BBB1-584DC640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15E6-1695-4D40-BF89-C4D58128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820DE-6CB3-4997-8E7A-77D99A01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5FB6-8B64-4D17-8191-CBB295C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2513-3DD6-46A7-A0D4-26E9D36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809B-6183-4C3D-B3EC-14CF5120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DB2D-1E56-4290-995C-DCCF764D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2AA2-AB57-49BE-BC45-7123C257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D6C-7BF7-42FD-9F45-B019B1AB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0D3-6DBB-40D7-8D79-6ED4D9D1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992-AFEC-413F-8F8E-B85D00DB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EA6-790F-45A1-8BBA-22A10E9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C8A-3301-4D87-B560-08DDF0E0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1660-8685-4B01-906B-8BC3FCCD2E8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B1A4-CD2B-43E9-8038-8E9101E6375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DCF7-2B87-4650-B5F4-7381A3563FC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016-8D85-490F-A3A8-40031AD9ADB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4" descr=""/>
          <p:cNvPicPr/>
          <p:nvPr/>
        </p:nvPicPr>
        <p:blipFill>
          <a:blip r:embed="rId2"/>
          <a:stretch/>
        </p:blipFill>
        <p:spPr>
          <a:xfrm>
            <a:off x="463680" y="615960"/>
            <a:ext cx="8223120" cy="151776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1" descr=""/>
          <p:cNvPicPr/>
          <p:nvPr/>
        </p:nvPicPr>
        <p:blipFill>
          <a:blip r:embed="rId3"/>
          <a:stretch/>
        </p:blipFill>
        <p:spPr>
          <a:xfrm>
            <a:off x="1122480" y="1579680"/>
            <a:ext cx="5729040" cy="177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www.tilimen.org/ustnij-jurnal-velikan-narodnoj-poezii/15802_html_6ead79f1.png"/>
          <p:cNvPicPr/>
          <p:nvPr/>
        </p:nvPicPr>
        <p:blipFill>
          <a:blip r:embed="rId4"/>
          <a:stretch/>
        </p:blipFill>
        <p:spPr>
          <a:xfrm>
            <a:off x="0" y="5072040"/>
            <a:ext cx="2214720" cy="1563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8388360" y="549360"/>
            <a:ext cx="595440" cy="71424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11" descr=""/>
          <p:cNvPicPr/>
          <p:nvPr/>
        </p:nvPicPr>
        <p:blipFill>
          <a:blip r:embed="rId6"/>
          <a:stretch/>
        </p:blipFill>
        <p:spPr>
          <a:xfrm>
            <a:off x="-181080" y="2997360"/>
            <a:ext cx="8375760" cy="129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2"/>
          <p:cNvSpPr/>
          <p:nvPr/>
        </p:nvSpPr>
        <p:spPr>
          <a:xfrm>
            <a:off x="357120" y="4000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Прямоугольник 14"/>
          <p:cNvSpPr/>
          <p:nvPr/>
        </p:nvSpPr>
        <p:spPr>
          <a:xfrm>
            <a:off x="1285920" y="4000680"/>
            <a:ext cx="47149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b2203"/>
                </a:solidFill>
                <a:latin typeface="Monotype Corsiva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b2203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4b2203"/>
                </a:solidFill>
                <a:latin typeface="Monotype Corsiva"/>
              </a:rPr>
              <a:t>МБОУ СОШ №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b2203"/>
                </a:solidFill>
                <a:latin typeface="Monotype Corsiva"/>
              </a:rPr>
              <a:t>Г. Светл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13204"/>
                </a:solidFill>
                <a:latin typeface="Monotype Corsiva"/>
              </a:rPr>
              <a:t>Кузькина Наталь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13204"/>
                </a:solidFill>
                <a:latin typeface="Monotype Corsiva"/>
              </a:rPr>
              <a:t>Михайл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724360" y="3983040"/>
            <a:ext cx="3086280" cy="2614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III. Постановка учебной задачи.</a:t>
            </a:r>
            <a:br>
              <a:rPr sz="4000"/>
            </a:b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обсуждение затруднений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(«Почему возникли затруднения?»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«Чего мы ещё не знаем?»)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говаривание цели урока в виде вопроса, на который предстоит ответи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891a7"/>
                </a:solidFill>
                <a:latin typeface="Georgia"/>
                <a:ea typeface="Times New Roman"/>
              </a:rPr>
              <a:t>4-5 ми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2"/>
          <a:stretch/>
        </p:blipFill>
        <p:spPr>
          <a:xfrm>
            <a:off x="8215200" y="1571760"/>
            <a:ext cx="595440" cy="714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IV. «Открытие нового знания»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1428480"/>
            <a:ext cx="8429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решение УЗ (устных задач) и обсуждение проекта её решения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891a7"/>
                </a:solidFill>
                <a:latin typeface="Georgia"/>
                <a:ea typeface="Times New Roman"/>
              </a:rPr>
              <a:t>7-8 ми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Способы: диалог, групповая или парная рабо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Методы: побуждающий к гипотезам диалог, подводящий к открытию знания диалог, подводящий без проблемы диалог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Организация самостоятельной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ведение алгорит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2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V. Первичное закрепление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r>
              <a:rPr b="0" lang="en-US" sz="4000" spc="-1" strike="noStrike">
                <a:solidFill>
                  <a:srgbClr val="4f271c"/>
                </a:solidFill>
                <a:latin typeface="Trebuchet MS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6760" y="1642680"/>
            <a:ext cx="5929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говаривание нового знания, запись в виде опорного сигнал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891a7"/>
                </a:solidFill>
                <a:latin typeface="Georgia"/>
                <a:ea typeface="Times New Roman"/>
              </a:rPr>
              <a:t>4-5 мину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пособы: фронтальная работа, работа в парах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редства: комментирование, обозначение знаковыми символами, выполнение продуктивных зада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полнение заданий с проговариванием в громкой реч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rcRect l="52047" t="49889" r="4549" b="32504"/>
          <a:stretch/>
        </p:blipFill>
        <p:spPr>
          <a:xfrm>
            <a:off x="7072200" y="43578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3"/>
          <a:stretch/>
        </p:blipFill>
        <p:spPr>
          <a:xfrm>
            <a:off x="8286840" y="857160"/>
            <a:ext cx="59508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VI. Самостоятельная работа с самопроверкой по эталону.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Самоанализ и самоконтроль</a:t>
            </a:r>
            <a:r>
              <a:rPr b="0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ждый для себя должен сделать вывод о том, что он уже умее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891a7"/>
                </a:solidFill>
                <a:latin typeface="Georgia"/>
                <a:ea typeface="Times New Roman"/>
              </a:rPr>
              <a:t>4-5 мину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большой объем самостоятельной работы (не более 2-3 типовых заданий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полняется письмен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Методы: самоконтроль, самооцен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85485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VII.  Включение нового знания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 в систему знаний и повторение.</a:t>
            </a:r>
            <a:br>
              <a:rPr sz="3200"/>
            </a:br>
            <a:endParaRPr b="0" lang="en-US" sz="32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1a7"/>
                </a:solidFill>
                <a:latin typeface="Georgia"/>
                <a:ea typeface="Times New Roman"/>
              </a:rPr>
              <a:t>7-8 мину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Сначала предложить учащимся из набора заданий выбрать только те, которые содержат новый алгоритм или новое понят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тем выполняются упражнения, в которых новое знание используется вместе с изученными ране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2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VIII.Рефлексия деятельности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 (итог урока).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осознание учащимися своей УД (учебной деятельности), самооценка результатов деятельности своей и всего класс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891a7"/>
                </a:solidFill>
                <a:latin typeface="Georgia"/>
                <a:ea typeface="Times New Roman"/>
              </a:rPr>
              <a:t>2-3 минут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Какую задачу ставил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Удалось решить поставленную задачу?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Каким способом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Какие получили результаты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Что нужно сделать ещё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Где можно применить новые знания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1617"/>
                </a:solidFill>
                <a:latin typeface="Arbat-Bold"/>
              </a:rPr>
              <a:t>Ребенок на современном уроке.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Annabelle"/>
              </a:rPr>
              <a:t>Цель - готовность к саморазвитию.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360" y="227664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0000"/>
                </a:solidFill>
                <a:latin typeface="Annabelle"/>
              </a:rPr>
              <a:t>Умение самостоятельно делать выбор, адекватный своим способностя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nnabelle"/>
              </a:rPr>
              <a:t>Умение ставить перед собой цель, принимать реш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nnabelle"/>
              </a:rPr>
              <a:t>Умение самостоятельно находить выход в нестандартной ситу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nnabelle"/>
              </a:rPr>
              <a:t>Умение проконтролировать себя, свои собственные действия, согласовывать свою позицию с другими людьми, общать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2"/>
          <a:stretch/>
        </p:blipFill>
        <p:spPr>
          <a:xfrm>
            <a:off x="8317080" y="620640"/>
            <a:ext cx="59508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497520"/>
            <a:ext cx="8893080" cy="63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Учить детей сегодня трудно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И раньше было нелегк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Читать, считать, писать учили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«Даёт корова молоко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Век XXI – век открытий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Век инноваций, новизны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Но  от учителя зависит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Какими дети быть должн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Желаю вам, чтоб дети  в вашем класс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Светились от улыбок и любви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Терпенья вам и творческих успех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В такие непростые наши дни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7" name="Picture 6" descr=""/>
          <p:cNvPicPr/>
          <p:nvPr/>
        </p:nvPicPr>
        <p:blipFill>
          <a:blip r:embed="rId2"/>
          <a:stretch/>
        </p:blipFill>
        <p:spPr>
          <a:xfrm>
            <a:off x="8317080" y="765000"/>
            <a:ext cx="59508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3"/>
          <p:cNvSpPr/>
          <p:nvPr/>
        </p:nvSpPr>
        <p:spPr>
          <a:xfrm>
            <a:off x="571680" y="785880"/>
            <a:ext cx="81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  <a:ea typeface="Times New Roman"/>
              </a:rPr>
              <a:t>Учитель,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11617"/>
                </a:solidFill>
                <a:latin typeface="Verdana"/>
                <a:ea typeface="Times New Roman"/>
              </a:rPr>
              <a:t>его отношение к учебному процессу, его творчество и профессионализм, его желание раскрыть способности каждого ребенка – вот это всё и есть главный ресурс, без которого невозможно воплощение новых стандартов школьного образова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2098440" y="4071960"/>
            <a:ext cx="41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Успехов в работе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Рисунок 3" descr="0_8b9dc_a4fee6b2_XL.png"/>
          <p:cNvPicPr/>
          <p:nvPr/>
        </p:nvPicPr>
        <p:blipFill>
          <a:blip r:embed="rId2"/>
          <a:stretch/>
        </p:blipFill>
        <p:spPr>
          <a:xfrm>
            <a:off x="3071880" y="5072040"/>
            <a:ext cx="3143160" cy="1330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3"/>
          <a:stretch/>
        </p:blipFill>
        <p:spPr>
          <a:xfrm>
            <a:off x="8317080" y="549360"/>
            <a:ext cx="595080" cy="714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357120" y="1649160"/>
            <a:ext cx="8572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285840" y="642960"/>
            <a:ext cx="88581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  <a:ea typeface="Calibri"/>
              </a:rPr>
              <a:t>« Урок </a:t>
            </a:r>
            <a:r>
              <a:rPr b="1" lang="en-US" sz="4000" spc="-1" strike="noStrike">
                <a:solidFill>
                  <a:srgbClr val="a20000"/>
                </a:solidFill>
                <a:latin typeface="Calibri"/>
                <a:ea typeface="Calibri"/>
              </a:rPr>
              <a:t>– </a:t>
            </a:r>
            <a:r>
              <a:rPr b="1" lang="en-US" sz="3600" spc="-1" strike="noStrike">
                <a:solidFill>
                  <a:srgbClr val="990000"/>
                </a:solidFill>
                <a:latin typeface="Calibri"/>
                <a:ea typeface="Calibri"/>
              </a:rPr>
              <a:t>это зеркало общей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alibri"/>
                <a:ea typeface="Calibri"/>
              </a:rPr>
              <a:t>педагогической культуры учителя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alibri"/>
                <a:ea typeface="Calibri"/>
              </a:rPr>
              <a:t>мерило его интеллектуального богатства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alibri"/>
                <a:ea typeface="Calibri"/>
              </a:rPr>
              <a:t>показатель его кругозора, эрудиции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Calibri"/>
                <a:ea typeface="Calibri"/>
              </a:rPr>
              <a:t>В.А. Сухомлинский</a:t>
            </a:r>
            <a:r>
              <a:rPr b="0" i="1" lang="en-US" sz="4000" spc="-1" strike="noStrike">
                <a:solidFill>
                  <a:srgbClr val="922223"/>
                </a:solidFill>
                <a:latin typeface="Calibri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0" y="404640"/>
            <a:ext cx="595440" cy="714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654280" cy="232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203640" y="422100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132000" y="4160160"/>
            <a:ext cx="2880000" cy="2436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6155640" y="4149000"/>
            <a:ext cx="2808360" cy="2476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2"/>
          <p:cNvSpPr/>
          <p:nvPr/>
        </p:nvSpPr>
        <p:spPr>
          <a:xfrm>
            <a:off x="324000" y="1916280"/>
            <a:ext cx="2735280" cy="3960720"/>
          </a:xfrm>
          <a:prstGeom prst="rect">
            <a:avLst/>
          </a:prstGeom>
          <a:solidFill>
            <a:srgbClr val="e4e8ba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4788000" y="1989000"/>
            <a:ext cx="396072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6532"/>
              <a:gd name="adj5" fmla="val 95592"/>
              <a:gd name="adj6" fmla="val -43726"/>
            </a:avLst>
          </a:prstGeom>
          <a:solidFill>
            <a:srgbClr val="e7dec9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049"/>
                </a:solidFill>
                <a:latin typeface="Verdana"/>
              </a:rPr>
              <a:t>Уметь очерчивать учебную пробл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4788000" y="3213000"/>
            <a:ext cx="396072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13708"/>
              <a:gd name="adj5" fmla="val 47458"/>
              <a:gd name="adj6" fmla="val -43365"/>
            </a:avLst>
          </a:prstGeom>
          <a:solidFill>
            <a:srgbClr val="e7dec9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049"/>
                </a:solidFill>
                <a:latin typeface="Verdana"/>
              </a:rPr>
              <a:t>Формулировать алгоритм её реш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17"/>
          <p:cNvSpPr/>
          <p:nvPr/>
        </p:nvSpPr>
        <p:spPr>
          <a:xfrm>
            <a:off x="4788000" y="4437000"/>
            <a:ext cx="396072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2282"/>
              <a:gd name="adj5" fmla="val -24916"/>
              <a:gd name="adj6" fmla="val -43486"/>
            </a:avLst>
          </a:prstGeom>
          <a:solidFill>
            <a:srgbClr val="e7dec9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049"/>
                </a:solidFill>
                <a:latin typeface="Verdana"/>
              </a:rPr>
              <a:t>Контролировать учебный проце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18"/>
          <p:cNvSpPr/>
          <p:nvPr/>
        </p:nvSpPr>
        <p:spPr>
          <a:xfrm>
            <a:off x="4788000" y="5589720"/>
            <a:ext cx="3960720" cy="79200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35148"/>
              <a:gd name="adj5" fmla="val -97393"/>
              <a:gd name="adj6" fmla="val -43407"/>
            </a:avLst>
          </a:prstGeom>
          <a:solidFill>
            <a:srgbClr val="e7dec9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049"/>
                </a:solidFill>
                <a:latin typeface="Verdana"/>
              </a:rPr>
              <a:t>Оценивать полученный резуль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AutoShape 19"/>
          <p:cNvSpPr/>
          <p:nvPr/>
        </p:nvSpPr>
        <p:spPr>
          <a:xfrm>
            <a:off x="2700360" y="907920"/>
            <a:ext cx="345600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-26319"/>
              <a:gd name="adj5" fmla="val 156236"/>
              <a:gd name="adj6" fmla="val -32199"/>
            </a:avLst>
          </a:prstGeom>
          <a:solidFill>
            <a:srgbClr val="eaedc9"/>
          </a:solidFill>
          <a:ln w="9360">
            <a:solidFill>
              <a:srgbClr val="4f271c"/>
            </a:solidFill>
            <a:miter/>
          </a:ln>
          <a:effectLst>
            <a:outerShdw dist="17819" dir="27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Verdana"/>
              </a:rPr>
              <a:t>Научить учи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1053720" y="2128680"/>
            <a:ext cx="13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049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707400" y="4997520"/>
            <a:ext cx="19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Verdana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59544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73040" y="1989000"/>
            <a:ext cx="244332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500040" y="571680"/>
            <a:ext cx="7920000" cy="108252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Планируемые результа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три основные группы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AutoShape 4"/>
          <p:cNvGrpSpPr/>
          <p:nvPr/>
        </p:nvGrpSpPr>
        <p:grpSpPr>
          <a:xfrm>
            <a:off x="542880" y="1695600"/>
            <a:ext cx="2828880" cy="1779480"/>
            <a:chOff x="542880" y="1695600"/>
            <a:chExt cx="2828880" cy="1779480"/>
          </a:xfrm>
        </p:grpSpPr>
        <p:pic>
          <p:nvPicPr>
            <p:cNvPr id="241" name="AutoShape 4" descr=""/>
            <p:cNvPicPr/>
            <p:nvPr/>
          </p:nvPicPr>
          <p:blipFill>
            <a:blip r:embed="rId2"/>
            <a:stretch/>
          </p:blipFill>
          <p:spPr>
            <a:xfrm>
              <a:off x="542880" y="1695600"/>
              <a:ext cx="282888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90480" y="1820880"/>
              <a:ext cx="240984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eorgia"/>
                </a:rPr>
                <a:t>ЛИЧНОСТНЫЕ: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ориентац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ценностно-смысловая;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в социальных ролях и меж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личностных отношениях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3" name="AutoShape 7"/>
          <p:cNvSpPr/>
          <p:nvPr/>
        </p:nvSpPr>
        <p:spPr>
          <a:xfrm>
            <a:off x="684360" y="3429000"/>
            <a:ext cx="2374920" cy="933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Самоопредел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личностное, профес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иональное, жизнен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755640" y="4365720"/>
            <a:ext cx="2303640" cy="1158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Смыслообразова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вязь между целью (ре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зультатом)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 ее мотив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755640" y="5445000"/>
            <a:ext cx="2303640" cy="107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Нравственн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этическ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AutoShape 5"/>
          <p:cNvGrpSpPr/>
          <p:nvPr/>
        </p:nvGrpSpPr>
        <p:grpSpPr>
          <a:xfrm>
            <a:off x="3333600" y="1670040"/>
            <a:ext cx="2719440" cy="1066680"/>
            <a:chOff x="3333600" y="1670040"/>
            <a:chExt cx="2719440" cy="1066680"/>
          </a:xfrm>
        </p:grpSpPr>
        <p:pic>
          <p:nvPicPr>
            <p:cNvPr id="247" name="AutoShape 5" descr=""/>
            <p:cNvPicPr/>
            <p:nvPr/>
          </p:nvPicPr>
          <p:blipFill>
            <a:blip r:embed="rId3"/>
            <a:stretch/>
          </p:blipFill>
          <p:spPr>
            <a:xfrm>
              <a:off x="3333600" y="1670040"/>
              <a:ext cx="2719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475080" y="1760400"/>
              <a:ext cx="24080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eorgia"/>
                </a:rPr>
                <a:t>МЕТАПРЕДМЕТНЫ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AutoShape 10"/>
          <p:cNvSpPr/>
          <p:nvPr/>
        </p:nvSpPr>
        <p:spPr>
          <a:xfrm>
            <a:off x="3492360" y="2708280"/>
            <a:ext cx="2448000" cy="107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Регулятивны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организация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540600" y="3834720"/>
            <a:ext cx="2422440" cy="902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ctr" anchorCtr="1">
            <a:normAutofit fontScale="88000"/>
          </a:bodyPr>
          <a:p>
            <a:pPr marL="321120" indent="-224640" algn="ctr"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Коммуникативные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 algn="ctr"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речевые навыки и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 algn="ctr"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3492360" y="4797360"/>
            <a:ext cx="2519640" cy="17146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Познавательны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общеучебные, в т.ч – знако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о-символические, логичес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ие, постановка и реш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AutoShape 6"/>
          <p:cNvGrpSpPr/>
          <p:nvPr/>
        </p:nvGrpSpPr>
        <p:grpSpPr>
          <a:xfrm>
            <a:off x="6083280" y="1695600"/>
            <a:ext cx="2779560" cy="1139760"/>
            <a:chOff x="6083280" y="1695600"/>
            <a:chExt cx="2779560" cy="1139760"/>
          </a:xfrm>
        </p:grpSpPr>
        <p:pic>
          <p:nvPicPr>
            <p:cNvPr id="253" name="AutoShape 6" descr=""/>
            <p:cNvPicPr/>
            <p:nvPr/>
          </p:nvPicPr>
          <p:blipFill>
            <a:blip r:embed="rId4"/>
            <a:stretch/>
          </p:blipFill>
          <p:spPr>
            <a:xfrm>
              <a:off x="6083280" y="1695600"/>
              <a:ext cx="27795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200640" y="1785960"/>
              <a:ext cx="254484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eorgia"/>
                </a:rPr>
                <a:t>ПРЕДМЕТНЫ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6357960" y="2786040"/>
            <a:ext cx="242892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сновы системы  научных  зна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6300720" y="3357720"/>
            <a:ext cx="2500560" cy="1714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пыт «предметной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 получению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еобразова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и примене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ового зн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36"/>
          <p:cNvSpPr/>
          <p:nvPr/>
        </p:nvSpPr>
        <p:spPr>
          <a:xfrm>
            <a:off x="6372360" y="5084640"/>
            <a:ext cx="2489040" cy="1359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метн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метапредметн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йстви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учебным материалом</a:t>
            </a:r>
            <a:r>
              <a:rPr b="1" lang="ru-RU" sz="1600" spc="-1" strike="noStrike">
                <a:solidFill>
                  <a:srgbClr val="e7dec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5"/>
          <a:stretch/>
        </p:blipFill>
        <p:spPr>
          <a:xfrm>
            <a:off x="8548560" y="476280"/>
            <a:ext cx="595440" cy="86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642600"/>
            <a:ext cx="84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bat-Bold"/>
              </a:rPr>
              <a:t>Характеристика современного урока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80000" y="3429000"/>
            <a:ext cx="1357200" cy="39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bat-Bold"/>
              </a:rPr>
              <a:t>УРО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1" name="Group 23"/>
          <p:cNvGrpSpPr/>
          <p:nvPr/>
        </p:nvGrpSpPr>
        <p:grpSpPr>
          <a:xfrm>
            <a:off x="357120" y="3643200"/>
            <a:ext cx="3285720" cy="1643040"/>
            <a:chOff x="357120" y="3643200"/>
            <a:chExt cx="3285720" cy="1643040"/>
          </a:xfrm>
        </p:grpSpPr>
        <p:grpSp>
          <p:nvGrpSpPr>
            <p:cNvPr id="262" name="AutoShape 24"/>
            <p:cNvGrpSpPr/>
            <p:nvPr/>
          </p:nvGrpSpPr>
          <p:grpSpPr>
            <a:xfrm>
              <a:off x="357120" y="3643200"/>
              <a:ext cx="3285720" cy="1643040"/>
              <a:chOff x="357120" y="3643200"/>
              <a:chExt cx="3285720" cy="1643040"/>
            </a:xfrm>
          </p:grpSpPr>
          <p:pic>
            <p:nvPicPr>
              <p:cNvPr id="263" name="AutoShap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357120" y="3643200"/>
                <a:ext cx="328572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 rot="5400000">
                <a:off x="1290960" y="2939400"/>
                <a:ext cx="1412640" cy="30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5" name="Freeform 25"/>
            <p:cNvSpPr/>
            <p:nvPr/>
          </p:nvSpPr>
          <p:spPr>
            <a:xfrm>
              <a:off x="397800" y="3676680"/>
              <a:ext cx="3191400" cy="339840"/>
            </a:xfrm>
            <a:custGeom>
              <a:avLst/>
              <a:gdLst>
                <a:gd name="textAreaLeft" fmla="*/ 0 w 3191400"/>
                <a:gd name="textAreaRight" fmla="*/ 3191760 w 31914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260" h="292">
                  <a:moveTo>
                    <a:pt x="5" y="292"/>
                  </a:moveTo>
                  <a:cubicBezTo>
                    <a:pt x="0" y="270"/>
                    <a:pt x="16" y="49"/>
                    <a:pt x="192" y="0"/>
                  </a:cubicBezTo>
                  <a:lnTo>
                    <a:pt x="1060" y="0"/>
                  </a:lnTo>
                  <a:cubicBezTo>
                    <a:pt x="1241" y="48"/>
                    <a:pt x="1260" y="186"/>
                    <a:pt x="1254" y="291"/>
                  </a:cubicBezTo>
                  <a:lnTo>
                    <a:pt x="5" y="292"/>
                  </a:lnTo>
                  <a:close/>
                </a:path>
              </a:pathLst>
            </a:custGeom>
            <a:solidFill>
              <a:srgbClr val="aa8a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26"/>
            <p:cNvSpPr/>
            <p:nvPr/>
          </p:nvSpPr>
          <p:spPr>
            <a:xfrm>
              <a:off x="1872360" y="3707280"/>
              <a:ext cx="26820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379800" y="4161960"/>
              <a:ext cx="32094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8" name="Прямоугольник 12"/>
          <p:cNvSpPr/>
          <p:nvPr/>
        </p:nvSpPr>
        <p:spPr>
          <a:xfrm>
            <a:off x="785880" y="4071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Verdana"/>
              </a:rPr>
              <a:t>Самостоятельная работа учен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Group 3"/>
          <p:cNvGrpSpPr/>
          <p:nvPr/>
        </p:nvGrpSpPr>
        <p:grpSpPr>
          <a:xfrm>
            <a:off x="324000" y="1773360"/>
            <a:ext cx="3261960" cy="1901880"/>
            <a:chOff x="324000" y="1773360"/>
            <a:chExt cx="3261960" cy="1901880"/>
          </a:xfrm>
        </p:grpSpPr>
        <p:grpSp>
          <p:nvGrpSpPr>
            <p:cNvPr id="270" name="AutoShape 4"/>
            <p:cNvGrpSpPr/>
            <p:nvPr/>
          </p:nvGrpSpPr>
          <p:grpSpPr>
            <a:xfrm>
              <a:off x="324000" y="1773360"/>
              <a:ext cx="3261960" cy="1901880"/>
              <a:chOff x="324000" y="1773360"/>
              <a:chExt cx="3261960" cy="1901880"/>
            </a:xfrm>
          </p:grpSpPr>
          <p:pic>
            <p:nvPicPr>
              <p:cNvPr id="271" name="AutoShap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00" y="1773360"/>
                <a:ext cx="3261960" cy="19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33"/>
              <p:cNvSpPr/>
              <p:nvPr/>
            </p:nvSpPr>
            <p:spPr>
              <a:xfrm rot="5400000">
                <a:off x="1133640" y="1225080"/>
                <a:ext cx="163872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3" name="Freeform 5"/>
            <p:cNvSpPr/>
            <p:nvPr/>
          </p:nvSpPr>
          <p:spPr>
            <a:xfrm>
              <a:off x="371880" y="1794600"/>
              <a:ext cx="3171240" cy="408960"/>
            </a:xfrm>
            <a:custGeom>
              <a:avLst/>
              <a:gdLst>
                <a:gd name="textAreaLeft" fmla="*/ 0 w 3171240"/>
                <a:gd name="textAreaRight" fmla="*/ 3171600 w 31712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8dc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1792800" y="1870200"/>
              <a:ext cx="1836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346680" y="2373840"/>
              <a:ext cx="318600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Прямоугольник 19"/>
          <p:cNvSpPr/>
          <p:nvPr/>
        </p:nvSpPr>
        <p:spPr>
          <a:xfrm>
            <a:off x="500040" y="221472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Verdana"/>
              </a:rPr>
              <a:t>Личностно-ориентированный, индивидуальный характе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7" name="Group 18"/>
          <p:cNvGrpSpPr/>
          <p:nvPr/>
        </p:nvGrpSpPr>
        <p:grpSpPr>
          <a:xfrm>
            <a:off x="5126040" y="1606680"/>
            <a:ext cx="3547800" cy="1822320"/>
            <a:chOff x="5126040" y="1606680"/>
            <a:chExt cx="3547800" cy="1822320"/>
          </a:xfrm>
        </p:grpSpPr>
        <p:grpSp>
          <p:nvGrpSpPr>
            <p:cNvPr id="278" name="AutoShape 19"/>
            <p:cNvGrpSpPr/>
            <p:nvPr/>
          </p:nvGrpSpPr>
          <p:grpSpPr>
            <a:xfrm>
              <a:off x="5126040" y="1606680"/>
              <a:ext cx="3547800" cy="1822320"/>
              <a:chOff x="5126040" y="1606680"/>
              <a:chExt cx="3547800" cy="1822320"/>
            </a:xfrm>
          </p:grpSpPr>
          <p:pic>
            <p:nvPicPr>
              <p:cNvPr id="279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5126040" y="1606680"/>
                <a:ext cx="3547800" cy="182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7"/>
              <p:cNvSpPr/>
              <p:nvPr/>
            </p:nvSpPr>
            <p:spPr>
              <a:xfrm rot="5400000">
                <a:off x="6116400" y="862920"/>
                <a:ext cx="1564560" cy="33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1" name="Freeform 20"/>
            <p:cNvSpPr/>
            <p:nvPr/>
          </p:nvSpPr>
          <p:spPr>
            <a:xfrm>
              <a:off x="5175000" y="1629720"/>
              <a:ext cx="3455280" cy="390240"/>
            </a:xfrm>
            <a:custGeom>
              <a:avLst/>
              <a:gdLst>
                <a:gd name="textAreaLeft" fmla="*/ 0 w 3455280"/>
                <a:gd name="textAreaRight" fmla="*/ 3455640 w 3455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8dc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21"/>
            <p:cNvSpPr/>
            <p:nvPr/>
          </p:nvSpPr>
          <p:spPr>
            <a:xfrm>
              <a:off x="6731280" y="1701720"/>
              <a:ext cx="183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Text Box 22"/>
            <p:cNvSpPr/>
            <p:nvPr/>
          </p:nvSpPr>
          <p:spPr>
            <a:xfrm>
              <a:off x="5147640" y="2182680"/>
              <a:ext cx="34711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Прямоугольник 25"/>
          <p:cNvSpPr/>
          <p:nvPr/>
        </p:nvSpPr>
        <p:spPr>
          <a:xfrm>
            <a:off x="5219640" y="21337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Verdana"/>
              </a:rPr>
              <a:t>Использование образовательных технолог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5" name="Group 28"/>
          <p:cNvGrpSpPr/>
          <p:nvPr/>
        </p:nvGrpSpPr>
        <p:grpSpPr>
          <a:xfrm>
            <a:off x="5219640" y="3357720"/>
            <a:ext cx="3454200" cy="1952640"/>
            <a:chOff x="5219640" y="3357720"/>
            <a:chExt cx="3454200" cy="1952640"/>
          </a:xfrm>
        </p:grpSpPr>
        <p:grpSp>
          <p:nvGrpSpPr>
            <p:cNvPr id="286" name="AutoShape 29"/>
            <p:cNvGrpSpPr/>
            <p:nvPr/>
          </p:nvGrpSpPr>
          <p:grpSpPr>
            <a:xfrm>
              <a:off x="5219640" y="3357720"/>
              <a:ext cx="3454200" cy="1952640"/>
              <a:chOff x="5219640" y="3357720"/>
              <a:chExt cx="3454200" cy="1952640"/>
            </a:xfrm>
          </p:grpSpPr>
          <p:pic>
            <p:nvPicPr>
              <p:cNvPr id="287" name="AutoShap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9640" y="3357720"/>
                <a:ext cx="3454200" cy="19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Text Box 21"/>
              <p:cNvSpPr/>
              <p:nvPr/>
            </p:nvSpPr>
            <p:spPr>
              <a:xfrm rot="5400000">
                <a:off x="6107760" y="2738880"/>
                <a:ext cx="1677960" cy="31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9" name="Freeform 30"/>
            <p:cNvSpPr/>
            <p:nvPr/>
          </p:nvSpPr>
          <p:spPr>
            <a:xfrm>
              <a:off x="5264640" y="3384720"/>
              <a:ext cx="3366720" cy="372240"/>
            </a:xfrm>
            <a:custGeom>
              <a:avLst/>
              <a:gdLst>
                <a:gd name="textAreaLeft" fmla="*/ 0 w 3366720"/>
                <a:gd name="textAreaRight" fmla="*/ 3367080 w 336672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feb80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Rectangle 31"/>
            <p:cNvSpPr/>
            <p:nvPr/>
          </p:nvSpPr>
          <p:spPr>
            <a:xfrm>
              <a:off x="6678720" y="3450960"/>
              <a:ext cx="3916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2"/>
            <p:cNvSpPr/>
            <p:nvPr/>
          </p:nvSpPr>
          <p:spPr>
            <a:xfrm>
              <a:off x="5245920" y="3910320"/>
              <a:ext cx="337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2" name="Прямоугольник 31"/>
          <p:cNvSpPr/>
          <p:nvPr/>
        </p:nvSpPr>
        <p:spPr>
          <a:xfrm>
            <a:off x="5929200" y="39290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Verdana"/>
              </a:rPr>
              <a:t>Практический, деятельност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Verdana"/>
              </a:rPr>
              <a:t>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3214800" y="4643280"/>
            <a:ext cx="2437920" cy="2000520"/>
            <a:chOff x="3214800" y="4643280"/>
            <a:chExt cx="2437920" cy="2000520"/>
          </a:xfrm>
        </p:grpSpPr>
        <p:grpSp>
          <p:nvGrpSpPr>
            <p:cNvPr id="294" name="AutoShape 14"/>
            <p:cNvGrpSpPr/>
            <p:nvPr/>
          </p:nvGrpSpPr>
          <p:grpSpPr>
            <a:xfrm>
              <a:off x="3214800" y="4643280"/>
              <a:ext cx="2437920" cy="2000520"/>
              <a:chOff x="3214800" y="4643280"/>
              <a:chExt cx="2437920" cy="2000520"/>
            </a:xfrm>
          </p:grpSpPr>
          <p:pic>
            <p:nvPicPr>
              <p:cNvPr id="295" name="AutoShap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3214800" y="4643280"/>
                <a:ext cx="2437920" cy="200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5400000">
                <a:off x="3573000" y="4561920"/>
                <a:ext cx="1724760" cy="21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7" name="Freeform 15"/>
            <p:cNvSpPr/>
            <p:nvPr/>
          </p:nvSpPr>
          <p:spPr>
            <a:xfrm>
              <a:off x="3254040" y="4665960"/>
              <a:ext cx="2363040" cy="430200"/>
            </a:xfrm>
            <a:custGeom>
              <a:avLst/>
              <a:gdLst>
                <a:gd name="textAreaLeft" fmla="*/ 0 w 2363040"/>
                <a:gd name="textAreaRight" fmla="*/ 2363400 w 236304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feb80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16"/>
            <p:cNvSpPr/>
            <p:nvPr/>
          </p:nvSpPr>
          <p:spPr>
            <a:xfrm>
              <a:off x="4246560" y="4742640"/>
              <a:ext cx="275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3241080" y="5272560"/>
              <a:ext cx="236844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" name="Прямоугольник 37"/>
          <p:cNvSpPr/>
          <p:nvPr/>
        </p:nvSpPr>
        <p:spPr>
          <a:xfrm>
            <a:off x="3286080" y="507204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Verdana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7"/>
          <a:stretch/>
        </p:blipFill>
        <p:spPr>
          <a:xfrm>
            <a:off x="8548560" y="549360"/>
            <a:ext cx="595440" cy="714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Универсальные учебные действия, формируемые на уроке в начальной школе</a:t>
            </a:r>
            <a:endParaRPr b="0" lang="en-US" sz="2800" spc="-1" strike="noStrike">
              <a:solidFill>
                <a:srgbClr val="4f271c"/>
              </a:solidFill>
              <a:latin typeface="Trebuchet MS"/>
            </a:endParaRPr>
          </a:p>
        </p:txBody>
      </p:sp>
      <p:grpSp>
        <p:nvGrpSpPr>
          <p:cNvPr id="303" name="Group 13"/>
          <p:cNvGrpSpPr/>
          <p:nvPr/>
        </p:nvGrpSpPr>
        <p:grpSpPr>
          <a:xfrm>
            <a:off x="4643280" y="2349360"/>
            <a:ext cx="4082760" cy="1584360"/>
            <a:chOff x="4643280" y="2349360"/>
            <a:chExt cx="4082760" cy="1584360"/>
          </a:xfrm>
        </p:grpSpPr>
        <p:grpSp>
          <p:nvGrpSpPr>
            <p:cNvPr id="304" name="AutoShape 14"/>
            <p:cNvGrpSpPr/>
            <p:nvPr/>
          </p:nvGrpSpPr>
          <p:grpSpPr>
            <a:xfrm>
              <a:off x="4643280" y="2349360"/>
              <a:ext cx="4082760" cy="1584360"/>
              <a:chOff x="4643280" y="2349360"/>
              <a:chExt cx="4082760" cy="1584360"/>
            </a:xfrm>
          </p:grpSpPr>
          <p:pic>
            <p:nvPicPr>
              <p:cNvPr id="305" name="AutoShap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2349360"/>
                <a:ext cx="408276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27"/>
              <p:cNvSpPr/>
              <p:nvPr/>
            </p:nvSpPr>
            <p:spPr>
              <a:xfrm rot="5400000">
                <a:off x="6004800" y="1212840"/>
                <a:ext cx="1356120" cy="38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7" name="Freeform 15"/>
            <p:cNvSpPr/>
            <p:nvPr/>
          </p:nvSpPr>
          <p:spPr>
            <a:xfrm>
              <a:off x="4687560" y="2373840"/>
              <a:ext cx="3993840" cy="338400"/>
            </a:xfrm>
            <a:custGeom>
              <a:avLst/>
              <a:gdLst>
                <a:gd name="textAreaLeft" fmla="*/ 0 w 3993840"/>
                <a:gd name="textAreaRight" fmla="*/ 3994200 w 399384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feb80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6364800" y="2432880"/>
              <a:ext cx="4647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Text Box 17"/>
            <p:cNvSpPr/>
            <p:nvPr/>
          </p:nvSpPr>
          <p:spPr>
            <a:xfrm>
              <a:off x="4665240" y="2851920"/>
              <a:ext cx="40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58d01"/>
                  </a:solidFill>
                  <a:latin typeface="Verdana"/>
                </a:rPr>
                <a:t>РЕГУЛЯТИВН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0" name="Group 18"/>
          <p:cNvGrpSpPr/>
          <p:nvPr/>
        </p:nvGrpSpPr>
        <p:grpSpPr>
          <a:xfrm>
            <a:off x="4572000" y="4149720"/>
            <a:ext cx="4187520" cy="2025360"/>
            <a:chOff x="4572000" y="4149720"/>
            <a:chExt cx="4187520" cy="2025360"/>
          </a:xfrm>
        </p:grpSpPr>
        <p:grpSp>
          <p:nvGrpSpPr>
            <p:cNvPr id="311" name="AutoShape 19"/>
            <p:cNvGrpSpPr/>
            <p:nvPr/>
          </p:nvGrpSpPr>
          <p:grpSpPr>
            <a:xfrm>
              <a:off x="4572000" y="4302360"/>
              <a:ext cx="4187520" cy="1872720"/>
              <a:chOff x="4572000" y="4302360"/>
              <a:chExt cx="4187520" cy="1872720"/>
            </a:xfrm>
          </p:grpSpPr>
          <p:pic>
            <p:nvPicPr>
              <p:cNvPr id="312" name="AutoShape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4302360"/>
                <a:ext cx="4187520" cy="187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Text Box 21"/>
              <p:cNvSpPr/>
              <p:nvPr/>
            </p:nvSpPr>
            <p:spPr>
              <a:xfrm rot="5400000">
                <a:off x="5859000" y="3273120"/>
                <a:ext cx="1614600" cy="39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4" name="Freeform 20"/>
            <p:cNvSpPr/>
            <p:nvPr/>
          </p:nvSpPr>
          <p:spPr>
            <a:xfrm>
              <a:off x="4595760" y="4149720"/>
              <a:ext cx="4123800" cy="497880"/>
            </a:xfrm>
            <a:custGeom>
              <a:avLst/>
              <a:gdLst>
                <a:gd name="textAreaLeft" fmla="*/ 0 w 4123800"/>
                <a:gd name="textAreaRight" fmla="*/ 4124160 w 412380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8dc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21"/>
            <p:cNvSpPr/>
            <p:nvPr/>
          </p:nvSpPr>
          <p:spPr>
            <a:xfrm>
              <a:off x="6878880" y="424152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Text Box 22"/>
            <p:cNvSpPr/>
            <p:nvPr/>
          </p:nvSpPr>
          <p:spPr>
            <a:xfrm>
              <a:off x="4595760" y="4854960"/>
              <a:ext cx="41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25519"/>
                  </a:solidFill>
                  <a:latin typeface="Verdana"/>
                </a:rPr>
                <a:t>ПОЗНАВАТЕЛЬН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" name="Group 23"/>
          <p:cNvGrpSpPr/>
          <p:nvPr/>
        </p:nvGrpSpPr>
        <p:grpSpPr>
          <a:xfrm>
            <a:off x="228600" y="4214880"/>
            <a:ext cx="4057200" cy="1805040"/>
            <a:chOff x="228600" y="4214880"/>
            <a:chExt cx="4057200" cy="1805040"/>
          </a:xfrm>
        </p:grpSpPr>
        <p:grpSp>
          <p:nvGrpSpPr>
            <p:cNvPr id="318" name="AutoShape 24"/>
            <p:cNvGrpSpPr/>
            <p:nvPr/>
          </p:nvGrpSpPr>
          <p:grpSpPr>
            <a:xfrm>
              <a:off x="228600" y="4214880"/>
              <a:ext cx="4057200" cy="1805040"/>
              <a:chOff x="228600" y="4214880"/>
              <a:chExt cx="4057200" cy="1805040"/>
            </a:xfrm>
          </p:grpSpPr>
          <p:pic>
            <p:nvPicPr>
              <p:cNvPr id="319" name="AutoShap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4214880"/>
                <a:ext cx="4057200" cy="180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 rot="5400000">
                <a:off x="1481400" y="3214800"/>
                <a:ext cx="1548360" cy="38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Freeform 25"/>
            <p:cNvSpPr/>
            <p:nvPr/>
          </p:nvSpPr>
          <p:spPr>
            <a:xfrm>
              <a:off x="267480" y="4253040"/>
              <a:ext cx="3994560" cy="372240"/>
            </a:xfrm>
            <a:custGeom>
              <a:avLst/>
              <a:gdLst>
                <a:gd name="textAreaLeft" fmla="*/ 0 w 3994560"/>
                <a:gd name="textAreaRight" fmla="*/ 3994920 w 39945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260" h="292">
                  <a:moveTo>
                    <a:pt x="5" y="292"/>
                  </a:moveTo>
                  <a:cubicBezTo>
                    <a:pt x="0" y="270"/>
                    <a:pt x="16" y="49"/>
                    <a:pt x="192" y="0"/>
                  </a:cubicBezTo>
                  <a:lnTo>
                    <a:pt x="1060" y="0"/>
                  </a:lnTo>
                  <a:cubicBezTo>
                    <a:pt x="1241" y="48"/>
                    <a:pt x="1260" y="186"/>
                    <a:pt x="1254" y="291"/>
                  </a:cubicBezTo>
                  <a:lnTo>
                    <a:pt x="5" y="292"/>
                  </a:lnTo>
                  <a:close/>
                </a:path>
              </a:pathLst>
            </a:custGeom>
            <a:solidFill>
              <a:srgbClr val="aa8a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>
              <a:off x="1782360" y="4286160"/>
              <a:ext cx="27540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249120" y="4784760"/>
              <a:ext cx="3296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228600" y="502956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5e01"/>
                </a:solidFill>
                <a:latin typeface="Verdana"/>
                <a:ea typeface="Times New Roman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357120" y="2357280"/>
            <a:ext cx="3785760" cy="1600200"/>
            <a:chOff x="357120" y="2357280"/>
            <a:chExt cx="3785760" cy="1600200"/>
          </a:xfrm>
        </p:grpSpPr>
        <p:grpSp>
          <p:nvGrpSpPr>
            <p:cNvPr id="326" name="AutoShape 4"/>
            <p:cNvGrpSpPr/>
            <p:nvPr/>
          </p:nvGrpSpPr>
          <p:grpSpPr>
            <a:xfrm>
              <a:off x="357120" y="2357280"/>
              <a:ext cx="3647520" cy="1600200"/>
              <a:chOff x="357120" y="2357280"/>
              <a:chExt cx="3647520" cy="1600200"/>
            </a:xfrm>
          </p:grpSpPr>
          <p:pic>
            <p:nvPicPr>
              <p:cNvPr id="327" name="AutoShap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357120" y="2357280"/>
                <a:ext cx="364752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 rot="5400000">
                <a:off x="1494720" y="1450440"/>
                <a:ext cx="1372680" cy="34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9" name="Freeform 5"/>
            <p:cNvSpPr/>
            <p:nvPr/>
          </p:nvSpPr>
          <p:spPr>
            <a:xfrm>
              <a:off x="365400" y="2378520"/>
              <a:ext cx="3616920" cy="342360"/>
            </a:xfrm>
            <a:custGeom>
              <a:avLst/>
              <a:gdLst>
                <a:gd name="textAreaLeft" fmla="*/ 0 w 3616920"/>
                <a:gd name="textAreaRight" fmla="*/ 3617280 w 361692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8dc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Rectangle 6"/>
            <p:cNvSpPr/>
            <p:nvPr/>
          </p:nvSpPr>
          <p:spPr>
            <a:xfrm>
              <a:off x="1963440" y="2441880"/>
              <a:ext cx="279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Text Box 7"/>
            <p:cNvSpPr/>
            <p:nvPr/>
          </p:nvSpPr>
          <p:spPr>
            <a:xfrm>
              <a:off x="379440" y="2863800"/>
              <a:ext cx="376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78e32"/>
                  </a:solidFill>
                  <a:latin typeface="Verdana"/>
                </a:rPr>
                <a:t>ЛИЧНОСТН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2" name="Picture 6" descr=""/>
          <p:cNvPicPr/>
          <p:nvPr/>
        </p:nvPicPr>
        <p:blipFill>
          <a:blip r:embed="rId6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0000"/>
                </a:solidFill>
                <a:latin typeface="Trebuchet MS"/>
              </a:rPr>
              <a:t>Структура урока в начальных классах</a:t>
            </a:r>
            <a:br>
              <a:rPr sz="3600"/>
            </a:b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85480" y="150012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I этап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. Организация класса (орг.момент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II 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Актуализация ранее усвоенных знаний и умений (повторение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III 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Формирование новых знаний и умений (постановка учебной задач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IV 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Открытие нового зн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V этап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. Первичное закреплен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eorgia"/>
              </a:rPr>
              <a:t>VI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этап.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  <a:ea typeface="Times New Roman"/>
              </a:rPr>
              <a:t>Самостоятельная работа с самопроверкой по эталону. Самоанализ и самоконтроль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VII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  <a:ea typeface="Times New Roman"/>
              </a:rPr>
              <a:t>Включение нового знания в систему знаний и повторен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VII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  <a:ea typeface="Times New Roman"/>
              </a:rPr>
              <a:t>Рефлексия деятельности ( итог урока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8388360" y="134136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96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включение учащихся в деятельность на личностно- значимом уровне.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«Хочу, потому что могу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6d7d"/>
                </a:solidFill>
                <a:latin typeface="Georgia"/>
                <a:ea typeface="Times New Roman"/>
              </a:rPr>
              <a:t>1-2 мину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У учащихся должна возникнуть положительная эмоциональная направленность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включение детей в деятельность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6d7d"/>
                </a:solidFill>
                <a:latin typeface="Georgia"/>
                <a:ea typeface="Times New Roman"/>
              </a:rPr>
              <a:t>Приёмы работ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учитель в начале урока высказывает добрые пожелания детям; предлагает пожелать друг другу удачи (хлопки в ладони друг друга с соседом по парте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учитель предлагает детям подумать, что пригодится для успешной работы на уроке; дети высказываютс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девиз, эпиграф («С малой удачи начинается большой успех»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самопроверка домашнего задания по образц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81867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1.Организационный момент.</a:t>
            </a:r>
            <a:br>
              <a:rPr sz="3600"/>
            </a:b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II. Актуализация знаний.</a:t>
            </a:r>
            <a:br>
              <a:rPr sz="4000"/>
            </a:b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95280" y="16282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ctr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вторение изученного материала, необходимого для «открытия нового знания», и выявление затруднений в индивидуальной деятельности каждого учащегос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891a7"/>
                </a:solidFill>
                <a:latin typeface="Georgia"/>
                <a:ea typeface="Times New Roman"/>
              </a:rPr>
              <a:t>4-5 мину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озникновение проблемной ситу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актуализация ЗУН и мыслительных операци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внимания, памяти, речи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здание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явление и фиксирование в громкой речи: где и почему возникло затруднение; темы и цели уро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595440" cy="714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6:03:17Z</dcterms:created>
  <dc:creator>User</dc:creator>
  <dc:description/>
  <dc:language>en-US</dc:language>
  <cp:lastModifiedBy>HOME</cp:lastModifiedBy>
  <dcterms:modified xsi:type="dcterms:W3CDTF">2021-07-22T10:56:57Z</dcterms:modified>
  <cp:revision>723</cp:revision>
  <dc:subject/>
  <dc:title>Слайд 1</dc:title>
</cp:coreProperties>
</file>