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3A9-06B7-485E-8EE8-C2AE2F5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41F-5E4F-4567-8B2F-2D31843B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CB9-2667-4E67-8E83-11929F2A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FF6-3DF8-448C-916C-D406FEA4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8D5E-EC78-4126-9033-6C4E4283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22D0-F971-40F6-A93F-6C66EA78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16DD-2BC4-4ACB-AEAC-EF367FB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48AA-59F7-4E21-823F-0096DD8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5690-2F72-4561-9F48-D80CC9D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ABB3-B9F4-411F-9415-8FCF76F5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E333-9BA6-4253-B103-A7BB26EA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AB7-66CD-4920-AFE5-4CEE70F0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7E65-7BDC-4234-AB3A-30FA0F7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8D5C-C9F9-4CB6-B22C-26FFE62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D947-D91C-41E2-8B9C-3E8992A6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4037-F49A-436F-9EC7-0E8A28CD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9620-4039-4222-A213-33E9F206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7992F-16A1-4ED9-B2F3-BCB890F0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04C99-582C-4B6E-967A-BA5C39BC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BCBF6-DBAB-49D8-BA90-8F093D12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0DE8E-71C4-4288-9CFA-6CF664EE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17E8F-21B3-493F-9207-5EC0A742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CA7-27C6-4AFD-A2C0-50DC249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ED77E-F460-4AD9-B602-AD2B86C2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4B1E5-7571-4710-B3C4-CD557DE1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12C35-2BFE-4ABE-B016-E6413027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6881C-7144-49AB-9FC0-7CD1C44B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E8B94-24A3-4847-BFE1-40E41401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11010-58BF-4337-BB1D-FDD0379B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7AFB2-BB87-482D-8062-72065603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7994-4A44-4185-9270-9E5AF1D2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6BB4-04B6-48D1-A11A-3878A4F1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CCF5E-1C4F-4201-8F78-65566E5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1AF-A34A-4714-B488-B1344C97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FEE6E-2FED-4B27-9172-7A53B346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72B1-5BCC-47B8-BDC6-7A047304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4835-96A2-4B87-9C01-8CD50379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6A07-7E6F-436F-B28D-918243A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217F-E8C3-4312-99A2-6649C127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33E5-05C7-49FC-9A9F-62EBAD0F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07F4-4BAA-4B6D-84DA-3DC810D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18E7-9195-425A-8FFF-175DFD0F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CD44-5DC3-489C-8E43-FA18CC04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0EE-F2BC-4845-98C8-E013785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779E-A7F4-4E38-86F8-97686F95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67E-196D-47A3-AC3A-03E9972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37A-E69E-42A9-B9CB-633D501D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BEC-6D4C-4FEE-A2A0-1750E81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302F-0AE6-4EE6-9078-54763BDC161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eb80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eb80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A59A-4000-4ECC-AA52-50B5B40AE1B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7720-2DB4-4D05-92E9-CAB850BFD400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f2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eb80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c32d2e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eb80a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61F-8D5B-476F-BB84-75D95ACAF08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4" descr=""/>
          <p:cNvPicPr/>
          <p:nvPr/>
        </p:nvPicPr>
        <p:blipFill>
          <a:blip r:embed="rId2"/>
          <a:stretch/>
        </p:blipFill>
        <p:spPr>
          <a:xfrm>
            <a:off x="463680" y="615960"/>
            <a:ext cx="8223120" cy="151776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1" descr=""/>
          <p:cNvPicPr/>
          <p:nvPr/>
        </p:nvPicPr>
        <p:blipFill>
          <a:blip r:embed="rId3"/>
          <a:stretch/>
        </p:blipFill>
        <p:spPr>
          <a:xfrm>
            <a:off x="1122480" y="1579680"/>
            <a:ext cx="5729040" cy="177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www.tilimen.org/ustnij-jurnal-velikan-narodnoj-poezii/15802_html_6ead79f1.png"/>
          <p:cNvPicPr/>
          <p:nvPr/>
        </p:nvPicPr>
        <p:blipFill>
          <a:blip r:embed="rId4"/>
          <a:stretch/>
        </p:blipFill>
        <p:spPr>
          <a:xfrm>
            <a:off x="0" y="5072040"/>
            <a:ext cx="2214720" cy="1563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8388360" y="549360"/>
            <a:ext cx="595440" cy="71424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11" descr=""/>
          <p:cNvPicPr/>
          <p:nvPr/>
        </p:nvPicPr>
        <p:blipFill>
          <a:blip r:embed="rId6"/>
          <a:stretch/>
        </p:blipFill>
        <p:spPr>
          <a:xfrm>
            <a:off x="-181080" y="2997360"/>
            <a:ext cx="8375760" cy="1298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357120" y="4000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1285920" y="4000680"/>
            <a:ext cx="47149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 </a:t>
            </a: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МБОУ СОШ №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203"/>
                </a:solidFill>
                <a:latin typeface="Monotype Corsiva"/>
              </a:rPr>
              <a:t>Г. Светл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3204"/>
                </a:solidFill>
                <a:latin typeface="Monotype Corsiva"/>
              </a:rPr>
              <a:t>Кузькина Наталь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13204"/>
                </a:solidFill>
                <a:latin typeface="Monotype Corsiva"/>
              </a:rPr>
              <a:t>Михайлов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724360" y="3983040"/>
            <a:ext cx="3086280" cy="2614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III. Постановка учебной задачи.</a:t>
            </a:r>
            <a:br>
              <a:rPr sz="4000"/>
            </a:b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бсуждение затруднен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(«Почему возникли затруднения?»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«Чего мы ещё не знаем?»)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говаривание цели урока в виде вопроса, на который предстоит ответи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2"/>
          <a:stretch/>
        </p:blipFill>
        <p:spPr>
          <a:xfrm>
            <a:off x="8215200" y="1571760"/>
            <a:ext cx="5954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IV. «Открытие нового знания»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428480"/>
            <a:ext cx="8429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решение УЗ (устных задач) и обсуждение проекта её решения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7-8 ми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пособы: диалог, групповая или парная рабо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тоды: побуждающий к гипотезам диалог, подводящий к открытию знания диалог, подводящий без проблемы диалог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Организация самостоятельной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ведение алгорит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. Первичное закрепление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r>
              <a:rPr b="0" lang="en-US" sz="4000" spc="-1" strike="noStrike">
                <a:solidFill>
                  <a:srgbClr val="4f271c"/>
                </a:solidFill>
                <a:latin typeface="Trebuchet MS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6760" y="1642680"/>
            <a:ext cx="5929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говаривание нового знания, запись в виде опорного сигна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пособы: фронтальная работа, работа в парах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редства: комментирование, обозначение знаковыми символами, выполнение продуктивных зада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полнение заданий с проговариванием в громкой реч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52047" t="49889" r="4549" b="32504"/>
          <a:stretch/>
        </p:blipFill>
        <p:spPr>
          <a:xfrm>
            <a:off x="7072200" y="43578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8286840" y="857160"/>
            <a:ext cx="59508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I. Самостоятельная работа с самопроверкой по эталону.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Самоанализ и самоконтроль</a:t>
            </a:r>
            <a:r>
              <a:rPr b="0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каждый для себя должен сделать вывод о том, что он уже умее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у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большой объем самостоятельной работы (не более 2-3 типовых заданий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полняется письменн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Методы: самоконтроль, самооцен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85485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II.  Включение нового знания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 в систему знаний и повторение.</a:t>
            </a:r>
            <a:br>
              <a:rPr sz="3200"/>
            </a:br>
            <a:endParaRPr b="0" lang="en-US" sz="32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1a7"/>
                </a:solidFill>
                <a:latin typeface="Georgia"/>
                <a:ea typeface="Times New Roman"/>
              </a:rPr>
              <a:t>7-8 мину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начала предложить учащимся из набора заданий выбрать только те, которые содержат новый алгоритм или новое понят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тем выполняются упражнения, в которых новое знание используется вместе с изученными ране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VIII.Рефлексия деятельности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 (итог урока).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осознание учащимися своей УД (учебной деятельности), самооценка результатов деятельности своей и всего класс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eorgia"/>
                <a:ea typeface="Times New Roman"/>
              </a:rPr>
              <a:t>2-3 минут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Какую задачу ставили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Удалось решить поставленную задачу?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Каким способом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Какие получили результаты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Что нужно сделать ещё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 Где можно применить новые знания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1617"/>
                </a:solidFill>
                <a:latin typeface="Arbat-Bold"/>
              </a:rPr>
              <a:t>Ребенок на современном уроке.</a:t>
            </a:r>
            <a:br>
              <a:rPr sz="3600"/>
            </a:br>
            <a:r>
              <a:rPr b="0" lang="en-US" sz="3600" spc="-1" strike="noStrike">
                <a:solidFill>
                  <a:srgbClr val="c00000"/>
                </a:solidFill>
                <a:latin typeface="Annabelle"/>
              </a:rPr>
              <a:t>Цель - готовность к саморазвитию.</a:t>
            </a: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360" y="227664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0000"/>
                </a:solidFill>
                <a:latin typeface="Annabelle"/>
              </a:rPr>
              <a:t>Умение самостоятельно делать выбор, адекватный своим способностя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nnabelle"/>
              </a:rPr>
              <a:t>Умение ставить перед собой цель, принимать реше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nnabelle"/>
              </a:rPr>
              <a:t>Умение самостоятельно находить выход в нестандартной ситу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2223"/>
                </a:solidFill>
                <a:latin typeface="Annabelle"/>
              </a:rPr>
              <a:t>Умение проконтролировать себя, свои собственные действия, согласовывать свою позицию с другими людьми, общатьс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2"/>
          <a:stretch/>
        </p:blipFill>
        <p:spPr>
          <a:xfrm>
            <a:off x="8317080" y="620640"/>
            <a:ext cx="59508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497520"/>
            <a:ext cx="8893080" cy="636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Учить детей сегодня трудно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И раньше было нелегко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Читать, считать, писать учили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«Даёт корова молоко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Век XXI – век открыти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Век инноваций, новизны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Но  от учителя зависит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Какими дети быть долж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Желаю вам, чтоб дети  в вашем класс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Светились от улыбок и любв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Терпенья вам и творческих успех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eorgia"/>
                <a:ea typeface="Times New Roman"/>
              </a:rPr>
              <a:t>В такие непростые наши дни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59508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571680" y="785880"/>
            <a:ext cx="81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  <a:ea typeface="Times New Roman"/>
              </a:rPr>
              <a:t>Учитель,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11617"/>
                </a:solidFill>
                <a:latin typeface="Verdana"/>
                <a:ea typeface="Times New Roman"/>
              </a:rPr>
              <a:t>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евозможно воплощение новых стандартов школьного образова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Прямоугольник 4"/>
          <p:cNvSpPr/>
          <p:nvPr/>
        </p:nvSpPr>
        <p:spPr>
          <a:xfrm>
            <a:off x="2098440" y="4071960"/>
            <a:ext cx="41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Verdana"/>
              </a:rPr>
              <a:t>Успехов в работ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Рисунок 3" descr="0_8b9dc_a4fee6b2_XL.png"/>
          <p:cNvPicPr/>
          <p:nvPr/>
        </p:nvPicPr>
        <p:blipFill>
          <a:blip r:embed="rId2"/>
          <a:stretch/>
        </p:blipFill>
        <p:spPr>
          <a:xfrm>
            <a:off x="3071880" y="5072040"/>
            <a:ext cx="3143160" cy="1330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3"/>
          <a:stretch/>
        </p:blipFill>
        <p:spPr>
          <a:xfrm>
            <a:off x="8317080" y="549360"/>
            <a:ext cx="59508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57120" y="1649160"/>
            <a:ext cx="85726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285840" y="642960"/>
            <a:ext cx="8858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« Урок </a:t>
            </a:r>
            <a:r>
              <a:rPr b="1" lang="en-US" sz="4000" spc="-1" strike="noStrike">
                <a:solidFill>
                  <a:srgbClr val="a20000"/>
                </a:solidFill>
                <a:latin typeface="Calibri"/>
                <a:ea typeface="Calibri"/>
              </a:rPr>
              <a:t>– </a:t>
            </a: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это зеркало общей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педагогической культуры учителя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мерило его интеллектуального богатства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alibri"/>
                <a:ea typeface="Calibri"/>
              </a:rPr>
              <a:t>показатель его кругозора, эрудиции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Calibri"/>
                <a:ea typeface="Calibri"/>
              </a:rPr>
              <a:t>В.А. Сухомлинский</a:t>
            </a:r>
            <a:r>
              <a:rPr b="0" i="1" lang="en-US" sz="4000" spc="-1" strike="noStrike">
                <a:solidFill>
                  <a:srgbClr val="922223"/>
                </a:solidFill>
                <a:latin typeface="Calibri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0" y="404640"/>
            <a:ext cx="595440" cy="714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654280" cy="232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3132000" y="4160160"/>
            <a:ext cx="2880000" cy="2436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6155640" y="4149000"/>
            <a:ext cx="2808360" cy="2476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2"/>
          <p:cNvSpPr/>
          <p:nvPr/>
        </p:nvSpPr>
        <p:spPr>
          <a:xfrm>
            <a:off x="324000" y="1916280"/>
            <a:ext cx="2735280" cy="3960720"/>
          </a:xfrm>
          <a:prstGeom prst="rect">
            <a:avLst/>
          </a:prstGeom>
          <a:solidFill>
            <a:srgbClr val="e4e8ba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4788000" y="1989000"/>
            <a:ext cx="396072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6532"/>
              <a:gd name="adj5" fmla="val 95592"/>
              <a:gd name="adj6" fmla="val -43726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Уметь очерчивать учебную пробл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4788000" y="3213000"/>
            <a:ext cx="396072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13708"/>
              <a:gd name="adj5" fmla="val 47458"/>
              <a:gd name="adj6" fmla="val -43365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Формулировать алгоритм её реш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17"/>
          <p:cNvSpPr/>
          <p:nvPr/>
        </p:nvSpPr>
        <p:spPr>
          <a:xfrm>
            <a:off x="4788000" y="4437000"/>
            <a:ext cx="396072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2282"/>
              <a:gd name="adj5" fmla="val -24916"/>
              <a:gd name="adj6" fmla="val -43486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Контролировать учебный проце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4788000" y="5589720"/>
            <a:ext cx="396072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35148"/>
              <a:gd name="adj5" fmla="val -97393"/>
              <a:gd name="adj6" fmla="val -43407"/>
            </a:avLst>
          </a:prstGeom>
          <a:solidFill>
            <a:srgbClr val="e7dec9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32049"/>
                </a:solidFill>
                <a:latin typeface="Verdana"/>
              </a:rPr>
              <a:t>Оценивать полученный результа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19"/>
          <p:cNvSpPr/>
          <p:nvPr/>
        </p:nvSpPr>
        <p:spPr>
          <a:xfrm>
            <a:off x="2700360" y="907920"/>
            <a:ext cx="345600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-26319"/>
              <a:gd name="adj5" fmla="val 156236"/>
              <a:gd name="adj6" fmla="val -32199"/>
            </a:avLst>
          </a:prstGeom>
          <a:solidFill>
            <a:srgbClr val="eaedc9"/>
          </a:solidFill>
          <a:ln w="9360">
            <a:solidFill>
              <a:srgbClr val="4f271c"/>
            </a:solidFill>
            <a:miter/>
          </a:ln>
          <a:effectLst>
            <a:outerShdw dist="17819" dir="2700000" blurRad="0" rotWithShape="0">
              <a:srgbClr val="e7d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Verdana"/>
              </a:rPr>
              <a:t>Научить уч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1053720" y="212868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049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707400" y="4997520"/>
            <a:ext cx="19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Verdana"/>
              </a:rPr>
              <a:t>Лич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59544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73040" y="1989000"/>
            <a:ext cx="244332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500040" y="571680"/>
            <a:ext cx="7920000" cy="108252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e7dec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Планируемые результа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71c"/>
                </a:solidFill>
                <a:latin typeface="Georgia"/>
              </a:rPr>
              <a:t>три основные группы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AutoShape 4"/>
          <p:cNvGrpSpPr/>
          <p:nvPr/>
        </p:nvGrpSpPr>
        <p:grpSpPr>
          <a:xfrm>
            <a:off x="542880" y="1695600"/>
            <a:ext cx="2828880" cy="1779480"/>
            <a:chOff x="542880" y="1695600"/>
            <a:chExt cx="2828880" cy="1779480"/>
          </a:xfrm>
        </p:grpSpPr>
        <p:pic>
          <p:nvPicPr>
            <p:cNvPr id="241" name="AutoShape 4" descr=""/>
            <p:cNvPicPr/>
            <p:nvPr/>
          </p:nvPicPr>
          <p:blipFill>
            <a:blip r:embed="rId2"/>
            <a:stretch/>
          </p:blipFill>
          <p:spPr>
            <a:xfrm>
              <a:off x="542880" y="1695600"/>
              <a:ext cx="282888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90480" y="1820880"/>
              <a:ext cx="240984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eorgia"/>
                </a:rPr>
                <a:t>ЛИЧНОСТНЫЕ: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ориентац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ценностно-смысловая;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в социальных ролях и меж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65040" indent="-255600" algn="ctr">
                <a:lnSpc>
                  <a:spcPct val="100000"/>
                </a:lnSpc>
                <a:buClr>
                  <a:srgbClr val="c32d2e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orgia"/>
                </a:rPr>
                <a:t>личностных отношениях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" name="AutoShape 7"/>
          <p:cNvSpPr/>
          <p:nvPr/>
        </p:nvSpPr>
        <p:spPr>
          <a:xfrm>
            <a:off x="684360" y="3429000"/>
            <a:ext cx="2374920" cy="933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Самоопредел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личностное, профес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иональное, жизненно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755640" y="4365720"/>
            <a:ext cx="2303640" cy="11588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Смыслообразова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вязь между целью (ре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зультатом)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и ее мотив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55640" y="5445000"/>
            <a:ext cx="2303640" cy="1079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Нравствен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этическ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ориентац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" name="AutoShape 5"/>
          <p:cNvGrpSpPr/>
          <p:nvPr/>
        </p:nvGrpSpPr>
        <p:grpSpPr>
          <a:xfrm>
            <a:off x="3333600" y="1670040"/>
            <a:ext cx="2719440" cy="1066680"/>
            <a:chOff x="3333600" y="1670040"/>
            <a:chExt cx="2719440" cy="1066680"/>
          </a:xfrm>
        </p:grpSpPr>
        <p:pic>
          <p:nvPicPr>
            <p:cNvPr id="247" name="AutoShape 5" descr=""/>
            <p:cNvPicPr/>
            <p:nvPr/>
          </p:nvPicPr>
          <p:blipFill>
            <a:blip r:embed="rId3"/>
            <a:stretch/>
          </p:blipFill>
          <p:spPr>
            <a:xfrm>
              <a:off x="3333600" y="1670040"/>
              <a:ext cx="2719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475080" y="1760400"/>
              <a:ext cx="24080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eorgia"/>
                </a:rPr>
                <a:t>МЕТАПРЕДМЕТ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AutoShape 10"/>
          <p:cNvSpPr/>
          <p:nvPr/>
        </p:nvSpPr>
        <p:spPr>
          <a:xfrm>
            <a:off x="3492360" y="2708280"/>
            <a:ext cx="2448000" cy="107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Регулятивны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организация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540600" y="3834720"/>
            <a:ext cx="2422440" cy="902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ctr" anchorCtr="1">
            <a:normAutofit fontScale="88000"/>
          </a:bodyPr>
          <a:p>
            <a:pPr marL="321120" indent="-224640" algn="ctr"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Georgia"/>
              </a:rPr>
              <a:t>Коммуникативные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 algn="ctr"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речевые навыки 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 algn="ctr"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3492360" y="4797360"/>
            <a:ext cx="2519640" cy="17146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ы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общеучебные, в т.ч – знако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о-символические, логичес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ие, постановка и реш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AutoShape 6"/>
          <p:cNvGrpSpPr/>
          <p:nvPr/>
        </p:nvGrpSpPr>
        <p:grpSpPr>
          <a:xfrm>
            <a:off x="6083280" y="1695600"/>
            <a:ext cx="2779560" cy="1139760"/>
            <a:chOff x="6083280" y="1695600"/>
            <a:chExt cx="2779560" cy="1139760"/>
          </a:xfrm>
        </p:grpSpPr>
        <p:pic>
          <p:nvPicPr>
            <p:cNvPr id="253" name="AutoShape 6" descr=""/>
            <p:cNvPicPr/>
            <p:nvPr/>
          </p:nvPicPr>
          <p:blipFill>
            <a:blip r:embed="rId4"/>
            <a:stretch/>
          </p:blipFill>
          <p:spPr>
            <a:xfrm>
              <a:off x="6083280" y="1695600"/>
              <a:ext cx="27795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200640" y="1785960"/>
              <a:ext cx="254484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eorgia"/>
                </a:rPr>
                <a:t>ПРЕДМЕТНЫ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6357960" y="2786040"/>
            <a:ext cx="242892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Основы системы  научных  зна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6300720" y="3357720"/>
            <a:ext cx="2500560" cy="17143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пыт «предметной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о получению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еобразова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и применени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нового зн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36"/>
          <p:cNvSpPr/>
          <p:nvPr/>
        </p:nvSpPr>
        <p:spPr>
          <a:xfrm>
            <a:off x="6372360" y="5084640"/>
            <a:ext cx="2489040" cy="1359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метн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метапредметн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йстви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учебным материалом</a:t>
            </a:r>
            <a:r>
              <a:rPr b="1" lang="ru-RU" sz="1600" spc="-1" strike="noStrike">
                <a:solidFill>
                  <a:srgbClr val="e7dec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5"/>
          <a:stretch/>
        </p:blipFill>
        <p:spPr>
          <a:xfrm>
            <a:off x="8548560" y="476280"/>
            <a:ext cx="595440" cy="86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642600"/>
            <a:ext cx="84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2223"/>
                </a:solidFill>
                <a:latin typeface="Arbat-Bold"/>
              </a:rPr>
              <a:t>Характеристика современного урока</a:t>
            </a: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80000" y="3429000"/>
            <a:ext cx="1357200" cy="39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bat-Bold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1" name="Group 23"/>
          <p:cNvGrpSpPr/>
          <p:nvPr/>
        </p:nvGrpSpPr>
        <p:grpSpPr>
          <a:xfrm>
            <a:off x="357120" y="3643200"/>
            <a:ext cx="3285720" cy="1643040"/>
            <a:chOff x="357120" y="3643200"/>
            <a:chExt cx="3285720" cy="1643040"/>
          </a:xfrm>
        </p:grpSpPr>
        <p:grpSp>
          <p:nvGrpSpPr>
            <p:cNvPr id="262" name="AutoShape 24"/>
            <p:cNvGrpSpPr/>
            <p:nvPr/>
          </p:nvGrpSpPr>
          <p:grpSpPr>
            <a:xfrm>
              <a:off x="357120" y="3643200"/>
              <a:ext cx="3285720" cy="1643040"/>
              <a:chOff x="357120" y="3643200"/>
              <a:chExt cx="3285720" cy="1643040"/>
            </a:xfrm>
          </p:grpSpPr>
          <p:pic>
            <p:nvPicPr>
              <p:cNvPr id="263" name="AutoShap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7120" y="3643200"/>
                <a:ext cx="328572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 rot="5400000">
                <a:off x="1290960" y="2939400"/>
                <a:ext cx="1412640" cy="30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5" name="Freeform 25"/>
            <p:cNvSpPr/>
            <p:nvPr/>
          </p:nvSpPr>
          <p:spPr>
            <a:xfrm>
              <a:off x="397800" y="3676680"/>
              <a:ext cx="3191400" cy="339840"/>
            </a:xfrm>
            <a:custGeom>
              <a:avLst/>
              <a:gdLst>
                <a:gd name="textAreaLeft" fmla="*/ 0 w 3191400"/>
                <a:gd name="textAreaRight" fmla="*/ 3191760 w 31914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260" h="292">
                  <a:moveTo>
                    <a:pt x="5" y="292"/>
                  </a:moveTo>
                  <a:cubicBezTo>
                    <a:pt x="0" y="270"/>
                    <a:pt x="16" y="49"/>
                    <a:pt x="192" y="0"/>
                  </a:cubicBezTo>
                  <a:lnTo>
                    <a:pt x="1060" y="0"/>
                  </a:lnTo>
                  <a:cubicBezTo>
                    <a:pt x="1241" y="48"/>
                    <a:pt x="1260" y="186"/>
                    <a:pt x="1254" y="291"/>
                  </a:cubicBezTo>
                  <a:lnTo>
                    <a:pt x="5" y="292"/>
                  </a:lnTo>
                  <a:close/>
                </a:path>
              </a:pathLst>
            </a:custGeom>
            <a:solidFill>
              <a:srgbClr val="aa8a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1872360" y="3707280"/>
              <a:ext cx="26820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379800" y="4161960"/>
              <a:ext cx="3209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8" name="Прямоугольник 12"/>
          <p:cNvSpPr/>
          <p:nvPr/>
        </p:nvSpPr>
        <p:spPr>
          <a:xfrm>
            <a:off x="785880" y="4071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Самостоятельная работа уче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324000" y="1773360"/>
            <a:ext cx="3261960" cy="1901880"/>
            <a:chOff x="324000" y="1773360"/>
            <a:chExt cx="3261960" cy="1901880"/>
          </a:xfrm>
        </p:grpSpPr>
        <p:grpSp>
          <p:nvGrpSpPr>
            <p:cNvPr id="270" name="AutoShape 4"/>
            <p:cNvGrpSpPr/>
            <p:nvPr/>
          </p:nvGrpSpPr>
          <p:grpSpPr>
            <a:xfrm>
              <a:off x="324000" y="1773360"/>
              <a:ext cx="3261960" cy="1901880"/>
              <a:chOff x="324000" y="1773360"/>
              <a:chExt cx="3261960" cy="1901880"/>
            </a:xfrm>
          </p:grpSpPr>
          <p:pic>
            <p:nvPicPr>
              <p:cNvPr id="271" name="AutoShap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1773360"/>
                <a:ext cx="3261960" cy="19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33"/>
              <p:cNvSpPr/>
              <p:nvPr/>
            </p:nvSpPr>
            <p:spPr>
              <a:xfrm rot="5400000">
                <a:off x="1133640" y="1225080"/>
                <a:ext cx="163872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3" name="Freeform 5"/>
            <p:cNvSpPr/>
            <p:nvPr/>
          </p:nvSpPr>
          <p:spPr>
            <a:xfrm>
              <a:off x="371880" y="1794600"/>
              <a:ext cx="3171240" cy="408960"/>
            </a:xfrm>
            <a:custGeom>
              <a:avLst/>
              <a:gdLst>
                <a:gd name="textAreaLeft" fmla="*/ 0 w 3171240"/>
                <a:gd name="textAreaRight" fmla="*/ 3171600 w 31712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6"/>
            <p:cNvSpPr/>
            <p:nvPr/>
          </p:nvSpPr>
          <p:spPr>
            <a:xfrm>
              <a:off x="1792800" y="1870200"/>
              <a:ext cx="1836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346680" y="2373840"/>
              <a:ext cx="318600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Прямоугольник 19"/>
          <p:cNvSpPr/>
          <p:nvPr/>
        </p:nvSpPr>
        <p:spPr>
          <a:xfrm>
            <a:off x="500040" y="221472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Личностно-ориентированный, индивидуальный характе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7" name="Group 18"/>
          <p:cNvGrpSpPr/>
          <p:nvPr/>
        </p:nvGrpSpPr>
        <p:grpSpPr>
          <a:xfrm>
            <a:off x="5126040" y="1606680"/>
            <a:ext cx="3547800" cy="1822320"/>
            <a:chOff x="5126040" y="1606680"/>
            <a:chExt cx="3547800" cy="1822320"/>
          </a:xfrm>
        </p:grpSpPr>
        <p:grpSp>
          <p:nvGrpSpPr>
            <p:cNvPr id="278" name="AutoShape 19"/>
            <p:cNvGrpSpPr/>
            <p:nvPr/>
          </p:nvGrpSpPr>
          <p:grpSpPr>
            <a:xfrm>
              <a:off x="5126040" y="1606680"/>
              <a:ext cx="3547800" cy="1822320"/>
              <a:chOff x="5126040" y="1606680"/>
              <a:chExt cx="3547800" cy="1822320"/>
            </a:xfrm>
          </p:grpSpPr>
          <p:pic>
            <p:nvPicPr>
              <p:cNvPr id="279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6040" y="1606680"/>
                <a:ext cx="3547800" cy="182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7"/>
              <p:cNvSpPr/>
              <p:nvPr/>
            </p:nvSpPr>
            <p:spPr>
              <a:xfrm rot="5400000">
                <a:off x="6116400" y="862920"/>
                <a:ext cx="1564560" cy="33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1" name="Freeform 20"/>
            <p:cNvSpPr/>
            <p:nvPr/>
          </p:nvSpPr>
          <p:spPr>
            <a:xfrm>
              <a:off x="5175000" y="1629720"/>
              <a:ext cx="3455280" cy="390240"/>
            </a:xfrm>
            <a:custGeom>
              <a:avLst/>
              <a:gdLst>
                <a:gd name="textAreaLeft" fmla="*/ 0 w 3455280"/>
                <a:gd name="textAreaRight" fmla="*/ 3455640 w 345528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21"/>
            <p:cNvSpPr/>
            <p:nvPr/>
          </p:nvSpPr>
          <p:spPr>
            <a:xfrm>
              <a:off x="6731280" y="1701720"/>
              <a:ext cx="183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Text Box 22"/>
            <p:cNvSpPr/>
            <p:nvPr/>
          </p:nvSpPr>
          <p:spPr>
            <a:xfrm>
              <a:off x="5147640" y="2182680"/>
              <a:ext cx="347112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4" name="Прямоугольник 25"/>
          <p:cNvSpPr/>
          <p:nvPr/>
        </p:nvSpPr>
        <p:spPr>
          <a:xfrm>
            <a:off x="5219640" y="21337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Использование образовательных технолог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Group 28"/>
          <p:cNvGrpSpPr/>
          <p:nvPr/>
        </p:nvGrpSpPr>
        <p:grpSpPr>
          <a:xfrm>
            <a:off x="5219640" y="3357720"/>
            <a:ext cx="3454200" cy="1952640"/>
            <a:chOff x="5219640" y="3357720"/>
            <a:chExt cx="3454200" cy="1952640"/>
          </a:xfrm>
        </p:grpSpPr>
        <p:grpSp>
          <p:nvGrpSpPr>
            <p:cNvPr id="286" name="AutoShape 29"/>
            <p:cNvGrpSpPr/>
            <p:nvPr/>
          </p:nvGrpSpPr>
          <p:grpSpPr>
            <a:xfrm>
              <a:off x="5219640" y="3357720"/>
              <a:ext cx="3454200" cy="1952640"/>
              <a:chOff x="5219640" y="3357720"/>
              <a:chExt cx="3454200" cy="1952640"/>
            </a:xfrm>
          </p:grpSpPr>
          <p:pic>
            <p:nvPicPr>
              <p:cNvPr id="287" name="AutoShap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3357720"/>
                <a:ext cx="3454200" cy="195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Text Box 21"/>
              <p:cNvSpPr/>
              <p:nvPr/>
            </p:nvSpPr>
            <p:spPr>
              <a:xfrm rot="5400000">
                <a:off x="6107760" y="2738880"/>
                <a:ext cx="1677960" cy="31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9" name="Freeform 30"/>
            <p:cNvSpPr/>
            <p:nvPr/>
          </p:nvSpPr>
          <p:spPr>
            <a:xfrm>
              <a:off x="5264640" y="3384720"/>
              <a:ext cx="3366720" cy="372240"/>
            </a:xfrm>
            <a:custGeom>
              <a:avLst/>
              <a:gdLst>
                <a:gd name="textAreaLeft" fmla="*/ 0 w 3366720"/>
                <a:gd name="textAreaRight" fmla="*/ 3367080 w 336672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feb8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31"/>
            <p:cNvSpPr/>
            <p:nvPr/>
          </p:nvSpPr>
          <p:spPr>
            <a:xfrm>
              <a:off x="6678720" y="3450960"/>
              <a:ext cx="39168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2"/>
            <p:cNvSpPr/>
            <p:nvPr/>
          </p:nvSpPr>
          <p:spPr>
            <a:xfrm>
              <a:off x="5245920" y="3910320"/>
              <a:ext cx="3374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2" name="Прямоугольник 31"/>
          <p:cNvSpPr/>
          <p:nvPr/>
        </p:nvSpPr>
        <p:spPr>
          <a:xfrm>
            <a:off x="5929200" y="39290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Verdana"/>
              </a:rPr>
              <a:t>Практический, деятельност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2223"/>
                </a:solidFill>
                <a:latin typeface="Verdana"/>
              </a:rPr>
              <a:t>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Group 13"/>
          <p:cNvGrpSpPr/>
          <p:nvPr/>
        </p:nvGrpSpPr>
        <p:grpSpPr>
          <a:xfrm>
            <a:off x="3214800" y="4643280"/>
            <a:ext cx="2437920" cy="2000520"/>
            <a:chOff x="3214800" y="4643280"/>
            <a:chExt cx="2437920" cy="2000520"/>
          </a:xfrm>
        </p:grpSpPr>
        <p:grpSp>
          <p:nvGrpSpPr>
            <p:cNvPr id="294" name="AutoShape 14"/>
            <p:cNvGrpSpPr/>
            <p:nvPr/>
          </p:nvGrpSpPr>
          <p:grpSpPr>
            <a:xfrm>
              <a:off x="3214800" y="4643280"/>
              <a:ext cx="2437920" cy="2000520"/>
              <a:chOff x="3214800" y="4643280"/>
              <a:chExt cx="2437920" cy="2000520"/>
            </a:xfrm>
          </p:grpSpPr>
          <p:pic>
            <p:nvPicPr>
              <p:cNvPr id="295" name="AutoShap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3214800" y="4643280"/>
                <a:ext cx="2437920" cy="200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5400000">
                <a:off x="3573000" y="4561920"/>
                <a:ext cx="1724760" cy="21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7" name="Freeform 15"/>
            <p:cNvSpPr/>
            <p:nvPr/>
          </p:nvSpPr>
          <p:spPr>
            <a:xfrm>
              <a:off x="3254040" y="4665960"/>
              <a:ext cx="2363040" cy="430200"/>
            </a:xfrm>
            <a:custGeom>
              <a:avLst/>
              <a:gdLst>
                <a:gd name="textAreaLeft" fmla="*/ 0 w 2363040"/>
                <a:gd name="textAreaRight" fmla="*/ 2363400 w 23630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feb8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16"/>
            <p:cNvSpPr/>
            <p:nvPr/>
          </p:nvSpPr>
          <p:spPr>
            <a:xfrm>
              <a:off x="4246560" y="4742640"/>
              <a:ext cx="275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3241080" y="5272560"/>
              <a:ext cx="2368440" cy="3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" name="Прямоугольник 37"/>
          <p:cNvSpPr/>
          <p:nvPr/>
        </p:nvSpPr>
        <p:spPr>
          <a:xfrm>
            <a:off x="3286080" y="507204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2223"/>
                </a:solidFill>
                <a:latin typeface="Verdana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7"/>
          <a:stretch/>
        </p:blipFill>
        <p:spPr>
          <a:xfrm>
            <a:off x="8548560" y="549360"/>
            <a:ext cx="5954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Универсальные учебные действия, формируемые на уроке в начальной школе</a:t>
            </a:r>
            <a:endParaRPr b="0" lang="en-US" sz="2800" spc="-1" strike="noStrike">
              <a:solidFill>
                <a:srgbClr val="4f271c"/>
              </a:solidFill>
              <a:latin typeface="Trebuchet MS"/>
            </a:endParaRPr>
          </a:p>
        </p:txBody>
      </p:sp>
      <p:grpSp>
        <p:nvGrpSpPr>
          <p:cNvPr id="303" name="Group 13"/>
          <p:cNvGrpSpPr/>
          <p:nvPr/>
        </p:nvGrpSpPr>
        <p:grpSpPr>
          <a:xfrm>
            <a:off x="4643280" y="2349360"/>
            <a:ext cx="4082760" cy="1584360"/>
            <a:chOff x="4643280" y="2349360"/>
            <a:chExt cx="4082760" cy="1584360"/>
          </a:xfrm>
        </p:grpSpPr>
        <p:grpSp>
          <p:nvGrpSpPr>
            <p:cNvPr id="304" name="AutoShape 14"/>
            <p:cNvGrpSpPr/>
            <p:nvPr/>
          </p:nvGrpSpPr>
          <p:grpSpPr>
            <a:xfrm>
              <a:off x="4643280" y="2349360"/>
              <a:ext cx="4082760" cy="1584360"/>
              <a:chOff x="4643280" y="2349360"/>
              <a:chExt cx="4082760" cy="1584360"/>
            </a:xfrm>
          </p:grpSpPr>
          <p:pic>
            <p:nvPicPr>
              <p:cNvPr id="305" name="AutoShap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3280" y="2349360"/>
                <a:ext cx="408276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7"/>
              <p:cNvSpPr/>
              <p:nvPr/>
            </p:nvSpPr>
            <p:spPr>
              <a:xfrm rot="5400000">
                <a:off x="6004800" y="1212840"/>
                <a:ext cx="1356120" cy="38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Freeform 15"/>
            <p:cNvSpPr/>
            <p:nvPr/>
          </p:nvSpPr>
          <p:spPr>
            <a:xfrm>
              <a:off x="4687560" y="2373840"/>
              <a:ext cx="3993840" cy="338400"/>
            </a:xfrm>
            <a:custGeom>
              <a:avLst/>
              <a:gdLst>
                <a:gd name="textAreaLeft" fmla="*/ 0 w 3993840"/>
                <a:gd name="textAreaRight" fmla="*/ 3994200 w 399384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feb8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6364800" y="2432880"/>
              <a:ext cx="46476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Text Box 17"/>
            <p:cNvSpPr/>
            <p:nvPr/>
          </p:nvSpPr>
          <p:spPr>
            <a:xfrm>
              <a:off x="4665240" y="2851920"/>
              <a:ext cx="40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58d01"/>
                  </a:solidFill>
                  <a:latin typeface="Verdana"/>
                </a:rPr>
                <a:t>РЕГУЛЯТИВН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0" name="Group 18"/>
          <p:cNvGrpSpPr/>
          <p:nvPr/>
        </p:nvGrpSpPr>
        <p:grpSpPr>
          <a:xfrm>
            <a:off x="4572000" y="4149720"/>
            <a:ext cx="4187520" cy="2025360"/>
            <a:chOff x="4572000" y="4149720"/>
            <a:chExt cx="4187520" cy="2025360"/>
          </a:xfrm>
        </p:grpSpPr>
        <p:grpSp>
          <p:nvGrpSpPr>
            <p:cNvPr id="311" name="AutoShape 19"/>
            <p:cNvGrpSpPr/>
            <p:nvPr/>
          </p:nvGrpSpPr>
          <p:grpSpPr>
            <a:xfrm>
              <a:off x="4572000" y="4302360"/>
              <a:ext cx="4187520" cy="1872720"/>
              <a:chOff x="4572000" y="4302360"/>
              <a:chExt cx="4187520" cy="1872720"/>
            </a:xfrm>
          </p:grpSpPr>
          <p:pic>
            <p:nvPicPr>
              <p:cNvPr id="312" name="AutoShap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4302360"/>
                <a:ext cx="4187520" cy="187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Text Box 21"/>
              <p:cNvSpPr/>
              <p:nvPr/>
            </p:nvSpPr>
            <p:spPr>
              <a:xfrm rot="5400000">
                <a:off x="5859000" y="3273120"/>
                <a:ext cx="1614600" cy="39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4" name="Freeform 20"/>
            <p:cNvSpPr/>
            <p:nvPr/>
          </p:nvSpPr>
          <p:spPr>
            <a:xfrm>
              <a:off x="4595760" y="4149720"/>
              <a:ext cx="4123800" cy="497880"/>
            </a:xfrm>
            <a:custGeom>
              <a:avLst/>
              <a:gdLst>
                <a:gd name="textAreaLeft" fmla="*/ 0 w 4123800"/>
                <a:gd name="textAreaRight" fmla="*/ 4124160 w 412380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21"/>
            <p:cNvSpPr/>
            <p:nvPr/>
          </p:nvSpPr>
          <p:spPr>
            <a:xfrm>
              <a:off x="6878880" y="4241520"/>
              <a:ext cx="18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Text Box 22"/>
            <p:cNvSpPr/>
            <p:nvPr/>
          </p:nvSpPr>
          <p:spPr>
            <a:xfrm>
              <a:off x="4595760" y="4854960"/>
              <a:ext cx="41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25519"/>
                  </a:solidFill>
                  <a:latin typeface="Verdana"/>
                </a:rPr>
                <a:t>ПОЗНАВАТЕЛЬН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" name="Group 23"/>
          <p:cNvGrpSpPr/>
          <p:nvPr/>
        </p:nvGrpSpPr>
        <p:grpSpPr>
          <a:xfrm>
            <a:off x="228600" y="4214880"/>
            <a:ext cx="4057200" cy="1805040"/>
            <a:chOff x="228600" y="4214880"/>
            <a:chExt cx="4057200" cy="1805040"/>
          </a:xfrm>
        </p:grpSpPr>
        <p:grpSp>
          <p:nvGrpSpPr>
            <p:cNvPr id="318" name="AutoShape 24"/>
            <p:cNvGrpSpPr/>
            <p:nvPr/>
          </p:nvGrpSpPr>
          <p:grpSpPr>
            <a:xfrm>
              <a:off x="228600" y="4214880"/>
              <a:ext cx="4057200" cy="1805040"/>
              <a:chOff x="228600" y="4214880"/>
              <a:chExt cx="4057200" cy="1805040"/>
            </a:xfrm>
          </p:grpSpPr>
          <p:pic>
            <p:nvPicPr>
              <p:cNvPr id="319" name="AutoShap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4214880"/>
                <a:ext cx="4057200" cy="180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 rot="5400000">
                <a:off x="1481400" y="3214800"/>
                <a:ext cx="1548360" cy="38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Freeform 25"/>
            <p:cNvSpPr/>
            <p:nvPr/>
          </p:nvSpPr>
          <p:spPr>
            <a:xfrm>
              <a:off x="267480" y="4253040"/>
              <a:ext cx="3994560" cy="372240"/>
            </a:xfrm>
            <a:custGeom>
              <a:avLst/>
              <a:gdLst>
                <a:gd name="textAreaLeft" fmla="*/ 0 w 3994560"/>
                <a:gd name="textAreaRight" fmla="*/ 3994920 w 39945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260" h="292">
                  <a:moveTo>
                    <a:pt x="5" y="292"/>
                  </a:moveTo>
                  <a:cubicBezTo>
                    <a:pt x="0" y="270"/>
                    <a:pt x="16" y="49"/>
                    <a:pt x="192" y="0"/>
                  </a:cubicBezTo>
                  <a:lnTo>
                    <a:pt x="1060" y="0"/>
                  </a:lnTo>
                  <a:cubicBezTo>
                    <a:pt x="1241" y="48"/>
                    <a:pt x="1260" y="186"/>
                    <a:pt x="1254" y="291"/>
                  </a:cubicBezTo>
                  <a:lnTo>
                    <a:pt x="5" y="292"/>
                  </a:lnTo>
                  <a:close/>
                </a:path>
              </a:pathLst>
            </a:custGeom>
            <a:solidFill>
              <a:srgbClr val="aa8a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1782360" y="4286160"/>
              <a:ext cx="27540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Text Box 27"/>
            <p:cNvSpPr/>
            <p:nvPr/>
          </p:nvSpPr>
          <p:spPr>
            <a:xfrm>
              <a:off x="249120" y="4784760"/>
              <a:ext cx="32968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228600" y="50295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5e01"/>
                </a:solidFill>
                <a:latin typeface="Verdana"/>
                <a:ea typeface="Times New Roman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357120" y="2357280"/>
            <a:ext cx="3785760" cy="1600200"/>
            <a:chOff x="357120" y="2357280"/>
            <a:chExt cx="3785760" cy="1600200"/>
          </a:xfrm>
        </p:grpSpPr>
        <p:grpSp>
          <p:nvGrpSpPr>
            <p:cNvPr id="326" name="AutoShape 4"/>
            <p:cNvGrpSpPr/>
            <p:nvPr/>
          </p:nvGrpSpPr>
          <p:grpSpPr>
            <a:xfrm>
              <a:off x="357120" y="2357280"/>
              <a:ext cx="3647520" cy="1600200"/>
              <a:chOff x="357120" y="2357280"/>
              <a:chExt cx="3647520" cy="1600200"/>
            </a:xfrm>
          </p:grpSpPr>
          <p:pic>
            <p:nvPicPr>
              <p:cNvPr id="327" name="AutoShape 4" descr=""/>
              <p:cNvPicPr/>
              <p:nvPr/>
            </p:nvPicPr>
            <p:blipFill>
              <a:blip r:embed="rId5"/>
              <a:stretch/>
            </p:blipFill>
            <p:spPr>
              <a:xfrm>
                <a:off x="357120" y="2357280"/>
                <a:ext cx="364752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"/>
              <p:cNvSpPr/>
              <p:nvPr/>
            </p:nvSpPr>
            <p:spPr>
              <a:xfrm rot="5400000">
                <a:off x="1494720" y="1450440"/>
                <a:ext cx="1372680" cy="34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9" name="Freeform 5"/>
            <p:cNvSpPr/>
            <p:nvPr/>
          </p:nvSpPr>
          <p:spPr>
            <a:xfrm>
              <a:off x="365400" y="2378520"/>
              <a:ext cx="3616920" cy="342360"/>
            </a:xfrm>
            <a:custGeom>
              <a:avLst/>
              <a:gdLst>
                <a:gd name="textAreaLeft" fmla="*/ 0 w 3616920"/>
                <a:gd name="textAreaRight" fmla="*/ 3617280 w 361692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8dc76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1963440" y="2441880"/>
              <a:ext cx="279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Text Box 7"/>
            <p:cNvSpPr/>
            <p:nvPr/>
          </p:nvSpPr>
          <p:spPr>
            <a:xfrm>
              <a:off x="379440" y="2863800"/>
              <a:ext cx="376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78e32"/>
                  </a:solidFill>
                  <a:latin typeface="Verdana"/>
                </a:rPr>
                <a:t>ЛИЧНОСТНЫЕ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2" name="Picture 6" descr=""/>
          <p:cNvPicPr/>
          <p:nvPr/>
        </p:nvPicPr>
        <p:blipFill>
          <a:blip r:embed="rId6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0000"/>
                </a:solidFill>
                <a:latin typeface="Trebuchet MS"/>
              </a:rPr>
              <a:t>Структура урока в начальных классах</a:t>
            </a:r>
            <a:br>
              <a:rPr sz="3600"/>
            </a:b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85480" y="150012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 этап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. Организация класса (орг.момент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I 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Актуализация ранее усвоенных знаний и умений (повторени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II 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Формирование новых знаний и умений (постановка учебной задач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IV 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Открытие нового знан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V этап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</a:rPr>
              <a:t>. Первичное закреплен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</a:rPr>
              <a:t>VI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</a:rPr>
              <a:t>этап.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  <a:ea typeface="Times New Roman"/>
              </a:rPr>
              <a:t>Самостоятельная работа с самопроверкой по эталону. Самоанализ и самоконтроль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VII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  <a:ea typeface="Times New Roman"/>
              </a:rPr>
              <a:t>Включение нового знания в систему знаний и повторен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VII </a:t>
            </a:r>
            <a:r>
              <a:rPr b="1" lang="ru-RU" sz="2000" spc="-1" strike="noStrike">
                <a:solidFill>
                  <a:srgbClr val="c00000"/>
                </a:solidFill>
                <a:latin typeface="Georgia"/>
                <a:ea typeface="Times New Roman"/>
              </a:rPr>
              <a:t>этап. </a:t>
            </a:r>
            <a:r>
              <a:rPr b="1" lang="ru-RU" sz="2000" spc="-1" strike="noStrike">
                <a:solidFill>
                  <a:srgbClr val="713204"/>
                </a:solidFill>
                <a:latin typeface="Georgia"/>
                <a:ea typeface="Times New Roman"/>
              </a:rPr>
              <a:t>Рефлексия деятельности ( итог урока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3804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8388360" y="134136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96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включение учащихся в деятельность на личностно- значимом уровне.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«Хочу, потому что могу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6d7d"/>
                </a:solidFill>
                <a:latin typeface="Georgia"/>
                <a:ea typeface="Times New Roman"/>
              </a:rPr>
              <a:t>1-2 мину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 учащихся должна возникнуть положительная эмоциональная направленно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включение детей в деятельность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a6d7d"/>
                </a:solidFill>
                <a:latin typeface="Georgia"/>
                <a:ea typeface="Times New Roman"/>
              </a:rPr>
              <a:t>Приёмы работ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итель в начале урока высказывает добрые пожелания детям; предлагает пожелать друг другу удачи (хлопки в ладони друг друга с соседом по парте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учитель предлагает детям подумать, что пригодится для успешной работы на уроке; дети высказываютс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девиз, эпиграф («С малой удачи начинается большой успех»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самопроверка домашнего задания по образц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81867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1.Организационный момент.</a:t>
            </a:r>
            <a:br>
              <a:rPr sz="3600"/>
            </a:br>
            <a:endParaRPr b="0" lang="en-US" sz="3600" spc="-1" strike="noStrike">
              <a:solidFill>
                <a:srgbClr val="4f271c"/>
              </a:solidFill>
              <a:latin typeface="Trebuchet MS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2"/>
          <a:stretch/>
        </p:blipFill>
        <p:spPr>
          <a:xfrm>
            <a:off x="8388360" y="620640"/>
            <a:ext cx="595440" cy="7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  <a:ea typeface="Times New Roman"/>
              </a:rPr>
              <a:t>II. Актуализация знаний.</a:t>
            </a:r>
            <a:br>
              <a:rPr sz="4000"/>
            </a:br>
            <a:endParaRPr b="0" lang="en-US" sz="4000" spc="-1" strike="noStrike">
              <a:solidFill>
                <a:srgbClr val="4f271c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5280" y="16282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ctr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Цель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повторение изученного материала, необходимого для «открытия нового знания», и выявление затруднений в индивидуальной деятельности каждого учащегос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eorgia"/>
                <a:ea typeface="Times New Roman"/>
              </a:rPr>
              <a:t>4-5 мину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озникновение проблемной ситуа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актуализация ЗУН и мыслительных операци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(внимания, памяти, речи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создание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явление и фиксирование в громкой речи: где и почему возникло затруднение; темы и цели уро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c32d2e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5954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6:03:17Z</dcterms:created>
  <dc:creator>User</dc:creator>
  <dc:description/>
  <dc:language>en-US</dc:language>
  <cp:lastModifiedBy>HOME</cp:lastModifiedBy>
  <dcterms:modified xsi:type="dcterms:W3CDTF">2021-07-22T10:56:57Z</dcterms:modified>
  <cp:revision>723</cp:revision>
  <dc:subject/>
  <dc:title>Слайд 1</dc:title>
</cp:coreProperties>
</file>