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11.jpeg" ContentType="image/jpeg"/>
  <Override PartName="/ppt/media/image12.jpeg" ContentType="image/jpeg"/>
  <Override PartName="/ppt/media/image13.png" ContentType="image/png"/>
  <Override PartName="/ppt/media/image1.jpeg" ContentType="image/jpeg"/>
  <Override PartName="/ppt/media/image7.png" ContentType="image/png"/>
  <Override PartName="/ppt/media/image9.png" ContentType="image/png"/>
  <Override PartName="/ppt/media/image5.png" ContentType="image/png"/>
  <Override PartName="/ppt/media/image8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DCAF9-6804-4473-99FF-5A4BB79E3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07C48-7899-4428-BF36-F0E1795DC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8FE2C-A8DB-4CC6-BFEB-2533DE6D0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CE576-CF42-4E23-802D-2473343D0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10BDA-CF50-4E6A-962E-29DF01A19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212C6-DC2E-4006-9A15-1264987D1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FDF24-6587-4690-AA0A-D7FA62F73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F949D-BD95-4D87-AFCF-4F43F47A8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BA7C4-93B9-4FEC-8359-B2BB8A484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8A808-043B-4E4F-974F-AC0FA8167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12C00-751D-4946-9DAF-F71AB874C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9E319-6C64-4928-B1A4-9DDC0186D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36D11-513F-416A-ADC4-2128CCBF2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0DA68-8087-4B72-918C-F94F76520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23DFF-9DA1-4F5E-87A8-11DF39734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3D7A1-8F8B-4A0F-B68A-BFB1E1791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4ECA4-2181-43E9-9E61-104BDE525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131E2EA-B12E-4E2E-8875-1E79BAB5D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0973A3-DB9D-4F9F-9FB9-40A311E38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C299A0A-35BF-4B72-9430-3C5B436FC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6874466-7D4A-478C-ABC0-DCDD7A906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AD309F3-5549-48E8-B663-00CFD3003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76CE3-C2A9-4781-84DB-D25A7A592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B46B6B8-37B2-43E3-B60F-93490EBE6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87334C1-2938-46BD-8216-932AE9A96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5B6939F-0175-4792-BEBA-C7A1D0CB6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E63C2A1-C195-4A2A-B3A3-64CA3A51C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F730CED-3775-4BF0-AB5A-8BA2C8FD4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930D349-3C8B-4C4E-AECB-E866AC2C4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6BC19BA-6BF7-4F7B-AA7F-9519321F0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35DB52-D8DE-44C9-8711-4533FEE1F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32DB97-B8A6-4300-BA11-2D4BD24B7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370B8E-CF0A-4A18-B190-90CCC5ED8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4046E-E964-48FF-855F-68271A436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A4EA9F-B404-4748-84E7-6D6162A7E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1DBFFA-A9D4-4461-BC57-D47306571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43F88F-F2C9-4D26-8F3D-D15720899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81471B-B24B-4E95-8C0A-A77D46ACC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6CA74C-D1C6-44D3-8CDB-3019F70E8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867DC9-A38D-482A-8E6B-26896A696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01FB43-2461-465D-96D8-1C2A40CA6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83A6EC-91BA-4377-A2C7-4976195F7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B71705-57C8-47B6-B2C5-87E7E2B03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076D902-AF5D-4B83-BDFA-931890C6D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B5C39-3C6F-4320-A5CA-1C8DE6148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59D73D9-F8B4-4179-8839-4CB075F5F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D578D95-611A-40E7-BDE4-0088DCAC6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99654B5-AF29-4CA9-8D78-2382225C7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D386F57-7730-4828-AD6D-7AC963032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62945B1-60FC-414E-84AD-4EDC747E9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7AA0858-A5F9-468E-B812-DD622E780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95AC48A-5BAF-4429-BD61-F0A6F9AFB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248C2C6-2DA6-44E7-8F36-8840157E4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9933787-1A0E-4B89-A4FE-969C020F0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711D1EB-5EF6-4714-B70F-BF531A5D6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7E695-84D8-401D-AF5E-445E1A7B3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877FFCB-E22A-49F0-AF3C-7CC25052E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4695D3A-C7B6-46EF-9D74-440D300CC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12A395F-19BB-4999-BEC3-DB039F5AB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4A738C6-8D45-4CE1-BF47-6D2431BDF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E706287-BC65-4195-BEA8-DBC2FD0C1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CEE43C8-6235-4406-93EA-AC5ADF85E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D793CB5-4B7F-4A5A-8FC3-7843E7D40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48E80D1-8325-418D-8DBC-9FC5847E1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00CC04E-74B0-4E43-B75A-DC8C18D0A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323DF4B-9478-483B-AE6B-2B4717697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D73E2-626B-4307-9D9D-8F9663B31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ACB821B-126F-45E3-AB5F-E95585285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05C6BD5-394F-4999-8EFF-4EE0111BF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9E2A943-77DE-4482-A245-FEBD4A2CC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A5D87EC-66B4-4288-8D07-86804E9CB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914AFF8-B543-4986-A74A-6742C39E1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3F92C23-A8F5-4E1F-8DE7-0E899EB54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1155436-F36E-425C-92A4-BD1CD77EA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66F9625-48A9-44FB-BAA7-C5AEBF7D2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DF67666-96B5-4065-95B6-D603324A1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A45B855-B48A-411D-983F-4A9FE1BB8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A61C6-3980-4B9C-902B-EA6336F3D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A4DB359-FB3A-405A-A272-FD3C1BB84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B35AB85-8A9F-43F2-BB27-F0F5DFA51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1F499F1-8037-4214-A3F1-B0916FBA5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A2A627C-A770-4122-952E-865F49699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783829B-1F82-4A49-BE99-ABAE8D53C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87EFE-CA41-4F69-BFE8-3294C0F6B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00F94-D230-42C2-A4AF-FBA5BE10A11E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B1D4E-9C9E-4964-9FE9-AAF1F084C701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52803-24F3-4851-ACF1-A8A74FA4A208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FB6D2-7FEB-4C68-B92B-4233B67C7C97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3994E-5408-4612-BD2C-F674864B60D4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53424-8466-4603-9CF6-14D2994DCE59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D5B92-2B4D-4FC0-932A-1744BCF7AABF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2286000"/>
            <a:ext cx="61722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ОРИЯ ЭВОЛЮЦИИ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1600200" y="4952520"/>
            <a:ext cx="73152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Почему мы должны знать об эволюции? Потому, что она объясняет наше существование, она объясняет все, что мы знаем о жизни»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чард Докинз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ВОЛЮЦИЯ ЧЕЛОВЕКА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228600" y="160020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ы произошли тоже в ходе эволюции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ы – особый вид обезьяны, эволюция разума которых зашла наиболее далеко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ТЕЛЬ ТЕОРИИ ЭВОЛЮЦИИ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7200" y="1600200"/>
            <a:ext cx="2743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3428640" y="1219320"/>
            <a:ext cx="53341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20000"/>
              </a:lnSpc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рльз Дарвин (1809-1882)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20000"/>
              </a:lnSpc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31 – 1836 – кругосветное путешествие на корабле «Бигль», во время которого, изучая флору и фауну Южной Америки, он пришел к идее об изменяемости видов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20000"/>
              </a:lnSpc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 лет работал над теорией эволюции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20000"/>
              </a:lnSpc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59 г. – издание книги «Происхождение видов»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20000"/>
              </a:lnSpc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ория эволюции с 1859 г. претерпела ряд изменений, но основы, заложенные Дарвином, остались неизменными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6" name="Содержимое 3" descr="darwin-1.jpg"/>
          <p:cNvPicPr/>
          <p:nvPr/>
        </p:nvPicPr>
        <p:blipFill>
          <a:blip r:embed="rId1"/>
          <a:stretch/>
        </p:blipFill>
        <p:spPr>
          <a:xfrm>
            <a:off x="228600" y="1219320"/>
            <a:ext cx="3124080" cy="520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84582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Е ПОЛОЖЕНИЯ ТЕОРИИ ЭВОЛЮЦИИ</a:t>
            </a:r>
            <a:endParaRPr b="0" lang="en-US" sz="2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457200" y="160020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4647960" y="1600200"/>
            <a:ext cx="41907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р и все живые организмы не были сотворены в одно мгновенье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огообразие видов животных и растений –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результат длительного исторического развития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0" name="Picture 13" descr=""/>
          <p:cNvPicPr/>
          <p:nvPr/>
        </p:nvPicPr>
        <p:blipFill>
          <a:blip r:embed="rId1"/>
          <a:stretch/>
        </p:blipFill>
        <p:spPr>
          <a:xfrm>
            <a:off x="0" y="1143000"/>
            <a:ext cx="1981080" cy="180828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14" descr=""/>
          <p:cNvPicPr/>
          <p:nvPr/>
        </p:nvPicPr>
        <p:blipFill>
          <a:blip r:embed="rId2"/>
          <a:stretch/>
        </p:blipFill>
        <p:spPr>
          <a:xfrm>
            <a:off x="1143000" y="2590920"/>
            <a:ext cx="1884240" cy="175248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16" descr=""/>
          <p:cNvPicPr/>
          <p:nvPr/>
        </p:nvPicPr>
        <p:blipFill>
          <a:blip r:embed="rId3"/>
          <a:stretch/>
        </p:blipFill>
        <p:spPr>
          <a:xfrm>
            <a:off x="2638440" y="4114800"/>
            <a:ext cx="1959120" cy="182880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15" descr=""/>
          <p:cNvPicPr/>
          <p:nvPr/>
        </p:nvPicPr>
        <p:blipFill>
          <a:blip r:embed="rId4"/>
          <a:stretch/>
        </p:blipFill>
        <p:spPr>
          <a:xfrm>
            <a:off x="0" y="4114800"/>
            <a:ext cx="2023920" cy="182880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2" descr="http://aquariumax.ru/wp-content/uploads/2015/12/%D0%B8%D0%BD%D1%84.jpg"/>
          <p:cNvPicPr/>
          <p:nvPr/>
        </p:nvPicPr>
        <p:blipFill>
          <a:blip r:embed="rId5"/>
          <a:stretch/>
        </p:blipFill>
        <p:spPr>
          <a:xfrm>
            <a:off x="2362320" y="1219320"/>
            <a:ext cx="222228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" dur="2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" dur="2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" dur="2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3818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Е ПОЛОЖЕНИЯ ТЕОРИИ ЭВОЛЮЦИИ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57200" y="160020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4419720" y="1676520"/>
            <a:ext cx="44164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ределах каждого вида существует огромный размах изменчивости по внешним и поведенческим признакам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и изменения передаются по наследству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8" name="Рисунок 4" descr=""/>
          <p:cNvPicPr/>
          <p:nvPr/>
        </p:nvPicPr>
        <p:blipFill>
          <a:blip r:embed="rId1"/>
          <a:stretch/>
        </p:blipFill>
        <p:spPr>
          <a:xfrm>
            <a:off x="0" y="4267080"/>
            <a:ext cx="4614840" cy="238932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2" descr="C:\Users\Артур\Downloads\img10.jpg"/>
          <p:cNvPicPr/>
          <p:nvPr/>
        </p:nvPicPr>
        <p:blipFill>
          <a:blip r:embed="rId2"/>
          <a:stretch/>
        </p:blipFill>
        <p:spPr>
          <a:xfrm>
            <a:off x="457200" y="1219320"/>
            <a:ext cx="3657600" cy="287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3818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Е ПОЛОЖЕНИЯ ТЕОРИИ ЭВОЛЮЦИИ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457200" y="160020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4419720" y="1294920"/>
            <a:ext cx="4416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живые организмы стремятся размножаться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 как ресурсы для любого вида ограничены, поэтому возникает борьба за существование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либо между особями одного вида,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либо между особями разных видов,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либо с природными условиями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3" name="Picture 2" descr="http://900igr.net/datai/biologija/Evoljutsija-i-ejo-dokazatelstva/0030-037-Osnovnye-polozhenija-evoljutsionnogo-uchenija-CH.Darvina.png"/>
          <p:cNvPicPr/>
          <p:nvPr/>
        </p:nvPicPr>
        <p:blipFill>
          <a:blip r:embed="rId1"/>
          <a:stretch/>
        </p:blipFill>
        <p:spPr>
          <a:xfrm>
            <a:off x="152280" y="2362320"/>
            <a:ext cx="415764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686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Е ПОЛОЖЕНИЯ ТЕОРИИ ЭВОЛЮЦИИ</a:t>
            </a:r>
            <a:endParaRPr b="0" lang="en-US" sz="2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457200" y="914040"/>
            <a:ext cx="3657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3885840" y="990360"/>
            <a:ext cx="48006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условиях борьбы за существование выживают и дают потомство наиболее приспособленные особи, имеющие те отклонения, которые случайно оказались полезными к данным условиям среды.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омки выжившей особи, которые наследуют полезное отклонение, позволившее выжить их предку, оказываются более приспособленными к данной среде, чем другие представители популяции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живание и преимущественное размножение приспособленных особей Дарвин назвал естественным отбором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7" name="Picture 7" descr="http://insecta.pro/img/illu/biston_betularia_gumenyuk.jpg"/>
          <p:cNvPicPr/>
          <p:nvPr/>
        </p:nvPicPr>
        <p:blipFill>
          <a:blip r:embed="rId1"/>
          <a:stretch/>
        </p:blipFill>
        <p:spPr>
          <a:xfrm>
            <a:off x="152280" y="2490840"/>
            <a:ext cx="3581640" cy="21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Е ПОЛОЖЕНИЯ ТЕОРИИ ЭВОЛЮЦИИ</a:t>
            </a:r>
            <a:endParaRPr b="0" lang="en-US" sz="2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380880" y="2971440"/>
            <a:ext cx="838224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4000"/>
          </a:bodyPr>
          <a:p>
            <a:pPr marL="174600" indent="-174600" algn="ctr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ковый вид (более похож на современного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174600" indent="-174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рого медведя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174600" indent="-1746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174600" indent="-17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380880" y="1295280"/>
            <a:ext cx="838224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естественный отбор идет долго (тысячелетия, миллионы лет), то из предкового 1 вида, в разных условиях могут образоваться несколько новых видов животных и растений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1" name="Picture 2" descr="http://www.zooplandia.ru/upload/api/9fe5dcf04e93091d681d2310a28e6097.jpg"/>
          <p:cNvPicPr/>
          <p:nvPr/>
        </p:nvPicPr>
        <p:blipFill>
          <a:blip r:embed="rId1"/>
          <a:stretch/>
        </p:blipFill>
        <p:spPr>
          <a:xfrm>
            <a:off x="5826240" y="4673520"/>
            <a:ext cx="3317760" cy="218448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4" descr="http://wnature.net/pictures/2014/06/1453/buryy-medved-na-tsvetushhey-polyane.jpg"/>
          <p:cNvPicPr/>
          <p:nvPr/>
        </p:nvPicPr>
        <p:blipFill>
          <a:blip r:embed="rId2"/>
          <a:stretch/>
        </p:blipFill>
        <p:spPr>
          <a:xfrm>
            <a:off x="0" y="4724280"/>
            <a:ext cx="3413160" cy="2133720"/>
          </a:xfrm>
          <a:prstGeom prst="rect">
            <a:avLst/>
          </a:prstGeom>
          <a:ln w="0">
            <a:noFill/>
          </a:ln>
        </p:spPr>
      </p:pic>
      <p:sp>
        <p:nvSpPr>
          <p:cNvPr id="383" name="Стрелка вниз 6"/>
          <p:cNvSpPr/>
          <p:nvPr/>
        </p:nvSpPr>
        <p:spPr>
          <a:xfrm rot="2641200">
            <a:off x="3536640" y="3882600"/>
            <a:ext cx="484200" cy="862200"/>
          </a:xfrm>
          <a:prstGeom prst="downArrow">
            <a:avLst>
              <a:gd name="adj1" fmla="val 50000"/>
              <a:gd name="adj2" fmla="val 50007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Стрелка вниз 7"/>
          <p:cNvSpPr/>
          <p:nvPr/>
        </p:nvSpPr>
        <p:spPr>
          <a:xfrm rot="18835200">
            <a:off x="5178960" y="3856320"/>
            <a:ext cx="484200" cy="835200"/>
          </a:xfrm>
          <a:prstGeom prst="downArrow">
            <a:avLst>
              <a:gd name="adj1" fmla="val 50000"/>
              <a:gd name="adj2" fmla="val 50006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357200" y="285480"/>
            <a:ext cx="7407360" cy="61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КУССТВЕННЫЙ ОТБОР </a:t>
            </a:r>
            <a:endParaRPr b="0" lang="en-US" sz="2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2057040" y="5357880"/>
            <a:ext cx="6635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хранение и размножение экземпляров растений и животных, в каком-нибудь отношении выгодном или полезном людям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7" name="Picture 2" descr="C:\Documents and Settings\Я\Рабочий стол\Эволюция\2.gif"/>
          <p:cNvPicPr/>
          <p:nvPr/>
        </p:nvPicPr>
        <p:blipFill>
          <a:blip r:embed="rId1"/>
          <a:stretch/>
        </p:blipFill>
        <p:spPr>
          <a:xfrm>
            <a:off x="453960" y="914400"/>
            <a:ext cx="3632400" cy="441972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3" descr="C:\Documents and Settings\Я\Рабочий стол\Эволюция\Image35.jpg"/>
          <p:cNvPicPr/>
          <p:nvPr/>
        </p:nvPicPr>
        <p:blipFill>
          <a:blip r:embed="rId2"/>
          <a:stretch/>
        </p:blipFill>
        <p:spPr>
          <a:xfrm>
            <a:off x="5334120" y="914400"/>
            <a:ext cx="3124080" cy="427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56840" y="228600"/>
            <a:ext cx="7467480" cy="624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 algn="just">
              <a:lnSpc>
                <a:spcPct val="12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вится цель: селекционер решает, какие признаки надо изменить и в какую сторону, т. е. определяется направление отбора (яйценоскость, мясистость, красивый гребень, красивый хвост, красивое оперение)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 algn="just">
              <a:lnSpc>
                <a:spcPct val="12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 algn="just">
              <a:lnSpc>
                <a:spcPct val="12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ляется план создания породы (сорта): какие породы (сорта) и в каком порядке нужно скрещивать, какие виды скрещивания нужно применять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 algn="just">
              <a:lnSpc>
                <a:spcPct val="12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 algn="just">
              <a:lnSpc>
                <a:spcPct val="12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ются специальные условия жизни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 algn="just">
              <a:lnSpc>
                <a:spcPct val="12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 algn="just">
              <a:lnSpc>
                <a:spcPct val="12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кусственный отбор – это наука и творчество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2-08T16:14:57Z</dcterms:created>
  <dc:creator>Артур</dc:creator>
  <dc:description/>
  <dc:language>en-US</dc:language>
  <cp:lastModifiedBy>Артур</cp:lastModifiedBy>
  <dcterms:modified xsi:type="dcterms:W3CDTF">2023-07-06T18:09:08Z</dcterms:modified>
  <cp:revision>17</cp:revision>
  <dc:subject/>
  <dc:title>Теория эволюции</dc:title>
</cp:coreProperties>
</file>