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0D9-3CCF-4DEA-91D9-08FC4F2F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C43-BF21-47BE-9E69-42BB3C5B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009F-0508-4165-974A-394C249C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BBA-C928-476B-BED7-1A8C7F56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C9E1-6A38-4144-9BD3-630DA9AB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7BEB-6803-427B-B077-89954F55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7CEE-314F-41F5-AA04-3C85C48D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F290-7EBB-4078-A09F-50DD961C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C51D-25A2-4080-8503-10FE28AF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2258-503C-4A0B-8A87-31E0F3B9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FCF2-B9C0-42F4-9FFB-3B92D568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F60-E854-4E6A-A006-BF31A9AC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C936-590E-40C0-941F-9D875AE0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BC59-0D56-49B4-BCDE-51D6155F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F466-2819-4665-97C7-039BB6D5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9DC8-34C1-4D8D-9CE4-8F63D643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F7C9-D5D1-41FB-8042-8ECA7064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12E7A-A561-4350-8619-43A6A179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1C9DA-813D-4FBC-A5C5-5041B54C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D0D51-68E5-40AD-BBA5-58B72BDF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CFF95-64B7-4D19-81A8-C0875CE4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B854F-156E-4B69-B490-889E6C4C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6F8-D4EA-4DE4-855D-F78080E6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87E7E-A82A-46C8-84BA-D6C7C80F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FC1B5-9C9B-44F4-9A91-59E0C4BB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CEE24-F30A-4A59-BB3E-248C951A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C13B8-A53A-4319-85EA-03B2F946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59D2F-619B-4DF8-896E-CA003E8E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6211E-30A4-48CF-AA2C-6F88B747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A7A21-0911-4D28-A656-7A9F48B7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937FA-C724-40CA-9466-C4C3CAD6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58A95-A885-4307-9159-2FEA8095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0D1EE-E159-4FC3-9DB5-9FB3C699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B86-054B-4A29-AC30-E71FD545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58618-1017-4014-A76D-F4D590C5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1CDCC-02EF-4C9B-8472-B38A8B30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9D560-71FE-4775-8EAB-031A2C6E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9D695-D44C-448B-8CB5-5AB1F8B3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E68D9-4E71-45BA-B137-D533B47E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4CAE2-42B5-472D-B61F-D4A0D0AB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795E7-741E-4D92-855C-2C290445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A429F-9976-43DB-918E-C252E804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9FBA6-59EE-4C51-937F-ABA48833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9E55E5-021C-45A8-9CAF-5BEE71E5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44CF-A3BC-478B-A8D0-C2CF1552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9790C2-E22A-462B-A200-6C663620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033FE-F533-468E-987A-B198FCAD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E8F435-49D5-4BFA-B586-F4721BAA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95381-0669-4839-92F5-B06CA593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16B8A-4E7D-4033-84D4-EFB1CFFB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AA16F-EB51-4037-953F-E3375666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D4BF4-E54C-4508-B31D-84DC893E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30D5F7-B885-48D5-992A-91AD4883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C4D8B-516C-404B-982B-CB5872A9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CFDBF3-1FAA-4C9F-B4D9-54DDF7ED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E2FD-2AC7-4C93-B7F8-F2F0E937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BC89D5-AAF0-4D3B-BCE5-B3161B61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624F44-537A-4417-BF0F-A3200F23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107DC7-EA5F-4ED2-9062-7FE49AE2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96DA84-FCA8-4F17-992D-DBE51B22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CDB5EB-0D10-469E-A87B-5A0C5CE1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064C93-F341-46CE-99A3-F1DC739D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CDBA4-CD5A-4621-BA46-BE48C152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05B5B1-3BD0-4EE9-9529-BDF9675F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A7FFEB-8D16-4197-BFA6-2BD259C1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5F7FD-1C31-4515-8A08-CCBF1DD5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A44B-BF9F-4BD5-90C5-0FB1D59A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4EDF71-8885-482E-A409-3AAFAEDE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F99483-E263-46B3-A5C7-BC0C7C68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E3623-27BD-440B-9B06-8026A9B3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F6323-FF8E-4090-A8EF-13FCA362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FFCDF-9D05-4C8B-A4FC-35EE72EB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B59A2A-C314-4B8C-84E3-2F3B367A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7E9220-1A1C-4A8F-A282-38DAB19F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DCF0F-6AA7-4755-A0C3-342F1009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A06AE-299B-45A7-9E45-C175B637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F20540-107F-4CE6-BD95-46722B72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062-D7A3-41A1-BB74-334DB1C7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37A90F-C0F8-433D-8F67-DC7D340E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8A1C10-3CD0-4ACD-807F-8A07783D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CA5510-DA07-42B4-A45C-2FE3EA38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926D15-7C51-46FA-B7FD-ED3C92E1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D13E13-8AB4-4ADC-AAAC-1087F958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D38-021C-466B-9684-8CA13EAC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7D78-4C0D-4F41-961F-42AC12B80D6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1AC2-21AA-48ED-B503-FA69636AC01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416C-C90E-4851-A145-3A4138883EF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AE55-4F98-416A-871E-D6B3D783086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6FFF-E73B-4F3E-9936-1B29665F8A4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9B81-27D9-4513-B29F-DCB2A05665F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5409-E7C6-4C9F-81A4-B9771872E76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6172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Я ЭВОЛЮЦ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600200" y="49525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чему мы должны знать об эволюции? Потому, что она объясняет наше существование, она объясняет все, что мы знаем о жизн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чард Докинз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 ЧЕЛОВЕ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286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роизошли тоже в ходе эволюции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– особый вид обезьяны, эволюция разума которых зашла наиболее далеко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ЕЛЬ ТЕОРИИ ЭВОЛЮЦ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428640" y="12193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рльз Дарвин (1809-1882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31 – 1836 – кругосветное путешествие на корабле «Бигль», во время которого, изучая флору и фауну Южной Америки, он пришел к идее об изменяемости видов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лет работал над теорией эволюци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9 г. – издание книги «Происхождение видов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я эволюции с 1859 г. претерпела ряд изменений, но основы, заложенные Дарвином, остались неизменным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Содержимое 3" descr="darwin-1.jpg"/>
          <p:cNvPicPr/>
          <p:nvPr/>
        </p:nvPicPr>
        <p:blipFill>
          <a:blip r:embed="rId1"/>
          <a:stretch/>
        </p:blipFill>
        <p:spPr>
          <a:xfrm>
            <a:off x="228600" y="1219320"/>
            <a:ext cx="312408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ЛОЖЕНИЯ ТЕОРИИ ЭВОЛЮЦИ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647960" y="160020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 и все живые организмы не были сотворены в одно мгновень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образие видов животных и растений –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зультат длительного исторического развит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13" descr=""/>
          <p:cNvPicPr/>
          <p:nvPr/>
        </p:nvPicPr>
        <p:blipFill>
          <a:blip r:embed="rId1"/>
          <a:stretch/>
        </p:blipFill>
        <p:spPr>
          <a:xfrm>
            <a:off x="0" y="1143000"/>
            <a:ext cx="1981080" cy="1808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1884240" cy="17524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6" descr=""/>
          <p:cNvPicPr/>
          <p:nvPr/>
        </p:nvPicPr>
        <p:blipFill>
          <a:blip r:embed="rId3"/>
          <a:stretch/>
        </p:blipFill>
        <p:spPr>
          <a:xfrm>
            <a:off x="2638440" y="4114800"/>
            <a:ext cx="1959120" cy="1828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5" descr=""/>
          <p:cNvPicPr/>
          <p:nvPr/>
        </p:nvPicPr>
        <p:blipFill>
          <a:blip r:embed="rId4"/>
          <a:stretch/>
        </p:blipFill>
        <p:spPr>
          <a:xfrm>
            <a:off x="0" y="4114800"/>
            <a:ext cx="2023920" cy="1828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http://aquariumax.ru/wp-content/uploads/2015/12/%D0%B8%D0%BD%D1%84.jpg"/>
          <p:cNvPicPr/>
          <p:nvPr/>
        </p:nvPicPr>
        <p:blipFill>
          <a:blip r:embed="rId5"/>
          <a:stretch/>
        </p:blipFill>
        <p:spPr>
          <a:xfrm>
            <a:off x="2362320" y="1219320"/>
            <a:ext cx="2222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ЛОЖЕНИЯ ТЕОРИИ ЭВОЛЮЦИ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419720" y="1676520"/>
            <a:ext cx="4416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елах каждого вида существует огромный размах изменчивости по внешним и поведенческим признака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изменения передаются по наследств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Рисунок 4" descr=""/>
          <p:cNvPicPr/>
          <p:nvPr/>
        </p:nvPicPr>
        <p:blipFill>
          <a:blip r:embed="rId1"/>
          <a:stretch/>
        </p:blipFill>
        <p:spPr>
          <a:xfrm>
            <a:off x="0" y="4267080"/>
            <a:ext cx="4614840" cy="2389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Users\Артур\Downloads\img10.jpg"/>
          <p:cNvPicPr/>
          <p:nvPr/>
        </p:nvPicPr>
        <p:blipFill>
          <a:blip r:embed="rId2"/>
          <a:stretch/>
        </p:blipFill>
        <p:spPr>
          <a:xfrm>
            <a:off x="457200" y="1219320"/>
            <a:ext cx="365760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ЛОЖЕНИЯ ТЕОРИИ ЭВОЛЮЦИ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419720" y="1294920"/>
            <a:ext cx="4416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живые организмы стремятся размножать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ресурсы для любого вида ограничены, поэтому возникает борьба за существо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бо между особями одного вида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бо между особями разных видов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бо с природными условия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2" descr="http://900igr.net/datai/biologija/Evoljutsija-i-ejo-dokazatelstva/0030-037-Osnovnye-polozhenija-evoljutsionnogo-uchenija-CH.Darvina.png"/>
          <p:cNvPicPr/>
          <p:nvPr/>
        </p:nvPicPr>
        <p:blipFill>
          <a:blip r:embed="rId1"/>
          <a:stretch/>
        </p:blipFill>
        <p:spPr>
          <a:xfrm>
            <a:off x="152280" y="2362320"/>
            <a:ext cx="41576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ЛОЖЕНИЯ ТЕОРИИ ЭВОЛЮЦИ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9140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885840" y="990360"/>
            <a:ext cx="4800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борьбы за существование выживают и дают потомство наиболее приспособленные особи, имеющие те отклонения, которые случайно оказались полезными к данным условиям среды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ки выжившей особи, которые наследуют полезное отклонение, позволившее выжить их предку, оказываются более приспособленными к данной среде, чем другие представители популяц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живание и преимущественное размножение приспособленных особей Дарвин назвал естественным отборо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7" descr="http://insecta.pro/img/illu/biston_betularia_gumenyuk.jpg"/>
          <p:cNvPicPr/>
          <p:nvPr/>
        </p:nvPicPr>
        <p:blipFill>
          <a:blip r:embed="rId1"/>
          <a:stretch/>
        </p:blipFill>
        <p:spPr>
          <a:xfrm>
            <a:off x="152280" y="2490840"/>
            <a:ext cx="358164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ЛОЖЕНИЯ ТЕОРИИ ЭВОЛЮЦИ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0880" y="29714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74600" indent="-17460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ковый вид (более похож на современного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ого медведя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880" y="1295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естественный отбор идет долго (тысячелетия, миллионы лет), то из предкового 1 вида, в разных условиях могут образоваться несколько новых видов животных и раст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http://www.zooplandia.ru/upload/api/9fe5dcf04e93091d681d2310a28e6097.jpg"/>
          <p:cNvPicPr/>
          <p:nvPr/>
        </p:nvPicPr>
        <p:blipFill>
          <a:blip r:embed="rId1"/>
          <a:stretch/>
        </p:blipFill>
        <p:spPr>
          <a:xfrm>
            <a:off x="5826240" y="4673520"/>
            <a:ext cx="3317760" cy="2184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http://wnature.net/pictures/2014/06/1453/buryy-medved-na-tsvetushhey-polyane.jpg"/>
          <p:cNvPicPr/>
          <p:nvPr/>
        </p:nvPicPr>
        <p:blipFill>
          <a:blip r:embed="rId2"/>
          <a:stretch/>
        </p:blipFill>
        <p:spPr>
          <a:xfrm>
            <a:off x="0" y="4724280"/>
            <a:ext cx="3413160" cy="2133720"/>
          </a:xfrm>
          <a:prstGeom prst="rect">
            <a:avLst/>
          </a:prstGeom>
          <a:ln w="0">
            <a:noFill/>
          </a:ln>
        </p:spPr>
      </p:pic>
      <p:sp>
        <p:nvSpPr>
          <p:cNvPr id="383" name="Стрелка вниз 6"/>
          <p:cNvSpPr/>
          <p:nvPr/>
        </p:nvSpPr>
        <p:spPr>
          <a:xfrm rot="2641200">
            <a:off x="3536640" y="3882600"/>
            <a:ext cx="484200" cy="8622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Стрелка вниз 7"/>
          <p:cNvSpPr/>
          <p:nvPr/>
        </p:nvSpPr>
        <p:spPr>
          <a:xfrm rot="18835200">
            <a:off x="5178960" y="3856320"/>
            <a:ext cx="484200" cy="835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57200" y="285480"/>
            <a:ext cx="740736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ЕННЫЙ ОТБОР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057040" y="5357880"/>
            <a:ext cx="663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и размножение экземпляров растений и животных, в каком-нибудь отношении выгодном или полезном людя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2" descr="C:\Documents and Settings\Я\Рабочий стол\Эволюция\2.gif"/>
          <p:cNvPicPr/>
          <p:nvPr/>
        </p:nvPicPr>
        <p:blipFill>
          <a:blip r:embed="rId1"/>
          <a:stretch/>
        </p:blipFill>
        <p:spPr>
          <a:xfrm>
            <a:off x="453960" y="914400"/>
            <a:ext cx="3632400" cy="4419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C:\Documents and Settings\Я\Рабочий стол\Эволюция\Image35.jpg"/>
          <p:cNvPicPr/>
          <p:nvPr/>
        </p:nvPicPr>
        <p:blipFill>
          <a:blip r:embed="rId2"/>
          <a:stretch/>
        </p:blipFill>
        <p:spPr>
          <a:xfrm>
            <a:off x="5334120" y="914400"/>
            <a:ext cx="312408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228600"/>
            <a:ext cx="7467480" cy="62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тся цель: селекционер решает, какие признаки надо изменить и в какую сторону, т. е. определяется направление отбора (яйценоскость, мясистость, красивый гребень, красивый хвост, красивое оперение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тся план создания породы (сорта): какие породы (сорта) и в каком порядке нужно скрещивать, какие виды скрещивания нужно применят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ются специальные условия жизн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енный отбор – это наука и творчеств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8T16:14:57Z</dcterms:created>
  <dc:creator>Артур</dc:creator>
  <dc:description/>
  <dc:language>en-US</dc:language>
  <cp:lastModifiedBy>Артур</cp:lastModifiedBy>
  <dcterms:modified xsi:type="dcterms:W3CDTF">2023-07-06T18:09:08Z</dcterms:modified>
  <cp:revision>17</cp:revision>
  <dc:subject/>
  <dc:title>Теория эволюции</dc:title>
</cp:coreProperties>
</file>