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B69A8-54E2-44A7-A8DE-F9D31DF5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93D4-805E-4B3C-B8E6-A5365CFC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CB17A-93E9-4DD3-8725-0F192D10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0AFDA-67CD-4023-99D8-0D20BBCD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7A22-F2D0-4C89-BB9B-A104C6F1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05A5-78E9-4E49-8426-41C95687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BABD-E4EF-4494-9738-EED656F3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B2FA-88DF-4474-9EC1-F59ADCA8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23EA-2410-4868-BD98-96C12AF2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2739-AF18-47E3-9C4D-0C2FB345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0777-0459-4683-A35E-92F8235A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B893-78E9-4BFA-BDBD-CA6ED0B5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AD57-C93E-4620-ADB7-51834139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5908-1E3F-485D-8B7D-F18F3B54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8BF5-D5C5-4689-BBC4-0C0A4287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9A91-6930-4F5F-ABEB-9B9F96C4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9867-7AAA-439A-ACEF-80BEF2B9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25E6E-2327-4BD9-BC31-67801856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CD7DF-36E4-41D6-A43E-D40B6894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4D963-CFAE-4EC1-BBCA-745FAA2D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FE6A-B7AD-4C84-86A8-5AF57BC2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AAB69-5BE7-40C8-93D3-E65DE62C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F46AC-7FF7-4DD7-A8B7-40C71742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20C25-373F-4B61-9AFC-C6AF4CFA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F65E-B70A-474B-AB81-7D65A726CF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92D2-64BF-427A-88D7-E5384B5FEF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932000" y="4941360"/>
            <a:ext cx="4032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f"/>
                </a:solidFill>
                <a:latin typeface="Times New Roman"/>
                <a:ea typeface="Times New Roman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f"/>
                </a:solidFill>
                <a:latin typeface="Times New Roman"/>
                <a:ea typeface="Times New Roman"/>
              </a:rPr>
              <a:t>Землянухина С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Биологические полимер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Картинки по запросу биополимеры"/>
          <p:cNvPicPr/>
          <p:nvPr/>
        </p:nvPicPr>
        <p:blipFill>
          <a:blip r:embed="rId1"/>
          <a:stretch/>
        </p:blipFill>
        <p:spPr>
          <a:xfrm>
            <a:off x="2843280" y="0"/>
            <a:ext cx="63007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3"/>
          <p:cNvSpPr/>
          <p:nvPr/>
        </p:nvSpPr>
        <p:spPr>
          <a:xfrm>
            <a:off x="250920" y="2997360"/>
            <a:ext cx="8642160" cy="1295280"/>
          </a:xfrm>
          <a:custGeom>
            <a:avLst/>
            <a:gdLst>
              <a:gd name="textAreaLeft" fmla="*/ 152640 w 8642160"/>
              <a:gd name="textAreaRight" fmla="*/ 8489520 w 864216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440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0482" y="21600"/>
                </a:lnTo>
                <a:arcTo wR="3600" hR="3600" stAng="10800000" swAng="5400000"/>
                <a:lnTo>
                  <a:pt x="144082" y="3600"/>
                </a:lnTo>
                <a:arcTo wR="3600" hR="3600" stAng="5400000" swAng="5400000"/>
                <a:close/>
              </a:path>
            </a:pathLst>
          </a:custGeom>
          <a:solidFill>
            <a:srgbClr val="e8d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2411280" y="1181160"/>
            <a:ext cx="410544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2516040" y="2211480"/>
            <a:ext cx="1845000" cy="598320"/>
          </a:xfrm>
          <a:prstGeom prst="bevel">
            <a:avLst>
              <a:gd name="adj" fmla="val 9333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4788000" y="2205000"/>
            <a:ext cx="1611360" cy="604800"/>
          </a:xfrm>
          <a:prstGeom prst="bevel">
            <a:avLst>
              <a:gd name="adj" fmla="val 7931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216000" y="1917720"/>
            <a:ext cx="1800000" cy="936720"/>
          </a:xfrm>
          <a:prstGeom prst="bevel">
            <a:avLst>
              <a:gd name="adj" fmla="val 5963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6804000" y="1978200"/>
            <a:ext cx="2147760" cy="790560"/>
          </a:xfrm>
          <a:prstGeom prst="bevel">
            <a:avLst>
              <a:gd name="adj" fmla="val 6199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468360" y="404640"/>
            <a:ext cx="82296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Impact"/>
              </a:rPr>
              <a:t>Органические веще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2411280" y="1197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рганические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36400" y="196848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жи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4937040" y="227664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бел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2633760" y="2276640"/>
            <a:ext cx="158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углев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250920" y="2349360"/>
            <a:ext cx="175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(липид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6807240" y="1967040"/>
            <a:ext cx="212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нуклеиновые кисл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 flipH="1">
            <a:off x="1979280" y="1844640"/>
            <a:ext cx="64764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6084720" y="1844640"/>
            <a:ext cx="64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 flipH="1">
            <a:off x="3276360" y="1773360"/>
            <a:ext cx="43164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4859280" y="1773360"/>
            <a:ext cx="64944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395280" y="306864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единенные друг с другом атомы углерода образуют различные структур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остов молекул органических вещест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4" descr="04_05"/>
          <p:cNvPicPr/>
          <p:nvPr/>
        </p:nvPicPr>
        <p:blipFill>
          <a:blip r:embed="rId1"/>
          <a:stretch/>
        </p:blipFill>
        <p:spPr>
          <a:xfrm>
            <a:off x="463680" y="4265640"/>
            <a:ext cx="81817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8920" y="1486080"/>
            <a:ext cx="8875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рганические соединения, имеющие большие размеры называют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кромолекулами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кромолекулы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состоят из повторяющихся, сходных по структуре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изкомолекулярных соединений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 связанных между собой ковалентной связью –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НО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разованная из мономеров макромолекула называется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ЛИМЕР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8680" y="1484280"/>
            <a:ext cx="901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0280" indent="-5302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рганические соединения, входящие в состав живых клеток называются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ИОПОЛИМЕР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ИОПОЛИМЕРЫ – 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то линейные или разветвленные цепи, содержащие множество мономерных звень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Impact"/>
                <a:ea typeface="Times New Roman"/>
              </a:rPr>
              <a:t>Биополи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15"/>
          <p:cNvSpPr/>
          <p:nvPr/>
        </p:nvSpPr>
        <p:spPr>
          <a:xfrm>
            <a:off x="2987640" y="1052640"/>
            <a:ext cx="3097080" cy="863640"/>
          </a:xfrm>
          <a:prstGeom prst="bevel">
            <a:avLst>
              <a:gd name="adj" fmla="val 12500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8"/>
          <p:cNvSpPr/>
          <p:nvPr/>
        </p:nvSpPr>
        <p:spPr>
          <a:xfrm>
            <a:off x="5268960" y="4211640"/>
            <a:ext cx="3709800" cy="716040"/>
          </a:xfrm>
          <a:prstGeom prst="bevel">
            <a:avLst>
              <a:gd name="adj" fmla="val 155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7"/>
          <p:cNvSpPr/>
          <p:nvPr/>
        </p:nvSpPr>
        <p:spPr>
          <a:xfrm>
            <a:off x="1187280" y="4221000"/>
            <a:ext cx="3889440" cy="719280"/>
          </a:xfrm>
          <a:prstGeom prst="bevel">
            <a:avLst>
              <a:gd name="adj" fmla="val 1567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9"/>
          <p:cNvSpPr/>
          <p:nvPr/>
        </p:nvSpPr>
        <p:spPr>
          <a:xfrm>
            <a:off x="4788000" y="2152800"/>
            <a:ext cx="4032000" cy="699840"/>
          </a:xfrm>
          <a:prstGeom prst="bevel">
            <a:avLst>
              <a:gd name="adj" fmla="val 1715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79280" y="2205000"/>
            <a:ext cx="3313080" cy="719280"/>
          </a:xfrm>
          <a:prstGeom prst="bevel">
            <a:avLst>
              <a:gd name="adj" fmla="val 1589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57200" y="45720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Impact"/>
                <a:ea typeface="Times New Roman"/>
              </a:rPr>
              <a:t>Биополи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59280" y="1197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Л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79280" y="2349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ОМОПОЛ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932360" y="2276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ЕТЕРОПОЛ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95280" y="29242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дставлены одним видом мономеров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А – А – А – А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932360" y="285264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дставлены несколькими различными мономерам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А – В – С – А –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332000" y="4292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РЕГУЛЯ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5435640" y="429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ЕГУЛЯ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1303200" y="4924440"/>
            <a:ext cx="367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группа мономеров периодически повторяетс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… А-В-А-В-А-В  ...                       … А-А-В-В-В-А-А-В-В-В … … А-В-С-А-В-С-А-В-С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5435640" y="494352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т видимой повторяемости мономеров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…А-В-А-А-В-А-В-В-В-А ... А-В-С-В-В-С-А-С-А-А-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 flipH="1">
            <a:off x="2842920" y="1916280"/>
            <a:ext cx="649080" cy="28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1"/>
          <p:cNvSpPr/>
          <p:nvPr/>
        </p:nvSpPr>
        <p:spPr>
          <a:xfrm>
            <a:off x="5435640" y="1916280"/>
            <a:ext cx="720720" cy="217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"/>
          <p:cNvSpPr/>
          <p:nvPr/>
        </p:nvSpPr>
        <p:spPr>
          <a:xfrm flipH="1">
            <a:off x="3708360" y="3933720"/>
            <a:ext cx="2016000" cy="21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3"/>
          <p:cNvSpPr/>
          <p:nvPr/>
        </p:nvSpPr>
        <p:spPr>
          <a:xfrm>
            <a:off x="6978600" y="386388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5"/>
          <p:cNvSpPr/>
          <p:nvPr/>
        </p:nvSpPr>
        <p:spPr>
          <a:xfrm>
            <a:off x="179280" y="2924280"/>
            <a:ext cx="3313080" cy="1081080"/>
          </a:xfrm>
          <a:prstGeom prst="roundRect">
            <a:avLst>
              <a:gd name="adj" fmla="val 8370"/>
            </a:avLst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6"/>
          <p:cNvSpPr/>
          <p:nvPr/>
        </p:nvSpPr>
        <p:spPr>
          <a:xfrm>
            <a:off x="4788000" y="2852640"/>
            <a:ext cx="4032000" cy="1081080"/>
          </a:xfrm>
          <a:prstGeom prst="roundRect">
            <a:avLst>
              <a:gd name="adj" fmla="val 11014"/>
            </a:avLst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7"/>
          <p:cNvSpPr/>
          <p:nvPr/>
        </p:nvSpPr>
        <p:spPr>
          <a:xfrm>
            <a:off x="1187280" y="4941720"/>
            <a:ext cx="3889440" cy="1727280"/>
          </a:xfrm>
          <a:prstGeom prst="roundRect">
            <a:avLst>
              <a:gd name="adj" fmla="val 114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8"/>
          <p:cNvSpPr/>
          <p:nvPr/>
        </p:nvSpPr>
        <p:spPr>
          <a:xfrm>
            <a:off x="5294160" y="4941720"/>
            <a:ext cx="3718080" cy="1727280"/>
          </a:xfrm>
          <a:prstGeom prst="roundRect">
            <a:avLst>
              <a:gd name="adj" fmla="val 9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47600" y="5660640"/>
            <a:ext cx="6369120" cy="792360"/>
          </a:xfrm>
          <a:prstGeom prst="rect">
            <a:avLst/>
          </a:prstGeom>
          <a:solidFill>
            <a:srgbClr val="ffffcc"/>
          </a:solidFill>
          <a:ln w="76320">
            <a:solidFill>
              <a:srgbClr val="666699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ойства биополим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Impact"/>
                <a:ea typeface="Times New Roman"/>
              </a:rPr>
              <a:t>Биополиме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79280" y="1341360"/>
            <a:ext cx="6337440" cy="1312920"/>
          </a:xfrm>
          <a:prstGeom prst="rect">
            <a:avLst/>
          </a:prstGeom>
          <a:solidFill>
            <a:srgbClr val="ffffcc"/>
          </a:solidFill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исло, состав, порядок моном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84360" y="3500280"/>
            <a:ext cx="5832360" cy="1312920"/>
          </a:xfrm>
          <a:prstGeom prst="rect">
            <a:avLst/>
          </a:prstGeom>
          <a:solidFill>
            <a:srgbClr val="ffffcc"/>
          </a:solidFill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троение множества вариантов молеку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3348000" y="2781360"/>
            <a:ext cx="0" cy="71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3348000" y="4941720"/>
            <a:ext cx="0" cy="71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6372360" y="1125360"/>
            <a:ext cx="718920" cy="5543640"/>
          </a:xfrm>
          <a:custGeom>
            <a:avLst/>
            <a:gdLst>
              <a:gd name="textAreaLeft" fmla="*/ 0 w 718920"/>
              <a:gd name="textAreaRight" fmla="*/ 259560 w 718920"/>
              <a:gd name="textAreaTop" fmla="*/ 144360 h 5543640"/>
              <a:gd name="textAreaBottom" fmla="*/ 5399280 h 55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 rot="16200000">
            <a:off x="5134680" y="2721240"/>
            <a:ext cx="5692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 Black"/>
              </a:rPr>
              <a:t>Основа многообразия жизни на пла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324000" y="2708280"/>
            <a:ext cx="0" cy="29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763280" y="2060280"/>
            <a:ext cx="676908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1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Химический соста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1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Содержание в клет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1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Структура (строени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1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4.Свойст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1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5.Функц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Impact"/>
                <a:ea typeface="Times New Roman"/>
              </a:rPr>
              <a:t>Биополиме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826920" y="1268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ЛАН ХАРАКТЕРИСТ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7-06T21:09:20Z</dcterms:modified>
  <cp:revision>25</cp:revision>
  <dc:subject/>
  <dc:title>PowerPoint Presentation</dc:title>
</cp:coreProperties>
</file>