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DAE8-946D-4ECD-85CB-40FD3212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EE848-B427-4B05-8265-DE18558D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1314-30CE-43AA-8CFB-9436D3B6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CE8A-05EE-46D5-B71B-B637CD23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4D68-C034-4C96-913D-F9B230C7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EE6B-E0DE-46B3-8C28-EE55ADCE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FB65-B0B4-42C2-B9AC-4B1ADD97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C8A9-C995-4AEB-9EB7-540734CA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1831-94F4-44F1-AADD-03D736A5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8187-1B19-494E-B153-F2667685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2357-530E-4C83-BFB7-4EEE2BE9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CD7D-18B6-4145-B80C-7C7BBD34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319F-2A3E-4E20-BA88-E9203915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A38A-6017-43B3-8729-216CC366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A005-43B6-4196-B65E-5C3BD27E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01E0-04B2-459E-8BEB-133E67D7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D519-F392-4DFD-8C17-C28918AA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F867-9804-4486-8A3B-7873770E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BEAF-12D5-4EA0-9D8C-19F1AC62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33FC-EC82-455A-9771-A48B0036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B358-CF5C-4A91-A5A3-ECA80560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03993-67B5-457B-90CF-0D4E0FDD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B012-4CFF-4C59-87AC-B07928CB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5901-9D95-49B4-AE63-1D8201A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2EB0-1473-4CCD-B661-A1DD0D199C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8057-F495-46DE-B480-B386890396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932000" y="4941360"/>
            <a:ext cx="4032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f"/>
                </a:solidFill>
                <a:latin typeface="Times New Roman"/>
                <a:ea typeface="Times New Roman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f"/>
                </a:solidFill>
                <a:latin typeface="Times New Roman"/>
                <a:ea typeface="Times New Roman"/>
              </a:rPr>
              <a:t>Землянухина С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Биологические полимер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Картинки по запросу биополимеры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3"/>
          <p:cNvSpPr/>
          <p:nvPr/>
        </p:nvSpPr>
        <p:spPr>
          <a:xfrm>
            <a:off x="250920" y="2997360"/>
            <a:ext cx="8642160" cy="1295280"/>
          </a:xfrm>
          <a:custGeom>
            <a:avLst/>
            <a:gdLst>
              <a:gd name="textAreaLeft" fmla="*/ 152640 w 8642160"/>
              <a:gd name="textAreaRight" fmla="*/ 8489520 w 8642160"/>
              <a:gd name="textAreaTop" fmla="*/ 152640 h 1295280"/>
              <a:gd name="textAreaBottom" fmla="*/ 1142640 h 1295280"/>
            </a:gdLst>
            <a:ahLst/>
            <a:rect l="textAreaLeft" t="textAreaTop" r="textAreaRight" b="textAreaBottom"/>
            <a:pathLst>
              <a:path w="14408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0482" y="21600"/>
                </a:lnTo>
                <a:arcTo wR="3600" hR="3600" stAng="10800000" swAng="5400000"/>
                <a:lnTo>
                  <a:pt x="144082" y="3600"/>
                </a:lnTo>
                <a:arcTo wR="3600" hR="3600" stAng="5400000" swAng="5400000"/>
                <a:close/>
              </a:path>
            </a:pathLst>
          </a:custGeom>
          <a:solidFill>
            <a:srgbClr val="e8d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2411280" y="1181160"/>
            <a:ext cx="41054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2516040" y="2211480"/>
            <a:ext cx="1845000" cy="598320"/>
          </a:xfrm>
          <a:prstGeom prst="bevel">
            <a:avLst>
              <a:gd name="adj" fmla="val 9333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4788000" y="2205000"/>
            <a:ext cx="1611360" cy="604800"/>
          </a:xfrm>
          <a:prstGeom prst="bevel">
            <a:avLst>
              <a:gd name="adj" fmla="val 7931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16000" y="1917720"/>
            <a:ext cx="1800000" cy="936720"/>
          </a:xfrm>
          <a:prstGeom prst="bevel">
            <a:avLst>
              <a:gd name="adj" fmla="val 5963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6804000" y="1978200"/>
            <a:ext cx="2147760" cy="790560"/>
          </a:xfrm>
          <a:prstGeom prst="bevel">
            <a:avLst>
              <a:gd name="adj" fmla="val 6199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68360" y="404640"/>
            <a:ext cx="82296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Impact"/>
              </a:rPr>
              <a:t>Органические вещ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411280" y="1197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рганически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536400" y="196848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жи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4937040" y="227664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бел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2633760" y="2276640"/>
            <a:ext cx="158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углев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250920" y="2349360"/>
            <a:ext cx="175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(липиды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6807240" y="1967040"/>
            <a:ext cx="212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нуклеиновые кисл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 flipH="1">
            <a:off x="1979280" y="1844640"/>
            <a:ext cx="647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6084720" y="1844640"/>
            <a:ext cx="64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 flipH="1">
            <a:off x="3276360" y="1773360"/>
            <a:ext cx="43164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4859280" y="1773360"/>
            <a:ext cx="64944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395280" y="306864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оединенные друг с другом атомы углерода образуют различные структур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остов молекул органических вещест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4" descr="04_05"/>
          <p:cNvPicPr/>
          <p:nvPr/>
        </p:nvPicPr>
        <p:blipFill>
          <a:blip r:embed="rId1"/>
          <a:stretch/>
        </p:blipFill>
        <p:spPr>
          <a:xfrm>
            <a:off x="463680" y="4265640"/>
            <a:ext cx="81817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8920" y="1486080"/>
            <a:ext cx="8875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ганические соединения, имеющие большие размеры называют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кромолекулами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кромолекулы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состоят из повторяющихся, сходных по структуре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зкомолекулярных соединений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 связанных между собой ковалентной связью –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НО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разованная из мономеров макромолекула называется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ЛИМЕР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8680" y="1484280"/>
            <a:ext cx="901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5302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ганические соединения, входящие в состав живых клеток называются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ОПОЛИМЕР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0280" indent="-5302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ОПОЛИМЕРЫ – </a:t>
            </a:r>
            <a:r>
              <a:rPr b="0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то линейные или разветвленные цепи, содержащие множество мономерных звень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Impact"/>
                <a:ea typeface="Times New Roman"/>
              </a:rPr>
              <a:t>Биопол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15"/>
          <p:cNvSpPr/>
          <p:nvPr/>
        </p:nvSpPr>
        <p:spPr>
          <a:xfrm>
            <a:off x="2987640" y="1052640"/>
            <a:ext cx="3097080" cy="863640"/>
          </a:xfrm>
          <a:prstGeom prst="bevel">
            <a:avLst>
              <a:gd name="adj" fmla="val 1250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"/>
          <p:cNvSpPr/>
          <p:nvPr/>
        </p:nvSpPr>
        <p:spPr>
          <a:xfrm>
            <a:off x="5268960" y="4211640"/>
            <a:ext cx="3709800" cy="716040"/>
          </a:xfrm>
          <a:prstGeom prst="bevel">
            <a:avLst>
              <a:gd name="adj" fmla="val 1557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7"/>
          <p:cNvSpPr/>
          <p:nvPr/>
        </p:nvSpPr>
        <p:spPr>
          <a:xfrm>
            <a:off x="1187280" y="4221000"/>
            <a:ext cx="3889440" cy="719280"/>
          </a:xfrm>
          <a:prstGeom prst="bevel">
            <a:avLst>
              <a:gd name="adj" fmla="val 1567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9"/>
          <p:cNvSpPr/>
          <p:nvPr/>
        </p:nvSpPr>
        <p:spPr>
          <a:xfrm>
            <a:off x="4788000" y="2152800"/>
            <a:ext cx="4032000" cy="699840"/>
          </a:xfrm>
          <a:prstGeom prst="bevel">
            <a:avLst>
              <a:gd name="adj" fmla="val 171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79280" y="2205000"/>
            <a:ext cx="3313080" cy="719280"/>
          </a:xfrm>
          <a:prstGeom prst="bevel">
            <a:avLst>
              <a:gd name="adj" fmla="val 1589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45720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Impact"/>
                <a:ea typeface="Times New Roman"/>
              </a:rPr>
              <a:t>Биополи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59280" y="119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Л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79280" y="2349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ОМОПОЛ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932360" y="2276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ЕТЕРОПОЛ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95280" y="2924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дставлены одним видом мономер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А – А – А – А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932360" y="285264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дставлены несколькими различными мономерам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А – В – С – А –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332000" y="429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ГУЛЯ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5435640" y="429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ЕГУЛЯ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1303200" y="4924440"/>
            <a:ext cx="367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руппа мономеров периодически повторяетс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… А-В-А-В-А-В  ...                       … А-А-В-В-В-А-А-В-В-В … … А-В-С-А-В-С-А-В-С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5435640" y="494352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т видимой повторяемости мономер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…А-В-А-А-В-А-В-В-В-А ... А-В-С-В-В-С-А-С-А-А-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H="1">
            <a:off x="2842920" y="1916280"/>
            <a:ext cx="64908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1"/>
          <p:cNvSpPr/>
          <p:nvPr/>
        </p:nvSpPr>
        <p:spPr>
          <a:xfrm>
            <a:off x="5435640" y="1916280"/>
            <a:ext cx="720720" cy="217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 flipH="1">
            <a:off x="3708360" y="3933720"/>
            <a:ext cx="2016000" cy="21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3"/>
          <p:cNvSpPr/>
          <p:nvPr/>
        </p:nvSpPr>
        <p:spPr>
          <a:xfrm>
            <a:off x="6978600" y="3863880"/>
            <a:ext cx="0" cy="36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5"/>
          <p:cNvSpPr/>
          <p:nvPr/>
        </p:nvSpPr>
        <p:spPr>
          <a:xfrm>
            <a:off x="179280" y="2924280"/>
            <a:ext cx="3313080" cy="1081080"/>
          </a:xfrm>
          <a:prstGeom prst="roundRect">
            <a:avLst>
              <a:gd name="adj" fmla="val 8370"/>
            </a:avLst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6"/>
          <p:cNvSpPr/>
          <p:nvPr/>
        </p:nvSpPr>
        <p:spPr>
          <a:xfrm>
            <a:off x="4788000" y="2852640"/>
            <a:ext cx="4032000" cy="1081080"/>
          </a:xfrm>
          <a:prstGeom prst="roundRect">
            <a:avLst>
              <a:gd name="adj" fmla="val 11014"/>
            </a:avLst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7"/>
          <p:cNvSpPr/>
          <p:nvPr/>
        </p:nvSpPr>
        <p:spPr>
          <a:xfrm>
            <a:off x="1187280" y="4941720"/>
            <a:ext cx="3889440" cy="1727280"/>
          </a:xfrm>
          <a:prstGeom prst="roundRect">
            <a:avLst>
              <a:gd name="adj" fmla="val 114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8"/>
          <p:cNvSpPr/>
          <p:nvPr/>
        </p:nvSpPr>
        <p:spPr>
          <a:xfrm>
            <a:off x="5294160" y="4941720"/>
            <a:ext cx="3718080" cy="1727280"/>
          </a:xfrm>
          <a:prstGeom prst="roundRect">
            <a:avLst>
              <a:gd name="adj" fmla="val 9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47600" y="5660640"/>
            <a:ext cx="6369120" cy="792360"/>
          </a:xfrm>
          <a:prstGeom prst="rect">
            <a:avLst/>
          </a:prstGeom>
          <a:solidFill>
            <a:srgbClr val="ffffcc"/>
          </a:solidFill>
          <a:ln w="76320">
            <a:solidFill>
              <a:srgbClr val="666699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ойства биополи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Impact"/>
                <a:ea typeface="Times New Roman"/>
              </a:rPr>
              <a:t>Биополиме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79280" y="1341360"/>
            <a:ext cx="63374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исло, состав, порядок моно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4360" y="3500280"/>
            <a:ext cx="583236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роение множества вариантов молеку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3348000" y="2781360"/>
            <a:ext cx="0" cy="71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3348000" y="4941720"/>
            <a:ext cx="0" cy="71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6372360" y="1125360"/>
            <a:ext cx="718920" cy="5543640"/>
          </a:xfrm>
          <a:custGeom>
            <a:avLst/>
            <a:gdLst>
              <a:gd name="textAreaLeft" fmla="*/ 0 w 718920"/>
              <a:gd name="textAreaRight" fmla="*/ 259560 w 718920"/>
              <a:gd name="textAreaTop" fmla="*/ 144360 h 5543640"/>
              <a:gd name="textAreaBottom" fmla="*/ 5399280 h 55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 rot="16200000">
            <a:off x="5134680" y="2721240"/>
            <a:ext cx="569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 Black"/>
              </a:rPr>
              <a:t>Основа многообразия жизни на план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324000" y="2708280"/>
            <a:ext cx="0" cy="29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63280" y="2060280"/>
            <a:ext cx="676908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Химический сост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Содержание в клет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Структура (строен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.Свойст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11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.Функ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Impact"/>
                <a:ea typeface="Times New Roman"/>
              </a:rPr>
              <a:t>Биополиме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826920" y="1268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ЛАН ХАРАКТЕРИСТ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7-06T21:09:20Z</dcterms:modified>
  <cp:revision>25</cp:revision>
  <dc:subject/>
  <dc:title>PowerPoint Presentation</dc:title>
</cp:coreProperties>
</file>