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4A9-ED21-4DEC-8EF3-ED381F90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DAE-1AB1-4AF3-8BAD-53F2B82D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068-A2A7-496B-8375-3D64E0E5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5CA-6273-4E3B-966C-30CB4E80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E67-A3CC-46D7-A31D-FBB3EABE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DFD-B592-41A9-898A-5ACF3B63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5CF1-77AD-4921-BF00-AAE4CF64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2F5F-21F5-4A29-89CD-DD10580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9297-41A3-4D6B-90A7-E0BC717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F01E-EF3E-40AA-AEFA-45E49C3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1E89-6CA2-42A9-930A-B699A97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EED-E40F-48B9-9135-179D207A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5300-CA9F-40E3-9BC1-2C0F977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B20-9B36-4CB0-AB75-76EEAACD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C410-191E-4761-ACE8-7E238EF5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4E6-90B3-4D30-88C5-521D4451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D81C-C99C-49C6-8EF9-E68E5756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87-5BF1-406A-A2FC-AC6C8DC7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939-E411-402B-903E-62785887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E2B-9151-4A45-A008-E013275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5AA-3B93-414A-A5F4-A72D3936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2084-D2DA-44B1-A458-DE97B88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800-A435-46AD-8D1C-DC5945B0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1CA-8199-4AAA-AD11-9D01C3B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DDA-2D35-4EE1-8A86-8D214B02D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5C0D-C9AA-4970-99A7-A66AEFCF9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3"/>
          <p:cNvSpPr/>
          <p:nvPr/>
        </p:nvSpPr>
        <p:spPr>
          <a:xfrm>
            <a:off x="324000" y="105264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 мышц, иммунитет, осуществление обмена веществ, ускорение биохимических реакций, восприятие окружающего мира – все это работа этих веществ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5640" y="147600"/>
            <a:ext cx="889308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КИ. ПРОТЕИНЫ. ПРОТЕИ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960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макромолекулы, биополимеры, полипепт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амые сложные молеку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16000" y="765000"/>
            <a:ext cx="4248360" cy="22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теи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стые белки, состоят только из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716360" y="3571920"/>
            <a:ext cx="427536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теи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ожные белки, кроме аминокислот в состав молекул входит и небелков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43920"/>
            <a:ext cx="8229600" cy="138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бел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5483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идролиз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стру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атур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24000" y="764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различных химических и физических факторов  (обработка спиртом, ацетоном, кислотами, щелочами, высокой температурой,    облучением,    высоким      давлением   и  т. д.) происходит   изменение   структур    молекулы  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180px-Fried_egg,_sunny_side_up"/>
          <p:cNvPicPr/>
          <p:nvPr/>
        </p:nvPicPr>
        <p:blipFill>
          <a:blip r:embed="rId1"/>
          <a:stretch/>
        </p:blipFill>
        <p:spPr>
          <a:xfrm>
            <a:off x="4716360" y="2852640"/>
            <a:ext cx="2906640" cy="252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2"/>
          <p:cNvSpPr/>
          <p:nvPr/>
        </p:nvSpPr>
        <p:spPr>
          <a:xfrm>
            <a:off x="324000" y="544032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хра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572000" y="5429160"/>
            <a:ext cx="4572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и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зруш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" descr="денатурация и ренатурация белков"/>
          <p:cNvPicPr/>
          <p:nvPr/>
        </p:nvPicPr>
        <p:blipFill>
          <a:blip r:embed="rId2"/>
          <a:stretch/>
        </p:blipFill>
        <p:spPr>
          <a:xfrm>
            <a:off x="539640" y="3213000"/>
            <a:ext cx="2376720" cy="208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395280" y="9079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тур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роцесс, обратный денатурации, при котором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озвращают свою природную структур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Картинки по запросу ренатурация белков"/>
          <p:cNvPicPr/>
          <p:nvPr/>
        </p:nvPicPr>
        <p:blipFill>
          <a:blip r:embed="rId1"/>
          <a:stretch/>
        </p:blipFill>
        <p:spPr>
          <a:xfrm>
            <a:off x="2124000" y="2565360"/>
            <a:ext cx="5400720" cy="40496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2224080" y="260280"/>
            <a:ext cx="42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нату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Картинки по запросу гидролиз белков"/>
          <p:cNvPicPr/>
          <p:nvPr/>
        </p:nvPicPr>
        <p:blipFill>
          <a:blip r:embed="rId1"/>
          <a:stretch/>
        </p:blipFill>
        <p:spPr>
          <a:xfrm>
            <a:off x="179280" y="836640"/>
            <a:ext cx="8785440" cy="591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Прямоугольник 3"/>
          <p:cNvSpPr/>
          <p:nvPr/>
        </p:nvSpPr>
        <p:spPr>
          <a:xfrm>
            <a:off x="2916360" y="18900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дро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Овал 8"/>
          <p:cNvSpPr/>
          <p:nvPr/>
        </p:nvSpPr>
        <p:spPr>
          <a:xfrm>
            <a:off x="2987640" y="333360"/>
            <a:ext cx="3097080" cy="107964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2"/>
          <p:cNvSpPr/>
          <p:nvPr/>
        </p:nvSpPr>
        <p:spPr>
          <a:xfrm>
            <a:off x="5867280" y="1484280"/>
            <a:ext cx="2952720" cy="1058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т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1"/>
          <p:cNvSpPr/>
          <p:nvPr/>
        </p:nvSpPr>
        <p:spPr>
          <a:xfrm>
            <a:off x="6227640" y="3522600"/>
            <a:ext cx="2521080" cy="986040"/>
          </a:xfrm>
          <a:prstGeom prst="ellipse">
            <a:avLst/>
          </a:prstGeom>
          <a:solidFill>
            <a:srgbClr val="f5a9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3"/>
          <p:cNvSpPr/>
          <p:nvPr/>
        </p:nvSpPr>
        <p:spPr>
          <a:xfrm>
            <a:off x="4932360" y="5251320"/>
            <a:ext cx="2808360" cy="986040"/>
          </a:xfrm>
          <a:prstGeom prst="ellipse">
            <a:avLst/>
          </a:prstGeom>
          <a:solidFill>
            <a:srgbClr val="99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вал 4"/>
          <p:cNvSpPr/>
          <p:nvPr/>
        </p:nvSpPr>
        <p:spPr>
          <a:xfrm>
            <a:off x="900000" y="5157720"/>
            <a:ext cx="2664000" cy="935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Овал 5"/>
          <p:cNvSpPr/>
          <p:nvPr/>
        </p:nvSpPr>
        <p:spPr>
          <a:xfrm>
            <a:off x="179280" y="3284640"/>
            <a:ext cx="2737080" cy="936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6"/>
          <p:cNvSpPr/>
          <p:nvPr/>
        </p:nvSpPr>
        <p:spPr>
          <a:xfrm>
            <a:off x="468360" y="1557360"/>
            <a:ext cx="2663640" cy="93492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14"/>
          <p:cNvSpPr/>
          <p:nvPr/>
        </p:nvSpPr>
        <p:spPr>
          <a:xfrm rot="12911400">
            <a:off x="2690280" y="2066400"/>
            <a:ext cx="1100160" cy="640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15"/>
          <p:cNvSpPr/>
          <p:nvPr/>
        </p:nvSpPr>
        <p:spPr>
          <a:xfrm rot="10354800">
            <a:off x="2482560" y="3342960"/>
            <a:ext cx="93492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право 16"/>
          <p:cNvSpPr/>
          <p:nvPr/>
        </p:nvSpPr>
        <p:spPr>
          <a:xfrm rot="7612200">
            <a:off x="2957760" y="4496400"/>
            <a:ext cx="1428480" cy="63972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право 13"/>
          <p:cNvSpPr/>
          <p:nvPr/>
        </p:nvSpPr>
        <p:spPr>
          <a:xfrm rot="3246600">
            <a:off x="4721760" y="4523760"/>
            <a:ext cx="1358640" cy="6397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право 12"/>
          <p:cNvSpPr/>
          <p:nvPr/>
        </p:nvSpPr>
        <p:spPr>
          <a:xfrm rot="1347000">
            <a:off x="5571720" y="3481200"/>
            <a:ext cx="992160" cy="56484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трелка вправо 10"/>
          <p:cNvSpPr/>
          <p:nvPr/>
        </p:nvSpPr>
        <p:spPr>
          <a:xfrm rot="19690200">
            <a:off x="5403600" y="2230200"/>
            <a:ext cx="1089000" cy="59832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право 11"/>
          <p:cNvSpPr/>
          <p:nvPr/>
        </p:nvSpPr>
        <p:spPr>
          <a:xfrm rot="16200000">
            <a:off x="4140000" y="1412640"/>
            <a:ext cx="936720" cy="647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3203640" y="2133720"/>
            <a:ext cx="2520720" cy="230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е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2627280" y="333360"/>
            <a:ext cx="384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0" y="1268280"/>
            <a:ext cx="885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участвуют в образовании все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 и органоидов клет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мембрана 3"/>
          <p:cNvPicPr/>
          <p:nvPr/>
        </p:nvPicPr>
        <p:blipFill>
          <a:blip r:embed="rId1"/>
          <a:stretch/>
        </p:blipFill>
        <p:spPr>
          <a:xfrm>
            <a:off x="324000" y="2997360"/>
            <a:ext cx="3671640" cy="314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AutoShape 8"/>
          <p:cNvSpPr/>
          <p:nvPr/>
        </p:nvSpPr>
        <p:spPr>
          <a:xfrm>
            <a:off x="2987640" y="5589720"/>
            <a:ext cx="976320" cy="630000"/>
          </a:xfrm>
          <a:prstGeom prst="leftArrow">
            <a:avLst>
              <a:gd name="adj1" fmla="val 50000"/>
              <a:gd name="adj2" fmla="val 38743"/>
            </a:avLst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ногти"/>
          <p:cNvPicPr/>
          <p:nvPr/>
        </p:nvPicPr>
        <p:blipFill>
          <a:blip r:embed="rId2"/>
          <a:stretch/>
        </p:blipFill>
        <p:spPr>
          <a:xfrm>
            <a:off x="4284720" y="2997360"/>
            <a:ext cx="2085840" cy="3119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53" name="Picture 12" descr="в"/>
          <p:cNvPicPr/>
          <p:nvPr/>
        </p:nvPicPr>
        <p:blipFill>
          <a:blip r:embed="rId3"/>
          <a:stretch/>
        </p:blipFill>
        <p:spPr>
          <a:xfrm>
            <a:off x="6572160" y="2997360"/>
            <a:ext cx="2386080" cy="309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4" name="Text Box 13"/>
          <p:cNvSpPr/>
          <p:nvPr/>
        </p:nvSpPr>
        <p:spPr>
          <a:xfrm>
            <a:off x="7022880" y="6021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р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5940000" y="5805000"/>
            <a:ext cx="129564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5"/>
          <p:cNvSpPr/>
          <p:nvPr/>
        </p:nvSpPr>
        <p:spPr>
          <a:xfrm flipV="1">
            <a:off x="7236000" y="5805000"/>
            <a:ext cx="28872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2411280" y="333360"/>
            <a:ext cx="439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али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12840" y="1413000"/>
            <a:ext cx="87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каждой клетке имеются сотни ферм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помогают осуществлять биохим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,   действуя     как    катализатор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30254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556000" y="333360"/>
            <a:ext cx="34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порт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68360" y="119700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  связывают   и   перенос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   вещества и   вну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ки,   и   по  всему  организ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7" descr="кровь 2"/>
          <p:cNvPicPr/>
          <p:nvPr/>
        </p:nvPicPr>
        <p:blipFill>
          <a:blip r:embed="rId1"/>
          <a:stretch/>
        </p:blipFill>
        <p:spPr>
          <a:xfrm>
            <a:off x="1403280" y="3500280"/>
            <a:ext cx="2303640" cy="28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3" name="Rectangle 8"/>
          <p:cNvSpPr/>
          <p:nvPr/>
        </p:nvSpPr>
        <p:spPr>
          <a:xfrm>
            <a:off x="5003640" y="4221000"/>
            <a:ext cx="3745080" cy="1130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 г е м о г л о б и 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рови   переносит    кислор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rot="10800000">
            <a:off x="4427280" y="450864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2627280" y="404640"/>
            <a:ext cx="36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уля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0" y="4292640"/>
            <a:ext cx="4427640" cy="863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79280" y="119700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   гормоны    регулиру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   физиологи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4643280" y="4365720"/>
            <a:ext cx="4079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нсулин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регулир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ровень    углеводов    в     кр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модель инсулина"/>
          <p:cNvPicPr/>
          <p:nvPr/>
        </p:nvPicPr>
        <p:blipFill>
          <a:blip r:embed="rId1"/>
          <a:stretch/>
        </p:blipFill>
        <p:spPr>
          <a:xfrm>
            <a:off x="250920" y="3357720"/>
            <a:ext cx="3816360" cy="29476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 rot="10800000">
            <a:off x="4066920" y="450864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0"/>
          <p:cNvSpPr/>
          <p:nvPr/>
        </p:nvSpPr>
        <p:spPr>
          <a:xfrm>
            <a:off x="2340000" y="44388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6732720" y="4076640"/>
            <a:ext cx="20714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2568600" y="414972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3"/>
          <p:cNvSpPr/>
          <p:nvPr/>
        </p:nvSpPr>
        <p:spPr>
          <a:xfrm>
            <a:off x="2568600" y="3286080"/>
            <a:ext cx="1368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еди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2670120" y="340200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643120" y="42354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Аминокисло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573440" y="628164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6688080" y="4824360"/>
            <a:ext cx="208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5"/>
          <p:cNvSpPr/>
          <p:nvPr/>
        </p:nvSpPr>
        <p:spPr>
          <a:xfrm>
            <a:off x="2355840" y="2579760"/>
            <a:ext cx="3240" cy="184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3203640" y="476280"/>
            <a:ext cx="275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и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свертывание крови"/>
          <p:cNvPicPr/>
          <p:nvPr/>
        </p:nvPicPr>
        <p:blipFill>
          <a:blip r:embed="rId1"/>
          <a:stretch/>
        </p:blipFill>
        <p:spPr>
          <a:xfrm>
            <a:off x="755640" y="4508640"/>
            <a:ext cx="2952720" cy="209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73" name="Picture 7" descr="антитела 2"/>
          <p:cNvPicPr/>
          <p:nvPr/>
        </p:nvPicPr>
        <p:blipFill>
          <a:blip r:embed="rId2"/>
          <a:stretch/>
        </p:blipFill>
        <p:spPr>
          <a:xfrm>
            <a:off x="5364000" y="2997360"/>
            <a:ext cx="2664000" cy="223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4" name="AutoShape 11"/>
          <p:cNvSpPr/>
          <p:nvPr/>
        </p:nvSpPr>
        <p:spPr>
          <a:xfrm rot="10800000">
            <a:off x="3779640" y="5734080"/>
            <a:ext cx="431640" cy="55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558720"/>
              <a:gd name="textAreaBottom" fmla="*/ 558720 h 55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21309600">
            <a:off x="4788000" y="3573000"/>
            <a:ext cx="431640" cy="559080"/>
          </a:xfrm>
          <a:custGeom>
            <a:avLst/>
            <a:gdLst>
              <a:gd name="textAreaLeft" fmla="*/ 0 w 431640"/>
              <a:gd name="textAreaRight" fmla="*/ 432000 w 43164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50" y="0"/>
                </a:lnTo>
                <a:lnTo>
                  <a:pt x="21600" y="10800"/>
                </a:lnTo>
                <a:lnTo>
                  <a:pt x="9450" y="21600"/>
                </a:lnTo>
                <a:lnTo>
                  <a:pt x="0" y="21600"/>
                </a:lnTo>
                <a:lnTo>
                  <a:pt x="1215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4211640" y="5589720"/>
            <a:ext cx="4788000" cy="863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апример, фибриноген и протром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еспечивают свертываемость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50920" y="3357720"/>
            <a:ext cx="424800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нтитела  блокируют чужер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160200" y="1268280"/>
            <a:ext cx="86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едохраняют    организм   от   втор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ужеродных организмов и от пов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340000" y="404640"/>
            <a:ext cx="443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ратитель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55640" y="12013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ют в сокращ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ечных волок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мышцы"/>
          <p:cNvPicPr/>
          <p:nvPr/>
        </p:nvPicPr>
        <p:blipFill>
          <a:blip r:embed="rId1"/>
          <a:stretch/>
        </p:blipFill>
        <p:spPr>
          <a:xfrm>
            <a:off x="611280" y="2997360"/>
            <a:ext cx="3240000" cy="3071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82" name="Picture 7" descr="миозин"/>
          <p:cNvPicPr/>
          <p:nvPr/>
        </p:nvPicPr>
        <p:blipFill>
          <a:blip r:embed="rId2"/>
          <a:stretch/>
        </p:blipFill>
        <p:spPr>
          <a:xfrm>
            <a:off x="4427640" y="3068640"/>
            <a:ext cx="388764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83" name="Rectangle 8"/>
          <p:cNvSpPr/>
          <p:nvPr/>
        </p:nvSpPr>
        <p:spPr>
          <a:xfrm>
            <a:off x="4500720" y="5732640"/>
            <a:ext cx="3816360" cy="647640"/>
          </a:xfrm>
          <a:prstGeom prst="rect">
            <a:avLst/>
          </a:prstGeom>
          <a:solidFill>
            <a:srgbClr val="c0c0c0"/>
          </a:solidFill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572000" y="5877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ктин и миозин – белки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2627280" y="333360"/>
            <a:ext cx="42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ет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908000" y="3860640"/>
            <a:ext cx="45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г белка - 17.6 кД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47840" y="1341360"/>
            <a:ext cx="80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ке углеводов или жи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яются молекулы аминокисл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314280" y="2708280"/>
            <a:ext cx="742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лном расщеплении белка до коне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ов   выделяется энерг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0" y="551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качестве источника энергии белки используются крайне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08000" y="115920"/>
          <a:ext cx="8929800" cy="6624720"/>
        </p:xfrm>
        <a:graphic>
          <a:graphicData uri="http://schemas.openxmlformats.org/drawingml/2006/table">
            <a:tbl>
              <a:tblPr/>
              <a:tblGrid>
                <a:gridCol w="2214360"/>
                <a:gridCol w="6715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ffa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функ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ffac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итель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участвуют в образовании всех клеточных мембран и органоидов клетки, а также внеклеточных структу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гательная функц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вается специальными сократительными  белками. Например, актин и миозин — специфические белки мышечной ткан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порт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ается в присоединении химических элементов (например, гемоглобин присоединяет кислород) или биологически активных веществ (гормонов) и переносе их к различным органам и тканям тел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щит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ступлении в организм чужеродных белков или микроорганизмов в  лейкоцитах образуются особые белки — антитела. Другой пример защитной функции: свёртывание белка плазмы крови фибриногена приводит к образованию сгустка крови, что предохраняет от потери крови при ранениях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нергетическ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 служат одним из источников энергии в клетке. При полном расщеплении 1 грамма белка выделяется 17,6 кДж энерг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ающ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таким белкам относятся резервные белки, являющиеся источниками питания для развития плода. Например, белки яйца (яичный альбумин) и основной белок молока (казеин)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мональн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в организме регулируется разнообразными механизмами. В этой регуляции важное место занимают гормоны, которые вырабатывают железы внутренней секрец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итическая фун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 часть химических реакций, протекающих в организме,  регулируется ферментами, т.е. катализатор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ffb3"/>
                    </a:solidFill>
                  </a:tcPr>
                </a:tc>
              </a:tr>
            </a:tbl>
          </a:graphicData>
        </a:graphic>
      </p:graphicFrame>
      <p:sp>
        <p:nvSpPr>
          <p:cNvPr id="291" name="TextBox 5"/>
          <p:cNvSpPr/>
          <p:nvPr/>
        </p:nvSpPr>
        <p:spPr>
          <a:xfrm>
            <a:off x="214200" y="6480"/>
            <a:ext cx="8643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ерновые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рибы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рах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индаль, кешью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уриное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чевица,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чень,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ис, чечевица, оре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ин –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шеница, орех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 -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бы, фасоль, чечевица и со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они́н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чные продук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умеренных количествах в орех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птофан – овес, бананы, сушёные финики, арахис, кунжут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, твор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урица, индейка,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алани́н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говядина, куриное мя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ыб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евые бобы,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йц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ворог, молок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706760" y="127080"/>
            <a:ext cx="620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езаменимые аминокислоты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539640" y="1341360"/>
            <a:ext cx="835344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 –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–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6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2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7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6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глобин–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3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87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7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8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304640" y="254160"/>
            <a:ext cx="57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ОЕНИЕ АМИНО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минокис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функцио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64240" y="5084640"/>
            <a:ext cx="19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Аминогруп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200640" y="510696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рбоксильн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428920" y="508464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Радикал ( они 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всех аминокисл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0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25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ичная 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следовательность аминокислот в полипептидной цеп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08010502"/>
          <p:cNvPicPr/>
          <p:nvPr/>
        </p:nvPicPr>
        <p:blipFill>
          <a:blip r:embed="rId1"/>
          <a:stretch/>
        </p:blipFill>
        <p:spPr>
          <a:xfrm>
            <a:off x="586728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ичная 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Копия 08010502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ичная структура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странственное строение полипептидной цепи — взаимное расположение элементов вторичной структуры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Копия 08010502"/>
          <p:cNvPicPr/>
          <p:nvPr/>
        </p:nvPicPr>
        <p:blipFill>
          <a:blip r:embed="rId1"/>
          <a:stretch/>
        </p:blipFill>
        <p:spPr>
          <a:xfrm>
            <a:off x="324000" y="40464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140360" y="620280"/>
            <a:ext cx="483552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тверичная структура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08010502"/>
          <p:cNvPicPr/>
          <p:nvPr/>
        </p:nvPicPr>
        <p:blipFill>
          <a:blip r:embed="rId1"/>
          <a:stretch/>
        </p:blipFill>
        <p:spPr>
          <a:xfrm>
            <a:off x="250920" y="69228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лянухин</cp:lastModifiedBy>
  <dcterms:modified xsi:type="dcterms:W3CDTF">2021-06-26T12:20:42Z</dcterms:modified>
  <cp:revision>63</cp:revision>
  <dc:subject/>
  <dc:title>PowerPoint Presentation</dc:title>
</cp:coreProperties>
</file>