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F9E-E4DE-4AF3-9636-373C88F2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533-4113-4F2D-BB7D-CD354DF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EDB-EAB4-4C49-826A-3210DF80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6EA-A19F-4FE3-A355-E7ED2549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5B4-4766-4EC1-8625-9FBA7F69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512D-78E1-459B-8229-C893F49B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5F38-C677-4445-B321-4357B6A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B53-BBF7-4256-83E8-451FE9D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F098-EEDA-49A6-B288-FD8C0640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9866-18E5-42EA-B47A-1F8B31EC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ADE-7D96-4A30-9ACF-4208FCC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CF3-2872-4BFC-AD6C-BF1BE64E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0E18-858F-40E7-A6D6-C8CEF22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924-3DFC-4A7C-AA23-191A578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B36D-3EE9-452F-841F-6BB9598B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9BA-5777-4116-962D-64C890D1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380-4469-4A01-9357-6AA66545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8E0-49AF-40E5-A8BC-37AF177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A11-BEA6-4346-B012-D0568769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A2F-443C-4AF2-8414-AA6071A3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CFD-8EF9-47B3-B936-6830C693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62D-D29D-44CA-8967-F2EA1F0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071-EF3C-4E09-BDD9-CE1155A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D5F-5F72-4B37-9B5A-A7EDC88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D67D-B635-40D3-9ED6-16D81EF8B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51E-5ED8-4760-A8E9-968E20521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324000" y="105264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 мышц, иммунитет, осуществление обмена веществ, ускорение биохимических реакций, восприятие окружающего мира – все это работа этих веществ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5640" y="147600"/>
            <a:ext cx="889308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КИ. ПРОТЕИНЫ. ПРОТЕ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960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макромолекулы, биополимеры, полипепт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амые сложные молек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16000" y="765000"/>
            <a:ext cx="4248360" cy="22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теи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стые белки, состоят только из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716360" y="3571920"/>
            <a:ext cx="427536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теи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жные белки, кроме аминокислот в состав молекул входит и небелков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43920"/>
            <a:ext cx="822960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бел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5483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идроли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24000" y="76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различных химических и физических факторов  (обработка спиртом, ацетоном, кислотами, щелочами, высокой температурой,    облучением,    высоким      давлением   и  т. д.) происходит   изменение   структур    молекулы  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180px-Fried_egg,_sunny_side_up"/>
          <p:cNvPicPr/>
          <p:nvPr/>
        </p:nvPicPr>
        <p:blipFill>
          <a:blip r:embed="rId1"/>
          <a:stretch/>
        </p:blipFill>
        <p:spPr>
          <a:xfrm>
            <a:off x="4716360" y="2852640"/>
            <a:ext cx="2906640" cy="252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2"/>
          <p:cNvSpPr/>
          <p:nvPr/>
        </p:nvSpPr>
        <p:spPr>
          <a:xfrm>
            <a:off x="324000" y="544032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хра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572000" y="542916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и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зру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денатурация и ренатурация белков"/>
          <p:cNvPicPr/>
          <p:nvPr/>
        </p:nvPicPr>
        <p:blipFill>
          <a:blip r:embed="rId2"/>
          <a:stretch/>
        </p:blipFill>
        <p:spPr>
          <a:xfrm>
            <a:off x="539640" y="3213000"/>
            <a:ext cx="2376720" cy="208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395280" y="907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ур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оцесс, обратный денатурации, при котором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звращают свою природную структур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Картинки по запросу ренатурация белков"/>
          <p:cNvPicPr/>
          <p:nvPr/>
        </p:nvPicPr>
        <p:blipFill>
          <a:blip r:embed="rId1"/>
          <a:stretch/>
        </p:blipFill>
        <p:spPr>
          <a:xfrm>
            <a:off x="2124000" y="2565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2224080" y="26028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нату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Картинки по запросу гидролиз белков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91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Прямоугольник 3"/>
          <p:cNvSpPr/>
          <p:nvPr/>
        </p:nvSpPr>
        <p:spPr>
          <a:xfrm>
            <a:off x="2916360" y="189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дро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Овал 8"/>
          <p:cNvSpPr/>
          <p:nvPr/>
        </p:nvSpPr>
        <p:spPr>
          <a:xfrm>
            <a:off x="2987640" y="333360"/>
            <a:ext cx="3097080" cy="107964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2"/>
          <p:cNvSpPr/>
          <p:nvPr/>
        </p:nvSpPr>
        <p:spPr>
          <a:xfrm>
            <a:off x="5867280" y="1484280"/>
            <a:ext cx="2952720" cy="1058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т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"/>
          <p:cNvSpPr/>
          <p:nvPr/>
        </p:nvSpPr>
        <p:spPr>
          <a:xfrm>
            <a:off x="6227640" y="3522600"/>
            <a:ext cx="2521080" cy="986040"/>
          </a:xfrm>
          <a:prstGeom prst="ellipse">
            <a:avLst/>
          </a:prstGeom>
          <a:solidFill>
            <a:srgbClr val="f5a9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3"/>
          <p:cNvSpPr/>
          <p:nvPr/>
        </p:nvSpPr>
        <p:spPr>
          <a:xfrm>
            <a:off x="4932360" y="5251320"/>
            <a:ext cx="2808360" cy="986040"/>
          </a:xfrm>
          <a:prstGeom prst="ellipse">
            <a:avLst/>
          </a:prstGeom>
          <a:solidFill>
            <a:srgbClr val="99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4"/>
          <p:cNvSpPr/>
          <p:nvPr/>
        </p:nvSpPr>
        <p:spPr>
          <a:xfrm>
            <a:off x="900000" y="5157720"/>
            <a:ext cx="2664000" cy="935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5"/>
          <p:cNvSpPr/>
          <p:nvPr/>
        </p:nvSpPr>
        <p:spPr>
          <a:xfrm>
            <a:off x="179280" y="3284640"/>
            <a:ext cx="2737080" cy="936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6"/>
          <p:cNvSpPr/>
          <p:nvPr/>
        </p:nvSpPr>
        <p:spPr>
          <a:xfrm>
            <a:off x="468360" y="1557360"/>
            <a:ext cx="2663640" cy="93492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14"/>
          <p:cNvSpPr/>
          <p:nvPr/>
        </p:nvSpPr>
        <p:spPr>
          <a:xfrm rot="12911400">
            <a:off x="2690280" y="2066400"/>
            <a:ext cx="1100160" cy="640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15"/>
          <p:cNvSpPr/>
          <p:nvPr/>
        </p:nvSpPr>
        <p:spPr>
          <a:xfrm rot="10354800">
            <a:off x="2482560" y="3342960"/>
            <a:ext cx="93492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право 16"/>
          <p:cNvSpPr/>
          <p:nvPr/>
        </p:nvSpPr>
        <p:spPr>
          <a:xfrm rot="7612200">
            <a:off x="2957760" y="4496400"/>
            <a:ext cx="142848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право 13"/>
          <p:cNvSpPr/>
          <p:nvPr/>
        </p:nvSpPr>
        <p:spPr>
          <a:xfrm rot="3246600">
            <a:off x="4721760" y="4523760"/>
            <a:ext cx="1358640" cy="6397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право 12"/>
          <p:cNvSpPr/>
          <p:nvPr/>
        </p:nvSpPr>
        <p:spPr>
          <a:xfrm rot="1347000">
            <a:off x="5571720" y="3481200"/>
            <a:ext cx="992160" cy="5648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право 10"/>
          <p:cNvSpPr/>
          <p:nvPr/>
        </p:nvSpPr>
        <p:spPr>
          <a:xfrm rot="19690200">
            <a:off x="5403600" y="2230200"/>
            <a:ext cx="1089000" cy="5983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11"/>
          <p:cNvSpPr/>
          <p:nvPr/>
        </p:nvSpPr>
        <p:spPr>
          <a:xfrm rot="16200000">
            <a:off x="4140000" y="1412640"/>
            <a:ext cx="936720" cy="647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3203640" y="2133720"/>
            <a:ext cx="2520720" cy="230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е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2627280" y="333360"/>
            <a:ext cx="38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0" y="1268280"/>
            <a:ext cx="88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участвуют в образовании вс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 и органоидов кле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мембрана 3"/>
          <p:cNvPicPr/>
          <p:nvPr/>
        </p:nvPicPr>
        <p:blipFill>
          <a:blip r:embed="rId1"/>
          <a:stretch/>
        </p:blipFill>
        <p:spPr>
          <a:xfrm>
            <a:off x="324000" y="2997360"/>
            <a:ext cx="3671640" cy="314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AutoShape 8"/>
          <p:cNvSpPr/>
          <p:nvPr/>
        </p:nvSpPr>
        <p:spPr>
          <a:xfrm>
            <a:off x="2987640" y="5589720"/>
            <a:ext cx="976320" cy="630000"/>
          </a:xfrm>
          <a:prstGeom prst="leftArrow">
            <a:avLst>
              <a:gd name="adj1" fmla="val 50000"/>
              <a:gd name="adj2" fmla="val 38743"/>
            </a:avLst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ногти"/>
          <p:cNvPicPr/>
          <p:nvPr/>
        </p:nvPicPr>
        <p:blipFill>
          <a:blip r:embed="rId2"/>
          <a:stretch/>
        </p:blipFill>
        <p:spPr>
          <a:xfrm>
            <a:off x="4284720" y="2997360"/>
            <a:ext cx="2085840" cy="311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3" name="Picture 12" descr="в"/>
          <p:cNvPicPr/>
          <p:nvPr/>
        </p:nvPicPr>
        <p:blipFill>
          <a:blip r:embed="rId3"/>
          <a:stretch/>
        </p:blipFill>
        <p:spPr>
          <a:xfrm>
            <a:off x="6572160" y="2997360"/>
            <a:ext cx="2386080" cy="30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4" name="Text Box 13"/>
          <p:cNvSpPr/>
          <p:nvPr/>
        </p:nvSpPr>
        <p:spPr>
          <a:xfrm>
            <a:off x="7022880" y="6021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р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5940000" y="5805000"/>
            <a:ext cx="129564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5"/>
          <p:cNvSpPr/>
          <p:nvPr/>
        </p:nvSpPr>
        <p:spPr>
          <a:xfrm flipV="1">
            <a:off x="7236000" y="5805000"/>
            <a:ext cx="28872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411280" y="333360"/>
            <a:ext cx="439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али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12840" y="1413000"/>
            <a:ext cx="87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каждой клетке имеются сотни фер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могают осуществлять биохим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,   действуя     как    катализатор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30254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556000" y="333360"/>
            <a:ext cx="34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68360" y="119700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  связывают   и   перенос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   вещества и  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и,   и   по  всему  организ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кровь 2"/>
          <p:cNvPicPr/>
          <p:nvPr/>
        </p:nvPicPr>
        <p:blipFill>
          <a:blip r:embed="rId1"/>
          <a:stretch/>
        </p:blipFill>
        <p:spPr>
          <a:xfrm>
            <a:off x="1403280" y="3500280"/>
            <a:ext cx="2303640" cy="28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3" name="Rectangle 8"/>
          <p:cNvSpPr/>
          <p:nvPr/>
        </p:nvSpPr>
        <p:spPr>
          <a:xfrm>
            <a:off x="5003640" y="4221000"/>
            <a:ext cx="3745080" cy="1130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 г е м о г л о б и 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рови   переносит    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rot="10800000">
            <a:off x="4427280" y="450864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2627280" y="404640"/>
            <a:ext cx="36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0" y="4292640"/>
            <a:ext cx="4427640" cy="863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79280" y="119700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   гормоны    регулир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  физиолог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643280" y="4365720"/>
            <a:ext cx="4079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сулин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регулир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ровень    углеводов    в    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модель инсулина"/>
          <p:cNvPicPr/>
          <p:nvPr/>
        </p:nvPicPr>
        <p:blipFill>
          <a:blip r:embed="rId1"/>
          <a:stretch/>
        </p:blipFill>
        <p:spPr>
          <a:xfrm>
            <a:off x="250920" y="3357720"/>
            <a:ext cx="3816360" cy="29476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 rot="10800000">
            <a:off x="4066920" y="450864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0"/>
          <p:cNvSpPr/>
          <p:nvPr/>
        </p:nvSpPr>
        <p:spPr>
          <a:xfrm>
            <a:off x="2340000" y="44388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6732720" y="4076640"/>
            <a:ext cx="2071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256860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3"/>
          <p:cNvSpPr/>
          <p:nvPr/>
        </p:nvSpPr>
        <p:spPr>
          <a:xfrm>
            <a:off x="2568600" y="328608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670120" y="34020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643120" y="42354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мино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573440" y="628164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6688080" y="482436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5"/>
          <p:cNvSpPr/>
          <p:nvPr/>
        </p:nvSpPr>
        <p:spPr>
          <a:xfrm>
            <a:off x="2355840" y="2579760"/>
            <a:ext cx="3240" cy="18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3203640" y="476280"/>
            <a:ext cx="275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и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свертывание крови"/>
          <p:cNvPicPr/>
          <p:nvPr/>
        </p:nvPicPr>
        <p:blipFill>
          <a:blip r:embed="rId1"/>
          <a:stretch/>
        </p:blipFill>
        <p:spPr>
          <a:xfrm>
            <a:off x="755640" y="4508640"/>
            <a:ext cx="2952720" cy="209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3" name="Picture 7" descr="антитела 2"/>
          <p:cNvPicPr/>
          <p:nvPr/>
        </p:nvPicPr>
        <p:blipFill>
          <a:blip r:embed="rId2"/>
          <a:stretch/>
        </p:blipFill>
        <p:spPr>
          <a:xfrm>
            <a:off x="5364000" y="2997360"/>
            <a:ext cx="266400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4" name="AutoShape 11"/>
          <p:cNvSpPr/>
          <p:nvPr/>
        </p:nvSpPr>
        <p:spPr>
          <a:xfrm rot="10800000">
            <a:off x="3779640" y="573408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21309600">
            <a:off x="4788000" y="3573000"/>
            <a:ext cx="431640" cy="559080"/>
          </a:xfrm>
          <a:custGeom>
            <a:avLst/>
            <a:gdLst>
              <a:gd name="textAreaLeft" fmla="*/ 0 w 431640"/>
              <a:gd name="textAreaRight" fmla="*/ 432000 w 43164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211640" y="5589720"/>
            <a:ext cx="4788000" cy="863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фибриноген и протром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еспечивают свертываемость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50920" y="3357720"/>
            <a:ext cx="424800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нтитела  блокируют чуже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160200" y="1268280"/>
            <a:ext cx="86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едохраняют    организм   от   втор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ужеродных организмов и от пов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340000" y="404640"/>
            <a:ext cx="443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рат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55640" y="12013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сокращ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ых волок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мышцы"/>
          <p:cNvPicPr/>
          <p:nvPr/>
        </p:nvPicPr>
        <p:blipFill>
          <a:blip r:embed="rId1"/>
          <a:stretch/>
        </p:blipFill>
        <p:spPr>
          <a:xfrm>
            <a:off x="611280" y="2997360"/>
            <a:ext cx="3240000" cy="307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2" name="Picture 7" descr="миозин"/>
          <p:cNvPicPr/>
          <p:nvPr/>
        </p:nvPicPr>
        <p:blipFill>
          <a:blip r:embed="rId2"/>
          <a:stretch/>
        </p:blipFill>
        <p:spPr>
          <a:xfrm>
            <a:off x="4427640" y="3068640"/>
            <a:ext cx="388764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83" name="Rectangle 8"/>
          <p:cNvSpPr/>
          <p:nvPr/>
        </p:nvSpPr>
        <p:spPr>
          <a:xfrm>
            <a:off x="4500720" y="5732640"/>
            <a:ext cx="3816360" cy="647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572000" y="5877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ктин и миозин – белки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2627280" y="33336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908000" y="386064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г белка - 17.6 к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47840" y="1341360"/>
            <a:ext cx="80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ке углеводов или жи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яются молекулы аминокисл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314280" y="2708280"/>
            <a:ext cx="742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лном расщеплении белка до коне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ов   выделяется энерг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0" y="551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качестве источника энергии белки используются крайне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08000" y="115920"/>
          <a:ext cx="8929800" cy="6624720"/>
        </p:xfrm>
        <a:graphic>
          <a:graphicData uri="http://schemas.openxmlformats.org/drawingml/2006/table">
            <a:tbl>
              <a:tblPr/>
              <a:tblGrid>
                <a:gridCol w="2214360"/>
                <a:gridCol w="6715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f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функ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ffac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участвуют в образовании всех клеточных мембран и органоидов клетки, а также внеклеточных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функц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ся специальными сократительными  белками. Например, актин и миозин — специфические белки мышечной ткан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ается в присоединении химических элементов (например, гемоглобин присоединяет кислород) или биологически активных веществ (гормонов) и переносе их к различным органам и тканям тел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ступлении в организм чужеродных белков или микроорганизмов в  лейкоцитах образуются особые белки — антитела. Другой пример защитной функции: свёртывание белка плазмы крови фибриногена приводит к образованию сгустка крови, что предохраняет от потери крови при ранениях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ческ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служат одним из источников энергии в клетке. При полном расщеплении 1 грамма белка выделяется 17,6 кДж энерг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ающ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таким белкам относятся резервные белки, являющиеся источниками питания для развития плода. Например, белки яйца (яичный альбумин) и основной белок молока (казеин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мональ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в организме регулируется разнообразными механизмами. В этой регуляции важное место занимают гормоны, которые вырабатывают железы внутренней секре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итическ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часть химических реакций, протекающих в организме,  регулируется ферментами, т.е. катализатор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</a:tbl>
          </a:graphicData>
        </a:graphic>
      </p:graphicFrame>
      <p:sp>
        <p:nvSpPr>
          <p:cNvPr id="291" name="TextBox 5"/>
          <p:cNvSpPr/>
          <p:nvPr/>
        </p:nvSpPr>
        <p:spPr>
          <a:xfrm>
            <a:off x="214200" y="6480"/>
            <a:ext cx="8643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ерновые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ибы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рах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индаль, кешью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уриное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чевица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чень,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ис, чечевица, оре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шеница, орех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 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бы, фасоль, чечевица и с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они́н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умеренных количествах в орех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офан – овес, бананы, сушёные финики, арахис, кунжут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, твор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урица, индейка,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алани́н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говядина, куриное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евые бобы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ог, молок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706760" y="127080"/>
            <a:ext cx="620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заменимые аминокислоты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539640" y="1341360"/>
            <a:ext cx="8353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 –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–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6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2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7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6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–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3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87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7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8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304640" y="254160"/>
            <a:ext cx="57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ЕНИЕ АМИНО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минокис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функцио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64240" y="5084640"/>
            <a:ext cx="19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Амино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200640" y="510696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рб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428920" y="508464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Радикал ( они 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всех аминокисл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25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ичная 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следовательность аминокислот в полипептидной цеп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08010502"/>
          <p:cNvPicPr/>
          <p:nvPr/>
        </p:nvPicPr>
        <p:blipFill>
          <a:blip r:embed="rId1"/>
          <a:stretch/>
        </p:blipFill>
        <p:spPr>
          <a:xfrm>
            <a:off x="586728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ичная 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Копия 08010502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ичная структура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странственное строение полипептидной цепи — взаимное расположение элементов вторичной структуры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Копия 08010502"/>
          <p:cNvPicPr/>
          <p:nvPr/>
        </p:nvPicPr>
        <p:blipFill>
          <a:blip r:embed="rId1"/>
          <a:stretch/>
        </p:blipFill>
        <p:spPr>
          <a:xfrm>
            <a:off x="324000" y="40464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140360" y="620280"/>
            <a:ext cx="483552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тверичная структур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08010502"/>
          <p:cNvPicPr/>
          <p:nvPr/>
        </p:nvPicPr>
        <p:blipFill>
          <a:blip r:embed="rId1"/>
          <a:stretch/>
        </p:blipFill>
        <p:spPr>
          <a:xfrm>
            <a:off x="250920" y="69228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лянухин</cp:lastModifiedBy>
  <dcterms:modified xsi:type="dcterms:W3CDTF">2021-06-26T12:20:42Z</dcterms:modified>
  <cp:revision>63</cp:revision>
  <dc:subject/>
  <dc:title>PowerPoint Presentation</dc:title>
</cp:coreProperties>
</file>