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BB37-BF91-4BFA-A078-E9F84617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04E-24D7-4305-A4EC-0952B2CE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B98-77F5-446B-A955-36800B80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548-8A6D-42D4-8C58-767D0C23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366-368C-465C-8C63-0C328C60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BF7-B4FE-4ED1-87C1-F8866589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8D8-9E96-47FA-A471-9BDA603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E72-9DC6-457B-B0CB-A63F06B0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A3A-8D95-44BF-A947-6D64D5B2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646-6958-4BEA-9A62-E8B2A1E1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3CE-7443-4EA0-83DC-D1E66B9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BE9-03B5-443F-9552-6F205F5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E6AA-AACC-4359-BEF1-6AD63BD9FC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УРОК ПО ПЕДАГОГИК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923160" cy="45831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Задание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: сделать подборку сказок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ервая групп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делает подборку сказок, в которых воспитывается умение ценить настоящую дружбу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тора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подборку сказок, в которых воспитывается умение принимать людей такими какие они есть не судить по внешнему вид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третья группа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подборку сказок, в которых воспитывается умение взаимо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5472000" cy="3676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 группа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стимулирования: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ощрение,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оревн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добр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граж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каз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Задание: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определить  после просмотра видео – ролика какой метод воздействия применяетс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26240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4437000"/>
            <a:ext cx="84358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трицательную оценку и наказание нельзя использовать как обязательный метод воздействия. Воспитателю категорически запрещается использовать в качестве наказания лишение ребенка прогулки, приема пищи, сна; применять физические наказания; а также резкие отрицательные оценки, унижающие достоинство ребен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12980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4508640"/>
            <a:ext cx="822960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ощрение применяется в различных формах: похвала, одобрение, положительная оценка, благодарность, награждение и др. Способы выражения ее различны: слово, взгляд, жест, мимика, прикосновение, улыбка и другие.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400720" cy="4054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96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41840" y="259920"/>
            <a:ext cx="266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66ff"/>
                </a:solidFill>
                <a:latin typeface="Monotype Corsiva"/>
                <a:ea typeface="Times New Roman"/>
              </a:rPr>
              <a:t>Речевые «формулы» оцениван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79280" y="549360"/>
          <a:ext cx="8713800" cy="6116400"/>
        </p:xfrm>
        <a:graphic>
          <a:graphicData uri="http://schemas.openxmlformats.org/drawingml/2006/table">
            <a:tbl>
              <a:tblPr/>
              <a:tblGrid>
                <a:gridCol w="459000"/>
                <a:gridCol w="5240160"/>
                <a:gridCol w="3014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Кому адресова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Похвал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Порицание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Всем вместе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орадовали меня (результатами, поведением и т.д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Поработали от души, но хотелось бы (кто-то) был поактивнее. Но как вы думаете, кто был самым активным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ие молодцы! (Если 100% успех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росто герои (победители)! Такие целеустремленные…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ы сегодня показали, какие вы доброжелательные… (при оценивании коллективной деятельности) Я горжусь вами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У вас хорошо получаетс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Замечательно! Мне нравится ваша реакция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понравилось, как вы справились с заданием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ам благодарна за ваше настроени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Сегодня мы с вами сделали очень много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ша работа сегодня была очень полезной. Как вы думаете в чем (чем)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огие из вас работали  хорошо. Как вы думаете, кому постараться (доделать, переделать) эту работу в следующий раз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нравиться, как вы сегодня работали, а что понравилось вам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считаете, что нам удалось лучше всег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аш поступок привел меня в восхищени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кажется, вы можете сделать лучше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абота была очень трудная (сложная), поэтому нам кое-что не удалось…. (но многое у нас получилось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огорчена тем, что плохо покушали (сильно кричали)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расстроилась из-за вашего поступка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я расстроилась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не ожидала такого вашего отношения 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рассчитывала на другой результат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сегодня не все участвовали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считаю, что вы умеете лучше. А что вам помешало? …. Погода? ….Плохое настроение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считаете, вы справились со своим заданием? Только честно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 сколько аккуратно (красиво, верно) вы справились со своим заданием? (указать критерии «на сколько»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ебята, а как вы думаете, для чего вы так поступили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вы думаете, почему мы мало сделали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Работа была очень трудная (сложная) поэтому нам кое-что не удалось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Мальчикам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Что у тебя не получилось сегодня на твой взгляд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герой дн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сегодня смело поступил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был очень отзывчив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совершил мужественный поступо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Замок из пластилина, который ты сделал, такой красивый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ижу, что ты сам…. (сделал какие то действия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егодня не позволил обидеть девочку. Ты показал, что ты хороший и смелый мальчи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: герой,  рыцарь, защитник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тобой горжусь, ты сегодня 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думаю, в следующий раз у тебя обязательно получится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художник (поэт, строитель)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очень любознательный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капитан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ой же ты сегодня джентльмен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В чем бы ты мог сегодня быть смелее? И почему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считаю, что ты не очень хорошо себя вел (указать определенную ситуацию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А как ты считаешь, как надо было поступить в этом случае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огорчена, ведь я знаю что ты можешь вести себя по-другому…. (что ты можешь быть настоящим другом)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Мне кажется, твой поступок не очень красив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можешь сделать лучше, когда захочешь (когда стараешься)…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Девочкам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у меня умничка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хозяюшка. Как ты мне сегодня помогла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вой рассказ меня тронул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Я вижу, что ты сегодня (старалась….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у как? Тебе понравилось (что ты сделала)? Мне – очень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хорошо, что ты  помогла своей подруге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астоящая принцесса, красавица, звездочка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ая ты сегодня эмоциональна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сама это сделала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умница, ты сделала здорово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настоящий стилист (врач, учитель и т.д.)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воя скромность очень украшает тебя!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олнуешься напрасно, у тебя все получается….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У тебя сегодня настроение как у погоды! Нежное и солнечное…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Не переживай! В следующий раз получиться лучше! Что тебе нужно для этог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у меня самая лучшая помощница!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сегда такая опрятная…. Разве тебе не хочется исправить это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Ты всегда такая аккуратная, но что сегодня случилось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думаешь, ты сделала хорошее дело? (помогла своей подруге) А могла бы?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6ff66"/>
                          </a:solidFill>
                          <a:latin typeface="Times New Roman"/>
                          <a:ea typeface="Times New Roman"/>
                        </a:rPr>
                        <a:t>- Как ты думаешь, ты сделала хорошее дело? (бросила фантик на землю) А могла бы его не делать? А если тебе захочется в следующий раз так сделать, о чем ты подумаешь?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-366840" y="69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Принципы отбора методов нравственного воспитания: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соответствие метода цели и задачам воспит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гуманный характер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реальность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одготовленность условий и средств для использован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избирательность отбора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тактичность применен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ланирование возможного результата воздействия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терпение и терпимость педагога при использовании мет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 преобладающая практическая направленность метода в нравственном воспитании дошколь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66"/>
                </a:solidFill>
                <a:uFillTx/>
                <a:latin typeface="Arial"/>
              </a:rPr>
              <a:t>Методы нравственного воспитания дошкольников применяются не изолированно, а в комплексе, во взаимо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аниями для подбора методов, которые можно и целесообразно использовать в комплексе, служат ведущая воспитательная задача и возраст детей. (Например: объяснение + упражнения + поощрение и т. п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1 групп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поведения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пражн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уч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нуш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б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хва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ывающие ситуац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 действ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руководство деятельност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Arial"/>
              </a:rPr>
              <a:t>2 группа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сознания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объяс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увеще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внуш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убеждения в форме разъясн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осьб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этическая бесе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каз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ывающая ситуа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чтение художественной литератур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рассказыва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рассматривание и обсуждение карти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32560" cy="600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3 группа 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методы стимулирования: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поощрение,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оревнов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этическая бесе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одобр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упражн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гражд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наказ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66ff66"/>
                </a:solidFill>
                <a:latin typeface="Arial"/>
              </a:rPr>
              <a:t>повторение и обобщение  знания по теме «Нравственное воспитание» и ознакомление с «Методами нравственного воспита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Инструкция к домашнему заданию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спектировать классификации методов нравственного воспитания других авторов и повторить сегодняшнюю лекц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материал в учебнике С.А.Козлова, Т.А.Куликова Дошкольная педагогика, изд.центр «Академия», 2009 с.107-110 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ится на группы по 3 – 4 человека и подготовить педагогические ситуации с использованием методов нравствен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54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ff66"/>
                </a:solidFill>
                <a:latin typeface="Arial"/>
              </a:rPr>
              <a:t>повторение и обобщение  знания по теме «Нравственное воспитание» и ознакомление с «Методами нравственного воспита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Методы нравственного воспита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7400" cy="509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Методы воспитания-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то пути достижения заданной цели воспита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едагогике существует несколько подходов к классификации методов нравственного воспита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.К. Бабанский, Б.Т. Лихачев, И.П. Подласый - в общей и школьной педагогик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.Г. Нечаева, В.И. Логинова - в дошкольной педагог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Классификация В.И. Логиново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основана на активизации механизма нравственного воспитания,  объединяет все методы в три групп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1 групп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поведения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упражн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уч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ова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ывающие ситуац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каз действ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уководство деятельностью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Задание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определить какой метод воздействия использовался? Будет ли он действенным? Почему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24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2 группа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Arial"/>
              </a:rPr>
              <a:t>методы формирования нравственного сознания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объясн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увещев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внуш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беждения в форме разъяс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прось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этическая бесед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приме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чтение художественной литератур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ссказыва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ссматривание и обсуждение карт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2T13:01:10Z</dcterms:created>
  <dc:creator>WiZaRd</dc:creator>
  <dc:description/>
  <dc:language>en-US</dc:language>
  <cp:lastModifiedBy>WiZaRd</cp:lastModifiedBy>
  <dcterms:modified xsi:type="dcterms:W3CDTF">2017-03-24T05:03:55Z</dcterms:modified>
  <cp:revision>9</cp:revision>
  <dc:subject/>
  <dc:title>УРОК ПО ПЕДАГОГИКЕ</dc:title>
</cp:coreProperties>
</file>