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F5E-9C89-4871-AC99-2F4ACFB0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2D8-5F8B-40EC-A03F-09E4A717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C6F-DED8-4E6F-8AE2-3F8B2E30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4D8C-E642-4471-AA31-DDE5713D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CDD-AEE1-46BD-9F07-C175E568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781-DA77-4904-9F86-F6583BC6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B6A-382C-432E-903F-23A34455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6DA-0995-4FC9-A851-C244779A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3AE-66A9-4F42-A6B5-711707EF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128-1AB0-45F1-B79F-A14FC9EC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B95-2C14-4E3F-9E23-4F290C1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E7F-A40D-4D09-8A5F-915EFC02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2411-CEE9-429B-8F47-FD653F2EA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catherineasquithgallery.com/uploads/posts/2021-02/1612580547_93-p-foto-prirodi-zelenii-fon-179.jpg" TargetMode="External"/><Relationship Id="rId3" Type="http://schemas.openxmlformats.org/officeDocument/2006/relationships/hyperlink" Target="https://catherineasquithgallery.com/uploads/posts/2021-02/1612580547_93-p-foto-prirodi-zelenii-fon-179.jpg" TargetMode="External"/><Relationship Id="rId4" Type="http://schemas.openxmlformats.org/officeDocument/2006/relationships/hyperlink" Target="https://catherineasquithgallery.com/uploads/posts/2021-02/1612580547_93-p-foto-prirodi-zelenii-fon-179.jpg" TargetMode="External"/><Relationship Id="rId5" Type="http://schemas.openxmlformats.org/officeDocument/2006/relationships/hyperlink" Target="https://catherineasquithgallery.com/uploads/posts/2021-02/1612580547_93-p-foto-prirodi-zelenii-fon-179.jpg" TargetMode="External"/><Relationship Id="rId6" Type="http://schemas.openxmlformats.org/officeDocument/2006/relationships/hyperlink" Target="https://catherineasquithgallery.com/uploads/posts/2021-02/1612580547_93-p-foto-prirodi-zelenii-fon-179.jpg" TargetMode="External"/><Relationship Id="rId7" Type="http://schemas.openxmlformats.org/officeDocument/2006/relationships/hyperlink" Target="https://catherineasquithgallery.com/uploads/posts/2021-02/1612580547_93-p-foto-prirodi-zelenii-fon-179.jpg" TargetMode="External"/><Relationship Id="rId8" Type="http://schemas.openxmlformats.org/officeDocument/2006/relationships/hyperlink" Target="https://catherineasquithgallery.com/uploads/posts/2021-02/1612580547_93-p-foto-prirodi-zelenii-fon-179.jpg" TargetMode="External"/><Relationship Id="rId9" Type="http://schemas.openxmlformats.org/officeDocument/2006/relationships/hyperlink" Target="https://catherineasquithgallery.com/uploads/posts/2021-02/1612580547_93-p-foto-prirodi-zelenii-fon-179.jpg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1981080"/>
            <a:ext cx="5181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евец русской природы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к 150-летию  М. Пришв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90760" y="5638680"/>
            <a:ext cx="480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енкова О.К. педагог-библиотекар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БОУ СОШ «ЦО» пос. Варламо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.р. Сызранский Самар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581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Годы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57146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февраля 1873 – 16 января 1954 г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095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04960" y="274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Пам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006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сть писателя назв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тероид (9539) Пришвин, открытый астрономом Людмилой Карачкиной в Крымской Астрофизической Обсерватории 21 октября 1982 г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к Пришвина (43°46 с. ш. 40°15 в. д.) высотой 2782 м в отрогах Главного Кавказского хребта и близлежащее горное озер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с Пришвина на восточной оконечности острова Итуруп в Курильской гря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лицы Пришвина в Донецке, Киеве, Липецке, Москве и Ор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Памятни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февраля 2015 года, в день рождения писателя, в парке «Скитские пруды» города Сергиев Посад был открыт посвящённый ему памят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572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Ресурсы интер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therineasquithgallery.com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pload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ost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2021-02/1612580547_93-p-foto-prirodi-zelenii-fon-17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ф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sun9-83.userapi.ce=album   фото Пришв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s://fsd.kopilkaurokov.ru/uploads/user_file_55530e953555a/img_user_file_55530e953555a_0_3.jpg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prezentacii.org/upload/cloud/18/08/69096/images/screen6.jpg  в дет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mypresentation.ru/documents_6/0b455d11d1c64efe67f5fd14bf746310/img3.jpg  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fs.znanio.ru/d5af0e/91/0e/356894c44cfff8eebbae0fb527d7f17c4b.jpg  фото 19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ic.pics.livejournal.com/abc1918/15461330/53014/53014_original.jpg военный корреспонд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cdn1.ozone.ru/multimedia/1017430986.jpg  календарь прир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s1.slide-share.ru/s_slide/8495b298889e20b4102551e604559da1/814a0053-2160-4a0e-82d0-1910bec38f0c.jpeg  кни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городокмастеров.рф/wa-data/public/shop/products/40/84/48440/images/311661/311661.750.jpg   лисичкин хле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audiobookz.ru/wp-content/uploads/2021/09/kniga-Prishvina-YOzh.jpg е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beauty.mypartnershop.ru/pictures/1012148413.jpg  о живо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orenburgkniga.ru/wp-content/uploads/a/1/c/a1c9dca43502f585b4dda4976458f235.jpeg про пт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orenburgkniga.ru/wp-content/uploads/2/3/b/23bbcecfc8d3d79c2d63a07573dacf84.jpeg  с деть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www.novochag.ru/upload/img_cache/6d6/6d6b60af98b195687fc75febde146b3c_ce_615x425x25x0_cropped_1332x888.jpg  фото Пришв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gfhome.ru/sites/default/files/ckeditor/images/_MG_2074.JPG  пик пришв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img.tourister.ru/files/2/7/5/0/1/1/7/1/original.jpg  памя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Детств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3 января (4 февраля) 1873 года в Елецком уезде Орловской губернии (сейчас Липецкая область), в фамильном имении Хрущёво-Лёвшино. Был младшим из пят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46483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9000" y="3805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Гимназ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83 году он был переведён в первый класс Елецкой классической гимназии. Доучился  только до четвёртого класса и был отчислен из гимназии «за дерзость учителю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066680" y="1447920"/>
            <a:ext cx="2909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Образов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449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жал  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Рижском политехникуме,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0—1902 годах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рономическом отде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йпцигского университ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чего получил дип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женера-землеустро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1905 год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рономом, напис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колько книг и статей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рономии — «Картофель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ородной и пол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льтуре»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419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52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Первый расс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рассказ Приш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ашок» был напечатан в 1906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борнике «Родник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лечение этнографие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льклором привело к ре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овать по сев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релия, Норвегия), записы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зы, передавая их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ной форме путе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рков (книги «В кр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уганых птиц», 1907; «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шебным колобком», 1908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 известным в литератур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09480" y="1828800"/>
            <a:ext cx="343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оенный корреспонд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ды Пер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овой войны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е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респонден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чатая свои очерк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ичных газ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355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«Календарь природ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19360" y="1904760"/>
            <a:ext cx="4190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Октябрьской 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оторое время учительство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моленщ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стное увлечение охото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еведением отразилос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санной в 1920-е с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хотничьих и детских рассказ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е впоследствии вошли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нигу «Календарь природы» (193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лавившую его как пев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ей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ачале 1930-х побывал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м Востоке, 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явилась книга «Дорогие звер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17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6672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ассказы о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66720" y="1143000"/>
            <a:ext cx="4876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 произведения Пришв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вящены опис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печатлений от встреч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родой, ее обита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ания  эти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ычайной красотой русского язы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3504960" cy="305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1828800" cy="27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514600" y="3886200"/>
            <a:ext cx="19954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648320" y="3886200"/>
            <a:ext cx="186696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705720" y="3886200"/>
            <a:ext cx="1973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95280" y="49528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хаил Пришвин – автор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26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книг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523880" y="457200"/>
            <a:ext cx="62485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7T04:49:32Z</dcterms:created>
  <dc:creator>Лисенкова Ольга</dc:creator>
  <dc:description/>
  <dc:language>en-US</dc:language>
  <cp:lastModifiedBy>Hewlett-Packard Company</cp:lastModifiedBy>
  <dcterms:modified xsi:type="dcterms:W3CDTF">2023-02-07T06:34:0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