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7C9-CF05-4DCF-9DD3-F241F777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26C-569B-426F-B44E-F1E69CE4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03D-2E72-49CD-ACCC-326855BD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4E3-99AC-43EA-9442-94B5C65A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4A2-F8EF-4D70-BA02-01149759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10B-1D88-4704-906B-DEADBDA0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437-6A59-4247-9AA5-A258A44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951-6836-4105-9F5B-61114E2A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99C-12F3-4825-8331-0CFB0032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2B5-3B5B-4767-9913-BEB6F97E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ADD-07EC-4A70-8E19-A920CD0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5A1-B612-416A-B3C6-CB111BA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339-A6D1-45C6-A914-FF9B1B1CF9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1915920"/>
            <a:ext cx="6624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 Black"/>
              </a:rPr>
              <a:t>Funny 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4211640" y="5229360"/>
            <a:ext cx="4572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Автор: Петрова Е.Б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учитель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МБОУ СОШ№7  г.Серпух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1 Facts About Giraffes | DoSomething.org"/>
          <p:cNvPicPr/>
          <p:nvPr/>
        </p:nvPicPr>
        <p:blipFill>
          <a:blip r:embed="rId1"/>
          <a:stretch/>
        </p:blipFill>
        <p:spPr>
          <a:xfrm>
            <a:off x="250920" y="227160"/>
            <a:ext cx="2338200" cy="2336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2843280" y="33336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raf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anging Monkey Cartoon Free PNG Image｜Illustoon"/>
          <p:cNvPicPr/>
          <p:nvPr/>
        </p:nvPicPr>
        <p:blipFill>
          <a:blip r:embed="rId2"/>
          <a:stretch/>
        </p:blipFill>
        <p:spPr>
          <a:xfrm>
            <a:off x="6227640" y="71280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851280" y="1916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olphin Facts Quiz - Clearwater Marine Aquarium"/>
          <p:cNvPicPr/>
          <p:nvPr/>
        </p:nvPicPr>
        <p:blipFill>
          <a:blip r:embed="rId3"/>
          <a:stretch/>
        </p:blipFill>
        <p:spPr>
          <a:xfrm>
            <a:off x="181080" y="3429000"/>
            <a:ext cx="3236760" cy="2157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419640" y="36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Premium Vector | A seal cartoon isolated"/>
          <p:cNvPicPr/>
          <p:nvPr/>
        </p:nvPicPr>
        <p:blipFill>
          <a:blip r:embed="rId4"/>
          <a:stretch/>
        </p:blipFill>
        <p:spPr>
          <a:xfrm>
            <a:off x="5867280" y="375120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4067280" y="573264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155520" y="549360"/>
            <a:ext cx="2814840" cy="2101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71880" y="8780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z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6073920" y="907920"/>
            <a:ext cx="2790720" cy="279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3946680" y="266544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450720" y="2987640"/>
            <a:ext cx="2605320" cy="2549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1403280" y="573264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3922560" y="4108320"/>
            <a:ext cx="32004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4951440" y="573264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cod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65232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1382760" y="1700280"/>
            <a:ext cx="7761240" cy="438948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5"/>
          <p:cNvCxnSpPr/>
          <p:nvPr/>
        </p:nvCxnSpPr>
        <p:spPr>
          <a:xfrm>
            <a:off x="4355640" y="2133720"/>
            <a:ext cx="864360" cy="1583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066920" y="2708280"/>
            <a:ext cx="1152720" cy="505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4066920" y="3213000"/>
            <a:ext cx="1152720" cy="1224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7" name="Прямая со стрелкой 11"/>
          <p:cNvCxnSpPr/>
          <p:nvPr/>
        </p:nvCxnSpPr>
        <p:spPr>
          <a:xfrm flipV="1">
            <a:off x="4787640" y="2133360"/>
            <a:ext cx="432360" cy="1762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8" name="Прямая со стрелкой 13"/>
          <p:cNvCxnSpPr/>
          <p:nvPr/>
        </p:nvCxnSpPr>
        <p:spPr>
          <a:xfrm>
            <a:off x="3995640" y="4437000"/>
            <a:ext cx="1224720" cy="505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69" name="Рисунок 18" descr=""/>
          <p:cNvPicPr/>
          <p:nvPr/>
        </p:nvPicPr>
        <p:blipFill>
          <a:blip r:embed="rId2"/>
          <a:stretch/>
        </p:blipFill>
        <p:spPr>
          <a:xfrm>
            <a:off x="2433600" y="379440"/>
            <a:ext cx="4419720" cy="117792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2"/>
          <p:cNvCxnSpPr/>
          <p:nvPr/>
        </p:nvCxnSpPr>
        <p:spPr>
          <a:xfrm>
            <a:off x="4500720" y="5013000"/>
            <a:ext cx="762480" cy="577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4"/>
          <p:cNvCxnSpPr/>
          <p:nvPr/>
        </p:nvCxnSpPr>
        <p:spPr>
          <a:xfrm flipV="1">
            <a:off x="4211280" y="2707920"/>
            <a:ext cx="1152720" cy="2953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484360" y="549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908000" y="1197000"/>
            <a:ext cx="5472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о своем любимом животном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lives 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is (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likes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can…, but it ca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ow i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дминистратор 88</cp:lastModifiedBy>
  <dcterms:modified xsi:type="dcterms:W3CDTF">2023-02-02T04:40:20Z</dcterms:modified>
  <cp:revision>658</cp:revision>
  <dc:subject/>
  <dc:title>Diapositiva 1</dc:title>
</cp:coreProperties>
</file>