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C99-2EF5-4FA4-AC17-0229A294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BDB-CA16-43AB-8116-318AA17E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AE0-BF19-476B-A748-74FA6149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D37-7A60-4DCB-895D-0224EFA1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D53-5575-4097-9B22-D78FEE9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A94-E938-4FBD-A9FD-C117F95D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6121-1DA0-40AB-A5CE-76FC301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275-1529-44C2-9166-6835A9B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F2A-87A1-4C99-ADDF-7472952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6B6-5547-4039-A19F-F6985788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C57-4705-4892-B3A3-11B9259A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6FD-A0BA-4253-B99E-A19D8BD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9AB-8433-461B-9633-C2C54A97C7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1915920"/>
            <a:ext cx="6624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d2d8a"/>
                </a:solidFill>
                <a:latin typeface="Arial Black"/>
              </a:rPr>
              <a:t>Funny 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4211640" y="5229360"/>
            <a:ext cx="4572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Автор: Петрова Е.Б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учитель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Segoe UI"/>
              </a:rPr>
              <a:t>МБОУ СОШ№7  г.Серпух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1 Facts About Giraffes | DoSomething.org"/>
          <p:cNvPicPr/>
          <p:nvPr/>
        </p:nvPicPr>
        <p:blipFill>
          <a:blip r:embed="rId1"/>
          <a:stretch/>
        </p:blipFill>
        <p:spPr>
          <a:xfrm>
            <a:off x="250920" y="227160"/>
            <a:ext cx="2338200" cy="23367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2843280" y="33336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raf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anging Monkey Cartoon Free PNG Image｜Illustoon"/>
          <p:cNvPicPr/>
          <p:nvPr/>
        </p:nvPicPr>
        <p:blipFill>
          <a:blip r:embed="rId2"/>
          <a:stretch/>
        </p:blipFill>
        <p:spPr>
          <a:xfrm>
            <a:off x="6227640" y="71280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3851280" y="1916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Dolphin Facts Quiz - Clearwater Marine Aquarium"/>
          <p:cNvPicPr/>
          <p:nvPr/>
        </p:nvPicPr>
        <p:blipFill>
          <a:blip r:embed="rId3"/>
          <a:stretch/>
        </p:blipFill>
        <p:spPr>
          <a:xfrm>
            <a:off x="181080" y="3429000"/>
            <a:ext cx="3236760" cy="2157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3419640" y="36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ph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Premium Vector | A seal cartoon isolated"/>
          <p:cNvPicPr/>
          <p:nvPr/>
        </p:nvPicPr>
        <p:blipFill>
          <a:blip r:embed="rId4"/>
          <a:stretch/>
        </p:blipFill>
        <p:spPr>
          <a:xfrm>
            <a:off x="5867280" y="375120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4067280" y="5732640"/>
            <a:ext cx="165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155520" y="549360"/>
            <a:ext cx="2814840" cy="2101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71880" y="8780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z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6073920" y="907920"/>
            <a:ext cx="2790720" cy="27925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3946680" y="266544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450720" y="2987640"/>
            <a:ext cx="2605320" cy="2549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1403280" y="5732640"/>
            <a:ext cx="195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3922560" y="4108320"/>
            <a:ext cx="3200400" cy="1428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7"/>
          <p:cNvSpPr/>
          <p:nvPr/>
        </p:nvSpPr>
        <p:spPr>
          <a:xfrm>
            <a:off x="4951440" y="573264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cod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652320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1382760" y="1700280"/>
            <a:ext cx="7761240" cy="4389480"/>
          </a:xfrm>
          <a:prstGeom prst="rect">
            <a:avLst/>
          </a:prstGeom>
          <a:ln w="0">
            <a:noFill/>
          </a:ln>
        </p:spPr>
      </p:pic>
      <p:cxnSp>
        <p:nvCxnSpPr>
          <p:cNvPr id="64" name="Прямая со стрелкой 5"/>
          <p:cNvCxnSpPr/>
          <p:nvPr/>
        </p:nvCxnSpPr>
        <p:spPr>
          <a:xfrm>
            <a:off x="4355640" y="2133720"/>
            <a:ext cx="864360" cy="15832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5" name="Прямая со стрелкой 7"/>
          <p:cNvCxnSpPr/>
          <p:nvPr/>
        </p:nvCxnSpPr>
        <p:spPr>
          <a:xfrm>
            <a:off x="4066920" y="2708280"/>
            <a:ext cx="1152720" cy="505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4066920" y="3213000"/>
            <a:ext cx="1152720" cy="1224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7" name="Прямая со стрелкой 11"/>
          <p:cNvCxnSpPr/>
          <p:nvPr/>
        </p:nvCxnSpPr>
        <p:spPr>
          <a:xfrm flipV="1">
            <a:off x="4787640" y="2133360"/>
            <a:ext cx="432360" cy="1762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68" name="Прямая со стрелкой 13"/>
          <p:cNvCxnSpPr/>
          <p:nvPr/>
        </p:nvCxnSpPr>
        <p:spPr>
          <a:xfrm>
            <a:off x="3995640" y="4437000"/>
            <a:ext cx="1224720" cy="505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pic>
        <p:nvPicPr>
          <p:cNvPr id="69" name="Рисунок 18" descr=""/>
          <p:cNvPicPr/>
          <p:nvPr/>
        </p:nvPicPr>
        <p:blipFill>
          <a:blip r:embed="rId2"/>
          <a:stretch/>
        </p:blipFill>
        <p:spPr>
          <a:xfrm>
            <a:off x="2433600" y="379440"/>
            <a:ext cx="4419720" cy="1177920"/>
          </a:xfrm>
          <a:prstGeom prst="rect">
            <a:avLst/>
          </a:prstGeom>
          <a:ln w="0">
            <a:noFill/>
          </a:ln>
        </p:spPr>
      </p:pic>
      <p:cxnSp>
        <p:nvCxnSpPr>
          <p:cNvPr id="70" name="Прямая со стрелкой 2"/>
          <p:cNvCxnSpPr/>
          <p:nvPr/>
        </p:nvCxnSpPr>
        <p:spPr>
          <a:xfrm>
            <a:off x="4500720" y="5013000"/>
            <a:ext cx="762480" cy="577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71" name="Прямая со стрелкой 4"/>
          <p:cNvCxnSpPr/>
          <p:nvPr/>
        </p:nvCxnSpPr>
        <p:spPr>
          <a:xfrm flipV="1">
            <a:off x="4211280" y="2707920"/>
            <a:ext cx="1152720" cy="29534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2484360" y="54936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1908000" y="1197000"/>
            <a:ext cx="5472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о своем любимом животном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lives 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is (colo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likes to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t can…, but it ca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ow i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дминистратор 88</cp:lastModifiedBy>
  <dcterms:modified xsi:type="dcterms:W3CDTF">2023-02-02T04:40:20Z</dcterms:modified>
  <cp:revision>658</cp:revision>
  <dc:subject/>
  <dc:title>Diapositiva 1</dc:title>
</cp:coreProperties>
</file>