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A8B-6CF2-42B1-AE38-9BE8D4D8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0DE-2AFD-45B1-B2EE-EC890278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075-5262-47BF-9C58-1C053FC7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357-3647-47FC-9690-04B49669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ACE-2A61-4882-859B-121BC495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FF6-D05E-437E-AC08-C2184A0B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49B-5AA7-4084-B9DE-26DE4850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C99-62DE-4450-8E2E-4C343ABD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629-2D02-4D1E-934F-1F524BFF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F78-64C6-4C45-9147-0951FBDF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387-0992-488A-A67F-A2CF07C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ABE-D0B0-4E1D-8B85-F3DAA7B8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7E35-B0A8-4041-A118-5037C52EA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68400" y="777960"/>
            <a:ext cx="3510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8"/>
          <p:cNvSpPr/>
          <p:nvPr/>
        </p:nvSpPr>
        <p:spPr>
          <a:xfrm>
            <a:off x="858240" y="1794240"/>
            <a:ext cx="746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ЕКЦИЯ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НОФАЗНЫЙ ПЕРЕМЕННЫЙ 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Действующие и средние значения синусоидальных велич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214200" y="1098000"/>
            <a:ext cx="8715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синусоидальных токах, напряжениях и ЭДС судят по их среднеквадратичным знач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синусоидальный 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квадратичное значение такого тока рав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: В Электротехнике среднеквадратичные значения тока, напряжения, ЭДС называется действующ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действующим значением переменного тока понимается такое значение постоянного тока, которое по тепловому действию за период эквивалентно переме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"/>
              <p:cNvSpPr txBox="1"/>
              <p:nvPr/>
            </p:nvSpPr>
            <p:spPr>
              <a:xfrm>
                <a:off x="2685960" y="2130480"/>
                <a:ext cx="16002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690560" y="3500280"/>
                <a:ext cx="59295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ω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Группа 24"/>
          <p:cNvGrpSpPr/>
          <p:nvPr/>
        </p:nvGrpSpPr>
        <p:grpSpPr>
          <a:xfrm>
            <a:off x="84240" y="357120"/>
            <a:ext cx="8916840" cy="4415040"/>
            <a:chOff x="84240" y="357120"/>
            <a:chExt cx="8916840" cy="4415040"/>
          </a:xfrm>
        </p:grpSpPr>
        <p:sp>
          <p:nvSpPr>
            <p:cNvPr id="219" name="Text Box 3"/>
            <p:cNvSpPr/>
            <p:nvPr/>
          </p:nvSpPr>
          <p:spPr>
            <a:xfrm>
              <a:off x="7961760" y="2253240"/>
              <a:ext cx="10393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Calibri"/>
                </a:rPr>
                <a:t>ω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"/>
            <p:cNvSpPr/>
            <p:nvPr/>
          </p:nvSpPr>
          <p:spPr>
            <a:xfrm>
              <a:off x="696960" y="477360"/>
              <a:ext cx="0" cy="429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 flipH="1">
              <a:off x="330120" y="2512080"/>
              <a:ext cx="867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707760" y="895680"/>
              <a:ext cx="2423880" cy="1612080"/>
            </a:xfrm>
            <a:custGeom>
              <a:avLst/>
              <a:gdLst>
                <a:gd name="textAreaLeft" fmla="*/ 0 w 2423880"/>
                <a:gd name="textAreaRight" fmla="*/ 2424240 w 2423880"/>
                <a:gd name="textAreaTop" fmla="*/ 0 h 1612080"/>
                <a:gd name="textAreaBottom" fmla="*/ 1612440 h 161208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571320" y="357120"/>
              <a:ext cx="5724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8348400" y="1936440"/>
              <a:ext cx="62352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 flipV="1">
              <a:off x="3132000" y="2507760"/>
              <a:ext cx="2423880" cy="1612080"/>
            </a:xfrm>
            <a:custGeom>
              <a:avLst/>
              <a:gdLst>
                <a:gd name="textAreaLeft" fmla="*/ 0 w 2423880"/>
                <a:gd name="textAreaRight" fmla="*/ 2424240 w 2423880"/>
                <a:gd name="textAreaTop" fmla="*/ 360 h 1612080"/>
                <a:gd name="textAreaBottom" fmla="*/ 1612800 h 161208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555880" y="895680"/>
              <a:ext cx="2423880" cy="1612080"/>
            </a:xfrm>
            <a:custGeom>
              <a:avLst/>
              <a:gdLst>
                <a:gd name="textAreaLeft" fmla="*/ 0 w 2423880"/>
                <a:gd name="textAreaRight" fmla="*/ 2424240 w 2423880"/>
                <a:gd name="textAreaTop" fmla="*/ 0 h 1612080"/>
                <a:gd name="textAreaBottom" fmla="*/ 1612440 h 161208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>
              <a:off x="6757920" y="895680"/>
              <a:ext cx="0" cy="161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6575400" y="1782000"/>
              <a:ext cx="10958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2508120" y="2512080"/>
              <a:ext cx="62352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4760640" y="2502360"/>
              <a:ext cx="62352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2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 flipH="1">
              <a:off x="5535360" y="2513520"/>
              <a:ext cx="19800" cy="20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6"/>
            <p:cNvSpPr/>
            <p:nvPr/>
          </p:nvSpPr>
          <p:spPr>
            <a:xfrm>
              <a:off x="84240" y="2502360"/>
              <a:ext cx="62352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753480" y="4447800"/>
              <a:ext cx="483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8"/>
            <p:cNvSpPr/>
            <p:nvPr/>
          </p:nvSpPr>
          <p:spPr>
            <a:xfrm>
              <a:off x="2104920" y="3963960"/>
              <a:ext cx="7275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Calibri"/>
                </a:rPr>
                <a:t>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8134920" y="2588760"/>
              <a:ext cx="7275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>
              <a:off x="707760" y="1479960"/>
              <a:ext cx="6965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1"/>
            <p:cNvSpPr/>
            <p:nvPr/>
          </p:nvSpPr>
          <p:spPr>
            <a:xfrm>
              <a:off x="3618720" y="1492560"/>
              <a:ext cx="0" cy="10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2"/>
            <p:cNvSpPr/>
            <p:nvPr/>
          </p:nvSpPr>
          <p:spPr>
            <a:xfrm>
              <a:off x="3722760" y="1454400"/>
              <a:ext cx="160668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78"/>
          <p:cNvSpPr/>
          <p:nvPr/>
        </p:nvSpPr>
        <p:spPr>
          <a:xfrm>
            <a:off x="2397600" y="3574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Действующее зна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3668760" y="3059280"/>
            <a:ext cx="10969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/1,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6"/>
              <p:cNvSpPr txBox="1"/>
              <p:nvPr/>
            </p:nvSpPr>
            <p:spPr>
              <a:xfrm>
                <a:off x="2514600" y="5143680"/>
                <a:ext cx="2492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5"/>
              <p:cNvSpPr txBox="1"/>
              <p:nvPr/>
            </p:nvSpPr>
            <p:spPr>
              <a:xfrm>
                <a:off x="1500120" y="6143760"/>
                <a:ext cx="2190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27"/>
          <p:cNvSpPr/>
          <p:nvPr/>
        </p:nvSpPr>
        <p:spPr>
          <a:xfrm>
            <a:off x="500040" y="4712760"/>
            <a:ext cx="835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огично действующие 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яже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С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285840" y="23292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О: Электроизмерительные приборы отградуированы в действующих значениях переменного т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анализе электровыпрямительных установок используются средние зна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им синусоидальную ЭД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ее значение такой ЭДС рав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"/>
              <p:cNvSpPr txBox="1"/>
              <p:nvPr/>
            </p:nvSpPr>
            <p:spPr>
              <a:xfrm>
                <a:off x="3405240" y="2928960"/>
                <a:ext cx="1971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50880" y="4110120"/>
                <a:ext cx="64501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,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еdt</m:t>
                        </m:r>
                        <m:r>
                          <m:t xml:space="preserve">=</m:t>
                        </m:r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,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2671920" y="5880240"/>
                <a:ext cx="4829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Прямоугольник 8"/>
          <p:cNvSpPr/>
          <p:nvPr/>
        </p:nvSpPr>
        <p:spPr>
          <a:xfrm>
            <a:off x="1571760" y="545796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е значение переменных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2173320" y="2000160"/>
            <a:ext cx="5398560" cy="3716280"/>
            <a:chOff x="2173320" y="2000160"/>
            <a:chExt cx="5398560" cy="3716280"/>
          </a:xfrm>
        </p:grpSpPr>
        <p:sp>
          <p:nvSpPr>
            <p:cNvPr id="253" name="Oval 3"/>
            <p:cNvSpPr/>
            <p:nvPr/>
          </p:nvSpPr>
          <p:spPr>
            <a:xfrm>
              <a:off x="2943720" y="3115800"/>
              <a:ext cx="2178000" cy="2163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"/>
            <p:cNvSpPr/>
            <p:nvPr/>
          </p:nvSpPr>
          <p:spPr>
            <a:xfrm>
              <a:off x="3273480" y="3420720"/>
              <a:ext cx="1541520" cy="1530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2502720" y="2656080"/>
              <a:ext cx="3082320" cy="306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 flipV="1">
              <a:off x="4815000" y="4186080"/>
              <a:ext cx="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3273480" y="3420720"/>
              <a:ext cx="1541520" cy="1530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8"/>
            <p:cNvSpPr/>
            <p:nvPr/>
          </p:nvSpPr>
          <p:spPr>
            <a:xfrm flipV="1">
              <a:off x="4815000" y="4186080"/>
              <a:ext cx="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9"/>
            <p:cNvSpPr/>
            <p:nvPr/>
          </p:nvSpPr>
          <p:spPr>
            <a:xfrm flipH="1" flipV="1">
              <a:off x="5474520" y="3748320"/>
              <a:ext cx="11052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0"/>
            <p:cNvSpPr/>
            <p:nvPr/>
          </p:nvSpPr>
          <p:spPr>
            <a:xfrm flipV="1">
              <a:off x="3714120" y="3748680"/>
              <a:ext cx="660240" cy="7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1"/>
            <p:cNvSpPr/>
            <p:nvPr/>
          </p:nvSpPr>
          <p:spPr>
            <a:xfrm flipH="1" flipV="1">
              <a:off x="3714120" y="3748680"/>
              <a:ext cx="660240" cy="7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2"/>
            <p:cNvSpPr/>
            <p:nvPr/>
          </p:nvSpPr>
          <p:spPr>
            <a:xfrm>
              <a:off x="6141240" y="2553840"/>
              <a:ext cx="14306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alibri"/>
                </a:rPr>
                <a:t>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 flipH="1">
              <a:off x="5144760" y="2874960"/>
              <a:ext cx="77040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4"/>
            <p:cNvSpPr/>
            <p:nvPr/>
          </p:nvSpPr>
          <p:spPr>
            <a:xfrm flipV="1">
              <a:off x="4815000" y="3092760"/>
              <a:ext cx="1209960" cy="8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5"/>
            <p:cNvSpPr/>
            <p:nvPr/>
          </p:nvSpPr>
          <p:spPr>
            <a:xfrm>
              <a:off x="2173320" y="2000160"/>
              <a:ext cx="88596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i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6"/>
            <p:cNvSpPr/>
            <p:nvPr/>
          </p:nvSpPr>
          <p:spPr>
            <a:xfrm>
              <a:off x="2613600" y="2656080"/>
              <a:ext cx="1540800" cy="13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5585400" y="4864680"/>
              <a:ext cx="143064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alibri"/>
                </a:rPr>
                <a:t>Провод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8"/>
            <p:cNvSpPr/>
            <p:nvPr/>
          </p:nvSpPr>
          <p:spPr>
            <a:xfrm>
              <a:off x="5028840" y="4514400"/>
              <a:ext cx="556200" cy="5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78"/>
          <p:cNvSpPr/>
          <p:nvPr/>
        </p:nvSpPr>
        <p:spPr>
          <a:xfrm>
            <a:off x="2586240" y="1100520"/>
            <a:ext cx="34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верхностный эффе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8"/>
          <p:cNvSpPr/>
          <p:nvPr/>
        </p:nvSpPr>
        <p:spPr>
          <a:xfrm>
            <a:off x="36360" y="2178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. Изображение синусоидальных величин с помощью вращающихся векто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7"/>
          <p:cNvSpPr/>
          <p:nvPr/>
        </p:nvSpPr>
        <p:spPr>
          <a:xfrm>
            <a:off x="214200" y="150912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анализе работы электрических цепей переменного тока приходится складывать синусоидальные функции времени одной и той же частоты, но имеющие разные амплитуды и начальные фазы. Это удобно выполнять если синусоидальные функции изображать вращающимися векто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нам задано мгновенное значение в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6"/>
              <p:cNvSpPr txBox="1"/>
              <p:nvPr/>
            </p:nvSpPr>
            <p:spPr>
              <a:xfrm>
                <a:off x="6572160" y="3048120"/>
                <a:ext cx="2392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Rectangle 48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285840" y="3508920"/>
            <a:ext cx="857232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им два момента времени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ава изобразим график синусоидальной ЭДС, слева – окружность, радиус которой ОА равен амплитудному значению ЭД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иус-Вектор ОА=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ращается с угловой скоростью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равной угловой частоте изменения ЭДС. Тогда в любой момент времени по радиус-вектору можно определить мгновенный значения ЭДС, которые будут равны проекции длины вектора на вертикальную ос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42920" y="285840"/>
            <a:ext cx="8875800" cy="3231720"/>
            <a:chOff x="142920" y="285840"/>
            <a:chExt cx="8875800" cy="3231720"/>
          </a:xfrm>
        </p:grpSpPr>
        <p:sp>
          <p:nvSpPr>
            <p:cNvPr id="276" name="Text Box 3"/>
            <p:cNvSpPr/>
            <p:nvPr/>
          </p:nvSpPr>
          <p:spPr>
            <a:xfrm>
              <a:off x="8443080" y="1569240"/>
              <a:ext cx="55692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ω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"/>
            <p:cNvSpPr/>
            <p:nvPr/>
          </p:nvSpPr>
          <p:spPr>
            <a:xfrm>
              <a:off x="4569120" y="556560"/>
              <a:ext cx="0" cy="29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 flipH="1">
              <a:off x="4372560" y="1959480"/>
              <a:ext cx="46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4543560" y="452880"/>
              <a:ext cx="3067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8668800" y="156240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8"/>
            <p:cNvSpPr/>
            <p:nvPr/>
          </p:nvSpPr>
          <p:spPr>
            <a:xfrm>
              <a:off x="6167880" y="201312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9"/>
            <p:cNvSpPr/>
            <p:nvPr/>
          </p:nvSpPr>
          <p:spPr>
            <a:xfrm>
              <a:off x="8340480" y="212472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2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0"/>
            <p:cNvSpPr/>
            <p:nvPr/>
          </p:nvSpPr>
          <p:spPr>
            <a:xfrm>
              <a:off x="4989240" y="1010160"/>
              <a:ext cx="0" cy="947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4240800" y="195264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8554680" y="2012400"/>
              <a:ext cx="38952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13"/>
            <p:cNvGrpSpPr/>
            <p:nvPr/>
          </p:nvGrpSpPr>
          <p:grpSpPr>
            <a:xfrm>
              <a:off x="4294440" y="848880"/>
              <a:ext cx="4203720" cy="2222640"/>
              <a:chOff x="4294440" y="848880"/>
              <a:chExt cx="4203720" cy="2222640"/>
            </a:xfrm>
          </p:grpSpPr>
          <p:sp>
            <p:nvSpPr>
              <p:cNvPr id="287" name="Freeform 14"/>
              <p:cNvSpPr/>
              <p:nvPr/>
            </p:nvSpPr>
            <p:spPr>
              <a:xfrm>
                <a:off x="4294440" y="848880"/>
                <a:ext cx="2102040" cy="1111680"/>
              </a:xfrm>
              <a:custGeom>
                <a:avLst/>
                <a:gdLst>
                  <a:gd name="textAreaLeft" fmla="*/ 0 w 2102040"/>
                  <a:gd name="textAreaRight" fmla="*/ 2102400 w 2102040"/>
                  <a:gd name="textAreaTop" fmla="*/ 0 h 1111680"/>
                  <a:gd name="textAreaBottom" fmla="*/ 1112040 h 111168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5"/>
              <p:cNvSpPr/>
              <p:nvPr/>
            </p:nvSpPr>
            <p:spPr>
              <a:xfrm flipV="1">
                <a:off x="6396480" y="1959840"/>
                <a:ext cx="2101680" cy="1111320"/>
              </a:xfrm>
              <a:custGeom>
                <a:avLst/>
                <a:gdLst>
                  <a:gd name="textAreaLeft" fmla="*/ 0 w 2101680"/>
                  <a:gd name="textAreaRight" fmla="*/ 2102040 w 2101680"/>
                  <a:gd name="textAreaTop" fmla="*/ -360 h 1111320"/>
                  <a:gd name="textAreaBottom" fmla="*/ 1111320 h 111132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Text Box 16"/>
            <p:cNvSpPr/>
            <p:nvPr/>
          </p:nvSpPr>
          <p:spPr>
            <a:xfrm>
              <a:off x="5045040" y="1288800"/>
              <a:ext cx="306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 flipH="1">
              <a:off x="4264920" y="1970280"/>
              <a:ext cx="10800" cy="144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8"/>
            <p:cNvSpPr/>
            <p:nvPr/>
          </p:nvSpPr>
          <p:spPr>
            <a:xfrm>
              <a:off x="4264920" y="2805840"/>
              <a:ext cx="27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9"/>
            <p:cNvSpPr/>
            <p:nvPr/>
          </p:nvSpPr>
          <p:spPr>
            <a:xfrm>
              <a:off x="4153680" y="2360520"/>
              <a:ext cx="4456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0"/>
            <p:cNvSpPr/>
            <p:nvPr/>
          </p:nvSpPr>
          <p:spPr>
            <a:xfrm>
              <a:off x="4599360" y="1511640"/>
              <a:ext cx="306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1"/>
            <p:cNvSpPr/>
            <p:nvPr/>
          </p:nvSpPr>
          <p:spPr>
            <a:xfrm>
              <a:off x="4590720" y="1456200"/>
              <a:ext cx="0" cy="50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2"/>
            <p:cNvSpPr/>
            <p:nvPr/>
          </p:nvSpPr>
          <p:spPr>
            <a:xfrm flipH="1">
              <a:off x="535320" y="1957680"/>
              <a:ext cx="25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3"/>
            <p:cNvSpPr/>
            <p:nvPr/>
          </p:nvSpPr>
          <p:spPr>
            <a:xfrm>
              <a:off x="1649880" y="564480"/>
              <a:ext cx="17280" cy="26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509400" y="837000"/>
              <a:ext cx="2283840" cy="2284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5"/>
            <p:cNvSpPr/>
            <p:nvPr/>
          </p:nvSpPr>
          <p:spPr>
            <a:xfrm>
              <a:off x="1591200" y="341280"/>
              <a:ext cx="3067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6"/>
            <p:cNvSpPr/>
            <p:nvPr/>
          </p:nvSpPr>
          <p:spPr>
            <a:xfrm>
              <a:off x="2983680" y="1623240"/>
              <a:ext cx="3067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7"/>
            <p:cNvSpPr/>
            <p:nvPr/>
          </p:nvSpPr>
          <p:spPr>
            <a:xfrm>
              <a:off x="1260000" y="201312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8"/>
            <p:cNvSpPr/>
            <p:nvPr/>
          </p:nvSpPr>
          <p:spPr>
            <a:xfrm flipH="1">
              <a:off x="2649600" y="1456200"/>
              <a:ext cx="1949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9"/>
            <p:cNvSpPr/>
            <p:nvPr/>
          </p:nvSpPr>
          <p:spPr>
            <a:xfrm flipH="1">
              <a:off x="2203560" y="1010160"/>
              <a:ext cx="2785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0"/>
            <p:cNvSpPr/>
            <p:nvPr/>
          </p:nvSpPr>
          <p:spPr>
            <a:xfrm flipV="1">
              <a:off x="1647000" y="1455840"/>
              <a:ext cx="1002600" cy="50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 flipV="1">
              <a:off x="1647000" y="954360"/>
              <a:ext cx="612720" cy="100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2"/>
            <p:cNvSpPr/>
            <p:nvPr/>
          </p:nvSpPr>
          <p:spPr>
            <a:xfrm flipV="1">
              <a:off x="1647000" y="1176840"/>
              <a:ext cx="1559520" cy="780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3"/>
            <p:cNvSpPr/>
            <p:nvPr/>
          </p:nvSpPr>
          <p:spPr>
            <a:xfrm flipV="1">
              <a:off x="1661400" y="619560"/>
              <a:ext cx="823680" cy="1305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2643840" y="1467720"/>
              <a:ext cx="0" cy="50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239200" y="1010160"/>
              <a:ext cx="0" cy="947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318400" y="1567440"/>
              <a:ext cx="306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7"/>
            <p:cNvSpPr/>
            <p:nvPr/>
          </p:nvSpPr>
          <p:spPr>
            <a:xfrm>
              <a:off x="1928520" y="1233000"/>
              <a:ext cx="306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4822200" y="2013120"/>
              <a:ext cx="6127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t=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151000" y="285840"/>
              <a:ext cx="6127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t=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816640" y="1010160"/>
              <a:ext cx="38988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2593800" y="106596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2039760" y="61992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rc 43"/>
            <p:cNvSpPr/>
            <p:nvPr/>
          </p:nvSpPr>
          <p:spPr>
            <a:xfrm flipH="1" rot="1218000">
              <a:off x="404640" y="1012320"/>
              <a:ext cx="775800" cy="577440"/>
            </a:xfrm>
            <a:custGeom>
              <a:avLst/>
              <a:gdLst>
                <a:gd name="textAreaLeft" fmla="*/ -360 w 775800"/>
                <a:gd name="textAreaRight" fmla="*/ 775800 w 77580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fill="none" w="21600" h="11752">
                  <a:moveTo>
                    <a:pt x="18123" y="-1"/>
                  </a:moveTo>
                  <a:cubicBezTo>
                    <a:pt x="20392" y="3499"/>
                    <a:pt x="21600" y="7581"/>
                    <a:pt x="21600" y="11752"/>
                  </a:cubicBezTo>
                </a:path>
                <a:path stroke="0" w="21600" h="11752">
                  <a:moveTo>
                    <a:pt x="18123" y="-1"/>
                  </a:moveTo>
                  <a:cubicBezTo>
                    <a:pt x="20392" y="3499"/>
                    <a:pt x="21600" y="7581"/>
                    <a:pt x="21600" y="11752"/>
                  </a:cubicBezTo>
                  <a:lnTo>
                    <a:pt x="0" y="117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142920" y="843120"/>
              <a:ext cx="3067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48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3"/>
              <p:cNvSpPr txBox="1"/>
              <p:nvPr/>
            </p:nvSpPr>
            <p:spPr>
              <a:xfrm>
                <a:off x="833400" y="3857760"/>
                <a:ext cx="50958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5"/>
              <p:cNvSpPr txBox="1"/>
              <p:nvPr/>
            </p:nvSpPr>
            <p:spPr>
              <a:xfrm>
                <a:off x="857160" y="4500720"/>
                <a:ext cx="7601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7"/>
          <p:cNvSpPr/>
          <p:nvPr/>
        </p:nvSpPr>
        <p:spPr>
          <a:xfrm>
            <a:off x="142920" y="543276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на синусоидальной функции времени вращающимся вектором позволяет перейти от алгебраического сложения функций к геометрическому сложению изображающих их ве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ОБРАЖЕНИЕ СИНУСОИДАЛЬНЫХ ФУНКЦИ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ПОМОЩЬЮ ВРАЩАЮЩИХСЯ ВЕК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243000" y="3573360"/>
            <a:ext cx="360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"/>
          <p:cNvSpPr/>
          <p:nvPr/>
        </p:nvSpPr>
        <p:spPr>
          <a:xfrm>
            <a:off x="2050920" y="1751040"/>
            <a:ext cx="0" cy="37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4284720" y="1557360"/>
            <a:ext cx="0" cy="36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2050920" y="1916280"/>
            <a:ext cx="5045040" cy="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 flipH="1">
            <a:off x="2050560" y="5229360"/>
            <a:ext cx="3883320" cy="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2"/>
          <p:cNvGrpSpPr/>
          <p:nvPr/>
        </p:nvGrpSpPr>
        <p:grpSpPr>
          <a:xfrm>
            <a:off x="4095720" y="1914480"/>
            <a:ext cx="3610080" cy="3306960"/>
            <a:chOff x="4095720" y="1914480"/>
            <a:chExt cx="3610080" cy="3306960"/>
          </a:xfrm>
        </p:grpSpPr>
        <p:sp>
          <p:nvSpPr>
            <p:cNvPr id="331" name="Freeform 13"/>
            <p:cNvSpPr/>
            <p:nvPr/>
          </p:nvSpPr>
          <p:spPr>
            <a:xfrm>
              <a:off x="4095720" y="1914480"/>
              <a:ext cx="1209600" cy="16574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762" h="1044">
                  <a:moveTo>
                    <a:pt x="0" y="1044"/>
                  </a:moveTo>
                  <a:cubicBezTo>
                    <a:pt x="128" y="522"/>
                    <a:pt x="257" y="0"/>
                    <a:pt x="384" y="0"/>
                  </a:cubicBezTo>
                  <a:cubicBezTo>
                    <a:pt x="511" y="0"/>
                    <a:pt x="636" y="522"/>
                    <a:pt x="762" y="104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 flipV="1">
              <a:off x="5297400" y="3564000"/>
              <a:ext cx="1209600" cy="16574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360 h 1657440"/>
                <a:gd name="textAreaBottom" fmla="*/ 1658160 h 1657440"/>
              </a:gdLst>
              <a:ahLst/>
              <a:rect l="textAreaLeft" t="textAreaTop" r="textAreaRight" b="textAreaBottom"/>
              <a:pathLst>
                <a:path w="762" h="1044">
                  <a:moveTo>
                    <a:pt x="0" y="1044"/>
                  </a:moveTo>
                  <a:cubicBezTo>
                    <a:pt x="128" y="522"/>
                    <a:pt x="257" y="0"/>
                    <a:pt x="384" y="0"/>
                  </a:cubicBezTo>
                  <a:cubicBezTo>
                    <a:pt x="511" y="0"/>
                    <a:pt x="636" y="522"/>
                    <a:pt x="762" y="104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6495840" y="1914480"/>
              <a:ext cx="1209960" cy="1657440"/>
            </a:xfrm>
            <a:custGeom>
              <a:avLst/>
              <a:gdLst>
                <a:gd name="textAreaLeft" fmla="*/ 0 w 1209960"/>
                <a:gd name="textAreaRight" fmla="*/ 1209960 w 120996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762" h="1044">
                  <a:moveTo>
                    <a:pt x="0" y="1044"/>
                  </a:moveTo>
                  <a:cubicBezTo>
                    <a:pt x="128" y="522"/>
                    <a:pt x="257" y="0"/>
                    <a:pt x="384" y="0"/>
                  </a:cubicBezTo>
                  <a:cubicBezTo>
                    <a:pt x="511" y="0"/>
                    <a:pt x="636" y="522"/>
                    <a:pt x="762" y="104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Line 16"/>
          <p:cNvSpPr/>
          <p:nvPr/>
        </p:nvSpPr>
        <p:spPr>
          <a:xfrm flipH="1">
            <a:off x="2048040" y="2324160"/>
            <a:ext cx="3047760" cy="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7"/>
          <p:cNvSpPr/>
          <p:nvPr/>
        </p:nvSpPr>
        <p:spPr>
          <a:xfrm flipH="1" flipV="1">
            <a:off x="2030040" y="4811760"/>
            <a:ext cx="4267080" cy="936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295880" y="2325600"/>
            <a:ext cx="3782880" cy="2505960"/>
            <a:chOff x="4295880" y="2325600"/>
            <a:chExt cx="3782880" cy="2505960"/>
          </a:xfrm>
        </p:grpSpPr>
        <p:grpSp>
          <p:nvGrpSpPr>
            <p:cNvPr id="337" name="Group 23"/>
            <p:cNvGrpSpPr/>
            <p:nvPr/>
          </p:nvGrpSpPr>
          <p:grpSpPr>
            <a:xfrm>
              <a:off x="4468680" y="2325600"/>
              <a:ext cx="3610080" cy="2505960"/>
              <a:chOff x="4468680" y="2325600"/>
              <a:chExt cx="3610080" cy="2505960"/>
            </a:xfrm>
          </p:grpSpPr>
          <p:sp>
            <p:nvSpPr>
              <p:cNvPr id="338" name="Freeform 24"/>
              <p:cNvSpPr/>
              <p:nvPr/>
            </p:nvSpPr>
            <p:spPr>
              <a:xfrm>
                <a:off x="4468680" y="2325600"/>
                <a:ext cx="1209600" cy="1256040"/>
              </a:xfrm>
              <a:custGeom>
                <a:avLst/>
                <a:gdLst>
                  <a:gd name="textAreaLeft" fmla="*/ 0 w 1209600"/>
                  <a:gd name="textAreaRight" fmla="*/ 1209960 w 1209600"/>
                  <a:gd name="textAreaTop" fmla="*/ 0 h 1256040"/>
                  <a:gd name="textAreaBottom" fmla="*/ 1256400 h 1256040"/>
                </a:gdLst>
                <a:ahLst/>
                <a:rect l="textAreaLeft" t="textAreaTop" r="textAreaRight" b="textAreaBottom"/>
                <a:pathLst>
                  <a:path w="762" h="1044">
                    <a:moveTo>
                      <a:pt x="0" y="1044"/>
                    </a:moveTo>
                    <a:cubicBezTo>
                      <a:pt x="128" y="522"/>
                      <a:pt x="257" y="0"/>
                      <a:pt x="384" y="0"/>
                    </a:cubicBezTo>
                    <a:cubicBezTo>
                      <a:pt x="511" y="0"/>
                      <a:pt x="636" y="522"/>
                      <a:pt x="762" y="104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5"/>
              <p:cNvSpPr/>
              <p:nvPr/>
            </p:nvSpPr>
            <p:spPr>
              <a:xfrm flipV="1">
                <a:off x="5670360" y="3575160"/>
                <a:ext cx="1209600" cy="1256040"/>
              </a:xfrm>
              <a:custGeom>
                <a:avLst/>
                <a:gdLst>
                  <a:gd name="textAreaLeft" fmla="*/ 0 w 1209600"/>
                  <a:gd name="textAreaRight" fmla="*/ 1209960 w 1209600"/>
                  <a:gd name="textAreaTop" fmla="*/ -360 h 1256040"/>
                  <a:gd name="textAreaBottom" fmla="*/ 1256040 h 1256040"/>
                </a:gdLst>
                <a:ahLst/>
                <a:rect l="textAreaLeft" t="textAreaTop" r="textAreaRight" b="textAreaBottom"/>
                <a:pathLst>
                  <a:path w="762" h="1044">
                    <a:moveTo>
                      <a:pt x="0" y="1044"/>
                    </a:moveTo>
                    <a:cubicBezTo>
                      <a:pt x="128" y="522"/>
                      <a:pt x="257" y="0"/>
                      <a:pt x="384" y="0"/>
                    </a:cubicBezTo>
                    <a:cubicBezTo>
                      <a:pt x="511" y="0"/>
                      <a:pt x="636" y="522"/>
                      <a:pt x="762" y="104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6"/>
              <p:cNvSpPr/>
              <p:nvPr/>
            </p:nvSpPr>
            <p:spPr>
              <a:xfrm>
                <a:off x="6868800" y="2325600"/>
                <a:ext cx="1209960" cy="1256040"/>
              </a:xfrm>
              <a:custGeom>
                <a:avLst/>
                <a:gdLst>
                  <a:gd name="textAreaLeft" fmla="*/ 0 w 1209960"/>
                  <a:gd name="textAreaRight" fmla="*/ 1209960 w 1209960"/>
                  <a:gd name="textAreaTop" fmla="*/ 0 h 1256040"/>
                  <a:gd name="textAreaBottom" fmla="*/ 1256400 h 1256040"/>
                </a:gdLst>
                <a:ahLst/>
                <a:rect l="textAreaLeft" t="textAreaTop" r="textAreaRight" b="textAreaBottom"/>
                <a:pathLst>
                  <a:path w="762" h="1044">
                    <a:moveTo>
                      <a:pt x="0" y="1044"/>
                    </a:moveTo>
                    <a:cubicBezTo>
                      <a:pt x="128" y="522"/>
                      <a:pt x="257" y="0"/>
                      <a:pt x="384" y="0"/>
                    </a:cubicBezTo>
                    <a:cubicBezTo>
                      <a:pt x="511" y="0"/>
                      <a:pt x="636" y="522"/>
                      <a:pt x="762" y="104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Line 27"/>
            <p:cNvSpPr/>
            <p:nvPr/>
          </p:nvSpPr>
          <p:spPr>
            <a:xfrm flipH="1">
              <a:off x="4295880" y="3591000"/>
              <a:ext cx="171360" cy="58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4218120" y="4116240"/>
            <a:ext cx="95040" cy="10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9"/>
          <p:cNvSpPr/>
          <p:nvPr/>
        </p:nvSpPr>
        <p:spPr>
          <a:xfrm flipH="1">
            <a:off x="3114360" y="4172040"/>
            <a:ext cx="3562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7"/>
          <p:cNvSpPr/>
          <p:nvPr/>
        </p:nvSpPr>
        <p:spPr>
          <a:xfrm>
            <a:off x="3759120" y="2644920"/>
            <a:ext cx="505080" cy="9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H="1">
            <a:off x="3486240" y="2809800"/>
            <a:ext cx="320976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4226040" y="2781360"/>
            <a:ext cx="95040" cy="1047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9"/>
          <p:cNvSpPr/>
          <p:nvPr/>
        </p:nvSpPr>
        <p:spPr>
          <a:xfrm>
            <a:off x="6694560" y="1874880"/>
            <a:ext cx="14475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4021200" y="3573360"/>
            <a:ext cx="44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0"/>
          <p:cNvSpPr/>
          <p:nvPr/>
        </p:nvSpPr>
        <p:spPr>
          <a:xfrm>
            <a:off x="6676920" y="1581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1"/>
          <p:cNvSpPr/>
          <p:nvPr/>
        </p:nvSpPr>
        <p:spPr>
          <a:xfrm>
            <a:off x="4276800" y="5248440"/>
            <a:ext cx="0" cy="47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4286160" y="5648400"/>
            <a:ext cx="23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5"/>
          <p:cNvGrpSpPr/>
          <p:nvPr/>
        </p:nvGrpSpPr>
        <p:grpSpPr>
          <a:xfrm>
            <a:off x="436680" y="1916280"/>
            <a:ext cx="3238560" cy="3295440"/>
            <a:chOff x="436680" y="1916280"/>
            <a:chExt cx="3238560" cy="3295440"/>
          </a:xfrm>
        </p:grpSpPr>
        <p:sp>
          <p:nvSpPr>
            <p:cNvPr id="353" name="Oval 11"/>
            <p:cNvSpPr/>
            <p:nvPr/>
          </p:nvSpPr>
          <p:spPr>
            <a:xfrm>
              <a:off x="436680" y="1916280"/>
              <a:ext cx="3238560" cy="329544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8"/>
            <p:cNvSpPr/>
            <p:nvPr/>
          </p:nvSpPr>
          <p:spPr>
            <a:xfrm>
              <a:off x="809640" y="2336760"/>
              <a:ext cx="2467080" cy="24764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0"/>
            <p:cNvSpPr/>
            <p:nvPr/>
          </p:nvSpPr>
          <p:spPr>
            <a:xfrm>
              <a:off x="2057400" y="3571920"/>
              <a:ext cx="1047600" cy="60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1"/>
            <p:cNvSpPr/>
            <p:nvPr/>
          </p:nvSpPr>
          <p:spPr>
            <a:xfrm flipV="1">
              <a:off x="2043720" y="2822760"/>
              <a:ext cx="1440720" cy="7664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2307600" y="2782800"/>
              <a:ext cx="55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mbria"/>
                </a:rPr>
                <a:t>U</a:t>
              </a:r>
              <a:r>
                <a:rPr b="1" lang="en-US" sz="1400" spc="-1" strike="noStrike">
                  <a:solidFill>
                    <a:srgbClr val="0000ff"/>
                  </a:solidFill>
                  <a:latin typeface="Cambri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2357280" y="386064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mbria"/>
                </a:rPr>
                <a:t>I</a:t>
              </a:r>
              <a:r>
                <a:rPr b="1" lang="en-US" sz="1400" spc="-1" strike="noStrike">
                  <a:solidFill>
                    <a:srgbClr val="ff0000"/>
                  </a:solidFill>
                  <a:latin typeface="Cambri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Line 46"/>
          <p:cNvSpPr/>
          <p:nvPr/>
        </p:nvSpPr>
        <p:spPr>
          <a:xfrm>
            <a:off x="7324560" y="1933560"/>
            <a:ext cx="0" cy="161928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7"/>
          <p:cNvSpPr/>
          <p:nvPr/>
        </p:nvSpPr>
        <p:spPr>
          <a:xfrm>
            <a:off x="6705720" y="191448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7308000" y="249696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mbria"/>
              </a:rPr>
              <a:t>U</a:t>
            </a:r>
            <a:r>
              <a:rPr b="1" lang="en-US" sz="1400" spc="-1" strike="noStrike">
                <a:solidFill>
                  <a:srgbClr val="0000ff"/>
                </a:solidFill>
                <a:latin typeface="Cambri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4"/>
          <p:cNvSpPr/>
          <p:nvPr/>
        </p:nvSpPr>
        <p:spPr>
          <a:xfrm>
            <a:off x="6786720" y="2689200"/>
            <a:ext cx="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Cambri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5"/>
          <p:cNvSpPr/>
          <p:nvPr/>
        </p:nvSpPr>
        <p:spPr>
          <a:xfrm>
            <a:off x="6324480" y="4829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6"/>
          <p:cNvSpPr/>
          <p:nvPr/>
        </p:nvSpPr>
        <p:spPr>
          <a:xfrm>
            <a:off x="5095800" y="2324160"/>
            <a:ext cx="2028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7"/>
          <p:cNvSpPr/>
          <p:nvPr/>
        </p:nvSpPr>
        <p:spPr>
          <a:xfrm>
            <a:off x="6819840" y="2324160"/>
            <a:ext cx="0" cy="1247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8"/>
          <p:cNvSpPr/>
          <p:nvPr/>
        </p:nvSpPr>
        <p:spPr>
          <a:xfrm>
            <a:off x="7941600" y="3562200"/>
            <a:ext cx="4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  <a:ea typeface="Courier New"/>
              </a:rPr>
              <a:t>ω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9"/>
          <p:cNvSpPr/>
          <p:nvPr/>
        </p:nvSpPr>
        <p:spPr>
          <a:xfrm>
            <a:off x="5320440" y="53262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0"/>
          <p:cNvSpPr/>
          <p:nvPr/>
        </p:nvSpPr>
        <p:spPr>
          <a:xfrm>
            <a:off x="469080" y="568332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Н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1"/>
          <p:cNvSpPr/>
          <p:nvPr/>
        </p:nvSpPr>
        <p:spPr>
          <a:xfrm>
            <a:off x="4319280" y="5916600"/>
            <a:ext cx="31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8"/>
          <p:cNvSpPr/>
          <p:nvPr/>
        </p:nvSpPr>
        <p:spPr>
          <a:xfrm>
            <a:off x="36360" y="4309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6. Векторные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214200" y="1204200"/>
            <a:ext cx="8715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надо сложить синусоидально изменяющиеся во времени тока одной част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необходимо на одном графике изобразить соответствующие век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"/>
              <p:cNvSpPr txBox="1"/>
              <p:nvPr/>
            </p:nvSpPr>
            <p:spPr>
              <a:xfrm>
                <a:off x="2838600" y="1857240"/>
                <a:ext cx="13935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2571840" y="3214800"/>
                <a:ext cx="2411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514440" y="1574640"/>
            <a:ext cx="8114760" cy="4568760"/>
            <a:chOff x="514440" y="1574640"/>
            <a:chExt cx="8114760" cy="4568760"/>
          </a:xfrm>
        </p:grpSpPr>
        <p:sp>
          <p:nvSpPr>
            <p:cNvPr id="378" name="Line 3"/>
            <p:cNvSpPr/>
            <p:nvPr/>
          </p:nvSpPr>
          <p:spPr>
            <a:xfrm flipH="1">
              <a:off x="970560" y="4138200"/>
              <a:ext cx="757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"/>
            <p:cNvSpPr/>
            <p:nvPr/>
          </p:nvSpPr>
          <p:spPr>
            <a:xfrm>
              <a:off x="2729520" y="1927080"/>
              <a:ext cx="27360" cy="414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5"/>
            <p:cNvSpPr/>
            <p:nvPr/>
          </p:nvSpPr>
          <p:spPr>
            <a:xfrm>
              <a:off x="2636640" y="1574640"/>
              <a:ext cx="4856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8143560" y="3848760"/>
              <a:ext cx="4856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2112480" y="4220280"/>
              <a:ext cx="52884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V="1">
              <a:off x="2724840" y="3338280"/>
              <a:ext cx="1586880" cy="79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9"/>
            <p:cNvSpPr/>
            <p:nvPr/>
          </p:nvSpPr>
          <p:spPr>
            <a:xfrm flipH="1" flipV="1">
              <a:off x="1759680" y="2550600"/>
              <a:ext cx="969840" cy="158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4551840" y="5546520"/>
              <a:ext cx="87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1" i="1" lang="ru-RU" sz="20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rc 11"/>
            <p:cNvSpPr/>
            <p:nvPr/>
          </p:nvSpPr>
          <p:spPr>
            <a:xfrm flipH="1" rot="1218000">
              <a:off x="758880" y="2635920"/>
              <a:ext cx="1227960" cy="914040"/>
            </a:xfrm>
            <a:custGeom>
              <a:avLst/>
              <a:gdLst>
                <a:gd name="textAreaLeft" fmla="*/ -360 w 1227960"/>
                <a:gd name="textAreaRight" fmla="*/ 1227960 w 122796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fill="none" w="21600" h="11752">
                  <a:moveTo>
                    <a:pt x="18123" y="-1"/>
                  </a:moveTo>
                  <a:cubicBezTo>
                    <a:pt x="20392" y="3499"/>
                    <a:pt x="21600" y="7581"/>
                    <a:pt x="21600" y="11752"/>
                  </a:cubicBezTo>
                </a:path>
                <a:path stroke="0" w="21600" h="11752">
                  <a:moveTo>
                    <a:pt x="18123" y="-1"/>
                  </a:moveTo>
                  <a:cubicBezTo>
                    <a:pt x="20392" y="3499"/>
                    <a:pt x="21600" y="7581"/>
                    <a:pt x="21600" y="11752"/>
                  </a:cubicBezTo>
                  <a:lnTo>
                    <a:pt x="0" y="117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514440" y="2563200"/>
              <a:ext cx="4856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3552480" y="3116880"/>
              <a:ext cx="8769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4"/>
            <p:cNvSpPr/>
            <p:nvPr/>
          </p:nvSpPr>
          <p:spPr>
            <a:xfrm>
              <a:off x="1490400" y="2331000"/>
              <a:ext cx="87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2724840" y="4132080"/>
              <a:ext cx="2644920" cy="15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V="1">
              <a:off x="5369760" y="4925160"/>
              <a:ext cx="1587240" cy="793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 flipH="1" flipV="1">
              <a:off x="5987160" y="3337920"/>
              <a:ext cx="969840" cy="158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8"/>
            <p:cNvSpPr/>
            <p:nvPr/>
          </p:nvSpPr>
          <p:spPr>
            <a:xfrm flipV="1">
              <a:off x="2757240" y="3426480"/>
              <a:ext cx="3229920" cy="7056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9"/>
            <p:cNvSpPr/>
            <p:nvPr/>
          </p:nvSpPr>
          <p:spPr>
            <a:xfrm>
              <a:off x="5198400" y="3188160"/>
              <a:ext cx="87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0"/>
            <p:cNvSpPr/>
            <p:nvPr/>
          </p:nvSpPr>
          <p:spPr>
            <a:xfrm>
              <a:off x="6609240" y="5014080"/>
              <a:ext cx="87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1"/>
            <p:cNvSpPr/>
            <p:nvPr/>
          </p:nvSpPr>
          <p:spPr>
            <a:xfrm>
              <a:off x="5929920" y="3403080"/>
              <a:ext cx="87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Rectangle 78"/>
          <p:cNvSpPr/>
          <p:nvPr/>
        </p:nvSpPr>
        <p:spPr>
          <a:xfrm>
            <a:off x="2573640" y="92916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екторная диа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"/>
          <p:cNvSpPr/>
          <p:nvPr/>
        </p:nvSpPr>
        <p:spPr>
          <a:xfrm>
            <a:off x="285840" y="577440"/>
            <a:ext cx="8572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ирующий вектор соответствует значению суммарного переменного тока. Его длина равна амплитудному значению результирующего т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: Векторной диаграммой называется совокупность нескольких векторов, изображающих на одном графике синусоидальные функции времени одной част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актике, при построении векторных диаграмм длину вектора принимают равной не амплитудному, а действующему зна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из векторов принимают за исходный, а остальные строятся по отношению к нему с соответствующим сдвигом фаз, при этом отпадает необходимость использовать оси Х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Общие с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214200" y="804960"/>
            <a:ext cx="871560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: ЭДС, напряжение и ток называются переменными если их значения изменяются в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овременной технике получили применения переменные токи. Изменяющиеся во времени по синусоидальному закону, т.к. позволяют наиболее экономично осуществлять производство, распределение, преобразование и использование электрической эне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я величин в данный момент времени называются МГНОВЕННЫМИ, они обозначаются малыми буквами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мгновенные значения ЭДС, напряжения, тока, мощ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енные ранее законы Кирхгофа справедливы для мгновенных значений соответствующих велич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ение однофазного переменного т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итания осветительных установ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 сигнализации и контр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Получение синусоидальной ЭД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214200" y="99180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нный ток получают с помощью электромашинных генераторов, которые приводятся во вращение первичными механическими двигателями (внутреннего сгорания, дизель, турбина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8"/>
          <p:cNvSpPr/>
          <p:nvPr/>
        </p:nvSpPr>
        <p:spPr>
          <a:xfrm>
            <a:off x="1460520" y="2386440"/>
            <a:ext cx="68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ринципиальная схема простейшего генера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 flipV="1">
            <a:off x="1657440" y="4662000"/>
            <a:ext cx="5914800" cy="1116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3"/>
          <p:cNvGrpSpPr/>
          <p:nvPr/>
        </p:nvGrpSpPr>
        <p:grpSpPr>
          <a:xfrm>
            <a:off x="1612800" y="3071880"/>
            <a:ext cx="6170760" cy="3257280"/>
            <a:chOff x="1612800" y="3071880"/>
            <a:chExt cx="6170760" cy="3257280"/>
          </a:xfrm>
        </p:grpSpPr>
        <p:sp>
          <p:nvSpPr>
            <p:cNvPr id="51" name="Oval 84"/>
            <p:cNvSpPr/>
            <p:nvPr/>
          </p:nvSpPr>
          <p:spPr>
            <a:xfrm>
              <a:off x="1708200" y="3747240"/>
              <a:ext cx="1918440" cy="191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5"/>
            <p:cNvSpPr/>
            <p:nvPr/>
          </p:nvSpPr>
          <p:spPr>
            <a:xfrm flipV="1">
              <a:off x="2670120" y="3087000"/>
              <a:ext cx="0" cy="30765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86"/>
            <p:cNvSpPr/>
            <p:nvPr/>
          </p:nvSpPr>
          <p:spPr>
            <a:xfrm flipH="1" flipV="1" rot="7861800">
              <a:off x="2173680" y="3474000"/>
              <a:ext cx="1014120" cy="1108080"/>
            </a:xfrm>
            <a:custGeom>
              <a:avLst/>
              <a:gdLst>
                <a:gd name="textAreaLeft" fmla="*/ -360 w 1014120"/>
                <a:gd name="textAreaRight" fmla="*/ 1014120 w 1014120"/>
                <a:gd name="textAreaTop" fmla="*/ 360 h 1108080"/>
                <a:gd name="textAreaBottom" fmla="*/ 1108800 h 1108080"/>
              </a:gdLst>
              <a:ahLst/>
              <a:rect l="textAreaLeft" t="textAreaTop" r="textAreaRight" b="textAreaBottom"/>
              <a:pathLst>
                <a:path fill="none" w="20873" h="20559">
                  <a:moveTo>
                    <a:pt x="6624" y="-1"/>
                  </a:moveTo>
                  <a:cubicBezTo>
                    <a:pt x="13615" y="2252"/>
                    <a:pt x="18983" y="7904"/>
                    <a:pt x="20873" y="15002"/>
                  </a:cubicBezTo>
                </a:path>
                <a:path stroke="0" w="20873" h="20559">
                  <a:moveTo>
                    <a:pt x="6624" y="-1"/>
                  </a:moveTo>
                  <a:cubicBezTo>
                    <a:pt x="13615" y="2252"/>
                    <a:pt x="18983" y="7904"/>
                    <a:pt x="20873" y="15002"/>
                  </a:cubicBezTo>
                  <a:lnTo>
                    <a:pt x="0" y="2055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rc 87"/>
            <p:cNvSpPr/>
            <p:nvPr/>
          </p:nvSpPr>
          <p:spPr>
            <a:xfrm flipH="1" rot="13738200">
              <a:off x="2171520" y="4825440"/>
              <a:ext cx="1014120" cy="1108080"/>
            </a:xfrm>
            <a:custGeom>
              <a:avLst/>
              <a:gdLst>
                <a:gd name="textAreaLeft" fmla="*/ -360 w 1014120"/>
                <a:gd name="textAreaRight" fmla="*/ 1014120 w 101412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fill="none" w="20873" h="20559">
                  <a:moveTo>
                    <a:pt x="6624" y="-1"/>
                  </a:moveTo>
                  <a:cubicBezTo>
                    <a:pt x="13615" y="2252"/>
                    <a:pt x="18983" y="7904"/>
                    <a:pt x="20873" y="15002"/>
                  </a:cubicBezTo>
                </a:path>
                <a:path stroke="0" w="20873" h="20559">
                  <a:moveTo>
                    <a:pt x="6624" y="-1"/>
                  </a:moveTo>
                  <a:cubicBezTo>
                    <a:pt x="13615" y="2252"/>
                    <a:pt x="18983" y="7904"/>
                    <a:pt x="20873" y="15002"/>
                  </a:cubicBezTo>
                  <a:lnTo>
                    <a:pt x="0" y="2055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8"/>
            <p:cNvSpPr/>
            <p:nvPr/>
          </p:nvSpPr>
          <p:spPr>
            <a:xfrm>
              <a:off x="2125800" y="30877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9"/>
            <p:cNvSpPr/>
            <p:nvPr/>
          </p:nvSpPr>
          <p:spPr>
            <a:xfrm>
              <a:off x="3211920" y="30877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90"/>
            <p:cNvSpPr/>
            <p:nvPr/>
          </p:nvSpPr>
          <p:spPr>
            <a:xfrm>
              <a:off x="2127240" y="56055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1"/>
            <p:cNvSpPr/>
            <p:nvPr/>
          </p:nvSpPr>
          <p:spPr>
            <a:xfrm>
              <a:off x="3211920" y="559548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2"/>
            <p:cNvSpPr/>
            <p:nvPr/>
          </p:nvSpPr>
          <p:spPr>
            <a:xfrm>
              <a:off x="2777400" y="3304800"/>
              <a:ext cx="253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93"/>
            <p:cNvSpPr/>
            <p:nvPr/>
          </p:nvSpPr>
          <p:spPr>
            <a:xfrm>
              <a:off x="2849760" y="5802480"/>
              <a:ext cx="253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94"/>
            <p:cNvSpPr/>
            <p:nvPr/>
          </p:nvSpPr>
          <p:spPr>
            <a:xfrm>
              <a:off x="3610080" y="4100400"/>
              <a:ext cx="217080" cy="59940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fill="none" w="21600" h="27500">
                  <a:moveTo>
                    <a:pt x="724" y="0"/>
                  </a:moveTo>
                  <a:cubicBezTo>
                    <a:pt x="12365" y="391"/>
                    <a:pt x="21600" y="9940"/>
                    <a:pt x="21600" y="21588"/>
                  </a:cubicBezTo>
                  <a:cubicBezTo>
                    <a:pt x="21600" y="23587"/>
                    <a:pt x="21322" y="25577"/>
                    <a:pt x="20775" y="27500"/>
                  </a:cubicBezTo>
                </a:path>
                <a:path stroke="0" w="21600" h="27500">
                  <a:moveTo>
                    <a:pt x="724" y="0"/>
                  </a:moveTo>
                  <a:cubicBezTo>
                    <a:pt x="12365" y="391"/>
                    <a:pt x="21600" y="9940"/>
                    <a:pt x="21600" y="21588"/>
                  </a:cubicBezTo>
                  <a:cubicBezTo>
                    <a:pt x="21600" y="23587"/>
                    <a:pt x="21322" y="25577"/>
                    <a:pt x="20775" y="27500"/>
                  </a:cubicBezTo>
                  <a:lnTo>
                    <a:pt x="0" y="2158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95"/>
            <p:cNvSpPr/>
            <p:nvPr/>
          </p:nvSpPr>
          <p:spPr>
            <a:xfrm>
              <a:off x="3718800" y="4064400"/>
              <a:ext cx="184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96"/>
            <p:cNvGrpSpPr/>
            <p:nvPr/>
          </p:nvGrpSpPr>
          <p:grpSpPr>
            <a:xfrm>
              <a:off x="3255480" y="4065120"/>
              <a:ext cx="235440" cy="250560"/>
              <a:chOff x="3255480" y="4065120"/>
              <a:chExt cx="235440" cy="250560"/>
            </a:xfrm>
          </p:grpSpPr>
          <p:sp>
            <p:nvSpPr>
              <p:cNvPr id="64" name="Oval 97"/>
              <p:cNvSpPr/>
              <p:nvPr/>
            </p:nvSpPr>
            <p:spPr>
              <a:xfrm flipV="1" rot="3235800">
                <a:off x="3317040" y="4105080"/>
                <a:ext cx="144720" cy="144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98"/>
              <p:cNvSpPr/>
              <p:nvPr/>
            </p:nvSpPr>
            <p:spPr>
              <a:xfrm flipH="1" flipV="1">
                <a:off x="3255480" y="4160520"/>
                <a:ext cx="10620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99"/>
              <p:cNvSpPr/>
              <p:nvPr/>
            </p:nvSpPr>
            <p:spPr>
              <a:xfrm flipH="1">
                <a:off x="3369960" y="4230720"/>
                <a:ext cx="116640" cy="8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00"/>
              <p:cNvSpPr/>
              <p:nvPr/>
            </p:nvSpPr>
            <p:spPr>
              <a:xfrm flipH="1">
                <a:off x="3260880" y="4065120"/>
                <a:ext cx="116640" cy="8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01"/>
              <p:cNvSpPr/>
              <p:nvPr/>
            </p:nvSpPr>
            <p:spPr>
              <a:xfrm flipH="1" flipV="1">
                <a:off x="3258360" y="4164480"/>
                <a:ext cx="10656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02"/>
              <p:cNvSpPr/>
              <p:nvPr/>
            </p:nvSpPr>
            <p:spPr>
              <a:xfrm rot="3235800">
                <a:off x="3369960" y="4159440"/>
                <a:ext cx="43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103"/>
            <p:cNvGrpSpPr/>
            <p:nvPr/>
          </p:nvGrpSpPr>
          <p:grpSpPr>
            <a:xfrm>
              <a:off x="1848960" y="5078520"/>
              <a:ext cx="235080" cy="252360"/>
              <a:chOff x="1848960" y="5078520"/>
              <a:chExt cx="235080" cy="252360"/>
            </a:xfrm>
          </p:grpSpPr>
          <p:sp>
            <p:nvSpPr>
              <p:cNvPr id="71" name="Oval 104"/>
              <p:cNvSpPr/>
              <p:nvPr/>
            </p:nvSpPr>
            <p:spPr>
              <a:xfrm flipV="1" rot="3375000">
                <a:off x="1880280" y="5139000"/>
                <a:ext cx="144360" cy="144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05"/>
              <p:cNvSpPr/>
              <p:nvPr/>
            </p:nvSpPr>
            <p:spPr>
              <a:xfrm flipH="1">
                <a:off x="1963800" y="5250600"/>
                <a:ext cx="12024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06"/>
              <p:cNvSpPr/>
              <p:nvPr/>
            </p:nvSpPr>
            <p:spPr>
              <a:xfrm flipH="1">
                <a:off x="1848960" y="5078520"/>
                <a:ext cx="12024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07"/>
              <p:cNvSpPr/>
              <p:nvPr/>
            </p:nvSpPr>
            <p:spPr>
              <a:xfrm flipH="1" flipV="1">
                <a:off x="1979280" y="5083560"/>
                <a:ext cx="10044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Group 108"/>
              <p:cNvGrpSpPr/>
              <p:nvPr/>
            </p:nvGrpSpPr>
            <p:grpSpPr>
              <a:xfrm>
                <a:off x="1881360" y="5138280"/>
                <a:ext cx="150120" cy="150480"/>
                <a:chOff x="1881360" y="5138280"/>
                <a:chExt cx="150120" cy="150480"/>
              </a:xfrm>
            </p:grpSpPr>
            <p:sp>
              <p:nvSpPr>
                <p:cNvPr id="76" name="Line 109"/>
                <p:cNvSpPr/>
                <p:nvPr/>
              </p:nvSpPr>
              <p:spPr>
                <a:xfrm flipH="1">
                  <a:off x="1940760" y="5138280"/>
                  <a:ext cx="29880" cy="15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110"/>
                <p:cNvSpPr/>
                <p:nvPr/>
              </p:nvSpPr>
              <p:spPr>
                <a:xfrm>
                  <a:off x="1881360" y="5199120"/>
                  <a:ext cx="150120" cy="29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" name="Text Box 111"/>
            <p:cNvSpPr/>
            <p:nvPr/>
          </p:nvSpPr>
          <p:spPr>
            <a:xfrm>
              <a:off x="3041640" y="3901680"/>
              <a:ext cx="325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i="1" lang="ru-RU" sz="1400" spc="-1" strike="noStrike" baseline="30000">
                  <a:solidFill>
                    <a:srgbClr val="000000"/>
                  </a:solidFill>
                  <a:latin typeface="Calibri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rc 112"/>
            <p:cNvSpPr/>
            <p:nvPr/>
          </p:nvSpPr>
          <p:spPr>
            <a:xfrm rot="13402200">
              <a:off x="1723680" y="3917520"/>
              <a:ext cx="217080" cy="4100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fill="none" w="21600" h="18829">
                  <a:moveTo>
                    <a:pt x="10584" y="-1"/>
                  </a:moveTo>
                  <a:cubicBezTo>
                    <a:pt x="17388" y="3824"/>
                    <a:pt x="21600" y="11023"/>
                    <a:pt x="21600" y="18829"/>
                  </a:cubicBezTo>
                </a:path>
                <a:path stroke="0" w="21600" h="18829">
                  <a:moveTo>
                    <a:pt x="10584" y="-1"/>
                  </a:moveTo>
                  <a:cubicBezTo>
                    <a:pt x="17388" y="3824"/>
                    <a:pt x="21600" y="11023"/>
                    <a:pt x="21600" y="18829"/>
                  </a:cubicBezTo>
                  <a:lnTo>
                    <a:pt x="0" y="1882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3"/>
            <p:cNvSpPr/>
            <p:nvPr/>
          </p:nvSpPr>
          <p:spPr>
            <a:xfrm flipV="1">
              <a:off x="1796400" y="3938040"/>
              <a:ext cx="1922400" cy="13917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14"/>
            <p:cNvSpPr/>
            <p:nvPr/>
          </p:nvSpPr>
          <p:spPr>
            <a:xfrm>
              <a:off x="2053440" y="5114160"/>
              <a:ext cx="3258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i="1" lang="ru-RU" sz="1400" spc="-1" strike="noStrike" baseline="30000">
                  <a:solidFill>
                    <a:srgbClr val="000000"/>
                  </a:solidFill>
                  <a:latin typeface="Calibri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15"/>
            <p:cNvSpPr/>
            <p:nvPr/>
          </p:nvSpPr>
          <p:spPr>
            <a:xfrm flipV="1">
              <a:off x="7494120" y="3071880"/>
              <a:ext cx="0" cy="30765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16"/>
            <p:cNvSpPr/>
            <p:nvPr/>
          </p:nvSpPr>
          <p:spPr>
            <a:xfrm flipV="1">
              <a:off x="5684040" y="3071880"/>
              <a:ext cx="0" cy="30765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7"/>
            <p:cNvSpPr/>
            <p:nvPr/>
          </p:nvSpPr>
          <p:spPr>
            <a:xfrm flipH="1">
              <a:off x="2679480" y="3676320"/>
              <a:ext cx="48502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18"/>
            <p:cNvSpPr/>
            <p:nvPr/>
          </p:nvSpPr>
          <p:spPr>
            <a:xfrm flipH="1">
              <a:off x="2679480" y="5742000"/>
              <a:ext cx="48502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19"/>
            <p:cNvSpPr/>
            <p:nvPr/>
          </p:nvSpPr>
          <p:spPr>
            <a:xfrm>
              <a:off x="5684040" y="3678840"/>
              <a:ext cx="180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20"/>
            <p:cNvSpPr/>
            <p:nvPr/>
          </p:nvSpPr>
          <p:spPr>
            <a:xfrm>
              <a:off x="5684040" y="5739120"/>
              <a:ext cx="180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21"/>
            <p:cNvSpPr/>
            <p:nvPr/>
          </p:nvSpPr>
          <p:spPr>
            <a:xfrm>
              <a:off x="5684040" y="3976560"/>
              <a:ext cx="180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22"/>
            <p:cNvSpPr/>
            <p:nvPr/>
          </p:nvSpPr>
          <p:spPr>
            <a:xfrm>
              <a:off x="5684040" y="5424480"/>
              <a:ext cx="180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3"/>
            <p:cNvSpPr/>
            <p:nvPr/>
          </p:nvSpPr>
          <p:spPr>
            <a:xfrm flipV="1">
              <a:off x="7494120" y="397620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24"/>
            <p:cNvSpPr/>
            <p:nvPr/>
          </p:nvSpPr>
          <p:spPr>
            <a:xfrm flipV="1">
              <a:off x="5684040" y="397620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5"/>
            <p:cNvSpPr/>
            <p:nvPr/>
          </p:nvSpPr>
          <p:spPr>
            <a:xfrm flipV="1">
              <a:off x="5684040" y="328860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26"/>
            <p:cNvSpPr/>
            <p:nvPr/>
          </p:nvSpPr>
          <p:spPr>
            <a:xfrm flipV="1">
              <a:off x="5684040" y="506232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27"/>
            <p:cNvSpPr/>
            <p:nvPr/>
          </p:nvSpPr>
          <p:spPr>
            <a:xfrm flipV="1">
              <a:off x="5692320" y="573876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8"/>
            <p:cNvSpPr/>
            <p:nvPr/>
          </p:nvSpPr>
          <p:spPr>
            <a:xfrm flipV="1">
              <a:off x="7494120" y="574668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29"/>
            <p:cNvSpPr/>
            <p:nvPr/>
          </p:nvSpPr>
          <p:spPr>
            <a:xfrm flipV="1">
              <a:off x="7494120" y="330516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30"/>
            <p:cNvSpPr/>
            <p:nvPr/>
          </p:nvSpPr>
          <p:spPr>
            <a:xfrm flipH="1">
              <a:off x="5321880" y="4338720"/>
              <a:ext cx="36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1"/>
            <p:cNvSpPr/>
            <p:nvPr/>
          </p:nvSpPr>
          <p:spPr>
            <a:xfrm flipH="1">
              <a:off x="4996440" y="5061240"/>
              <a:ext cx="68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2"/>
            <p:cNvSpPr/>
            <p:nvPr/>
          </p:nvSpPr>
          <p:spPr>
            <a:xfrm>
              <a:off x="5213520" y="4246560"/>
              <a:ext cx="108360" cy="90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3"/>
            <p:cNvSpPr/>
            <p:nvPr/>
          </p:nvSpPr>
          <p:spPr>
            <a:xfrm>
              <a:off x="4887720" y="4241520"/>
              <a:ext cx="108360" cy="90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rc 134"/>
            <p:cNvSpPr/>
            <p:nvPr/>
          </p:nvSpPr>
          <p:spPr>
            <a:xfrm rot="16200000">
              <a:off x="4911480" y="5109120"/>
              <a:ext cx="61560" cy="1839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fill="none" w="37023" h="43200">
                  <a:moveTo>
                    <a:pt x="15422" y="0"/>
                  </a:moveTo>
                  <a:cubicBezTo>
                    <a:pt x="27352" y="0"/>
                    <a:pt x="37023" y="9670"/>
                    <a:pt x="37023" y="21600"/>
                  </a:cubicBezTo>
                  <a:cubicBezTo>
                    <a:pt x="37023" y="33529"/>
                    <a:pt x="27352" y="43200"/>
                    <a:pt x="15423" y="43200"/>
                  </a:cubicBezTo>
                  <a:cubicBezTo>
                    <a:pt x="9620" y="43200"/>
                    <a:pt x="4062" y="40865"/>
                    <a:pt x="-1" y="36722"/>
                  </a:cubicBezTo>
                </a:path>
                <a:path stroke="0" w="37023" h="43200">
                  <a:moveTo>
                    <a:pt x="15422" y="0"/>
                  </a:moveTo>
                  <a:cubicBezTo>
                    <a:pt x="27352" y="0"/>
                    <a:pt x="37023" y="9670"/>
                    <a:pt x="37023" y="21600"/>
                  </a:cubicBezTo>
                  <a:cubicBezTo>
                    <a:pt x="37023" y="33529"/>
                    <a:pt x="27352" y="43200"/>
                    <a:pt x="15423" y="43200"/>
                  </a:cubicBezTo>
                  <a:cubicBezTo>
                    <a:pt x="9620" y="43200"/>
                    <a:pt x="4062" y="40865"/>
                    <a:pt x="-1" y="36722"/>
                  </a:cubicBezTo>
                  <a:lnTo>
                    <a:pt x="15423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rc 135"/>
            <p:cNvSpPr/>
            <p:nvPr/>
          </p:nvSpPr>
          <p:spPr>
            <a:xfrm rot="16200000">
              <a:off x="5244120" y="5106600"/>
              <a:ext cx="54000" cy="183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fill="none" w="32363" h="43200">
                  <a:moveTo>
                    <a:pt x="10762" y="0"/>
                  </a:moveTo>
                  <a:cubicBezTo>
                    <a:pt x="22692" y="0"/>
                    <a:pt x="32363" y="9670"/>
                    <a:pt x="32363" y="21600"/>
                  </a:cubicBezTo>
                  <a:cubicBezTo>
                    <a:pt x="32363" y="33529"/>
                    <a:pt x="22692" y="43200"/>
                    <a:pt x="10763" y="43200"/>
                  </a:cubicBezTo>
                  <a:cubicBezTo>
                    <a:pt x="6985" y="43200"/>
                    <a:pt x="3274" y="42209"/>
                    <a:pt x="-1" y="40327"/>
                  </a:cubicBezTo>
                </a:path>
                <a:path stroke="0" w="32363" h="43200">
                  <a:moveTo>
                    <a:pt x="10762" y="0"/>
                  </a:moveTo>
                  <a:cubicBezTo>
                    <a:pt x="22692" y="0"/>
                    <a:pt x="32363" y="9670"/>
                    <a:pt x="32363" y="21600"/>
                  </a:cubicBezTo>
                  <a:cubicBezTo>
                    <a:pt x="32363" y="33529"/>
                    <a:pt x="22692" y="43200"/>
                    <a:pt x="10763" y="43200"/>
                  </a:cubicBezTo>
                  <a:cubicBezTo>
                    <a:pt x="6985" y="43200"/>
                    <a:pt x="3274" y="42209"/>
                    <a:pt x="-1" y="40327"/>
                  </a:cubicBezTo>
                  <a:lnTo>
                    <a:pt x="10763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36"/>
            <p:cNvSpPr/>
            <p:nvPr/>
          </p:nvSpPr>
          <p:spPr>
            <a:xfrm>
              <a:off x="6516720" y="3288960"/>
              <a:ext cx="25308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7"/>
            <p:cNvSpPr/>
            <p:nvPr/>
          </p:nvSpPr>
          <p:spPr>
            <a:xfrm>
              <a:off x="6552720" y="5786640"/>
              <a:ext cx="253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38"/>
            <p:cNvSpPr/>
            <p:nvPr/>
          </p:nvSpPr>
          <p:spPr>
            <a:xfrm>
              <a:off x="6372000" y="4049280"/>
              <a:ext cx="3258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i="1" lang="ru-RU" sz="1400" spc="-1" strike="noStrike" baseline="30000">
                  <a:solidFill>
                    <a:srgbClr val="000000"/>
                  </a:solidFill>
                  <a:latin typeface="Calibri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9"/>
            <p:cNvSpPr/>
            <p:nvPr/>
          </p:nvSpPr>
          <p:spPr>
            <a:xfrm>
              <a:off x="6335640" y="5026320"/>
              <a:ext cx="325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i="1" lang="ru-RU" sz="1400" spc="-1" strike="noStrike" baseline="30000">
                  <a:solidFill>
                    <a:srgbClr val="000000"/>
                  </a:solidFill>
                  <a:latin typeface="Calibri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0"/>
            <p:cNvSpPr/>
            <p:nvPr/>
          </p:nvSpPr>
          <p:spPr>
            <a:xfrm>
              <a:off x="4996440" y="5460840"/>
              <a:ext cx="325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 flipH="1">
              <a:off x="6299280" y="40492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>
              <a:off x="6190920" y="53161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3"/>
            <p:cNvSpPr/>
            <p:nvPr/>
          </p:nvSpPr>
          <p:spPr>
            <a:xfrm>
              <a:off x="5503320" y="3868200"/>
              <a:ext cx="217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44"/>
            <p:cNvSpPr/>
            <p:nvPr/>
          </p:nvSpPr>
          <p:spPr>
            <a:xfrm>
              <a:off x="7530120" y="3831840"/>
              <a:ext cx="217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5"/>
            <p:cNvSpPr/>
            <p:nvPr/>
          </p:nvSpPr>
          <p:spPr>
            <a:xfrm>
              <a:off x="7566480" y="5388480"/>
              <a:ext cx="217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46"/>
            <p:cNvSpPr/>
            <p:nvPr/>
          </p:nvSpPr>
          <p:spPr>
            <a:xfrm>
              <a:off x="5503320" y="5388480"/>
              <a:ext cx="217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47"/>
            <p:cNvSpPr/>
            <p:nvPr/>
          </p:nvSpPr>
          <p:spPr>
            <a:xfrm>
              <a:off x="4887720" y="5569200"/>
              <a:ext cx="180720" cy="1087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85" h="171">
                  <a:moveTo>
                    <a:pt x="0" y="114"/>
                  </a:moveTo>
                  <a:cubicBezTo>
                    <a:pt x="43" y="57"/>
                    <a:pt x="86" y="0"/>
                    <a:pt x="114" y="0"/>
                  </a:cubicBezTo>
                  <a:cubicBezTo>
                    <a:pt x="142" y="0"/>
                    <a:pt x="152" y="86"/>
                    <a:pt x="171" y="114"/>
                  </a:cubicBezTo>
                  <a:cubicBezTo>
                    <a:pt x="190" y="142"/>
                    <a:pt x="209" y="171"/>
                    <a:pt x="228" y="171"/>
                  </a:cubicBezTo>
                  <a:cubicBezTo>
                    <a:pt x="247" y="171"/>
                    <a:pt x="285" y="123"/>
                    <a:pt x="285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V="1">
              <a:off x="4943520" y="5171400"/>
              <a:ext cx="0" cy="28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V="1">
              <a:off x="5277960" y="5171400"/>
              <a:ext cx="0" cy="28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50"/>
            <p:cNvSpPr/>
            <p:nvPr/>
          </p:nvSpPr>
          <p:spPr>
            <a:xfrm>
              <a:off x="4924080" y="5171400"/>
              <a:ext cx="36000" cy="3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51"/>
            <p:cNvSpPr/>
            <p:nvPr/>
          </p:nvSpPr>
          <p:spPr>
            <a:xfrm>
              <a:off x="5261400" y="5178240"/>
              <a:ext cx="36000" cy="3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52"/>
            <p:cNvSpPr/>
            <p:nvPr/>
          </p:nvSpPr>
          <p:spPr>
            <a:xfrm>
              <a:off x="5317200" y="4318920"/>
              <a:ext cx="36000" cy="3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53"/>
            <p:cNvSpPr/>
            <p:nvPr/>
          </p:nvSpPr>
          <p:spPr>
            <a:xfrm>
              <a:off x="4996440" y="5037840"/>
              <a:ext cx="36000" cy="3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228"/>
          <p:cNvSpPr/>
          <p:nvPr/>
        </p:nvSpPr>
        <p:spPr>
          <a:xfrm>
            <a:off x="3881520" y="4129200"/>
            <a:ext cx="833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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8"/>
          <p:cNvSpPr/>
          <p:nvPr/>
        </p:nvSpPr>
        <p:spPr>
          <a:xfrm>
            <a:off x="1500120" y="3786120"/>
            <a:ext cx="476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"/>
              <p:cNvSpPr txBox="1"/>
              <p:nvPr/>
            </p:nvSpPr>
            <p:spPr>
              <a:xfrm>
                <a:off x="3514680" y="330120"/>
                <a:ext cx="1557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Прямоугольник 3"/>
          <p:cNvSpPr/>
          <p:nvPr/>
        </p:nvSpPr>
        <p:spPr>
          <a:xfrm>
            <a:off x="1519560" y="857160"/>
            <a:ext cx="50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” и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” – активные прово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429000" y="1571760"/>
                <a:ext cx="1898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е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1714680" y="2714760"/>
                <a:ext cx="4778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928880" y="4071960"/>
                <a:ext cx="5133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е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о синхронного генер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500040" y="864720"/>
            <a:ext cx="814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 полюсами магнита вращается ферромагнитный сердечник с угловой скорость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азах сердечника расположен виток проволоки. Его концы присоединены к вращающимся контактным кольцам, к которым прижимаются неподвижные щетки, обеспечивающие связь неподвижных потребителей с вращающейся цеп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28760" y="4021200"/>
            <a:ext cx="8286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ращении витка в его активных проводниках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 и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 по закону ЭМИ наводится ЭДС. Полюсам магнита придают специальную форму, чтобы магнитная индукция в зазоре вдоль окружности сердечника изменялась по синусоидальному за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ивные проводники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 и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 витка соединены последовательно, поэтому результирующая ЭДС, снимаемая со щеток в два раза больше, чем в каждом из активных провод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500040" y="32860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ип действия синхронного ген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0"/>
          <p:cNvGrpSpPr/>
          <p:nvPr/>
        </p:nvGrpSpPr>
        <p:grpSpPr>
          <a:xfrm>
            <a:off x="1143000" y="1071720"/>
            <a:ext cx="7273800" cy="2786040"/>
            <a:chOff x="1143000" y="1071720"/>
            <a:chExt cx="7273800" cy="2786040"/>
          </a:xfrm>
        </p:grpSpPr>
        <p:sp>
          <p:nvSpPr>
            <p:cNvPr id="137" name="Text Box 21"/>
            <p:cNvSpPr/>
            <p:nvPr/>
          </p:nvSpPr>
          <p:spPr>
            <a:xfrm>
              <a:off x="7524720" y="2074680"/>
              <a:ext cx="86328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ω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518840" y="1147680"/>
              <a:ext cx="0" cy="27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H="1">
              <a:off x="1213920" y="2431440"/>
              <a:ext cx="720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527480" y="1411200"/>
              <a:ext cx="2013480" cy="1017720"/>
            </a:xfrm>
            <a:custGeom>
              <a:avLst/>
              <a:gdLst>
                <a:gd name="textAreaLeft" fmla="*/ 0 w 2013480"/>
                <a:gd name="textAreaRight" fmla="*/ 2013840 w 2013480"/>
                <a:gd name="textAreaTop" fmla="*/ 0 h 1017720"/>
                <a:gd name="textAreaBottom" fmla="*/ 1018080 h 101772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1428840" y="1071720"/>
              <a:ext cx="47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7874640" y="2068560"/>
              <a:ext cx="5180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7"/>
            <p:cNvSpPr/>
            <p:nvPr/>
          </p:nvSpPr>
          <p:spPr>
            <a:xfrm flipV="1">
              <a:off x="3541320" y="2428560"/>
              <a:ext cx="2013480" cy="1017000"/>
            </a:xfrm>
            <a:custGeom>
              <a:avLst/>
              <a:gdLst>
                <a:gd name="textAreaLeft" fmla="*/ 0 w 2013480"/>
                <a:gd name="textAreaRight" fmla="*/ 2013840 w 2013480"/>
                <a:gd name="textAreaTop" fmla="*/ -360 h 1017000"/>
                <a:gd name="textAreaBottom" fmla="*/ 1017000 h 101700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8"/>
            <p:cNvSpPr/>
            <p:nvPr/>
          </p:nvSpPr>
          <p:spPr>
            <a:xfrm>
              <a:off x="5554800" y="1411200"/>
              <a:ext cx="2013480" cy="1017720"/>
            </a:xfrm>
            <a:custGeom>
              <a:avLst/>
              <a:gdLst>
                <a:gd name="textAreaLeft" fmla="*/ 0 w 2013480"/>
                <a:gd name="textAreaRight" fmla="*/ 2013840 w 2013480"/>
                <a:gd name="textAreaTop" fmla="*/ 0 h 1017720"/>
                <a:gd name="textAreaBottom" fmla="*/ 1018080 h 101772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6553080" y="1411200"/>
              <a:ext cx="0" cy="10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0"/>
            <p:cNvSpPr/>
            <p:nvPr/>
          </p:nvSpPr>
          <p:spPr>
            <a:xfrm>
              <a:off x="6401880" y="1970640"/>
              <a:ext cx="910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1"/>
            <p:cNvSpPr/>
            <p:nvPr/>
          </p:nvSpPr>
          <p:spPr>
            <a:xfrm>
              <a:off x="3196440" y="2392200"/>
              <a:ext cx="5180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4894560" y="2425320"/>
              <a:ext cx="5180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2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 flipH="1">
              <a:off x="5538240" y="2432160"/>
              <a:ext cx="16560" cy="132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1143000" y="2425320"/>
              <a:ext cx="5180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1565640" y="3652560"/>
              <a:ext cx="40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2688480" y="3348000"/>
              <a:ext cx="6044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7697160" y="2480040"/>
              <a:ext cx="6044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78"/>
          <p:cNvSpPr/>
          <p:nvPr/>
        </p:nvSpPr>
        <p:spPr>
          <a:xfrm>
            <a:off x="2470680" y="214920"/>
            <a:ext cx="41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График синусоидальной ЭД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0"/>
          <p:cNvSpPr/>
          <p:nvPr/>
        </p:nvSpPr>
        <p:spPr>
          <a:xfrm>
            <a:off x="3900960" y="392904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1"/>
              <p:cNvSpPr txBox="1"/>
              <p:nvPr/>
            </p:nvSpPr>
            <p:spPr>
              <a:xfrm>
                <a:off x="1228680" y="4432320"/>
                <a:ext cx="771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Прямоугольник 23"/>
          <p:cNvSpPr/>
          <p:nvPr/>
        </p:nvSpPr>
        <p:spPr>
          <a:xfrm>
            <a:off x="2206440" y="46306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ота, 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3"/>
              <p:cNvSpPr txBox="1"/>
              <p:nvPr/>
            </p:nvSpPr>
            <p:spPr>
              <a:xfrm>
                <a:off x="6137280" y="4500720"/>
                <a:ext cx="2006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ОМ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Гц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5"/>
              <p:cNvSpPr txBox="1"/>
              <p:nvPr/>
            </p:nvSpPr>
            <p:spPr>
              <a:xfrm>
                <a:off x="1152360" y="5214960"/>
                <a:ext cx="1324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Прямоугольник 28"/>
          <p:cNvSpPr/>
          <p:nvPr/>
        </p:nvSpPr>
        <p:spPr>
          <a:xfrm>
            <a:off x="2579400" y="520236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овая частота, рад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9"/>
          <p:cNvSpPr/>
          <p:nvPr/>
        </p:nvSpPr>
        <p:spPr>
          <a:xfrm>
            <a:off x="3961080" y="5643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7"/>
              <p:cNvSpPr txBox="1"/>
              <p:nvPr/>
            </p:nvSpPr>
            <p:spPr>
              <a:xfrm>
                <a:off x="1785960" y="6215040"/>
                <a:ext cx="43578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О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О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683640" y="243360"/>
            <a:ext cx="77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атривая работу элементарного генератора мы полож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3857760" y="642960"/>
                <a:ext cx="1562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4"/>
          <p:cNvSpPr/>
          <p:nvPr/>
        </p:nvSpPr>
        <p:spPr>
          <a:xfrm>
            <a:off x="1524960" y="1215000"/>
            <a:ext cx="60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более общем случае справедлива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3005280" y="1722600"/>
                <a:ext cx="26384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4211640" y="2354400"/>
                <a:ext cx="2789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фаза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4214880" y="2857680"/>
                <a:ext cx="37148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ачаль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фаза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11"/>
          <p:cNvSpPr/>
          <p:nvPr/>
        </p:nvSpPr>
        <p:spPr>
          <a:xfrm>
            <a:off x="214200" y="438444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в пазах сердечника размещены два витка, сдвинутые относительно друг друга, то и индуктируемые ЭДС будут сдвину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706320" y="2286000"/>
            <a:ext cx="8222400" cy="3852360"/>
            <a:chOff x="706320" y="2286000"/>
            <a:chExt cx="8222400" cy="3852360"/>
          </a:xfrm>
        </p:grpSpPr>
        <p:grpSp>
          <p:nvGrpSpPr>
            <p:cNvPr id="179" name="Group 3"/>
            <p:cNvGrpSpPr/>
            <p:nvPr/>
          </p:nvGrpSpPr>
          <p:grpSpPr>
            <a:xfrm>
              <a:off x="1927800" y="2764800"/>
              <a:ext cx="4382640" cy="2805840"/>
              <a:chOff x="1927800" y="2764800"/>
              <a:chExt cx="4382640" cy="2805840"/>
            </a:xfrm>
          </p:grpSpPr>
          <p:sp>
            <p:nvSpPr>
              <p:cNvPr id="180" name="Freeform 4"/>
              <p:cNvSpPr/>
              <p:nvPr/>
            </p:nvSpPr>
            <p:spPr>
              <a:xfrm>
                <a:off x="1927800" y="2764800"/>
                <a:ext cx="2191680" cy="1403280"/>
              </a:xfrm>
              <a:custGeom>
                <a:avLst/>
                <a:gdLst>
                  <a:gd name="textAreaLeft" fmla="*/ 0 w 2191680"/>
                  <a:gd name="textAreaRight" fmla="*/ 2192040 w 2191680"/>
                  <a:gd name="textAreaTop" fmla="*/ 0 h 1403280"/>
                  <a:gd name="textAreaBottom" fmla="*/ 1403640 h 140328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5"/>
              <p:cNvSpPr/>
              <p:nvPr/>
            </p:nvSpPr>
            <p:spPr>
              <a:xfrm flipV="1">
                <a:off x="4119480" y="4167360"/>
                <a:ext cx="2190960" cy="1402920"/>
              </a:xfrm>
              <a:custGeom>
                <a:avLst/>
                <a:gdLst>
                  <a:gd name="textAreaLeft" fmla="*/ 0 w 2190960"/>
                  <a:gd name="textAreaRight" fmla="*/ 2191320 w 2190960"/>
                  <a:gd name="textAreaTop" fmla="*/ -360 h 1402920"/>
                  <a:gd name="textAreaBottom" fmla="*/ 1402920 h 140292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6"/>
            <p:cNvGrpSpPr/>
            <p:nvPr/>
          </p:nvGrpSpPr>
          <p:grpSpPr>
            <a:xfrm>
              <a:off x="867600" y="2295720"/>
              <a:ext cx="8061120" cy="3842640"/>
              <a:chOff x="867600" y="2295720"/>
              <a:chExt cx="8061120" cy="3842640"/>
            </a:xfrm>
          </p:grpSpPr>
          <p:sp>
            <p:nvSpPr>
              <p:cNvPr id="183" name="Text Box 7"/>
              <p:cNvSpPr/>
              <p:nvPr/>
            </p:nvSpPr>
            <p:spPr>
              <a:xfrm>
                <a:off x="7958160" y="3679200"/>
                <a:ext cx="93960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Calibri"/>
                  </a:rPr>
                  <a:t>ω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>
                <a:off x="1421640" y="2400480"/>
                <a:ext cx="0" cy="37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H="1">
                <a:off x="1089720" y="4171320"/>
                <a:ext cx="783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0"/>
              <p:cNvSpPr/>
              <p:nvPr/>
            </p:nvSpPr>
            <p:spPr>
              <a:xfrm>
                <a:off x="1624320" y="2295720"/>
                <a:ext cx="51768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600" spc="-1" strike="noStrike">
                    <a:solidFill>
                      <a:srgbClr val="000000"/>
                    </a:solidFill>
                    <a:latin typeface="Calibri"/>
                  </a:rPr>
                  <a:t>е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11"/>
              <p:cNvSpPr/>
              <p:nvPr/>
            </p:nvSpPr>
            <p:spPr>
              <a:xfrm>
                <a:off x="8338680" y="3670560"/>
                <a:ext cx="5641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2"/>
              <p:cNvSpPr/>
              <p:nvPr/>
            </p:nvSpPr>
            <p:spPr>
              <a:xfrm>
                <a:off x="1472400" y="46774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"/>
              <p:cNvSpPr/>
              <p:nvPr/>
            </p:nvSpPr>
            <p:spPr>
              <a:xfrm>
                <a:off x="3058560" y="4171320"/>
                <a:ext cx="56412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Calibri"/>
                  </a:rPr>
                  <a:t>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4"/>
              <p:cNvSpPr/>
              <p:nvPr/>
            </p:nvSpPr>
            <p:spPr>
              <a:xfrm>
                <a:off x="5095440" y="4162680"/>
                <a:ext cx="5637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Calibri"/>
                  </a:rPr>
                  <a:t>2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5"/>
              <p:cNvSpPr/>
              <p:nvPr/>
            </p:nvSpPr>
            <p:spPr>
              <a:xfrm flipH="1">
                <a:off x="1920960" y="4191480"/>
                <a:ext cx="17640" cy="18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6"/>
              <p:cNvSpPr/>
              <p:nvPr/>
            </p:nvSpPr>
            <p:spPr>
              <a:xfrm>
                <a:off x="867600" y="4162680"/>
                <a:ext cx="5637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7"/>
              <p:cNvSpPr/>
              <p:nvPr/>
            </p:nvSpPr>
            <p:spPr>
              <a:xfrm>
                <a:off x="1284840" y="4185000"/>
                <a:ext cx="7513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i="1" lang="ru-RU" sz="1100" spc="-1" strike="noStrike" baseline="-25000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8"/>
              <p:cNvSpPr/>
              <p:nvPr/>
            </p:nvSpPr>
            <p:spPr>
              <a:xfrm>
                <a:off x="8145720" y="4237920"/>
                <a:ext cx="6580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Calibri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9"/>
            <p:cNvGrpSpPr/>
            <p:nvPr/>
          </p:nvGrpSpPr>
          <p:grpSpPr>
            <a:xfrm>
              <a:off x="928800" y="2707920"/>
              <a:ext cx="4382640" cy="2805840"/>
              <a:chOff x="928800" y="2707920"/>
              <a:chExt cx="4382640" cy="2805840"/>
            </a:xfrm>
          </p:grpSpPr>
          <p:sp>
            <p:nvSpPr>
              <p:cNvPr id="196" name="Freeform 20"/>
              <p:cNvSpPr/>
              <p:nvPr/>
            </p:nvSpPr>
            <p:spPr>
              <a:xfrm>
                <a:off x="928800" y="2707920"/>
                <a:ext cx="2191680" cy="1403280"/>
              </a:xfrm>
              <a:custGeom>
                <a:avLst/>
                <a:gdLst>
                  <a:gd name="textAreaLeft" fmla="*/ 0 w 2191680"/>
                  <a:gd name="textAreaRight" fmla="*/ 2192040 w 2191680"/>
                  <a:gd name="textAreaTop" fmla="*/ 0 h 1403280"/>
                  <a:gd name="textAreaBottom" fmla="*/ 1403640 h 140328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1"/>
              <p:cNvSpPr/>
              <p:nvPr/>
            </p:nvSpPr>
            <p:spPr>
              <a:xfrm flipV="1">
                <a:off x="3120480" y="4110480"/>
                <a:ext cx="2190960" cy="1402920"/>
              </a:xfrm>
              <a:custGeom>
                <a:avLst/>
                <a:gdLst>
                  <a:gd name="textAreaLeft" fmla="*/ 0 w 2190960"/>
                  <a:gd name="textAreaRight" fmla="*/ 2191320 w 2190960"/>
                  <a:gd name="textAreaTop" fmla="*/ -360 h 1402920"/>
                  <a:gd name="textAreaBottom" fmla="*/ 1402920 h 140292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2"/>
            <p:cNvSpPr/>
            <p:nvPr/>
          </p:nvSpPr>
          <p:spPr>
            <a:xfrm>
              <a:off x="3055680" y="2286000"/>
              <a:ext cx="51768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 flipH="1">
              <a:off x="893880" y="4185360"/>
              <a:ext cx="18000" cy="1825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>
              <a:off x="893880" y="524016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706320" y="4677480"/>
              <a:ext cx="75132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i="1" lang="ru-RU" sz="11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1213920" y="5429160"/>
              <a:ext cx="7516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893880" y="5873400"/>
              <a:ext cx="1033920" cy="0"/>
            </a:xfrm>
            <a:prstGeom prst="line">
              <a:avLst/>
            </a:prstGeom>
            <a:ln w="28440">
              <a:solidFill>
                <a:srgbClr val="c0504d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78"/>
          <p:cNvSpPr/>
          <p:nvPr/>
        </p:nvSpPr>
        <p:spPr>
          <a:xfrm>
            <a:off x="1538280" y="1029240"/>
            <a:ext cx="61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гол сдвига двух синусоидальных велич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"/>
          <p:cNvSpPr/>
          <p:nvPr/>
        </p:nvSpPr>
        <p:spPr>
          <a:xfrm>
            <a:off x="214200" y="745200"/>
            <a:ext cx="8715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: Разность начальных фаз двух синусоидальных величин называется углом сдв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деляют два случ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говорят, что функции совпадают по фаз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говорят, что функции находятся в противофаз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"/>
              <p:cNvSpPr txBox="1"/>
              <p:nvPr/>
            </p:nvSpPr>
            <p:spPr>
              <a:xfrm>
                <a:off x="2809800" y="1643040"/>
                <a:ext cx="147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357200" y="3214800"/>
                <a:ext cx="682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1285920" y="3890880"/>
                <a:ext cx="8017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1:54:15Z</dcterms:created>
  <dc:creator>DNA7 X86</dc:creator>
  <dc:description/>
  <dc:language>en-US</dc:language>
  <cp:lastModifiedBy>DNA7 X86</cp:lastModifiedBy>
  <dcterms:modified xsi:type="dcterms:W3CDTF">2017-09-13T17:35:39Z</dcterms:modified>
  <cp:revision>34</cp:revision>
  <dc:subject/>
  <dc:title>Слайд 1</dc:title>
</cp:coreProperties>
</file>