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6CCF-8BCD-4002-B5DD-2880AC50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2F0-F286-41DE-9FC6-AE534F9A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39B-0DDE-428A-BB9D-9B50F34F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368-B144-405B-B1A7-2B7C39F2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7A4-B5FD-4DCC-B3D9-78122013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3E5-CC8A-4095-9F41-F750061A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D3D-6A1A-40B1-BC79-B6A188E0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875-818F-44FA-A63E-780E44A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C55-DB36-4962-AE88-B754318D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BA3-A4DB-47DB-AD40-DADD9090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D69-DDD0-46FC-BAE0-541EEE0A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E8A-A853-4157-B8F3-7447F9CD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95c7d"/>
              </a:gs>
              <a:gs pos="100000">
                <a:srgbClr val="042b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42b3a"/>
              </a:gs>
              <a:gs pos="100000">
                <a:srgbClr val="095c7d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96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DCE3-BEF9-4C52-965C-DB8B257C5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961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372000" y="5705280"/>
            <a:ext cx="277164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539640" y="2708280"/>
            <a:ext cx="8280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ор профессии</a:t>
            </a:r>
            <a:endParaRPr b="1" i="1" lang="en-US" sz="1200" spc="1" strike="noStrike">
              <a:ln w="12600">
                <a:solidFill>
                  <a:srgbClr val="eaeaea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ff"/>
                </a:solidFill>
                <a:uFillTx/>
                <a:latin typeface="Verdana"/>
              </a:rPr>
              <a:t>Стратегия выбора профессии:</a:t>
            </a:r>
            <a:endParaRPr b="0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600" y="2454840"/>
            <a:ext cx="7298280" cy="3936600"/>
          </a:xfrm>
          <a:prstGeom prst="rect">
            <a:avLst/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торой фактор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Могу»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знакомиться с требованиями, которые может предъявить  выбранная профессия. Выяснить способности и умения, знания и навыки, полученные в школе. Узнать, как можно применить их к выбираемой профессии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ff"/>
                </a:solidFill>
                <a:uFillTx/>
                <a:latin typeface="Verdana"/>
              </a:rPr>
              <a:t>Стратегия выбора профессии:</a:t>
            </a:r>
            <a:endParaRPr b="0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2437200"/>
            <a:ext cx="7298280" cy="3936600"/>
          </a:xfrm>
          <a:prstGeom prst="rect">
            <a:avLst/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ретий фактор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«Надо»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анализировать, насколько реально найти работу по выбранной профессии, в каких учебных заведениях можно получить интересующую его специаль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Типы профессий: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ЧЕЛО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ТЕХНИ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ПРИРОД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ЗНАКОВАЯ СИСТЕМ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ЧЕЛОВЕК-ХУДОЖЕСТВЕННЫЙ ОБРА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58920" y="260280"/>
            <a:ext cx="6553080" cy="3988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79280" y="1197000"/>
            <a:ext cx="4321440" cy="146556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Выбор профессии «за компанию»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Часто молодой человек или девушка, не знающие своих способностей, просто поступают в то же учебное заведение, что и их друзья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0" y="2133720"/>
            <a:ext cx="4419720" cy="283716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Выбор престижной профессии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В данный момент престижными считаются профессии экономиста, бухгалтера, юриста, менеджера и др. Интерес к ним есть у большинства выпускников школ, но не у всех есть способности к этим профессиям (высокая эрудиция, энергия, коммуникабельность, работоспособность)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50920" y="3284640"/>
            <a:ext cx="4190760" cy="31114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Отождествление учебного предмета с профессией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Например, ученица хорошо пишет сочинения и решает, что ее призвание - журналистика. Однако профессия журналиста предполагает частые поездки, умение вникать в разные сферы деятельности и взаимоотношения людей, а не только написание статей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258920" y="260280"/>
            <a:ext cx="6553080" cy="3988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79280" y="1125360"/>
            <a:ext cx="4321440" cy="228852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Отождествление профессии с конкретным человеком, который нравится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К примеру, младший брат восхищается старшим, летчиком по профессии. Из любви к брату он тоже решает, что это его призвание. Но это далеко не всегда соответствует действительности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572000" y="1844640"/>
            <a:ext cx="4419720" cy="420876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Несоответствие здоровья и условий труда по избранной профессии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Необходимо знать и учитывать особенности организма подростка, условий, в которых  придется работать, иначе его может ожидать разочарование или ухудшение состояния здоровья. Ряд профессий предъявляют очень жесткие требования к физическому здоровью,  а для некоторых профессиональных занятий существует ряд строгих медицинских противопоказаний (например, плохое зрение для водителя)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50920" y="3716280"/>
            <a:ext cx="4190760" cy="283716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Устаревшие представления о характере труда и возможностях профессии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Незнание динамики развития профессий в связи с техническим прогрессом приводит к ошибкам. Нередко под названием профессии скрыт совершенно новый темп и характер труда. Всегда нужно стремиться узнать именно о современном облике профессии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258920" y="260280"/>
            <a:ext cx="6553080" cy="3988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ff"/>
                </a:solidFill>
                <a:uFillTx/>
                <a:latin typeface="Arial"/>
              </a:rPr>
              <a:t>Типичные ошибки при выборе профессии: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900000" y="1268280"/>
            <a:ext cx="4321440" cy="17398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Неумение разобраться в себе, своих склонностях, способностях и мотивах: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Помощь в самопознании могут оказать психолог, специалисты по профориентации, учителя, родители, специальная литература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140360" y="3429000"/>
            <a:ext cx="4419360" cy="3111480"/>
          </a:xfrm>
          <a:prstGeom prst="rect">
            <a:avLst/>
          </a:prstGeom>
          <a:solidFill>
            <a:srgbClr val="095c7d"/>
          </a:solidFill>
          <a:ln w="9360">
            <a:solidFill>
              <a:srgbClr val="666699"/>
            </a:solidFill>
            <a:miter/>
          </a:ln>
          <a:effectLst>
            <a:outerShdw dist="107932" dir="2700000" blurRad="0" rotWithShape="0">
              <a:srgbClr val="31a6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Выбор профессии под давлением родителей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Очень часто родители совершают ошибки, влияющие на правильность профессионального выбора подростка.  Они  даже настаивают на выборе варианта, который в силу различных обстоятельств жизни не удалось осуществить им самим, то есть через ребенка они пытаются реализовать свою собственную мечту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-31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99ccff"/>
                </a:solidFill>
                <a:latin typeface="Verdana"/>
              </a:rPr>
              <a:t>Сознательный выбор профессии основывается:</a:t>
            </a:r>
            <a:br>
              <a:rPr sz="2000"/>
            </a:b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  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47440" y="1341360"/>
            <a:ext cx="82962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знаниях о мире професс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знаниях о выбираемой конкретной специаль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изучении своих интересо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изучении своих способност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знании своих сильных и слабых качеств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состоянии своего здоровь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учете ситуации, на рынке труд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учете материальных условий семь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Rectangle 7"/>
          <p:cNvSpPr/>
          <p:nvPr/>
        </p:nvSpPr>
        <p:spPr>
          <a:xfrm flipV="1">
            <a:off x="0" y="1915920"/>
            <a:ext cx="420696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 flipV="1">
            <a:off x="0" y="2707920"/>
            <a:ext cx="420696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AllSmail26"/>
          <p:cNvPicPr/>
          <p:nvPr/>
        </p:nvPicPr>
        <p:blipFill>
          <a:blip r:embed="rId1"/>
          <a:stretch/>
        </p:blipFill>
        <p:spPr>
          <a:xfrm>
            <a:off x="7524720" y="189000"/>
            <a:ext cx="1336680" cy="13366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9"/>
          <p:cNvSpPr txBox="1"/>
          <p:nvPr/>
        </p:nvSpPr>
        <p:spPr>
          <a:xfrm>
            <a:off x="611280" y="2133720"/>
            <a:ext cx="8137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1" i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i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52149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аждый человек в своей жизни делает два самых важных выбора, от которых зависит, как в дальнейшем складывается личная жизнь. Это выбор профессии и выбор спутника жизни. Сегодня, как вы догадались, мы поговорим…о выборе профессии.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ыбор профессии у вас, друзья, впереди. Но многие из вас, наверняка, уже задумывались над этой проблемой. Чтобы найти любимую работу, нужно, прежде всего, хорошо знать, какие работы вообще есть на   све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Picture 3" descr="J0240695"/>
          <p:cNvPicPr/>
          <p:nvPr/>
        </p:nvPicPr>
        <p:blipFill>
          <a:blip r:embed="rId1"/>
          <a:stretch/>
        </p:blipFill>
        <p:spPr>
          <a:xfrm>
            <a:off x="5219640" y="1484280"/>
            <a:ext cx="1825560" cy="1461960"/>
          </a:xfrm>
          <a:prstGeom prst="rect">
            <a:avLst/>
          </a:prstGeom>
          <a:ln w="6480">
            <a:solidFill>
              <a:srgbClr val="333300"/>
            </a:solidFill>
            <a:miter/>
          </a:ln>
        </p:spPr>
      </p:pic>
      <p:pic>
        <p:nvPicPr>
          <p:cNvPr id="87" name="Picture 4" descr="J0240719"/>
          <p:cNvPicPr/>
          <p:nvPr/>
        </p:nvPicPr>
        <p:blipFill>
          <a:blip r:embed="rId2"/>
          <a:stretch/>
        </p:blipFill>
        <p:spPr>
          <a:xfrm>
            <a:off x="7451640" y="260280"/>
            <a:ext cx="1255680" cy="19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8" name="Picture 5" descr="J0195384"/>
          <p:cNvPicPr/>
          <p:nvPr/>
        </p:nvPicPr>
        <p:blipFill>
          <a:blip r:embed="rId3"/>
          <a:stretch/>
        </p:blipFill>
        <p:spPr>
          <a:xfrm>
            <a:off x="5292720" y="2997360"/>
            <a:ext cx="1795320" cy="183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Picture 6" descr="J0301252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721560" y="1989000"/>
            <a:ext cx="242244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7" descr="j0090070"/>
          <p:cNvPicPr/>
          <p:nvPr/>
        </p:nvPicPr>
        <p:blipFill>
          <a:blip r:embed="rId5"/>
          <a:stretch/>
        </p:blipFill>
        <p:spPr>
          <a:xfrm>
            <a:off x="6659640" y="386064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52149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мире насчитывается более 40 тысяч професси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о эта огромная цифра далека от определенности. И не только потому, что жизнь не стоит на месте и все время какие-то старые профессии отмирают, а новые появляются, но еще и потому, что люди до сих пор не договорились между собой о том, что считать отдельной профессией или  специальностью, а что просто разновидностью той или другой работы. Море профессий необозримо. Об этом наш сегодняшний разгов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2" name="Picture 3" descr="J0240695"/>
          <p:cNvPicPr/>
          <p:nvPr/>
        </p:nvPicPr>
        <p:blipFill>
          <a:blip r:embed="rId1"/>
          <a:stretch/>
        </p:blipFill>
        <p:spPr>
          <a:xfrm>
            <a:off x="5219640" y="1484280"/>
            <a:ext cx="1825560" cy="1461960"/>
          </a:xfrm>
          <a:prstGeom prst="rect">
            <a:avLst/>
          </a:prstGeom>
          <a:ln w="6480">
            <a:solidFill>
              <a:srgbClr val="333300"/>
            </a:solidFill>
            <a:miter/>
          </a:ln>
        </p:spPr>
      </p:pic>
      <p:pic>
        <p:nvPicPr>
          <p:cNvPr id="93" name="Picture 4" descr="J0240719"/>
          <p:cNvPicPr/>
          <p:nvPr/>
        </p:nvPicPr>
        <p:blipFill>
          <a:blip r:embed="rId2"/>
          <a:stretch/>
        </p:blipFill>
        <p:spPr>
          <a:xfrm>
            <a:off x="7451640" y="260280"/>
            <a:ext cx="1255680" cy="197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4" name="Picture 5" descr="J0195384"/>
          <p:cNvPicPr/>
          <p:nvPr/>
        </p:nvPicPr>
        <p:blipFill>
          <a:blip r:embed="rId3"/>
          <a:stretch/>
        </p:blipFill>
        <p:spPr>
          <a:xfrm>
            <a:off x="5292720" y="2997360"/>
            <a:ext cx="1795320" cy="183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Picture 6" descr="J0301252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721560" y="1989000"/>
            <a:ext cx="2422440" cy="20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Picture 7" descr="j0090070"/>
          <p:cNvPicPr/>
          <p:nvPr/>
        </p:nvPicPr>
        <p:blipFill>
          <a:blip r:embed="rId5"/>
          <a:stretch/>
        </p:blipFill>
        <p:spPr>
          <a:xfrm>
            <a:off x="6659640" y="3860640"/>
            <a:ext cx="201456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5072040" y="3071880"/>
            <a:ext cx="2178000" cy="3116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285920" y="1428840"/>
            <a:ext cx="2521080" cy="23479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7"/>
          <p:cNvSpPr txBox="1"/>
          <p:nvPr/>
        </p:nvSpPr>
        <p:spPr>
          <a:xfrm>
            <a:off x="468360" y="476280"/>
            <a:ext cx="813600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Тест «Готовность к выбору профессии»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утверждения. Если Вы согласны с ними, дайте ответ «да», если не согласны – «нет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Вы уже твёрдо выбрали будущую професси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Основной мотив Вашего выбора – материальные интерес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В избранной профессии Вас привлекает, прежде всего, сам процесс труд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ы выбираете профессиональное учебное заведение потому, что туда пошли (или пойдут) учиться Ваши друзь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Вы выбираете место учёбы (работы) потому, что они недалеко от дом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Если Вам не удастся получить избираемую профессию, то у Вас есть запасные вариант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Вы читаете периодические издания, связанные с будущей професс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Вам известны противопоказания, которые существуют для избранно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Неважно, кем работать, важно, как работ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Вы думаете, что с выбором профессии не надо спешить, сначала следует получить аттеста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Вам известно, каких качеств, важных для будущей профессиональной деятельности Вам не достаё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785520"/>
            <a:ext cx="861048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Вы занимаетесь развитием профессионально значимых качест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.Согласны ли Вы с тем, что здоровье не влияет на выбор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Учителя рекомендуют избрать выбранную Вами професси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Вы знаете о неприятных сторонах будуще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.Вам удалось осуществить пробу сил в деятельности, близкой к будуще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Вы консультировались о выборе профессии у врач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.Главное в выборе профессии – возможность поступить в профессиональное учебное завед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.Вы знаете об условиях поступления в выбранное учебное заведен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.Вам известно о возможностях трудоустройства по избираемо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.Вы уверены, что родственники помогут Вам устроиться на работу (учёбу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.Вы знаете о возможных заработках у представителей избираемой профе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.Если не удастся поступить в избранное учебное заведение, то Вы будете пытаться ещё раз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. Для правильного выбора профессии достаточно удовлетворить Ваши профессиональные интересы «хочу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Подведение итогов: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войте 1 балл каждому ответу «ДА», если Вы его дали на вопросы: 1,3,6,7,8,11,12,14,16,17,19,20,22,23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войте 1 балл каждому ответу «НЕТ», если Вы его дали на вопросы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4,5,9,10,13,15,18,21,24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читайте общее количество баллов тест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                                  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 – 6   баллов – неготовность,               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                                    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12 баллов – низкая готовность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                               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 – 18 баллов – средняя готовность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                                            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 – 24 балла   - высокая готовность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33000"/>
            <a:ext cx="891540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ff"/>
                </a:solidFill>
                <a:uFillTx/>
                <a:latin typeface="Verdana"/>
              </a:rPr>
              <a:t>Стратегия выбора профессии:</a:t>
            </a:r>
            <a:br>
              <a:rPr sz="2800"/>
            </a:br>
            <a:r>
              <a:rPr b="1" i="1" lang="ru-RU" sz="1800" spc="-1" strike="noStrike" u="sng">
                <a:solidFill>
                  <a:srgbClr val="99ccff"/>
                </a:solidFill>
                <a:uFillTx/>
                <a:latin typeface="Verdana"/>
              </a:rPr>
              <a:t>1. Проанализировать</a:t>
            </a:r>
            <a:r>
              <a:rPr b="1" lang="ru-RU" sz="1800" spc="-1" strike="noStrike" u="sng">
                <a:solidFill>
                  <a:srgbClr val="99ccff"/>
                </a:solidFill>
                <a:uFillTx/>
                <a:latin typeface="Verdana"/>
              </a:rPr>
              <a:t> три основных фактора, чтобы найти оптимальные варианты и реализовать свой план в действие.</a:t>
            </a:r>
            <a:endParaRPr b="0" lang="en-US" sz="1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156360" y="1916280"/>
            <a:ext cx="2592360" cy="1439640"/>
          </a:xfrm>
          <a:prstGeom prst="cube">
            <a:avLst>
              <a:gd name="adj" fmla="val 25000"/>
            </a:avLst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ДО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3203640" y="3429000"/>
            <a:ext cx="2519280" cy="1512720"/>
          </a:xfrm>
          <a:prstGeom prst="cube">
            <a:avLst>
              <a:gd name="adj" fmla="val 25000"/>
            </a:avLst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МОГУ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468360" y="2060640"/>
            <a:ext cx="2590920" cy="1439640"/>
          </a:xfrm>
          <a:prstGeom prst="cube">
            <a:avLst>
              <a:gd name="adj" fmla="val 23194"/>
            </a:avLst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ХОЧУ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116000" y="335772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ff"/>
                </a:solidFill>
                <a:uFillTx/>
                <a:latin typeface="Verdana"/>
              </a:rPr>
              <a:t>Стратегия выбора профессии:</a:t>
            </a:r>
            <a:endParaRPr b="0" lang="en-US" sz="28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920" y="2342160"/>
            <a:ext cx="7393320" cy="4031640"/>
          </a:xfrm>
          <a:prstGeom prst="rect">
            <a:avLst/>
          </a:prstGeom>
          <a:solidFill>
            <a:srgbClr val="3961e1">
              <a:alpha val="50000"/>
            </a:srgbClr>
          </a:solidFill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ервый фактор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Verdana"/>
              </a:rPr>
              <a:t>Хочу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»: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дросток должен оценить свои интересы и склонности, выяснить, какие профессии ему нравятся, представляет ли он, чем хотел бы заниматься каждый трудовой ден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9:06:55Z</dcterms:created>
  <dc:creator>Светлана</dc:creator>
  <dc:description/>
  <dc:language>en-US</dc:language>
  <cp:lastModifiedBy>Admin</cp:lastModifiedBy>
  <dcterms:modified xsi:type="dcterms:W3CDTF">2020-10-09T09:53:04Z</dcterms:modified>
  <cp:revision>26</cp:revision>
  <dc:subject/>
  <dc:title>Слайд 1</dc:title>
</cp:coreProperties>
</file>