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F90D-4445-45A9-9794-DCBC2BF6D0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313C-132E-4805-A097-F581DFF61F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E531-7CA4-4DE8-994B-2B36FCE4E2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BAC2-32A9-4FEC-A73E-ACD1DA7B59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DCFA-E581-47D7-AC11-ADC7AA04D2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DD42-7B5F-438B-9ECF-AE54ACB3AE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7899-EA54-4CA1-A9B1-7AFE4141C5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1528-F6EA-495C-B666-908B9D6E77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5233-0982-4A7B-9117-DF2C8A4F3E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8D67-F5AA-4307-82D2-DB919B7F94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7313-3DB7-47DE-9715-21CB226DED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5B8E-28BF-4CAB-B34C-C7AD8A1630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5B48-1E8C-47B5-B4E9-AFDB4788C3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DF45-76D2-4AE1-8E2A-7A717BB0B7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9A44-07BC-4898-83D2-ACC70CC122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BC44-B0EF-44A4-8BEB-23BA10EA83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1463-0A56-4DF0-8A0A-712D9AC893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2008-4423-455E-B906-96C56C5CC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CA17-AA5F-4C85-BFDD-76EBC511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2CF5-F457-4BC6-985C-BE4A648E1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4D34-C101-44C7-AC85-BAC52510B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2070-D524-47E0-80BB-B1FB100D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E092-F866-4123-8FF3-788F6624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067E-5E78-4FA9-B331-65C98DF2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ACDB-1A7C-4FA9-8E98-35826496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7AE1-A21C-48C9-8B23-E11FF58C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67FD-37E5-433E-BA15-519B701A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9AF3-9145-4EFD-9EA4-7F3D499C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3185-641E-454B-92B5-EC33A96B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7A53-F45C-45D8-8450-BFBB9A5DCD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s://ds04.infourok.ru/uploads/ex/03f1/00008ca8-76ad1de0/img11.jpg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1"/>
          <p:cNvSpPr/>
          <p:nvPr/>
        </p:nvSpPr>
        <p:spPr>
          <a:xfrm>
            <a:off x="642960" y="1501920"/>
            <a:ext cx="7858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Calibri"/>
              </a:rPr>
              <a:t>Проблемные зоны ВПР по математи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3203640" y="4474800"/>
            <a:ext cx="5772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пыта работы учителей математики МБОУ «Рыбновская средняя школа №3» Стригуновой Н.И., Колиповой В.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3962160" y="6292800"/>
            <a:ext cx="122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о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4a7b"/>
                </a:solidFill>
                <a:latin typeface="Calibri"/>
              </a:rPr>
              <a:t>Проблемные задания, выявленные по результатам ВПР по математике в 7 класс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57120" y="428760"/>
          <a:ext cx="8286840" cy="5913360"/>
        </p:xfrm>
        <a:graphic>
          <a:graphicData uri="http://schemas.openxmlformats.org/drawingml/2006/table">
            <a:tbl>
              <a:tblPr/>
              <a:tblGrid>
                <a:gridCol w="882720"/>
                <a:gridCol w="6113520"/>
                <a:gridCol w="1290600"/>
              </a:tblGrid>
              <a:tr h="401400">
                <a:tc>
                  <a:txBody>
                    <a:bodyPr lIns="0" rIns="0" tIns="0" bIns="0" anchor="t">
                      <a:noAutofit/>
                    </a:bodyPr>
                    <a:p>
                      <a:pPr marL="66600" indent="196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482840" indent="-97488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формированные и недостаточно сформированные планируемые результа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9840" indent="131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выпол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0">
                <a:tc>
                  <a:txBody>
                    <a:bodyPr lIns="0" rIns="0" tIns="0" bIns="0" anchor="t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(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98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работать с текстом и оценка вычислений при решении практических зада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задания: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тите текст.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плата по кредиту— это сумма, которую выплачивают банку сверх того, что было получено в кредит. Например, пусть клиент обращается к банку за кредитом в 100 тысяч рублей на два месяца, и за пользование деньгами в течение этого срока должен будет уплатить 10 тысяч рублей. Если стоимость рассмотрения кредитной заявки 500 рублей, а за обслуживание счета банк берет 250 рублей в месяц, то переплата составит 11 000 рублей.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Александр решил купить себе телевизор, который стоит 70 тыс. рублей. На его запрос откликнулись два банка с разными условиями кредитования: первый предложил 20% годовых на 1 год, второй предложил через год вернуть в банк половину взятой суммы, уплатив за использование кредита 15%, а еще через год вернуть оставшиеся 35 тыс. руб, также уплатив 15% за их использование. Существенной ли будет разница в переплате в этих двух банках? Существенной считайте разницу, если она составляет более 500 рубле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33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0" rIns="0" tIns="0" bIns="0" anchor="t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(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 на преобразование выражений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зада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33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0" rIns="0" tIns="0" bIns="0" anchor="t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(П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геометрических задач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зада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реугольнике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C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оведена биссектриса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Найдите величину угла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CE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есл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mbria Math"/>
                          <a:ea typeface="Times New Roman"/>
                        </a:rPr>
                        <a:t>∠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C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46° 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mbria Math"/>
                          <a:ea typeface="Times New Roman"/>
                        </a:rPr>
                        <a:t>∠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C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78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33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7640">
                <a:tc>
                  <a:txBody>
                    <a:bodyPr lIns="0" rIns="0" tIns="0" bIns="0" anchor="t">
                      <a:noAutofit/>
                    </a:bodyPr>
                    <a:p>
                      <a:pPr marL="54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(П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tabLst>
                          <a:tab algn="l" pos="0"/>
                          <a:tab algn="l" pos="787320"/>
                          <a:tab algn="l" pos="1677960"/>
                          <a:tab algn="l" pos="2624040"/>
                          <a:tab algn="l" pos="3705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задач разных типов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зада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tabLst>
                          <a:tab algn="l" pos="0"/>
                          <a:tab algn="l" pos="787320"/>
                          <a:tab algn="l" pos="1677960"/>
                          <a:tab algn="l" pos="2624040"/>
                          <a:tab algn="l" pos="37051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а оператора, работая вместе, могут набрать текст газеты объявлений за 8 ч. Если первый оператор будет работать 3 ч, а второй 12 ч, то они выполнят только 75% всей работы. За какое время может набрать весь текст каждый оператор, работая отдельно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33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" name="Object 5"/>
          <p:cNvGraphicFramePr/>
          <p:nvPr/>
        </p:nvGraphicFramePr>
        <p:xfrm>
          <a:off x="1357200" y="3929040"/>
          <a:ext cx="4554720" cy="35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3929040"/>
                    <a:ext cx="455472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4a7b"/>
                </a:solidFill>
                <a:latin typeface="Calibri"/>
              </a:rPr>
              <a:t>Проблемные задания, выявленные по результатам ВПР по математике в 8 класс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14200" y="428760"/>
          <a:ext cx="8643960" cy="5837040"/>
        </p:xfrm>
        <a:graphic>
          <a:graphicData uri="http://schemas.openxmlformats.org/drawingml/2006/table">
            <a:tbl>
              <a:tblPr/>
              <a:tblGrid>
                <a:gridCol w="920880"/>
                <a:gridCol w="6377040"/>
                <a:gridCol w="1346040"/>
              </a:tblGrid>
              <a:tr h="676080">
                <a:tc>
                  <a:txBody>
                    <a:bodyPr lIns="0" rIns="0" tIns="0" bIns="0" anchor="t">
                      <a:noAutofit/>
                    </a:bodyPr>
                    <a:p>
                      <a:pPr marL="66600" indent="196920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482840" indent="-974880">
                        <a:lnSpc>
                          <a:spcPts val="1375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формированные и недостаточно сформированные планируемые результа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9840" indent="131760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выпол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9480">
                <a:tc>
                  <a:txBody>
                    <a:bodyPr lIns="0" rIns="0" tIns="0" bIns="0" anchor="t">
                      <a:noAutofit/>
                    </a:bodyPr>
                    <a:p>
                      <a:pPr marL="52560" algn="ctr">
                        <a:lnSpc>
                          <a:spcPts val="13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(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98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решать задачи на нахождение формулы линейной функ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зада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 algn="just">
                        <a:lnSpc>
                          <a:spcPts val="13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рисунке изображён график линейной функции. Напишите формулу, которая задаёт эту линейную функцию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 algn="just">
                        <a:lnSpc>
                          <a:spcPts val="13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30120">
                        <a:lnSpc>
                          <a:spcPts val="13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4200">
                <a:tc>
                  <a:txBody>
                    <a:bodyPr lIns="0" rIns="0" tIns="0" bIns="0" anchor="t">
                      <a:noAutofit/>
                    </a:bodyPr>
                    <a:p>
                      <a:pPr marL="52560" algn="ctr">
                        <a:lnSpc>
                          <a:spcPts val="13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(Б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98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работать с таблицами и диаграммами для выбора оптимального вариант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зада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рёх салонах сотовой связи один и тот же телефон продаётся в кредит на разных условиях. Условия даны в таблиц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ите, в каком из салонов покупка обойдётся дешевле всего (с учётом переплаты). В ответ запишите эту сумму в рубля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30120">
                        <a:lnSpc>
                          <a:spcPts val="13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7280">
                <a:tc>
                  <a:txBody>
                    <a:bodyPr lIns="0" rIns="0" tIns="0" bIns="0" anchor="t">
                      <a:noAutofit/>
                    </a:bodyPr>
                    <a:p>
                      <a:pPr marL="52560" algn="ctr">
                        <a:lnSpc>
                          <a:spcPts val="13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(Б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я выполнять задания на алгебраические выраж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зада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>
                        <a:lnSpc>
                          <a:spcPts val="13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30120">
                        <a:lnSpc>
                          <a:spcPts val="13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Object 4"/>
          <p:cNvGraphicFramePr/>
          <p:nvPr/>
        </p:nvGraphicFramePr>
        <p:xfrm>
          <a:off x="1214280" y="3714840"/>
          <a:ext cx="3591000" cy="86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3714840"/>
                    <a:ext cx="359100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5"/>
          <p:cNvGraphicFramePr/>
          <p:nvPr/>
        </p:nvGraphicFramePr>
        <p:xfrm>
          <a:off x="1214280" y="1785960"/>
          <a:ext cx="1055880" cy="101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4280" y="1785960"/>
                    <a:ext cx="105588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3"/>
          <p:cNvGraphicFramePr/>
          <p:nvPr/>
        </p:nvGraphicFramePr>
        <p:xfrm>
          <a:off x="1214280" y="5500800"/>
          <a:ext cx="5427720" cy="50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4280" y="5500800"/>
                    <a:ext cx="542772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4a7b"/>
                </a:solidFill>
                <a:latin typeface="Calibri"/>
              </a:rPr>
              <a:t>Проблемные задания, выявленные по результатам ВПР по математике в 8 класс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28760" y="357120"/>
          <a:ext cx="8358120" cy="5788080"/>
        </p:xfrm>
        <a:graphic>
          <a:graphicData uri="http://schemas.openxmlformats.org/drawingml/2006/table">
            <a:tbl>
              <a:tblPr/>
              <a:tblGrid>
                <a:gridCol w="890280"/>
                <a:gridCol w="6166080"/>
                <a:gridCol w="1301760"/>
              </a:tblGrid>
              <a:tr h="851040">
                <a:tc>
                  <a:txBody>
                    <a:bodyPr lIns="0" rIns="0" tIns="0" bIns="0" anchor="t">
                      <a:noAutofit/>
                    </a:bodyPr>
                    <a:p>
                      <a:pPr marL="66600" indent="196920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482840" indent="-974880">
                        <a:lnSpc>
                          <a:spcPts val="1375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формированные и недостаточно сформированные планируемые результа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9840" indent="131760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выпол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8200">
                <a:tc>
                  <a:txBody>
                    <a:bodyPr lIns="0" rIns="0" tIns="0" bIns="0" anchor="t">
                      <a:noAutofit/>
                    </a:bodyPr>
                    <a:p>
                      <a:pPr marL="52560" algn="ctr">
                        <a:lnSpc>
                          <a:spcPts val="13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(Б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98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решать задачи на нахождение вероятност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зада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экзамене 25 билетов, Сергей не выучил 3 из них. Найдите вероятность того, что ему попадётся выученный биле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30120">
                        <a:lnSpc>
                          <a:spcPts val="13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2720">
                <a:tc>
                  <a:txBody>
                    <a:bodyPr lIns="0" rIns="0" tIns="0" bIns="0" anchor="t">
                      <a:noAutofit/>
                    </a:bodyPr>
                    <a:p>
                      <a:pPr marL="52560" algn="ctr">
                        <a:lnSpc>
                          <a:spcPts val="13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(Б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9840">
                        <a:lnSpc>
                          <a:spcPts val="13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текстовых задач на проценты, смеси, сплав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зада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>
                        <a:lnSpc>
                          <a:spcPts val="13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жие фрукты содержат 80% воды, а высушенные— 28%. Сколько сухих фруктов получится из 288 кг свежих фруктов? Ответ дайте в к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30120">
                        <a:lnSpc>
                          <a:spcPts val="13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120">
                <a:tc>
                  <a:txBody>
                    <a:bodyPr lIns="0" rIns="0" tIns="0" bIns="0" anchor="t">
                      <a:noAutofit/>
                    </a:bodyPr>
                    <a:p>
                      <a:pPr marL="52560" algn="ct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(Б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задач на применение тригонометрических функций в геомет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зада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30120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Object 6"/>
          <p:cNvGraphicFramePr/>
          <p:nvPr/>
        </p:nvGraphicFramePr>
        <p:xfrm>
          <a:off x="1357200" y="4572000"/>
          <a:ext cx="4105440" cy="31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4572000"/>
                    <a:ext cx="41054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5"/>
          <p:cNvGraphicFramePr/>
          <p:nvPr/>
        </p:nvGraphicFramePr>
        <p:xfrm>
          <a:off x="5072040" y="4857840"/>
          <a:ext cx="2071800" cy="117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2040" y="4857840"/>
                    <a:ext cx="207180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4a7b"/>
                </a:solidFill>
                <a:latin typeface="Calibri"/>
              </a:rPr>
              <a:t>Проблемные задания, выявленные по результатам ВПР по математике в 8 класс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14200" y="357120"/>
          <a:ext cx="8501040" cy="5904000"/>
        </p:xfrm>
        <a:graphic>
          <a:graphicData uri="http://schemas.openxmlformats.org/drawingml/2006/table">
            <a:tbl>
              <a:tblPr/>
              <a:tblGrid>
                <a:gridCol w="906480"/>
                <a:gridCol w="6270840"/>
                <a:gridCol w="1323720"/>
              </a:tblGrid>
              <a:tr h="523800">
                <a:tc>
                  <a:txBody>
                    <a:bodyPr lIns="0" rIns="0" tIns="0" bIns="0" anchor="t">
                      <a:noAutofit/>
                    </a:bodyPr>
                    <a:p>
                      <a:pPr marL="66600" indent="196920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482840" indent="-974880">
                        <a:lnSpc>
                          <a:spcPts val="1375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формированные и недостаточно сформированные планируемые результа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9840" indent="131760">
                        <a:lnSpc>
                          <a:spcPts val="137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выпол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0">
                <a:tc>
                  <a:txBody>
                    <a:bodyPr lIns="0" rIns="0" tIns="0" bIns="0" anchor="t">
                      <a:noAutofit/>
                    </a:bodyPr>
                    <a:p>
                      <a:pPr marL="52560" algn="ct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(Б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9840"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решать задачи по прикладной геомет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зада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ок Лотоса возвышается над тихим озером на полфута. Когда порыв ветра отклонил цветок от прежнего места на 2 фута, цветок скрылся под водой. Определите глубину озера в фута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 algn="just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5440" algn="ct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0" rIns="0" tIns="0" bIns="0" anchor="t">
                      <a:noAutofit/>
                    </a:bodyPr>
                    <a:p>
                      <a:pPr marL="52560" algn="ct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(Б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9840" algn="just">
                        <a:lnSpc>
                          <a:spcPts val="1349"/>
                        </a:lnSpc>
                        <a:tabLst>
                          <a:tab algn="l" pos="0"/>
                          <a:tab algn="l" pos="765000"/>
                          <a:tab algn="l" pos="1798560"/>
                          <a:tab algn="l" pos="2619360"/>
                          <a:tab algn="l" pos="4040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решать геометрические задачи на вычислени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 algn="just">
                        <a:lnSpc>
                          <a:spcPct val="100000"/>
                        </a:lnSpc>
                        <a:tabLst>
                          <a:tab algn="l" pos="0"/>
                          <a:tab algn="l" pos="765000"/>
                          <a:tab algn="l" pos="1798560"/>
                          <a:tab algn="l" pos="2619360"/>
                          <a:tab algn="l" pos="4040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зада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 algn="just">
                        <a:lnSpc>
                          <a:spcPts val="1349"/>
                        </a:lnSpc>
                        <a:tabLst>
                          <a:tab algn="l" pos="0"/>
                          <a:tab algn="l" pos="765000"/>
                          <a:tab algn="l" pos="1798560"/>
                          <a:tab algn="l" pos="2619360"/>
                          <a:tab algn="l" pos="4040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рямоугольном треугольнике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C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 прямым углом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звестны катеты:АС=6,ИС=8. Найдите медиану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K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этого треугольн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5440" algn="ct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2480">
                <a:tc>
                  <a:txBody>
                    <a:bodyPr lIns="0" rIns="0" tIns="0" bIns="0" anchor="t">
                      <a:noAutofit/>
                    </a:bodyPr>
                    <a:p>
                      <a:pPr marL="52560" algn="ct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(П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9840" algn="just">
                        <a:lnSpc>
                          <a:spcPts val="1349"/>
                        </a:lnSpc>
                        <a:tabLst>
                          <a:tab algn="l" pos="0"/>
                          <a:tab algn="l" pos="765000"/>
                          <a:tab algn="l" pos="1798560"/>
                          <a:tab algn="l" pos="2619360"/>
                          <a:tab algn="l" pos="4040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текстовых задач на движение и рабо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 algn="just">
                        <a:lnSpc>
                          <a:spcPct val="100000"/>
                        </a:lnSpc>
                        <a:tabLst>
                          <a:tab algn="l" pos="0"/>
                          <a:tab algn="l" pos="765000"/>
                          <a:tab algn="l" pos="1798560"/>
                          <a:tab algn="l" pos="2619360"/>
                          <a:tab algn="l" pos="4040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зада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 algn="just">
                        <a:lnSpc>
                          <a:spcPts val="1349"/>
                        </a:lnSpc>
                        <a:tabLst>
                          <a:tab algn="l" pos="0"/>
                          <a:tab algn="l" pos="765000"/>
                          <a:tab algn="l" pos="1798560"/>
                          <a:tab algn="l" pos="2619360"/>
                          <a:tab algn="l" pos="4040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пунктов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расстояние между которыми 19 км, вышли одновременно навстречу друг другу два пешехода и встретились в 9 км от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Найдите скорость пешехода, шедшего из 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если известно, что он шёл со скоростью, на 1 км/ч большей, чем пешеход, шедший из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и сделал в пути получасовую остановк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5440" algn="ct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3280">
                <a:tc>
                  <a:txBody>
                    <a:bodyPr lIns="0" rIns="0" tIns="0" bIns="0" anchor="t">
                      <a:noAutofit/>
                    </a:bodyPr>
                    <a:p>
                      <a:pPr marL="52560" algn="ct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(П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9840" algn="just">
                        <a:lnSpc>
                          <a:spcPts val="1349"/>
                        </a:lnSpc>
                        <a:tabLst>
                          <a:tab algn="l" pos="0"/>
                          <a:tab algn="l" pos="765000"/>
                          <a:tab algn="l" pos="1798560"/>
                          <a:tab algn="l" pos="2619360"/>
                          <a:tab algn="l" pos="4040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задач на свойства чис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 algn="just">
                        <a:lnSpc>
                          <a:spcPct val="100000"/>
                        </a:lnSpc>
                        <a:tabLst>
                          <a:tab algn="l" pos="0"/>
                          <a:tab algn="l" pos="765000"/>
                          <a:tab algn="l" pos="1798560"/>
                          <a:tab algn="l" pos="2619360"/>
                          <a:tab algn="l" pos="4040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зада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 algn="just">
                        <a:lnSpc>
                          <a:spcPts val="1349"/>
                        </a:lnSpc>
                        <a:tabLst>
                          <a:tab algn="l" pos="0"/>
                          <a:tab algn="l" pos="765000"/>
                          <a:tab algn="l" pos="1798560"/>
                          <a:tab algn="l" pos="2619360"/>
                          <a:tab algn="l" pos="40402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овем натуральное число палиндромом, если в его десятичной записи все цифры расположены симметрично (совпадают первая и последняя цифра,вторая и предпоследняя, и т.д.). Например числа 121 и 95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mbria Math"/>
                          <a:ea typeface="Times New Roman"/>
                        </a:rPr>
                        <a:t> 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9 являются палиндромами, а числа 10 и 95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mbria Math"/>
                          <a:ea typeface="Times New Roman"/>
                        </a:rPr>
                        <a:t> 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3 не являются палиндромами. Найдите 37−е по порядку число-палиндром, которое делится на 1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55440" algn="ct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Object 4"/>
          <p:cNvGraphicFramePr/>
          <p:nvPr/>
        </p:nvGraphicFramePr>
        <p:xfrm>
          <a:off x="2428920" y="1571760"/>
          <a:ext cx="121428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8920" y="1571760"/>
                    <a:ext cx="121428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https://ds04.infourok.ru/uploads/ex/03f1/00008ca8-76ad1de0/img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1"/>
          <p:cNvSpPr/>
          <p:nvPr/>
        </p:nvSpPr>
        <p:spPr>
          <a:xfrm>
            <a:off x="539640" y="1557360"/>
            <a:ext cx="8425080" cy="40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сходя из этих данных, составлен следующий </a:t>
            </a:r>
            <a:r>
              <a:rPr b="1" lang="ru-RU" sz="32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алгоритм подготовки к ВПР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исать перечень планируемых результатов по математ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брать систему заданий каждого типа для проверки уровня усвоения матема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https://ds04.infourok.ru/uploads/ex/03f1/00008ca8-76ad1de0/img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1"/>
          <p:cNvSpPr/>
          <p:nvPr/>
        </p:nvSpPr>
        <p:spPr>
          <a:xfrm>
            <a:off x="214200" y="1409760"/>
            <a:ext cx="878688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Провести повторение по разделам учебной предметной програм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Выполнить несколько проверочных работ на все разделы програм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Вести учет выявленных пробелов для адресной помощи в ликвидации слабых сторон обучающихс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https://ds04.infourok.ru/uploads/ex/03f1/00008ca8-76ad1de0/img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Требования к системе заданий для подготовки к ВПР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) задания должны быть разнообразным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чтобы, с одной стороны, не формировать стереотипов о том, что тот или иной планируемый результат проверяется всегда одинаково, с другой стороны, для того, чтобы научить применять знания в разных ситуациях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) задания должны быть разноуровневым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часть заданий должна позволять проверить достижение планируемого результата на базовом уровне, другая часть - на повышенном уровн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https://ds04.infourok.ru/uploads/ex/03f1/00008ca8-76ad1de0/img11.jpg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1" descr=""/>
          <p:cNvPicPr/>
          <p:nvPr/>
        </p:nvPicPr>
        <p:blipFill>
          <a:blip r:embed="rId2"/>
          <a:stretch/>
        </p:blipFill>
        <p:spPr>
          <a:xfrm>
            <a:off x="52560" y="52560"/>
            <a:ext cx="6163920" cy="199224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2" descr=""/>
          <p:cNvPicPr/>
          <p:nvPr/>
        </p:nvPicPr>
        <p:blipFill>
          <a:blip r:embed="rId3"/>
          <a:stretch/>
        </p:blipFill>
        <p:spPr>
          <a:xfrm>
            <a:off x="52560" y="4172040"/>
            <a:ext cx="6391080" cy="260820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3" descr=""/>
          <p:cNvPicPr/>
          <p:nvPr/>
        </p:nvPicPr>
        <p:blipFill>
          <a:blip r:embed="rId4"/>
          <a:stretch/>
        </p:blipFill>
        <p:spPr>
          <a:xfrm>
            <a:off x="2986200" y="1709640"/>
            <a:ext cx="6157800" cy="2532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https://ds04.infourok.ru/uploads/ex/03f1/00008ca8-76ad1de0/img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2"/>
          <p:cNvSpPr/>
          <p:nvPr/>
        </p:nvSpPr>
        <p:spPr>
          <a:xfrm>
            <a:off x="250920" y="1052640"/>
            <a:ext cx="8642160" cy="58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этапе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 актуализации знаний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и умений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 подготовка к ВПР ведется в первую очередь в форме развития устных вычислительных навыков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Эффективные формы проведения устного счета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Математические диктанты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Игры и игровые моменты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3. Тесты «Проверь себя сам»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4. Устный счет с использованием карточек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5. Физкультурная минутка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6. Равный сче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7. Беглый счет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Calibri"/>
              </a:rPr>
              <a:t>8. Задачи по готовым чертежам, схемам и т.д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https://ds04.infourok.ru/uploads/ex/03f1/00008ca8-76ad1de0/img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1"/>
          <p:cNvSpPr/>
          <p:nvPr/>
        </p:nvSpPr>
        <p:spPr>
          <a:xfrm>
            <a:off x="250920" y="1415880"/>
            <a:ext cx="8424720" cy="41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же подготовку к ВПР можно проводить на этап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крепления знаний и умен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актически на каждом уроке выделяется определенное количество времени на данном этапе урока на разбор задания из варианта ВПР. Причем решается не один пример данного задания, а несколько типов примеров данного задания                           (3-5 примера каждого задания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https://ds04.infourok.ru/uploads/ex/03f1/00008ca8-76ad1de0/img11.jpg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"/>
          <p:cNvSpPr/>
          <p:nvPr/>
        </p:nvSpPr>
        <p:spPr>
          <a:xfrm>
            <a:off x="412920" y="1577880"/>
            <a:ext cx="831816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 проведения Всероссийских проверочных работ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алее ВПР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еспечение единства образовательного пространства Российской Федерации и поддержки введения Федерального государственного образовательного стандарта за счет предоставления образовательным организациям единых проверочных материалов и единых критериев оценивания учебных достижени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https://ds04.infourok.ru/uploads/ex/03f1/00008ca8-76ad1de0/img11.jpg"/>
          <p:cNvPicPr/>
          <p:nvPr/>
        </p:nvPicPr>
        <p:blipFill>
          <a:blip r:embed="rId1"/>
          <a:stretch/>
        </p:blipFill>
        <p:spPr>
          <a:xfrm>
            <a:off x="-255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1"/>
          <p:cNvSpPr/>
          <p:nvPr/>
        </p:nvSpPr>
        <p:spPr>
          <a:xfrm>
            <a:off x="154080" y="189000"/>
            <a:ext cx="8785080" cy="14965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задания, которые используются в процессе подготовки к ВПР взяты из сборников, полностью соответствующих федеральному государственному образовательному стандарту. Большинство из этих сборников скачать с ресурса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www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.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alleng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.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2" descr=""/>
          <p:cNvPicPr/>
          <p:nvPr/>
        </p:nvPicPr>
        <p:blipFill>
          <a:blip r:embed="rId2"/>
          <a:stretch/>
        </p:blipFill>
        <p:spPr>
          <a:xfrm>
            <a:off x="17640" y="1676520"/>
            <a:ext cx="2162160" cy="298116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3" descr=""/>
          <p:cNvPicPr/>
          <p:nvPr/>
        </p:nvPicPr>
        <p:blipFill>
          <a:blip r:embed="rId3"/>
          <a:stretch/>
        </p:blipFill>
        <p:spPr>
          <a:xfrm>
            <a:off x="2309760" y="1676520"/>
            <a:ext cx="2095560" cy="296208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4" descr=""/>
          <p:cNvPicPr/>
          <p:nvPr/>
        </p:nvPicPr>
        <p:blipFill>
          <a:blip r:embed="rId4"/>
          <a:stretch/>
        </p:blipFill>
        <p:spPr>
          <a:xfrm>
            <a:off x="4549680" y="1697040"/>
            <a:ext cx="2143080" cy="296244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5" descr=""/>
          <p:cNvPicPr/>
          <p:nvPr/>
        </p:nvPicPr>
        <p:blipFill>
          <a:blip r:embed="rId5"/>
          <a:stretch/>
        </p:blipFill>
        <p:spPr>
          <a:xfrm>
            <a:off x="6805440" y="1676520"/>
            <a:ext cx="2230560" cy="298116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6" descr=""/>
          <p:cNvPicPr/>
          <p:nvPr/>
        </p:nvPicPr>
        <p:blipFill>
          <a:blip r:embed="rId6"/>
          <a:stretch/>
        </p:blipFill>
        <p:spPr>
          <a:xfrm>
            <a:off x="1084320" y="3800520"/>
            <a:ext cx="2147760" cy="305748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7" descr=""/>
          <p:cNvPicPr/>
          <p:nvPr/>
        </p:nvPicPr>
        <p:blipFill>
          <a:blip r:embed="rId7"/>
          <a:stretch/>
        </p:blipFill>
        <p:spPr>
          <a:xfrm>
            <a:off x="3402000" y="3800520"/>
            <a:ext cx="2152800" cy="30574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8" descr=""/>
          <p:cNvPicPr/>
          <p:nvPr/>
        </p:nvPicPr>
        <p:blipFill>
          <a:blip r:embed="rId8"/>
          <a:stretch/>
        </p:blipFill>
        <p:spPr>
          <a:xfrm>
            <a:off x="5737320" y="3817800"/>
            <a:ext cx="1971720" cy="3057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https://ds04.infourok.ru/uploads/ex/03f1/00008ca8-76ad1de0/img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1"/>
          <p:cNvSpPr/>
          <p:nvPr/>
        </p:nvSpPr>
        <p:spPr>
          <a:xfrm>
            <a:off x="154080" y="189000"/>
            <a:ext cx="8785080" cy="7952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влечение ресурсов дистанционного обучения и ресурсов для подготовки к диагностической работе ( тренажеры, демоверсии, открытый банк задан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2"/>
          <a:stretch/>
        </p:blipFill>
        <p:spPr>
          <a:xfrm>
            <a:off x="500040" y="1428840"/>
            <a:ext cx="7635960" cy="4643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https://ds04.infourok.ru/uploads/ex/03f1/00008ca8-76ad1de0/img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1"/>
          <p:cNvSpPr/>
          <p:nvPr/>
        </p:nvSpPr>
        <p:spPr>
          <a:xfrm>
            <a:off x="154080" y="189000"/>
            <a:ext cx="8785080" cy="7952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влечение ресурсов дистанционного обучения и ресурсов для подготовки к диагностической работе ( тренажеры, демоверсии, открытый банк задан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1785960" y="1285920"/>
            <a:ext cx="4605480" cy="247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3"/>
          <a:stretch/>
        </p:blipFill>
        <p:spPr>
          <a:xfrm>
            <a:off x="428760" y="3857760"/>
            <a:ext cx="4679640" cy="3000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"/>
          <p:cNvPicPr/>
          <p:nvPr/>
        </p:nvPicPr>
        <p:blipFill>
          <a:blip r:embed="rId4"/>
          <a:stretch/>
        </p:blipFill>
        <p:spPr>
          <a:xfrm>
            <a:off x="4000680" y="4000680"/>
            <a:ext cx="4446360" cy="2361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https://ds04.infourok.ru/uploads/ex/03f1/00008ca8-76ad1de0/img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1"/>
          <p:cNvSpPr/>
          <p:nvPr/>
        </p:nvSpPr>
        <p:spPr>
          <a:xfrm>
            <a:off x="563760" y="2562120"/>
            <a:ext cx="827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Calibri"/>
              </a:rPr>
              <a:t>СПАСИБО ЗА ВНИМАНИ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https://ds04.infourok.ru/uploads/ex/03f1/00008ca8-76ad1de0/img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"/>
          <p:cNvSpPr/>
          <p:nvPr/>
        </p:nvSpPr>
        <p:spPr>
          <a:xfrm>
            <a:off x="357120" y="2435400"/>
            <a:ext cx="857268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начение ВПР по математике – оценить уровень общеобразовательной подготовки учащихся в соответствие с требованиями ФГОС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https://ds04.infourok.ru/uploads/ex/03f1/00008ca8-76ad1de0/img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3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04a7b"/>
                </a:solidFill>
                <a:latin typeface="Calibri"/>
              </a:rPr>
              <a:t>Структура и содержание ВП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57120" y="2571840"/>
          <a:ext cx="8329680" cy="2968560"/>
        </p:xfrm>
        <a:graphic>
          <a:graphicData uri="http://schemas.openxmlformats.org/drawingml/2006/table">
            <a:tbl>
              <a:tblPr/>
              <a:tblGrid>
                <a:gridCol w="1665360"/>
                <a:gridCol w="1666800"/>
                <a:gridCol w="1665360"/>
                <a:gridCol w="1666800"/>
                <a:gridCol w="1665360"/>
              </a:tblGrid>
              <a:tr h="1131840"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ичество зад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адания базового уров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адания повышенного уров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ремя выполнения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60440"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5, 7, 8, 11-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 9, 10, 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 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8640"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8, 10, 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 11, 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 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000"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9, 11-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 14-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 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8640"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5, 7, 9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 8, 15-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 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9" name=""/>
          <p:cNvSpPr txBox="1"/>
          <p:nvPr/>
        </p:nvSpPr>
        <p:spPr>
          <a:xfrm>
            <a:off x="428760" y="5572080"/>
            <a:ext cx="804384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дания базового уровня оцениваются в 1 балл, а задания повышенного уровня – 2 бал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https://ds04.infourok.ru/uploads/ex/03f1/00008ca8-76ad1de0/img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3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04a7b"/>
                </a:solidFill>
                <a:latin typeface="Calibri"/>
              </a:rPr>
              <a:t>Перевод первичных баллов в отметки по пятибалльной шкал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57120" y="2571840"/>
          <a:ext cx="8329680" cy="2968560"/>
        </p:xfrm>
        <a:graphic>
          <a:graphicData uri="http://schemas.openxmlformats.org/drawingml/2006/table">
            <a:tbl>
              <a:tblPr/>
              <a:tblGrid>
                <a:gridCol w="1665360"/>
                <a:gridCol w="1666800"/>
                <a:gridCol w="1665360"/>
                <a:gridCol w="1666800"/>
                <a:gridCol w="1665360"/>
              </a:tblGrid>
              <a:tr h="1131840"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цен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2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цен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3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цен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4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цен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«5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60440"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-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8640"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-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-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000"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-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8640"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-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-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14200" y="500040"/>
          <a:ext cx="8786880" cy="6215040"/>
        </p:xfrm>
        <a:graphic>
          <a:graphicData uri="http://schemas.openxmlformats.org/drawingml/2006/table">
            <a:tbl>
              <a:tblPr/>
              <a:tblGrid>
                <a:gridCol w="785880"/>
                <a:gridCol w="6215040"/>
                <a:gridCol w="1785960"/>
              </a:tblGrid>
              <a:tr h="380880"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я, виды деятельности (в соответствии с ФГО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е заданий учащимися 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(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я решать задачи на нахождение части числа и числа по его ча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зада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втобусе 51 место для пассажиров. Две трети этих мест уже заняты. Сколько ещё пассажиров может занять оставшиеся места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(П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решать задачи практического характера в 3-4 действ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зада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тер печатает 72 страницы за 3 минуты. За сколько минут этот принтер напечатает 120 страниц? Запишите решение и отве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(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решать задачи на процент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зада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магазине куртки продавались по цене 8 000 руб. за одну куртку. Летом на эту цену стала действовать скидка в 20%. Сколько рублей составляет скидка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(П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ладение навыками письменных вычисл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зада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йдите значение выражения.  Запишите решение и отве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2040"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(П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решать задачи на покупки, решать несложные логические задачи методом рассуждени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зада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магазине продаётся несколько видов творога в различных упаковках и по различной цене. В таблице показана масса каждой упаковки и её цена. Какова наименьшая цена за килограмм творога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440"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(П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проводить логические обоснования, доказательства математических утвержд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зада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арточках написаны различные двузначные числа. Сколько карточек нужно взять не глядя, чтобы по крайней мере одно из чисел делилось на 2 или на 7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Object 1"/>
          <p:cNvGraphicFramePr/>
          <p:nvPr/>
        </p:nvGraphicFramePr>
        <p:xfrm>
          <a:off x="2500200" y="4643280"/>
          <a:ext cx="3841920" cy="9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0200" y="4643280"/>
                    <a:ext cx="384192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Picture 4" descr=""/>
          <p:cNvPicPr/>
          <p:nvPr/>
        </p:nvPicPr>
        <p:blipFill>
          <a:blip r:embed="rId3"/>
          <a:stretch/>
        </p:blipFill>
        <p:spPr>
          <a:xfrm>
            <a:off x="2786040" y="3357720"/>
            <a:ext cx="1647720" cy="1904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4a7b"/>
                </a:solidFill>
                <a:latin typeface="Calibri"/>
              </a:rPr>
              <a:t>Проблемные задания, выявленные по результатам ВПР по математике в 5 класс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4a7b"/>
                </a:solidFill>
                <a:latin typeface="Calibri"/>
              </a:rPr>
              <a:t>Проблемные задания, выявленные по результатам ВПР по математике в </a:t>
            </a:r>
            <a:r>
              <a:rPr b="1" lang="en-US" sz="1800" spc="-1" strike="noStrike">
                <a:solidFill>
                  <a:srgbClr val="604a7b"/>
                </a:solidFill>
                <a:latin typeface="Calibri"/>
              </a:rPr>
              <a:t>6</a:t>
            </a:r>
            <a:r>
              <a:rPr b="1" lang="ru-RU" sz="1800" spc="-1" strike="noStrike">
                <a:solidFill>
                  <a:srgbClr val="604a7b"/>
                </a:solidFill>
                <a:latin typeface="Calibri"/>
              </a:rPr>
              <a:t> класс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42920" y="357120"/>
          <a:ext cx="8786880" cy="6215040"/>
        </p:xfrm>
        <a:graphic>
          <a:graphicData uri="http://schemas.openxmlformats.org/drawingml/2006/table">
            <a:tbl>
              <a:tblPr/>
              <a:tblGrid>
                <a:gridCol w="1163520"/>
                <a:gridCol w="5992920"/>
                <a:gridCol w="1630440"/>
              </a:tblGrid>
              <a:tr h="411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я, виды деятельности (в соответствии с ФГО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е заданий учащимися 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(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,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Б), 4(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 на вычисления рациональных чис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зада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(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решать задачи на нахождение части числа и числа по его част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зада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уменьшили на треть, и получилось 210. Найдите исходное число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2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(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решать задачи на координатной прямо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зада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6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(П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ладение навыками письменных вычислени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зада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0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(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 решать несложные логические задачи методом рассужд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зада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емье Михайловых пятеро детей— три мальчика и две девоч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ерите верные утверждения и запишите в ответе их номера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пробелов, запятых или других дополнительных символ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У каждой девочки в семье Михайловых есть две сестр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Дочерей у Михайловых не меньше трё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 Большинство детей в семье Михайловых— мальчи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) У каждого мальчика в семье Михайловых сестёр и братьев поровн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Object 43"/>
          <p:cNvGraphicFramePr/>
          <p:nvPr/>
        </p:nvGraphicFramePr>
        <p:xfrm>
          <a:off x="5357880" y="1285920"/>
          <a:ext cx="1727280" cy="25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4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57880" y="1285920"/>
                    <a:ext cx="1727280" cy="2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41"/>
          <p:cNvGraphicFramePr/>
          <p:nvPr/>
        </p:nvGraphicFramePr>
        <p:xfrm>
          <a:off x="1428840" y="1357200"/>
          <a:ext cx="1928880" cy="24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Object 4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28840" y="1357200"/>
                    <a:ext cx="1928880" cy="2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40"/>
          <p:cNvGraphicFramePr/>
          <p:nvPr/>
        </p:nvGraphicFramePr>
        <p:xfrm>
          <a:off x="1428840" y="2786040"/>
          <a:ext cx="3593880" cy="92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Object 4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28840" y="2786040"/>
                    <a:ext cx="359388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Picture 45" descr=""/>
          <p:cNvPicPr/>
          <p:nvPr/>
        </p:nvPicPr>
        <p:blipFill>
          <a:blip r:embed="rId7"/>
          <a:stretch/>
        </p:blipFill>
        <p:spPr>
          <a:xfrm>
            <a:off x="1428840" y="4286160"/>
            <a:ext cx="4086000" cy="4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7" descr=""/>
          <p:cNvPicPr/>
          <p:nvPr/>
        </p:nvPicPr>
        <p:blipFill>
          <a:blip r:embed="rId8"/>
          <a:stretch/>
        </p:blipFill>
        <p:spPr>
          <a:xfrm>
            <a:off x="3714840" y="1214280"/>
            <a:ext cx="1457280" cy="428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4a7b"/>
                </a:solidFill>
                <a:latin typeface="Calibri"/>
              </a:rPr>
              <a:t>Проблемные задания, выявленные по результатам ВПР по математике в </a:t>
            </a:r>
            <a:r>
              <a:rPr b="1" lang="en-US" sz="1800" spc="-1" strike="noStrike">
                <a:solidFill>
                  <a:srgbClr val="604a7b"/>
                </a:solidFill>
                <a:latin typeface="Calibri"/>
              </a:rPr>
              <a:t>6</a:t>
            </a:r>
            <a:r>
              <a:rPr b="1" lang="ru-RU" sz="1800" spc="-1" strike="noStrike">
                <a:solidFill>
                  <a:srgbClr val="604a7b"/>
                </a:solidFill>
                <a:latin typeface="Calibri"/>
              </a:rPr>
              <a:t> класс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14200" y="285840"/>
          <a:ext cx="8715600" cy="6037200"/>
        </p:xfrm>
        <a:graphic>
          <a:graphicData uri="http://schemas.openxmlformats.org/drawingml/2006/table">
            <a:tbl>
              <a:tblPr/>
              <a:tblGrid>
                <a:gridCol w="1154160"/>
                <a:gridCol w="5943600"/>
                <a:gridCol w="1617840"/>
              </a:tblGrid>
              <a:tr h="565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я, виды деятельности (в соответствии с ФГО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е заданий учащимися 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(П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решать задачи на покуп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зада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ккейные коньки стоили 4500 руб. Сначала цену снизили на 20%, а потом эту сниженную цену повысили на 20%. Сколько стали стоить коньки после повышения цены? Запишите решение и отве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5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(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ладение геометрическим языком, развитие навыков изобразительных умений, навыков геометрических построений. 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зада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(П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проводить логические обоснования, доказательства математических утвержд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задания: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зья Алеша, Боря и Витя учатся в одном классе. Один из них ездит домой от школы на автобусе, другой— на трамвае, а третий— на троллейбусе. Однажды после уроков Алёша пошёл проводить своего друга до остановки автобуса. Когда мимо них проходил троллейбус, третий друг крикнул из окна: «Боря, ты забыл в школе тетрадку!» Кто на чем ездит домой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" name="Object 5"/>
          <p:cNvGraphicFramePr/>
          <p:nvPr/>
        </p:nvGraphicFramePr>
        <p:xfrm>
          <a:off x="1428840" y="2571840"/>
          <a:ext cx="5037120" cy="22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8840" y="2571840"/>
                    <a:ext cx="5037120" cy="22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4a7b"/>
                </a:solidFill>
                <a:latin typeface="Calibri"/>
              </a:rPr>
              <a:t>Проблемные задания, выявленные по результатам ВПР по математике в 7 класс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14200" y="357120"/>
          <a:ext cx="8715600" cy="6303960"/>
        </p:xfrm>
        <a:graphic>
          <a:graphicData uri="http://schemas.openxmlformats.org/drawingml/2006/table">
            <a:tbl>
              <a:tblPr/>
              <a:tblGrid>
                <a:gridCol w="928800"/>
                <a:gridCol w="6429240"/>
                <a:gridCol w="1357560"/>
              </a:tblGrid>
              <a:tr h="620640">
                <a:tc>
                  <a:txBody>
                    <a:bodyPr lIns="0" rIns="0" tIns="0" bIns="0" anchor="t">
                      <a:noAutofit/>
                    </a:bodyPr>
                    <a:p>
                      <a:pPr marL="66600" indent="196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482840" indent="-97488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формированные и недостаточно сформированные планируемые результа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9840" indent="131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выпол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5280">
                <a:tc>
                  <a:txBody>
                    <a:bodyPr lIns="0" rIns="0" tIns="0" bIns="0" anchor="t">
                      <a:noAutofit/>
                    </a:bodyPr>
                    <a:p>
                      <a:pPr marL="4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(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2(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 на вычисления рациональных чис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зада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33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 marL="4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(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ись чисел с использованием разных систем измерения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задания: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ктор едет по дороге, проезжая 10 метров за каждую секунду. Выразите скорость трактора в километрах в ча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33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0" rIns="0" tIns="0" bIns="0" anchor="t">
                      <a:noAutofit/>
                    </a:bodyPr>
                    <a:p>
                      <a:pPr marL="4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(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 решать несложные логические задачи методом рассужд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зада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кондитерской на прилавке лежат 3 булочки с маком, 2 трубочки с кремом, 2 эклера с кремом, 3 медовика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ерите верные утверждения и запишите в ответе их номер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Больше всего на прилавке медовик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Пирожных с кремо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ольшинств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 Трубочек не меньше, чем эклер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) В кондитерской можно взять 3 набора, которые будут состоять из одной булочки с маком и медови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33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7360">
                <a:tc>
                  <a:txBody>
                    <a:bodyPr lIns="0" rIns="0" tIns="0" bIns="0" anchor="t">
                      <a:noAutofit/>
                    </a:bodyPr>
                    <a:p>
                      <a:pPr marL="4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(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98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решать задачи на нахождение формулы линейной функ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зада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рисунке изображён график линейной функции. Напишите формулу, которая задаёт эту линейную функцию.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33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" name="Object 4"/>
          <p:cNvGraphicFramePr/>
          <p:nvPr/>
        </p:nvGraphicFramePr>
        <p:xfrm>
          <a:off x="3786120" y="1357200"/>
          <a:ext cx="714600" cy="4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6120" y="1357200"/>
                    <a:ext cx="71460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Object 3"/>
          <p:cNvGraphicFramePr/>
          <p:nvPr/>
        </p:nvGraphicFramePr>
        <p:xfrm>
          <a:off x="1285920" y="5214960"/>
          <a:ext cx="1262160" cy="121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85920" y="5214960"/>
                    <a:ext cx="126216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5"/>
          <p:cNvGraphicFramePr/>
          <p:nvPr/>
        </p:nvGraphicFramePr>
        <p:xfrm>
          <a:off x="2571840" y="1357200"/>
          <a:ext cx="904680" cy="50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9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71840" y="1357200"/>
                    <a:ext cx="90468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5T12:40:05Z</dcterms:created>
  <dc:creator>User</dc:creator>
  <dc:description/>
  <dc:language>en-US</dc:language>
  <cp:lastModifiedBy>Admin</cp:lastModifiedBy>
  <dcterms:modified xsi:type="dcterms:W3CDTF">2022-02-25T12:34:48Z</dcterms:modified>
  <cp:revision>101</cp:revision>
  <dc:subject/>
  <dc:title>Слайд 1</dc:title>
</cp:coreProperties>
</file>