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278240" y="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A4EDDD-D1F8-4BB6-8CA9-5C1E4A10FF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EAEB11-112E-44C3-BE10-A2AA7F4905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6687E7-8FAA-47C0-90A6-C43E1B30F6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73E08A-2403-4A22-8D27-D1A52F6394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46C632-C294-4DA9-947F-12D1AF425B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44A3AA-C502-4219-B45B-BF45476B8A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5062AC-CB67-4567-94B2-13A49C5A31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18FB53-5D14-422D-B461-D140ABA4EF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1C5632-768F-4F38-A520-5298B15943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133FC0-7FBA-40E9-92F5-A106CF922A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340539-DDCD-44F6-8223-1162860E42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3DB7C6-AE28-470B-98AA-0F8646EC5C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116E71-07D3-4D53-8027-F4A713720F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B14654-E0CE-4C6B-AB7F-E204E4BA52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990E82-EDDD-4658-BE40-4B74C66FB0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B33755-D23D-4F35-956F-9069F6F227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D72E92-5C05-4EA6-9B05-4C2E04476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BBE2C8-2210-4D0B-8AF8-503D2D4F8F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A0555A-B487-4D47-9FA0-8A2BBA15F0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923649-FBFC-4303-8453-06E2AA3020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  <a:ea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236600"/>
            <a:ext cx="75596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Методика решения новых и </a:t>
            </a:r>
            <a:r>
              <a:rPr b="1" i="1" lang="ru-RU" sz="4000" spc="-1" strike="noStrike">
                <a:solidFill>
                  <a:srgbClr val="843c0c"/>
                </a:solidFill>
                <a:latin typeface="Arial"/>
                <a:ea typeface="Tahoma"/>
              </a:rPr>
              <a:t>трудных заданий</a:t>
            </a: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 в </a:t>
            </a:r>
            <a:br>
              <a:rPr sz="4000"/>
            </a:br>
            <a:r>
              <a:rPr b="1" i="1" lang="de-DE" sz="4000" spc="-1" strike="noStrike">
                <a:solidFill>
                  <a:srgbClr val="843c0c"/>
                </a:solidFill>
                <a:latin typeface="Arial"/>
                <a:ea typeface="Tahoma"/>
              </a:rPr>
              <a:t>ЕГЭ -2023 по ис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260360" y="3970440"/>
            <a:ext cx="7915320" cy="1825560"/>
          </a:xfrm>
          <a:prstGeom prst="rect">
            <a:avLst/>
          </a:prstGeom>
          <a:noFill/>
          <a:ln cap="sq" w="936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учитель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МОАУ "СОШ №16 г. Новотроицка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Лыскина А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на </a:t>
            </a: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ет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41240" y="700200"/>
            <a:ext cx="8607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стоит обратить внимание выпускникам </a:t>
            </a:r>
            <a:br>
              <a:rPr sz="2800"/>
            </a:b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2023 года в ЕГЭ по истори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777960" y="2575080"/>
            <a:ext cx="84628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ЕГЭ-2023 добавлено задание на умение сравнивать исторические события, явления, процессы. Требуется написать тезис – обобщенное оценочное суждение, которое содержит информацию о сходстве или различии каких-либо объек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ния наиболее трудные в I част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1008000" y="1162080"/>
            <a:ext cx="78883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З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дание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на знание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актов истории культур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тором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ребуется соотнести памятники культуры и их характерист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я на работу с исторической карт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Задания наиболее трудные во II ча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Задание на аргументацию (№21), в котором требуется привести аргументы, подтверждающие точку зрения представленную в зада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Задание на установление причинно-следственных связей (№18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88960" y="728640"/>
            <a:ext cx="8663040" cy="252972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том же десятилетии, когда в России было отменено крепостное право, в США было отменено рабство. Используя исторические знания, приведите аргументы в подтверждение точки зрения, что оба указанных события повлияли на дальнейшую внутреннюю политику правительств в странах, где они произошли: один аргумент для России и один для СШ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 изложении аргументов обязательно используйте исторические фак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158760"/>
            <a:ext cx="9502920" cy="568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635040" y="3595680"/>
            <a:ext cx="8261280" cy="191916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Ответ оформите в следующем ви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Аргумент для России: 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Segoe UI Symbol"/>
              </a:rPr>
              <a:t>Аргумент для США: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Segoe UI Symbo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62040" y="728640"/>
          <a:ext cx="8435880" cy="632304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6323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равильный ответ должен содержать аргумен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1) для России, например: с отменой крепостного права крестьяне перестали находиться под опекой помещиков, которые ими ранее владели, и у правительства возникла необходимость создания органов местного самоуправления, которые бы управляли хозяйственными делами в соответствии с социаль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экономической обстановкой в каждом регионе страны; была проведена земская реформ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2) для США, например: после отмены рабства в США бывшие плантаторы-рабовладельцы пытались вернуть свою власть над бывшими рабами, для чего в южных штатах ими были приняты «чёрные кодексы», которые почти полностью воспроизводили действовавшие до Гражданской войны законы о рабах; Конгрессом США был принят закон, отменявший «чёрные кодексы», власти США приступили к «радикальной реконструкции Юга», целью которой было не допустить возвращения рабств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Могут быть при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ведены другие аргу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781200" y="1100160"/>
          <a:ext cx="8435880" cy="4627440"/>
        </p:xfrm>
        <a:graphic>
          <a:graphicData uri="http://schemas.openxmlformats.org/drawingml/2006/table">
            <a:tbl>
              <a:tblPr/>
              <a:tblGrid>
                <a:gridCol w="8435880"/>
              </a:tblGrid>
              <a:tr h="50472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Приведены по одному аргументу для России и СШ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                   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Приведён только один аргумент для России. ИЛИ Приведён только один аргумент для СШ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                                                                            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Аргумент(ы) не сформулирован(ы); приведено не менее двух фактов, возможность использования которых для аргументации очевидн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           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0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Аргумент(ы) не сформулирован(ы); приведён один факт, который может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0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  </a:t>
                      </a: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быть использован для аргумента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ИЛИ Приведены рассуждения общего характера, не соответствующие требованию зад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ИЛИ Ответ неправи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Максимальная оценка</a:t>
                      </a:r>
                      <a:r>
                        <a:rPr b="0" lang="ru-RU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41240" y="700200"/>
            <a:ext cx="8607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одготовка к ЕГЭ по истории</a:t>
            </a:r>
            <a:br>
              <a:rPr sz="2800"/>
            </a:br>
            <a:r>
              <a:rPr b="1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обратить вним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1689120"/>
            <a:ext cx="90723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ние хронологии, исторических событий, основных фа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бота со статистикой, картой, схемой, иллюстрац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нализ исторических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атериал по всеобщей истори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чино-следственные связи между историческими событиям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мения сравнивать исторические процессы и собы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хронологи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1619280"/>
            <a:ext cx="845028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808080"/>
                </a:solidFill>
                <a:latin typeface="Century Gothic"/>
                <a:ea typeface="Tahoma"/>
              </a:rPr>
              <a:t>  </a:t>
            </a:r>
            <a:r>
              <a:rPr b="0" lang="de-DE" sz="2400" spc="-1" strike="noStrike">
                <a:solidFill>
                  <a:srgbClr val="222a35"/>
                </a:solidFill>
                <a:latin typeface="Times New Roman"/>
                <a:ea typeface="Times New Roman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оответст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ежду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и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а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пределение века по го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сположение трех событий в хронологической последовательности (с обязательным включением элемента всеобщей истори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тановление соответствия в ряд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отнесение процессов (явлений, событий) с факт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есение событий и участ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картографическим материал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22240" y="1487520"/>
            <a:ext cx="84186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ние карт на уроке, атлас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з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ть, что такое (легенда) карт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учить читать все обозна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на уроках похожие задан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иллюстрац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457280"/>
            <a:ext cx="84186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ть на уроке все иллюстрации в учебнике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не ег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задания на соотнесение личности с фо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в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ыполнять задания на соотнесение архитектурных памятников с деятелями культур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бота с историческими источни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822240" y="1409760"/>
            <a:ext cx="84186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ть материалы исторических источников на урок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н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учить учащихся анализировать их, выделять главное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 Пусть дети подчеркивают главное в самом историческом документе, выделяют, так у них будет формироваться функциональная грамотность и историческая зорк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1240" y="700200"/>
            <a:ext cx="8607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Структура экзаменационной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41360" y="1768320"/>
            <a:ext cx="89154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Экзаменационная работа по истории в 2023г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с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ои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 21 задания: 12 в первой части и 9 заданий – во втор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вая часть включает задания с кратким ответом в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иде последовательности цифр, слова, словосоче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торая часть –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д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с 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звернут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ответ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м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Максимальный первичный балл за всю работу – 42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algn="just">
              <a:lnSpc>
                <a:spcPct val="100000"/>
              </a:lnSpc>
              <a:tabLst>
                <a:tab algn="l" pos="0"/>
                <a:tab algn="l" pos="749160"/>
                <a:tab algn="l" pos="1663560"/>
                <a:tab algn="l" pos="2577960"/>
                <a:tab algn="l" pos="3492360"/>
                <a:tab algn="l" pos="4406760"/>
                <a:tab algn="l" pos="5321160"/>
                <a:tab algn="l" pos="6235560"/>
                <a:tab algn="l" pos="7149960"/>
                <a:tab algn="l" pos="8064360"/>
                <a:tab algn="l" pos="8978760"/>
                <a:tab algn="l" pos="989316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можно получить за выполнение заданий первой части, максимальный балл за выполнение задан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торой части, соответственно, 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екомендации по подготовке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к ЕГЭ-2023 по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503280" y="1457280"/>
            <a:ext cx="865656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ставить список тем для изучения, исходя из кодификатора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меч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изученные темы, так ребенок не запутается, какие темы он уже изучи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дел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внимание каждому из шести тематических блок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 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е стоит выб</a:t>
            </a: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и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рать более "любимые" </a:t>
            </a: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В</a:t>
            </a:r>
            <a:r>
              <a:rPr b="0" lang="de-DE" sz="24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заданиях встретятся все ш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4.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бр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ща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ь внимание не только на теорию, но и на формат выполнения задан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й 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избежани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е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ошибок по невнима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41240" y="700200"/>
            <a:ext cx="8607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роверенные приемы 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изучения ис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822240" y="1038240"/>
            <a:ext cx="853920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ahoma"/>
              </a:rPr>
              <a:t>-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социации для запоминания событий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99284c"/>
              </a:buClr>
              <a:buSzPct val="75000"/>
              <a:buFont typeface="Times New Roman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шпаргалка» с основными дат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99284c"/>
              </a:buClr>
              <a:buSzPct val="75000"/>
              <a:buFont typeface="Times New Roman"/>
              <a:buChar char="-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зучение дат в синхронической последовательности со всеобщей истор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с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авление лент времени для запоминания дат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с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тавление коротких рассказов: досье на историческую лич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и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ользование исторических карт (бумажных, интерактивных, динамических)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н</a:t>
            </a:r>
            <a:r>
              <a:rPr b="0" lang="de-DE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решивание вариантов, тренажеров, тематических тестов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опрос в виде зач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1240" y="700200"/>
            <a:ext cx="86076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 что стоит обратить внимание выпускникам </a:t>
            </a:r>
            <a:br>
              <a:rPr sz="2800"/>
            </a:br>
            <a:r>
              <a:rPr b="1" lang="de-DE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2023 года в ЕГЭ по истории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77960" y="2575080"/>
            <a:ext cx="846288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!!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</a:t>
            </a: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экзаменационной работе текущего учебного года увеличено число вопросов о Великой Отечественной во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держательно они включены в 4 зад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№№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, 5, 8,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55560" y="1201680"/>
            <a:ext cx="868680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тановите соответствие между событиями и годами: к каждой позиции первого столбца подберите соответствующую позицию из второго столбц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195120" y="158760"/>
            <a:ext cx="9723600" cy="11271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Проверяет знание хронологии. В нем необходимо установить                        соответствие между указанными событиями и год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69960" y="2306520"/>
          <a:ext cx="8321760" cy="2328840"/>
        </p:xfrm>
        <a:graphic>
          <a:graphicData uri="http://schemas.openxmlformats.org/drawingml/2006/table">
            <a:tbl>
              <a:tblPr/>
              <a:tblGrid>
                <a:gridCol w="4218120"/>
                <a:gridCol w="4103640"/>
              </a:tblGrid>
              <a:tr h="39600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ОБ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64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) первое упоминание Москвы в лето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) Карибский кри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) танковое сражение под Прохоров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) Медный бу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988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147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66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4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4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2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 Unicode MS"/>
                        </a:rPr>
                        <a:t>196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49360" y="4708440"/>
            <a:ext cx="5400720" cy="70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ишите в таблицу выбранные цифры под соответствующи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977080" y="4795920"/>
          <a:ext cx="3009600" cy="817560"/>
        </p:xfrm>
        <a:graphic>
          <a:graphicData uri="http://schemas.openxmlformats.org/drawingml/2006/table">
            <a:tbl>
              <a:tblPr/>
              <a:tblGrid>
                <a:gridCol w="752400"/>
                <a:gridCol w="752400"/>
                <a:gridCol w="754200"/>
                <a:gridCol w="750600"/>
              </a:tblGrid>
              <a:tr h="4064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55560" y="1201680"/>
            <a:ext cx="8686800" cy="1309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тановите соответствие между процессами (явлениями, событиями) и фактами, относящимися к этим процессам (явлениям, событиям): к каждой позиции первого столбца подберите соответствующую позицию из второго столб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158760"/>
            <a:ext cx="9723600" cy="112716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14440" indent="-513000">
              <a:lnSpc>
                <a:spcPct val="100000"/>
              </a:lnSpc>
              <a:tabLst>
                <a:tab algn="l" pos="0"/>
                <a:tab algn="l" pos="514440"/>
                <a:tab algn="l" pos="1428840"/>
                <a:tab algn="l" pos="2343240"/>
                <a:tab algn="l" pos="3257640"/>
                <a:tab algn="l" pos="4172040"/>
                <a:tab algn="l" pos="5086440"/>
                <a:tab algn="l" pos="6000840"/>
                <a:tab algn="l" pos="6915240"/>
                <a:tab algn="l" pos="7829640"/>
                <a:tab algn="l" pos="8744040"/>
                <a:tab algn="l" pos="9658440"/>
                <a:tab algn="l" pos="1057284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5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еобходимо установить соответствие между указанными событиями и их участни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16040" y="2455920"/>
          <a:ext cx="8321760" cy="2316240"/>
        </p:xfrm>
        <a:graphic>
          <a:graphicData uri="http://schemas.openxmlformats.org/drawingml/2006/table">
            <a:tbl>
              <a:tblPr/>
              <a:tblGrid>
                <a:gridCol w="4217760"/>
                <a:gridCol w="4104000"/>
              </a:tblGrid>
              <a:tr h="39744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ОБ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АС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) Ледовое побоищ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) Первая мировая вой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) Полтавская 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) Московская би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) М.Д. Скобел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) Андрей Боголюб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) А.А. Бруси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) Александр Нев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) Б.П. Шеремет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27120">
                        <a:lnSpc>
                          <a:spcPct val="95000"/>
                        </a:lnSpc>
                        <a:tabLst>
                          <a:tab algn="l" pos="0"/>
                          <a:tab algn="l" pos="627120"/>
                          <a:tab algn="l" pos="1541520"/>
                          <a:tab algn="l" pos="2455920"/>
                          <a:tab algn="l" pos="3370320"/>
                          <a:tab algn="l" pos="4284720"/>
                          <a:tab algn="l" pos="5199120"/>
                          <a:tab algn="l" pos="6113520"/>
                          <a:tab algn="l" pos="7027920"/>
                          <a:tab algn="l" pos="7942320"/>
                          <a:tab algn="l" pos="8856720"/>
                          <a:tab algn="l" pos="9771120"/>
                          <a:tab algn="l" pos="10685520"/>
                          <a:tab algn="l" pos="1078236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) В.В. Талалих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50880" y="4959360"/>
            <a:ext cx="4913280" cy="700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ишите в таблицу выбранные цифры под соответствующи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108840" y="4957920"/>
          <a:ext cx="3009600" cy="817560"/>
        </p:xfrm>
        <a:graphic>
          <a:graphicData uri="http://schemas.openxmlformats.org/drawingml/2006/table">
            <a:tbl>
              <a:tblPr/>
              <a:tblGrid>
                <a:gridCol w="752400"/>
                <a:gridCol w="752400"/>
                <a:gridCol w="754200"/>
                <a:gridCol w="750600"/>
              </a:tblGrid>
              <a:tr h="4060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09720" y="5919840"/>
            <a:ext cx="832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! Это задание проверяет знание исторических личностей, не только военоначальников, но и героев войны (в том числе героев-школьников), ученых, конструкторов, деятелей культу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95120" y="728640"/>
            <a:ext cx="5840640" cy="70020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ссмотрите изображение и выполните зад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158760"/>
            <a:ext cx="5838840" cy="1441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9c52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8</a:t>
            </a:r>
            <a:r>
              <a:rPr b="1" lang="ru-RU" sz="28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овое. Необходимо рассмотреть изображение и выполнить задачу. Например, заполнить пропуск в предложении (вставить слово или сочетание слов).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701640" y="1630440"/>
            <a:ext cx="5334120" cy="161424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полните пропуск в предлож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«Данный плакат посвящён событиям тысяча девятьсот ___________________ года». Ответ запишите словом (сочетанием сл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7510" t="3456" r="15966" b="3618"/>
          <a:stretch/>
        </p:blipFill>
        <p:spPr>
          <a:xfrm>
            <a:off x="6178680" y="181080"/>
            <a:ext cx="3900240" cy="726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3521160" y="3505320"/>
          <a:ext cx="2579760" cy="669960"/>
        </p:xfrm>
        <a:graphic>
          <a:graphicData uri="http://schemas.openxmlformats.org/drawingml/2006/table">
            <a:tbl>
              <a:tblPr/>
              <a:tblGrid>
                <a:gridCol w="2579760"/>
              </a:tblGrid>
              <a:tr h="68544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сорок пя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5120" y="728640"/>
            <a:ext cx="9688680" cy="39528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чтите отрывки из воспоминаний современ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158760"/>
            <a:ext cx="9688680" cy="10144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8466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7</a:t>
            </a:r>
            <a:r>
              <a:rPr b="1" lang="ru-RU" sz="2800" spc="-1" strike="noStrike">
                <a:solidFill>
                  <a:srgbClr val="843c0c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843c0c"/>
                </a:solidFill>
                <a:latin typeface="Times New Roman"/>
                <a:ea typeface="Times New Roman"/>
              </a:rPr>
              <a:t>Направлено на работу с источниками. Необходимо прочитать и сопоставить два исторических источника</a:t>
            </a:r>
            <a:r>
              <a:rPr b="1" i="1" lang="ru-RU" sz="20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54120" y="1235160"/>
          <a:ext cx="8367480" cy="5546520"/>
        </p:xfrm>
        <a:graphic>
          <a:graphicData uri="http://schemas.openxmlformats.org/drawingml/2006/table">
            <a:tbl>
              <a:tblPr/>
              <a:tblGrid>
                <a:gridCol w="216000"/>
                <a:gridCol w="8151480"/>
              </a:tblGrid>
              <a:tr h="3985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РАГМЕНТЫ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«На личной карте Паулюса этот дом (на площади 9 Января) был отмечен как крепость. Пленные немецкие разведчики считали, что его обороняет батальо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 этом доме узнала сначала наша армия, потом вся страна и, наконец, весь мир. На его защитников равнялась, как в строю, вся дивизия, о нём слагались песни и легенд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ак это ни странно, но это четырёхэтажное жилое здание, выстроенное не из какого-либо несокрушимого материала, а из обыкновенной глины, дерева и кирпича, оказавшееся вообще малоустойчивым, вполне заслуживало того, что о нём писали или рассказыв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, это был «дом-крепость», его обороняли бойцы, каждый из которых стоил целого отделения, а то и взвода противника, и слава о них не померкнет в веках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54120" y="1235160"/>
          <a:ext cx="8367480" cy="5821200"/>
        </p:xfrm>
        <a:graphic>
          <a:graphicData uri="http://schemas.openxmlformats.org/drawingml/2006/table">
            <a:tbl>
              <a:tblPr/>
              <a:tblGrid>
                <a:gridCol w="216000"/>
                <a:gridCol w="8151480"/>
              </a:tblGrid>
              <a:tr h="384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РАГМЕНТЫ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70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«Недалеко от вокзала мы встретили комиссара сапёрной части. Радость: комиссар знает, где командный пункт армии. Он и проводил нас до подножия Мамаева курга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Оставив машину, на курган поднялся пешком, цепляясь в темноте за кусты, за какие-то колючки. Наконец долгожданный окрик часов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Стой! Кто идё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Командный пункт. Овраг, свежевырытые щели, блиндажи. Мамаев курган! Мог ли я тогда предполагать, что он станет местом высшего напряжения боёв, что здесь, на этом клочке, не останется ни одного живого места, не перекопанного взрывами снарядов и авиабомб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222a35"/>
                          </a:solidFill>
                          <a:latin typeface="Times New Roman"/>
                          <a:ea typeface="Arial Unicode MS"/>
                        </a:rPr>
                        <a:t>Вот и блиндаж начальника штаба армии генерал-майора Николая Ивановича Крылов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5120" y="728640"/>
            <a:ext cx="9609120" cy="1919160"/>
          </a:xfrm>
          <a:prstGeom prst="pie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кажите название битвы, к которой относятся оба представленных отрыв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кажите кодовое название одной любой операции, проведённой Красной армией в ходе этой битвы. Приведите одно любое суждение, которым автор одного из отрывков указывает на высокие боевые качества советских вои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 ответе избегайте цитирования избыточного текста, не содержащего положений, которые должны быть приведены по условию зад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195120" y="158760"/>
            <a:ext cx="9609120" cy="5684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843c0c"/>
                </a:solidFill>
                <a:latin typeface="Arial"/>
                <a:ea typeface="Arial"/>
              </a:rPr>
              <a:t>Задание 17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39720" y="3033720"/>
          <a:ext cx="8504280" cy="3762360"/>
        </p:xfrm>
        <a:graphic>
          <a:graphicData uri="http://schemas.openxmlformats.org/drawingml/2006/table">
            <a:tbl>
              <a:tblPr/>
              <a:tblGrid>
                <a:gridCol w="8504280"/>
              </a:tblGrid>
              <a:tr h="3762360">
                <a:tc>
                  <a:txBody>
                    <a:bodyPr lIns="90000" rIns="90000" tIns="59400" bIns="46800" anchor="t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равильный ответ должен содержать следующие элемен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1) название битвы – Сталинградска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2) кодовое название операции, например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«Уран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«Кольцо»; (Может быть указано название другой операции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3) суждение, например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пленные немецкие разведчики считали, что дом обороняет батальон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на защитников дома «равнялась, как в строю, вся дивизия, о нём слагались песни и легенды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– </a:t>
                      </a:r>
                      <a:r>
                        <a:rPr b="1" lang="de-DE" sz="2000" spc="-1" strike="noStrike">
                          <a:solidFill>
                            <a:srgbClr val="843c0c"/>
                          </a:solidFill>
                          <a:latin typeface="Times New Roman"/>
                          <a:ea typeface="Arial Unicode MS"/>
                        </a:rPr>
                        <a:t>дом обороняли бойцы, «каждый из которых стоил целого отделения, а то и взвода противника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1:32:32Z</dcterms:created>
  <dc:creator/>
  <dc:description/>
  <dc:language>en-US</dc:language>
  <cp:lastModifiedBy>Пользователь</cp:lastModifiedBy>
  <dcterms:modified xsi:type="dcterms:W3CDTF">2023-01-12T06:24:16Z</dcterms:modified>
  <cp:revision>92</cp:revision>
  <dc:subject/>
  <dc:title>Методика решения новых и трудных заданий в  ЕГЭ -2023 по истории</dc:title>
</cp:coreProperties>
</file>