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BCD80-D781-4837-A566-62C30B20F9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7561DC-E349-4266-858B-845012B1E7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71BBDF-6A97-4628-BBE9-AFC4246BCD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8C686A-319D-4B9B-B658-BDFBD76008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A42C23-6A7F-4401-B718-B6E4C4CE8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3013BE-CB0B-4707-B4DB-C82686A69E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F68E0D-7D6B-4313-9357-8AF6E33915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2D0D4-6B29-44B8-9184-873D33EA4F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6F3CD4-E701-41FC-B1DD-6E4152E102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219489-1E96-48BD-B2B0-414E604E2E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36FC69-829E-4F57-A991-4FC2D1CF19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6F80DF-16EA-4288-BB5F-C8A1B98BCD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833D81-2B9A-4829-A50B-17160DA331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65589-4C60-426C-9C55-E134FFE07D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9B8BFA-CDF8-42E5-9309-C2DA52038F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D62CE9-807C-4658-8816-FE1B1D657A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4E46BE-F764-4F6E-8599-074478AC6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7F540C-1D66-49B6-9ACB-6E06FBC438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85141-67C2-453A-8194-691AFC05BD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CAAD3B-C063-4C3C-AD8E-C378F96FB8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236600"/>
            <a:ext cx="7559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Методика решения новых и </a:t>
            </a:r>
            <a:r>
              <a:rPr b="1" i="1" lang="ru-RU" sz="4000" spc="-1" strike="noStrike">
                <a:solidFill>
                  <a:srgbClr val="843c0c"/>
                </a:solidFill>
                <a:latin typeface="Arial"/>
                <a:ea typeface="Tahoma"/>
              </a:rPr>
              <a:t>трудных заданий</a:t>
            </a: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 в </a:t>
            </a:r>
            <a:br>
              <a:rPr sz="4000"/>
            </a:b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ЕГЭ -2023 по ис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260360" y="3970440"/>
            <a:ext cx="7915320" cy="1825560"/>
          </a:xfrm>
          <a:prstGeom prst="rect">
            <a:avLst/>
          </a:prstGeom>
          <a:noFill/>
          <a:ln cap="sq" w="93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учитель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МОАУ "СОШ №16 г. Новотроицка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Лыскина А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на </a:t>
            </a: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ет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41240" y="700200"/>
            <a:ext cx="8607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стоит обратить внимание выпускникам </a:t>
            </a:r>
            <a:br>
              <a:rPr sz="2800"/>
            </a:b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2023 года в ЕГЭ по истори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77960" y="2575080"/>
            <a:ext cx="84628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ЕГЭ-2023 добавлено задание на умение сравнивать исторические события, явления, процессы. Требуется написать тезис – обобщенное оценочное суждение, которое содержит информацию о сходстве или различии каких-либо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ния наиболее трудные в I част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008000" y="1162080"/>
            <a:ext cx="78883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З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дание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на знание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актов истории культур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тором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ребуется соотнести памятники культуры и их характерис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я на работу с исторической карт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ния наиболее трудные во II ча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Задание на аргументацию (№21), в котором требуется привести аргументы, подтверждающие точку зрения представленную в зад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Задание на установление причинно-следственных связей (№1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88960" y="728640"/>
            <a:ext cx="8663040" cy="252972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том же десятилетии, когда в России было отменено крепостное право, в США было отменено рабство. Используя исторические знания, приведите аргументы в подтверждение точки зрения, что оба указанных события повлияли на дальнейшую внутреннюю политику правительств в странах, где они произошли: один аргумент для России и один для СШ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 изложении аргументов обязательно используйте исторические фа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158760"/>
            <a:ext cx="9502920" cy="568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35040" y="3595680"/>
            <a:ext cx="8261280" cy="191916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твет оформите в следующем ви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Аргумент для России: 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Аргумент для США: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Segoe UI Symbo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62040" y="728640"/>
          <a:ext cx="8435880" cy="632304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6323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равильный ответ должен содержать аргумен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1) для России, например: с отменой крепостного права крестьяне перестали находиться под опекой помещиков, которые ими ранее владели, и у правительства возникла необходимость создания органов местного самоуправления, которые бы управляли хозяйственными делами в соответствии с социаль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экономической обстановкой в каждом регионе страны; была проведена земская рефор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2) для США, например: после отмены рабства в США бывшие плантаторы-рабовладельцы пытались вернуть свою власть над бывшими рабами, для чего в южных штатах ими были приняты «чёрные кодексы», которые почти полностью воспроизводили действовавшие до Гражданской войны законы о рабах; Конгрессом США был принят закон, отменявший «чёрные кодексы», власти США приступили к «радикальной реконструкции Юга», целью которой было не допустить возвращения раб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Могут быть при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ведены другие арг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81200" y="1100160"/>
          <a:ext cx="8435880" cy="462744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504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Приведены по одному аргументу для России и СШ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                   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Приведён только один аргумент для России. ИЛИ Приведён только один аргумент для СШ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                                                                           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Аргумент(ы) не сформулирован(ы); приведено не менее двух фактов, возможность использования которых для аргументации очевидн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Аргумент(ы) не сформулирован(ы); приведён один факт, который может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0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быть использован для аргумент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ИЛИ Приведены рассуждения общего характера, не соответствующие требованию зад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ИЛИ Ответ неправ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Максимальная оценк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1240" y="700200"/>
            <a:ext cx="8607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одготовка к ЕГЭ по истории</a:t>
            </a:r>
            <a:br>
              <a:rPr sz="2800"/>
            </a:br>
            <a:r>
              <a:rPr b="1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обратить вним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689120"/>
            <a:ext cx="90723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ние хронологии, исторических событий, основных фа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бота со статистикой, картой, схемой, иллюстра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нализ исторических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атериал по всеобщей истори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чино-следственные связи между историческими событиям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мения сравнивать исторические процессы и собы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хро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1619280"/>
            <a:ext cx="84502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entury Gothic"/>
                <a:ea typeface="Tahoma"/>
              </a:rPr>
              <a:t>  </a:t>
            </a:r>
            <a:r>
              <a:rPr b="0" lang="de-DE" sz="24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оответст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ежду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и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ределение века по го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положение трех событий в хронологической последовательности (с обязательным включением элемента всеобщей истори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тановление соответствия в ряд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отнесение процессов (явлений, событий) с фак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событий и участ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картографическим матери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1487520"/>
            <a:ext cx="84186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ние карт на уроке, атлас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з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ть, что такое (легенда) карт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учить читать все обозна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на уроках похожие зада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иллюстр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457280"/>
            <a:ext cx="84186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ть на уроке все иллюстрации в учебнике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не ег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задания на соотнесение личности с фо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задания на соотнесение архитектурных памятников с деятелями культур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историческими источ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1409760"/>
            <a:ext cx="84186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ть материалы исторических источников на урок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н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учить учащихся анализировать их, выделять главно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 Пусть дети подчеркивают главное в самом историческом документе, выделяют, так у них будет формироваться функциональная грамотность и историческая зор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1240" y="700200"/>
            <a:ext cx="8607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Структура экзаменационной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41360" y="1768320"/>
            <a:ext cx="89154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кзаменационная работа по истории в 2023г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с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ои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 21 задания: 12 в первой части и 9 заданий – во втор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вая часть включает задания с кратким ответом в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иде последовательности цифр, слова, словосоче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торая часть –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с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ернут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отве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м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аксимальный первичный балл за всю работу – 42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можно получить за выполнение заданий первой части, максимальный балл за выполнение задан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торой части, соответственно, 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екомендации по подготовке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к ЕГЭ-2023 по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457280"/>
            <a:ext cx="865656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ставить список тем для изучения, исходя из кодификатора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меч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изученные темы, так ребенок не запутается, какие темы он уже изучи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дел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нимание каждому из шести тематических бло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 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е стоит выб</a:t>
            </a: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ть более "любимые" </a:t>
            </a: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В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заданиях встретятся все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ща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 внимание не только на теорию, но и на формат выполнения задан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 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избежан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ошибок по невнима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роверенные приемы 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изучения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038240"/>
            <a:ext cx="85392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социации для запоминания событи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99284c"/>
              </a:buClr>
              <a:buSzPct val="75000"/>
              <a:buFont typeface="Times New Roman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шпаргалка» с основными дат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99284c"/>
              </a:buClr>
              <a:buSzPct val="75000"/>
              <a:buFont typeface="Times New Roman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зучение дат в синхронической последовательности со всеобщей истор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с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авление лент времени для запоминания да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с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авление коротких рассказов: досье на историческую лич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ние исторических карт (бумажных, интерактивных, динамических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н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ешивание вариантов, тренажеров, тематических тес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опрос в виде за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1240" y="700200"/>
            <a:ext cx="8607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стоит обратить внимание выпускникам </a:t>
            </a:r>
            <a:br>
              <a:rPr sz="2800"/>
            </a:b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2023 года в ЕГЭ по истори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77960" y="2575080"/>
            <a:ext cx="84628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экзаменационной работе текущего учебного года увеличено число вопросов о Великой Отечественной во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держательно они включены в 4 зад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№№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, 5, 8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560" y="1201680"/>
            <a:ext cx="868680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тановите соответствие между событиями и годами: к каждой позиции первого столбца подберите соответствующую позицию из второго столб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158760"/>
            <a:ext cx="9723600" cy="11271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роверяет знание хронологии. В нем необходимо установить                        соответствие между указанными событиями и год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69960" y="2306520"/>
          <a:ext cx="8321760" cy="2328840"/>
        </p:xfrm>
        <a:graphic>
          <a:graphicData uri="http://schemas.openxmlformats.org/drawingml/2006/table">
            <a:tbl>
              <a:tblPr/>
              <a:tblGrid>
                <a:gridCol w="4218120"/>
                <a:gridCol w="4103640"/>
              </a:tblGrid>
              <a:tr h="39600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ОБ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6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) первое упоминание Москвы в лето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) Карибский кри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) танковое сражение под Прохоров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) 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988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147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66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4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4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6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49360" y="4708440"/>
            <a:ext cx="5400720" cy="70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ишите в таблицу выбранные цифры под соответствующи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977080" y="4795920"/>
          <a:ext cx="3009600" cy="817560"/>
        </p:xfrm>
        <a:graphic>
          <a:graphicData uri="http://schemas.openxmlformats.org/drawingml/2006/table">
            <a:tbl>
              <a:tblPr/>
              <a:tblGrid>
                <a:gridCol w="752400"/>
                <a:gridCol w="752400"/>
                <a:gridCol w="754200"/>
                <a:gridCol w="750600"/>
              </a:tblGrid>
              <a:tr h="4064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5560" y="1201680"/>
            <a:ext cx="8686800" cy="1309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тановите соответствие между процессами (явлениями, событиями) и фактами, относящимися к этим процессам (явлениям, событиям): к каждой позиции первого столбца подберите соответствующую позицию из второго столб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158760"/>
            <a:ext cx="9723600" cy="11271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5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еобходимо установить соответствие между указанными событиями и их участни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16040" y="2455920"/>
          <a:ext cx="8321760" cy="2316240"/>
        </p:xfrm>
        <a:graphic>
          <a:graphicData uri="http://schemas.openxmlformats.org/drawingml/2006/table">
            <a:tbl>
              <a:tblPr/>
              <a:tblGrid>
                <a:gridCol w="4217760"/>
                <a:gridCol w="4104000"/>
              </a:tblGrid>
              <a:tr h="39744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ОБ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АС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) Ледовое побоищ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) Первая мировая во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) Полтавская 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) Московская 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) М.Д. Скобел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) Андрей Боголюб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) А.А. Бруси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) Александр Н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) Б.П. Шеремет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) В.В. Талалих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50880" y="4959360"/>
            <a:ext cx="4913280" cy="70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ишите в таблицу выбранные цифры под соответствующи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08840" y="4957920"/>
          <a:ext cx="3009600" cy="817560"/>
        </p:xfrm>
        <a:graphic>
          <a:graphicData uri="http://schemas.openxmlformats.org/drawingml/2006/table">
            <a:tbl>
              <a:tblPr/>
              <a:tblGrid>
                <a:gridCol w="752400"/>
                <a:gridCol w="752400"/>
                <a:gridCol w="754200"/>
                <a:gridCol w="750600"/>
              </a:tblGrid>
              <a:tr h="4060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09720" y="5919840"/>
            <a:ext cx="832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 Это задание проверяет знание исторических личностей, не только военоначальников, но и героев войны (в том числе героев-школьников), ученых, конструкторов, деятелей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5120" y="728640"/>
            <a:ext cx="5840640" cy="70020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ссмотрите изображение и выполните зад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158760"/>
            <a:ext cx="5838840" cy="1441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8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овое. Необходимо рассмотреть изображение и выполнить задачу. Например, заполнить пропуск в предложении (вставить слово или сочетание слов).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01640" y="1630440"/>
            <a:ext cx="5334120" cy="161424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олните пропуск в предлож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Данный плакат посвящён событиям тысяча девятьсот ___________________ года». Ответ запишите словом (сочетанием сл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7510" t="3456" r="15966" b="3618"/>
          <a:stretch/>
        </p:blipFill>
        <p:spPr>
          <a:xfrm>
            <a:off x="6178680" y="181080"/>
            <a:ext cx="3900240" cy="726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521160" y="3505320"/>
          <a:ext cx="2579760" cy="669960"/>
        </p:xfrm>
        <a:graphic>
          <a:graphicData uri="http://schemas.openxmlformats.org/drawingml/2006/table">
            <a:tbl>
              <a:tblPr/>
              <a:tblGrid>
                <a:gridCol w="2579760"/>
              </a:tblGrid>
              <a:tr h="68544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сорок 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5120" y="728640"/>
            <a:ext cx="9688680" cy="39528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чтите отрывки из воспоминаний совреме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158760"/>
            <a:ext cx="9688680" cy="1014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7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правлено на работу с источниками. Необходимо прочитать и сопоставить два исторических источника</a:t>
            </a: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54120" y="1235160"/>
          <a:ext cx="8367480" cy="5546520"/>
        </p:xfrm>
        <a:graphic>
          <a:graphicData uri="http://schemas.openxmlformats.org/drawingml/2006/table">
            <a:tbl>
              <a:tblPr/>
              <a:tblGrid>
                <a:gridCol w="216000"/>
                <a:gridCol w="8151480"/>
              </a:tblGrid>
              <a:tr h="39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РАГМЕНТЫ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 личной карте Паулюса этот дом (на площади 9 Января) был отмечен как крепость. Пленные немецкие разведчики считали, что его обороняет батальо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 этом доме узнала сначала наша армия, потом вся страна и, наконец, весь мир. На его защитников равнялась, как в строю, вся дивизия, о нём слагались песни и леген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ак это ни странно, но это четырёхэтажное жилое здание, выстроенное не из какого-либо несокрушимого материала, а из обыкновенной глины, дерева и кирпича, оказавшееся вообще малоустойчивым, вполне заслуживало того, что о нём писали или рассказыв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, это был «дом-крепость», его обороняли бойцы, каждый из которых стоил целого отделения, а то и взвода противника, и слава о них не померкнет в веках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4120" y="1235160"/>
          <a:ext cx="8367480" cy="5821200"/>
        </p:xfrm>
        <a:graphic>
          <a:graphicData uri="http://schemas.openxmlformats.org/drawingml/2006/table">
            <a:tbl>
              <a:tblPr/>
              <a:tblGrid>
                <a:gridCol w="216000"/>
                <a:gridCol w="815148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РАГМЕНТЫ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70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«Недалеко от вокзала мы встретили комиссара сапёрной части. Радость: комиссар знает, где командный пункт армии. Он и проводил нас до подножия Мамаева курга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Оставив машину, на курган поднялся пешком, цепляясь в темноте за кусты, за какие-то колючки. Наконец долгожданный окрик часов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Стой! Кто идё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Командный пункт. Овраг, свежевырытые щели, блиндажи. Мамаев курган! Мог ли я тогда предполагать, что он станет местом высшего напряжения боёв, что здесь, на этом клочке, не останется ни одного живого места, не перекопанного взрывами снарядов и авиабомб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Вот и блиндаж начальника штаба армии генерал-майора Николая Ивановича Крылов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728640"/>
            <a:ext cx="9609120" cy="191916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кажите название битвы, к которой относятся оба представленных отры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кажите кодовое название одной любой операции, проведённой Красной армией в ходе этой битвы. Приведите одно любое суждение, которым автор одного из отрывков указывает на высокие боевые качества советских вои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 ответе избегайте цитирования избыточного текста, не содержащего положений, которые должны быть приведены по условию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158760"/>
            <a:ext cx="9609120" cy="568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7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39720" y="3033720"/>
          <a:ext cx="8504280" cy="3762360"/>
        </p:xfrm>
        <a:graphic>
          <a:graphicData uri="http://schemas.openxmlformats.org/drawingml/2006/table">
            <a:tbl>
              <a:tblPr/>
              <a:tblGrid>
                <a:gridCol w="8504280"/>
              </a:tblGrid>
              <a:tr h="376236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равильный ответ должен содержать следующие элемен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1) название битвы – Сталинградск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2) кодовое название операции, например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«Уран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«Кольцо»; (Может быть указано название другой операции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3) суждение, например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ленные немецкие разведчики считали, что дом обороняет батальон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на защитников дома «равнялась, как в строю, вся дивизия, о нём слагались песни и легенды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дом обороняли бойцы, «каждый из которых стоил целого отделения, а то и взвода противник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/>
  <dc:description/>
  <dc:language>en-US</dc:language>
  <cp:lastModifiedBy>Пользователь</cp:lastModifiedBy>
  <dcterms:modified xsi:type="dcterms:W3CDTF">2023-01-12T06:24:16Z</dcterms:modified>
  <cp:revision>92</cp:revision>
  <dc:subject/>
  <dc:title>Методика решения новых и трудных заданий в  ЕГЭ -2023 по истории</dc:title>
</cp:coreProperties>
</file>