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17F1-046F-4ED4-B36F-351226867F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6549-4B90-4E9B-9AF3-F8F9D8648A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B442-6289-4BE1-925E-502756E218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09A9-F661-4434-BCE2-36F4277197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3458-CA42-441E-864D-AA2CAA3ABB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B163-6ACF-46C4-97DE-B03A48A012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D03F-AD1C-4F30-AB24-9A2AF9DE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343-6C95-4D38-BFBC-7055CD29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043-9BA8-4D26-A22F-16E3D5D2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CFF6-096C-4898-A1CA-784FFACB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BDC7-31DE-4D81-84F5-9561B8CD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EF5F-FFD3-415D-9592-1ECF9E15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13A5-B909-47A5-AF0B-0F24706A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B9FC-BBDC-44C6-AF9F-40657C09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F41B-DF0C-43C1-995C-A444EE79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18B6-D962-4627-AC7C-8886DC1B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2712-651D-461E-AB8B-0FBF9A00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2DB2-B8E5-4EC8-B450-4D4ABCBA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5A1D-95E9-4531-9C7A-E0E6C553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4E2C-B811-4437-93F1-675A6F0D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D2C5-FEBF-4DC0-8823-1B1BF34D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FB1C-3AB5-4482-9668-1A10DE65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A7DD-81C6-489D-85B5-0F41ABE5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DF53-FFD6-471F-A34C-5ECEF567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31BF-47A6-4300-B2EA-C7018240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903-27BC-466C-A8C2-C232ED41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A4DA-2743-41F7-A3B9-9B969C3B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8323-E516-4757-9A3D-5954160D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274-E9CB-488B-8C38-6526A79E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C133-2499-4F08-AA14-B974C2B7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13D4-38D8-47A0-9E3D-AAE30FF6CD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6902-A694-41F1-91B9-36DD9820C2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504d"/>
                </a:solidFill>
                <a:latin typeface="Arial"/>
              </a:rPr>
              <a:t>Отгадай загадк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00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На земле он всех умнее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Потому и всех сильне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Чем мы дыши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403848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ah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ҥ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ё</a:t>
            </a:r>
            <a:r>
              <a:rPr b="0" lang="sah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к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396720" y="1557360"/>
            <a:ext cx="3454560" cy="3454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432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Анастасия\Desktop\Розалия Вик\легкие.jpg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лавное отделение «внутренней кухни» - </a:t>
            </a:r>
            <a:r>
              <a:rPr b="1" lang="ru-RU" sz="40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желудок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5157720"/>
            <a:ext cx="403848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40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курт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3602160" cy="2768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5364000" y="1916280"/>
            <a:ext cx="27529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Users\Анастасия\Desktop\Розалия Вик\жел.jpg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Извилистый лабиринт» -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шеч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457200" y="1916280"/>
            <a:ext cx="4043520" cy="3970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2659320" cy="35272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 flipV="1" rot="10800000">
            <a:off x="3492360" y="519948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ah-RU" sz="36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очоҕ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Анастасия\Desktop\Розалия Вик\киш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ую роль выполня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403848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ah-RU" sz="36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бы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печен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284720" cy="2884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rcRect l="4813" t="0" r="0" b="0"/>
          <a:stretch/>
        </p:blipFill>
        <p:spPr>
          <a:xfrm>
            <a:off x="4643280" y="2060640"/>
            <a:ext cx="3889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C:\Users\Анастасия\Desktop\Розалия Вик\печ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Что такое здоровье?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Здоровье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 -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правильная, нормальная деятельность организм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Здороваться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 –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приветствие при встрече (желаем здоровья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Здороветь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 –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становиться здоровы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Здоровый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–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сильный креп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539640" y="2276640"/>
            <a:ext cx="2448000" cy="936360"/>
          </a:xfrm>
          <a:prstGeom prst="rect">
            <a:avLst/>
          </a:prstGeom>
          <a:solidFill>
            <a:srgbClr val="4ed2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иг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"/>
          <p:cNvSpPr/>
          <p:nvPr/>
        </p:nvSpPr>
        <p:spPr>
          <a:xfrm>
            <a:off x="2340000" y="3068640"/>
            <a:ext cx="3672000" cy="1130400"/>
          </a:xfrm>
          <a:prstGeom prst="ellipse">
            <a:avLst/>
          </a:prstGeom>
          <a:solidFill>
            <a:srgbClr val="eeee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203640" y="1773360"/>
            <a:ext cx="2590560" cy="1152360"/>
          </a:xfrm>
          <a:prstGeom prst="rect">
            <a:avLst/>
          </a:prstGeom>
          <a:solidFill>
            <a:srgbClr val="4ed2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084720" y="2421000"/>
            <a:ext cx="2519640" cy="1008000"/>
          </a:xfrm>
          <a:prstGeom prst="rect">
            <a:avLst/>
          </a:prstGeom>
          <a:solidFill>
            <a:srgbClr val="4ed2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ж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39640" y="4149720"/>
            <a:ext cx="2857680" cy="10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д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вы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5867280" y="4149720"/>
            <a:ext cx="2664000" cy="914400"/>
          </a:xfrm>
          <a:prstGeom prst="rect">
            <a:avLst/>
          </a:prstGeom>
          <a:solidFill>
            <a:srgbClr val="4ed2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ал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3492360" y="5229360"/>
            <a:ext cx="2376720" cy="792000"/>
          </a:xfrm>
          <a:prstGeom prst="rect">
            <a:avLst/>
          </a:prstGeom>
          <a:solidFill>
            <a:srgbClr val="4ed2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ги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 flipV="1">
            <a:off x="4572000" y="4149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V="1">
            <a:off x="1979640" y="378900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 flipH="1" flipV="1">
            <a:off x="5796000" y="3860280"/>
            <a:ext cx="7207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 flipH="1">
            <a:off x="5724000" y="2852640"/>
            <a:ext cx="3603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450072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2987640" y="2708280"/>
            <a:ext cx="360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5"/>
          <p:cNvSpPr/>
          <p:nvPr/>
        </p:nvSpPr>
        <p:spPr>
          <a:xfrm>
            <a:off x="324000" y="3333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От чего зависит наше здоровь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8b396a"/>
                </a:solidFill>
                <a:latin typeface="Calibri"/>
              </a:rPr>
              <a:t>Человек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8b396a"/>
                </a:solidFill>
                <a:latin typeface="Arial"/>
              </a:rPr>
              <a:t> 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252252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А знаете ли вы профессии, которые помогают поддерживать наше здоровь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диатр –детский вра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кулист - глазной вра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оматолог- зубной вра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ирург - врач, который делает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рдиолог- врач по заболеваниям сердц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епатолог- врач, который лечит печен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ульмонолог –врач по заболеваниям лёгки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вролог – врач по заболеваниям нервов челове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астроэнтеролог – врач по заболеваниям желудка и кишечник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4000" y="1600200"/>
            <a:ext cx="75452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10e0b"/>
                </a:solidFill>
                <a:latin typeface="Calibri"/>
              </a:rPr>
              <a:t>Молодцы!</a:t>
            </a:r>
            <a:br>
              <a:rPr sz="6000"/>
            </a:br>
            <a:r>
              <a:rPr b="0" i="1" lang="ru-RU" sz="6000" spc="-1" strike="noStrike">
                <a:solidFill>
                  <a:srgbClr val="910e0b"/>
                </a:solidFill>
                <a:latin typeface="Calibri"/>
              </a:rPr>
              <a:t>Спасибо за урок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спомним строение животног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835280" y="1828800"/>
            <a:ext cx="48243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2130120"/>
            <a:ext cx="720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харова А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Оргётская СОШ им.Т.И.Петров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2916360" y="177336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ука  о строен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рганизм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324000" y="177336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Анатомия 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лавный командный пункт человека</a:t>
            </a:r>
            <a:r>
              <a:rPr b="1" lang="ru-RU" sz="39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 </a:t>
            </a:r>
            <a:r>
              <a:rPr b="1" lang="ru-RU" sz="3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1" lang="ru-RU" sz="39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098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моз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3095640" cy="24703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 flipH="1">
            <a:off x="6300720" y="32446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мэй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Users\Анастасия\Desktop\Розалия Вик\мозг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ff"/>
                </a:solidFill>
                <a:latin typeface="Calibri"/>
              </a:rPr>
              <a:t>«Мотор » всего организма</a:t>
            </a:r>
            <a:r>
              <a:rPr b="0" lang="ru-RU" sz="3900" spc="-1" strike="noStrike">
                <a:solidFill>
                  <a:srgbClr val="0000ff"/>
                </a:solidFill>
                <a:latin typeface="Arial"/>
              </a:rPr>
              <a:t> -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59640" y="475920"/>
            <a:ext cx="179712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910e0b"/>
                </a:solidFill>
                <a:latin typeface="Times New Roman"/>
                <a:ea typeface="Times New Roman"/>
              </a:rPr>
              <a:t>сердц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90708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5580000" y="2060640"/>
            <a:ext cx="2649600" cy="34560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4788000" y="57355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ah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үрэ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Анастасия\Desktop\Розалия Вик\сердце.jpg"/>
          <p:cNvPicPr/>
          <p:nvPr/>
        </p:nvPicPr>
        <p:blipFill>
          <a:blip r:embed="rId1"/>
          <a:stretch/>
        </p:blipFill>
        <p:spPr>
          <a:xfrm>
            <a:off x="611280" y="461880"/>
            <a:ext cx="777708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09:49:14Z</dcterms:created>
  <dc:creator>Helen</dc:creator>
  <dc:description/>
  <dc:language>en-US</dc:language>
  <cp:lastModifiedBy>Анастасия</cp:lastModifiedBy>
  <dcterms:modified xsi:type="dcterms:W3CDTF">2023-01-30T07:30:09Z</dcterms:modified>
  <cp:revision>13</cp:revision>
  <dc:subject/>
  <dc:title>Слайд 1</dc:title>
</cp:coreProperties>
</file>