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BB93-3F8E-41EE-9AEA-9C692AA04D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0263-34C7-4111-8932-512E7C017B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E66D-7F50-43D9-8181-96096FC8F1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84FB-27BE-495A-A3F3-FB823DA63A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EA59-B277-41AB-976A-9F1B7E1B26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7A4E-ABCC-45F8-87E8-D21C79D54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995-E6B0-4B22-A3BF-C6C4C09D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5B5-3106-4A55-84F0-86ECA578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263-9DE5-4A7F-9246-CE047808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4D13-BAC2-45F3-80C9-6E97DE2B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B3C6-C328-45A4-8C83-5EFB3C94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354D-D71B-4A76-874B-1ED41BF4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9F06-1223-4483-A394-56FEE5F5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91C2-BDB6-4FFD-85DB-724236D0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BAD2-8E80-414B-AAFC-76980740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8431-702B-4180-92FC-56D7C461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7744-6746-4E4F-80AE-DB7F2A33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17A1-A232-4179-8871-68237BBB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5A7B-B519-4C67-9DFF-8EDF6B70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105D-975E-45D4-BC31-18842C14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679F-E0DC-4BF4-B4FF-E59D8C46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B24A-6A2F-4D57-8CEC-99964D6D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38BF-5BCD-47CF-B605-1A528F4C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B2C3-720A-415A-BB24-6C861C5C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BBC7-BDE5-446D-8A12-3B210733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FEB-3BDA-4EB2-B01A-941EC551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D6E-AA29-4162-BD2E-97CE1766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9C5-4EDF-47DF-8723-FB705327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685-B1ED-4D7B-B129-29FD92F1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9F0-B2F4-4F7F-8E91-E00E8E99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92DE-6C30-4E74-BE46-D02036AFFA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B235-0AB9-4AA5-8379-B53A33433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Arial"/>
              </a:rPr>
              <a:t>Отгадай загадк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00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На земле он всех умнее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Потому и всех сильне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Чем мы дыши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403848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ah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ҥ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ё</a:t>
            </a:r>
            <a:r>
              <a:rPr b="0" lang="sah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к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396720" y="1557360"/>
            <a:ext cx="3454560" cy="3454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432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Анастасия\Desktop\Розалия Вик\легкие.jpg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лавное отделение «внутренней кухни» - </a:t>
            </a:r>
            <a:r>
              <a:rPr b="1" lang="ru-RU" sz="40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желудок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5157720"/>
            <a:ext cx="403848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40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курт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3602160" cy="2768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5364000" y="1916280"/>
            <a:ext cx="27529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Users\Анастасия\Desktop\Розалия Вик\жел.jpg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Извилистый лабиринт» -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шеч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457200" y="1916280"/>
            <a:ext cx="4043520" cy="3970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2659320" cy="35272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 flipV="1" rot="10800000">
            <a:off x="3492360" y="519948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36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очоҕ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Анастасия\Desktop\Розалия Вик\киш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ую роль выполня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403848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ah-RU" sz="36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бы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печен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284720" cy="2884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rcRect l="4813" t="0" r="0" b="0"/>
          <a:stretch/>
        </p:blipFill>
        <p:spPr>
          <a:xfrm>
            <a:off x="4643280" y="2060640"/>
            <a:ext cx="388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Users\Анастасия\Desktop\Розалия Вик\печ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Что такое здоровье?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Здоровье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 -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правильная, нормальная деятельность организм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Здороваться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 –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приветствие при встрече (желаем здоровья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Здороветь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 –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становиться здоровы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Здоровый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–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сильный креп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539640" y="2276640"/>
            <a:ext cx="2448000" cy="936360"/>
          </a:xfrm>
          <a:prstGeom prst="rect">
            <a:avLst/>
          </a:prstGeom>
          <a:solidFill>
            <a:srgbClr val="4ed2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иг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"/>
          <p:cNvSpPr/>
          <p:nvPr/>
        </p:nvSpPr>
        <p:spPr>
          <a:xfrm>
            <a:off x="2340000" y="3068640"/>
            <a:ext cx="3672000" cy="1130400"/>
          </a:xfrm>
          <a:prstGeom prst="ellipse">
            <a:avLst/>
          </a:prstGeom>
          <a:solidFill>
            <a:srgbClr val="eeee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203640" y="1773360"/>
            <a:ext cx="2590560" cy="1152360"/>
          </a:xfrm>
          <a:prstGeom prst="rect">
            <a:avLst/>
          </a:prstGeom>
          <a:solidFill>
            <a:srgbClr val="4ed2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084720" y="2421000"/>
            <a:ext cx="2519640" cy="1008000"/>
          </a:xfrm>
          <a:prstGeom prst="rect">
            <a:avLst/>
          </a:prstGeom>
          <a:solidFill>
            <a:srgbClr val="4ed2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ж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39640" y="4149720"/>
            <a:ext cx="2857680" cy="10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д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вы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5867280" y="4149720"/>
            <a:ext cx="2664000" cy="914400"/>
          </a:xfrm>
          <a:prstGeom prst="rect">
            <a:avLst/>
          </a:prstGeom>
          <a:solidFill>
            <a:srgbClr val="4ed2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ал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3492360" y="5229360"/>
            <a:ext cx="2376720" cy="792000"/>
          </a:xfrm>
          <a:prstGeom prst="rect">
            <a:avLst/>
          </a:prstGeom>
          <a:solidFill>
            <a:srgbClr val="4ed2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 flipV="1">
            <a:off x="4572000" y="4149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V="1">
            <a:off x="1979640" y="378900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 flipH="1" flipV="1">
            <a:off x="5796000" y="3860280"/>
            <a:ext cx="720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 flipH="1">
            <a:off x="5724000" y="2852640"/>
            <a:ext cx="360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450072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2987640" y="2708280"/>
            <a:ext cx="360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5"/>
          <p:cNvSpPr/>
          <p:nvPr/>
        </p:nvSpPr>
        <p:spPr>
          <a:xfrm>
            <a:off x="324000" y="333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От чего зависит наше здоровь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8b396a"/>
                </a:solidFill>
                <a:latin typeface="Calibri"/>
              </a:rPr>
              <a:t>Человек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8b396a"/>
                </a:solidFill>
                <a:latin typeface="Arial"/>
              </a:rPr>
              <a:t> 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252252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А знаете ли вы профессии, которые помогают поддерживать наше здоровь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диатр –детский вр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кулист - глазной вра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оматолог- зубной вра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ирург - врач, который делает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рдиолог- врач по заболеваниям сердц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епатолог- врач, который лечит печен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ульмонолог –врач по заболеваниям лёгки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вролог – врач по заболеваниям нервов челове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астроэнтеролог – врач по заболеваниям желудка и кишечник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4000" y="1600200"/>
            <a:ext cx="75452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10e0b"/>
                </a:solidFill>
                <a:latin typeface="Calibri"/>
              </a:rPr>
              <a:t>Молодцы!</a:t>
            </a:r>
            <a:br>
              <a:rPr sz="6000"/>
            </a:br>
            <a:r>
              <a:rPr b="0" i="1" lang="ru-RU" sz="6000" spc="-1" strike="noStrike">
                <a:solidFill>
                  <a:srgbClr val="910e0b"/>
                </a:solidFill>
                <a:latin typeface="Calibri"/>
              </a:rPr>
              <a:t>Спасибо за урок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спомним строение животног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835280" y="1828800"/>
            <a:ext cx="48243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2130120"/>
            <a:ext cx="720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харова А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Оргётская СОШ им.Т.И.Петров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2916360" y="177336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ука  о стро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рганизм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324000" y="177336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Анатомия 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лавный командный пункт человека</a:t>
            </a:r>
            <a:r>
              <a:rPr b="1" lang="ru-RU" sz="39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 </a:t>
            </a:r>
            <a:r>
              <a:rPr b="1" lang="ru-RU" sz="3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1" lang="ru-RU" sz="39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098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моз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3095640" cy="24703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 flipH="1">
            <a:off x="6300720" y="32446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мэй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Users\Анастасия\Desktop\Розалия Вик\мозг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ff"/>
                </a:solidFill>
                <a:latin typeface="Calibri"/>
              </a:rPr>
              <a:t>«Мотор » всего организма</a:t>
            </a:r>
            <a:r>
              <a:rPr b="0" lang="ru-RU" sz="3900" spc="-1" strike="noStrike">
                <a:solidFill>
                  <a:srgbClr val="0000ff"/>
                </a:solidFill>
                <a:latin typeface="Arial"/>
              </a:rPr>
              <a:t> -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59640" y="475920"/>
            <a:ext cx="179712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сердц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90708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5580000" y="2060640"/>
            <a:ext cx="2649600" cy="34560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4788000" y="57355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ah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үрэ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Анастасия\Desktop\Розалия Вик\сердце.jpg"/>
          <p:cNvPicPr/>
          <p:nvPr/>
        </p:nvPicPr>
        <p:blipFill>
          <a:blip r:embed="rId1"/>
          <a:stretch/>
        </p:blipFill>
        <p:spPr>
          <a:xfrm>
            <a:off x="611280" y="461880"/>
            <a:ext cx="777708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09:49:14Z</dcterms:created>
  <dc:creator>Helen</dc:creator>
  <dc:description/>
  <dc:language>en-US</dc:language>
  <cp:lastModifiedBy>Анастасия</cp:lastModifiedBy>
  <dcterms:modified xsi:type="dcterms:W3CDTF">2023-01-30T07:30:09Z</dcterms:modified>
  <cp:revision>13</cp:revision>
  <dc:subject/>
  <dc:title>Слайд 1</dc:title>
</cp:coreProperties>
</file>