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68D1-5E54-4739-8805-A8EDDA6480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C77D-861D-4E68-859E-0088501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7760-4D7E-4942-98A6-82852D3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9D0A-1316-4A2C-AA4F-F5EE5219F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81203-7B90-4A7C-BB46-F79A70E5C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E1F35-5D6D-43B3-AA68-406AE4F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2D2B9-42B9-4F2F-BB63-9BE3199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17D4-E6A8-4949-B78A-8B2A567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9A3EA-87C2-4F86-AD6A-0DCFC4F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4EE67-3035-409D-A569-033C894D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778E-EEDE-43C3-AE15-6B8A7AA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5FC3-EB95-437A-908B-03BD4CB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398F-7734-40B1-969F-8002AF4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60B42-2100-45EC-9374-A7BFDB3A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C883-476D-4F13-B7EB-5D93431D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31F50-E39B-4043-B392-2C9611C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38672-3FD8-4A76-A06D-2C77AE867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1CC3-E90D-44C3-835A-1F288B7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D1F5-100E-4146-9B67-10A199B3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BA49-E7DF-4959-AD83-5AC4AE67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E657-592E-4F90-996B-B63F0908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E8EA-D66F-482A-891D-C929D98C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F9BA-0915-4AAD-8218-EEE15C8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0F80-AFA5-46FE-8DAC-B1E314B6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C5A52-92D7-4F9B-8163-CD8E88FBB2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650949-29F2-4E13-B585-E64216B7027A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исхождение дол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60520" y="1736640"/>
            <a:ext cx="8008920" cy="4297320"/>
            <a:chOff x="560520" y="1736640"/>
            <a:chExt cx="8008920" cy="42973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560520" y="1736640"/>
              <a:ext cx="800892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60520" y="1736640"/>
              <a:ext cx="800892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6640" y="1752480"/>
            <a:ext cx="8001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Моральный долг – когда человек превращает требования морали в личную задачу, сам предъявляет к себе требования и следует им в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4240" y="571680"/>
            <a:ext cx="777240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1714680"/>
            <a:ext cx="87868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Один плотник сколько бы не зарабатывал, довольствовался малым и делал мало расходов. Сосед однажды спросил 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Ты зарабатываешь очень много, но куда же ты деваешь своё богатство? У тебя ничего особенного не ви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Одной частью своих заработков я расплачиваюсь с долгами, а другую часть я отдаю в долг под проценты, - ответил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Не может быть, чтобы у тебя были долги. Я и не слышал, чтобы ты кому-нибудь давал в долг, - возразил со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Если я даю деньги родителям, то считаю, что я расплачиваюсь с долгами, а те деньги, что я расходую на обучение и содержание своих детей, считаю, что отдаю в долг под проценты. Когда дети вырастут, а мы с женой состаримся, то разве не возвратят они нам долга? – сказал в ответ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О каком долге здесь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Согласны ли вы с тем, что дети в долгу перед своими роди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Каким образом они будут отдавать этот дол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420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Контроль исполнения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49360" y="1749600"/>
            <a:ext cx="8032680" cy="4278240"/>
            <a:chOff x="549360" y="1749600"/>
            <a:chExt cx="8032680" cy="42782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549360" y="1749600"/>
              <a:ext cx="803268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9360" y="1749600"/>
              <a:ext cx="803268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142920"/>
            <a:ext cx="112068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Microsoft YaHei"/>
              </a:rPr>
              <a:t>Совесть – это глубокое осознание своего долга и ответственности, внутренний моральный самоконтроль и самооценка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исхождение дол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60520" y="1736640"/>
            <a:ext cx="8008920" cy="4297320"/>
            <a:chOff x="560520" y="1736640"/>
            <a:chExt cx="8008920" cy="42973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520" y="1736640"/>
              <a:ext cx="800892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60520" y="1736640"/>
              <a:ext cx="800892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500040"/>
            <a:ext cx="148140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лг – внутренне принимаемое добровольное обязательство, которое связывает человека с людьми, с обществ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нятие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9360" y="1749600"/>
            <a:ext cx="8172360" cy="4278240"/>
            <a:chOff x="549360" y="1749600"/>
            <a:chExt cx="8172360" cy="42782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9360" y="1749600"/>
              <a:ext cx="817236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49360" y="1749600"/>
              <a:ext cx="817236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ъективные – независящие от нашего собственного жел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тороны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8200" y="1749600"/>
            <a:ext cx="8313840" cy="4278240"/>
            <a:chOff x="268200" y="1749600"/>
            <a:chExt cx="8313840" cy="427824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68200" y="1749600"/>
              <a:ext cx="831384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68200" y="1749600"/>
              <a:ext cx="831384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тороны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1760" y="1749600"/>
            <a:ext cx="8350200" cy="4278240"/>
            <a:chOff x="401760" y="1749600"/>
            <a:chExt cx="8350200" cy="42782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01760" y="1749600"/>
              <a:ext cx="835020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01760" y="1749600"/>
              <a:ext cx="835020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640" y="1752480"/>
            <a:ext cx="80010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щественный долг – это все объективные обязанности, которые человеку в жизни необходимо выполня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зовите ваши обяза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В учеб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отдых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В семь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отношению к друзь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30:19Z</dcterms:created>
  <dc:creator>Алик</dc:creator>
  <dc:description/>
  <dc:language>en-US</dc:language>
  <cp:lastModifiedBy>Admin</cp:lastModifiedBy>
  <dcterms:modified xsi:type="dcterms:W3CDTF">2018-11-14T15:18:39Z</dcterms:modified>
  <cp:revision>10</cp:revision>
  <dc:subject/>
  <dc:title>Долг и совесть</dc:title>
</cp:coreProperties>
</file>