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1325A-B270-4D58-84D0-97E13C933D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6A26-B4F2-4BB8-8245-99D695FD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32B6-728D-4C49-A420-BB9F3A3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42097-758E-4AC8-8A68-7A892B48A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B7FC-9756-405A-8BC4-E1F28EE4E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00CEA-48FD-418A-AD71-B06CFC07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BBC97-540C-482A-8DBE-0EF34849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20C09-B2B9-45FE-AF1C-CA1D314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F713F-2AE0-47F2-8CAF-4C163161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B6061-FDD8-4FCC-A09D-335AB632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EBB49-0657-4C3C-AF94-7A3077F7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AD7F6-1200-4D04-B6E1-0C14B3B4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458B7-771D-41E8-8561-711873DC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58C0-D3E7-4870-BC8F-E2BBEDC4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D2F5F-59BB-4F00-AEF2-B631004D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C2EC4-877B-44EF-A1E0-7959C5B0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5640" y="175212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5640" y="3980160"/>
            <a:ext cx="257544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7B30-DD6C-4F10-8288-3E92D40F68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7963-3F98-45F2-8C77-A82D8A72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2CDF-4568-42D5-9E81-2EFC81FE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3A900-8783-4D10-9DC8-5F4C9CC5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7840"/>
            <a:ext cx="79995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7DA1-7005-4198-86E8-88B0A3E9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366C-A363-4AE3-A562-B2E967D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240" y="398016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A33B-139E-4974-961D-15D4CE4C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90348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0160"/>
            <a:ext cx="7999560" cy="20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7F8E-05BB-444C-B2A8-BA7E53F9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cap="sq"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1979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0AB232-1EA6-4406-A0CD-39A961F6CF4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cap="sq"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26784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4B9908-19D1-480C-B022-690A6B769E5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исхождение дол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60520" y="1736640"/>
            <a:ext cx="8008920" cy="4297320"/>
            <a:chOff x="560520" y="1736640"/>
            <a:chExt cx="8008920" cy="429732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560520" y="1736640"/>
              <a:ext cx="800892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60520" y="1736640"/>
              <a:ext cx="800892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6640" y="1752480"/>
            <a:ext cx="80010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Моральный долг – когда человек превращает требования морали в личную задачу, сам предъявляет к себе требования и следует им в жиз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4240" y="571680"/>
            <a:ext cx="777240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л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2920" y="1714680"/>
            <a:ext cx="87868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Один плотник сколько бы не зарабатывал, довольствовался малым и делал мало расходов. Сосед однажды спросил е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Ты зарабатываешь очень много, но куда же ты деваешь своё богатство? У тебя ничего особенного не ви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Одной частью своих заработков я расплачиваюсь с долгами, а другую часть я отдаю в долг под проценты, - ответил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Не может быть, чтобы у тебя были долги. Я и не слышал, чтобы ты кому-нибудь давал в долг, - возразил сос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- Если я даю деньги родителям, то считаю, что я расплачиваюсь с долгами, а те деньги, что я расходую на обучение и содержание своих детей, считаю, что отдаю в долг под проценты. Когда дети вырастут, а мы с женой состаримся, то разве не возвратят они нам долга? – сказал в ответ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О каком долге здесь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Согласны ли вы с тем, что дети в долгу перед своими родителя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Microsoft YaHei"/>
              </a:rPr>
              <a:t>Каким образом они будут отдавать этот дол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420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Контроль исполнения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49360" y="1749600"/>
            <a:ext cx="8032680" cy="4278240"/>
            <a:chOff x="549360" y="1749600"/>
            <a:chExt cx="8032680" cy="427824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549360" y="1749600"/>
              <a:ext cx="803268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9360" y="1749600"/>
              <a:ext cx="803268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142920"/>
            <a:ext cx="112068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Microsoft YaHei"/>
              </a:rPr>
              <a:t>Совесть – это глубокое осознание своего долга и ответственности, внутренний моральный самоконтроль и самооценка челове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роисхождение долг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60520" y="1736640"/>
            <a:ext cx="8008920" cy="4297320"/>
            <a:chOff x="560520" y="1736640"/>
            <a:chExt cx="8008920" cy="429732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60520" y="1736640"/>
              <a:ext cx="800892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60520" y="1736640"/>
              <a:ext cx="8008920" cy="42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500040"/>
            <a:ext cx="1481400" cy="11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лг – внутренне принимаемое добровольное обязательство, которое связывает человека с людьми, с обществ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нятие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49360" y="1749600"/>
            <a:ext cx="8172360" cy="4278240"/>
            <a:chOff x="549360" y="1749600"/>
            <a:chExt cx="8172360" cy="427824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9360" y="1749600"/>
              <a:ext cx="817236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49360" y="1749600"/>
              <a:ext cx="817236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ъективные – независящие от нашего собственного жел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тороны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8200" y="1749600"/>
            <a:ext cx="8313840" cy="4278240"/>
            <a:chOff x="268200" y="1749600"/>
            <a:chExt cx="8313840" cy="427824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268200" y="1749600"/>
              <a:ext cx="831384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268200" y="1749600"/>
              <a:ext cx="831384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тороны долга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1760" y="1749600"/>
            <a:ext cx="8350200" cy="4278240"/>
            <a:chOff x="401760" y="1749600"/>
            <a:chExt cx="8350200" cy="42782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01760" y="1749600"/>
              <a:ext cx="8350200" cy="42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01760" y="1749600"/>
              <a:ext cx="8350200" cy="427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Словарь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640" y="1752480"/>
            <a:ext cx="80010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  <a:ea typeface="Microsoft YaHei"/>
              </a:rPr>
              <a:t>Общественный долг – это все объективные обязанности, которые человеку в жизни необходимо выполнят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87344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  <a:ea typeface="Microsoft YaHei"/>
              </a:rPr>
              <a:t>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9800" indent="-4683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зовите ваши обяза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В учеб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На отдых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В семь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800" indent="-468360"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  <a:ea typeface="Microsoft YaHei"/>
              </a:rPr>
              <a:t>По отношению к друзь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30:19Z</dcterms:created>
  <dc:creator>Алик</dc:creator>
  <dc:description/>
  <dc:language>en-US</dc:language>
  <cp:lastModifiedBy>Admin</cp:lastModifiedBy>
  <dcterms:modified xsi:type="dcterms:W3CDTF">2018-11-14T15:18:39Z</dcterms:modified>
  <cp:revision>10</cp:revision>
  <dc:subject/>
  <dc:title>Долг и совесть</dc:title>
</cp:coreProperties>
</file>