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5BD-24A4-49E5-86D2-C3839C29E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53F-39F0-4026-922E-55F51BB3E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0DC8-F0FC-4A29-A6A9-916B3C737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D321-4EF0-4E45-8588-C89C7ADA67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F7302-FF0A-4EE0-8573-A5B7A77C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53731-0DD3-4241-8D62-6880E286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7A232-0CC0-4779-98CB-5BA2FC2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6082A2-C498-4E0E-984A-AA58D71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F6AC25-EDA0-4865-BB6F-DD2D23E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08DBA-9E2D-47AD-A1B7-982AFEB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2728F-7559-4CE4-B302-DDE0CF2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7099F-ADC6-4A75-83C3-283F498A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D3681-6289-4066-8648-24A8C3DC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E61BB3-CCFF-4724-AD23-629FFA9D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4C25-8F2F-4F84-A51A-C0C8BC87C4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26A2D-C18C-452F-ADE5-BA91BCB0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790598-B2F7-4A66-B89C-147723AD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07295C-5B67-462A-AF25-4C07C15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8CE566-F113-42E7-9294-61EEB56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76760-77BA-4C88-824B-99E1E2AA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574CB-BDAB-4D6C-86B0-08AD01E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1B3A1-1C0C-4424-9832-C6926138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673762-4C92-4824-BFF3-66931B8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D5DC84-4B07-4901-99E7-E8A7CE80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592317-A343-4FCE-83FF-6056489B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3249-90E8-4168-B68D-00D3FF404E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718733-821D-455A-9D61-CBCABC79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9A7F1B-5BCA-488B-94B0-ADEC68CA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AF5FBF-15EB-4276-A83A-D1E180A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96A00F-B174-4BC5-BAAB-33A35251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98175-4CA4-446B-A1CF-2BC73BF0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355D3C-FEB3-4C71-B362-B330A0FC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9C7889-92B9-4AF5-ADBE-37F1447A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765F76-3529-46FE-80E2-4FA5309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3A2DA5-4235-4834-8BD1-A7F44B6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A48BEA-3D15-4A79-8203-B6308AE0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0F90A-FDB8-4CE4-BAF3-F7B7E824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D88F0D-E18E-40CF-9518-56F617A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B2A1E5-1E8D-40DF-B40D-02158585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866BD1-06CF-4124-9D31-ECB2482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2EDC5-B48F-46A5-829C-DABB5BC5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B64EF-EE50-407A-8341-21D18EF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632CB-ABAA-45E6-90EF-6F2F4B9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9CEC1-150D-4CE8-BF58-D7CA29FC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0C547-6D8C-4496-A854-8AFF8371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D2336-9B93-4229-9532-A24028F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9815-4903-4CA9-94C5-2C070468B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A542C-103D-471C-9FCC-379C7B7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8D7C-54D4-4119-AE43-9F98717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CF0A-F65C-4A26-ABDE-FCDE522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F1B7B-2213-47BC-85C7-4A82A2C7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BD402-72D0-435B-9B07-03EC5A17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4D27B-7B40-45AC-849A-5B71E405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1BB16-F8CE-4183-96F0-9BBE1EF1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4E4A7-524E-4988-82D1-6543E27B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49E46-81BB-4F75-8793-1393CEF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FFE91-9638-4B86-A7A8-C424D34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3FF2-705A-408E-AA1F-5C0DFED586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9C767-4FB2-45DB-AFCC-EDDE5E3A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2CDA6-C9DF-466D-8B62-60ED5FD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80826-89BC-4D1A-A452-785DA56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033DE-9DB8-45CF-9704-281BCD6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21FF4-C454-4BE5-8077-805CB6F6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F355E-810B-4723-A144-030FBBED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3EBAE-800C-413C-B92A-54E1A69A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C913A-3EEA-4A4B-874A-5792138D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812AC-7DC5-4F18-AE3C-9F33ED1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1DBCC-0EFA-40A7-9B4A-281A467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A74B-5925-4DCE-BAE8-90C11E5ADA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01C06-4FE9-47EA-9559-B1E537C8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2AAFE-4123-4925-AA9A-CB8C6F2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B338C-BEDF-4D58-B908-38457D9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6916B-16C3-4CBE-AB58-C519DCB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8A9B7-EE05-4B2B-AAC3-4F6A9A3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7CA4D-D81D-42B3-83D5-4046FE2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7CCBD-96DB-4596-BAC5-921AA94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37613-B90E-461A-977B-3E819DBF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5ED66-A91B-4FD6-8020-456018DF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269BE-C333-4510-B79A-12E36AF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1425-7FD3-497C-B82F-AC33CBA7FF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5A150-B710-443F-9337-C5855786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52798-55C7-49A3-B8FF-7935E0EA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B581A-5816-44B1-B9AD-BF3D6652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134CA-39F8-4763-9C91-91F76336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3086A-DA0E-485E-B518-42CFE6F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2314C-A91F-4F75-8C4F-96279B3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007F7-0E8E-4D6A-9691-E66C7F4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95AA6-DD88-45F5-A890-1B890C3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7B9D8-F280-4C1B-B2A3-2EB384A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93171-AB2B-4590-BFCB-234B7392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F1CF-DC19-4831-91BB-4BA08B01CB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65752-CE78-47A4-B4CE-623564FF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2B915-2EAA-4312-8E87-DBE5E2E9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C1D14-59B9-4913-8CE1-07213669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FC2B8-175E-4BD2-BEAC-8843EDE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4211E-BDB0-4BDC-BE75-D599297F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FA3D5-09B4-4B2A-B5FB-32E35AF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87F42-E29F-481A-8E8D-5613217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B060C-147C-4F26-A484-472B3BB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767B7-CA6B-488C-ACAE-8D50849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9E141-9002-499C-9EA5-CDD6CC9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0413-4C86-4588-9228-B8B3739F93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88759-3D78-4E1B-9865-94D853B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898B9-422C-4C4A-82B2-DBB78AED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C1AD1-5E9A-47C5-9204-ECDD396F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43BB0-CA41-4913-9418-CAABD270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06111-5B87-4B64-A040-436ABD4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D4647-E4D2-4651-BEE0-919EA5F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4480C-F888-4D2D-ADA5-7DDA854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C3FCD-E3C3-4EDD-BA78-038EE593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DA0A9-8B43-488D-A1AA-BC03BAAA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5EB76-821E-4269-BFAA-798AE0C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48ED-9D3D-4632-B814-86474EDF07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8412F-495B-4066-BC81-B450108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1ADC2-FFC8-4A8D-A8A5-8002523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4A8C8-647B-49AB-B6A9-E65126B6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EB139-8780-42BE-B074-51EDC6EA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6A2AB-D0E4-4940-845A-AB1F0F75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998A9C-B2DD-4C10-A1D0-93DAA7A7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A1B8DB-E68C-48FA-A2E1-E518392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84C29-5525-4C20-9928-55D7DAC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13A85-8FBD-4B08-B904-625C949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618F4A-1383-4047-A79C-00503F9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DC0A-CC14-4702-B8E9-B2DFE942281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13C3A-5DE6-41DE-B4B7-9A20430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85517-BE4C-4B53-8EB4-2F8A414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645EB-34BB-4433-84D8-5761912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B8B84-B43B-4ED7-ADD3-0CD883A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038B0E-DFD9-4A9B-8343-3F0C3A6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79D9B-8EC9-43C0-B73E-ED074CB6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9B3C2-5AD4-4D82-BA48-5B232A11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3DB55F-0A7C-4853-AEA0-6FAFD095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CA89BB-2EE4-4118-8145-F6EF1C7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CF0270-C4B3-4CC1-862F-7A63D71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E9F-9AA7-4D4A-B125-DFE4E7095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35FF-6CBC-4B4B-A14C-286451310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0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85B-6C8A-4220-9325-F95EC161D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9" descr="63599134nj4.jpg"/>
          <p:cNvPicPr/>
          <p:nvPr/>
        </p:nvPicPr>
        <p:blipFill>
          <a:blip r:embed="rId4"/>
          <a:srcRect l="1260" t="2501" r="8189" b="8337"/>
          <a:stretch/>
        </p:blipFill>
        <p:spPr>
          <a:xfrm>
            <a:off x="380880" y="4378320"/>
            <a:ext cx="1371600" cy="2041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0"/>
          <p:cNvSpPr/>
          <p:nvPr/>
        </p:nvSpPr>
        <p:spPr>
          <a:xfrm>
            <a:off x="228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A408-B777-4938-9A42-30F2C36A2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57099343_leybgvardii_Egerskiy_polk.jpg"/>
          <p:cNvPicPr/>
          <p:nvPr/>
        </p:nvPicPr>
        <p:blipFill>
          <a:blip r:embed="rId4"/>
          <a:stretch/>
        </p:blipFill>
        <p:spPr>
          <a:xfrm>
            <a:off x="304920" y="4341960"/>
            <a:ext cx="1523880" cy="2023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59E-C641-4C53-B00D-420D2406F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8E8-C259-413C-A099-8C1C4976E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2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0EB5-18D8-4E17-9833-4595EA4ED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10DF-4564-4731-BAAE-127EC30DC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541-AE84-491E-B250-8B66BD8F8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1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DDF-71CB-4CA0-8B7B-748C94DAA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4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E66-275C-4851-80C2-BF9F96CA1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чало Отечественной войны 181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143000" y="3124080"/>
            <a:ext cx="6934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Шевелева Жанна Славовна, учитель истории МКОУ КСОШ №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ть Характеристику войны для России и Фра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хватническая, грабительская, освободительная, справедливая, несправедливая, священная, Отечественная, партизанска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ССИЯ                       ФРА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0 тыс.                             640 ты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3" descr="C:\Users\пользователь\Documents\Бородинская битва\4.jpg"/>
          <p:cNvPicPr/>
          <p:nvPr/>
        </p:nvPicPr>
        <p:blipFill>
          <a:blip r:embed="rId1"/>
          <a:stretch/>
        </p:blipFill>
        <p:spPr>
          <a:xfrm>
            <a:off x="5410080" y="1390680"/>
            <a:ext cx="3168720" cy="3811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2"/>
          <a:stretch/>
        </p:blipFill>
        <p:spPr>
          <a:xfrm>
            <a:off x="304920" y="1390680"/>
            <a:ext cx="4038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-181080" y="2781360"/>
            <a:ext cx="201636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2 июня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5708520" y="1743120"/>
            <a:ext cx="1176480" cy="72216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741" h="455">
                <a:moveTo>
                  <a:pt x="17" y="141"/>
                </a:moveTo>
                <a:cubicBezTo>
                  <a:pt x="82" y="121"/>
                  <a:pt x="159" y="114"/>
                  <a:pt x="227" y="106"/>
                </a:cubicBezTo>
                <a:cubicBezTo>
                  <a:pt x="289" y="87"/>
                  <a:pt x="362" y="81"/>
                  <a:pt x="427" y="71"/>
                </a:cubicBezTo>
                <a:cubicBezTo>
                  <a:pt x="445" y="65"/>
                  <a:pt x="462" y="60"/>
                  <a:pt x="480" y="54"/>
                </a:cubicBezTo>
                <a:cubicBezTo>
                  <a:pt x="489" y="51"/>
                  <a:pt x="506" y="45"/>
                  <a:pt x="506" y="45"/>
                </a:cubicBezTo>
                <a:cubicBezTo>
                  <a:pt x="439" y="24"/>
                  <a:pt x="471" y="32"/>
                  <a:pt x="410" y="19"/>
                </a:cubicBezTo>
                <a:cubicBezTo>
                  <a:pt x="518" y="12"/>
                  <a:pt x="625" y="0"/>
                  <a:pt x="733" y="19"/>
                </a:cubicBezTo>
                <a:cubicBezTo>
                  <a:pt x="741" y="20"/>
                  <a:pt x="720" y="30"/>
                  <a:pt x="715" y="37"/>
                </a:cubicBezTo>
                <a:cubicBezTo>
                  <a:pt x="698" y="59"/>
                  <a:pt x="682" y="78"/>
                  <a:pt x="663" y="98"/>
                </a:cubicBezTo>
                <a:cubicBezTo>
                  <a:pt x="651" y="132"/>
                  <a:pt x="642" y="147"/>
                  <a:pt x="611" y="167"/>
                </a:cubicBezTo>
                <a:cubicBezTo>
                  <a:pt x="608" y="158"/>
                  <a:pt x="610" y="145"/>
                  <a:pt x="602" y="141"/>
                </a:cubicBezTo>
                <a:cubicBezTo>
                  <a:pt x="594" y="137"/>
                  <a:pt x="584" y="146"/>
                  <a:pt x="576" y="150"/>
                </a:cubicBezTo>
                <a:cubicBezTo>
                  <a:pt x="547" y="164"/>
                  <a:pt x="537" y="183"/>
                  <a:pt x="506" y="194"/>
                </a:cubicBezTo>
                <a:cubicBezTo>
                  <a:pt x="484" y="215"/>
                  <a:pt x="475" y="228"/>
                  <a:pt x="445" y="237"/>
                </a:cubicBezTo>
                <a:cubicBezTo>
                  <a:pt x="411" y="271"/>
                  <a:pt x="369" y="300"/>
                  <a:pt x="323" y="316"/>
                </a:cubicBezTo>
                <a:cubicBezTo>
                  <a:pt x="286" y="351"/>
                  <a:pt x="222" y="361"/>
                  <a:pt x="174" y="377"/>
                </a:cubicBezTo>
                <a:cubicBezTo>
                  <a:pt x="146" y="387"/>
                  <a:pt x="151" y="396"/>
                  <a:pt x="131" y="412"/>
                </a:cubicBezTo>
                <a:cubicBezTo>
                  <a:pt x="97" y="439"/>
                  <a:pt x="44" y="455"/>
                  <a:pt x="0" y="455"/>
                </a:cubicBez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"/>
          <p:cNvSpPr/>
          <p:nvPr/>
        </p:nvSpPr>
        <p:spPr>
          <a:xfrm>
            <a:off x="1258920" y="2349360"/>
            <a:ext cx="4394160" cy="107964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768" h="905">
                <a:moveTo>
                  <a:pt x="0" y="905"/>
                </a:moveTo>
                <a:cubicBezTo>
                  <a:pt x="261" y="886"/>
                  <a:pt x="523" y="885"/>
                  <a:pt x="784" y="873"/>
                </a:cubicBezTo>
                <a:cubicBezTo>
                  <a:pt x="870" y="863"/>
                  <a:pt x="955" y="856"/>
                  <a:pt x="1040" y="841"/>
                </a:cubicBezTo>
                <a:cubicBezTo>
                  <a:pt x="1114" y="828"/>
                  <a:pt x="1074" y="839"/>
                  <a:pt x="1136" y="825"/>
                </a:cubicBezTo>
                <a:cubicBezTo>
                  <a:pt x="1157" y="820"/>
                  <a:pt x="1200" y="809"/>
                  <a:pt x="1200" y="809"/>
                </a:cubicBezTo>
                <a:cubicBezTo>
                  <a:pt x="1243" y="780"/>
                  <a:pt x="1295" y="769"/>
                  <a:pt x="1344" y="753"/>
                </a:cubicBezTo>
                <a:cubicBezTo>
                  <a:pt x="1374" y="743"/>
                  <a:pt x="1403" y="725"/>
                  <a:pt x="1432" y="713"/>
                </a:cubicBezTo>
                <a:cubicBezTo>
                  <a:pt x="1469" y="698"/>
                  <a:pt x="1508" y="691"/>
                  <a:pt x="1544" y="673"/>
                </a:cubicBezTo>
                <a:cubicBezTo>
                  <a:pt x="1565" y="662"/>
                  <a:pt x="1587" y="653"/>
                  <a:pt x="1608" y="641"/>
                </a:cubicBezTo>
                <a:cubicBezTo>
                  <a:pt x="1620" y="635"/>
                  <a:pt x="1628" y="622"/>
                  <a:pt x="1640" y="617"/>
                </a:cubicBezTo>
                <a:cubicBezTo>
                  <a:pt x="1660" y="609"/>
                  <a:pt x="1704" y="601"/>
                  <a:pt x="1704" y="601"/>
                </a:cubicBezTo>
                <a:cubicBezTo>
                  <a:pt x="1755" y="567"/>
                  <a:pt x="1810" y="560"/>
                  <a:pt x="1864" y="537"/>
                </a:cubicBezTo>
                <a:cubicBezTo>
                  <a:pt x="1891" y="525"/>
                  <a:pt x="1917" y="508"/>
                  <a:pt x="1944" y="497"/>
                </a:cubicBezTo>
                <a:cubicBezTo>
                  <a:pt x="1988" y="478"/>
                  <a:pt x="2036" y="468"/>
                  <a:pt x="2080" y="449"/>
                </a:cubicBezTo>
                <a:cubicBezTo>
                  <a:pt x="2120" y="432"/>
                  <a:pt x="2149" y="412"/>
                  <a:pt x="2192" y="401"/>
                </a:cubicBezTo>
                <a:cubicBezTo>
                  <a:pt x="2219" y="383"/>
                  <a:pt x="2240" y="377"/>
                  <a:pt x="2272" y="369"/>
                </a:cubicBezTo>
                <a:cubicBezTo>
                  <a:pt x="2301" y="350"/>
                  <a:pt x="2398" y="306"/>
                  <a:pt x="2432" y="297"/>
                </a:cubicBezTo>
                <a:cubicBezTo>
                  <a:pt x="2492" y="257"/>
                  <a:pt x="2416" y="304"/>
                  <a:pt x="2488" y="273"/>
                </a:cubicBezTo>
                <a:cubicBezTo>
                  <a:pt x="2497" y="269"/>
                  <a:pt x="2503" y="261"/>
                  <a:pt x="2512" y="257"/>
                </a:cubicBezTo>
                <a:cubicBezTo>
                  <a:pt x="2520" y="253"/>
                  <a:pt x="2528" y="252"/>
                  <a:pt x="2536" y="249"/>
                </a:cubicBezTo>
                <a:cubicBezTo>
                  <a:pt x="2560" y="214"/>
                  <a:pt x="2611" y="178"/>
                  <a:pt x="2648" y="153"/>
                </a:cubicBezTo>
                <a:cubicBezTo>
                  <a:pt x="2635" y="206"/>
                  <a:pt x="2622" y="236"/>
                  <a:pt x="2592" y="281"/>
                </a:cubicBezTo>
                <a:cubicBezTo>
                  <a:pt x="2587" y="288"/>
                  <a:pt x="2595" y="264"/>
                  <a:pt x="2600" y="257"/>
                </a:cubicBezTo>
                <a:cubicBezTo>
                  <a:pt x="2617" y="232"/>
                  <a:pt x="2639" y="210"/>
                  <a:pt x="2656" y="185"/>
                </a:cubicBezTo>
                <a:cubicBezTo>
                  <a:pt x="2692" y="131"/>
                  <a:pt x="2712" y="62"/>
                  <a:pt x="2768" y="25"/>
                </a:cubicBezTo>
                <a:cubicBezTo>
                  <a:pt x="2730" y="0"/>
                  <a:pt x="2733" y="17"/>
                  <a:pt x="2696" y="33"/>
                </a:cubicBezTo>
                <a:cubicBezTo>
                  <a:pt x="2659" y="49"/>
                  <a:pt x="2602" y="70"/>
                  <a:pt x="2560" y="73"/>
                </a:cubicBezTo>
                <a:cubicBezTo>
                  <a:pt x="2504" y="77"/>
                  <a:pt x="2448" y="78"/>
                  <a:pt x="2392" y="81"/>
                </a:cubicBezTo>
                <a:cubicBezTo>
                  <a:pt x="2419" y="86"/>
                  <a:pt x="2445" y="92"/>
                  <a:pt x="2472" y="97"/>
                </a:cubicBezTo>
                <a:cubicBezTo>
                  <a:pt x="2485" y="100"/>
                  <a:pt x="2512" y="105"/>
                  <a:pt x="2512" y="105"/>
                </a:cubicBezTo>
                <a:cubicBezTo>
                  <a:pt x="2453" y="125"/>
                  <a:pt x="2397" y="160"/>
                  <a:pt x="2336" y="177"/>
                </a:cubicBezTo>
                <a:cubicBezTo>
                  <a:pt x="2175" y="221"/>
                  <a:pt x="2005" y="244"/>
                  <a:pt x="1840" y="265"/>
                </a:cubicBezTo>
                <a:cubicBezTo>
                  <a:pt x="1623" y="292"/>
                  <a:pt x="1410" y="345"/>
                  <a:pt x="1192" y="369"/>
                </a:cubicBezTo>
                <a:cubicBezTo>
                  <a:pt x="1044" y="418"/>
                  <a:pt x="879" y="395"/>
                  <a:pt x="728" y="361"/>
                </a:cubicBezTo>
                <a:cubicBezTo>
                  <a:pt x="560" y="324"/>
                  <a:pt x="387" y="299"/>
                  <a:pt x="216" y="281"/>
                </a:cubicBezTo>
                <a:cubicBezTo>
                  <a:pt x="180" y="277"/>
                  <a:pt x="140" y="265"/>
                  <a:pt x="104" y="265"/>
                </a:cubicBez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5"/>
          <p:cNvSpPr/>
          <p:nvPr/>
        </p:nvSpPr>
        <p:spPr>
          <a:xfrm>
            <a:off x="1763640" y="1052640"/>
            <a:ext cx="3960720" cy="1150920"/>
          </a:xfrm>
          <a:custGeom>
            <a:avLst/>
            <a:gdLst>
              <a:gd name="textAreaLeft" fmla="*/ 0 w 3960720"/>
              <a:gd name="textAreaRight" fmla="*/ 3961080 w 396072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3200" h="736">
                <a:moveTo>
                  <a:pt x="192" y="736"/>
                </a:moveTo>
                <a:cubicBezTo>
                  <a:pt x="196" y="721"/>
                  <a:pt x="210" y="662"/>
                  <a:pt x="216" y="656"/>
                </a:cubicBezTo>
                <a:cubicBezTo>
                  <a:pt x="232" y="640"/>
                  <a:pt x="248" y="624"/>
                  <a:pt x="264" y="608"/>
                </a:cubicBezTo>
                <a:cubicBezTo>
                  <a:pt x="297" y="575"/>
                  <a:pt x="351" y="561"/>
                  <a:pt x="384" y="528"/>
                </a:cubicBezTo>
                <a:cubicBezTo>
                  <a:pt x="424" y="488"/>
                  <a:pt x="476" y="455"/>
                  <a:pt x="528" y="432"/>
                </a:cubicBezTo>
                <a:cubicBezTo>
                  <a:pt x="551" y="422"/>
                  <a:pt x="579" y="422"/>
                  <a:pt x="600" y="408"/>
                </a:cubicBezTo>
                <a:cubicBezTo>
                  <a:pt x="633" y="386"/>
                  <a:pt x="615" y="394"/>
                  <a:pt x="656" y="384"/>
                </a:cubicBezTo>
                <a:cubicBezTo>
                  <a:pt x="704" y="352"/>
                  <a:pt x="770" y="330"/>
                  <a:pt x="824" y="312"/>
                </a:cubicBezTo>
                <a:cubicBezTo>
                  <a:pt x="855" y="302"/>
                  <a:pt x="889" y="305"/>
                  <a:pt x="920" y="296"/>
                </a:cubicBezTo>
                <a:cubicBezTo>
                  <a:pt x="1058" y="258"/>
                  <a:pt x="1201" y="251"/>
                  <a:pt x="1344" y="240"/>
                </a:cubicBezTo>
                <a:cubicBezTo>
                  <a:pt x="1512" y="243"/>
                  <a:pt x="1680" y="243"/>
                  <a:pt x="1848" y="248"/>
                </a:cubicBezTo>
                <a:cubicBezTo>
                  <a:pt x="1926" y="250"/>
                  <a:pt x="2010" y="273"/>
                  <a:pt x="2088" y="280"/>
                </a:cubicBezTo>
                <a:cubicBezTo>
                  <a:pt x="2168" y="300"/>
                  <a:pt x="2084" y="281"/>
                  <a:pt x="2248" y="296"/>
                </a:cubicBezTo>
                <a:cubicBezTo>
                  <a:pt x="2370" y="307"/>
                  <a:pt x="2499" y="346"/>
                  <a:pt x="2608" y="400"/>
                </a:cubicBezTo>
                <a:cubicBezTo>
                  <a:pt x="2659" y="425"/>
                  <a:pt x="2704" y="440"/>
                  <a:pt x="2752" y="472"/>
                </a:cubicBezTo>
                <a:cubicBezTo>
                  <a:pt x="2779" y="490"/>
                  <a:pt x="2824" y="536"/>
                  <a:pt x="2824" y="536"/>
                </a:cubicBezTo>
                <a:cubicBezTo>
                  <a:pt x="2782" y="550"/>
                  <a:pt x="2738" y="546"/>
                  <a:pt x="2696" y="560"/>
                </a:cubicBezTo>
                <a:cubicBezTo>
                  <a:pt x="2759" y="602"/>
                  <a:pt x="2703" y="571"/>
                  <a:pt x="2856" y="584"/>
                </a:cubicBezTo>
                <a:cubicBezTo>
                  <a:pt x="2913" y="589"/>
                  <a:pt x="2970" y="606"/>
                  <a:pt x="3024" y="624"/>
                </a:cubicBezTo>
                <a:cubicBezTo>
                  <a:pt x="3033" y="627"/>
                  <a:pt x="3039" y="636"/>
                  <a:pt x="3048" y="640"/>
                </a:cubicBezTo>
                <a:cubicBezTo>
                  <a:pt x="3073" y="653"/>
                  <a:pt x="3103" y="651"/>
                  <a:pt x="3128" y="664"/>
                </a:cubicBezTo>
                <a:cubicBezTo>
                  <a:pt x="3137" y="668"/>
                  <a:pt x="3143" y="676"/>
                  <a:pt x="3152" y="680"/>
                </a:cubicBezTo>
                <a:cubicBezTo>
                  <a:pt x="3167" y="687"/>
                  <a:pt x="3200" y="696"/>
                  <a:pt x="3200" y="696"/>
                </a:cubicBezTo>
                <a:cubicBezTo>
                  <a:pt x="3195" y="647"/>
                  <a:pt x="3192" y="599"/>
                  <a:pt x="3176" y="552"/>
                </a:cubicBezTo>
                <a:cubicBezTo>
                  <a:pt x="3173" y="488"/>
                  <a:pt x="3180" y="423"/>
                  <a:pt x="3168" y="360"/>
                </a:cubicBezTo>
                <a:cubicBezTo>
                  <a:pt x="3166" y="349"/>
                  <a:pt x="3149" y="374"/>
                  <a:pt x="3144" y="384"/>
                </a:cubicBezTo>
                <a:cubicBezTo>
                  <a:pt x="3132" y="406"/>
                  <a:pt x="3128" y="432"/>
                  <a:pt x="3120" y="456"/>
                </a:cubicBezTo>
                <a:cubicBezTo>
                  <a:pt x="3115" y="472"/>
                  <a:pt x="3104" y="504"/>
                  <a:pt x="3104" y="504"/>
                </a:cubicBezTo>
                <a:cubicBezTo>
                  <a:pt x="3030" y="479"/>
                  <a:pt x="2980" y="411"/>
                  <a:pt x="2904" y="392"/>
                </a:cubicBezTo>
                <a:cubicBezTo>
                  <a:pt x="2866" y="367"/>
                  <a:pt x="2889" y="379"/>
                  <a:pt x="2832" y="360"/>
                </a:cubicBezTo>
                <a:cubicBezTo>
                  <a:pt x="2803" y="350"/>
                  <a:pt x="2779" y="332"/>
                  <a:pt x="2752" y="320"/>
                </a:cubicBezTo>
                <a:cubicBezTo>
                  <a:pt x="2752" y="320"/>
                  <a:pt x="2692" y="300"/>
                  <a:pt x="2680" y="296"/>
                </a:cubicBezTo>
                <a:cubicBezTo>
                  <a:pt x="2662" y="290"/>
                  <a:pt x="2650" y="270"/>
                  <a:pt x="2632" y="264"/>
                </a:cubicBezTo>
                <a:cubicBezTo>
                  <a:pt x="2608" y="256"/>
                  <a:pt x="2581" y="254"/>
                  <a:pt x="2560" y="240"/>
                </a:cubicBezTo>
                <a:cubicBezTo>
                  <a:pt x="2552" y="235"/>
                  <a:pt x="2545" y="227"/>
                  <a:pt x="2536" y="224"/>
                </a:cubicBezTo>
                <a:cubicBezTo>
                  <a:pt x="2515" y="216"/>
                  <a:pt x="2472" y="208"/>
                  <a:pt x="2472" y="208"/>
                </a:cubicBezTo>
                <a:cubicBezTo>
                  <a:pt x="2428" y="179"/>
                  <a:pt x="2370" y="169"/>
                  <a:pt x="2320" y="152"/>
                </a:cubicBezTo>
                <a:cubicBezTo>
                  <a:pt x="2253" y="130"/>
                  <a:pt x="2182" y="95"/>
                  <a:pt x="2112" y="80"/>
                </a:cubicBezTo>
                <a:cubicBezTo>
                  <a:pt x="2073" y="72"/>
                  <a:pt x="2032" y="71"/>
                  <a:pt x="1992" y="64"/>
                </a:cubicBezTo>
                <a:cubicBezTo>
                  <a:pt x="1864" y="41"/>
                  <a:pt x="1737" y="18"/>
                  <a:pt x="1608" y="0"/>
                </a:cubicBezTo>
                <a:cubicBezTo>
                  <a:pt x="1467" y="3"/>
                  <a:pt x="1325" y="4"/>
                  <a:pt x="1184" y="8"/>
                </a:cubicBezTo>
                <a:cubicBezTo>
                  <a:pt x="1091" y="11"/>
                  <a:pt x="1004" y="43"/>
                  <a:pt x="912" y="56"/>
                </a:cubicBezTo>
                <a:cubicBezTo>
                  <a:pt x="845" y="66"/>
                  <a:pt x="768" y="72"/>
                  <a:pt x="704" y="96"/>
                </a:cubicBezTo>
                <a:cubicBezTo>
                  <a:pt x="672" y="108"/>
                  <a:pt x="608" y="128"/>
                  <a:pt x="608" y="128"/>
                </a:cubicBezTo>
                <a:cubicBezTo>
                  <a:pt x="548" y="168"/>
                  <a:pt x="542" y="158"/>
                  <a:pt x="480" y="184"/>
                </a:cubicBezTo>
                <a:cubicBezTo>
                  <a:pt x="437" y="202"/>
                  <a:pt x="394" y="221"/>
                  <a:pt x="352" y="240"/>
                </a:cubicBezTo>
                <a:cubicBezTo>
                  <a:pt x="311" y="258"/>
                  <a:pt x="271" y="267"/>
                  <a:pt x="232" y="288"/>
                </a:cubicBezTo>
                <a:cubicBezTo>
                  <a:pt x="182" y="316"/>
                  <a:pt x="135" y="352"/>
                  <a:pt x="88" y="384"/>
                </a:cubicBezTo>
                <a:cubicBezTo>
                  <a:pt x="63" y="401"/>
                  <a:pt x="45" y="422"/>
                  <a:pt x="16" y="432"/>
                </a:cubicBezTo>
                <a:cubicBezTo>
                  <a:pt x="11" y="440"/>
                  <a:pt x="0" y="456"/>
                  <a:pt x="0" y="456"/>
                </a:cubicBez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"/>
          <p:cNvSpPr/>
          <p:nvPr/>
        </p:nvSpPr>
        <p:spPr>
          <a:xfrm rot="290400">
            <a:off x="2700000" y="2204640"/>
            <a:ext cx="287280" cy="792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 rot="603600">
            <a:off x="2842920" y="3499920"/>
            <a:ext cx="287280" cy="648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2987640" y="5661000"/>
            <a:ext cx="287280" cy="863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-38160" y="-11160"/>
            <a:ext cx="1297080" cy="22161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509" h="665">
                <a:moveTo>
                  <a:pt x="24" y="7"/>
                </a:moveTo>
                <a:cubicBezTo>
                  <a:pt x="57" y="0"/>
                  <a:pt x="117" y="9"/>
                  <a:pt x="141" y="10"/>
                </a:cubicBezTo>
                <a:cubicBezTo>
                  <a:pt x="218" y="9"/>
                  <a:pt x="349" y="0"/>
                  <a:pt x="444" y="7"/>
                </a:cubicBezTo>
                <a:cubicBezTo>
                  <a:pt x="467" y="13"/>
                  <a:pt x="473" y="24"/>
                  <a:pt x="489" y="40"/>
                </a:cubicBezTo>
                <a:cubicBezTo>
                  <a:pt x="503" y="81"/>
                  <a:pt x="509" y="131"/>
                  <a:pt x="477" y="163"/>
                </a:cubicBezTo>
                <a:cubicBezTo>
                  <a:pt x="471" y="180"/>
                  <a:pt x="476" y="170"/>
                  <a:pt x="456" y="190"/>
                </a:cubicBezTo>
                <a:cubicBezTo>
                  <a:pt x="453" y="193"/>
                  <a:pt x="447" y="199"/>
                  <a:pt x="447" y="199"/>
                </a:cubicBezTo>
                <a:cubicBezTo>
                  <a:pt x="446" y="202"/>
                  <a:pt x="446" y="206"/>
                  <a:pt x="444" y="208"/>
                </a:cubicBezTo>
                <a:cubicBezTo>
                  <a:pt x="442" y="211"/>
                  <a:pt x="437" y="211"/>
                  <a:pt x="435" y="214"/>
                </a:cubicBezTo>
                <a:cubicBezTo>
                  <a:pt x="432" y="219"/>
                  <a:pt x="429" y="232"/>
                  <a:pt x="429" y="232"/>
                </a:cubicBezTo>
                <a:cubicBezTo>
                  <a:pt x="428" y="271"/>
                  <a:pt x="428" y="310"/>
                  <a:pt x="426" y="349"/>
                </a:cubicBezTo>
                <a:cubicBezTo>
                  <a:pt x="425" y="360"/>
                  <a:pt x="413" y="373"/>
                  <a:pt x="408" y="382"/>
                </a:cubicBezTo>
                <a:cubicBezTo>
                  <a:pt x="402" y="394"/>
                  <a:pt x="397" y="408"/>
                  <a:pt x="387" y="418"/>
                </a:cubicBezTo>
                <a:cubicBezTo>
                  <a:pt x="363" y="442"/>
                  <a:pt x="319" y="429"/>
                  <a:pt x="291" y="448"/>
                </a:cubicBezTo>
                <a:cubicBezTo>
                  <a:pt x="281" y="479"/>
                  <a:pt x="271" y="511"/>
                  <a:pt x="258" y="541"/>
                </a:cubicBezTo>
                <a:cubicBezTo>
                  <a:pt x="249" y="560"/>
                  <a:pt x="250" y="582"/>
                  <a:pt x="231" y="595"/>
                </a:cubicBezTo>
                <a:cubicBezTo>
                  <a:pt x="223" y="607"/>
                  <a:pt x="209" y="614"/>
                  <a:pt x="195" y="619"/>
                </a:cubicBezTo>
                <a:cubicBezTo>
                  <a:pt x="0" y="616"/>
                  <a:pt x="30" y="665"/>
                  <a:pt x="12" y="559"/>
                </a:cubicBezTo>
                <a:cubicBezTo>
                  <a:pt x="15" y="499"/>
                  <a:pt x="9" y="522"/>
                  <a:pt x="21" y="487"/>
                </a:cubicBezTo>
                <a:cubicBezTo>
                  <a:pt x="24" y="478"/>
                  <a:pt x="30" y="460"/>
                  <a:pt x="30" y="460"/>
                </a:cubicBezTo>
                <a:cubicBezTo>
                  <a:pt x="29" y="449"/>
                  <a:pt x="29" y="438"/>
                  <a:pt x="27" y="427"/>
                </a:cubicBezTo>
                <a:cubicBezTo>
                  <a:pt x="26" y="421"/>
                  <a:pt x="21" y="409"/>
                  <a:pt x="21" y="409"/>
                </a:cubicBezTo>
                <a:cubicBezTo>
                  <a:pt x="15" y="358"/>
                  <a:pt x="21" y="312"/>
                  <a:pt x="27" y="262"/>
                </a:cubicBezTo>
                <a:cubicBezTo>
                  <a:pt x="22" y="197"/>
                  <a:pt x="21" y="135"/>
                  <a:pt x="30" y="70"/>
                </a:cubicBezTo>
                <a:cubicBezTo>
                  <a:pt x="29" y="51"/>
                  <a:pt x="24" y="27"/>
                  <a:pt x="24" y="7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-36360" y="476280"/>
            <a:ext cx="111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лтий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1"/>
          <p:cNvSpPr/>
          <p:nvPr/>
        </p:nvSpPr>
        <p:spPr>
          <a:xfrm>
            <a:off x="28440" y="1379520"/>
            <a:ext cx="3030840" cy="5505480"/>
          </a:xfrm>
          <a:custGeom>
            <a:avLst/>
            <a:gdLst>
              <a:gd name="textAreaLeft" fmla="*/ 0 w 3030840"/>
              <a:gd name="textAreaRight" fmla="*/ 3031200 w 3030840"/>
              <a:gd name="textAreaTop" fmla="*/ 0 h 5505480"/>
              <a:gd name="textAreaBottom" fmla="*/ 5505840 h 5505480"/>
            </a:gdLst>
            <a:ahLst/>
            <a:rect l="textAreaLeft" t="textAreaTop" r="textAreaRight" b="textAreaBottom"/>
            <a:pathLst>
              <a:path w="1632" h="3468">
                <a:moveTo>
                  <a:pt x="558" y="0"/>
                </a:moveTo>
                <a:cubicBezTo>
                  <a:pt x="571" y="105"/>
                  <a:pt x="606" y="197"/>
                  <a:pt x="649" y="292"/>
                </a:cubicBezTo>
                <a:cubicBezTo>
                  <a:pt x="681" y="364"/>
                  <a:pt x="646" y="333"/>
                  <a:pt x="695" y="365"/>
                </a:cubicBezTo>
                <a:cubicBezTo>
                  <a:pt x="718" y="400"/>
                  <a:pt x="725" y="401"/>
                  <a:pt x="759" y="420"/>
                </a:cubicBezTo>
                <a:cubicBezTo>
                  <a:pt x="888" y="492"/>
                  <a:pt x="860" y="474"/>
                  <a:pt x="1052" y="484"/>
                </a:cubicBezTo>
                <a:cubicBezTo>
                  <a:pt x="1110" y="503"/>
                  <a:pt x="1111" y="500"/>
                  <a:pt x="1143" y="548"/>
                </a:cubicBezTo>
                <a:cubicBezTo>
                  <a:pt x="1157" y="593"/>
                  <a:pt x="1204" y="630"/>
                  <a:pt x="1235" y="667"/>
                </a:cubicBezTo>
                <a:cubicBezTo>
                  <a:pt x="1245" y="679"/>
                  <a:pt x="1250" y="695"/>
                  <a:pt x="1262" y="704"/>
                </a:cubicBezTo>
                <a:cubicBezTo>
                  <a:pt x="1272" y="711"/>
                  <a:pt x="1287" y="710"/>
                  <a:pt x="1299" y="713"/>
                </a:cubicBezTo>
                <a:cubicBezTo>
                  <a:pt x="1364" y="756"/>
                  <a:pt x="1332" y="744"/>
                  <a:pt x="1390" y="758"/>
                </a:cubicBezTo>
                <a:cubicBezTo>
                  <a:pt x="1410" y="780"/>
                  <a:pt x="1428" y="797"/>
                  <a:pt x="1445" y="822"/>
                </a:cubicBezTo>
                <a:cubicBezTo>
                  <a:pt x="1458" y="862"/>
                  <a:pt x="1471" y="900"/>
                  <a:pt x="1481" y="941"/>
                </a:cubicBezTo>
                <a:cubicBezTo>
                  <a:pt x="1477" y="978"/>
                  <a:pt x="1486" y="1022"/>
                  <a:pt x="1463" y="1051"/>
                </a:cubicBezTo>
                <a:cubicBezTo>
                  <a:pt x="1411" y="1116"/>
                  <a:pt x="1316" y="1100"/>
                  <a:pt x="1244" y="1124"/>
                </a:cubicBezTo>
                <a:cubicBezTo>
                  <a:pt x="1241" y="1126"/>
                  <a:pt x="1208" y="1157"/>
                  <a:pt x="1207" y="1161"/>
                </a:cubicBezTo>
                <a:cubicBezTo>
                  <a:pt x="1191" y="1209"/>
                  <a:pt x="1206" y="1281"/>
                  <a:pt x="1134" y="1289"/>
                </a:cubicBezTo>
                <a:cubicBezTo>
                  <a:pt x="1092" y="1294"/>
                  <a:pt x="1049" y="1295"/>
                  <a:pt x="1006" y="1298"/>
                </a:cubicBezTo>
                <a:cubicBezTo>
                  <a:pt x="997" y="1304"/>
                  <a:pt x="989" y="1311"/>
                  <a:pt x="979" y="1316"/>
                </a:cubicBezTo>
                <a:cubicBezTo>
                  <a:pt x="970" y="1320"/>
                  <a:pt x="958" y="1318"/>
                  <a:pt x="951" y="1325"/>
                </a:cubicBezTo>
                <a:cubicBezTo>
                  <a:pt x="944" y="1332"/>
                  <a:pt x="946" y="1344"/>
                  <a:pt x="942" y="1353"/>
                </a:cubicBezTo>
                <a:cubicBezTo>
                  <a:pt x="937" y="1363"/>
                  <a:pt x="930" y="1371"/>
                  <a:pt x="924" y="1380"/>
                </a:cubicBezTo>
                <a:cubicBezTo>
                  <a:pt x="905" y="1438"/>
                  <a:pt x="883" y="1522"/>
                  <a:pt x="951" y="1545"/>
                </a:cubicBezTo>
                <a:cubicBezTo>
                  <a:pt x="968" y="1570"/>
                  <a:pt x="986" y="1587"/>
                  <a:pt x="1006" y="1609"/>
                </a:cubicBezTo>
                <a:cubicBezTo>
                  <a:pt x="1046" y="1728"/>
                  <a:pt x="1041" y="1878"/>
                  <a:pt x="969" y="1984"/>
                </a:cubicBezTo>
                <a:cubicBezTo>
                  <a:pt x="972" y="2014"/>
                  <a:pt x="972" y="2045"/>
                  <a:pt x="979" y="2075"/>
                </a:cubicBezTo>
                <a:cubicBezTo>
                  <a:pt x="987" y="2109"/>
                  <a:pt x="1066" y="2156"/>
                  <a:pt x="1097" y="2166"/>
                </a:cubicBezTo>
                <a:cubicBezTo>
                  <a:pt x="1129" y="2198"/>
                  <a:pt x="1172" y="2196"/>
                  <a:pt x="1216" y="2203"/>
                </a:cubicBezTo>
                <a:cubicBezTo>
                  <a:pt x="1244" y="2221"/>
                  <a:pt x="1258" y="2239"/>
                  <a:pt x="1289" y="2249"/>
                </a:cubicBezTo>
                <a:cubicBezTo>
                  <a:pt x="1312" y="2333"/>
                  <a:pt x="1280" y="2245"/>
                  <a:pt x="1326" y="2304"/>
                </a:cubicBezTo>
                <a:cubicBezTo>
                  <a:pt x="1332" y="2311"/>
                  <a:pt x="1330" y="2323"/>
                  <a:pt x="1335" y="2331"/>
                </a:cubicBezTo>
                <a:cubicBezTo>
                  <a:pt x="1342" y="2342"/>
                  <a:pt x="1354" y="2349"/>
                  <a:pt x="1363" y="2358"/>
                </a:cubicBezTo>
                <a:cubicBezTo>
                  <a:pt x="1393" y="2450"/>
                  <a:pt x="1343" y="2312"/>
                  <a:pt x="1399" y="2413"/>
                </a:cubicBezTo>
                <a:cubicBezTo>
                  <a:pt x="1445" y="2497"/>
                  <a:pt x="1392" y="2439"/>
                  <a:pt x="1454" y="2505"/>
                </a:cubicBezTo>
                <a:cubicBezTo>
                  <a:pt x="1460" y="2523"/>
                  <a:pt x="1466" y="2542"/>
                  <a:pt x="1472" y="2560"/>
                </a:cubicBezTo>
                <a:cubicBezTo>
                  <a:pt x="1475" y="2569"/>
                  <a:pt x="1481" y="2587"/>
                  <a:pt x="1481" y="2587"/>
                </a:cubicBezTo>
                <a:cubicBezTo>
                  <a:pt x="1476" y="2656"/>
                  <a:pt x="1489" y="2705"/>
                  <a:pt x="1445" y="2752"/>
                </a:cubicBezTo>
                <a:cubicBezTo>
                  <a:pt x="1434" y="2784"/>
                  <a:pt x="1433" y="2810"/>
                  <a:pt x="1408" y="2834"/>
                </a:cubicBezTo>
                <a:cubicBezTo>
                  <a:pt x="1386" y="2901"/>
                  <a:pt x="1395" y="2870"/>
                  <a:pt x="1381" y="2925"/>
                </a:cubicBezTo>
                <a:cubicBezTo>
                  <a:pt x="1390" y="3066"/>
                  <a:pt x="1391" y="3131"/>
                  <a:pt x="1491" y="3227"/>
                </a:cubicBezTo>
                <a:cubicBezTo>
                  <a:pt x="1504" y="3265"/>
                  <a:pt x="1531" y="3288"/>
                  <a:pt x="1555" y="3318"/>
                </a:cubicBezTo>
                <a:cubicBezTo>
                  <a:pt x="1604" y="3378"/>
                  <a:pt x="1548" y="3315"/>
                  <a:pt x="1582" y="3373"/>
                </a:cubicBezTo>
                <a:cubicBezTo>
                  <a:pt x="1585" y="3379"/>
                  <a:pt x="1614" y="3405"/>
                  <a:pt x="1619" y="3410"/>
                </a:cubicBezTo>
                <a:cubicBezTo>
                  <a:pt x="1622" y="3419"/>
                  <a:pt x="1632" y="3429"/>
                  <a:pt x="1628" y="3437"/>
                </a:cubicBezTo>
                <a:cubicBezTo>
                  <a:pt x="1623" y="3446"/>
                  <a:pt x="1610" y="3446"/>
                  <a:pt x="1600" y="3446"/>
                </a:cubicBezTo>
                <a:cubicBezTo>
                  <a:pt x="1536" y="3446"/>
                  <a:pt x="1472" y="3440"/>
                  <a:pt x="1408" y="3437"/>
                </a:cubicBezTo>
                <a:cubicBezTo>
                  <a:pt x="1316" y="3414"/>
                  <a:pt x="1192" y="3464"/>
                  <a:pt x="1097" y="3465"/>
                </a:cubicBezTo>
                <a:cubicBezTo>
                  <a:pt x="731" y="3468"/>
                  <a:pt x="366" y="3465"/>
                  <a:pt x="0" y="3465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2"/>
          <p:cNvSpPr/>
          <p:nvPr/>
        </p:nvSpPr>
        <p:spPr>
          <a:xfrm>
            <a:off x="-14400" y="2133720"/>
            <a:ext cx="1698840" cy="122400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070" h="878">
                <a:moveTo>
                  <a:pt x="0" y="841"/>
                </a:moveTo>
                <a:cubicBezTo>
                  <a:pt x="116" y="844"/>
                  <a:pt x="232" y="843"/>
                  <a:pt x="347" y="850"/>
                </a:cubicBezTo>
                <a:cubicBezTo>
                  <a:pt x="387" y="852"/>
                  <a:pt x="426" y="863"/>
                  <a:pt x="466" y="869"/>
                </a:cubicBezTo>
                <a:cubicBezTo>
                  <a:pt x="487" y="872"/>
                  <a:pt x="530" y="878"/>
                  <a:pt x="530" y="878"/>
                </a:cubicBezTo>
                <a:cubicBezTo>
                  <a:pt x="576" y="875"/>
                  <a:pt x="622" y="876"/>
                  <a:pt x="667" y="869"/>
                </a:cubicBezTo>
                <a:cubicBezTo>
                  <a:pt x="729" y="860"/>
                  <a:pt x="708" y="853"/>
                  <a:pt x="750" y="832"/>
                </a:cubicBezTo>
                <a:cubicBezTo>
                  <a:pt x="773" y="821"/>
                  <a:pt x="810" y="818"/>
                  <a:pt x="832" y="814"/>
                </a:cubicBezTo>
                <a:cubicBezTo>
                  <a:pt x="897" y="791"/>
                  <a:pt x="871" y="806"/>
                  <a:pt x="914" y="777"/>
                </a:cubicBezTo>
                <a:cubicBezTo>
                  <a:pt x="926" y="759"/>
                  <a:pt x="946" y="743"/>
                  <a:pt x="951" y="722"/>
                </a:cubicBezTo>
                <a:cubicBezTo>
                  <a:pt x="964" y="669"/>
                  <a:pt x="974" y="597"/>
                  <a:pt x="1015" y="558"/>
                </a:cubicBezTo>
                <a:cubicBezTo>
                  <a:pt x="1024" y="521"/>
                  <a:pt x="1036" y="500"/>
                  <a:pt x="1051" y="466"/>
                </a:cubicBezTo>
                <a:cubicBezTo>
                  <a:pt x="1059" y="448"/>
                  <a:pt x="1070" y="411"/>
                  <a:pt x="1070" y="411"/>
                </a:cubicBezTo>
                <a:cubicBezTo>
                  <a:pt x="1058" y="280"/>
                  <a:pt x="1063" y="261"/>
                  <a:pt x="960" y="192"/>
                </a:cubicBezTo>
                <a:cubicBezTo>
                  <a:pt x="943" y="166"/>
                  <a:pt x="922" y="145"/>
                  <a:pt x="905" y="119"/>
                </a:cubicBezTo>
                <a:cubicBezTo>
                  <a:pt x="886" y="61"/>
                  <a:pt x="887" y="66"/>
                  <a:pt x="850" y="27"/>
                </a:cubicBezTo>
                <a:cubicBezTo>
                  <a:pt x="847" y="18"/>
                  <a:pt x="841" y="0"/>
                  <a:pt x="841" y="0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3"/>
          <p:cNvSpPr/>
          <p:nvPr/>
        </p:nvSpPr>
        <p:spPr>
          <a:xfrm>
            <a:off x="0" y="5649840"/>
            <a:ext cx="2220840" cy="53496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399" h="337">
                <a:moveTo>
                  <a:pt x="0" y="153"/>
                </a:moveTo>
                <a:cubicBezTo>
                  <a:pt x="49" y="150"/>
                  <a:pt x="98" y="152"/>
                  <a:pt x="146" y="144"/>
                </a:cubicBezTo>
                <a:cubicBezTo>
                  <a:pt x="150" y="143"/>
                  <a:pt x="181" y="109"/>
                  <a:pt x="183" y="107"/>
                </a:cubicBezTo>
                <a:cubicBezTo>
                  <a:pt x="206" y="88"/>
                  <a:pt x="228" y="71"/>
                  <a:pt x="256" y="62"/>
                </a:cubicBezTo>
                <a:cubicBezTo>
                  <a:pt x="315" y="0"/>
                  <a:pt x="330" y="27"/>
                  <a:pt x="439" y="34"/>
                </a:cubicBezTo>
                <a:cubicBezTo>
                  <a:pt x="485" y="65"/>
                  <a:pt x="531" y="94"/>
                  <a:pt x="576" y="126"/>
                </a:cubicBezTo>
                <a:cubicBezTo>
                  <a:pt x="601" y="144"/>
                  <a:pt x="662" y="154"/>
                  <a:pt x="695" y="162"/>
                </a:cubicBezTo>
                <a:cubicBezTo>
                  <a:pt x="708" y="171"/>
                  <a:pt x="732" y="184"/>
                  <a:pt x="741" y="199"/>
                </a:cubicBezTo>
                <a:cubicBezTo>
                  <a:pt x="764" y="237"/>
                  <a:pt x="733" y="218"/>
                  <a:pt x="768" y="254"/>
                </a:cubicBezTo>
                <a:cubicBezTo>
                  <a:pt x="791" y="278"/>
                  <a:pt x="840" y="288"/>
                  <a:pt x="869" y="299"/>
                </a:cubicBezTo>
                <a:cubicBezTo>
                  <a:pt x="905" y="337"/>
                  <a:pt x="949" y="315"/>
                  <a:pt x="987" y="290"/>
                </a:cubicBezTo>
                <a:cubicBezTo>
                  <a:pt x="993" y="281"/>
                  <a:pt x="1001" y="273"/>
                  <a:pt x="1006" y="263"/>
                </a:cubicBezTo>
                <a:cubicBezTo>
                  <a:pt x="1010" y="254"/>
                  <a:pt x="1008" y="242"/>
                  <a:pt x="1015" y="235"/>
                </a:cubicBezTo>
                <a:cubicBezTo>
                  <a:pt x="1025" y="224"/>
                  <a:pt x="1088" y="214"/>
                  <a:pt x="1106" y="208"/>
                </a:cubicBezTo>
                <a:cubicBezTo>
                  <a:pt x="1158" y="211"/>
                  <a:pt x="1210" y="212"/>
                  <a:pt x="1262" y="217"/>
                </a:cubicBezTo>
                <a:cubicBezTo>
                  <a:pt x="1294" y="220"/>
                  <a:pt x="1353" y="244"/>
                  <a:pt x="1353" y="244"/>
                </a:cubicBezTo>
                <a:cubicBezTo>
                  <a:pt x="1384" y="234"/>
                  <a:pt x="1399" y="225"/>
                  <a:pt x="1399" y="190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4920" y="2421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 Р У С С И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-36360" y="4581360"/>
            <a:ext cx="201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 Е Р Ц О Г С Т В 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А Р Ш А В С К О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8101080" y="981000"/>
            <a:ext cx="658800" cy="647280"/>
            <a:chOff x="8101080" y="981000"/>
            <a:chExt cx="658800" cy="647280"/>
          </a:xfrm>
        </p:grpSpPr>
        <p:sp>
          <p:nvSpPr>
            <p:cNvPr id="532" name="Rectangle 17"/>
            <p:cNvSpPr/>
            <p:nvPr/>
          </p:nvSpPr>
          <p:spPr>
            <a:xfrm>
              <a:off x="8322480" y="1425960"/>
              <a:ext cx="435960" cy="201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8"/>
            <p:cNvSpPr/>
            <p:nvPr/>
          </p:nvSpPr>
          <p:spPr>
            <a:xfrm>
              <a:off x="8422920" y="1305000"/>
              <a:ext cx="100440" cy="120960"/>
            </a:xfrm>
            <a:prstGeom prst="octagon">
              <a:avLst>
                <a:gd name="adj" fmla="val 29287"/>
              </a:avLst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9"/>
            <p:cNvSpPr/>
            <p:nvPr/>
          </p:nvSpPr>
          <p:spPr>
            <a:xfrm rot="10800000">
              <a:off x="8389080" y="1182600"/>
              <a:ext cx="167040" cy="162000"/>
            </a:xfrm>
            <a:custGeom>
              <a:avLst/>
              <a:gdLst>
                <a:gd name="textAreaLeft" fmla="*/ 39240 w 167040"/>
                <a:gd name="textAreaRight" fmla="*/ 127800 w 167040"/>
                <a:gd name="textAreaTop" fmla="*/ 16920 h 162000"/>
                <a:gd name="textAreaBottom" fmla="*/ 10224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0"/>
            <p:cNvSpPr/>
            <p:nvPr/>
          </p:nvSpPr>
          <p:spPr>
            <a:xfrm>
              <a:off x="8324640" y="1361880"/>
              <a:ext cx="435240" cy="802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88" h="90">
                  <a:moveTo>
                    <a:pt x="0" y="17"/>
                  </a:moveTo>
                  <a:cubicBezTo>
                    <a:pt x="51" y="0"/>
                    <a:pt x="41" y="13"/>
                    <a:pt x="51" y="44"/>
                  </a:cubicBezTo>
                  <a:cubicBezTo>
                    <a:pt x="54" y="65"/>
                    <a:pt x="49" y="90"/>
                    <a:pt x="90" y="65"/>
                  </a:cubicBezTo>
                  <a:cubicBezTo>
                    <a:pt x="96" y="61"/>
                    <a:pt x="92" y="51"/>
                    <a:pt x="93" y="44"/>
                  </a:cubicBezTo>
                  <a:cubicBezTo>
                    <a:pt x="95" y="36"/>
                    <a:pt x="99" y="20"/>
                    <a:pt x="99" y="20"/>
                  </a:cubicBezTo>
                  <a:cubicBezTo>
                    <a:pt x="116" y="21"/>
                    <a:pt x="134" y="17"/>
                    <a:pt x="150" y="23"/>
                  </a:cubicBezTo>
                  <a:cubicBezTo>
                    <a:pt x="156" y="25"/>
                    <a:pt x="154" y="35"/>
                    <a:pt x="156" y="41"/>
                  </a:cubicBezTo>
                  <a:cubicBezTo>
                    <a:pt x="160" y="54"/>
                    <a:pt x="164" y="67"/>
                    <a:pt x="177" y="71"/>
                  </a:cubicBezTo>
                  <a:cubicBezTo>
                    <a:pt x="187" y="70"/>
                    <a:pt x="198" y="73"/>
                    <a:pt x="207" y="68"/>
                  </a:cubicBezTo>
                  <a:cubicBezTo>
                    <a:pt x="207" y="68"/>
                    <a:pt x="215" y="46"/>
                    <a:pt x="216" y="41"/>
                  </a:cubicBezTo>
                  <a:cubicBezTo>
                    <a:pt x="218" y="35"/>
                    <a:pt x="222" y="23"/>
                    <a:pt x="222" y="23"/>
                  </a:cubicBezTo>
                  <a:cubicBezTo>
                    <a:pt x="236" y="24"/>
                    <a:pt x="250" y="22"/>
                    <a:pt x="264" y="26"/>
                  </a:cubicBezTo>
                  <a:cubicBezTo>
                    <a:pt x="269" y="27"/>
                    <a:pt x="279" y="68"/>
                    <a:pt x="285" y="71"/>
                  </a:cubicBezTo>
                  <a:cubicBezTo>
                    <a:pt x="292" y="74"/>
                    <a:pt x="301" y="73"/>
                    <a:pt x="309" y="74"/>
                  </a:cubicBezTo>
                  <a:cubicBezTo>
                    <a:pt x="319" y="73"/>
                    <a:pt x="329" y="74"/>
                    <a:pt x="339" y="71"/>
                  </a:cubicBezTo>
                  <a:cubicBezTo>
                    <a:pt x="353" y="66"/>
                    <a:pt x="342" y="39"/>
                    <a:pt x="369" y="32"/>
                  </a:cubicBezTo>
                  <a:cubicBezTo>
                    <a:pt x="383" y="33"/>
                    <a:pt x="398" y="30"/>
                    <a:pt x="411" y="35"/>
                  </a:cubicBezTo>
                  <a:cubicBezTo>
                    <a:pt x="416" y="37"/>
                    <a:pt x="430" y="64"/>
                    <a:pt x="435" y="71"/>
                  </a:cubicBezTo>
                  <a:cubicBezTo>
                    <a:pt x="441" y="79"/>
                    <a:pt x="455" y="75"/>
                    <a:pt x="465" y="77"/>
                  </a:cubicBezTo>
                  <a:cubicBezTo>
                    <a:pt x="474" y="76"/>
                    <a:pt x="483" y="77"/>
                    <a:pt x="492" y="74"/>
                  </a:cubicBezTo>
                  <a:cubicBezTo>
                    <a:pt x="502" y="70"/>
                    <a:pt x="506" y="40"/>
                    <a:pt x="510" y="29"/>
                  </a:cubicBezTo>
                  <a:cubicBezTo>
                    <a:pt x="512" y="23"/>
                    <a:pt x="528" y="23"/>
                    <a:pt x="528" y="23"/>
                  </a:cubicBezTo>
                  <a:cubicBezTo>
                    <a:pt x="539" y="24"/>
                    <a:pt x="550" y="23"/>
                    <a:pt x="561" y="26"/>
                  </a:cubicBezTo>
                  <a:cubicBezTo>
                    <a:pt x="576" y="30"/>
                    <a:pt x="582" y="55"/>
                    <a:pt x="588" y="68"/>
                  </a:cubicBezTo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8101080" y="981000"/>
              <a:ext cx="221400" cy="647280"/>
              <a:chOff x="8101080" y="981000"/>
              <a:chExt cx="221400" cy="647280"/>
            </a:xfrm>
          </p:grpSpPr>
          <p:sp>
            <p:nvSpPr>
              <p:cNvPr id="537" name="Rectangle 22"/>
              <p:cNvSpPr/>
              <p:nvPr/>
            </p:nvSpPr>
            <p:spPr>
              <a:xfrm>
                <a:off x="8154360" y="1263600"/>
                <a:ext cx="168120" cy="3639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23"/>
              <p:cNvSpPr/>
              <p:nvPr/>
            </p:nvSpPr>
            <p:spPr>
              <a:xfrm>
                <a:off x="8187480" y="1020960"/>
                <a:ext cx="100800" cy="242640"/>
              </a:xfrm>
              <a:prstGeom prst="triangle">
                <a:avLst>
                  <a:gd name="adj" fmla="val 50000"/>
                </a:avLst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24"/>
              <p:cNvSpPr/>
              <p:nvPr/>
            </p:nvSpPr>
            <p:spPr>
              <a:xfrm>
                <a:off x="8288280" y="1142280"/>
                <a:ext cx="33840" cy="121320"/>
              </a:xfrm>
              <a:prstGeom prst="triangle">
                <a:avLst>
                  <a:gd name="adj" fmla="val 50000"/>
                </a:avLst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25"/>
              <p:cNvSpPr/>
              <p:nvPr/>
            </p:nvSpPr>
            <p:spPr>
              <a:xfrm>
                <a:off x="8154360" y="1142280"/>
                <a:ext cx="33840" cy="121320"/>
              </a:xfrm>
              <a:prstGeom prst="triangle">
                <a:avLst>
                  <a:gd name="adj" fmla="val 50000"/>
                </a:avLst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6"/>
              <p:cNvSpPr/>
              <p:nvPr/>
            </p:nvSpPr>
            <p:spPr>
              <a:xfrm>
                <a:off x="8101080" y="1326960"/>
                <a:ext cx="50400" cy="30132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8" h="338">
                    <a:moveTo>
                      <a:pt x="68" y="338"/>
                    </a:moveTo>
                    <a:cubicBezTo>
                      <a:pt x="47" y="335"/>
                      <a:pt x="30" y="331"/>
                      <a:pt x="8" y="329"/>
                    </a:cubicBezTo>
                    <a:cubicBezTo>
                      <a:pt x="4" y="249"/>
                      <a:pt x="0" y="202"/>
                      <a:pt x="5" y="113"/>
                    </a:cubicBezTo>
                    <a:cubicBezTo>
                      <a:pt x="6" y="95"/>
                      <a:pt x="14" y="59"/>
                      <a:pt x="14" y="59"/>
                    </a:cubicBezTo>
                    <a:cubicBezTo>
                      <a:pt x="15" y="41"/>
                      <a:pt x="11" y="22"/>
                      <a:pt x="17" y="5"/>
                    </a:cubicBezTo>
                    <a:cubicBezTo>
                      <a:pt x="19" y="0"/>
                      <a:pt x="27" y="7"/>
                      <a:pt x="32" y="8"/>
                    </a:cubicBezTo>
                    <a:cubicBezTo>
                      <a:pt x="60" y="16"/>
                      <a:pt x="40" y="14"/>
                      <a:pt x="65" y="14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7"/>
              <p:cNvSpPr/>
              <p:nvPr/>
            </p:nvSpPr>
            <p:spPr>
              <a:xfrm>
                <a:off x="8220240" y="981000"/>
                <a:ext cx="3492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64"/>
                    </a:moveTo>
                    <a:lnTo>
                      <a:pt x="3830" y="3864"/>
                    </a:lnTo>
                    <a:lnTo>
                      <a:pt x="5106" y="0"/>
                    </a:lnTo>
                    <a:lnTo>
                      <a:pt x="6170" y="3864"/>
                    </a:lnTo>
                    <a:lnTo>
                      <a:pt x="10000" y="3864"/>
                    </a:lnTo>
                    <a:lnTo>
                      <a:pt x="6809" y="6136"/>
                    </a:lnTo>
                    <a:lnTo>
                      <a:pt x="8085" y="10000"/>
                    </a:lnTo>
                    <a:lnTo>
                      <a:pt x="5106" y="7727"/>
                    </a:lnTo>
                    <a:lnTo>
                      <a:pt x="1915" y="10000"/>
                    </a:lnTo>
                    <a:lnTo>
                      <a:pt x="3191" y="6136"/>
                    </a:lnTo>
                    <a:lnTo>
                      <a:pt x="0" y="3864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Text Box 28"/>
          <p:cNvSpPr/>
          <p:nvPr/>
        </p:nvSpPr>
        <p:spPr>
          <a:xfrm>
            <a:off x="7812000" y="1628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1692360" y="1916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у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291636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ильню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1"/>
          <p:cNvSpPr/>
          <p:nvPr/>
        </p:nvSpPr>
        <p:spPr>
          <a:xfrm>
            <a:off x="179280" y="6308640"/>
            <a:ext cx="230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 В С Т Р И Й С К А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М П Е Р И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2"/>
          <p:cNvSpPr/>
          <p:nvPr/>
        </p:nvSpPr>
        <p:spPr>
          <a:xfrm rot="671400">
            <a:off x="3203280" y="3068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3"/>
          <p:cNvSpPr/>
          <p:nvPr/>
        </p:nvSpPr>
        <p:spPr>
          <a:xfrm>
            <a:off x="755640" y="1413000"/>
            <a:ext cx="3759120" cy="225108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2368" h="1418">
                <a:moveTo>
                  <a:pt x="2368" y="1408"/>
                </a:moveTo>
                <a:cubicBezTo>
                  <a:pt x="2353" y="1411"/>
                  <a:pt x="2338" y="1418"/>
                  <a:pt x="2322" y="1418"/>
                </a:cubicBezTo>
                <a:cubicBezTo>
                  <a:pt x="2297" y="1418"/>
                  <a:pt x="2272" y="1417"/>
                  <a:pt x="2249" y="1408"/>
                </a:cubicBezTo>
                <a:cubicBezTo>
                  <a:pt x="2236" y="1403"/>
                  <a:pt x="2206" y="1316"/>
                  <a:pt x="2194" y="1299"/>
                </a:cubicBezTo>
                <a:cubicBezTo>
                  <a:pt x="2188" y="1281"/>
                  <a:pt x="2182" y="1262"/>
                  <a:pt x="2176" y="1244"/>
                </a:cubicBezTo>
                <a:cubicBezTo>
                  <a:pt x="2170" y="1225"/>
                  <a:pt x="2143" y="1223"/>
                  <a:pt x="2130" y="1216"/>
                </a:cubicBezTo>
                <a:cubicBezTo>
                  <a:pt x="2075" y="1187"/>
                  <a:pt x="2067" y="1188"/>
                  <a:pt x="1993" y="1180"/>
                </a:cubicBezTo>
                <a:cubicBezTo>
                  <a:pt x="1947" y="1165"/>
                  <a:pt x="1920" y="1122"/>
                  <a:pt x="1874" y="1107"/>
                </a:cubicBezTo>
                <a:cubicBezTo>
                  <a:pt x="1833" y="1063"/>
                  <a:pt x="1784" y="1045"/>
                  <a:pt x="1728" y="1024"/>
                </a:cubicBezTo>
                <a:cubicBezTo>
                  <a:pt x="1609" y="1037"/>
                  <a:pt x="1662" y="1035"/>
                  <a:pt x="1581" y="1061"/>
                </a:cubicBezTo>
                <a:cubicBezTo>
                  <a:pt x="1578" y="1070"/>
                  <a:pt x="1576" y="1079"/>
                  <a:pt x="1572" y="1088"/>
                </a:cubicBezTo>
                <a:cubicBezTo>
                  <a:pt x="1567" y="1098"/>
                  <a:pt x="1558" y="1106"/>
                  <a:pt x="1554" y="1116"/>
                </a:cubicBezTo>
                <a:cubicBezTo>
                  <a:pt x="1542" y="1145"/>
                  <a:pt x="1537" y="1177"/>
                  <a:pt x="1527" y="1207"/>
                </a:cubicBezTo>
                <a:cubicBezTo>
                  <a:pt x="1524" y="1216"/>
                  <a:pt x="1525" y="1230"/>
                  <a:pt x="1517" y="1235"/>
                </a:cubicBezTo>
                <a:cubicBezTo>
                  <a:pt x="1455" y="1276"/>
                  <a:pt x="1484" y="1264"/>
                  <a:pt x="1435" y="1280"/>
                </a:cubicBezTo>
                <a:cubicBezTo>
                  <a:pt x="1395" y="1277"/>
                  <a:pt x="1355" y="1278"/>
                  <a:pt x="1316" y="1271"/>
                </a:cubicBezTo>
                <a:cubicBezTo>
                  <a:pt x="1277" y="1264"/>
                  <a:pt x="1273" y="1201"/>
                  <a:pt x="1252" y="1171"/>
                </a:cubicBezTo>
                <a:cubicBezTo>
                  <a:pt x="1249" y="1070"/>
                  <a:pt x="1251" y="969"/>
                  <a:pt x="1243" y="869"/>
                </a:cubicBezTo>
                <a:cubicBezTo>
                  <a:pt x="1241" y="851"/>
                  <a:pt x="1202" y="816"/>
                  <a:pt x="1188" y="805"/>
                </a:cubicBezTo>
                <a:cubicBezTo>
                  <a:pt x="1136" y="766"/>
                  <a:pt x="1038" y="688"/>
                  <a:pt x="978" y="668"/>
                </a:cubicBezTo>
                <a:cubicBezTo>
                  <a:pt x="958" y="637"/>
                  <a:pt x="934" y="625"/>
                  <a:pt x="914" y="595"/>
                </a:cubicBezTo>
                <a:cubicBezTo>
                  <a:pt x="899" y="549"/>
                  <a:pt x="916" y="581"/>
                  <a:pt x="877" y="549"/>
                </a:cubicBezTo>
                <a:cubicBezTo>
                  <a:pt x="786" y="475"/>
                  <a:pt x="761" y="492"/>
                  <a:pt x="612" y="485"/>
                </a:cubicBezTo>
                <a:cubicBezTo>
                  <a:pt x="554" y="479"/>
                  <a:pt x="503" y="476"/>
                  <a:pt x="448" y="458"/>
                </a:cubicBezTo>
                <a:cubicBezTo>
                  <a:pt x="411" y="421"/>
                  <a:pt x="449" y="454"/>
                  <a:pt x="402" y="430"/>
                </a:cubicBezTo>
                <a:cubicBezTo>
                  <a:pt x="374" y="416"/>
                  <a:pt x="362" y="393"/>
                  <a:pt x="338" y="375"/>
                </a:cubicBezTo>
                <a:cubicBezTo>
                  <a:pt x="320" y="362"/>
                  <a:pt x="298" y="355"/>
                  <a:pt x="283" y="339"/>
                </a:cubicBezTo>
                <a:cubicBezTo>
                  <a:pt x="221" y="274"/>
                  <a:pt x="319" y="373"/>
                  <a:pt x="237" y="302"/>
                </a:cubicBezTo>
                <a:cubicBezTo>
                  <a:pt x="221" y="288"/>
                  <a:pt x="210" y="268"/>
                  <a:pt x="192" y="256"/>
                </a:cubicBezTo>
                <a:cubicBezTo>
                  <a:pt x="147" y="227"/>
                  <a:pt x="108" y="194"/>
                  <a:pt x="64" y="165"/>
                </a:cubicBezTo>
                <a:cubicBezTo>
                  <a:pt x="61" y="156"/>
                  <a:pt x="60" y="146"/>
                  <a:pt x="55" y="138"/>
                </a:cubicBezTo>
                <a:cubicBezTo>
                  <a:pt x="50" y="130"/>
                  <a:pt x="40" y="127"/>
                  <a:pt x="36" y="119"/>
                </a:cubicBezTo>
                <a:cubicBezTo>
                  <a:pt x="23" y="93"/>
                  <a:pt x="0" y="32"/>
                  <a:pt x="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3490200" y="2781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Минск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5"/>
          <p:cNvSpPr/>
          <p:nvPr/>
        </p:nvSpPr>
        <p:spPr>
          <a:xfrm>
            <a:off x="4605480" y="17002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итебс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6"/>
          <p:cNvSpPr/>
          <p:nvPr/>
        </p:nvSpPr>
        <p:spPr>
          <a:xfrm>
            <a:off x="5430960" y="213372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МОЛЕ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7"/>
          <p:cNvSpPr/>
          <p:nvPr/>
        </p:nvSpPr>
        <p:spPr>
          <a:xfrm>
            <a:off x="4928760" y="2637000"/>
            <a:ext cx="11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Могиле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8"/>
          <p:cNvSpPr/>
          <p:nvPr/>
        </p:nvSpPr>
        <p:spPr>
          <a:xfrm>
            <a:off x="6678720" y="1484280"/>
            <a:ext cx="14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БОРОДИ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9"/>
          <p:cNvSpPr/>
          <p:nvPr/>
        </p:nvSpPr>
        <p:spPr>
          <a:xfrm>
            <a:off x="7943400" y="22050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Тарутин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0"/>
          <p:cNvSpPr/>
          <p:nvPr/>
        </p:nvSpPr>
        <p:spPr>
          <a:xfrm>
            <a:off x="2488320" y="575928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уц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1"/>
          <p:cNvSpPr/>
          <p:nvPr/>
        </p:nvSpPr>
        <p:spPr>
          <a:xfrm>
            <a:off x="1698840" y="36702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л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2"/>
          <p:cNvSpPr/>
          <p:nvPr/>
        </p:nvSpPr>
        <p:spPr>
          <a:xfrm rot="962400">
            <a:off x="2124000" y="3357720"/>
            <a:ext cx="212760" cy="3999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43"/>
          <p:cNvSpPr/>
          <p:nvPr/>
        </p:nvSpPr>
        <p:spPr>
          <a:xfrm rot="3849000">
            <a:off x="3029400" y="2810160"/>
            <a:ext cx="216000" cy="3002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44"/>
          <p:cNvSpPr/>
          <p:nvPr/>
        </p:nvSpPr>
        <p:spPr>
          <a:xfrm rot="17508000">
            <a:off x="1710000" y="1664280"/>
            <a:ext cx="208080" cy="4190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45"/>
          <p:cNvSpPr/>
          <p:nvPr/>
        </p:nvSpPr>
        <p:spPr>
          <a:xfrm rot="19483200">
            <a:off x="2771640" y="1557000"/>
            <a:ext cx="209520" cy="4208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6"/>
          <p:cNvSpPr/>
          <p:nvPr/>
        </p:nvSpPr>
        <p:spPr>
          <a:xfrm>
            <a:off x="1979640" y="-27000"/>
            <a:ext cx="3924360" cy="2095560"/>
          </a:xfrm>
          <a:custGeom>
            <a:avLst/>
            <a:gdLst>
              <a:gd name="textAreaLeft" fmla="*/ 0 w 3924360"/>
              <a:gd name="textAreaRight" fmla="*/ 3924720 w 392436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2472" h="1320">
                <a:moveTo>
                  <a:pt x="2472" y="464"/>
                </a:moveTo>
                <a:cubicBezTo>
                  <a:pt x="2442" y="474"/>
                  <a:pt x="2428" y="476"/>
                  <a:pt x="2400" y="504"/>
                </a:cubicBezTo>
                <a:cubicBezTo>
                  <a:pt x="2384" y="520"/>
                  <a:pt x="2352" y="552"/>
                  <a:pt x="2352" y="552"/>
                </a:cubicBezTo>
                <a:cubicBezTo>
                  <a:pt x="2337" y="598"/>
                  <a:pt x="2355" y="555"/>
                  <a:pt x="2320" y="600"/>
                </a:cubicBezTo>
                <a:cubicBezTo>
                  <a:pt x="2289" y="640"/>
                  <a:pt x="2268" y="684"/>
                  <a:pt x="2232" y="720"/>
                </a:cubicBezTo>
                <a:cubicBezTo>
                  <a:pt x="2212" y="780"/>
                  <a:pt x="2150" y="784"/>
                  <a:pt x="2096" y="792"/>
                </a:cubicBezTo>
                <a:cubicBezTo>
                  <a:pt x="2038" y="811"/>
                  <a:pt x="2016" y="863"/>
                  <a:pt x="1984" y="912"/>
                </a:cubicBezTo>
                <a:cubicBezTo>
                  <a:pt x="1958" y="951"/>
                  <a:pt x="1998" y="922"/>
                  <a:pt x="1960" y="960"/>
                </a:cubicBezTo>
                <a:cubicBezTo>
                  <a:pt x="1921" y="999"/>
                  <a:pt x="1858" y="999"/>
                  <a:pt x="1808" y="1016"/>
                </a:cubicBezTo>
                <a:cubicBezTo>
                  <a:pt x="1780" y="1099"/>
                  <a:pt x="1782" y="1039"/>
                  <a:pt x="1792" y="1184"/>
                </a:cubicBezTo>
                <a:cubicBezTo>
                  <a:pt x="1780" y="1219"/>
                  <a:pt x="1760" y="1211"/>
                  <a:pt x="1736" y="1240"/>
                </a:cubicBezTo>
                <a:cubicBezTo>
                  <a:pt x="1683" y="1303"/>
                  <a:pt x="1645" y="1309"/>
                  <a:pt x="1568" y="1320"/>
                </a:cubicBezTo>
                <a:cubicBezTo>
                  <a:pt x="1531" y="1317"/>
                  <a:pt x="1493" y="1319"/>
                  <a:pt x="1456" y="1312"/>
                </a:cubicBezTo>
                <a:cubicBezTo>
                  <a:pt x="1431" y="1308"/>
                  <a:pt x="1416" y="1264"/>
                  <a:pt x="1400" y="1248"/>
                </a:cubicBezTo>
                <a:cubicBezTo>
                  <a:pt x="1386" y="1205"/>
                  <a:pt x="1354" y="1169"/>
                  <a:pt x="1336" y="1128"/>
                </a:cubicBezTo>
                <a:cubicBezTo>
                  <a:pt x="1328" y="1110"/>
                  <a:pt x="1323" y="1072"/>
                  <a:pt x="1304" y="1056"/>
                </a:cubicBezTo>
                <a:cubicBezTo>
                  <a:pt x="1277" y="1033"/>
                  <a:pt x="1233" y="1027"/>
                  <a:pt x="1200" y="1016"/>
                </a:cubicBezTo>
                <a:cubicBezTo>
                  <a:pt x="1150" y="999"/>
                  <a:pt x="1090" y="1017"/>
                  <a:pt x="1040" y="992"/>
                </a:cubicBezTo>
                <a:cubicBezTo>
                  <a:pt x="962" y="953"/>
                  <a:pt x="897" y="897"/>
                  <a:pt x="824" y="848"/>
                </a:cubicBezTo>
                <a:cubicBezTo>
                  <a:pt x="815" y="842"/>
                  <a:pt x="809" y="830"/>
                  <a:pt x="800" y="824"/>
                </a:cubicBezTo>
                <a:cubicBezTo>
                  <a:pt x="769" y="803"/>
                  <a:pt x="630" y="792"/>
                  <a:pt x="592" y="784"/>
                </a:cubicBezTo>
                <a:cubicBezTo>
                  <a:pt x="563" y="778"/>
                  <a:pt x="533" y="775"/>
                  <a:pt x="504" y="768"/>
                </a:cubicBezTo>
                <a:cubicBezTo>
                  <a:pt x="488" y="764"/>
                  <a:pt x="456" y="752"/>
                  <a:pt x="456" y="752"/>
                </a:cubicBezTo>
                <a:cubicBezTo>
                  <a:pt x="427" y="723"/>
                  <a:pt x="404" y="716"/>
                  <a:pt x="376" y="688"/>
                </a:cubicBezTo>
                <a:cubicBezTo>
                  <a:pt x="355" y="626"/>
                  <a:pt x="336" y="564"/>
                  <a:pt x="312" y="504"/>
                </a:cubicBezTo>
                <a:cubicBezTo>
                  <a:pt x="297" y="467"/>
                  <a:pt x="293" y="440"/>
                  <a:pt x="272" y="408"/>
                </a:cubicBezTo>
                <a:cubicBezTo>
                  <a:pt x="251" y="323"/>
                  <a:pt x="280" y="423"/>
                  <a:pt x="248" y="352"/>
                </a:cubicBezTo>
                <a:cubicBezTo>
                  <a:pt x="235" y="322"/>
                  <a:pt x="226" y="287"/>
                  <a:pt x="216" y="256"/>
                </a:cubicBezTo>
                <a:cubicBezTo>
                  <a:pt x="213" y="247"/>
                  <a:pt x="204" y="241"/>
                  <a:pt x="200" y="232"/>
                </a:cubicBezTo>
                <a:cubicBezTo>
                  <a:pt x="176" y="178"/>
                  <a:pt x="180" y="131"/>
                  <a:pt x="128" y="96"/>
                </a:cubicBezTo>
                <a:cubicBezTo>
                  <a:pt x="89" y="38"/>
                  <a:pt x="141" y="107"/>
                  <a:pt x="80" y="56"/>
                </a:cubicBezTo>
                <a:cubicBezTo>
                  <a:pt x="73" y="50"/>
                  <a:pt x="72" y="38"/>
                  <a:pt x="64" y="32"/>
                </a:cubicBezTo>
                <a:cubicBezTo>
                  <a:pt x="58" y="27"/>
                  <a:pt x="11" y="6"/>
                  <a:pt x="0" y="0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 rot="1266000">
            <a:off x="2484000" y="981000"/>
            <a:ext cx="15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падная Д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3132000" y="587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3 армия ТОРМ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226836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2 армия БАГРАТ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0"/>
          <p:cNvSpPr/>
          <p:nvPr/>
        </p:nvSpPr>
        <p:spPr>
          <a:xfrm rot="16801200">
            <a:off x="2400120" y="1424160"/>
            <a:ext cx="216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1 арм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БАРКЛАЙ ДЕ ТОЛ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1"/>
          <p:cNvGrpSpPr/>
          <p:nvPr/>
        </p:nvGrpSpPr>
        <p:grpSpPr>
          <a:xfrm>
            <a:off x="3203640" y="2349360"/>
            <a:ext cx="2450880" cy="1487520"/>
            <a:chOff x="3203640" y="2349360"/>
            <a:chExt cx="2450880" cy="1487520"/>
          </a:xfrm>
        </p:grpSpPr>
        <p:sp>
          <p:nvSpPr>
            <p:cNvPr id="567" name="Freeform 52"/>
            <p:cNvSpPr/>
            <p:nvPr/>
          </p:nvSpPr>
          <p:spPr>
            <a:xfrm>
              <a:off x="3203640" y="2521080"/>
              <a:ext cx="2439720" cy="1315800"/>
            </a:xfrm>
            <a:custGeom>
              <a:avLst/>
              <a:gdLst/>
              <a:ahLst/>
              <a:rect l="l" t="t" r="r" b="b"/>
              <a:pathLst>
                <a:path w="1537" h="829">
                  <a:moveTo>
                    <a:pt x="0" y="829"/>
                  </a:moveTo>
                  <a:cubicBezTo>
                    <a:pt x="24" y="825"/>
                    <a:pt x="56" y="823"/>
                    <a:pt x="79" y="812"/>
                  </a:cubicBezTo>
                  <a:cubicBezTo>
                    <a:pt x="122" y="791"/>
                    <a:pt x="142" y="747"/>
                    <a:pt x="175" y="716"/>
                  </a:cubicBezTo>
                  <a:cubicBezTo>
                    <a:pt x="191" y="665"/>
                    <a:pt x="246" y="603"/>
                    <a:pt x="297" y="585"/>
                  </a:cubicBezTo>
                  <a:cubicBezTo>
                    <a:pt x="387" y="593"/>
                    <a:pt x="456" y="611"/>
                    <a:pt x="541" y="637"/>
                  </a:cubicBezTo>
                  <a:cubicBezTo>
                    <a:pt x="566" y="662"/>
                    <a:pt x="586" y="664"/>
                    <a:pt x="620" y="672"/>
                  </a:cubicBezTo>
                  <a:cubicBezTo>
                    <a:pt x="681" y="669"/>
                    <a:pt x="742" y="669"/>
                    <a:pt x="803" y="664"/>
                  </a:cubicBezTo>
                  <a:cubicBezTo>
                    <a:pt x="831" y="662"/>
                    <a:pt x="846" y="637"/>
                    <a:pt x="873" y="629"/>
                  </a:cubicBezTo>
                  <a:cubicBezTo>
                    <a:pt x="897" y="603"/>
                    <a:pt x="926" y="578"/>
                    <a:pt x="960" y="568"/>
                  </a:cubicBezTo>
                  <a:cubicBezTo>
                    <a:pt x="1008" y="517"/>
                    <a:pt x="1067" y="457"/>
                    <a:pt x="1135" y="437"/>
                  </a:cubicBezTo>
                  <a:cubicBezTo>
                    <a:pt x="1195" y="395"/>
                    <a:pt x="1265" y="392"/>
                    <a:pt x="1335" y="376"/>
                  </a:cubicBezTo>
                  <a:cubicBezTo>
                    <a:pt x="1390" y="338"/>
                    <a:pt x="1478" y="278"/>
                    <a:pt x="1501" y="210"/>
                  </a:cubicBezTo>
                  <a:cubicBezTo>
                    <a:pt x="1507" y="192"/>
                    <a:pt x="1513" y="175"/>
                    <a:pt x="1519" y="157"/>
                  </a:cubicBezTo>
                  <a:cubicBezTo>
                    <a:pt x="1522" y="148"/>
                    <a:pt x="1527" y="131"/>
                    <a:pt x="1527" y="131"/>
                  </a:cubicBezTo>
                  <a:cubicBezTo>
                    <a:pt x="1537" y="18"/>
                    <a:pt x="1536" y="62"/>
                    <a:pt x="1536" y="0"/>
                  </a:cubicBezTo>
                </a:path>
              </a:pathLst>
            </a:custGeom>
            <a:noFill/>
            <a:ln w="44280">
              <a:solidFill>
                <a:srgbClr val="ff505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53"/>
            <p:cNvSpPr/>
            <p:nvPr/>
          </p:nvSpPr>
          <p:spPr>
            <a:xfrm flipV="1">
              <a:off x="5654520" y="2349360"/>
              <a:ext cx="0" cy="216000"/>
            </a:xfrm>
            <a:prstGeom prst="line">
              <a:avLst/>
            </a:prstGeom>
            <a:ln w="44280">
              <a:solidFill>
                <a:srgbClr val="ff505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54"/>
          <p:cNvGrpSpPr/>
          <p:nvPr/>
        </p:nvGrpSpPr>
        <p:grpSpPr>
          <a:xfrm>
            <a:off x="2987640" y="1916280"/>
            <a:ext cx="2521080" cy="365040"/>
            <a:chOff x="2987640" y="1916280"/>
            <a:chExt cx="2521080" cy="365040"/>
          </a:xfrm>
        </p:grpSpPr>
        <p:sp>
          <p:nvSpPr>
            <p:cNvPr id="570" name="Freeform 55"/>
            <p:cNvSpPr/>
            <p:nvPr/>
          </p:nvSpPr>
          <p:spPr>
            <a:xfrm>
              <a:off x="2987640" y="1916280"/>
              <a:ext cx="2368440" cy="365040"/>
            </a:xfrm>
            <a:custGeom>
              <a:avLst/>
              <a:gdLst/>
              <a:ahLst/>
              <a:rect l="l" t="t" r="r" b="b"/>
              <a:pathLst>
                <a:path w="1492" h="230">
                  <a:moveTo>
                    <a:pt x="1" y="230"/>
                  </a:moveTo>
                  <a:cubicBezTo>
                    <a:pt x="38" y="195"/>
                    <a:pt x="0" y="226"/>
                    <a:pt x="47" y="203"/>
                  </a:cubicBezTo>
                  <a:cubicBezTo>
                    <a:pt x="57" y="198"/>
                    <a:pt x="66" y="192"/>
                    <a:pt x="75" y="185"/>
                  </a:cubicBezTo>
                  <a:cubicBezTo>
                    <a:pt x="82" y="180"/>
                    <a:pt x="85" y="170"/>
                    <a:pt x="93" y="166"/>
                  </a:cubicBezTo>
                  <a:cubicBezTo>
                    <a:pt x="110" y="157"/>
                    <a:pt x="130" y="154"/>
                    <a:pt x="148" y="148"/>
                  </a:cubicBezTo>
                  <a:cubicBezTo>
                    <a:pt x="166" y="142"/>
                    <a:pt x="203" y="130"/>
                    <a:pt x="203" y="130"/>
                  </a:cubicBezTo>
                  <a:cubicBezTo>
                    <a:pt x="241" y="105"/>
                    <a:pt x="278" y="97"/>
                    <a:pt x="321" y="84"/>
                  </a:cubicBezTo>
                  <a:cubicBezTo>
                    <a:pt x="339" y="79"/>
                    <a:pt x="358" y="72"/>
                    <a:pt x="376" y="66"/>
                  </a:cubicBezTo>
                  <a:cubicBezTo>
                    <a:pt x="385" y="63"/>
                    <a:pt x="404" y="57"/>
                    <a:pt x="404" y="57"/>
                  </a:cubicBezTo>
                  <a:cubicBezTo>
                    <a:pt x="465" y="14"/>
                    <a:pt x="551" y="11"/>
                    <a:pt x="623" y="2"/>
                  </a:cubicBezTo>
                  <a:cubicBezTo>
                    <a:pt x="905" y="7"/>
                    <a:pt x="990" y="0"/>
                    <a:pt x="1199" y="29"/>
                  </a:cubicBezTo>
                  <a:cubicBezTo>
                    <a:pt x="1267" y="51"/>
                    <a:pt x="1186" y="22"/>
                    <a:pt x="1254" y="57"/>
                  </a:cubicBezTo>
                  <a:cubicBezTo>
                    <a:pt x="1269" y="65"/>
                    <a:pt x="1304" y="71"/>
                    <a:pt x="1318" y="75"/>
                  </a:cubicBezTo>
                  <a:cubicBezTo>
                    <a:pt x="1337" y="80"/>
                    <a:pt x="1355" y="87"/>
                    <a:pt x="1373" y="93"/>
                  </a:cubicBezTo>
                  <a:cubicBezTo>
                    <a:pt x="1382" y="96"/>
                    <a:pt x="1400" y="102"/>
                    <a:pt x="1400" y="102"/>
                  </a:cubicBezTo>
                  <a:cubicBezTo>
                    <a:pt x="1426" y="128"/>
                    <a:pt x="1456" y="139"/>
                    <a:pt x="1492" y="139"/>
                  </a:cubicBezTo>
                </a:path>
              </a:pathLst>
            </a:custGeom>
            <a:noFill/>
            <a:ln w="44280">
              <a:solidFill>
                <a:srgbClr val="ff505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6"/>
            <p:cNvSpPr/>
            <p:nvPr/>
          </p:nvSpPr>
          <p:spPr>
            <a:xfrm>
              <a:off x="5292720" y="2131920"/>
              <a:ext cx="216000" cy="71280"/>
            </a:xfrm>
            <a:prstGeom prst="line">
              <a:avLst/>
            </a:prstGeom>
            <a:ln w="44280">
              <a:solidFill>
                <a:srgbClr val="ff505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Freeform 57"/>
          <p:cNvSpPr/>
          <p:nvPr/>
        </p:nvSpPr>
        <p:spPr>
          <a:xfrm>
            <a:off x="2830680" y="4179960"/>
            <a:ext cx="347400" cy="1450800"/>
          </a:xfrm>
          <a:custGeom>
            <a:avLst/>
            <a:gdLst>
              <a:gd name="textAreaLeft" fmla="*/ 0 w 347400"/>
              <a:gd name="textAreaRight" fmla="*/ 347760 w 34740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219" h="914">
                <a:moveTo>
                  <a:pt x="219" y="914"/>
                </a:moveTo>
                <a:cubicBezTo>
                  <a:pt x="210" y="860"/>
                  <a:pt x="211" y="842"/>
                  <a:pt x="174" y="805"/>
                </a:cubicBezTo>
                <a:cubicBezTo>
                  <a:pt x="148" y="733"/>
                  <a:pt x="186" y="820"/>
                  <a:pt x="137" y="759"/>
                </a:cubicBezTo>
                <a:cubicBezTo>
                  <a:pt x="131" y="752"/>
                  <a:pt x="133" y="740"/>
                  <a:pt x="128" y="732"/>
                </a:cubicBezTo>
                <a:cubicBezTo>
                  <a:pt x="125" y="726"/>
                  <a:pt x="96" y="700"/>
                  <a:pt x="91" y="695"/>
                </a:cubicBezTo>
                <a:cubicBezTo>
                  <a:pt x="77" y="652"/>
                  <a:pt x="69" y="621"/>
                  <a:pt x="46" y="585"/>
                </a:cubicBezTo>
                <a:cubicBezTo>
                  <a:pt x="28" y="519"/>
                  <a:pt x="16" y="451"/>
                  <a:pt x="0" y="384"/>
                </a:cubicBezTo>
                <a:cubicBezTo>
                  <a:pt x="9" y="251"/>
                  <a:pt x="1" y="222"/>
                  <a:pt x="82" y="137"/>
                </a:cubicBezTo>
                <a:cubicBezTo>
                  <a:pt x="85" y="128"/>
                  <a:pt x="86" y="118"/>
                  <a:pt x="91" y="110"/>
                </a:cubicBezTo>
                <a:cubicBezTo>
                  <a:pt x="96" y="103"/>
                  <a:pt x="106" y="100"/>
                  <a:pt x="110" y="92"/>
                </a:cubicBezTo>
                <a:cubicBezTo>
                  <a:pt x="119" y="74"/>
                  <a:pt x="137" y="26"/>
                  <a:pt x="137" y="0"/>
                </a:cubicBezTo>
              </a:path>
            </a:pathLst>
          </a:custGeom>
          <a:noFill/>
          <a:ln w="44280">
            <a:solidFill>
              <a:srgbClr val="ff505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58"/>
          <p:cNvGrpSpPr/>
          <p:nvPr/>
        </p:nvGrpSpPr>
        <p:grpSpPr>
          <a:xfrm>
            <a:off x="5724360" y="1699920"/>
            <a:ext cx="1187640" cy="549720"/>
            <a:chOff x="5724360" y="1699920"/>
            <a:chExt cx="1187640" cy="549720"/>
          </a:xfrm>
        </p:grpSpPr>
        <p:sp>
          <p:nvSpPr>
            <p:cNvPr id="574" name="Freeform 59"/>
            <p:cNvSpPr/>
            <p:nvPr/>
          </p:nvSpPr>
          <p:spPr>
            <a:xfrm>
              <a:off x="5724360" y="1755720"/>
              <a:ext cx="1030320" cy="49392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649" h="311">
                  <a:moveTo>
                    <a:pt x="0" y="311"/>
                  </a:moveTo>
                  <a:cubicBezTo>
                    <a:pt x="53" y="258"/>
                    <a:pt x="25" y="272"/>
                    <a:pt x="73" y="256"/>
                  </a:cubicBezTo>
                  <a:cubicBezTo>
                    <a:pt x="112" y="219"/>
                    <a:pt x="160" y="208"/>
                    <a:pt x="210" y="192"/>
                  </a:cubicBezTo>
                  <a:cubicBezTo>
                    <a:pt x="228" y="186"/>
                    <a:pt x="247" y="180"/>
                    <a:pt x="265" y="174"/>
                  </a:cubicBezTo>
                  <a:cubicBezTo>
                    <a:pt x="274" y="171"/>
                    <a:pt x="293" y="165"/>
                    <a:pt x="293" y="165"/>
                  </a:cubicBezTo>
                  <a:cubicBezTo>
                    <a:pt x="320" y="147"/>
                    <a:pt x="344" y="138"/>
                    <a:pt x="375" y="128"/>
                  </a:cubicBezTo>
                  <a:cubicBezTo>
                    <a:pt x="418" y="99"/>
                    <a:pt x="468" y="96"/>
                    <a:pt x="512" y="73"/>
                  </a:cubicBezTo>
                  <a:cubicBezTo>
                    <a:pt x="548" y="54"/>
                    <a:pt x="530" y="59"/>
                    <a:pt x="558" y="37"/>
                  </a:cubicBezTo>
                  <a:cubicBezTo>
                    <a:pt x="580" y="20"/>
                    <a:pt x="587" y="17"/>
                    <a:pt x="613" y="9"/>
                  </a:cubicBezTo>
                  <a:cubicBezTo>
                    <a:pt x="625" y="5"/>
                    <a:pt x="649" y="0"/>
                    <a:pt x="649" y="0"/>
                  </a:cubicBezTo>
                </a:path>
              </a:pathLst>
            </a:custGeom>
            <a:noFill/>
            <a:ln w="69840">
              <a:solidFill>
                <a:srgbClr val="ff505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0"/>
            <p:cNvSpPr/>
            <p:nvPr/>
          </p:nvSpPr>
          <p:spPr>
            <a:xfrm flipV="1">
              <a:off x="6767640" y="1699920"/>
              <a:ext cx="144360" cy="73080"/>
            </a:xfrm>
            <a:prstGeom prst="line">
              <a:avLst/>
            </a:prstGeom>
            <a:ln w="698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1"/>
          <p:cNvSpPr/>
          <p:nvPr/>
        </p:nvSpPr>
        <p:spPr>
          <a:xfrm>
            <a:off x="6738840" y="30679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Калу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2"/>
          <p:cNvSpPr/>
          <p:nvPr/>
        </p:nvSpPr>
        <p:spPr>
          <a:xfrm>
            <a:off x="8098560" y="34995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Ту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63"/>
          <p:cNvGrpSpPr/>
          <p:nvPr/>
        </p:nvGrpSpPr>
        <p:grpSpPr>
          <a:xfrm>
            <a:off x="5363640" y="2060640"/>
            <a:ext cx="302040" cy="366480"/>
            <a:chOff x="5363640" y="2060640"/>
            <a:chExt cx="302040" cy="366480"/>
          </a:xfrm>
        </p:grpSpPr>
        <p:grpSp>
          <p:nvGrpSpPr>
            <p:cNvPr id="579" name="Group 64"/>
            <p:cNvGrpSpPr/>
            <p:nvPr/>
          </p:nvGrpSpPr>
          <p:grpSpPr>
            <a:xfrm>
              <a:off x="5363640" y="2060640"/>
              <a:ext cx="289440" cy="360360"/>
              <a:chOff x="5363640" y="2060640"/>
              <a:chExt cx="289440" cy="360360"/>
            </a:xfrm>
          </p:grpSpPr>
          <p:sp>
            <p:nvSpPr>
              <p:cNvPr id="580" name="Line 65"/>
              <p:cNvSpPr/>
              <p:nvPr/>
            </p:nvSpPr>
            <p:spPr>
              <a:xfrm>
                <a:off x="5437080" y="2060640"/>
                <a:ext cx="216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66"/>
              <p:cNvSpPr/>
              <p:nvPr/>
            </p:nvSpPr>
            <p:spPr>
              <a:xfrm flipH="1">
                <a:off x="5363640" y="2131920"/>
                <a:ext cx="2890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Freeform 67"/>
            <p:cNvSpPr/>
            <p:nvPr/>
          </p:nvSpPr>
          <p:spPr>
            <a:xfrm>
              <a:off x="5370480" y="2341440"/>
              <a:ext cx="66600" cy="57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2" h="36">
                  <a:moveTo>
                    <a:pt x="0" y="0"/>
                  </a:moveTo>
                  <a:cubicBezTo>
                    <a:pt x="25" y="8"/>
                    <a:pt x="20" y="21"/>
                    <a:pt x="42" y="36"/>
                  </a:cubicBezTo>
                  <a:cubicBezTo>
                    <a:pt x="42" y="36"/>
                    <a:pt x="34" y="24"/>
                    <a:pt x="30" y="18"/>
                  </a:cubicBezTo>
                  <a:cubicBezTo>
                    <a:pt x="26" y="13"/>
                    <a:pt x="7" y="4"/>
                    <a:pt x="0" y="0"/>
                  </a:cubicBezTo>
                  <a:close/>
                </a:path>
              </a:pathLst>
            </a:custGeom>
            <a:solidFill>
              <a:srgbClr val="4f81b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"/>
            <p:cNvSpPr/>
            <p:nvPr/>
          </p:nvSpPr>
          <p:spPr>
            <a:xfrm>
              <a:off x="5560920" y="2338200"/>
              <a:ext cx="104760" cy="8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6" h="56">
                  <a:moveTo>
                    <a:pt x="0" y="56"/>
                  </a:moveTo>
                  <a:cubicBezTo>
                    <a:pt x="23" y="48"/>
                    <a:pt x="28" y="33"/>
                    <a:pt x="48" y="20"/>
                  </a:cubicBezTo>
                  <a:cubicBezTo>
                    <a:pt x="61" y="0"/>
                    <a:pt x="53" y="2"/>
                    <a:pt x="66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69"/>
          <p:cNvGrpSpPr/>
          <p:nvPr/>
        </p:nvGrpSpPr>
        <p:grpSpPr>
          <a:xfrm>
            <a:off x="6443280" y="1413000"/>
            <a:ext cx="588600" cy="575640"/>
            <a:chOff x="6443280" y="1413000"/>
            <a:chExt cx="588600" cy="575640"/>
          </a:xfrm>
        </p:grpSpPr>
        <p:grpSp>
          <p:nvGrpSpPr>
            <p:cNvPr id="585" name="Group 70"/>
            <p:cNvGrpSpPr/>
            <p:nvPr/>
          </p:nvGrpSpPr>
          <p:grpSpPr>
            <a:xfrm>
              <a:off x="6443280" y="1413000"/>
              <a:ext cx="563400" cy="565560"/>
              <a:chOff x="6443280" y="1413000"/>
              <a:chExt cx="563400" cy="565560"/>
            </a:xfrm>
          </p:grpSpPr>
          <p:sp>
            <p:nvSpPr>
              <p:cNvPr id="586" name="Line 71"/>
              <p:cNvSpPr/>
              <p:nvPr/>
            </p:nvSpPr>
            <p:spPr>
              <a:xfrm>
                <a:off x="6585840" y="1413000"/>
                <a:ext cx="420840" cy="565560"/>
              </a:xfrm>
              <a:prstGeom prst="line">
                <a:avLst/>
              </a:prstGeom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72"/>
              <p:cNvSpPr/>
              <p:nvPr/>
            </p:nvSpPr>
            <p:spPr>
              <a:xfrm flipH="1">
                <a:off x="6443280" y="1524600"/>
                <a:ext cx="563400" cy="450720"/>
              </a:xfrm>
              <a:prstGeom prst="line">
                <a:avLst/>
              </a:prstGeom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Freeform 73"/>
            <p:cNvSpPr/>
            <p:nvPr/>
          </p:nvSpPr>
          <p:spPr>
            <a:xfrm>
              <a:off x="6456240" y="1854000"/>
              <a:ext cx="129600" cy="8964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2" h="36">
                  <a:moveTo>
                    <a:pt x="0" y="0"/>
                  </a:moveTo>
                  <a:cubicBezTo>
                    <a:pt x="25" y="8"/>
                    <a:pt x="20" y="21"/>
                    <a:pt x="42" y="36"/>
                  </a:cubicBezTo>
                  <a:cubicBezTo>
                    <a:pt x="42" y="36"/>
                    <a:pt x="34" y="24"/>
                    <a:pt x="30" y="18"/>
                  </a:cubicBezTo>
                  <a:cubicBezTo>
                    <a:pt x="26" y="13"/>
                    <a:pt x="7" y="4"/>
                    <a:pt x="0" y="0"/>
                  </a:cubicBezTo>
                  <a:close/>
                </a:path>
              </a:pathLst>
            </a:custGeom>
            <a:solidFill>
              <a:srgbClr val="4f81bd"/>
            </a:solidFill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6827760" y="1848960"/>
              <a:ext cx="204120" cy="1396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56">
                  <a:moveTo>
                    <a:pt x="0" y="56"/>
                  </a:moveTo>
                  <a:cubicBezTo>
                    <a:pt x="23" y="48"/>
                    <a:pt x="28" y="33"/>
                    <a:pt x="48" y="20"/>
                  </a:cubicBezTo>
                  <a:cubicBezTo>
                    <a:pt x="61" y="0"/>
                    <a:pt x="53" y="2"/>
                    <a:pt x="66" y="2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Freeform 75"/>
          <p:cNvSpPr/>
          <p:nvPr/>
        </p:nvSpPr>
        <p:spPr>
          <a:xfrm>
            <a:off x="1611360" y="5297400"/>
            <a:ext cx="880920" cy="784440"/>
          </a:xfrm>
          <a:custGeom>
            <a:avLst/>
            <a:gdLst>
              <a:gd name="textAreaLeft" fmla="*/ 0 w 880920"/>
              <a:gd name="textAreaRight" fmla="*/ 881280 w 880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555" h="494">
                <a:moveTo>
                  <a:pt x="0" y="82"/>
                </a:moveTo>
                <a:cubicBezTo>
                  <a:pt x="43" y="53"/>
                  <a:pt x="87" y="31"/>
                  <a:pt x="128" y="0"/>
                </a:cubicBezTo>
                <a:cubicBezTo>
                  <a:pt x="140" y="3"/>
                  <a:pt x="154" y="2"/>
                  <a:pt x="164" y="9"/>
                </a:cubicBezTo>
                <a:cubicBezTo>
                  <a:pt x="173" y="15"/>
                  <a:pt x="178" y="27"/>
                  <a:pt x="183" y="37"/>
                </a:cubicBezTo>
                <a:cubicBezTo>
                  <a:pt x="187" y="45"/>
                  <a:pt x="184" y="59"/>
                  <a:pt x="192" y="64"/>
                </a:cubicBezTo>
                <a:cubicBezTo>
                  <a:pt x="257" y="110"/>
                  <a:pt x="350" y="88"/>
                  <a:pt x="430" y="92"/>
                </a:cubicBezTo>
                <a:cubicBezTo>
                  <a:pt x="486" y="111"/>
                  <a:pt x="482" y="165"/>
                  <a:pt x="512" y="210"/>
                </a:cubicBezTo>
                <a:cubicBezTo>
                  <a:pt x="546" y="313"/>
                  <a:pt x="555" y="429"/>
                  <a:pt x="457" y="494"/>
                </a:cubicBezTo>
                <a:cubicBezTo>
                  <a:pt x="423" y="491"/>
                  <a:pt x="389" y="493"/>
                  <a:pt x="356" y="485"/>
                </a:cubicBezTo>
                <a:cubicBezTo>
                  <a:pt x="337" y="480"/>
                  <a:pt x="308" y="424"/>
                  <a:pt x="292" y="412"/>
                </a:cubicBezTo>
                <a:cubicBezTo>
                  <a:pt x="215" y="352"/>
                  <a:pt x="212" y="357"/>
                  <a:pt x="110" y="348"/>
                </a:cubicBezTo>
                <a:cubicBezTo>
                  <a:pt x="72" y="310"/>
                  <a:pt x="44" y="261"/>
                  <a:pt x="27" y="210"/>
                </a:cubicBezTo>
                <a:cubicBezTo>
                  <a:pt x="23" y="174"/>
                  <a:pt x="29" y="114"/>
                  <a:pt x="0" y="82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6" descr="pk_045"/>
          <p:cNvPicPr/>
          <p:nvPr/>
        </p:nvPicPr>
        <p:blipFill>
          <a:blip r:embed="rId1"/>
          <a:stretch/>
        </p:blipFill>
        <p:spPr>
          <a:xfrm>
            <a:off x="5724360" y="2421000"/>
            <a:ext cx="3024360" cy="33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2" name="Picture 77" descr=""/>
          <p:cNvPicPr/>
          <p:nvPr/>
        </p:nvPicPr>
        <p:blipFill>
          <a:blip r:embed="rId2">
            <a:lum contrast="18000"/>
          </a:blip>
          <a:srcRect l="12195" t="0" r="14695" b="0"/>
          <a:stretch/>
        </p:blipFill>
        <p:spPr>
          <a:xfrm>
            <a:off x="2340000" y="189000"/>
            <a:ext cx="1295280" cy="19717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93" name="Picture 78" descr="pb_005"/>
          <p:cNvPicPr/>
          <p:nvPr/>
        </p:nvPicPr>
        <p:blipFill>
          <a:blip r:embed="rId3"/>
          <a:stretch/>
        </p:blipFill>
        <p:spPr>
          <a:xfrm>
            <a:off x="2124000" y="2205000"/>
            <a:ext cx="2171880" cy="24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4" name="Picture 79" descr="pt7726"/>
          <p:cNvPicPr/>
          <p:nvPr/>
        </p:nvPicPr>
        <p:blipFill>
          <a:blip r:embed="rId4"/>
          <a:srcRect l="13310" t="0" r="13737" b="5167"/>
          <a:stretch/>
        </p:blipFill>
        <p:spPr>
          <a:xfrm>
            <a:off x="3203640" y="4581360"/>
            <a:ext cx="1584360" cy="227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5" name="Freeform 80"/>
          <p:cNvSpPr/>
          <p:nvPr/>
        </p:nvSpPr>
        <p:spPr>
          <a:xfrm>
            <a:off x="1131840" y="1944720"/>
            <a:ext cx="1030320" cy="47952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649" h="302">
                <a:moveTo>
                  <a:pt x="0" y="165"/>
                </a:moveTo>
                <a:cubicBezTo>
                  <a:pt x="16" y="116"/>
                  <a:pt x="1" y="143"/>
                  <a:pt x="64" y="101"/>
                </a:cubicBezTo>
                <a:cubicBezTo>
                  <a:pt x="82" y="89"/>
                  <a:pt x="101" y="76"/>
                  <a:pt x="119" y="64"/>
                </a:cubicBezTo>
                <a:cubicBezTo>
                  <a:pt x="150" y="43"/>
                  <a:pt x="192" y="50"/>
                  <a:pt x="229" y="46"/>
                </a:cubicBezTo>
                <a:cubicBezTo>
                  <a:pt x="430" y="23"/>
                  <a:pt x="199" y="51"/>
                  <a:pt x="384" y="28"/>
                </a:cubicBezTo>
                <a:cubicBezTo>
                  <a:pt x="330" y="8"/>
                  <a:pt x="386" y="28"/>
                  <a:pt x="320" y="9"/>
                </a:cubicBezTo>
                <a:cubicBezTo>
                  <a:pt x="311" y="6"/>
                  <a:pt x="284" y="0"/>
                  <a:pt x="293" y="0"/>
                </a:cubicBezTo>
                <a:cubicBezTo>
                  <a:pt x="393" y="0"/>
                  <a:pt x="494" y="6"/>
                  <a:pt x="594" y="9"/>
                </a:cubicBezTo>
                <a:cubicBezTo>
                  <a:pt x="594" y="9"/>
                  <a:pt x="649" y="26"/>
                  <a:pt x="649" y="28"/>
                </a:cubicBezTo>
                <a:cubicBezTo>
                  <a:pt x="649" y="39"/>
                  <a:pt x="632" y="42"/>
                  <a:pt x="622" y="46"/>
                </a:cubicBezTo>
                <a:cubicBezTo>
                  <a:pt x="598" y="54"/>
                  <a:pt x="549" y="64"/>
                  <a:pt x="549" y="64"/>
                </a:cubicBezTo>
                <a:cubicBezTo>
                  <a:pt x="496" y="100"/>
                  <a:pt x="448" y="130"/>
                  <a:pt x="402" y="174"/>
                </a:cubicBezTo>
                <a:cubicBezTo>
                  <a:pt x="405" y="165"/>
                  <a:pt x="408" y="155"/>
                  <a:pt x="412" y="146"/>
                </a:cubicBezTo>
                <a:cubicBezTo>
                  <a:pt x="417" y="136"/>
                  <a:pt x="433" y="129"/>
                  <a:pt x="430" y="119"/>
                </a:cubicBezTo>
                <a:cubicBezTo>
                  <a:pt x="427" y="110"/>
                  <a:pt x="411" y="113"/>
                  <a:pt x="402" y="110"/>
                </a:cubicBezTo>
                <a:cubicBezTo>
                  <a:pt x="381" y="117"/>
                  <a:pt x="358" y="119"/>
                  <a:pt x="338" y="128"/>
                </a:cubicBezTo>
                <a:cubicBezTo>
                  <a:pt x="309" y="140"/>
                  <a:pt x="287" y="155"/>
                  <a:pt x="256" y="165"/>
                </a:cubicBezTo>
                <a:cubicBezTo>
                  <a:pt x="221" y="188"/>
                  <a:pt x="191" y="214"/>
                  <a:pt x="156" y="238"/>
                </a:cubicBezTo>
                <a:cubicBezTo>
                  <a:pt x="147" y="244"/>
                  <a:pt x="128" y="256"/>
                  <a:pt x="128" y="256"/>
                </a:cubicBezTo>
                <a:cubicBezTo>
                  <a:pt x="106" y="290"/>
                  <a:pt x="115" y="274"/>
                  <a:pt x="101" y="302"/>
                </a:cubicBezTo>
              </a:path>
            </a:pathLst>
          </a:custGeom>
          <a:solidFill>
            <a:srgbClr val="3399ff"/>
          </a:solidFill>
          <a:ln w="93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вержд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3352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енность армии 210 ты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ба в армии продолжалась 25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было в запасе людей, обученных военному де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мия разделена на 3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енность армии 640 ты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мия оснащена новым оруж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тране создана массовая арм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общая воинская пови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рмию включены силы побежденных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3520" y="1352520"/>
          <a:ext cx="8001000" cy="4757760"/>
        </p:xfrm>
        <a:graphic>
          <a:graphicData uri="http://schemas.openxmlformats.org/drawingml/2006/table">
            <a:tbl>
              <a:tblPr/>
              <a:tblGrid>
                <a:gridCol w="1717560"/>
                <a:gridCol w="6283440"/>
              </a:tblGrid>
              <a:tr h="56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бы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84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(24) июня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жение «великой» армии Наполеона в Росс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августа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единение армий Барклая де Толли и Багратиона под Смоленск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964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-6 августа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ажение русских войск в битве за Смоленск. Предложение Наполеона Александру I о мир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 августа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начение М.И.Кутузова главнокомандующи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6 августа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одинское сраже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октября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жение под Малоярославцем. Начало изгнания французов из Росс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40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 декабря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нифест Александра I о победе России в войне с Наполеон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тва за Смоленск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ница 1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дней шла бит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ели себя жители г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победил в этой битв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ео «Аты-Ба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каком этапе Отечественной войны сегодня говор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тактику избрал главнокомандующий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сравнительную характеристику России и Франции по пл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я импера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во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ар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 во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33520" y="990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ечественная война началась 24 июня 1812 г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узские войска перешли нашу границу и переправились через реку Д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ая армия была разделена на 4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е войска оставили Смолен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ь дней длилась битва за Смолен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узская армия состояла наполовину из воинов завоёванных стра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ем мы о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истории шаг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райтесь всё поня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ое у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Комплимен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имент-похва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имент деловым качества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ние своего вклада в у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дарность друг дру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естоматия по истории России: учеб.пособие/ авт.-сост. А.С.Орлов, В.А.Георгиев, Н.С.Георгиева, Т.А.Сивохина.– М.: ТК Велби, Изд-во Проспект, 2008.-592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ентьев В. Фельдмаршалы победы. Кутузов и Барклай де Толли. СПб, 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рле Е.В. 1812 год. М., 1994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– ресурс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Пожел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мотрите друг на друга и скажите: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Будем добрыми, искренними, терпеливыми по отношению друг к другу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слов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ександра Ивановича Герц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нее сознавая прошед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 уясняем совреме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убже опускаясь в смысл будуще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ядя назад – шагаем впер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ы понимаете эти сло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иц-опро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тал императором России после гибели Пав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году это произош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ью политику решил продолжить Александ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е группы. Каждой группе даны слова на карточках, необходимо составить смысловые пары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год состоит из двух двузначных чисел: одно состоит из 1 десятка и 8 единиц, а второе меньше первого на 6 един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чало Отечественной войны 181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33520" y="1905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мереть – так только за Отчизн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ть – так только Родиной дыш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сса Джал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чины вой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мление Наполеона к мировому господ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я между Россией и Фран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3-01-26T01:23:56Z</dcterms:modified>
  <cp:revision>28</cp:revision>
  <dc:subject/>
  <dc:title>Слайд 1</dc:title>
</cp:coreProperties>
</file>