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8.png" ContentType="image/png"/>
  <Override PartName="/ppt/media/image13.jpeg" ContentType="image/jpeg"/>
  <Override PartName="/ppt/media/image19.jpeg" ContentType="image/jpeg"/>
  <Override PartName="/ppt/media/image11.png" ContentType="image/png"/>
  <Override PartName="/ppt/media/image4.png" ContentType="image/png"/>
  <Override PartName="/ppt/media/image12.jpeg" ContentType="image/jpeg"/>
  <Override PartName="/ppt/media/image6.png" ContentType="image/png"/>
  <Override PartName="/ppt/media/image3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30.jpeg" ContentType="image/jpeg"/>
  <Override PartName="/ppt/media/image2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gif" ContentType="image/gif"/>
  <Override PartName="/ppt/media/image15.png" ContentType="image/png"/>
  <Override PartName="/ppt/media/image18.jpeg" ContentType="image/jpeg"/>
  <Override PartName="/ppt/media/image2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4BCA-8CD3-47F6-A932-ED480458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E4FF-31D4-4EFA-8F26-A5C578AF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68CE-6FFE-4164-B720-EA67E257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9C4A-E91C-4FE9-AED7-E66B0303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B77D-06BE-4B2D-B4FE-54C1418D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0C36-5601-4E86-A7A0-8A2A7B7C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80DE-135F-41EA-9863-F687C2DD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44E5-A0FA-406D-9E19-E8906233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C562-AD9D-4B84-9BF6-56C0B504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A80F-FD20-4033-8D79-D311090B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A2F0-6111-4406-BE52-4D042709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98FC-B5F6-4B35-8D53-B4A1C9DB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75A6-B91E-4C08-BADE-DB08AA81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B67B-300F-4438-A6DF-C892388D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6BF0-FFBA-433C-A8BD-1E0FE2A1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1D90-AB1F-4D49-A114-E66F10D9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8201-ABB3-4A74-A4D1-A9C39860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D5FEB-6E46-4A80-BB37-C940E274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C6696-AE97-4A24-99B1-50D8A485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39680-A8E8-4728-BD7E-7239845A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7360B-80EB-4AE5-B19E-2D37731F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79CEA-6BE9-489B-B8FF-FAD482B4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D0D0-3D40-4B8F-863E-36AA5E3E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66694-E62E-4EC4-BBBA-D377756F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4A9BC-06DD-4596-8FEA-85C4522D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08ECF-2E16-406C-AC1A-7615E13B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8BE6C-9AF0-4990-8EB1-42C01039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63052-BBC1-47E1-8A84-058008FF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2DCD0-F516-4CF3-A5A9-B10EE37B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41062-3A31-42BE-A33A-83985B77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C6A70-E1DE-4689-91F1-77427535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46427-1E05-4489-9164-1CC58F40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A9140-468F-43A9-A729-197C49E6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129C-32A4-4D78-9384-12265B4C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3A76F-E22D-494B-A8DE-8197D8FE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86AD9-B573-4166-87D5-B5EA4D0D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C20E6-5C48-4DF0-BC9A-FE94B337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B1991-2A13-4343-8A79-E50E1B2E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EEB7A-F37A-4A00-A9EF-0ED17A00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63706-277E-4C96-96B5-EC71B6DB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75B88-F486-4A34-91D5-C5BA80E6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35364-27DB-4138-AB4F-EC8B3C77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D7879-F14F-46E3-99C8-D71F3B5B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CA68C-A0AC-4E7D-913F-65432125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F7F6-EFD3-426A-985B-55FCC31C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B302B-5DEF-49FD-90E1-F50FC745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6B2DE-5C66-4308-A574-B840E3B4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CC8B7-96D5-4504-A951-27E95A73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2D599-BC1A-4249-B6A0-B31011FB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A5CA0-75AE-4CB1-812C-19B200FC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F44A7-EB7F-444E-9BE9-F4B15B87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69FDA-1C36-4D4E-8E5C-C9510932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D9C2D-44A4-45B9-BE20-70560AB7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6BC8E-F8EE-4451-80A6-B016D93E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141D8-6EDB-4C57-848C-EEA233BD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0431-ED0B-417C-A64D-BF55F8AD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3BCBB-8F25-4DF8-A674-55B48D94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48FBD-D427-4EA5-9B55-A43CBFD7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D7C0C-CCE0-486F-BC17-EE2B1EF5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1BEAF-CB1A-4616-B67A-860E603C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E5CCD-DCE4-46A1-8419-C94FFCE1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615AF-4C9C-45FF-B642-10E47179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29527-248C-4A39-A308-2DADA715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001DA-AC45-4A51-A6F3-53B28D47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A75B3-2079-41D7-BDDC-8E2583B1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0B42C-606A-4BD9-BB6A-073A3AEF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8433-9864-4872-9D1C-F2509C5B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03053-A622-47AB-8005-FE8CFF0A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33774-0551-4AFE-8B80-0205605E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4A80B-0EF8-419D-B2C9-EDEB1E72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79B89-4CFD-4E33-8C60-F94D3FEC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2123D-14B2-422A-AC80-1798D542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65303-64D4-4173-BE52-89FB2A33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F7673-2A34-444E-9409-5312BAF1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307A3-400D-4BD4-A199-C4067E6D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A2895-BFE6-40AA-BA1F-89078CA0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717BA-7D59-43AD-A5C0-7832054D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BFF9-D7FD-4867-97DB-C05B2C09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C4466-4B0B-40DB-9342-0B429674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A2F8B-02BE-4F08-98D1-0D47A902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19CC7-8998-4274-8708-A6226E62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0EC48-C931-4DE3-BFB6-4406EEA6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B48E4-7FDF-4DAD-9A84-E4672B98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307EB-6FD3-4972-BE21-76C77A32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84B89-62ED-4E69-8E3B-F31E042B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A3B30-8B84-4111-9F01-A8D8C234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3CB4E-B2E2-4042-893F-D0DB5ABD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AE270-C1CD-4F99-B3A1-2F0E0B9E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5B70-C47B-4F38-BF45-AD0691FC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9FFF4-B593-4000-83D1-4829FF8F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E5367-814B-4A45-A8EC-BC927980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60AC7-2A6B-4568-A150-8F774CF7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235B9-2A76-4298-BEC9-7FDD8A05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F4B91-D61F-4511-B047-79BB377C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19405-0654-4AB7-8B54-5025137D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7A9F9-E2F2-4EFE-9758-8E93A2E2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D246-F162-4AF4-BF24-D03F035FC26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D90D-EEEB-4D3E-85D3-736EC44A356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5217-37CC-44DA-9778-395794B7135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BC3D-7764-43B4-8A0B-BC58FB0A2C6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A60B-CC95-4D50-AFB8-979CB85C3E7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8143-76E1-4B30-B274-60B85D5B57A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010B-1A6A-4AED-BB2D-5472C944A32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0608-DC7B-4AF5-A862-78F17FE9483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3" descr="Картинки по запросу СИЛА ТРЕНИЯ"/>
          <p:cNvPicPr/>
          <p:nvPr/>
        </p:nvPicPr>
        <p:blipFill>
          <a:blip r:embed="rId1"/>
          <a:stretch/>
        </p:blipFill>
        <p:spPr>
          <a:xfrm>
            <a:off x="1000080" y="1857240"/>
            <a:ext cx="3429000" cy="250056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andara"/>
              </a:rPr>
              <a:t>Силы в механике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971640" y="1844640"/>
            <a:ext cx="734544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ndara"/>
              </a:rPr>
              <a:t>                                                           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andara"/>
              </a:rPr>
              <a:t>Сила упругост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ndara"/>
              </a:rPr>
              <a:t>Сила трени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6" name="Рисунок 4" descr="Картинки по запросу СИЛА УПРУГОСТИ"/>
          <p:cNvPicPr/>
          <p:nvPr/>
        </p:nvPicPr>
        <p:blipFill>
          <a:blip r:embed="rId2"/>
          <a:stretch/>
        </p:blipFill>
        <p:spPr>
          <a:xfrm>
            <a:off x="6286680" y="2500200"/>
            <a:ext cx="20001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Рисунок 1" descr="Картинки по запросу СИЛА УПРУГОСТИ ФОРМУЛА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C:\Documents and Settings\Лев\Мои документы\Мои рисунки\post-3616-1159361362.jpg"/>
          <p:cNvPicPr/>
          <p:nvPr/>
        </p:nvPicPr>
        <p:blipFill>
          <a:blip r:embed="rId1"/>
          <a:stretch/>
        </p:blipFill>
        <p:spPr>
          <a:xfrm>
            <a:off x="0" y="0"/>
            <a:ext cx="1598760" cy="20145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2"/>
          <a:stretch/>
        </p:blipFill>
        <p:spPr>
          <a:xfrm>
            <a:off x="1476360" y="1986120"/>
            <a:ext cx="7067520" cy="4019400"/>
          </a:xfrm>
          <a:prstGeom prst="rect">
            <a:avLst/>
          </a:prstGeom>
          <a:ln w="0">
            <a:noFill/>
          </a:ln>
        </p:spPr>
      </p:pic>
      <p:sp>
        <p:nvSpPr>
          <p:cNvPr id="420" name="TextBox 7"/>
          <p:cNvSpPr/>
          <p:nvPr/>
        </p:nvSpPr>
        <p:spPr>
          <a:xfrm>
            <a:off x="2225520" y="690480"/>
            <a:ext cx="33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оберт Гу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305920" cy="946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c000"/>
                </a:solidFill>
                <a:latin typeface="Candara"/>
              </a:rPr>
              <a:t>ДВИЖЕНИЕ ТЕЛА ПОД ДЕЙСТВИЕМ СИЛЫ УПРУГОСТИ</a:t>
            </a:r>
            <a:endParaRPr b="0" lang="en-US" sz="2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3697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andara"/>
              </a:rPr>
              <a:t>Тело может совершать движение </a:t>
            </a:r>
            <a:r>
              <a:rPr b="1" lang="ru-RU" sz="2400" spc="-1" strike="noStrike">
                <a:solidFill>
                  <a:srgbClr val="0033cc"/>
                </a:solidFill>
                <a:latin typeface="Candara"/>
              </a:rPr>
              <a:t>по окружност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b0c5"/>
                </a:solidFill>
                <a:latin typeface="Candara"/>
              </a:rPr>
              <a:t>(если вектора силы и скорости перпендикулярны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andara"/>
              </a:rPr>
              <a:t>Тело может совершать </a:t>
            </a:r>
            <a:r>
              <a:rPr b="1" lang="ru-RU" sz="2400" spc="-1" strike="noStrike">
                <a:solidFill>
                  <a:srgbClr val="0033cc"/>
                </a:solidFill>
                <a:latin typeface="Candara"/>
              </a:rPr>
              <a:t>колебательное движени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b0c5"/>
                </a:solidFill>
                <a:latin typeface="Candara"/>
              </a:rPr>
              <a:t>(если вектора силы и скорости  коллинеарные);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grpSp>
        <p:nvGrpSpPr>
          <p:cNvPr id="423" name="Группа 9"/>
          <p:cNvGrpSpPr/>
          <p:nvPr/>
        </p:nvGrpSpPr>
        <p:grpSpPr>
          <a:xfrm>
            <a:off x="4714920" y="1857240"/>
            <a:ext cx="3200400" cy="3162600"/>
            <a:chOff x="4714920" y="1857240"/>
            <a:chExt cx="3200400" cy="3162600"/>
          </a:xfrm>
        </p:grpSpPr>
        <p:pic>
          <p:nvPicPr>
            <p:cNvPr id="424" name="Picture 3" descr=""/>
            <p:cNvPicPr/>
            <p:nvPr/>
          </p:nvPicPr>
          <p:blipFill>
            <a:blip r:embed="rId1"/>
            <a:stretch/>
          </p:blipFill>
          <p:spPr>
            <a:xfrm>
              <a:off x="4714920" y="1857240"/>
              <a:ext cx="3200400" cy="31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Овал 7"/>
            <p:cNvSpPr/>
            <p:nvPr/>
          </p:nvSpPr>
          <p:spPr>
            <a:xfrm>
              <a:off x="7286760" y="2357280"/>
              <a:ext cx="285480" cy="285480"/>
            </a:xfrm>
            <a:prstGeom prst="ellipse">
              <a:avLst/>
            </a:prstGeom>
            <a:solidFill>
              <a:srgbClr val="31b6fd"/>
            </a:solidFill>
            <a:ln w="15840">
              <a:solidFill>
                <a:srgbClr val="165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26" name="Picture 6" descr="Mech-0"/>
          <p:cNvPicPr/>
          <p:nvPr/>
        </p:nvPicPr>
        <p:blipFill>
          <a:blip r:embed="rId2"/>
          <a:stretch/>
        </p:blipFill>
        <p:spPr>
          <a:xfrm>
            <a:off x="4429080" y="5357880"/>
            <a:ext cx="216072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Картинки по запросу сила упругости в жизни"/>
          <p:cNvPicPr/>
          <p:nvPr/>
        </p:nvPicPr>
        <p:blipFill>
          <a:blip r:embed="rId1"/>
          <a:stretch/>
        </p:blipFill>
        <p:spPr>
          <a:xfrm>
            <a:off x="1403280" y="10526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90480" y="246348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366920" y="1436760"/>
            <a:ext cx="64180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0" name="Picture 2" descr="C:\Users\Денис\Desktop\Презентация по физике _Сила трения_( 7 класс)_files\img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90480" y="246348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366920" y="1436760"/>
            <a:ext cx="64180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3" name="Picture 2" descr="C:\Users\Денис\Desktop\Презентация по физике _Сила трения_( 7 класс)_files\img6.jpg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5" descr="28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90480" y="246348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366920" y="1436760"/>
            <a:ext cx="64180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7" name="Picture 2" descr="C:\Users\Денис\Desktop\Презентация по физике _Сила трения_( 7 класс)_files\img8.jpg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3" descr="C:\Users\Денис\Desktop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90480" y="246348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66920" y="1436760"/>
            <a:ext cx="64180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41" name="Picture 2" descr="C:\Users\Денис\Desktop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Схема 1" descr=""/>
          <p:cNvPicPr/>
          <p:nvPr/>
        </p:nvPicPr>
        <p:blipFill>
          <a:blip r:embed="rId1"/>
          <a:stretch/>
        </p:blipFill>
        <p:spPr>
          <a:xfrm>
            <a:off x="1511280" y="1384200"/>
            <a:ext cx="61819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Рисунок 1" descr="Картинки по запросу сила трения покоя формула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"/>
          <p:cNvSpPr/>
          <p:nvPr/>
        </p:nvSpPr>
        <p:spPr>
          <a:xfrm>
            <a:off x="44280" y="31680"/>
            <a:ext cx="6464160" cy="64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  <a:ea typeface="Calibri"/>
              </a:rPr>
              <a:t>                         </a:t>
            </a:r>
            <a:r>
              <a:rPr b="1" lang="en-US" sz="8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F=μmg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C:\Users\Денис\Desktop\Презентация по физике _Сила трения_( 7 класс)_files\img11.jpg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От размеров, формы и состояния поверхности тел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От свойств среды (вязкости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От относительной скорости движения тела и сред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ndara"/>
              </a:rPr>
              <a:t>Сила сопротивления в газе или в жидкости (вязкого, жидкого трения) зависит: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48" name="Picture 2" descr="C:\Users\Денис\Desktop\Презентация по физике _Сила трения_( 7 класс)_files\img12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0" name="Picture 2" descr="C:\Users\Денис\Desktop\Презентация по физике _Сила трения_( 7 класс)_files\img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C:\Users\Денис\Desktop\Презентация по физике _Сила трения_( 7 класс)_files\img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C:\Users\Денис\Desktop\Презентация по физике _Сила трения_( 7 класс)_files\img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C:\Users\Денис\Desktop\Презентация по физике _Сила трения_( 7 класс)_files\img22.jpg"/>
          <p:cNvPicPr/>
          <p:nvPr/>
        </p:nvPicPr>
        <p:blipFill>
          <a:blip r:embed="rId1"/>
          <a:stretch/>
        </p:blipFill>
        <p:spPr>
          <a:xfrm>
            <a:off x="-36360" y="0"/>
            <a:ext cx="9288360" cy="69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90480" y="246348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780000" y="189000"/>
            <a:ext cx="5184720" cy="12794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ndara"/>
              </a:rPr>
              <a:t>Домашнее задание. Подготовить сообщения: «Трение в профессии, вред и польза»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56" name="Picture 3" descr=""/>
          <p:cNvPicPr/>
          <p:nvPr/>
        </p:nvPicPr>
        <p:blipFill>
          <a:blip r:embed="rId1"/>
          <a:stretch/>
        </p:blipFill>
        <p:spPr>
          <a:xfrm>
            <a:off x="3271680" y="1557360"/>
            <a:ext cx="2378160" cy="19144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4" descr=""/>
          <p:cNvPicPr/>
          <p:nvPr/>
        </p:nvPicPr>
        <p:blipFill>
          <a:blip r:embed="rId2"/>
          <a:stretch/>
        </p:blipFill>
        <p:spPr>
          <a:xfrm>
            <a:off x="87480" y="4005360"/>
            <a:ext cx="3328920" cy="250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" descr=""/>
          <p:cNvPicPr/>
          <p:nvPr/>
        </p:nvPicPr>
        <p:blipFill>
          <a:blip r:embed="rId3"/>
          <a:stretch/>
        </p:blipFill>
        <p:spPr>
          <a:xfrm>
            <a:off x="4568760" y="4572000"/>
            <a:ext cx="23418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и воздействии на тело какой-либо силы тело деформирует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ccff"/>
                </a:solidFill>
                <a:latin typeface="Arial"/>
              </a:rPr>
              <a:t>Деформац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– это изменение объема или формы тела под действием внешних сил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9" name="Рисунок 3" descr="Деформация тела при воздействии силы.gif"/>
          <p:cNvPicPr/>
          <p:nvPr/>
        </p:nvPicPr>
        <p:blipFill>
          <a:blip r:embed="rId1"/>
          <a:stretch/>
        </p:blipFill>
        <p:spPr>
          <a:xfrm>
            <a:off x="5572080" y="3857760"/>
            <a:ext cx="3238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400" spc="-1" strike="noStrike">
                <a:solidFill>
                  <a:srgbClr val="002060"/>
                </a:solidFill>
                <a:latin typeface="Candara"/>
              </a:rPr>
              <a:t>Сила упругости – это сила, возникающая в результате деформации тела, и направленная в сторону противоположную деформации</a:t>
            </a: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. </a:t>
            </a:r>
            <a:br>
              <a:rPr sz="1800"/>
            </a:b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rcRect l="0" t="23185" r="0" b="0"/>
          <a:stretch/>
        </p:blipFill>
        <p:spPr>
          <a:xfrm>
            <a:off x="338040" y="2352600"/>
            <a:ext cx="84679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rbel"/>
              </a:rPr>
              <a:t>                                        </a:t>
            </a:r>
            <a:r>
              <a:rPr b="1" lang="ru-RU" sz="2400" spc="-1" strike="noStrike">
                <a:solidFill>
                  <a:srgbClr val="0070c0"/>
                </a:solidFill>
                <a:latin typeface="Corbel"/>
              </a:rPr>
              <a:t>Виды деформации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orbel"/>
              </a:rPr>
              <a:t>              </a:t>
            </a:r>
            <a:r>
              <a:rPr b="1" i="1" lang="ru-RU" sz="2400" spc="-1" strike="noStrike">
                <a:solidFill>
                  <a:srgbClr val="0070c0"/>
                </a:solidFill>
                <a:latin typeface="Corbel"/>
              </a:rPr>
              <a:t>упругие                                              пластичны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736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736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растяжения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736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жатия,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736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сдвига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736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кручения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736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изгиб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cxnSp>
        <p:nvCxnSpPr>
          <p:cNvPr id="393" name="Прямая со стрелкой 4"/>
          <p:cNvCxnSpPr/>
          <p:nvPr/>
        </p:nvCxnSpPr>
        <p:spPr>
          <a:xfrm flipH="1">
            <a:off x="2842560" y="981000"/>
            <a:ext cx="1081800" cy="504000"/>
          </a:xfrm>
          <a:prstGeom prst="straightConnector1">
            <a:avLst/>
          </a:prstGeom>
          <a:ln w="381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394" name="Прямая со стрелкой 6"/>
          <p:cNvCxnSpPr/>
          <p:nvPr/>
        </p:nvCxnSpPr>
        <p:spPr>
          <a:xfrm>
            <a:off x="4500720" y="981000"/>
            <a:ext cx="992880" cy="504000"/>
          </a:xfrm>
          <a:prstGeom prst="straightConnector1">
            <a:avLst/>
          </a:prstGeom>
          <a:ln w="38160">
            <a:solidFill>
              <a:srgbClr val="31b6fd"/>
            </a:solidFill>
            <a:miter/>
            <a:tailEnd len="med" type="arrow" w="med"/>
          </a:ln>
        </p:spPr>
      </p:cxn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ndara"/>
              </a:rPr>
              <a:t>Причины возникновения сил упругости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80880" y="1665360"/>
            <a:ext cx="412776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ndara"/>
              </a:rPr>
              <a:t>Все тела состоят из атомов или молеку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ndara"/>
              </a:rPr>
              <a:t>Частицы взаимодействуют между собой с силами притяжения и отталкивани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ndara"/>
              </a:rPr>
              <a:t>Расстояния между частицами сравнимы с размерами частиц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ndara"/>
              </a:rPr>
              <a:t>Увеличиваем расстояния – преобладают силы притяжени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Candara"/>
              </a:rPr>
              <a:t>Уменьшаем – преобладают силы отталкивани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4797360" y="1857240"/>
            <a:ext cx="3776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0" y="2492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Сила упругости, возникающая при деформации тела, прямо пропорциональна его удлинению (сжатию) и направлена противоположно перемещению частиц тела при деформации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cccc"/>
                </a:solidFill>
                <a:latin typeface="Candara"/>
              </a:rPr>
              <a:t>Закон Гука</a:t>
            </a:r>
            <a:br>
              <a:rPr sz="6000"/>
            </a:br>
            <a:r>
              <a:rPr b="1" lang="ru-RU" sz="6000" spc="-1" strike="noStrike">
                <a:solidFill>
                  <a:srgbClr val="33cccc"/>
                </a:solidFill>
                <a:latin typeface="Candara"/>
              </a:rPr>
              <a:t>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Candara"/>
              </a:rPr>
              <a:t>для малых упругих деформаций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Содержимое 2"/>
          <p:cNvGrpSpPr/>
          <p:nvPr/>
        </p:nvGrpSpPr>
        <p:grpSpPr>
          <a:xfrm>
            <a:off x="298440" y="1494000"/>
            <a:ext cx="8448840" cy="1309680"/>
            <a:chOff x="298440" y="1494000"/>
            <a:chExt cx="8448840" cy="1309680"/>
          </a:xfrm>
        </p:grpSpPr>
        <p:pic>
          <p:nvPicPr>
            <p:cNvPr id="401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298440" y="1494000"/>
              <a:ext cx="844884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457200" y="1600200"/>
              <a:ext cx="8229600" cy="11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31b6fd"/>
                </a:buClr>
                <a:buFont typeface="Symbol" charset="2"/>
                <a:buChar char="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Candara"/>
                </a:rPr>
                <a:t>Сила упругости всегда направлена против деформаци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Направление силы упругост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5" name="Object 1"/>
          <p:cNvGraphicFramePr/>
          <p:nvPr/>
        </p:nvGraphicFramePr>
        <p:xfrm>
          <a:off x="642960" y="2928960"/>
          <a:ext cx="2754360" cy="17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6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2960" y="2928960"/>
                    <a:ext cx="275436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8" name="Object 3"/>
          <p:cNvGraphicFramePr/>
          <p:nvPr/>
        </p:nvGraphicFramePr>
        <p:xfrm>
          <a:off x="3929040" y="2786040"/>
          <a:ext cx="1566720" cy="207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29040" y="2786040"/>
                    <a:ext cx="156672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0" name="Picture 3" descr=""/>
          <p:cNvPicPr/>
          <p:nvPr/>
        </p:nvPicPr>
        <p:blipFill>
          <a:blip r:embed="rId6"/>
          <a:stretch/>
        </p:blipFill>
        <p:spPr>
          <a:xfrm>
            <a:off x="6072120" y="2786040"/>
            <a:ext cx="2500560" cy="2071800"/>
          </a:xfrm>
          <a:prstGeom prst="rect">
            <a:avLst/>
          </a:prstGeom>
          <a:ln w="0">
            <a:noFill/>
          </a:ln>
        </p:spPr>
      </p:pic>
      <p:cxnSp>
        <p:nvCxnSpPr>
          <p:cNvPr id="411" name="Прямая со стрелкой 9"/>
          <p:cNvCxnSpPr/>
          <p:nvPr/>
        </p:nvCxnSpPr>
        <p:spPr>
          <a:xfrm flipH="1">
            <a:off x="7319160" y="3571560"/>
            <a:ext cx="2520" cy="1215000"/>
          </a:xfrm>
          <a:prstGeom prst="straightConnector1">
            <a:avLst/>
          </a:prstGeom>
          <a:ln w="38160">
            <a:solidFill>
              <a:srgbClr val="31b6fd"/>
            </a:solidFill>
            <a:miter/>
            <a:tailEnd len="med" type="arrow" w="med"/>
          </a:ln>
        </p:spPr>
      </p:cxnSp>
      <p:cxnSp>
        <p:nvCxnSpPr>
          <p:cNvPr id="412" name="Прямая со стрелкой 11"/>
          <p:cNvCxnSpPr/>
          <p:nvPr/>
        </p:nvCxnSpPr>
        <p:spPr>
          <a:xfrm flipH="1" flipV="1">
            <a:off x="7001640" y="2979000"/>
            <a:ext cx="429480" cy="857880"/>
          </a:xfrm>
          <a:prstGeom prst="straightConnector1">
            <a:avLst/>
          </a:prstGeom>
          <a:ln w="38160">
            <a:solidFill>
              <a:srgbClr val="31b6f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ndara"/>
              </a:rPr>
              <a:t>Формула закона Гука</a:t>
            </a:r>
            <a:r>
              <a:rPr b="1" i="1" lang="ru-RU" sz="5400" spc="-1" strike="noStrike">
                <a:solidFill>
                  <a:srgbClr val="ffffff"/>
                </a:solidFill>
                <a:latin typeface="Candara"/>
              </a:rPr>
              <a:t> </a:t>
            </a:r>
            <a:br>
              <a:rPr sz="5400"/>
            </a:br>
            <a:r>
              <a:rPr b="1" i="1" lang="ru-RU" sz="3600" spc="-1" strike="noStrike">
                <a:solidFill>
                  <a:srgbClr val="ffffff"/>
                </a:solidFill>
                <a:latin typeface="Candara"/>
              </a:rPr>
              <a:t>( в проекции на ось Х)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4" name="Picture 13" descr="2-2-1"/>
          <p:cNvPicPr/>
          <p:nvPr/>
        </p:nvPicPr>
        <p:blipFill>
          <a:blip r:embed="rId1"/>
          <a:stretch/>
        </p:blipFill>
        <p:spPr>
          <a:xfrm>
            <a:off x="1763640" y="2276640"/>
            <a:ext cx="5545080" cy="2958840"/>
          </a:xfrm>
          <a:prstGeom prst="rect">
            <a:avLst/>
          </a:prstGeom>
          <a:ln w="57240">
            <a:solidFill>
              <a:srgbClr val="31b6fd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415" name="Object 14"/>
              <p:cNvSpPr txBox="1"/>
              <p:nvPr/>
            </p:nvSpPr>
            <p:spPr>
              <a:xfrm>
                <a:off x="2843280" y="2184480"/>
                <a:ext cx="360360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Text Box 16"/>
          <p:cNvSpPr/>
          <p:nvPr/>
        </p:nvSpPr>
        <p:spPr>
          <a:xfrm>
            <a:off x="0" y="537372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 =  - удлинение тела,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коэффициент жесткости  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Н/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7:12:07Z</dcterms:created>
  <dc:creator>Пользователь</dc:creator>
  <dc:description/>
  <dc:language>en-US</dc:language>
  <cp:lastModifiedBy>Пользователь Windows</cp:lastModifiedBy>
  <dcterms:modified xsi:type="dcterms:W3CDTF">2017-11-01T05:51:27Z</dcterms:modified>
  <cp:revision>22</cp:revision>
  <dc:subject/>
  <dc:title>Лекция 10. Силы в механике: сила упругости, сила сухого и вязкого трения.</dc:title>
</cp:coreProperties>
</file>