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8.png" ContentType="image/png"/>
  <Override PartName="/ppt/media/image13.jpeg" ContentType="image/jpeg"/>
  <Override PartName="/ppt/media/image19.jpeg" ContentType="image/jpeg"/>
  <Override PartName="/ppt/media/image11.png" ContentType="image/png"/>
  <Override PartName="/ppt/media/image4.png" ContentType="image/png"/>
  <Override PartName="/ppt/media/image12.jpeg" ContentType="image/jpeg"/>
  <Override PartName="/ppt/media/image6.png" ContentType="image/png"/>
  <Override PartName="/ppt/media/image3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30.jpeg" ContentType="image/jpeg"/>
  <Override PartName="/ppt/media/image2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gif" ContentType="image/gif"/>
  <Override PartName="/ppt/media/image15.png" ContentType="image/png"/>
  <Override PartName="/ppt/media/image18.jpeg" ContentType="image/jpeg"/>
  <Override PartName="/ppt/media/image2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7660-5EE2-4CB8-99D3-B0A5F9A5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1274-45CB-4DEE-95DF-D3086571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A509-C319-458D-A041-FDCB40DF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DD31-DC8F-4389-9AED-BCB0344C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C228-1EF8-458D-9A26-62670B60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09FF-4F0A-448A-9DE0-AA2583F1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23FC-B79F-4904-B28C-6A195D10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AE8A-911A-4A79-B5BB-16CBC94B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419A-00F8-400E-83A2-68A496B4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3335-2C02-4750-BB84-1DB6EDE2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5F39-706A-469F-AD5A-7B60B1D3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289D-1E72-48E7-8870-C684FCA1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6183-78BA-4054-A66D-09F5D33D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6F7F-AEB7-4B04-96C4-38FB50E1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4F0E-B192-44D7-9996-8361441E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7114-D138-42B9-9922-E6C6BB35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FAF1-86B0-48F6-AEA7-C7D313CA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B20E2-CFAE-4188-9036-0D38BEC1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AF559-2C83-4DFE-9CE2-9649A819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6497F-1807-454B-AE89-D309B273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5CAEC-E08E-4EF8-9B73-A0B9F539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59ECC-C096-4478-929E-AF18D1F3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1188-592B-485F-9F15-5AE9EB10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5420C-D542-44C8-8EB9-D88FAC49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C3188-B53D-4145-8E68-766BF223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01DB1-FAB1-42DA-913E-2DA28518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6CAF9-C480-4AC9-B382-BBC83851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75908-A688-4E2D-8B8E-BE9F667B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72816-B12C-4A88-8F8D-E2DB0005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D9716-52AC-40CC-863A-39A9AF4B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94508-BB73-4A06-8542-542A2807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CE6FB-2229-4FF1-9C5D-39372C01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4F206-53D0-4FAC-AE04-663477F2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EB19-6404-45F2-A2EF-EFA1CE0A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22421-4ABF-43B0-847B-495DF50E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863E5-7882-431C-A8AE-FECE17DF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CC953-79C7-419D-B659-D9C19B3A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A917F-8749-4834-980D-45367F56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1B9F9-5F07-4779-8F8C-BCEDC951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5C234-4BDE-42A0-B843-5AFC249F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84762-B8C3-44F6-975C-E8CCD6B0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B7ADD-9C10-49C0-ADE8-748E4C32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29282-C16D-4845-97FC-E1476150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180EF-05B6-4C9A-8CA8-078FE72D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8675-D4D6-48E2-9EF5-05AE015A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374EE-6E43-44AE-8C17-CFA7503F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F8E04-E197-47A0-A2C8-7EC10F36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401E8-B8A7-447C-8CAC-E0D61C58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A70FE-C66E-4B02-B87F-532E4F1F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7F183-18D2-4405-A563-FF31D752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7ADA8-EA40-4803-9F84-67806EC7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5F43A-9763-4BC1-BDAD-264F6E5E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63C0F-C67F-4AA9-83AB-C4C7EA4F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FE163-4D13-4D36-AFAD-2B37586D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6D177-3FC4-437C-9568-D159A8BB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3296-84DF-4D7B-AB8D-99CB5F1B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486EA-04DA-49CB-89A6-F9F8D4B5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66336-546D-4884-8ADE-CA5242EF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44326-BDBE-410F-9815-7ED0ED82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8D13C-A10D-49BA-8E0E-14BDAFE7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67040-9C43-44A9-94BF-B04D6A3A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A1EFE-FD84-4E51-9E1E-5CA331D9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A31F5-FE14-45AD-801B-CCD92518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86DF8-2459-4C0B-90BF-DD01E615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F3EC1-31D0-4DCB-900C-749927A2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2DCB8-E497-4F5E-888B-EF57FD2A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B0D-B417-42A2-96DB-334DCF0D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1331F-C767-497C-902A-12C090C8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B3262-4036-4E01-BD95-FDD7CA9C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C055E-2FAA-4ACF-9232-424DDA87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F87CE-A0E2-4F4E-BE96-6131101C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52051-4F88-49AD-8195-E403AF98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8364E-047D-4F47-AE81-EAE3D70E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7EC5A-DA6E-4FB0-9D36-06E999D1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88DE3-B26F-4FA3-9F96-995E7A8B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B8381-DD58-4AB7-A169-75A3869F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21484-0B85-46B5-BC97-8BD07524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5995-1F93-4A66-8978-F6FF70BC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7DB1E-00FA-4C95-B29D-34706171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77FDE-2B20-461D-8704-21821823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B8834-F58A-4066-A980-D8E9AD8B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4CECE-7E7D-42A8-B785-A82391E7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4FCB2-180A-4DA1-B19C-51F54889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66D23-296B-4E93-B456-03EB1482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379AF-8DDF-4967-9252-8CDB63AD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11199-A758-4E8F-96D1-B418C3DF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3DF31-4FB0-407D-9EE1-BDE2FDB8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F49C1-2552-49ED-A725-B03D1F5E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F1A6-3105-4EDA-A8B9-5A22F1AD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893DE-38B8-4EA1-B0BC-D6CF90B8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E636B-A55B-408E-8F94-5961E66E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7CF06-A379-4E46-91BF-95A4742D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5AE2E-653B-4EEB-AFE7-DE82599A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B0B09-9211-4001-A008-2488898D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2CDCA-E3A4-413C-9CCB-BCDDFD0E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F8D93-974F-4E1A-A6EB-EF7FA241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DA4B-7E09-4702-9C75-920AA6AD3BD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809D-4238-4D09-9157-B4ECBCAACC0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8226-D303-4EDA-8DC7-96D518F30E5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CD5F-14DF-42E7-AB61-C0F9D2A8CE7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01B6-516F-4DB9-8AD0-8C7203BDD25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D8B6-CF1B-4CBF-ABB4-FB2EF91DE4A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7C8A-A55C-4D15-8CF7-8B1CC5BA8CB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F5F9-A9BB-4791-9B47-4D5613DB489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3" descr="Картинки по запросу СИЛА ТРЕНИЯ"/>
          <p:cNvPicPr/>
          <p:nvPr/>
        </p:nvPicPr>
        <p:blipFill>
          <a:blip r:embed="rId1"/>
          <a:stretch/>
        </p:blipFill>
        <p:spPr>
          <a:xfrm>
            <a:off x="1000080" y="1857240"/>
            <a:ext cx="3429000" cy="250056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andara"/>
              </a:rPr>
              <a:t>Силы в механике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971640" y="1844640"/>
            <a:ext cx="734544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ndara"/>
              </a:rPr>
              <a:t>                         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ndara"/>
              </a:rPr>
              <a:t>Сила упругост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ndara"/>
              </a:rPr>
              <a:t>Сила трени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6" name="Рисунок 4" descr="Картинки по запросу СИЛА УПРУГОСТИ"/>
          <p:cNvPicPr/>
          <p:nvPr/>
        </p:nvPicPr>
        <p:blipFill>
          <a:blip r:embed="rId2"/>
          <a:stretch/>
        </p:blipFill>
        <p:spPr>
          <a:xfrm>
            <a:off x="6286680" y="2500200"/>
            <a:ext cx="20001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Рисунок 1" descr="Картинки по запросу СИЛА УПРУГОСТИ ФОРМУЛА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C:\Documents and Settings\Лев\Мои документы\Мои рисунки\post-3616-1159361362.jpg"/>
          <p:cNvPicPr/>
          <p:nvPr/>
        </p:nvPicPr>
        <p:blipFill>
          <a:blip r:embed="rId1"/>
          <a:stretch/>
        </p:blipFill>
        <p:spPr>
          <a:xfrm>
            <a:off x="0" y="0"/>
            <a:ext cx="1598760" cy="20145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2"/>
          <a:stretch/>
        </p:blipFill>
        <p:spPr>
          <a:xfrm>
            <a:off x="1476360" y="1986120"/>
            <a:ext cx="7067520" cy="4019400"/>
          </a:xfrm>
          <a:prstGeom prst="rect">
            <a:avLst/>
          </a:prstGeom>
          <a:ln w="0">
            <a:noFill/>
          </a:ln>
        </p:spPr>
      </p:pic>
      <p:sp>
        <p:nvSpPr>
          <p:cNvPr id="420" name="TextBox 7"/>
          <p:cNvSpPr/>
          <p:nvPr/>
        </p:nvSpPr>
        <p:spPr>
          <a:xfrm>
            <a:off x="2225520" y="690480"/>
            <a:ext cx="33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оберт Гу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305920" cy="946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c000"/>
                </a:solidFill>
                <a:latin typeface="Candara"/>
              </a:rPr>
              <a:t>ДВИЖЕНИЕ ТЕЛА ПОД ДЕЙСТВИЕМ СИЛЫ УПРУГОСТИ</a:t>
            </a:r>
            <a:endParaRPr b="0" lang="en-US" sz="2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3697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andara"/>
              </a:rPr>
              <a:t>Тело может совершать движение </a:t>
            </a:r>
            <a:r>
              <a:rPr b="1" lang="ru-RU" sz="2400" spc="-1" strike="noStrike">
                <a:solidFill>
                  <a:srgbClr val="0033cc"/>
                </a:solidFill>
                <a:latin typeface="Candara"/>
              </a:rPr>
              <a:t>по окружност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b0c5"/>
                </a:solidFill>
                <a:latin typeface="Candara"/>
              </a:rPr>
              <a:t>(если вектора силы и скорости перпендикулярны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andara"/>
              </a:rPr>
              <a:t>Тело может совершать </a:t>
            </a:r>
            <a:r>
              <a:rPr b="1" lang="ru-RU" sz="2400" spc="-1" strike="noStrike">
                <a:solidFill>
                  <a:srgbClr val="0033cc"/>
                </a:solidFill>
                <a:latin typeface="Candara"/>
              </a:rPr>
              <a:t>колебательное движени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b0c5"/>
                </a:solidFill>
                <a:latin typeface="Candara"/>
              </a:rPr>
              <a:t>(если вектора силы и скорости  коллинеарные);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grpSp>
        <p:nvGrpSpPr>
          <p:cNvPr id="423" name="Группа 9"/>
          <p:cNvGrpSpPr/>
          <p:nvPr/>
        </p:nvGrpSpPr>
        <p:grpSpPr>
          <a:xfrm>
            <a:off x="4714920" y="1857240"/>
            <a:ext cx="3200400" cy="3162600"/>
            <a:chOff x="4714920" y="1857240"/>
            <a:chExt cx="3200400" cy="3162600"/>
          </a:xfrm>
        </p:grpSpPr>
        <p:pic>
          <p:nvPicPr>
            <p:cNvPr id="424" name="Picture 3" descr=""/>
            <p:cNvPicPr/>
            <p:nvPr/>
          </p:nvPicPr>
          <p:blipFill>
            <a:blip r:embed="rId1"/>
            <a:stretch/>
          </p:blipFill>
          <p:spPr>
            <a:xfrm>
              <a:off x="4714920" y="1857240"/>
              <a:ext cx="3200400" cy="31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Овал 7"/>
            <p:cNvSpPr/>
            <p:nvPr/>
          </p:nvSpPr>
          <p:spPr>
            <a:xfrm>
              <a:off x="7286760" y="2357280"/>
              <a:ext cx="285480" cy="285480"/>
            </a:xfrm>
            <a:prstGeom prst="ellipse">
              <a:avLst/>
            </a:prstGeom>
            <a:solidFill>
              <a:srgbClr val="31b6fd"/>
            </a:solidFill>
            <a:ln w="15840">
              <a:solidFill>
                <a:srgbClr val="165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26" name="Picture 6" descr="Mech-0"/>
          <p:cNvPicPr/>
          <p:nvPr/>
        </p:nvPicPr>
        <p:blipFill>
          <a:blip r:embed="rId2"/>
          <a:stretch/>
        </p:blipFill>
        <p:spPr>
          <a:xfrm>
            <a:off x="4429080" y="5357880"/>
            <a:ext cx="216072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Картинки по запросу сила упругости в жизни"/>
          <p:cNvPicPr/>
          <p:nvPr/>
        </p:nvPicPr>
        <p:blipFill>
          <a:blip r:embed="rId1"/>
          <a:stretch/>
        </p:blipFill>
        <p:spPr>
          <a:xfrm>
            <a:off x="1403280" y="10526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90480" y="246348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366920" y="1436760"/>
            <a:ext cx="64180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0" name="Picture 2" descr="C:\Users\Денис\Desktop\Презентация по физике _Сила трения_( 7 класс)_files\img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90480" y="246348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66920" y="1436760"/>
            <a:ext cx="64180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3" name="Picture 2" descr="C:\Users\Денис\Desktop\Презентация по физике _Сила трения_( 7 класс)_files\img6.jpg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5" descr="28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90480" y="246348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366920" y="1436760"/>
            <a:ext cx="64180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7" name="Picture 2" descr="C:\Users\Денис\Desktop\Презентация по физике _Сила трения_( 7 класс)_files\img8.jpg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3" descr="C:\Users\Денис\Desktop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90480" y="246348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66920" y="1436760"/>
            <a:ext cx="64180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41" name="Picture 2" descr="C:\Users\Денис\Desktop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Схема 1" descr=""/>
          <p:cNvPicPr/>
          <p:nvPr/>
        </p:nvPicPr>
        <p:blipFill>
          <a:blip r:embed="rId1"/>
          <a:stretch/>
        </p:blipFill>
        <p:spPr>
          <a:xfrm>
            <a:off x="1511280" y="1384200"/>
            <a:ext cx="61819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Рисунок 1" descr="Картинки по запросу сила трения покоя формула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"/>
          <p:cNvSpPr/>
          <p:nvPr/>
        </p:nvSpPr>
        <p:spPr>
          <a:xfrm>
            <a:off x="44280" y="31680"/>
            <a:ext cx="6464160" cy="64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  <a:ea typeface="Calibri"/>
              </a:rPr>
              <a:t>                         </a:t>
            </a:r>
            <a:r>
              <a:rPr b="1" lang="en-US" sz="8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F=μmg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C:\Users\Денис\Desktop\Презентация по физике _Сила трения_( 7 класс)_files\img11.jpg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От размеров, формы и состояния поверхности тел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От свойств среды (вязкости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От относительной скорости движения тела и сред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ndara"/>
              </a:rPr>
              <a:t>Сила сопротивления в газе или в жидкости (вязкого, жидкого трения) зависит: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48" name="Picture 2" descr="C:\Users\Денис\Desktop\Презентация по физике _Сила трения_( 7 класс)_files\img12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0" name="Picture 2" descr="C:\Users\Денис\Desktop\Презентация по физике _Сила трения_( 7 класс)_files\img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C:\Users\Денис\Desktop\Презентация по физике _Сила трения_( 7 класс)_files\img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C:\Users\Денис\Desktop\Презентация по физике _Сила трения_( 7 класс)_files\img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C:\Users\Денис\Desktop\Презентация по физике _Сила трения_( 7 класс)_files\img22.jpg"/>
          <p:cNvPicPr/>
          <p:nvPr/>
        </p:nvPicPr>
        <p:blipFill>
          <a:blip r:embed="rId1"/>
          <a:stretch/>
        </p:blipFill>
        <p:spPr>
          <a:xfrm>
            <a:off x="-36360" y="0"/>
            <a:ext cx="928836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90480" y="246348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780000" y="189000"/>
            <a:ext cx="5184720" cy="12794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ndara"/>
              </a:rPr>
              <a:t>Домашнее задание. Подготовить сообщения: «Трение в профессии, вред и польза»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56" name="Picture 3" descr=""/>
          <p:cNvPicPr/>
          <p:nvPr/>
        </p:nvPicPr>
        <p:blipFill>
          <a:blip r:embed="rId1"/>
          <a:stretch/>
        </p:blipFill>
        <p:spPr>
          <a:xfrm>
            <a:off x="3271680" y="1557360"/>
            <a:ext cx="2378160" cy="19144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" descr=""/>
          <p:cNvPicPr/>
          <p:nvPr/>
        </p:nvPicPr>
        <p:blipFill>
          <a:blip r:embed="rId2"/>
          <a:stretch/>
        </p:blipFill>
        <p:spPr>
          <a:xfrm>
            <a:off x="87480" y="4005360"/>
            <a:ext cx="3328920" cy="250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" descr=""/>
          <p:cNvPicPr/>
          <p:nvPr/>
        </p:nvPicPr>
        <p:blipFill>
          <a:blip r:embed="rId3"/>
          <a:stretch/>
        </p:blipFill>
        <p:spPr>
          <a:xfrm>
            <a:off x="4568760" y="4572000"/>
            <a:ext cx="23418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и воздействии на тело какой-либо силы тело деформирует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Деформац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– это изменение объема или формы тела под действием внешних сил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9" name="Рисунок 3" descr="Деформация тела при воздействии силы.gif"/>
          <p:cNvPicPr/>
          <p:nvPr/>
        </p:nvPicPr>
        <p:blipFill>
          <a:blip r:embed="rId1"/>
          <a:stretch/>
        </p:blipFill>
        <p:spPr>
          <a:xfrm>
            <a:off x="5572080" y="3857760"/>
            <a:ext cx="3238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400" spc="-1" strike="noStrike">
                <a:solidFill>
                  <a:srgbClr val="002060"/>
                </a:solidFill>
                <a:latin typeface="Candara"/>
              </a:rPr>
              <a:t>Сила упругости – это сила, возникающая в результате деформации тела, и направленная в сторону противоположную деформации</a:t>
            </a: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. </a:t>
            </a:r>
            <a:br>
              <a:rPr sz="1800"/>
            </a:b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rcRect l="0" t="23185" r="0" b="0"/>
          <a:stretch/>
        </p:blipFill>
        <p:spPr>
          <a:xfrm>
            <a:off x="338040" y="2352600"/>
            <a:ext cx="84679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rbel"/>
              </a:rPr>
              <a:t>                                        </a:t>
            </a:r>
            <a:r>
              <a:rPr b="1" lang="ru-RU" sz="2400" spc="-1" strike="noStrike">
                <a:solidFill>
                  <a:srgbClr val="0070c0"/>
                </a:solidFill>
                <a:latin typeface="Corbel"/>
              </a:rPr>
              <a:t>Виды деформации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orbel"/>
              </a:rPr>
              <a:t>              </a:t>
            </a:r>
            <a:r>
              <a:rPr b="1" i="1" lang="ru-RU" sz="2400" spc="-1" strike="noStrike">
                <a:solidFill>
                  <a:srgbClr val="0070c0"/>
                </a:solidFill>
                <a:latin typeface="Corbel"/>
              </a:rPr>
              <a:t>упругие                                              пластичны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736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736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растяжения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736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жатия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736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двига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736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кручения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736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изгиб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cxnSp>
        <p:nvCxnSpPr>
          <p:cNvPr id="393" name="Прямая со стрелкой 4"/>
          <p:cNvCxnSpPr/>
          <p:nvPr/>
        </p:nvCxnSpPr>
        <p:spPr>
          <a:xfrm flipH="1">
            <a:off x="2842560" y="981000"/>
            <a:ext cx="1081800" cy="504000"/>
          </a:xfrm>
          <a:prstGeom prst="straightConnector1">
            <a:avLst/>
          </a:prstGeom>
          <a:ln w="381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394" name="Прямая со стрелкой 6"/>
          <p:cNvCxnSpPr/>
          <p:nvPr/>
        </p:nvCxnSpPr>
        <p:spPr>
          <a:xfrm>
            <a:off x="4500720" y="981000"/>
            <a:ext cx="992880" cy="504000"/>
          </a:xfrm>
          <a:prstGeom prst="straightConnector1">
            <a:avLst/>
          </a:prstGeom>
          <a:ln w="38160">
            <a:solidFill>
              <a:srgbClr val="31b6fd"/>
            </a:solidFill>
            <a:miter/>
            <a:tailEnd len="med" type="arrow" w="med"/>
          </a:ln>
        </p:spPr>
      </p:cxn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ndara"/>
              </a:rPr>
              <a:t>Причины возникновения сил упругости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80880" y="1665360"/>
            <a:ext cx="412776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ndara"/>
              </a:rPr>
              <a:t>Все тела состоят из атомов или молеку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ndara"/>
              </a:rPr>
              <a:t>Частицы взаимодействуют между собой с силами притяжения и отталкивани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ndara"/>
              </a:rPr>
              <a:t>Расстояния между частицами сравнимы с размерами частиц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ndara"/>
              </a:rPr>
              <a:t>Увеличиваем расстояния – преобладают силы притяжени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ndara"/>
              </a:rPr>
              <a:t>Уменьшаем – преобладают силы отталкивани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4797360" y="1857240"/>
            <a:ext cx="3776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0" y="249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Сила упругости, возникающая при деформации тела, прямо пропорциональна его удлинению (сжатию) и направлена противоположно перемещению частиц тела при деформации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cc"/>
                </a:solidFill>
                <a:latin typeface="Candara"/>
              </a:rPr>
              <a:t>Закон Гука</a:t>
            </a:r>
            <a:br>
              <a:rPr sz="6000"/>
            </a:br>
            <a:r>
              <a:rPr b="1" lang="ru-RU" sz="6000" spc="-1" strike="noStrike">
                <a:solidFill>
                  <a:srgbClr val="33cccc"/>
                </a:solidFill>
                <a:latin typeface="Candara"/>
              </a:rPr>
              <a:t>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Candara"/>
              </a:rPr>
              <a:t>для малых упругих деформаций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Содержимое 2"/>
          <p:cNvGrpSpPr/>
          <p:nvPr/>
        </p:nvGrpSpPr>
        <p:grpSpPr>
          <a:xfrm>
            <a:off x="298440" y="1494000"/>
            <a:ext cx="8448840" cy="1309680"/>
            <a:chOff x="298440" y="1494000"/>
            <a:chExt cx="8448840" cy="1309680"/>
          </a:xfrm>
        </p:grpSpPr>
        <p:pic>
          <p:nvPicPr>
            <p:cNvPr id="401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298440" y="1494000"/>
              <a:ext cx="844884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457200" y="1600200"/>
              <a:ext cx="8229600" cy="11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31b6fd"/>
                </a:buClr>
                <a:buFont typeface="Symbol" charset="2"/>
                <a:buChar char="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Candara"/>
                </a:rPr>
                <a:t>Сила упругости всегда направлена против деформаци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Направление силы упругост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5" name="Object 1"/>
          <p:cNvGraphicFramePr/>
          <p:nvPr/>
        </p:nvGraphicFramePr>
        <p:xfrm>
          <a:off x="642960" y="2928960"/>
          <a:ext cx="2754360" cy="17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6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2960" y="2928960"/>
                    <a:ext cx="275436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8" name="Object 3"/>
          <p:cNvGraphicFramePr/>
          <p:nvPr/>
        </p:nvGraphicFramePr>
        <p:xfrm>
          <a:off x="3929040" y="2786040"/>
          <a:ext cx="1566720" cy="207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29040" y="2786040"/>
                    <a:ext cx="156672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0" name="Picture 3" descr=""/>
          <p:cNvPicPr/>
          <p:nvPr/>
        </p:nvPicPr>
        <p:blipFill>
          <a:blip r:embed="rId6"/>
          <a:stretch/>
        </p:blipFill>
        <p:spPr>
          <a:xfrm>
            <a:off x="6072120" y="2786040"/>
            <a:ext cx="2500560" cy="2071800"/>
          </a:xfrm>
          <a:prstGeom prst="rect">
            <a:avLst/>
          </a:prstGeom>
          <a:ln w="0">
            <a:noFill/>
          </a:ln>
        </p:spPr>
      </p:pic>
      <p:cxnSp>
        <p:nvCxnSpPr>
          <p:cNvPr id="411" name="Прямая со стрелкой 9"/>
          <p:cNvCxnSpPr/>
          <p:nvPr/>
        </p:nvCxnSpPr>
        <p:spPr>
          <a:xfrm flipH="1">
            <a:off x="7319160" y="3571560"/>
            <a:ext cx="2520" cy="1215000"/>
          </a:xfrm>
          <a:prstGeom prst="straightConnector1">
            <a:avLst/>
          </a:prstGeom>
          <a:ln w="381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412" name="Прямая со стрелкой 11"/>
          <p:cNvCxnSpPr/>
          <p:nvPr/>
        </p:nvCxnSpPr>
        <p:spPr>
          <a:xfrm flipH="1" flipV="1">
            <a:off x="7001640" y="2979000"/>
            <a:ext cx="429480" cy="857880"/>
          </a:xfrm>
          <a:prstGeom prst="straightConnector1">
            <a:avLst/>
          </a:prstGeom>
          <a:ln w="38160">
            <a:solidFill>
              <a:srgbClr val="31b6f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ndara"/>
              </a:rPr>
              <a:t>Формула закона Гука</a:t>
            </a:r>
            <a:r>
              <a:rPr b="1" i="1" lang="ru-RU" sz="5400" spc="-1" strike="noStrike">
                <a:solidFill>
                  <a:srgbClr val="ffffff"/>
                </a:solidFill>
                <a:latin typeface="Candara"/>
              </a:rPr>
              <a:t> </a:t>
            </a:r>
            <a:br>
              <a:rPr sz="5400"/>
            </a:br>
            <a:r>
              <a:rPr b="1" i="1" lang="ru-RU" sz="3600" spc="-1" strike="noStrike">
                <a:solidFill>
                  <a:srgbClr val="ffffff"/>
                </a:solidFill>
                <a:latin typeface="Candara"/>
              </a:rPr>
              <a:t>( в проекции на ось Х)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4" name="Picture 13" descr="2-2-1"/>
          <p:cNvPicPr/>
          <p:nvPr/>
        </p:nvPicPr>
        <p:blipFill>
          <a:blip r:embed="rId1"/>
          <a:stretch/>
        </p:blipFill>
        <p:spPr>
          <a:xfrm>
            <a:off x="1763640" y="2276640"/>
            <a:ext cx="5545080" cy="2958840"/>
          </a:xfrm>
          <a:prstGeom prst="rect">
            <a:avLst/>
          </a:prstGeom>
          <a:ln w="57240">
            <a:solidFill>
              <a:srgbClr val="31b6fd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415" name="Object 14"/>
              <p:cNvSpPr txBox="1"/>
              <p:nvPr/>
            </p:nvSpPr>
            <p:spPr>
              <a:xfrm>
                <a:off x="2843280" y="2184480"/>
                <a:ext cx="360360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Text Box 16"/>
          <p:cNvSpPr/>
          <p:nvPr/>
        </p:nvSpPr>
        <p:spPr>
          <a:xfrm>
            <a:off x="0" y="537372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 =  - удлинение тела,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коэффициент жесткости  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Н/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7:12:07Z</dcterms:created>
  <dc:creator>Пользователь</dc:creator>
  <dc:description/>
  <dc:language>en-US</dc:language>
  <cp:lastModifiedBy>Пользователь Windows</cp:lastModifiedBy>
  <dcterms:modified xsi:type="dcterms:W3CDTF">2017-11-01T05:51:27Z</dcterms:modified>
  <cp:revision>22</cp:revision>
  <dc:subject/>
  <dc:title>Лекция 10. Силы в механике: сила упругости, сила сухого и вязкого трения.</dc:title>
</cp:coreProperties>
</file>