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7046-85D5-4329-AD8D-5F40D9A6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63CA-733A-4DD5-A4BD-853CC5F2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FD9C-3B17-4E19-981E-EA4D2B4D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0D1D-0507-4F5F-8363-65B29D3C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85C4-DD7A-4F21-A566-475886CCA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CE9D-60B2-4274-A91E-A8F02562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32F1-0858-4DB2-BEE6-76095656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851E-5923-44D5-A2D9-145A9DBB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AC89-0B1F-4DA7-B37C-6778B73B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C325-442B-4490-8B22-60F13141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A363-1E68-4CD9-B945-410097D9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D6F3-D633-4E0A-A53F-AD48B485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1413-FEC6-4FDF-A41D-2D7A8CE6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7F64-F44F-4FC9-8814-BECBF994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1A33-08E9-45E1-933C-575C24CB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0749-0D9D-4417-9454-58AABBB6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38AC-19A7-4D8E-8D6C-78AE9758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FBEBD-8A25-4ABA-A4E4-3C57062D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DA6A8-8BB0-4EF0-A433-65662B3D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C9855-8320-41AE-BFD8-36D4E880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51B11-1FAC-4DDF-B268-2B208C1F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56DC5-1E37-45C6-BFAC-2CEACED4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AFEC-87E4-4791-8B2C-75F87211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D844B-0524-4C0F-8FAD-5AE4A3A3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BCEF7-B0BB-485C-8791-FC1CAF32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E7D7B-7894-462D-B9C9-318E5F54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850E3-F789-4956-BEFA-B0B4E958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20347-618A-42AA-A947-6767FD9A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8E77E-4415-4CC3-BBFA-05083468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BA988-4135-4B62-9D97-5B802F452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7910-B16F-4124-9EA9-F7178B9E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1B3A-968B-4AC5-892A-117341C0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02B2-9986-4ED0-8987-6C86C26A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9101-8B4C-4A74-814C-1901885F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BE75-1E7C-4AE4-8BBD-94DE4C31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627C-473D-4C7F-AA6F-6827F321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"/>
          <p:cNvGrpSpPr/>
          <p:nvPr/>
        </p:nvGrpSpPr>
        <p:grpSpPr>
          <a:xfrm>
            <a:off x="-14400" y="0"/>
            <a:ext cx="12053880" cy="6858000"/>
            <a:chOff x="-14400" y="0"/>
            <a:chExt cx="12053880" cy="6858000"/>
          </a:xfrm>
        </p:grpSpPr>
        <p:pic>
          <p:nvPicPr>
            <p:cNvPr id="2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Group 9" descr=""/>
            <p:cNvPicPr/>
            <p:nvPr/>
          </p:nvPicPr>
          <p:blipFill>
            <a:blip r:embed="rId5"/>
            <a:stretch/>
          </p:blipFill>
          <p:spPr>
            <a:xfrm>
              <a:off x="113688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45632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141560" y="5882760"/>
            <a:ext cx="623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0275480" y="588276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D4032-3245-4788-8CFA-7F4A309513AA}" type="slidenum">
              <a:rPr b="0" lang="en-US" sz="10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Group 10" descr=""/>
          <p:cNvPicPr/>
          <p:nvPr/>
        </p:nvPicPr>
        <p:blipFill>
          <a:blip r:embed="rId4"/>
          <a:stretch/>
        </p:blipFill>
        <p:spPr>
          <a:xfrm>
            <a:off x="0" y="0"/>
            <a:ext cx="22986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077240" y="54097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875960" y="5409720"/>
            <a:ext cx="512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896040" y="540972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FCD26-63EB-4465-B1AA-6AE2079C1739}" type="slidenum">
              <a:rPr b="0" lang="en-US" sz="10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-14400" y="0"/>
            <a:ext cx="12053880" cy="6858000"/>
            <a:chOff x="-14400" y="0"/>
            <a:chExt cx="12053880" cy="6858000"/>
          </a:xfrm>
        </p:grpSpPr>
        <p:pic>
          <p:nvPicPr>
            <p:cNvPr id="90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Group 9" descr=""/>
            <p:cNvPicPr/>
            <p:nvPr/>
          </p:nvPicPr>
          <p:blipFill>
            <a:blip r:embed="rId5"/>
            <a:stretch/>
          </p:blipFill>
          <p:spPr>
            <a:xfrm>
              <a:off x="113688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TextBox 47"/>
          <p:cNvSpPr/>
          <p:nvPr/>
        </p:nvSpPr>
        <p:spPr>
          <a:xfrm>
            <a:off x="903240" y="73188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  <a:ea typeface="Trebuchet MS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3" name="TextBox 48"/>
          <p:cNvSpPr/>
          <p:nvPr/>
        </p:nvSpPr>
        <p:spPr>
          <a:xfrm>
            <a:off x="10537920" y="27655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  <a:ea typeface="Trebuchet MS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745632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1141560" y="5882760"/>
            <a:ext cx="623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10275480" y="588276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D4491B-8CCB-49CC-9912-78EB50167EC8}" type="slidenum">
              <a:rPr b="0" lang="en-US" sz="10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1560" y="1208160"/>
            <a:ext cx="9905760" cy="19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w Cen MT"/>
              </a:rPr>
              <a:t>ПРЕЗЕНТАЦИЯ ДЛЯ РАБОТЫ С ДЕТЬМИ МЛАДШЕГО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w Cen MT"/>
              </a:rPr>
              <a:t>ДОШКОЛЬНОГО ВОЗРАСТА</a:t>
            </a:r>
            <a:br>
              <a:rPr sz="5400"/>
            </a:br>
            <a:r>
              <a:rPr b="0" lang="ru-RU" sz="5400" spc="-1" strike="noStrike">
                <a:solidFill>
                  <a:srgbClr val="002060"/>
                </a:solidFill>
                <a:latin typeface="Tw Cen MT"/>
              </a:rPr>
              <a:t>«ЗИМНИЕ ЗАБАВЫ»</a:t>
            </a:r>
            <a:endParaRPr b="0" lang="en-US" sz="5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424200" y="2333160"/>
            <a:ext cx="538020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w Cen MT"/>
              </a:rPr>
              <a:t>Подготовила: Пронина Л.Ю.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w Cen MT"/>
              </a:rPr>
              <a:t>Воспитатель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w Cen MT"/>
              </a:rPr>
              <a:t>МБДОУ д/с «Богатырь» пгт.Зуя Белогорского района Республики Крым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1" descr=""/>
          <p:cNvPicPr/>
          <p:nvPr/>
        </p:nvPicPr>
        <p:blipFill>
          <a:blip r:embed="rId1"/>
          <a:stretch/>
        </p:blipFill>
        <p:spPr>
          <a:xfrm>
            <a:off x="203184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203184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1" descr=""/>
          <p:cNvPicPr/>
          <p:nvPr/>
        </p:nvPicPr>
        <p:blipFill>
          <a:blip r:embed="rId1"/>
          <a:stretch/>
        </p:blipFill>
        <p:spPr>
          <a:xfrm>
            <a:off x="203184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1" descr=""/>
          <p:cNvPicPr/>
          <p:nvPr/>
        </p:nvPicPr>
        <p:blipFill>
          <a:blip r:embed="rId1"/>
          <a:stretch/>
        </p:blipFill>
        <p:spPr>
          <a:xfrm>
            <a:off x="2031840" y="380880"/>
            <a:ext cx="8128080" cy="60962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2" descr=""/>
          <p:cNvPicPr/>
          <p:nvPr/>
        </p:nvPicPr>
        <p:blipFill>
          <a:blip r:embed="rId2"/>
          <a:stretch/>
        </p:blipFill>
        <p:spPr>
          <a:xfrm>
            <a:off x="203184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1" descr=""/>
          <p:cNvPicPr/>
          <p:nvPr/>
        </p:nvPicPr>
        <p:blipFill>
          <a:blip r:embed="rId1"/>
          <a:stretch/>
        </p:blipFill>
        <p:spPr>
          <a:xfrm>
            <a:off x="203184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1" descr=""/>
          <p:cNvPicPr/>
          <p:nvPr/>
        </p:nvPicPr>
        <p:blipFill>
          <a:blip r:embed="rId1"/>
          <a:stretch/>
        </p:blipFill>
        <p:spPr>
          <a:xfrm>
            <a:off x="1981080" y="36828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1560" y="733320"/>
            <a:ext cx="9905760" cy="1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w Cen MT"/>
              </a:rPr>
              <a:t>ЦЕЛЬ ПРЕЗЕНТАЦИИ: «</a:t>
            </a:r>
            <a:r>
              <a:rPr b="0" i="1" lang="ru-RU" sz="3200" spc="-1" strike="noStrike">
                <a:solidFill>
                  <a:srgbClr val="0070c0"/>
                </a:solidFill>
                <a:latin typeface="Tw Cen MT"/>
              </a:rPr>
              <a:t>ЗИМНИЕ</a:t>
            </a:r>
            <a:r>
              <a:rPr b="1" i="1" lang="ru-RU" sz="3200" spc="-1" strike="noStrike">
                <a:solidFill>
                  <a:srgbClr val="0070c0"/>
                </a:solidFill>
                <a:latin typeface="Tw Cen MT"/>
              </a:rPr>
              <a:t> ЗАБАВЫ»</a:t>
            </a:r>
            <a:r>
              <a:rPr b="0" lang="ru-RU" sz="3200" spc="-1" strike="noStrike">
                <a:solidFill>
                  <a:srgbClr val="0070c0"/>
                </a:solidFill>
                <a:latin typeface="Tw Cen MT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37880" y="863640"/>
            <a:ext cx="990612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w Cen MT"/>
              </a:rPr>
              <a:t>1. Расширять представления о зиме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6080" indent="-226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w Cen MT"/>
              </a:rPr>
              <a:t>2. Организовать все виды детской деятельности (игровой, коммуникативной, трудовой, познавательно-исследовательской, продуктивной, музыкально-художественной, чтения) вокруг темы </a:t>
            </a:r>
            <a:r>
              <a:rPr b="0" i="1" lang="ru-RU" sz="2000" spc="-1" strike="noStrike">
                <a:solidFill>
                  <a:srgbClr val="002060"/>
                </a:solidFill>
                <a:latin typeface="Tw Cen MT"/>
              </a:rPr>
              <a:t>«</a:t>
            </a:r>
            <a:r>
              <a:rPr b="1" i="1" lang="ru-RU" sz="2000" spc="-1" strike="noStrike">
                <a:solidFill>
                  <a:srgbClr val="002060"/>
                </a:solidFill>
                <a:latin typeface="Tw Cen MT"/>
              </a:rPr>
              <a:t>Зимние забавы</a:t>
            </a:r>
            <a:r>
              <a:rPr b="0" i="1" lang="ru-RU" sz="2000" spc="-1" strike="noStrike">
                <a:solidFill>
                  <a:srgbClr val="002060"/>
                </a:solidFill>
                <a:latin typeface="Tw Cen MT"/>
              </a:rPr>
              <a:t>»</a:t>
            </a:r>
            <a:r>
              <a:rPr b="0" lang="ru-RU" sz="2000" spc="-1" strike="noStrike">
                <a:solidFill>
                  <a:srgbClr val="002060"/>
                </a:solidFill>
                <a:latin typeface="Tw Cen MT"/>
              </a:rPr>
              <a:t> и Новогоднего праздника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6080" indent="-226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w Cen MT"/>
              </a:rPr>
              <a:t>3. Знакомить с </a:t>
            </a:r>
            <a:r>
              <a:rPr b="1" lang="ru-RU" sz="2000" spc="-1" strike="noStrike">
                <a:solidFill>
                  <a:srgbClr val="002060"/>
                </a:solidFill>
                <a:latin typeface="Tw Cen MT"/>
              </a:rPr>
              <a:t>зимними видами спорта</a:t>
            </a:r>
            <a:r>
              <a:rPr b="0" lang="ru-RU" sz="2000" spc="-1" strike="noStrike">
                <a:solidFill>
                  <a:srgbClr val="00206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6080" indent="-226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w Cen MT"/>
              </a:rPr>
              <a:t>4. Формировать представления о безопасном поведении зимой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6080" indent="-226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w Cen MT"/>
              </a:rPr>
              <a:t>5. Формировать исследовательский и познавательный интерес в ходе экспериментирования с водой и льдом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6080" indent="-226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w Cen MT"/>
              </a:rPr>
              <a:t>6. Воспитывать бережное отношение к природе, умение замечать красоту </a:t>
            </a:r>
            <a:r>
              <a:rPr b="1" lang="ru-RU" sz="2000" spc="-1" strike="noStrike">
                <a:solidFill>
                  <a:srgbClr val="002060"/>
                </a:solidFill>
                <a:latin typeface="Tw Cen MT"/>
              </a:rPr>
              <a:t>зимней природы</a:t>
            </a:r>
            <a:r>
              <a:rPr b="0" lang="ru-RU" sz="2000" spc="-1" strike="noStrike">
                <a:solidFill>
                  <a:srgbClr val="00206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6080" indent="-226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w Cen MT"/>
              </a:rPr>
              <a:t>7. Расширять представления о сезонных изменениях в природе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6080" indent="-226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Tw Cen MT"/>
              </a:rPr>
              <a:t>(изменения в погоде, растения зимой, поведение зверей и птиц)</a:t>
            </a:r>
            <a:r>
              <a:rPr b="0" lang="ru-RU" sz="2000" spc="-1" strike="noStrike">
                <a:solidFill>
                  <a:srgbClr val="00206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6080" indent="-226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w Cen MT"/>
              </a:rPr>
              <a:t>8.Продолжать воспитывать желание участвовать в трудовой деятельности.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6080" indent="-226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3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w Cen MT"/>
              </a:rPr>
              <a:t>ЗАДАЧИ </a:t>
            </a:r>
            <a:r>
              <a:rPr b="1" lang="ru-RU" sz="3200" spc="-1" strike="noStrike">
                <a:solidFill>
                  <a:srgbClr val="0070c0"/>
                </a:solidFill>
                <a:latin typeface="Tw Cen MT"/>
              </a:rPr>
              <a:t>ПРЕЗЕНТАЦИИ</a:t>
            </a:r>
            <a:r>
              <a:rPr b="0" lang="ru-RU" sz="3200" spc="-1" strike="noStrike">
                <a:solidFill>
                  <a:srgbClr val="0070c0"/>
                </a:solidFill>
                <a:latin typeface="Tw Cen MT"/>
              </a:rPr>
              <a:t>: </a:t>
            </a:r>
            <a:r>
              <a:rPr b="0" i="1" lang="ru-RU" sz="3200" spc="-1" strike="noStrike">
                <a:solidFill>
                  <a:srgbClr val="0070c0"/>
                </a:solidFill>
                <a:latin typeface="Tw Cen MT"/>
              </a:rPr>
              <a:t>«</a:t>
            </a:r>
            <a:r>
              <a:rPr b="1" i="1" lang="ru-RU" sz="3200" spc="-1" strike="noStrike">
                <a:solidFill>
                  <a:srgbClr val="0070c0"/>
                </a:solidFill>
                <a:latin typeface="Tw Cen MT"/>
              </a:rPr>
              <a:t>ЗИМНИЕ ЗАБАВЫ</a:t>
            </a:r>
            <a:r>
              <a:rPr b="0" i="1" lang="ru-RU" sz="3200" spc="-1" strike="noStrike">
                <a:solidFill>
                  <a:srgbClr val="0070c0"/>
                </a:solidFill>
                <a:latin typeface="Tw Cen MT"/>
              </a:rPr>
              <a:t>»</a:t>
            </a:r>
            <a:r>
              <a:rPr b="0" lang="ru-RU" sz="3200" spc="-1" strike="noStrike">
                <a:solidFill>
                  <a:srgbClr val="0070c0"/>
                </a:solidFill>
                <a:latin typeface="Tw Cen MT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141560" y="1184400"/>
            <a:ext cx="990576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w Cen MT"/>
              </a:rPr>
              <a:t>1. Расширять представления о характерных особенностях </a:t>
            </a:r>
            <a:r>
              <a:rPr b="1" lang="ru-RU" sz="1900" spc="-1" strike="noStrike">
                <a:solidFill>
                  <a:srgbClr val="002060"/>
                </a:solidFill>
                <a:latin typeface="Tw Cen MT"/>
              </a:rPr>
              <a:t>зимней природы </a:t>
            </a:r>
            <a:r>
              <a:rPr b="0" i="1" lang="ru-RU" sz="1900" spc="-1" strike="noStrike">
                <a:solidFill>
                  <a:srgbClr val="002060"/>
                </a:solidFill>
                <a:latin typeface="Tw Cen MT"/>
              </a:rPr>
              <a:t>(холодно, идет снег, люди надевают </a:t>
            </a:r>
            <a:r>
              <a:rPr b="1" i="1" lang="ru-RU" sz="1900" spc="-1" strike="noStrike">
                <a:solidFill>
                  <a:srgbClr val="002060"/>
                </a:solidFill>
                <a:latin typeface="Tw Cen MT"/>
              </a:rPr>
              <a:t>зимнюю одежду</a:t>
            </a:r>
            <a:r>
              <a:rPr b="0" i="1" lang="ru-RU" sz="1900" spc="-1" strike="noStrike">
                <a:solidFill>
                  <a:srgbClr val="002060"/>
                </a:solidFill>
                <a:latin typeface="Tw Cen MT"/>
              </a:rPr>
              <a:t>)</a:t>
            </a:r>
            <a:r>
              <a:rPr b="0" lang="ru-RU" sz="1900" spc="-1" strike="noStrike">
                <a:solidFill>
                  <a:srgbClr val="002060"/>
                </a:solidFill>
                <a:latin typeface="Tw Cen MT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w Cen MT"/>
              </a:rPr>
              <a:t>2. Организовать наблюдения за птицами, прилетающими на участок, подкармливать их. Учить наблюдать за птицами, не беспокоя их и не причиняя им вреда.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w Cen MT"/>
              </a:rPr>
              <a:t>3. Учить замечать красоту </a:t>
            </a:r>
            <a:r>
              <a:rPr b="1" lang="ru-RU" sz="1900" spc="-1" strike="noStrike">
                <a:solidFill>
                  <a:srgbClr val="002060"/>
                </a:solidFill>
                <a:latin typeface="Tw Cen MT"/>
              </a:rPr>
              <a:t>зимней природы</a:t>
            </a:r>
            <a:r>
              <a:rPr b="0" lang="ru-RU" sz="1900" spc="-1" strike="noStrike">
                <a:solidFill>
                  <a:srgbClr val="002060"/>
                </a:solidFill>
                <a:latin typeface="Tw Cen MT"/>
              </a:rPr>
              <a:t>: деревья в снежном уборе, пушистый снег, прозрачные льдинки и т. д. и предлагать детям передавать это в рисунках.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w Cen MT"/>
              </a:rPr>
              <a:t>4. Побуждать детей участвовать в катании с горки на санках, лепке поделок из снега, украшении снежных построек.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w Cen MT"/>
              </a:rPr>
              <a:t>5. Воспитывать бережное отношение к своему здоровью, здоровью других детей </a:t>
            </a:r>
            <a:r>
              <a:rPr b="0" i="1" lang="ru-RU" sz="1900" spc="-1" strike="noStrike">
                <a:solidFill>
                  <a:srgbClr val="002060"/>
                </a:solidFill>
                <a:latin typeface="Tw Cen MT"/>
              </a:rPr>
              <a:t>(рассказать, как опасно есть снег, и сосать сосульки)</a:t>
            </a:r>
            <a:r>
              <a:rPr b="0" lang="ru-RU" sz="1900" spc="-1" strike="noStrike">
                <a:solidFill>
                  <a:srgbClr val="002060"/>
                </a:solidFill>
                <a:latin typeface="Tw Cen MT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w Cen MT"/>
              </a:rPr>
              <a:t>6. Организовывать подвижные игры с правилами на </a:t>
            </a:r>
            <a:r>
              <a:rPr b="1" lang="ru-RU" sz="1900" spc="-1" strike="noStrike">
                <a:solidFill>
                  <a:srgbClr val="002060"/>
                </a:solidFill>
                <a:latin typeface="Tw Cen MT"/>
              </a:rPr>
              <a:t>зимнюю тему</a:t>
            </a:r>
            <a:r>
              <a:rPr b="0" lang="ru-RU" sz="1900" spc="-1" strike="noStrike">
                <a:solidFill>
                  <a:srgbClr val="002060"/>
                </a:solidFill>
                <a:latin typeface="Tw Cen MT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w Cen MT"/>
              </a:rPr>
              <a:t>7. Развивать желание детей петь Новогодние песенки, читать стихи, выполнять танцевальные движения.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Объект 3" descr=""/>
          <p:cNvPicPr/>
          <p:nvPr/>
        </p:nvPicPr>
        <p:blipFill>
          <a:blip r:embed="rId1"/>
          <a:stretch/>
        </p:blipFill>
        <p:spPr>
          <a:xfrm>
            <a:off x="1957320" y="465120"/>
            <a:ext cx="735336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Объект 3" descr=""/>
          <p:cNvPicPr/>
          <p:nvPr/>
        </p:nvPicPr>
        <p:blipFill>
          <a:blip r:embed="rId1"/>
          <a:stretch/>
        </p:blipFill>
        <p:spPr>
          <a:xfrm>
            <a:off x="1378080" y="190440"/>
            <a:ext cx="849924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1" descr=""/>
          <p:cNvPicPr/>
          <p:nvPr/>
        </p:nvPicPr>
        <p:blipFill>
          <a:blip r:embed="rId1"/>
          <a:stretch/>
        </p:blipFill>
        <p:spPr>
          <a:xfrm>
            <a:off x="1523880" y="385920"/>
            <a:ext cx="9144000" cy="60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1" descr=""/>
          <p:cNvPicPr/>
          <p:nvPr/>
        </p:nvPicPr>
        <p:blipFill>
          <a:blip r:embed="rId1"/>
          <a:stretch/>
        </p:blipFill>
        <p:spPr>
          <a:xfrm>
            <a:off x="1523880" y="809640"/>
            <a:ext cx="9144000" cy="58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1" descr=""/>
          <p:cNvPicPr/>
          <p:nvPr/>
        </p:nvPicPr>
        <p:blipFill>
          <a:blip r:embed="rId1"/>
          <a:stretch/>
        </p:blipFill>
        <p:spPr>
          <a:xfrm>
            <a:off x="1549440" y="282600"/>
            <a:ext cx="91440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1" descr=""/>
          <p:cNvPicPr/>
          <p:nvPr/>
        </p:nvPicPr>
        <p:blipFill>
          <a:blip r:embed="rId1"/>
          <a:stretch/>
        </p:blipFill>
        <p:spPr>
          <a:xfrm>
            <a:off x="1522440" y="95256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1560" y="218880"/>
            <a:ext cx="99057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Tw Cen MT"/>
              </a:rPr>
              <a:t>ПО СНЕЖКУ НА САНКАХ ДЕТИ</a:t>
            </a:r>
            <a:r>
              <a:rPr b="0" lang="ru-RU" sz="2000" spc="-1" strike="noStrike">
                <a:solidFill>
                  <a:srgbClr val="002060"/>
                </a:solidFill>
                <a:latin typeface="Tw Cen MT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Tw Cen MT"/>
              </a:rPr>
              <a:t>МЧАТСЯ С ГОРКИ, СЛОВНО ВЕТЕР.</a:t>
            </a:r>
            <a:r>
              <a:rPr b="0" lang="ru-RU" sz="2000" spc="-1" strike="noStrike">
                <a:solidFill>
                  <a:srgbClr val="002060"/>
                </a:solidFill>
                <a:latin typeface="Tw Cen MT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Tw Cen MT"/>
              </a:rPr>
              <a:t>КТО БОИТСЯ В СНЕГ СВАЛИТЬСЯ —</a:t>
            </a:r>
            <a:r>
              <a:rPr b="0" lang="ru-RU" sz="2000" spc="-1" strike="noStrike">
                <a:solidFill>
                  <a:srgbClr val="002060"/>
                </a:solidFill>
                <a:latin typeface="Tw Cen MT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Tw Cen MT"/>
              </a:rPr>
              <a:t>ПУСТЬ НА САНКИ НЕ САДИТСЯ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6T15:47:47Z</dcterms:created>
  <dc:creator>СтартМастер</dc:creator>
  <dc:description/>
  <dc:language>en-US</dc:language>
  <cp:lastModifiedBy>Admin</cp:lastModifiedBy>
  <dcterms:modified xsi:type="dcterms:W3CDTF">2023-02-06T19:38:02Z</dcterms:modified>
  <cp:revision>10</cp:revision>
  <dc:subject/>
  <dc:title>Презентация во 2 младшей группе «Ягодки» Тема : Зимние забавы</dc:title>
</cp:coreProperties>
</file>