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A363-84D5-416A-B633-EA2594BF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9BE4-32BF-4C05-B139-3E74087F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48B5-9958-40CC-92ED-2853A150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A513-F391-404A-9FE8-1BA9DCC0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3038-89F9-40BD-A1DA-2C050E22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3BA3-EC3B-47BC-883D-F3F981AA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4FC9-5C41-4B19-BD13-60851576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3E53-B78B-41F0-ABF9-EF7760A9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BA19-845A-436B-BF36-EC9F4BCD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A0E1-E521-4595-938C-B75A41EC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0B92-CF28-4B77-A653-5B21E2AD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DB62-1A9D-417D-819A-62177BDD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CE03-8A70-4BEF-B453-3B82F1E2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CC31-BB07-4785-8C8F-6BF5AC79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3148-5552-4213-BFF3-D8BBC0F8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394E-2A05-4B25-91CA-1A59F25E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3111-1274-41B3-9DBD-EE500746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A9CDD-214D-42C5-818C-CF0B4F51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E683E-94F4-4E68-9803-E76C0DAB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71C35-E188-4EF9-82ED-5BFFDFD4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B4B80-11D9-46A1-8E27-6001D45A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2CDD5-14B1-4C8E-A0F5-983BA6D1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B840-8F98-48DD-8C81-C5CA91FD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2B86F-8BAB-44AA-A00D-D578C78D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4674D-3496-4135-859D-B9C18349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9A8CA-AEF3-4FF8-823C-C2BE1192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77BA9-696A-4344-A325-9896757F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7CEF0-1756-41FB-95D7-D46FDD86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8DEFF-8C4C-4AC1-8434-E3D04FC3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9064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839720" y="224964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14156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49064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7839720" y="4099680"/>
            <a:ext cx="31892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76881-49D1-43BB-9963-4A586375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3BED-FA64-40C3-A206-6CD2CF5F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BC83-FBE0-406E-8813-21816DAE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1560" y="618840"/>
            <a:ext cx="990576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97C8-0B61-4651-9C37-B372E68F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9579-A970-4530-9F7B-494620C0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17200" y="409968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2D0E-D50C-4DCE-83DD-46256BBA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156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17200" y="2249640"/>
            <a:ext cx="48337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1560" y="4099680"/>
            <a:ext cx="990576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DB39-E9F0-466E-8B54-10BC3A7C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"/>
          <p:cNvGrpSpPr/>
          <p:nvPr/>
        </p:nvGrpSpPr>
        <p:grpSpPr>
          <a:xfrm>
            <a:off x="-14400" y="0"/>
            <a:ext cx="12053880" cy="6858000"/>
            <a:chOff x="-14400" y="0"/>
            <a:chExt cx="12053880" cy="6858000"/>
          </a:xfrm>
        </p:grpSpPr>
        <p:pic>
          <p:nvPicPr>
            <p:cNvPr id="2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Group 9" descr=""/>
            <p:cNvPicPr/>
            <p:nvPr/>
          </p:nvPicPr>
          <p:blipFill>
            <a:blip r:embed="rId5"/>
            <a:stretch/>
          </p:blipFill>
          <p:spPr>
            <a:xfrm>
              <a:off x="113688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45632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141560" y="5882760"/>
            <a:ext cx="623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0275480" y="588276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BF0306-C251-4403-BAA1-D32EFC04FA05}" type="slidenum">
              <a:rPr b="0" lang="en-US" sz="10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Group 10" descr=""/>
          <p:cNvPicPr/>
          <p:nvPr/>
        </p:nvPicPr>
        <p:blipFill>
          <a:blip r:embed="rId4"/>
          <a:stretch/>
        </p:blipFill>
        <p:spPr>
          <a:xfrm>
            <a:off x="0" y="0"/>
            <a:ext cx="22986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077240" y="540972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875960" y="5409720"/>
            <a:ext cx="51246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896040" y="540972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88A79F-075D-4A21-A69B-832441AB1E8E}" type="slidenum">
              <a:rPr b="0" lang="en-US" sz="10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-14400" y="0"/>
            <a:ext cx="12053880" cy="6858000"/>
            <a:chOff x="-14400" y="0"/>
            <a:chExt cx="12053880" cy="6858000"/>
          </a:xfrm>
        </p:grpSpPr>
        <p:pic>
          <p:nvPicPr>
            <p:cNvPr id="90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Group 9" descr=""/>
            <p:cNvPicPr/>
            <p:nvPr/>
          </p:nvPicPr>
          <p:blipFill>
            <a:blip r:embed="rId5"/>
            <a:stretch/>
          </p:blipFill>
          <p:spPr>
            <a:xfrm>
              <a:off x="113688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TextBox 47"/>
          <p:cNvSpPr/>
          <p:nvPr/>
        </p:nvSpPr>
        <p:spPr>
          <a:xfrm>
            <a:off x="903240" y="73188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  <a:ea typeface="Trebuchet MS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3" name="TextBox 48"/>
          <p:cNvSpPr/>
          <p:nvPr/>
        </p:nvSpPr>
        <p:spPr>
          <a:xfrm>
            <a:off x="10537920" y="27655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  <a:ea typeface="Trebuchet MS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141560" y="2249640"/>
            <a:ext cx="99057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745632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1141560" y="5882760"/>
            <a:ext cx="623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10275480" y="5882760"/>
            <a:ext cx="771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8BA650-1165-4467-8D62-52A844A5B398}" type="slidenum">
              <a:rPr b="0" lang="en-US" sz="10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1560" y="1208160"/>
            <a:ext cx="9905760" cy="19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w Cen MT"/>
              </a:rPr>
              <a:t>ПРЕЗЕНТАЦИЯ ДЛЯ РАБОТЫ С ДЕТЬМИ МЛАДШЕГО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w Cen MT"/>
              </a:rPr>
              <a:t>ДОШКОЛЬНОГО ВОЗРАСТА</a:t>
            </a:r>
            <a:br>
              <a:rPr sz="5400"/>
            </a:br>
            <a:r>
              <a:rPr b="0" lang="ru-RU" sz="5400" spc="-1" strike="noStrike">
                <a:solidFill>
                  <a:srgbClr val="002060"/>
                </a:solidFill>
                <a:latin typeface="Tw Cen MT"/>
              </a:rPr>
              <a:t>«ЗИМНИЕ ЗАБАВЫ»</a:t>
            </a:r>
            <a:endParaRPr b="0" lang="en-US" sz="5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424200" y="2333160"/>
            <a:ext cx="538020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w Cen MT"/>
              </a:rPr>
              <a:t>Подготовила: Пронина Л.Ю.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w Cen MT"/>
              </a:rPr>
              <a:t>Воспитатель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w Cen MT"/>
              </a:rPr>
              <a:t>МБДОУ д/с «Богатырь» пгт.Зуя Белогорского района Республики Крым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1" descr=""/>
          <p:cNvPicPr/>
          <p:nvPr/>
        </p:nvPicPr>
        <p:blipFill>
          <a:blip r:embed="rId1"/>
          <a:stretch/>
        </p:blipFill>
        <p:spPr>
          <a:xfrm>
            <a:off x="203184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203184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1" descr=""/>
          <p:cNvPicPr/>
          <p:nvPr/>
        </p:nvPicPr>
        <p:blipFill>
          <a:blip r:embed="rId1"/>
          <a:stretch/>
        </p:blipFill>
        <p:spPr>
          <a:xfrm>
            <a:off x="203184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1" descr=""/>
          <p:cNvPicPr/>
          <p:nvPr/>
        </p:nvPicPr>
        <p:blipFill>
          <a:blip r:embed="rId1"/>
          <a:stretch/>
        </p:blipFill>
        <p:spPr>
          <a:xfrm>
            <a:off x="2031840" y="380880"/>
            <a:ext cx="8128080" cy="60962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2" descr=""/>
          <p:cNvPicPr/>
          <p:nvPr/>
        </p:nvPicPr>
        <p:blipFill>
          <a:blip r:embed="rId2"/>
          <a:stretch/>
        </p:blipFill>
        <p:spPr>
          <a:xfrm>
            <a:off x="203184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1" descr=""/>
          <p:cNvPicPr/>
          <p:nvPr/>
        </p:nvPicPr>
        <p:blipFill>
          <a:blip r:embed="rId1"/>
          <a:stretch/>
        </p:blipFill>
        <p:spPr>
          <a:xfrm>
            <a:off x="203184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1" descr=""/>
          <p:cNvPicPr/>
          <p:nvPr/>
        </p:nvPicPr>
        <p:blipFill>
          <a:blip r:embed="rId1"/>
          <a:stretch/>
        </p:blipFill>
        <p:spPr>
          <a:xfrm>
            <a:off x="1981080" y="36828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1560" y="733320"/>
            <a:ext cx="9905760" cy="1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w Cen MT"/>
              </a:rPr>
              <a:t>ЦЕЛЬ ПРЕЗЕНТАЦИИ: «</a:t>
            </a:r>
            <a:r>
              <a:rPr b="0" i="1" lang="ru-RU" sz="3200" spc="-1" strike="noStrike">
                <a:solidFill>
                  <a:srgbClr val="0070c0"/>
                </a:solidFill>
                <a:latin typeface="Tw Cen MT"/>
              </a:rPr>
              <a:t>ЗИМНИЕ</a:t>
            </a:r>
            <a:r>
              <a:rPr b="1" i="1" lang="ru-RU" sz="3200" spc="-1" strike="noStrike">
                <a:solidFill>
                  <a:srgbClr val="0070c0"/>
                </a:solidFill>
                <a:latin typeface="Tw Cen MT"/>
              </a:rPr>
              <a:t> ЗАБАВЫ»</a:t>
            </a:r>
            <a:r>
              <a:rPr b="0" lang="ru-RU" sz="3200" spc="-1" strike="noStrike">
                <a:solidFill>
                  <a:srgbClr val="0070c0"/>
                </a:solidFill>
                <a:latin typeface="Tw Cen MT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37880" y="863640"/>
            <a:ext cx="990612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w Cen MT"/>
              </a:rPr>
              <a:t>1. Расширять представления о зиме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6080" indent="-226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w Cen MT"/>
              </a:rPr>
              <a:t>2. Организовать все виды детской деятельности (игровой, коммуникативной, трудовой, познавательно-исследовательской, продуктивной, музыкально-художественной, чтения) вокруг темы </a:t>
            </a:r>
            <a:r>
              <a:rPr b="0" i="1" lang="ru-RU" sz="2000" spc="-1" strike="noStrike">
                <a:solidFill>
                  <a:srgbClr val="002060"/>
                </a:solidFill>
                <a:latin typeface="Tw Cen MT"/>
              </a:rPr>
              <a:t>«</a:t>
            </a:r>
            <a:r>
              <a:rPr b="1" i="1" lang="ru-RU" sz="2000" spc="-1" strike="noStrike">
                <a:solidFill>
                  <a:srgbClr val="002060"/>
                </a:solidFill>
                <a:latin typeface="Tw Cen MT"/>
              </a:rPr>
              <a:t>Зимние забавы</a:t>
            </a:r>
            <a:r>
              <a:rPr b="0" i="1" lang="ru-RU" sz="2000" spc="-1" strike="noStrike">
                <a:solidFill>
                  <a:srgbClr val="002060"/>
                </a:solidFill>
                <a:latin typeface="Tw Cen MT"/>
              </a:rPr>
              <a:t>»</a:t>
            </a:r>
            <a:r>
              <a:rPr b="0" lang="ru-RU" sz="2000" spc="-1" strike="noStrike">
                <a:solidFill>
                  <a:srgbClr val="002060"/>
                </a:solidFill>
                <a:latin typeface="Tw Cen MT"/>
              </a:rPr>
              <a:t> и Новогоднего праздника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6080" indent="-226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w Cen MT"/>
              </a:rPr>
              <a:t>3. Знакомить с </a:t>
            </a:r>
            <a:r>
              <a:rPr b="1" lang="ru-RU" sz="2000" spc="-1" strike="noStrike">
                <a:solidFill>
                  <a:srgbClr val="002060"/>
                </a:solidFill>
                <a:latin typeface="Tw Cen MT"/>
              </a:rPr>
              <a:t>зимними видами спорта</a:t>
            </a:r>
            <a:r>
              <a:rPr b="0" lang="ru-RU" sz="2000" spc="-1" strike="noStrike">
                <a:solidFill>
                  <a:srgbClr val="00206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6080" indent="-226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w Cen MT"/>
              </a:rPr>
              <a:t>4. Формировать представления о безопасном поведении зимой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6080" indent="-226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w Cen MT"/>
              </a:rPr>
              <a:t>5. Формировать исследовательский и познавательный интерес в ходе экспериментирования с водой и льдом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6080" indent="-226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w Cen MT"/>
              </a:rPr>
              <a:t>6. Воспитывать бережное отношение к природе, умение замечать красоту </a:t>
            </a:r>
            <a:r>
              <a:rPr b="1" lang="ru-RU" sz="2000" spc="-1" strike="noStrike">
                <a:solidFill>
                  <a:srgbClr val="002060"/>
                </a:solidFill>
                <a:latin typeface="Tw Cen MT"/>
              </a:rPr>
              <a:t>зимней природы</a:t>
            </a:r>
            <a:r>
              <a:rPr b="0" lang="ru-RU" sz="2000" spc="-1" strike="noStrike">
                <a:solidFill>
                  <a:srgbClr val="00206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6080" indent="-226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w Cen MT"/>
              </a:rPr>
              <a:t>7. Расширять представления о сезонных изменениях в природе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6080" indent="-226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Tw Cen MT"/>
              </a:rPr>
              <a:t>(изменения в погоде, растения зимой, поведение зверей и птиц)</a:t>
            </a:r>
            <a:r>
              <a:rPr b="0" lang="ru-RU" sz="2000" spc="-1" strike="noStrike">
                <a:solidFill>
                  <a:srgbClr val="002060"/>
                </a:solidFill>
                <a:latin typeface="Tw Cen MT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6080" indent="-226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w Cen MT"/>
              </a:rPr>
              <a:t>8.Продолжать воспитывать желание участвовать в трудовой деятельности.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6080" indent="-226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1560" y="618840"/>
            <a:ext cx="9905760" cy="3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w Cen MT"/>
              </a:rPr>
              <a:t>ЗАДАЧИ </a:t>
            </a:r>
            <a:r>
              <a:rPr b="1" lang="ru-RU" sz="3200" spc="-1" strike="noStrike">
                <a:solidFill>
                  <a:srgbClr val="0070c0"/>
                </a:solidFill>
                <a:latin typeface="Tw Cen MT"/>
              </a:rPr>
              <a:t>ПРЕЗЕНТАЦИИ</a:t>
            </a:r>
            <a:r>
              <a:rPr b="0" lang="ru-RU" sz="3200" spc="-1" strike="noStrike">
                <a:solidFill>
                  <a:srgbClr val="0070c0"/>
                </a:solidFill>
                <a:latin typeface="Tw Cen MT"/>
              </a:rPr>
              <a:t>: </a:t>
            </a:r>
            <a:r>
              <a:rPr b="0" i="1" lang="ru-RU" sz="3200" spc="-1" strike="noStrike">
                <a:solidFill>
                  <a:srgbClr val="0070c0"/>
                </a:solidFill>
                <a:latin typeface="Tw Cen MT"/>
              </a:rPr>
              <a:t>«</a:t>
            </a:r>
            <a:r>
              <a:rPr b="1" i="1" lang="ru-RU" sz="3200" spc="-1" strike="noStrike">
                <a:solidFill>
                  <a:srgbClr val="0070c0"/>
                </a:solidFill>
                <a:latin typeface="Tw Cen MT"/>
              </a:rPr>
              <a:t>ЗИМНИЕ ЗАБАВЫ</a:t>
            </a:r>
            <a:r>
              <a:rPr b="0" i="1" lang="ru-RU" sz="3200" spc="-1" strike="noStrike">
                <a:solidFill>
                  <a:srgbClr val="0070c0"/>
                </a:solidFill>
                <a:latin typeface="Tw Cen MT"/>
              </a:rPr>
              <a:t>»</a:t>
            </a:r>
            <a:r>
              <a:rPr b="0" lang="ru-RU" sz="3200" spc="-1" strike="noStrike">
                <a:solidFill>
                  <a:srgbClr val="0070c0"/>
                </a:solidFill>
                <a:latin typeface="Tw Cen MT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141560" y="1184400"/>
            <a:ext cx="990576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w Cen MT"/>
              </a:rPr>
              <a:t>1. Расширять представления о характерных особенностях </a:t>
            </a:r>
            <a:r>
              <a:rPr b="1" lang="ru-RU" sz="1900" spc="-1" strike="noStrike">
                <a:solidFill>
                  <a:srgbClr val="002060"/>
                </a:solidFill>
                <a:latin typeface="Tw Cen MT"/>
              </a:rPr>
              <a:t>зимней природы </a:t>
            </a:r>
            <a:r>
              <a:rPr b="0" i="1" lang="ru-RU" sz="1900" spc="-1" strike="noStrike">
                <a:solidFill>
                  <a:srgbClr val="002060"/>
                </a:solidFill>
                <a:latin typeface="Tw Cen MT"/>
              </a:rPr>
              <a:t>(холодно, идет снег, люди надевают </a:t>
            </a:r>
            <a:r>
              <a:rPr b="1" i="1" lang="ru-RU" sz="1900" spc="-1" strike="noStrike">
                <a:solidFill>
                  <a:srgbClr val="002060"/>
                </a:solidFill>
                <a:latin typeface="Tw Cen MT"/>
              </a:rPr>
              <a:t>зимнюю одежду</a:t>
            </a:r>
            <a:r>
              <a:rPr b="0" i="1" lang="ru-RU" sz="1900" spc="-1" strike="noStrike">
                <a:solidFill>
                  <a:srgbClr val="002060"/>
                </a:solidFill>
                <a:latin typeface="Tw Cen MT"/>
              </a:rPr>
              <a:t>)</a:t>
            </a:r>
            <a:r>
              <a:rPr b="0" lang="ru-RU" sz="1900" spc="-1" strike="noStrike">
                <a:solidFill>
                  <a:srgbClr val="002060"/>
                </a:solidFill>
                <a:latin typeface="Tw Cen MT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w Cen MT"/>
              </a:rPr>
              <a:t>2. Организовать наблюдения за птицами, прилетающими на участок, подкармливать их. Учить наблюдать за птицами, не беспокоя их и не причиняя им вреда.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w Cen MT"/>
              </a:rPr>
              <a:t>3. Учить замечать красоту </a:t>
            </a:r>
            <a:r>
              <a:rPr b="1" lang="ru-RU" sz="1900" spc="-1" strike="noStrike">
                <a:solidFill>
                  <a:srgbClr val="002060"/>
                </a:solidFill>
                <a:latin typeface="Tw Cen MT"/>
              </a:rPr>
              <a:t>зимней природы</a:t>
            </a:r>
            <a:r>
              <a:rPr b="0" lang="ru-RU" sz="1900" spc="-1" strike="noStrike">
                <a:solidFill>
                  <a:srgbClr val="002060"/>
                </a:solidFill>
                <a:latin typeface="Tw Cen MT"/>
              </a:rPr>
              <a:t>: деревья в снежном уборе, пушистый снег, прозрачные льдинки и т. д. и предлагать детям передавать это в рисунках.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w Cen MT"/>
              </a:rPr>
              <a:t>4. Побуждать детей участвовать в катании с горки на санках, лепке поделок из снега, украшении снежных построек.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w Cen MT"/>
              </a:rPr>
              <a:t>5. Воспитывать бережное отношение к своему здоровью, здоровью других детей </a:t>
            </a:r>
            <a:r>
              <a:rPr b="0" i="1" lang="ru-RU" sz="1900" spc="-1" strike="noStrike">
                <a:solidFill>
                  <a:srgbClr val="002060"/>
                </a:solidFill>
                <a:latin typeface="Tw Cen MT"/>
              </a:rPr>
              <a:t>(рассказать, как опасно есть снег, и сосать сосульки)</a:t>
            </a:r>
            <a:r>
              <a:rPr b="0" lang="ru-RU" sz="1900" spc="-1" strike="noStrike">
                <a:solidFill>
                  <a:srgbClr val="002060"/>
                </a:solidFill>
                <a:latin typeface="Tw Cen MT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w Cen MT"/>
              </a:rPr>
              <a:t>6. Организовывать подвижные игры с правилами на </a:t>
            </a:r>
            <a:r>
              <a:rPr b="1" lang="ru-RU" sz="1900" spc="-1" strike="noStrike">
                <a:solidFill>
                  <a:srgbClr val="002060"/>
                </a:solidFill>
                <a:latin typeface="Tw Cen MT"/>
              </a:rPr>
              <a:t>зимнюю тему</a:t>
            </a:r>
            <a:r>
              <a:rPr b="0" lang="ru-RU" sz="1900" spc="-1" strike="noStrike">
                <a:solidFill>
                  <a:srgbClr val="002060"/>
                </a:solidFill>
                <a:latin typeface="Tw Cen MT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Tw Cen MT"/>
              </a:rPr>
              <a:t>7. Развивать желание детей петь Новогодние песенки, читать стихи, выполнять танцевальные движения.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Объект 3" descr=""/>
          <p:cNvPicPr/>
          <p:nvPr/>
        </p:nvPicPr>
        <p:blipFill>
          <a:blip r:embed="rId1"/>
          <a:stretch/>
        </p:blipFill>
        <p:spPr>
          <a:xfrm>
            <a:off x="1957320" y="465120"/>
            <a:ext cx="735336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Объект 3" descr=""/>
          <p:cNvPicPr/>
          <p:nvPr/>
        </p:nvPicPr>
        <p:blipFill>
          <a:blip r:embed="rId1"/>
          <a:stretch/>
        </p:blipFill>
        <p:spPr>
          <a:xfrm>
            <a:off x="1378080" y="190440"/>
            <a:ext cx="849924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1" descr=""/>
          <p:cNvPicPr/>
          <p:nvPr/>
        </p:nvPicPr>
        <p:blipFill>
          <a:blip r:embed="rId1"/>
          <a:stretch/>
        </p:blipFill>
        <p:spPr>
          <a:xfrm>
            <a:off x="1523880" y="385920"/>
            <a:ext cx="9144000" cy="60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1" descr=""/>
          <p:cNvPicPr/>
          <p:nvPr/>
        </p:nvPicPr>
        <p:blipFill>
          <a:blip r:embed="rId1"/>
          <a:stretch/>
        </p:blipFill>
        <p:spPr>
          <a:xfrm>
            <a:off x="1523880" y="809640"/>
            <a:ext cx="9144000" cy="58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1" descr=""/>
          <p:cNvPicPr/>
          <p:nvPr/>
        </p:nvPicPr>
        <p:blipFill>
          <a:blip r:embed="rId1"/>
          <a:stretch/>
        </p:blipFill>
        <p:spPr>
          <a:xfrm>
            <a:off x="1549440" y="282600"/>
            <a:ext cx="91440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1" descr=""/>
          <p:cNvPicPr/>
          <p:nvPr/>
        </p:nvPicPr>
        <p:blipFill>
          <a:blip r:embed="rId1"/>
          <a:stretch/>
        </p:blipFill>
        <p:spPr>
          <a:xfrm>
            <a:off x="1522440" y="95256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1560" y="218880"/>
            <a:ext cx="99057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Tw Cen MT"/>
              </a:rPr>
              <a:t>ПО СНЕЖКУ НА САНКАХ ДЕТИ</a:t>
            </a:r>
            <a:r>
              <a:rPr b="0" lang="ru-RU" sz="2000" spc="-1" strike="noStrike">
                <a:solidFill>
                  <a:srgbClr val="002060"/>
                </a:solidFill>
                <a:latin typeface="Tw Cen MT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Tw Cen MT"/>
              </a:rPr>
              <a:t>МЧАТСЯ С ГОРКИ, СЛОВНО ВЕТЕР.</a:t>
            </a:r>
            <a:r>
              <a:rPr b="0" lang="ru-RU" sz="2000" spc="-1" strike="noStrike">
                <a:solidFill>
                  <a:srgbClr val="002060"/>
                </a:solidFill>
                <a:latin typeface="Tw Cen MT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Tw Cen MT"/>
              </a:rPr>
              <a:t>КТО БОИТСЯ В СНЕГ СВАЛИТЬСЯ —</a:t>
            </a:r>
            <a:r>
              <a:rPr b="0" lang="ru-RU" sz="2000" spc="-1" strike="noStrike">
                <a:solidFill>
                  <a:srgbClr val="002060"/>
                </a:solidFill>
                <a:latin typeface="Tw Cen MT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Tw Cen MT"/>
              </a:rPr>
              <a:t>ПУСТЬ НА САНКИ НЕ САДИТСЯ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6T15:47:47Z</dcterms:created>
  <dc:creator>СтартМастер</dc:creator>
  <dc:description/>
  <dc:language>en-US</dc:language>
  <cp:lastModifiedBy>Admin</cp:lastModifiedBy>
  <dcterms:modified xsi:type="dcterms:W3CDTF">2023-02-06T19:38:02Z</dcterms:modified>
  <cp:revision>10</cp:revision>
  <dc:subject/>
  <dc:title>Презентация во 2 младшей группе «Ягодки» Тема : Зимние забавы</dc:title>
</cp:coreProperties>
</file>