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6.gif" ContentType="image/gif"/>
  <Override PartName="/ppt/media/image4.png" ContentType="image/png"/>
  <Override PartName="/ppt/media/image24.gif" ContentType="image/gif"/>
  <Override PartName="/ppt/media/image3.jpeg" ContentType="image/jpeg"/>
  <Override PartName="/ppt/media/image23.png" ContentType="image/png"/>
  <Override PartName="/ppt/media/image20.gif" ContentType="image/gif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gif" ContentType="image/gif"/>
  <Override PartName="/ppt/media/image18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22.gif" ContentType="image/gif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DEB-B065-44D7-BCBD-8F8BA3FA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2A8-1E47-4E2A-B194-2439DF31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B36-17C2-4B36-92AF-EA3F41AA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6BB-84C6-4CA4-9703-5567D230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0D04-9076-41B9-9893-48797C63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FDC9-45DB-4650-A53D-F408D8C0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A66C-9311-4831-916F-C758B5B8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CD3B-65D0-4BE6-8C1D-1B38DDCA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3459-64DD-4BC5-84F3-DD02A05D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9BE8-C722-4BC2-887C-7BDEB1E6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89E3-4136-4578-B43F-94E8DA3D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F4A-DFDA-4538-AFC1-3845E00C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0E35-50AF-4E7C-9FED-28E29028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06ED-CE73-4D83-98C3-BD59BE92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2D76-7561-4A24-B237-366ECDDD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0D24-3B07-4764-9DAE-B92BECB7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F19E-36A2-414E-8D3F-2DBCCA8B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FE70-56BE-480D-9132-3AD7A646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B5D-79FD-4520-9AAE-21F05E2F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B49B-528C-435C-8630-45F806FE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FBC-DF8C-4E6F-A655-FB0754FB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6A4-DE1F-4451-B45A-B754B5C5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96E-6FCD-48BB-BF25-E2D43ADD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780-5025-4F88-99F4-48927DF8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35A8-A312-4D7D-9FAD-676A95C3A1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9B83-B01E-4164-AC55-92B26BB0095D}" type="slidenum">
              <a:rPr b="0" lang="ru-RU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file:///&#1054;&#1073;%20&#1072;&#1074;&#1090;&#1086;&#1088;&#1077;.ppt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9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13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4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hyperlink" Target="file:///&#1042;&#1086;&#1083;&#1077;&#1081;&#1073;&#1086;&#1083;.ppt#19. &#1058;&#1077;&#1093;&#1085;&#1080;&#1082;&#1072; &#1074;&#1099;&#1087;&#1086;&#1083;&#1085;&#1077;&#1085;&#1080;&#1103; &#1085;&#1080;&#1078;&#1085;&#1077;&#1081; &#1087;&#1088;&#1103;&#1084;&#1086;&#1081; &#1087;&#1086;&#1076;&#1072;&#1095;&#1080;" TargetMode="External"/><Relationship Id="rId3" Type="http://schemas.openxmlformats.org/officeDocument/2006/relationships/hyperlink" Target="file:///&#1042;&#1086;&#1083;&#1077;&#1081;&#1073;&#1086;&#1083;.ppt#20. &#1058;&#1077;&#1093;&#1085;&#1080;&#1082;&#1072; &#1074;&#1099;&#1087;&#1086;&#1083;&#1085;&#1077;&#1085;&#1080;&#1103; &#1074;&#1077;&#1088;&#1093;&#1085;&#1077;&#1081; &#1087;&#1088;&#1103;&#1084;&#1086;&#1081; &#1087;&#1086;&#1076;&#1072;&#1095;&#1080;" TargetMode="External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slide" Target="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slide" Target="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7.png"/><Relationship Id="rId3" Type="http://schemas.openxmlformats.org/officeDocument/2006/relationships/hyperlink" Target="file:///&#1042;&#1086;&#1083;&#1077;&#1081;&#1073;&#1086;&#1083;.ppt#22. &#1058;&#1077;&#1093;&#1085;&#1080;&#1082;&#1072; &#1074;&#1099;&#1087;&#1086;&#1083;&#1085;&#1077;&#1085;&#1080;&#1103; &#1087;&#1088;&#1080;&#1077;&#1084;&#1072; &#1084;&#1103;&#1095;&#1072; &#1076;&#1074;&#1091;&#1084;&#1103; &#1088;&#1091;&#1082;&#1072;&#1084;&#1080; &#1089;&#1074;&#1077;&#1088;&#1093;&#1091;" TargetMode="External"/><Relationship Id="rId4" Type="http://schemas.openxmlformats.org/officeDocument/2006/relationships/hyperlink" Target="file:///&#1042;&#1086;&#1083;&#1077;&#1081;&#1073;&#1086;&#1083;.ppt#23. &#1058;&#1077;&#1093;&#1085;&#1080;&#1082;&#1072; &#1074;&#1099;&#1087;&#1086;&#1083;&#1085;&#1077;&#1085;&#1080;&#1103; &#1087;&#1088;&#1080;&#1077;&#1084;&#1072; &#1084;&#1103;&#1095;&#1072; &#1089;&#1085;&#1080;&#1079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8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4. &#1056;&#1072;&#1079;&#1084;&#1077;&#1088;&#1099; &#1080; &#1083;&#1080;&#1085;&#1080;&#1080; &#1087;&#1083;&#1086;&#1097;&#1072;&#1076;&#1082;&#1080;" TargetMode="External"/><Relationship Id="rId2" Type="http://schemas.openxmlformats.org/officeDocument/2006/relationships/hyperlink" Target="file:///&#1042;&#1086;&#1083;&#1077;&#1081;&#1073;&#1086;&#1083;.ppt#5. &#1042;&#1086;&#1083;&#1077;&#1081;&#1073;&#1086;&#1083;&#1100;&#1085;&#1099;&#1081; &#1084;&#1103;&#1095;" TargetMode="External"/><Relationship Id="rId3" Type="http://schemas.openxmlformats.org/officeDocument/2006/relationships/hyperlink" Target="file:///&#1042;&#1086;&#1083;&#1077;&#1081;&#1073;&#1086;&#1083;.ppt#7. &#1055;&#1088;&#1072;&#1074;&#1080;&#1083;&#1072; &#1080;&#1075;&#1088;&#1099;" TargetMode="External"/><Relationship Id="rId4" Type="http://schemas.openxmlformats.org/officeDocument/2006/relationships/hyperlink" Target="file:///&#1042;&#1086;&#1083;&#1077;&#1081;&#1073;&#1086;&#1083;.ppt#8. &#1054; &#1090;&#1077;&#1093;&#1085;&#1080;&#1082;&#1077; &#1080;&#1075;&#1088;&#1099;" TargetMode="External"/><Relationship Id="rId5" Type="http://schemas.openxmlformats.org/officeDocument/2006/relationships/hyperlink" Target="file:///&#1042;&#1086;&#1083;&#1077;&#1081;&#1073;&#1086;&#1083;.ppt#9. &#1057;&#1090;&#1086;&#1081;&#1082;&#1072; &#1074;&#1086;&#1083;&#1077;&#1081;&#1073;&#1086;&#1083;&#1080;&#1089;&#1090;&#1072;" TargetMode="External"/><Relationship Id="rId6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7" Type="http://schemas.openxmlformats.org/officeDocument/2006/relationships/hyperlink" Target="file:///&#1042;&#1086;&#1083;&#1077;&#1081;&#1073;&#1086;&#1083;.ppt#11. &#1055;&#1088;&#1072;&#1074;&#1080;&#1083;&#1100;&#1085;&#1086;&#1077; &#1087;&#1086;&#1083;&#1086;&#1078;&#1077;&#1085;&#1080;&#1077; &#1082;&#1080;&#1089;&#1090;&#1077;&#1081; &#1080; &#1087;&#1072;&#1083;&#1100;&#1094;&#1077;&#1074;" TargetMode="External"/><Relationship Id="rId8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9" Type="http://schemas.openxmlformats.org/officeDocument/2006/relationships/hyperlink" Target="file:///&#1042;&#1086;&#1083;&#1077;&#1081;&#1073;&#1086;&#1083;.ppt#18. &#1055;&#1086;&#1076;&#1072;&#1095;&#1080;" TargetMode="External"/><Relationship Id="rId10" Type="http://schemas.openxmlformats.org/officeDocument/2006/relationships/hyperlink" Target="file:///&#1042;&#1086;&#1083;&#1077;&#1081;&#1073;&#1086;&#1083;.ppt#21. &#1055;&#1088;&#1080;&#1077;&#1084; &#1084;&#1103;&#1095;&#1072;" TargetMode="External"/><Relationship Id="rId11" Type="http://schemas.openxmlformats.org/officeDocument/2006/relationships/hyperlink" Target="file:///&#1042;&#1086;&#1083;&#1077;&#1081;&#1073;&#1086;&#1083;.ppt#24. &#1055;&#1088;&#1080;&#1077;&#1084; &#1084;&#1103;&#1095;&#1072; &#1074; &#1087;&#1072;&#1076;&#1077;&#1085;&#1080;&#1077;" TargetMode="External"/><Relationship Id="rId12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13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4" Type="http://schemas.openxmlformats.org/officeDocument/2006/relationships/hyperlink" Target="file:///&#1042;&#1086;&#1083;&#1077;&#1081;&#1073;&#1086;&#1083;.ppt#31. &#1055;&#1077;&#1088;&#1077;&#1076;&#1072;&#1095;&#1080;" TargetMode="External"/><Relationship Id="rId15" Type="http://schemas.openxmlformats.org/officeDocument/2006/relationships/hyperlink" Target="file:///&#1042;&#1086;&#1083;&#1077;&#1081;&#1073;&#1086;&#1083;.ppt#32. &#1055;&#1088;&#1080;&#1077;&#1084;&#1099;" TargetMode="External"/><Relationship Id="rId16" Type="http://schemas.openxmlformats.org/officeDocument/2006/relationships/hyperlink" Target="file:///&#1042;&#1086;&#1083;&#1077;&#1081;&#1073;&#1086;&#1083;.ppt#33. &#1055;&#1086;&#1076;&#1072;&#1095;&#1080;" TargetMode="Externa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" Target="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5. &#1058;&#1077;&#1093;&#1085;&#1080;&#1082;&#1072; &#1074;&#1099;&#1087;&#1086;&#1083;&#1085;&#1077;&#1085;&#1080;&#1103; &#1087;&#1088;&#1080;&#1077;&#1084;&#1072; &#1084;&#1103;&#1095;&#1072; &#1086;&#1076;&#1085;&#1086;&#1081; &#1088;&#1091;&#1082;&#1086;&#1081; &#1089; &#1087;&#1086;&#1089;&#1083;&#1077;&#1076;&#1091;&#1102;&#1097;&#1080;&#1084; ..." TargetMode="External"/><Relationship Id="rId2" Type="http://schemas.openxmlformats.org/officeDocument/2006/relationships/hyperlink" Target="file:///&#1042;&#1086;&#1083;&#1077;&#1081;&#1073;&#1086;&#1083;.ppt#26. &#1058;&#1077;&#1093;&#1085;&#1080;&#1082;&#1072; &#1074;&#1099;&#1087;&#1086;&#1083;&#1085;&#1077;&#1085;&#1080;&#1103; &#1087;&#1088;&#1080;&#1077;&#1084;&#1072; &#1084;&#1103;&#1095;&#1072; &#1086;&#1076;&#1085;&#1086;&#1081; &#1088;&#1091;&#1082;&#1086;&#1081; &#1074;&#1087;&#1072;&#1076;&#1077;&#1085;&#1080;&#1080; &#1074;&#1087;&#1077;&#1088;&#1077;..." TargetMode="External"/><Relationship Id="rId3" Type="http://schemas.openxmlformats.org/officeDocument/2006/relationships/hyperlink" Target="file:///&#1042;&#1086;&#1083;&#1077;&#1081;&#1073;&#1086;&#1083;.ppt" TargetMode="External"/><Relationship Id="rId4" Type="http://schemas.openxmlformats.org/officeDocument/2006/relationships/image" Target="../media/image21.png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1. &#1055;&#1088;&#1080;&#1077;&#1084; &#1084;&#1103;&#1095;&#1072;" TargetMode="External"/><Relationship Id="rId2" Type="http://schemas.openxmlformats.org/officeDocument/2006/relationships/hyperlink" Target="file:///&#1042;&#1086;&#1083;&#1077;&#1081;&#1073;&#1086;&#1083;.ppt#18. &#1055;&#1086;&#1076;&#1072;&#1095;&#1080;" TargetMode="External"/><Relationship Id="rId3" Type="http://schemas.openxmlformats.org/officeDocument/2006/relationships/hyperlink" Target="file:///&#1042;&#1086;&#1083;&#1077;&#1081;&#1073;&#1086;&#1083;.ppt#18. &#1055;&#1086;&#1076;&#1072;&#1095;&#1080;" TargetMode="External"/><Relationship Id="rId4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7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8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9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0" Type="http://schemas.openxmlformats.org/officeDocument/2006/relationships/slide" Target="slide2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6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76360" y="3065040"/>
            <a:ext cx="64008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00"/>
                </a:solidFill>
                <a:latin typeface="Verdana"/>
              </a:rPr>
              <a:t>Изучение и совершенствование техники волейбола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00"/>
                </a:solidFill>
                <a:latin typeface="Verdana"/>
              </a:rPr>
              <a:t>5-11 класс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8244000" y="5937120"/>
            <a:ext cx="718920" cy="339840"/>
          </a:xfrm>
          <a:custGeom>
            <a:avLst/>
            <a:gdLst>
              <a:gd name="textAreaLeft" fmla="*/ 21960 w 718920"/>
              <a:gd name="textAreaRight" fmla="*/ 696960 w 71892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5669" h="21600">
                <a:moveTo>
                  <a:pt x="0" y="0"/>
                </a:moveTo>
                <a:lnTo>
                  <a:pt x="45669" y="0"/>
                </a:lnTo>
                <a:lnTo>
                  <a:pt x="45669" y="21600"/>
                </a:lnTo>
                <a:lnTo>
                  <a:pt x="0" y="21600"/>
                </a:lnTo>
                <a:close/>
              </a:path>
              <a:path fill="lightenLess" w="45669" h="21600">
                <a:moveTo>
                  <a:pt x="0" y="0"/>
                </a:moveTo>
                <a:lnTo>
                  <a:pt x="45669" y="0"/>
                </a:lnTo>
                <a:lnTo>
                  <a:pt x="44269" y="1400"/>
                </a:lnTo>
                <a:lnTo>
                  <a:pt x="1400" y="1400"/>
                </a:lnTo>
                <a:close/>
              </a:path>
              <a:path fill="darken" w="45669" h="21600">
                <a:moveTo>
                  <a:pt x="45669" y="0"/>
                </a:moveTo>
                <a:lnTo>
                  <a:pt x="45669" y="21600"/>
                </a:lnTo>
                <a:lnTo>
                  <a:pt x="44269" y="20200"/>
                </a:lnTo>
                <a:lnTo>
                  <a:pt x="44269" y="1400"/>
                </a:lnTo>
                <a:close/>
              </a:path>
              <a:path fill="darkenLess" w="45669" h="21600">
                <a:moveTo>
                  <a:pt x="4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69" y="20200"/>
                </a:lnTo>
                <a:close/>
              </a:path>
              <a:path fill="lighten" w="4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69" h="21600">
                <a:moveTo>
                  <a:pt x="15828" y="3794"/>
                </a:moveTo>
                <a:lnTo>
                  <a:pt x="29841" y="10800"/>
                </a:lnTo>
                <a:lnTo>
                  <a:pt x="15828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7524720" y="5937120"/>
            <a:ext cx="719280" cy="339840"/>
          </a:xfrm>
          <a:custGeom>
            <a:avLst/>
            <a:gdLst>
              <a:gd name="textAreaLeft" fmla="*/ 21960 w 719280"/>
              <a:gd name="textAreaRight" fmla="*/ 697320 w 71928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5691" h="21600">
                <a:moveTo>
                  <a:pt x="0" y="0"/>
                </a:moveTo>
                <a:lnTo>
                  <a:pt x="45691" y="0"/>
                </a:lnTo>
                <a:lnTo>
                  <a:pt x="45691" y="21600"/>
                </a:lnTo>
                <a:lnTo>
                  <a:pt x="0" y="21600"/>
                </a:lnTo>
                <a:close/>
              </a:path>
              <a:path fill="lightenLess" w="45691" h="21600">
                <a:moveTo>
                  <a:pt x="0" y="0"/>
                </a:moveTo>
                <a:lnTo>
                  <a:pt x="45691" y="0"/>
                </a:lnTo>
                <a:lnTo>
                  <a:pt x="44291" y="1400"/>
                </a:lnTo>
                <a:lnTo>
                  <a:pt x="1400" y="1400"/>
                </a:lnTo>
                <a:close/>
              </a:path>
              <a:path fill="darken" w="45691" h="21600">
                <a:moveTo>
                  <a:pt x="45691" y="0"/>
                </a:moveTo>
                <a:lnTo>
                  <a:pt x="45691" y="21600"/>
                </a:lnTo>
                <a:lnTo>
                  <a:pt x="44291" y="20200"/>
                </a:lnTo>
                <a:lnTo>
                  <a:pt x="44291" y="1400"/>
                </a:lnTo>
                <a:close/>
              </a:path>
              <a:path fill="darkenLess" w="45691" h="21600">
                <a:moveTo>
                  <a:pt x="45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1" y="20200"/>
                </a:lnTo>
                <a:close/>
              </a:path>
              <a:path fill="lighten" w="45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1" h="21600">
                <a:moveTo>
                  <a:pt x="15839" y="10800"/>
                </a:moveTo>
                <a:lnTo>
                  <a:pt x="29852" y="3794"/>
                </a:lnTo>
                <a:lnTo>
                  <a:pt x="2985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826920" y="650880"/>
            <a:ext cx="6264360" cy="18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олейбол</a:t>
            </a:r>
            <a:endParaRPr b="1" i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AutoShape 9">
            <a:hlinkClick r:id="rId3"/>
          </p:cNvPr>
          <p:cNvSpPr/>
          <p:nvPr/>
        </p:nvSpPr>
        <p:spPr>
          <a:xfrm>
            <a:off x="468360" y="5937120"/>
            <a:ext cx="718920" cy="339840"/>
          </a:xfrm>
          <a:custGeom>
            <a:avLst/>
            <a:gdLst>
              <a:gd name="textAreaLeft" fmla="*/ 21960 w 718920"/>
              <a:gd name="textAreaRight" fmla="*/ 696960 w 71892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5669" h="21600">
                <a:moveTo>
                  <a:pt x="0" y="0"/>
                </a:moveTo>
                <a:lnTo>
                  <a:pt x="45669" y="0"/>
                </a:lnTo>
                <a:lnTo>
                  <a:pt x="45669" y="21600"/>
                </a:lnTo>
                <a:lnTo>
                  <a:pt x="0" y="21600"/>
                </a:lnTo>
                <a:close/>
              </a:path>
              <a:path fill="lightenLess" w="45669" h="21600">
                <a:moveTo>
                  <a:pt x="0" y="0"/>
                </a:moveTo>
                <a:lnTo>
                  <a:pt x="45669" y="0"/>
                </a:lnTo>
                <a:lnTo>
                  <a:pt x="44269" y="1400"/>
                </a:lnTo>
                <a:lnTo>
                  <a:pt x="1400" y="1400"/>
                </a:lnTo>
                <a:close/>
              </a:path>
              <a:path fill="darken" w="45669" h="21600">
                <a:moveTo>
                  <a:pt x="45669" y="0"/>
                </a:moveTo>
                <a:lnTo>
                  <a:pt x="45669" y="21600"/>
                </a:lnTo>
                <a:lnTo>
                  <a:pt x="44269" y="20200"/>
                </a:lnTo>
                <a:lnTo>
                  <a:pt x="44269" y="1400"/>
                </a:lnTo>
                <a:close/>
              </a:path>
              <a:path fill="darkenLess" w="45669" h="21600">
                <a:moveTo>
                  <a:pt x="4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69" y="20200"/>
                </a:lnTo>
                <a:close/>
              </a:path>
              <a:path fill="lighten" w="4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69" h="21600">
                <a:moveTo>
                  <a:pt x="19335" y="10800"/>
                </a:moveTo>
                <a:lnTo>
                  <a:pt x="29841" y="3794"/>
                </a:lnTo>
                <a:lnTo>
                  <a:pt x="29841" y="17806"/>
                </a:lnTo>
                <a:close/>
              </a:path>
              <a:path fill="darken" w="45669" h="21600">
                <a:moveTo>
                  <a:pt x="15828" y="3794"/>
                </a:moveTo>
                <a:lnTo>
                  <a:pt x="17490" y="3794"/>
                </a:lnTo>
                <a:lnTo>
                  <a:pt x="17490" y="17806"/>
                </a:lnTo>
                <a:lnTo>
                  <a:pt x="15828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57" name="Picture 7" descr="волейб1"/>
          <p:cNvPicPr/>
          <p:nvPr/>
        </p:nvPicPr>
        <p:blipFill>
          <a:blip r:embed="rId1"/>
          <a:stretch/>
        </p:blipFill>
        <p:spPr>
          <a:xfrm>
            <a:off x="755640" y="1557360"/>
            <a:ext cx="3384720" cy="2976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волейб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86280" y="1341360"/>
            <a:ext cx="3059280" cy="3167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При выполнении передачи нужно успеть занять устойчивое исходное положение, затем, разгибая ноги и руки, отрывистыми касанием кончиков пальцев рук мячу придается нужное направ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 несколько впереди, нельзя мяч отбивать ладонями, это нарушение правил игры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0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1" name="AutoShape 12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3" name="AutoShape 17">
            <a:hlinkClick r:id="rId5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4" name="AutoShape 18">
            <a:hlinkClick r:id="rId6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через сетку в прыжк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ыжок выполняется с места и с укороченного разбега (1-2 шага) толчком двух но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в высшей точка прыжка за счет активного разгибания рук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67" name="Picture 7" descr="волейб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628640"/>
            <a:ext cx="2700360" cy="453096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9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1" name="AutoShape 11">
            <a:hlinkClick r:id="rId4" action="ppaction://hlinksldjump"/>
          </p:cNvPr>
          <p:cNvSpPr/>
          <p:nvPr/>
        </p:nvSpPr>
        <p:spPr>
          <a:xfrm>
            <a:off x="1332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двумя руками сниз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передаче следует выполнять некоторое сопровождение мяча руками. Руки должны занимать одинаковое,  постоянное положение. Малейшее повышение одного предплечья над другим изменит направление отскока мяч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74" name="Picture 7" descr="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6520" y="2719440"/>
            <a:ext cx="4040280" cy="22921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8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6" name="AutoShape 9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8" name="AutoShape 12">
            <a:hlinkClick r:id="rId4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, стоя спиной к цел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80" name="Picture 7" descr="волейб2"/>
          <p:cNvPicPr/>
          <p:nvPr/>
        </p:nvPicPr>
        <p:blipFill>
          <a:blip r:embed="rId1"/>
          <a:stretch/>
        </p:blipFill>
        <p:spPr>
          <a:xfrm>
            <a:off x="903240" y="1557360"/>
            <a:ext cx="3079800" cy="3456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486864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за счет разгибания рук в локтях и движения назад - вверх с одновременным пригибанием в грудной и поясничной част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2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3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4" name="Picture 11" descr="волейб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73800" y="1630440"/>
            <a:ext cx="2552760" cy="33829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2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6" name="AutoShape 13">
            <a:hlinkClick r:id="rId5" action="ppaction://hlinksldjump"/>
          </p:cNvPr>
          <p:cNvSpPr/>
          <p:nvPr/>
        </p:nvSpPr>
        <p:spPr>
          <a:xfrm>
            <a:off x="12589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38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385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8" dur="38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0" dur="38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38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385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отбивания мяча кулаком у сет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Лучше расположить боком к сетке (правым при отбивании правой рукой), иногда и спин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десь важно рассчитать прыжок, что бы встретить мяч над сетк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9" name="Picture 7" descr="волейб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628640"/>
            <a:ext cx="1452600" cy="45309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1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768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768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1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3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998"/>
                            </p:stCondLst>
                            <p:childTnLst>
                              <p:par>
                                <p:cTn id="5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38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385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1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3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998"/>
                            </p:stCondLst>
                            <p:childTnLst>
                              <p:par>
                                <p:cTn id="5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385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9" dur="385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1" dur="385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3" dur="385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998"/>
                            </p:stCondLst>
                            <p:childTnLst>
                              <p:par>
                                <p:cTn id="5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385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385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385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385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о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94" name="Picture 19" descr="верхняя прямая подача"/>
          <p:cNvPicPr/>
          <p:nvPr/>
        </p:nvPicPr>
        <p:blipFill>
          <a:blip r:embed="rId1"/>
          <a:stretch/>
        </p:blipFill>
        <p:spPr>
          <a:xfrm>
            <a:off x="324000" y="1128600"/>
            <a:ext cx="3657600" cy="26607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Игра начинается подаче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им приемом мяч вводится в игр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оревнования без подачи невозмож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чко команда также может выиграть только тогда, когда она подавала, а соперник совершил ошиб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( нижняя прямая подача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верхняя прямая подач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6" name="AutoShape 14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7" name="AutoShape 15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99" name="Picture 21" descr="нижняя прямая подача"/>
          <p:cNvPicPr/>
          <p:nvPr/>
        </p:nvPicPr>
        <p:blipFill>
          <a:blip r:embed="rId5"/>
          <a:stretch/>
        </p:blipFill>
        <p:spPr>
          <a:xfrm>
            <a:off x="324000" y="3716280"/>
            <a:ext cx="39607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иж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249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стоя лицом к сетки, ноги согнуты в коленях, левая нога впереди, туловище наклонено вперед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Левая рука, согнутая в локтевом суставе, удерживает мяч на уровне пояс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равая (бьющая) рука отведена назад в положении замах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т мяч на высоту 20-30 см вверх и выполнить удар напряженной кистью по опускающемуся мячу на уровне плеч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Бьющая рука направляет мяч вперед-вверх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2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3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5" name="AutoShape 11">
            <a:hlinkClick r:id="rId2" action="ppaction://hlinksldjump"/>
          </p:cNvPr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06" name="Picture 13" descr="нижняя прямая подача"/>
          <p:cNvPicPr/>
          <p:nvPr/>
        </p:nvPicPr>
        <p:blipFill>
          <a:blip r:embed="rId3"/>
          <a:stretch/>
        </p:blipFill>
        <p:spPr>
          <a:xfrm>
            <a:off x="5435640" y="1916280"/>
            <a:ext cx="6188040" cy="45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50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400"/>
                            </p:stCondLst>
                            <p:childTnLst>
                              <p:par>
                                <p:cTn id="6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900"/>
                            </p:stCondLst>
                            <p:childTnLst>
                              <p:par>
                                <p:cTn id="6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4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4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900"/>
                            </p:stCondLst>
                            <p:childTnLst>
                              <p:par>
                                <p:cTn id="66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4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4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6900"/>
                            </p:stCondLst>
                            <p:childTnLst>
                              <p:par>
                                <p:cTn id="6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4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4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900"/>
                            </p:stCondLst>
                            <p:childTnLst>
                              <p:par>
                                <p:cTn id="68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4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4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8900"/>
                            </p:stCondLst>
                            <p:childTnLst>
                              <p:par>
                                <p:cTn id="68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4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4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верх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лицом к сетке, левая нога впереди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Мяч подбрасывается левой рукой вверх у правого плеча. Туловище отклонятся назад (замах)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в мяч последовательным разгибанием сзади стоящей ноги, с движением туловища вперед и кистью руки вперед – вверх, производится удар по мячу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9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0" name="AutoShape 12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2" name="AutoShape 14">
            <a:hlinkClick r:id="rId2" action="ppaction://hlinksldjump"/>
          </p:cNvPr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13" name="Picture 16" descr="верхняя прямая подача"/>
          <p:cNvPicPr/>
          <p:nvPr/>
        </p:nvPicPr>
        <p:blipFill>
          <a:blip r:embed="rId3"/>
          <a:stretch/>
        </p:blipFill>
        <p:spPr>
          <a:xfrm>
            <a:off x="3059280" y="620640"/>
            <a:ext cx="5249520" cy="381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768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2" dur="768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4" dur="76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6" dur="76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998"/>
                            </p:stCondLst>
                            <p:childTnLst>
                              <p:par>
                                <p:cTn id="7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98"/>
                            </p:stCondLst>
                            <p:childTnLst>
                              <p:par>
                                <p:cTn id="7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5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4998"/>
                            </p:stCondLst>
                            <p:childTnLst>
                              <p:par>
                                <p:cTn id="7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9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998"/>
                            </p:stCondLst>
                            <p:childTnLst>
                              <p:par>
                                <p:cTn id="7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3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15" name="Picture 11" descr="в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28640"/>
            <a:ext cx="3357720" cy="4530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ется в защитных действиях, чтобы не допустить падения мяча, посланного соперником, на площад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ем подачи считается удачным, когда после приема мяча он оказывается в зоне напад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( двумя руками сверху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низу)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7" name="AutoShape 14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8" name="AutoShape 15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709308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двумя руками сверх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21" name="Picture 10" descr="вол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73360"/>
            <a:ext cx="8066160" cy="38289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3" name="AutoShape 12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одержани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504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Размеры и линии площадк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Волейбольный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Правила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О технике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тойка волейболист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Передача мяча сверху двумя рукам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Правильное положение кистей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Отбивание мяча кулаком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Подачи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0"/>
              </a:rPr>
              <a:t>Прием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1"/>
              </a:rPr>
              <a:t>Прием мяча в падени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2"/>
              </a:rPr>
              <a:t>Нападающий удар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3"/>
              </a:rPr>
              <a:t>Блокирования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4"/>
              </a:rPr>
              <a:t>Передачи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5"/>
              </a:rPr>
              <a:t>Прием мяча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6"/>
              </a:rPr>
              <a:t>Подачи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7" name="AutoShape 9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8" name="AutoShape 10">
            <a:hlinkClick r:id="" action="ppaction://hlinkshowjump?jump=previousslide"/>
          </p:cNvPr>
          <p:cNvSpPr/>
          <p:nvPr/>
        </p:nvSpPr>
        <p:spPr>
          <a:xfrm>
            <a:off x="7380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сниз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26" name="Picture 13" descr="вол1"/>
          <p:cNvPicPr/>
          <p:nvPr/>
        </p:nvPicPr>
        <p:blipFill>
          <a:blip r:embed="rId1"/>
          <a:stretch/>
        </p:blipFill>
        <p:spPr>
          <a:xfrm>
            <a:off x="825480" y="1630440"/>
            <a:ext cx="1971720" cy="28810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450828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Туловище слегка наклонено вперед, прямые руки опущены вперед - вниз, локти сближены, кисти вместе. Мяч принимается на внутреннюю часть сближенных предплечий, ближе к кистям рук. В момент приема руки не должны сгибаться в локтях. Прямые руки небыстрым движением в плечевых суставах поднимаются навстречу мячу, ноги в момент приема выпрямляются. Чем выше скорость полета мяча, тем меньше должно быть встречное движение рук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8" name="AutoShape 19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9" name="AutoShape 20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1" name="AutoShape 22">
            <a:hlinkClick r:id="rId3" action="ppaction://hlinksldjump"/>
          </p:cNvPr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32" name="Picture 24" descr="прием мяча снизу двумя руками"/>
          <p:cNvPicPr/>
          <p:nvPr/>
        </p:nvPicPr>
        <p:blipFill>
          <a:blip r:embed="rId4"/>
          <a:stretch/>
        </p:blipFill>
        <p:spPr>
          <a:xfrm>
            <a:off x="3708360" y="1052640"/>
            <a:ext cx="4826160" cy="351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000"/>
                            </p:stCondLst>
                            <p:childTnLst>
                              <p:par>
                                <p:cTn id="8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 мяча в падени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489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ется когда мяч низко летит при передач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 одной рукой с последующим падением и перекатом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одной рукой в падении вперед и последующем скольжением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35" name="Picture 7" descr="в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628640"/>
            <a:ext cx="3079800" cy="453096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8">
            <a:hlinkClick r:id="" action="ppaction://hlinkshowjump?jump=nextslide"/>
          </p:cNvPr>
          <p:cNvSpPr/>
          <p:nvPr/>
        </p:nvSpPr>
        <p:spPr>
          <a:xfrm>
            <a:off x="8244000" y="616572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7" name="AutoShape 9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7236000" y="623736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3000"/>
                            </p:stCondLst>
                            <p:childTnLst>
                              <p:par>
                                <p:cTn id="8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одной рукой впадении вперед и последующим скольжением на груди - животе</a:t>
            </a:r>
            <a:endParaRPr b="0" lang="en-US" sz="28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ют в основном юноши. Игрок как бы «ныряет» под мяч, после отбивания мяча руки касаются площадки и амортизируют касание грудью за счет сгибания рук, ноги сгибаются в коленях, туловище прогибается, руки после отталкивания вперед убирают вдоль туловищ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1" name="AutoShape 13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2" name="AutoShape 14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709308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4" name="AutoShape 16"/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45" name="Picture 19" descr="прием мяча одной рукой в падении вперед и последующим скольжением на груди -животе"/>
          <p:cNvPicPr/>
          <p:nvPr/>
        </p:nvPicPr>
        <p:blipFill>
          <a:blip r:embed="rId1"/>
          <a:stretch/>
        </p:blipFill>
        <p:spPr>
          <a:xfrm>
            <a:off x="1258920" y="1413000"/>
            <a:ext cx="633744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5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Нападающий удар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о самый эффективный способ завершения атаки, именно он чаще всего приносит победные очк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48" name="Picture 7" descr="в1"/>
          <p:cNvPicPr/>
          <p:nvPr/>
        </p:nvPicPr>
        <p:blipFill>
          <a:blip r:embed="rId1"/>
          <a:stretch/>
        </p:blipFill>
        <p:spPr>
          <a:xfrm>
            <a:off x="900000" y="1628640"/>
            <a:ext cx="3124440" cy="45309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0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723600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9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ападающего удар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46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о время выполнения прыжка быстро разогнуть ноги и резко поднять руки вверх. В прыжке  плечи и бьющая рука отводится назад, туловище прогибается (замах).Ударное движение начинается с выведения вперед локтя бьющей руки. бьющая рука, разгибаясь в локтевом суставе, хлестким  движением кистью ударяет по мячу  вниз – вперед. Чем сильней                                                          нужно пробить по мячу, тем расслабленней должна быть кисть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4" name="AutoShape 12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5" name="AutoShape 13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23600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57" name="Picture 16" descr="нападающий удар"/>
          <p:cNvPicPr/>
          <p:nvPr/>
        </p:nvPicPr>
        <p:blipFill>
          <a:blip r:embed="rId1"/>
          <a:stretch/>
        </p:blipFill>
        <p:spPr>
          <a:xfrm>
            <a:off x="684360" y="1484280"/>
            <a:ext cx="6202080" cy="45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1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3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5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9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Блокирование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859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ыставление рук над верхним краем сетки для преграждения полета мяча после нападающего удара называется блокированием. Оно применяется для противодействия нападающего удара. Выполняется одним или двумя (реже тремя) игроками в прыжке с места или после перемещ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0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684000" cy="360360"/>
          </a:xfrm>
          <a:custGeom>
            <a:avLst/>
            <a:gdLst>
              <a:gd name="textAreaLeft" fmla="*/ 23040 w 684000"/>
              <a:gd name="textAreaRight" fmla="*/ 660960 w 68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0980" h="21600">
                <a:moveTo>
                  <a:pt x="0" y="0"/>
                </a:moveTo>
                <a:lnTo>
                  <a:pt x="40980" y="0"/>
                </a:lnTo>
                <a:lnTo>
                  <a:pt x="40980" y="21600"/>
                </a:lnTo>
                <a:lnTo>
                  <a:pt x="0" y="21600"/>
                </a:lnTo>
                <a:close/>
              </a:path>
              <a:path fill="lightenLess" w="40980" h="21600">
                <a:moveTo>
                  <a:pt x="0" y="0"/>
                </a:moveTo>
                <a:lnTo>
                  <a:pt x="40980" y="0"/>
                </a:lnTo>
                <a:lnTo>
                  <a:pt x="39580" y="1400"/>
                </a:lnTo>
                <a:lnTo>
                  <a:pt x="1400" y="1400"/>
                </a:lnTo>
                <a:close/>
              </a:path>
              <a:path fill="darken" w="40980" h="21600">
                <a:moveTo>
                  <a:pt x="40980" y="0"/>
                </a:moveTo>
                <a:lnTo>
                  <a:pt x="40980" y="21600"/>
                </a:lnTo>
                <a:lnTo>
                  <a:pt x="39580" y="20200"/>
                </a:lnTo>
                <a:lnTo>
                  <a:pt x="39580" y="1400"/>
                </a:lnTo>
                <a:close/>
              </a:path>
              <a:path fill="darkenLess" w="40980" h="21600">
                <a:moveTo>
                  <a:pt x="40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80" y="20200"/>
                </a:lnTo>
                <a:close/>
              </a:path>
              <a:path fill="lighten" w="40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80" h="21600">
                <a:moveTo>
                  <a:pt x="13483" y="3794"/>
                </a:moveTo>
                <a:lnTo>
                  <a:pt x="27496" y="10800"/>
                </a:lnTo>
                <a:lnTo>
                  <a:pt x="1348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1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723600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63" name="Picture 11" descr="в3"/>
          <p:cNvPicPr/>
          <p:nvPr/>
        </p:nvPicPr>
        <p:blipFill>
          <a:blip r:embed="rId1"/>
          <a:stretch/>
        </p:blipFill>
        <p:spPr>
          <a:xfrm>
            <a:off x="900000" y="1557360"/>
            <a:ext cx="334512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385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3" dur="385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5" dur="38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7" dur="38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000"/>
                            </p:stCondLst>
                            <p:childTnLst>
                              <p:par>
                                <p:cTn id="9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385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3" dur="385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5" dur="385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7" dur="385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3000"/>
                            </p:stCondLst>
                            <p:childTnLst>
                              <p:par>
                                <p:cTn id="9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385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3" dur="385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5" dur="385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7" dur="385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блокирования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ехника блокирования включает в себя: перемещение к месту постановки блока, прыжок, постановку рук на пути движения мяча и призем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6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7" name="AutoShape 11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7236000" y="638172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69" name="Picture 14" descr="одиночное блокирование мяча"/>
          <p:cNvPicPr/>
          <p:nvPr/>
        </p:nvPicPr>
        <p:blipFill>
          <a:blip r:embed="rId1"/>
          <a:stretch/>
        </p:blipFill>
        <p:spPr>
          <a:xfrm>
            <a:off x="2411280" y="1425600"/>
            <a:ext cx="532944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9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Размеры и линии площад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азмеры – 9 х 18 м, разделенный пополам сеткой ( высота 2,43 м – мужской и 2,24 м женской сетки)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а площадки передняя зона, задняя зон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подачи – 3-8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вободная зона – 3-5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заме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1" name="Picture 7" descr="в"/>
          <p:cNvPicPr/>
          <p:nvPr/>
        </p:nvPicPr>
        <p:blipFill>
          <a:blip r:embed="rId1"/>
          <a:stretch/>
        </p:blipFill>
        <p:spPr>
          <a:xfrm>
            <a:off x="457200" y="1700280"/>
            <a:ext cx="4040280" cy="41781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3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84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384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384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384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8000"/>
                </a:solidFill>
                <a:latin typeface="Garamond"/>
              </a:rPr>
              <a:t>Волейбольный мяч</a:t>
            </a:r>
            <a:endParaRPr b="0" lang="en-US" sz="36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2920" y="23270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Размеры: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кружность – 65-67 см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ес мяча-260-280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Давление от 0,30 до 0,325 кг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/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м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²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7" name="Picture 7" descr="волей2"/>
          <p:cNvPicPr/>
          <p:nvPr/>
        </p:nvPicPr>
        <p:blipFill>
          <a:blip r:embed="rId1"/>
          <a:stretch/>
        </p:blipFill>
        <p:spPr>
          <a:xfrm>
            <a:off x="903240" y="2077920"/>
            <a:ext cx="2990880" cy="29908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9" name="AutoShape 9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8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400"/>
                            </p:stCondLst>
                            <p:childTnLst>
                              <p:par>
                                <p:cTn id="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40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4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а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12" name="Picture 14" descr="11"/>
          <p:cNvPicPr/>
          <p:nvPr/>
        </p:nvPicPr>
        <p:blipFill>
          <a:blip r:embed="rId1"/>
          <a:stretch/>
        </p:blipFill>
        <p:spPr>
          <a:xfrm>
            <a:off x="395280" y="1844640"/>
            <a:ext cx="327492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24000" y="1412640"/>
            <a:ext cx="504036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олейбол- коллективная игра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Она проводится между двумя командам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На площадке в каждой команде выступают шесть человек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Цель – игры ударами рук направить мяч на сторону соперника и там приземлить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Матч состоит из пяти партий, а они  - из эпизодов, в любом из них разыгрывается одно очко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Эпизод начинается с подачи мяча через сетку (подающий находится за линией своей площадки), после чего игроки неприятельской команды, передавая мяч, друг другу не более двух раз, третьим ударом отправляют его через сетку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Команда получает очко и право на следующую подачу, если её соперник не сумеет отбить мяч ( и он коснётся земли либо пола) или не перекинет мяч обратно через сетку за три касания. Выигрывает партию команда, набравшая 25 очков. При счете 24 : 24 игра продолжается до тех пор, пока разница не достигнет двух очков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 мачте побеждает команда, которая одолела соперника в трёх партиях из пят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Правда. В пятой партии требуется набрать не 25, а 15очков. 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4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5" name="AutoShape 11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О технике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4067280" y="1557360"/>
            <a:ext cx="1728720" cy="165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Verdana"/>
              </a:rPr>
              <a:t>Техника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1692360" y="4797360"/>
            <a:ext cx="1727280" cy="165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Приемы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164360" y="3429000"/>
            <a:ext cx="1563840" cy="15843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Подачи</a:t>
            </a: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5724360" y="4653000"/>
            <a:ext cx="1800360" cy="1584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Передачи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3059280" y="3068640"/>
            <a:ext cx="1296720" cy="180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5364000" y="3141720"/>
            <a:ext cx="1152720" cy="151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5651640" y="2852640"/>
            <a:ext cx="1728720" cy="792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5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6" name="AutoShape 16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3780000" y="4581360"/>
            <a:ext cx="1800000" cy="172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Отбивание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9" name="Line 19"/>
          <p:cNvSpPr/>
          <p:nvPr/>
        </p:nvSpPr>
        <p:spPr>
          <a:xfrm flipH="1">
            <a:off x="4788000" y="3213000"/>
            <a:ext cx="71280" cy="1295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0" name="Oval 20"/>
          <p:cNvSpPr/>
          <p:nvPr/>
        </p:nvSpPr>
        <p:spPr>
          <a:xfrm>
            <a:off x="611280" y="1700280"/>
            <a:ext cx="2089080" cy="1490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Нападающий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удар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 flipH="1">
            <a:off x="2626920" y="2781360"/>
            <a:ext cx="1513080" cy="1079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6804000" y="1844640"/>
            <a:ext cx="208764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Блокирование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5796000" y="2421000"/>
            <a:ext cx="1008000" cy="7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826920" y="3357720"/>
            <a:ext cx="1800360" cy="1511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0" action="ppaction://hlinksldjump"/>
              </a:rPr>
              <a:t>В падении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5" name="Line 25"/>
          <p:cNvSpPr/>
          <p:nvPr/>
        </p:nvSpPr>
        <p:spPr>
          <a:xfrm flipH="1" flipV="1">
            <a:off x="2700000" y="2420640"/>
            <a:ext cx="1366920" cy="144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тойка волейболист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22560" y="1599840"/>
            <a:ext cx="4764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оги расположены на ширине плеч и согнуты в коленн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дна нога впереди, или ступни расположены параллельно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уловище наклонено вперед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Чем ниже стойка, тем больше вперед наклонено туловищ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уки согнуты в локтев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38" name="Picture 7" descr="волейб"/>
          <p:cNvPicPr/>
          <p:nvPr/>
        </p:nvPicPr>
        <p:blipFill>
          <a:blip r:embed="rId1"/>
          <a:stretch/>
        </p:blipFill>
        <p:spPr>
          <a:xfrm>
            <a:off x="684360" y="1917720"/>
            <a:ext cx="2609640" cy="38656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0" name="AutoShape 9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468360" y="5734080"/>
            <a:ext cx="12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Высокая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325240" y="573408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редняя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6000"/>
                            </p:stCondLst>
                            <p:childTnLst>
                              <p:par>
                                <p:cTn id="3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000"/>
                            </p:stCondLst>
                            <p:childTnLst>
                              <p:par>
                                <p:cTn id="3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ередача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мяча сверху двумя руками составляет основу игр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взаимодействии нападающих для ускорения атаки и дезорганизации блока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на дает возможность выполнять различные упражнения по технике, а также играть через сет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46" name="Picture 9" descr="в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628640"/>
            <a:ext cx="3265560" cy="453096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8" name="AutoShape 8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ьное положение кистей и пальцев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51" name="Picture 7" descr="вол10"/>
          <p:cNvPicPr/>
          <p:nvPr/>
        </p:nvPicPr>
        <p:blipFill>
          <a:blip r:embed="rId1"/>
          <a:stretch/>
        </p:blipFill>
        <p:spPr>
          <a:xfrm>
            <a:off x="324000" y="1916280"/>
            <a:ext cx="8510400" cy="29955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537336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</a:rPr>
              <a:t>Положение кистей рук и расположение пальцев на мяче, во время передачи мяча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4" name="AutoShape 13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5" name="AutoShape 14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x</dc:creator>
  <dc:description/>
  <dc:language>en-US</dc:language>
  <cp:lastModifiedBy>Alex</cp:lastModifiedBy>
  <dcterms:modified xsi:type="dcterms:W3CDTF">2016-09-19T16:41:59Z</dcterms:modified>
  <cp:revision>71</cp:revision>
  <dc:subject/>
  <dc:title>Игра волейб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330000000000010243000207f6000400038000</vt:lpwstr>
  </property>
</Properties>
</file>