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EF7-81A0-4AA5-810A-40D4B593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721-A7D8-410F-8E3D-75C995C5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015-DF5D-4C4A-B056-0121924F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7E5-A4F4-4737-8AA5-7A53D1D2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B47-BBDB-43B9-9CA4-C954B877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692-482A-4C17-BD80-6C41D086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42B-1206-4867-B3E5-9E2F82A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777F-BFC7-4324-8190-E9A5E167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D49F-ADC4-4AB0-8448-D68C5AAB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F892-D225-44F9-AD38-3148B30F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C955-D1E1-4E3A-A089-F05AF7C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EA9-1FF1-494C-AC8F-3093FC9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8DED-32B2-4231-B167-D1CE549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7105-A80A-4651-BD1E-0D7965E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0BC8-46C5-44C2-BD4C-DFEB3DEA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F762-99CA-4587-87ED-DB9AA7C4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BDCF-CA21-4A13-A993-570C42BA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3E9-1141-4EF2-8054-767ADA2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5A3-409A-4230-BB93-FE20B648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684-261C-4EDC-8903-E5C1819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0E2-1AA8-45CC-A12D-6DC8FD0E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B60-D008-4F12-9DB8-B1CC902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9FF-FD12-4485-9D5E-51226E4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D12-DB76-4E18-8A9A-07FDFEB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F0E-B7A3-4B73-B4EB-548DFBD4FC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F3C2-0487-43E2-907E-1445979719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692280"/>
            <a:ext cx="7620120" cy="2736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ст по поэме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. С. Пушкина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Руслан и Людмил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3500280"/>
            <a:ext cx="7431120" cy="1873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полнении работы внимательно читайт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ен только один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9. Кто первым пришёл в терем к похищенной Людмиле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2276280"/>
            <a:ext cx="6400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ус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Черн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три де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ар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0. Кого из убитых в поединке витязей «русалка молодая на хладны перси приняла» и «на дно со смехом увлекла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3141720"/>
            <a:ext cx="64008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арл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у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т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огд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1. В каком образе явилась Наина к Черномору, чтобы заключить с ним союз и отомстить Финну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чёрного зм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др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жар-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птицы-гамаю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2. Зачем Руслан приехал на «поле старой битвы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захоронить погиб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за кольчугой, щитом, копьём и меч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его конь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так указал ему колд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13. Что охраняла голова обманутого брата Черномор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границы земель кар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ход в пещ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свои собственны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м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4. Что помогало Людмиле долгое время быть недоступной для злобного карлик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ставленное ею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олдовство Н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шапка-невид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занятость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5. Сколько дней носил Черномор державшегося за его бороду Руслан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1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2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3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не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6. Почему Ратмир отказался от дальнейших поисков Людмилы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нял, что не добьётся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был околдо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полюбил дру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ешил вступить в дружину княз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404640"/>
            <a:ext cx="64008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7. От чьей руки погибает Руслан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2276280"/>
            <a:ext cx="6400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Н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т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Фарл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8. С кем три дня бился в муромских лесах Фарлаф, чтобы спасти, по его словам, и вернуть Людмилу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 ле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 печене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 Черном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со всеми витязями-сопер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. Что делает у Лукоморья кот учёный, когда идёт направо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МУРЛЫ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ПЕСНЬ ЗАВ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МЫШЕК ЛО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СКАЗКУ ГОВ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19. Что пробудило Людмилу ото сн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2060280"/>
            <a:ext cx="6400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целуй Ру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молитвы монахи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олшебное коль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война с печене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20. Что сталось с Черномором, «лишённым силы чародейства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был принят во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ыступал на ярмар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был отправлен за тридевять зе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был каз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Проверяем ответы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052640"/>
            <a:ext cx="6400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б                       11.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                       12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а                       13. 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1-б, 2-в, 3-а      14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в                       15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б                       16.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а                       17.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б                       18.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в                       19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г                      20.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цениваем работу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оличеству правильных отв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– 18              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 – 14              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– 10               «3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и меньше       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9640" y="-4320000"/>
            <a:ext cx="982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ff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ff"/>
                </a:solidFill>
                <a:latin typeface="Arial"/>
              </a:rPr>
              <a:t>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ff"/>
                </a:solidFill>
                <a:latin typeface="Arial"/>
              </a:rPr>
              <a:t>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74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2. По какой причине пировал Владимир-солнц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бедил Соловья-разбой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к нему приехали пос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ыдавал дочь заму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у него родился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3. Чей это портрет: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«… уныньем как убит… томился молчаливо, и смысл и память потеряв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у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огд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т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4. Соотнесите портреты с именами героев.</a:t>
            </a:r>
            <a:br>
              <a:rPr sz="28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1) «…в уме своём уже Людмилу обнимая, едва не пляшет под седлом; в нём кровь играет молодая»;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2) «… через плечо глядя спесиво и важно подбочась…, надувшись, ехал за Русланом»;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3) «И мучась ревностью напрасной,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  Всех больше беспокоен он,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  И часто взор его ужасный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  На князя мрачно устремлён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5013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огд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Рат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Фарл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5. Кем была красавица Наин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лясун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орчун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олдун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6. Сколько прошло лет с момента признания колдуна-финна в любви к красавице Наине до момента их новой встречи, когда Наина открыла своё сердце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3284280"/>
            <a:ext cx="64008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7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4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1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все ответы невер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7. Почему Рогдай не убил Фарлафа, когда настиг его в поле со словами «Погибни, трус! умри!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увидел, что это не Рус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ринял его за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ешил не мешать ему об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8. Куда дорожною клюкой указала Наина Рогдаю, который желал убить Руслана, и сказала: «Ты там найдёшь его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к эква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на север, под К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к колду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7:18:06Z</dcterms:created>
  <dc:creator>User</dc:creator>
  <dc:description/>
  <dc:language>en-US</dc:language>
  <cp:lastModifiedBy>User</cp:lastModifiedBy>
  <dcterms:modified xsi:type="dcterms:W3CDTF">2010-11-15T20:18:48Z</dcterms:modified>
  <cp:revision>2</cp:revision>
  <dc:subject/>
  <dc:title>Тест по поэме  А. С. Пушкина «Руслан и Людмила».</dc:title>
</cp:coreProperties>
</file>