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565-E4A7-4853-9AC3-5A7244C9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764-F3DE-451D-938D-C40943C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E80-E665-43AD-9F26-21A16BDE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454-9786-41C6-9186-AA5E323D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17ED-92EF-4559-9EF2-455B4B79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B16E-44CD-4261-AFD9-7E56BFA5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8E91-A27A-4F30-AC2E-C643D376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F2F1-7A70-4B92-B5BC-803D5634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5FF4-EC73-4E1D-83F5-D1FD96DE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CAC4-7944-432D-9498-58E6AFA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0937-2D66-402E-A989-9FFFB8B3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34D7-B402-4726-817E-8EBCF65A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A25E-CBB7-4CBB-BD65-B266336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48B7-7DA5-4BAD-BF8A-36A07171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ABB8-01BB-4B24-840C-8BDC9E40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C60A-9AA3-41A3-AF49-760E3C02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88B7-5CFE-4DC7-8BC4-09626AFB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610-85DF-4062-A9B5-53DFB200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0D0-2AA6-4D3E-BAA8-241B0E2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86F-37A3-491F-BCEB-8F50184B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A58-D7B0-4A40-8CC4-CC973067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D6E-1012-4880-8D69-E57BC19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620-95BA-4ACA-B176-734D35E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55C-B1A0-4A15-AA87-23F30E60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F14-8DAD-472F-B8A8-C1C1B8275B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F24-9392-4B4A-AF58-1C21901C80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692280"/>
            <a:ext cx="7620120" cy="2736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ст по поэме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А. С. Пушкина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«Руслан и Людмила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3500280"/>
            <a:ext cx="7431120" cy="1873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полнении работы внимательно читайт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ен только один правильный вариант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9. Кто первым пришёл в терем к похищенной Людмиле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2276280"/>
            <a:ext cx="6400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ус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Черн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три де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ар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0. Кого из убитых в поединке витязей «русалка молодая на хладны перси приняла» и «на дно со смехом увлекла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3141720"/>
            <a:ext cx="64008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арл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у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т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Рогд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1. В каком образе явилась Наина к Черномору, чтобы заключить с ним союз и отомстить Финну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чёрного зм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др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жар-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птицы-гамаю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2. Зачем Руслан приехал на «поле старой битвы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захоронить погиб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за кольчугой, щитом, копьём и меч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его конь заблуд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так указал ему колд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13. Что охраняла голова обманутого брата Черномор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границы земель кар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ход в пещ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свои собственны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ме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4. Что помогало Людмиле долгое время быть недоступной для злобного карлик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ставленное ею 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олдовство Н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шапка-невидим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занятость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5. Сколько дней носил Черномор державшегося за его бороду Руслана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2637000"/>
            <a:ext cx="6400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1 д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2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3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неде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6. Почему Ратмир отказался от дальнейших поисков Людмилы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21337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нял, что не добьётся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был околдов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полюбил друг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ешил вступить в дружину княз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404640"/>
            <a:ext cx="64008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7. От чьей руки погибает Руслан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2276280"/>
            <a:ext cx="6400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На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т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Фарл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18. С кем три дня бился в муромских лесах Фарлаф, чтобы спасти, по его словам, и вернуть Людмилу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421000"/>
            <a:ext cx="64008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с леш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 печене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 Черном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со всеми витязями-сопер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1. Что делает у Лукоморья кот учёный, когда идёт направо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МУРЛЫК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ПЕСНЬ ЗАВ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МЫШЕК ЛОВ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СКАЗКУ ГОВО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19. Что пробудило Людмилу ото сн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2060280"/>
            <a:ext cx="64008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целуй Ру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молитвы монахи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олшебное кольц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война с печенег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20. Что сталось с Черномором, «лишённым силы чародейства»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2492280"/>
            <a:ext cx="6400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был принят во д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ыступал на ярмар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был отправлен за тридевять зе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был казн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0039"/>
                </a:solidFill>
                <a:latin typeface="Arial"/>
              </a:rPr>
              <a:t>Проверяем ответы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052640"/>
            <a:ext cx="6400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б                       11.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                       12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а                       13. 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1-б, 2-в, 3-а      14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в                       15.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б                       16.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а                       17.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б                       18.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в                       19.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г                      20.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цениваем работу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количеству правильных отв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– 18              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 – 14              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– 10               «3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и меньше       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39640" y="-4320000"/>
            <a:ext cx="982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ff"/>
                </a:solidFill>
                <a:latin typeface="Arial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ff"/>
                </a:solidFill>
                <a:latin typeface="Arial"/>
              </a:rPr>
              <a:t>з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ff"/>
                </a:solidFill>
                <a:latin typeface="Arial"/>
              </a:rPr>
              <a:t>работ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74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2. По какой причине пировал Владимир-солнце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обедил Соловья-разбой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к нему приехали пос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выдавал дочь заму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у него родился сы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3. Чей это портрет:</a:t>
            </a:r>
            <a:br>
              <a:rPr sz="3200"/>
            </a:b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«… уныньем как убит… томился молчаливо, и смысл и память потеряв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2708280"/>
            <a:ext cx="64008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Рус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Рогд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ат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4. Соотнесите портреты с именами героев.</a:t>
            </a:r>
            <a:br>
              <a:rPr sz="28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1) «…в уме своём уже Людмилу обнимая, едва не пляшет под седлом; в нём кровь играет молодая»;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2) «… через плечо глядя спесиво и важно подбочась…, надувшись, ехал за Русланом»;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3) «И мучась ревностью напрасной,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  Всех больше беспокоен он,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  И часто взор его ужасный</a:t>
            </a:r>
            <a:br>
              <a:rPr sz="2400"/>
            </a:b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      На князя мрачно устремлён»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501300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огд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Рат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Фарла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5. Кем была красавица Наина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лясун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ворчун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олдунь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26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6. Сколько прошло лет с момента признания колдуна-финна в любви к красавице Наине до момента их новой встречи, когда Наина открыла своё сердце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3284280"/>
            <a:ext cx="6400800" cy="28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7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4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1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все ответы невер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7. Почему Рогдай не убил Фарлафа, когда настиг его в поле со словами «Погибни, трус! умри!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2781000"/>
            <a:ext cx="64008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увидел, что это не Рус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ринял его за Черн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решил не мешать ему об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8. Куда дорожною клюкой указала Наина Рогдаю, который желал убить Руслана, и сказала: «Ты там найдёшь его»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2852280"/>
            <a:ext cx="6400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к эква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на север, под К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 мор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к колду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7:18:06Z</dcterms:created>
  <dc:creator>User</dc:creator>
  <dc:description/>
  <dc:language>en-US</dc:language>
  <cp:lastModifiedBy>User</cp:lastModifiedBy>
  <dcterms:modified xsi:type="dcterms:W3CDTF">2010-11-15T20:18:48Z</dcterms:modified>
  <cp:revision>2</cp:revision>
  <dc:subject/>
  <dc:title>Тест по поэме  А. С. Пушкина «Руслан и Людмила».</dc:title>
</cp:coreProperties>
</file>