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22D28-ABA5-4853-9ADE-80AC2139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E33E9-DE73-4B83-A018-01CFFFA7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0D528-9161-4BCA-9CC4-518C0A37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C7DF9-B9D6-451B-92A6-9A155FEE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F787-708E-4B4F-9CDF-6DA5C0E1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A2CD-143B-44E8-8F4B-ADB4E6DA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2554-7756-4D7E-94A4-01553AE3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869E-912C-4320-B0C1-22CD0221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3B33-B1F6-488E-A58B-D3623B35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63D3-0325-4250-976F-DCBC8907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EE3B-D69C-4D9B-AC33-BCE794BC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31BE2-A134-4AC0-ABE8-F1FE1D38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F38D-C662-480D-B8CA-C0328531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02F2-B79E-40D5-86E0-6F58FCAF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6E73-72A4-47D4-AF8F-597A14FF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FE0E-ACD6-4AE8-BD6C-5FEC5CD6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D558-A6C2-4F73-A8B7-A5234D1B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90B7C-50B4-474D-AFC0-FC8C154A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6FEBA-10D3-4B79-B557-C2496622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2D656-953C-4C5E-8C92-F9D55BDF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1876-C37E-44BA-80CA-B2E82FDC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39CC9-16EC-4F1F-B280-B4547D76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726C7-6D74-450C-8E15-E4A63658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51AA0-36BD-45FF-8173-34DF5737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996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783F15-6D21-41AF-B64C-1802D2773C7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7520" cy="6846840"/>
            <a:chOff x="0" y="0"/>
            <a:chExt cx="9137520" cy="6846840"/>
          </a:xfrm>
        </p:grpSpPr>
        <p:grpSp>
          <p:nvGrpSpPr>
            <p:cNvPr id="3" name="Group 4"/>
            <p:cNvGrpSpPr/>
            <p:nvPr/>
          </p:nvGrpSpPr>
          <p:grpSpPr>
            <a:xfrm>
              <a:off x="2743200" y="3540240"/>
              <a:ext cx="6389640" cy="3306600"/>
              <a:chOff x="2743200" y="3540240"/>
              <a:chExt cx="6389640" cy="330660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2000" cy="26496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5480" cy="128448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19800" cy="15350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0360" cy="33066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78200" cy="85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4040" cy="24368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0" y="0"/>
              <a:ext cx="9137520" cy="281628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24852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9137520" cy="6846840"/>
            <a:chOff x="0" y="0"/>
            <a:chExt cx="9137520" cy="6846840"/>
          </a:xfrm>
        </p:grpSpPr>
        <p:grpSp>
          <p:nvGrpSpPr>
            <p:cNvPr id="51" name="Group 2"/>
            <p:cNvGrpSpPr/>
            <p:nvPr/>
          </p:nvGrpSpPr>
          <p:grpSpPr>
            <a:xfrm>
              <a:off x="2743200" y="3540240"/>
              <a:ext cx="6389640" cy="3306600"/>
              <a:chOff x="2743200" y="3540240"/>
              <a:chExt cx="6389640" cy="3306600"/>
            </a:xfrm>
          </p:grpSpPr>
          <p:sp>
            <p:nvSpPr>
              <p:cNvPr id="52" name="Freeform 3"/>
              <p:cNvSpPr/>
              <p:nvPr/>
            </p:nvSpPr>
            <p:spPr>
              <a:xfrm>
                <a:off x="2743200" y="4197240"/>
                <a:ext cx="4572000" cy="26496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4"/>
              <p:cNvSpPr/>
              <p:nvPr/>
            </p:nvSpPr>
            <p:spPr>
              <a:xfrm>
                <a:off x="6620040" y="4240080"/>
                <a:ext cx="1995480" cy="128448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"/>
              <p:cNvSpPr/>
              <p:nvPr/>
            </p:nvSpPr>
            <p:spPr>
              <a:xfrm>
                <a:off x="4603680" y="5311800"/>
                <a:ext cx="4519800" cy="15350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>
                <a:off x="4362480" y="3540240"/>
                <a:ext cx="4770360" cy="33066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>
                <a:off x="7145280" y="3678120"/>
                <a:ext cx="1978200" cy="85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8"/>
            <p:cNvSpPr/>
            <p:nvPr/>
          </p:nvSpPr>
          <p:spPr>
            <a:xfrm>
              <a:off x="5273640" y="2128680"/>
              <a:ext cx="2894040" cy="24368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0"/>
              <a:ext cx="9137520" cy="281628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996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532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F7A272-E060-478D-AD76-CEC2537DE98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34364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e5e5ff"/>
                </a:solidFill>
                <a:latin typeface="Arial"/>
              </a:rPr>
              <a:t>   </a:t>
            </a:r>
            <a:r>
              <a:rPr b="1" lang="ru-RU" sz="7200" spc="-1" strike="noStrike">
                <a:solidFill>
                  <a:srgbClr val="e5e5ff"/>
                </a:solidFill>
                <a:latin typeface="Arial"/>
              </a:rPr>
              <a:t>Баскетбол</a:t>
            </a:r>
            <a:r>
              <a:rPr b="1" lang="ru-RU" sz="7200" spc="-1" strike="noStrike">
                <a:solidFill>
                  <a:srgbClr val="e5e5ff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55920" y="486864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ffff"/>
                </a:solidFill>
                <a:latin typeface="Georgia"/>
              </a:rPr>
              <a:t>Коротко</a:t>
            </a:r>
            <a:r>
              <a:rPr b="0" i="1" lang="ru-RU" sz="2400" spc="-1" strike="noStrike">
                <a:solidFill>
                  <a:srgbClr val="00ffff"/>
                </a:solidFill>
                <a:latin typeface="Georgia"/>
              </a:rPr>
              <a:t> </a:t>
            </a:r>
            <a:r>
              <a:rPr b="0" i="1" lang="ru-RU" sz="4000" spc="-1" strike="noStrike">
                <a:solidFill>
                  <a:srgbClr val="00ffff"/>
                </a:solidFill>
                <a:latin typeface="Georgia"/>
              </a:rPr>
              <a:t>о главно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4624560" cy="3416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628640" y="5816520"/>
            <a:ext cx="74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39840"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e6e6ff"/>
                </a:solidFill>
                <a:latin typeface="Arial"/>
              </a:rPr>
              <a:t>учитель физической культуры МБОУ Школа №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e6e6ff"/>
                </a:solidFill>
                <a:latin typeface="Arial"/>
              </a:rPr>
              <a:t>Тишков Александр Владими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rcRect l="0" t="23903" r="-1296" b="3930"/>
          <a:stretch/>
        </p:blipFill>
        <p:spPr>
          <a:xfrm>
            <a:off x="0" y="0"/>
            <a:ext cx="9468000" cy="70912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"/>
          <p:cNvSpPr/>
          <p:nvPr/>
        </p:nvSpPr>
        <p:spPr>
          <a:xfrm>
            <a:off x="-625680" y="652320"/>
            <a:ext cx="10397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Garamond"/>
              </a:rPr>
              <a:t>Соблюдайте основные правил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Garamond"/>
              </a:rPr>
              <a:t> </a:t>
            </a:r>
            <a:r>
              <a:rPr b="1" lang="ru-RU" sz="4800" spc="-1" strike="noStrike">
                <a:solidFill>
                  <a:srgbClr val="00ffff"/>
                </a:solidFill>
                <a:latin typeface="Garamond"/>
              </a:rPr>
              <a:t>при ловле мяча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971640" y="2046240"/>
            <a:ext cx="7345440" cy="496836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doni MT Black"/>
              </a:rPr>
              <a:t>Следите за мяч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doni MT Black"/>
              </a:rPr>
              <a:t>Ловите мяч пальцами, а не ладон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doni MT Black"/>
              </a:rPr>
              <a:t>Амортизируйте мяч ру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doni MT Black"/>
              </a:rPr>
              <a:t>Наблюдайте за вращением мя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doni MT Black"/>
              </a:rPr>
              <a:t>Двигайтесь навстречу мяч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doni MT Black"/>
              </a:rPr>
              <a:t>Принимайте мяч на уровне груди, держа локти в сторо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doni MT Black"/>
              </a:rPr>
              <a:t>Охраняйте путь передачи мяча ногами и туловищ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0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Передача мяч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84360" y="5157720"/>
            <a:ext cx="813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50920" y="49417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Это  основа  успех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сех  комбина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765760" cy="3844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327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4776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ffff"/>
                </a:solidFill>
                <a:latin typeface="Georgia"/>
              </a:rPr>
              <a:t>Способы передачи мяч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4800" y="123984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Двумя руками о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6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груд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6240" indent="-3362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Двумя руками с отскок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6240" indent="-3362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Двумя руками сни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6240" indent="-3362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Двумя руками над голо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6240" indent="-3362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Бейсбольная (длинная) передач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4044960" cy="4854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Georgia"/>
              </a:rPr>
              <a:t>Способы передачи мяч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699920"/>
            <a:ext cx="403848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ередача за спин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ередача при ведении мяч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ередача удар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ередача крю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ередача в прыжк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ередача по пол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Одной рукой сниз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6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rcRect l="7084" t="0" r="30540" b="0"/>
          <a:stretch/>
        </p:blipFill>
        <p:spPr>
          <a:xfrm>
            <a:off x="684360" y="1413000"/>
            <a:ext cx="381636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91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Ведение мяч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741840" cy="5472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4572000" y="977040"/>
            <a:ext cx="417672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9840" indent="-33984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Bookman Old Style"/>
              </a:rPr>
              <a:t>ведение мяча 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Bookman Old Style"/>
              </a:rPr>
              <a:t>   </a:t>
            </a:r>
            <a:r>
              <a:rPr b="1" i="1" lang="ru-RU" sz="2800" spc="-1" strike="noStrike">
                <a:solidFill>
                  <a:srgbClr val="e5e5ff"/>
                </a:solidFill>
                <a:latin typeface="Bookman Old Style"/>
              </a:rPr>
              <a:t>ме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Bookman Old Style"/>
              </a:rPr>
              <a:t>по прям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Bookman Old Style"/>
              </a:rPr>
              <a:t>с изменением на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Bookman Old Style"/>
              </a:rPr>
              <a:t>со сменой ру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Bookman Old Style"/>
              </a:rPr>
              <a:t>с изменением высоты отск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1"/>
          <p:cNvGraphicFramePr/>
          <p:nvPr/>
        </p:nvGraphicFramePr>
        <p:xfrm>
          <a:off x="460440" y="1600200"/>
          <a:ext cx="4032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2"/>
          <p:cNvGraphicFramePr/>
          <p:nvPr/>
        </p:nvGraphicFramePr>
        <p:xfrm>
          <a:off x="4643280" y="1628640"/>
          <a:ext cx="403236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62864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3"/>
          <p:cNvSpPr/>
          <p:nvPr/>
        </p:nvSpPr>
        <p:spPr>
          <a:xfrm>
            <a:off x="4716360" y="1557360"/>
            <a:ext cx="3888000" cy="55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Стойка иг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вор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Остан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Фи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ередви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ерехв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ыби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ыры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Овладение отскоком мяч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66ffff"/>
                </a:solidFill>
                <a:latin typeface="Arial"/>
              </a:rPr>
              <a:t>Техническая</a:t>
            </a:r>
            <a:r>
              <a:rPr b="1" lang="ru-RU" sz="4000" spc="-1" strike="noStrike">
                <a:solidFill>
                  <a:srgbClr val="66ffff"/>
                </a:solidFill>
                <a:latin typeface="Garamond"/>
              </a:rPr>
              <a:t> </a:t>
            </a:r>
            <a:r>
              <a:rPr b="1" i="1" lang="ru-RU" sz="4000" spc="-1" strike="noStrike">
                <a:solidFill>
                  <a:srgbClr val="66ffff"/>
                </a:solidFill>
                <a:latin typeface="Arial"/>
              </a:rPr>
              <a:t>подготовка защитни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5"/>
          <a:stretch/>
        </p:blipFill>
        <p:spPr>
          <a:xfrm>
            <a:off x="684360" y="1628640"/>
            <a:ext cx="3573360" cy="4978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29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20400"/>
                            </p:stCondLst>
                            <p:childTnLst>
                              <p:par>
                                <p:cTn id="4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29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54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ffff"/>
                </a:solidFill>
                <a:latin typeface="Arial"/>
              </a:rPr>
              <a:t>Правила иг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71640" y="1700280"/>
            <a:ext cx="158436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ookman Old Style"/>
              </a:rPr>
              <a:t>1 тай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443640" y="1700280"/>
            <a:ext cx="165744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ookman Old Style"/>
              </a:rPr>
              <a:t>2 тай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24000" y="3933720"/>
            <a:ext cx="1296720" cy="79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1 четв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916360" y="3933720"/>
            <a:ext cx="1366560" cy="79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2 четв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4788000" y="3933720"/>
            <a:ext cx="1368360" cy="790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3 четв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7524720" y="3933720"/>
            <a:ext cx="1368360" cy="79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4 четв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9"/>
          <p:cNvSpPr/>
          <p:nvPr/>
        </p:nvSpPr>
        <p:spPr>
          <a:xfrm>
            <a:off x="1692360" y="4005360"/>
            <a:ext cx="1150920" cy="576000"/>
          </a:xfrm>
          <a:prstGeom prst="ellipse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ookman Old Style"/>
              </a:rPr>
              <a:t>2 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10"/>
          <p:cNvSpPr/>
          <p:nvPr/>
        </p:nvSpPr>
        <p:spPr>
          <a:xfrm>
            <a:off x="6300720" y="4076640"/>
            <a:ext cx="1077840" cy="504720"/>
          </a:xfrm>
          <a:prstGeom prst="ellipse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ookman Old Style"/>
              </a:rPr>
              <a:t>2 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1"/>
          <p:cNvSpPr/>
          <p:nvPr/>
        </p:nvSpPr>
        <p:spPr>
          <a:xfrm>
            <a:off x="3419640" y="1773360"/>
            <a:ext cx="2303280" cy="647640"/>
          </a:xfrm>
          <a:prstGeom prst="ellipse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ookman Old Style"/>
              </a:rPr>
              <a:t>Переры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324000" y="5373720"/>
            <a:ext cx="8570880" cy="790560"/>
          </a:xfrm>
          <a:prstGeom prst="ellipse">
            <a:avLst/>
          </a:prstGeom>
          <a:solidFill>
            <a:srgbClr val="7291f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Длительность овертайма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5 минут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3"/>
          <p:cNvSpPr/>
          <p:nvPr/>
        </p:nvSpPr>
        <p:spPr>
          <a:xfrm>
            <a:off x="395280" y="5229360"/>
            <a:ext cx="863640" cy="936360"/>
          </a:xfrm>
          <a:custGeom>
            <a:avLst/>
            <a:gdLst>
              <a:gd name="textAreaLeft" fmla="*/ 0 w 863640"/>
              <a:gd name="textAreaRight" fmla="*/ 739800 w 863640"/>
              <a:gd name="textAreaTop" fmla="*/ 62964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7200"/>
                </a:lnTo>
                <a:lnTo>
                  <a:pt x="12440" y="7200"/>
                </a:lnTo>
                <a:lnTo>
                  <a:pt x="12440" y="14525"/>
                </a:lnTo>
                <a:lnTo>
                  <a:pt x="0" y="14525"/>
                </a:lnTo>
                <a:lnTo>
                  <a:pt x="0" y="21600"/>
                </a:lnTo>
                <a:lnTo>
                  <a:pt x="18500" y="21600"/>
                </a:lnTo>
                <a:lnTo>
                  <a:pt x="18500" y="7200"/>
                </a:lnTo>
                <a:lnTo>
                  <a:pt x="21600" y="7200"/>
                </a:lnTo>
                <a:lnTo>
                  <a:pt x="1547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 flipH="1">
            <a:off x="968400" y="2421000"/>
            <a:ext cx="101448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896400" y="2421000"/>
            <a:ext cx="94140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 flipH="1">
            <a:off x="968040" y="2421000"/>
            <a:ext cx="94284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968040" y="2421000"/>
            <a:ext cx="94284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1908000" y="2421000"/>
            <a:ext cx="172728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H="1">
            <a:off x="5505480" y="2421000"/>
            <a:ext cx="180648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7308720" y="2421000"/>
            <a:ext cx="93528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5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1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96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91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Arial"/>
              </a:rPr>
              <a:t>Подготовка баскетболис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292720" y="1771560"/>
            <a:ext cx="3240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Физическ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ехническ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актическ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орально -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лев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895320" y="1341360"/>
            <a:ext cx="4108320" cy="501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"/>
          <p:cNvGrpSpPr/>
          <p:nvPr/>
        </p:nvGrpSpPr>
        <p:grpSpPr>
          <a:xfrm>
            <a:off x="544680" y="384120"/>
            <a:ext cx="8118360" cy="6058080"/>
            <a:chOff x="544680" y="384120"/>
            <a:chExt cx="8118360" cy="6058080"/>
          </a:xfrm>
        </p:grpSpPr>
        <p:sp>
          <p:nvSpPr>
            <p:cNvPr id="128" name="Line 2"/>
            <p:cNvSpPr/>
            <p:nvPr/>
          </p:nvSpPr>
          <p:spPr>
            <a:xfrm flipH="1" flipV="1">
              <a:off x="3165480" y="2341440"/>
              <a:ext cx="722160" cy="54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3"/>
            <p:cNvSpPr/>
            <p:nvPr/>
          </p:nvSpPr>
          <p:spPr>
            <a:xfrm>
              <a:off x="1436760" y="1049400"/>
              <a:ext cx="2027160" cy="1511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3399"/>
                  </a:solidFill>
                  <a:latin typeface="Bookman Old Style"/>
                </a:rPr>
                <a:t>останов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4"/>
            <p:cNvSpPr/>
            <p:nvPr/>
          </p:nvSpPr>
          <p:spPr>
            <a:xfrm flipH="1">
              <a:off x="2571480" y="3416400"/>
              <a:ext cx="102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5"/>
            <p:cNvSpPr/>
            <p:nvPr/>
          </p:nvSpPr>
          <p:spPr>
            <a:xfrm>
              <a:off x="544680" y="2657520"/>
              <a:ext cx="2027160" cy="1511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800" spc="-1" strike="noStrike">
                  <a:solidFill>
                    <a:srgbClr val="003399"/>
                  </a:solidFill>
                  <a:latin typeface="Bookman Old Style"/>
                </a:rPr>
                <a:t>передвиж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 flipH="1">
              <a:off x="3166560" y="3951360"/>
              <a:ext cx="72252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7"/>
            <p:cNvSpPr/>
            <p:nvPr/>
          </p:nvSpPr>
          <p:spPr>
            <a:xfrm>
              <a:off x="1436760" y="4265640"/>
              <a:ext cx="2027160" cy="1511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3399"/>
                  </a:solidFill>
                  <a:latin typeface="Bookman Old Style"/>
                </a:rPr>
                <a:t>вед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8"/>
            <p:cNvSpPr/>
            <p:nvPr/>
          </p:nvSpPr>
          <p:spPr>
            <a:xfrm>
              <a:off x="4606920" y="4173480"/>
              <a:ext cx="0" cy="75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9"/>
            <p:cNvSpPr/>
            <p:nvPr/>
          </p:nvSpPr>
          <p:spPr>
            <a:xfrm>
              <a:off x="3589200" y="4930920"/>
              <a:ext cx="2027520" cy="1511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3399"/>
                  </a:solidFill>
                  <a:latin typeface="Bookman Old Style"/>
                </a:rPr>
                <a:t>передач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0"/>
            <p:cNvSpPr/>
            <p:nvPr/>
          </p:nvSpPr>
          <p:spPr>
            <a:xfrm>
              <a:off x="5324400" y="3951360"/>
              <a:ext cx="71604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1"/>
            <p:cNvSpPr/>
            <p:nvPr/>
          </p:nvSpPr>
          <p:spPr>
            <a:xfrm>
              <a:off x="5743440" y="4265640"/>
              <a:ext cx="2027520" cy="1511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3399"/>
                  </a:solidFill>
                  <a:latin typeface="Bookman Old Style"/>
                </a:rPr>
                <a:t>ловл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2"/>
            <p:cNvSpPr/>
            <p:nvPr/>
          </p:nvSpPr>
          <p:spPr>
            <a:xfrm>
              <a:off x="5619600" y="3414600"/>
              <a:ext cx="101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3"/>
            <p:cNvSpPr/>
            <p:nvPr/>
          </p:nvSpPr>
          <p:spPr>
            <a:xfrm>
              <a:off x="6635880" y="2657520"/>
              <a:ext cx="2027160" cy="1511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3399"/>
                  </a:solidFill>
                  <a:latin typeface="Bookman Old Style"/>
                </a:rPr>
                <a:t>броск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4"/>
            <p:cNvSpPr/>
            <p:nvPr/>
          </p:nvSpPr>
          <p:spPr>
            <a:xfrm flipV="1">
              <a:off x="5322960" y="2339640"/>
              <a:ext cx="71604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5"/>
            <p:cNvSpPr/>
            <p:nvPr/>
          </p:nvSpPr>
          <p:spPr>
            <a:xfrm>
              <a:off x="5743440" y="1049400"/>
              <a:ext cx="2027520" cy="1511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3399"/>
                  </a:solidFill>
                  <a:latin typeface="Bookman Old Style"/>
                </a:rPr>
                <a:t>фин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6"/>
            <p:cNvSpPr/>
            <p:nvPr/>
          </p:nvSpPr>
          <p:spPr>
            <a:xfrm flipV="1">
              <a:off x="4605480" y="1897200"/>
              <a:ext cx="0" cy="761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7"/>
            <p:cNvSpPr/>
            <p:nvPr/>
          </p:nvSpPr>
          <p:spPr>
            <a:xfrm>
              <a:off x="3589200" y="384120"/>
              <a:ext cx="2027520" cy="1511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3399"/>
                  </a:solidFill>
                  <a:latin typeface="Bookman Old Style"/>
                </a:rPr>
                <a:t>поворо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8"/>
            <p:cNvSpPr/>
            <p:nvPr/>
          </p:nvSpPr>
          <p:spPr>
            <a:xfrm>
              <a:off x="3589200" y="2658960"/>
              <a:ext cx="2027520" cy="15130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Техника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напад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AutoShape 19">
            <a:hlinkClick r:id="" action="ppaction://hlinkshowjump?jump=nextslide"/>
          </p:cNvPr>
          <p:cNvSpPr/>
          <p:nvPr/>
        </p:nvSpPr>
        <p:spPr>
          <a:xfrm>
            <a:off x="8028000" y="5805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20">
            <a:hlinkClick r:id="" action="ppaction://hlinkshowjump?jump=nextslide"/>
          </p:cNvPr>
          <p:cNvSpPr/>
          <p:nvPr/>
        </p:nvSpPr>
        <p:spPr>
          <a:xfrm>
            <a:off x="8028000" y="5805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П</a:t>
            </a: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ередвижение баскетболиста</a:t>
            </a:r>
            <a:br>
              <a:rPr sz="3600"/>
            </a:br>
            <a:r>
              <a:rPr b="1" i="1" lang="ru-RU" sz="2400" spc="-1" strike="noStrike">
                <a:solidFill>
                  <a:srgbClr val="00ffff"/>
                </a:solidFill>
                <a:latin typeface="Arial"/>
              </a:rPr>
              <a:t>Важный фактор для достижения успеха – умение изменять скорость передвижения</a:t>
            </a:r>
            <a:br>
              <a:rPr sz="28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8800" y="1628280"/>
            <a:ext cx="403884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00" spc="-1" strike="noStrike">
                <a:solidFill>
                  <a:srgbClr val="00ffff"/>
                </a:solidFill>
                <a:latin typeface="Bookman Old Style"/>
              </a:rPr>
              <a:t>   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6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аг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6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гом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ринтерский бег (вперед лицом и спиной, в боковом направлени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тавными шагами (вперед, назад, боко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6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ыжками: толчком одной и двумя нога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6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тановки: шагом и прыжк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6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ороты (пивотировани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16360" y="1773360"/>
            <a:ext cx="386100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ивотирование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– </a:t>
            </a:r>
            <a:r>
              <a:rPr b="1" i="1" lang="ru-RU" sz="2800" spc="-1" strike="noStrike">
                <a:solidFill>
                  <a:srgbClr val="00ffff"/>
                </a:solidFill>
                <a:latin typeface="Arial"/>
              </a:rPr>
              <a:t>прием, при котором, стоя на одной осевой ноге  и переступая другой, игрок меняет направление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68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Разновидности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ередний пив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тационарный пив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ивот у боково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н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ратный пив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чающийся пив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5119560" y="2060640"/>
            <a:ext cx="3741840" cy="4398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Финт</a:t>
            </a:r>
            <a:r>
              <a:rPr b="1" i="1" lang="ru-RU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– </a:t>
            </a:r>
            <a:r>
              <a:rPr b="1" i="1" lang="ru-RU" sz="3200" spc="-1" strike="noStrike">
                <a:solidFill>
                  <a:srgbClr val="00ffff"/>
                </a:solidFill>
                <a:latin typeface="Arial"/>
              </a:rPr>
              <a:t>прием, с помощью которого игрок старается скрыть свои основные действия от противник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672000" cy="424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нты без мяч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полняют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 рыв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 поворо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 передвиж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 ловл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 засло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03640" y="2204640"/>
            <a:ext cx="3538800" cy="424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нты с мяч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полняют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 передач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 брос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 ве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 повор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Владение мячом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157400" y="1177920"/>
            <a:ext cx="7159680" cy="5370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ffff"/>
                </a:solidFill>
                <a:latin typeface="Arial"/>
              </a:rPr>
              <a:t>Ловля – </a:t>
            </a:r>
            <a:br>
              <a:rPr sz="4800"/>
            </a:br>
            <a:r>
              <a:rPr b="1" i="1" lang="ru-RU" sz="3200" spc="-1" strike="noStrike">
                <a:solidFill>
                  <a:srgbClr val="00ffff"/>
                </a:solidFill>
                <a:latin typeface="Bookman Old Style"/>
              </a:rPr>
              <a:t>это прием , с помощью которого баскетболист овладевает мячом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2840" indent="-492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двумя руками на уровне груд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2840" indent="-492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двумя руками ниже поя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2840" indent="-492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двумя руками над голо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2840" indent="-492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мяча двумя руками с полутск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2840" indent="-492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мяча одной рукой на  уровне груди с поддержк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2840" indent="-492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мяча одной рукой на  уровне груди без поддерж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plit dir="out" orient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7:18:08Z</dcterms:created>
  <dc:creator>user</dc:creator>
  <dc:description/>
  <dc:language>en-US</dc:language>
  <cp:lastModifiedBy>Школа11</cp:lastModifiedBy>
  <dcterms:modified xsi:type="dcterms:W3CDTF">2023-02-06T19:05:19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