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  <p:sldId id="289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slide" Target="slides/slide3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6BF5-C424-488D-A5ED-AA3866AD17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CA47-D170-4720-9A7E-A9E3535CAB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2659-FBA9-42D2-B771-A36596881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4DCC-FBF9-444C-88AD-57B0CADC6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8FAE-E124-433A-A24D-0B56AF722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CA8A-0665-4072-86D3-67B8923B0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CD6C-C472-478D-81B6-C34B4239D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3E37-F29F-47E6-A632-0E7F90BC46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3082-0C67-4C60-9A23-57F3C53AA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FFA2-E92D-46D7-8ECC-7FA7F5C97B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7B9B-FD0A-4564-BA8C-EE6088908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4677-0909-4AD7-8575-FC821036A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E10A-8015-4885-87FE-65C22AB72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5F73-1A48-4756-87E9-48A5133196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642-5555-47B9-8FAC-C64E89AD37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3E28-FA63-4BCB-B47A-CBDD1DE787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B3B0-3994-4C03-B7BB-ABC76F590F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C638-1061-403C-8331-221F6871CC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C863-6600-4702-81E6-5C2FCE17A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8EFF-2F2D-45E4-9EA0-1EE95F330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7EF8-E81C-49EC-ABEB-45FB0BC041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5369-A22F-4222-906B-511AA621F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D268-C050-49B3-A5ED-5A5532186A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AE2-91FE-4367-9917-9BBA6DFF4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2917-D66C-4FB4-B4C3-415238740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F152-1119-41E7-8230-F2A8E7B7D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A25B-BD1B-41EA-9911-3CEB82C6A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3652-51B2-486D-A3CA-41493DC99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05B6-6BA8-40DD-9B38-0EC3B9E5D0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A621-2318-48DE-89FF-9124744B2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41AD-851E-41E8-82C5-89A70C9FD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C656-37DD-4DCD-BD2E-6BDAC66AE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4988-64D9-4D22-91DF-32A4F782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523-536C-4799-97BC-0B6A2CA1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81ECD-879E-4A15-B5DD-D3AB312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B7CB7-86F4-4958-B2CF-B9DDB12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ADD96-30C1-4058-9CFC-A9EB4C5A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01411-50CF-486C-81C5-AFE19411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1EF0C-A918-41DB-98CB-DF3B1CA0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8EA02-3FE5-439A-BF86-8277FC31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13F17-0C39-4C02-B879-AFAB883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C4CD8-07BE-434E-90E2-7205C56D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98AD4-EFA0-4821-8089-1F2F2D2D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C8654-3F94-4BED-A5AD-80F95B6F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520-FF0A-4A7E-9DF4-AE0BFD68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A8213-CA8D-41B7-8B2B-07048AA4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9B627-2794-4C6F-A104-FCE9F472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503DA-CD9B-4411-88C8-AAF832EE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5CE32-F6D5-46DB-AC37-62B01389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37763-9E57-42B5-86EC-D170B69A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ED2BA-A009-4DCC-8CDE-1C1ECBD6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999A8-4637-400B-A15E-87B90F44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AB449-F16B-4BB8-83E4-E1A3ADB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FCC8C-7F24-4D98-8F25-147D3999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87BA5-E334-4531-9238-3F6604DB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595-478B-48E3-BAB6-C146DA85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49031-1D57-4902-9409-8C5D43CB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A6738-EE9E-4E3A-A454-AF0D1453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D0B15-B625-448A-B930-D3A3AB9D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801AA-FB56-4AB4-8FE7-B432E7E2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1DDC7-BFD4-4C6C-A679-17DC52A4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AAD85-D7C2-48B5-97DA-D086819E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8F887-A395-4C2A-9737-E452AF3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D5CA8-1E91-4F57-8072-77C6E866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9CFB6-0606-4029-A891-25D23334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D14DE-B37B-4E29-A808-C1B39072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8A7C-5EE6-45BE-9235-6837A1A8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B190B-D5F2-4B4A-91D1-D8AC053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B6FAF-209A-4C39-BB28-B5A1E3FB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0E7AC-8DA7-4684-8627-1306FBB6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AF9F2-A04C-487C-906F-40D2D163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266ED-9264-4659-B4E1-D8D76F97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AEE13-A838-4CCE-B403-3B88027F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42F1F-0BEF-4990-8261-30B1246E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5557A-D660-4A14-85AD-C9411F63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51453-7004-4661-A181-B5EDCFC1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02DFE-5E50-4E78-8E5D-D3C5D5D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D37-432A-4C4B-8BA3-E77B3742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A7175-9691-4C46-BA23-27D26158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E9055-60DA-4059-8FE1-75E2E308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8A325-6AA0-479E-A1BF-94247E7D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9CEFE-6E2D-46EF-9FA0-D9E6ABCB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AE2A4-61CA-4AE9-9B2F-29AA378F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BC3CD-2FBB-4C4E-B618-590FA6B0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9D401-8DDD-465C-9C44-D7110E94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6BB055-BFF9-4101-8DD8-F0282C3E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67DF1-5AF4-4CD6-8220-8A17BD9D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AA94F-933A-4B72-A89C-A7C4626B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2154-625B-4516-AC12-31763735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07A38-422A-44A1-8DA0-1BAF8F3F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D3A93-B69E-477F-A48B-E911E2B9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13401-9FB9-4469-A923-7844B82F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F7195-B35C-430F-84D6-8859703D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CFF55-2056-4428-9F64-3B8BB09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325FC-5A01-460D-8709-6F00BA88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DCE40-E4D3-43DC-802B-B4406146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AA166-416B-42C1-9E1B-4A124EF4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59B75-22E9-4C95-85B3-255B3173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DF40D-806C-462C-8B9F-1AD51066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653A-691E-4208-8D99-9E3669AA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B3A39-4E74-42DE-B3F5-31FAE7F5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344E2-7D94-4ED2-99F2-DF7F0D06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AFC75-1B23-403B-9454-3D96DA48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DCA82-44AB-4416-8CD8-7ED882E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14E1D-4F5E-4219-A8C7-BF5D670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1F527-F1B6-4382-9292-B6FB55F1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0E1C1-5DA4-4645-9620-62ECF467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71F85-1709-4212-9506-996494F7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444FD-A033-449C-8ACB-4D852DF1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BD6255-847D-44F9-8ACC-0F68F33F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BFB2-908A-48C9-8F25-BC608C20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5CEDD-FD14-40BD-B479-B35F27ED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5653D-87DC-4DC5-AC7B-5A7E0C3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14488-90F3-459F-A61E-5D3F80C8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14178-AC3A-40B9-85B3-384187C6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B0647-F80E-428A-9CBE-9D5392EB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3F68B-F5DD-4222-947E-A92374CC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6AB5C-53E3-4165-86D6-EF0614E7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BAA3A-05A4-4F68-8B88-2B4ADD8E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2B78B-2A8B-4053-AB4F-70ED103E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FAD6A-FC42-4266-A372-86104A32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BA46-58F3-431D-B206-80E030CC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D79DD-75F9-4B69-9C48-50217AAF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FA75E-AAAA-44EE-835D-BF226448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0567C-AB29-4C66-A063-596DA57B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C5EEF-6BAA-488E-8FDF-1B88A903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435A6-0DFC-433F-BD5F-3E5DD051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C4FF8-E530-476F-9D29-3CA33907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13571-7DAA-4EA9-A393-905945DA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00E9A-B800-4B45-B40B-2774C73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0C931-B991-4FC0-84C9-2D467669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D43B7-204C-4F33-9476-0A624B6A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B791-45D4-40BE-9B4F-B113A421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BDB79-D2E4-4CE3-BA8E-F7C8F03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B5722-7CB0-45A1-9BB0-C81B89EE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10122-F2BE-481C-B1E5-C6ED5BF2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DF7838-1C38-4E8F-B02D-3758605B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50C72-6164-405D-902C-FBC1CF5B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C9EBA-EAFE-4A40-A137-D119FDF4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47EB6-DB04-4E6B-907F-7043C3ED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310A6-CF6E-44B3-989E-6B438449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945286-A722-48B8-8365-B7BE09FE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4F1FF-5999-4126-AA38-C813E2F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1F4-76F9-4968-B1F2-7B2C33F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491F-D7F1-4225-A423-1638682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0023B7-1069-4DE7-83FF-8B981B97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6B873-72C2-44E8-A343-22027BB6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192210-463C-46DB-AC4B-7C2E9CFF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39C0D-74C5-4D55-87D2-97A363DE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F46C4-178D-4B26-B1E3-EDA72F7C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DBF0C7-1DB9-4094-A34F-D86C675A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F63AA-8FD2-4680-BD28-B6DFFCF5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EE8EED-98CE-4B36-A8D3-2A9309D4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279726-F477-4A7E-825F-08D2AA6A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CBDECF-A998-4E1C-B42C-EB251C33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D76F-EED8-426A-8417-87CB013F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F17E9-5BAA-4DCA-9E01-AE78FAB3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B4F83-683B-4552-9895-F2B817B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D0272B-E717-4580-BAC1-0E93889E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E104E-E6EF-4EFA-B71A-FDB639FF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38FB53-359B-4C43-9DEC-2B785592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7C702-BE97-4D39-A265-045D4C61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CC6C3-B499-4223-B4D7-7384107E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D2BDA1-F4B4-4FE1-8EA4-AE4E73AB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519DB-FC95-4633-9D04-C3DCDF61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EF63D-3392-43DF-A3A0-EDF76552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4477-4D93-4EBB-A3B3-E54260BB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9680D7-B6EF-4556-AD28-3BB09B83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0AA948-E1CE-45EF-A64E-F9E39A69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B41F1E-8882-477A-85EF-230E9E05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6D841D-A6C4-4EAE-B0F6-A1ED7785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09160-3CA9-4451-8FD1-91FAC9DB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2C1595-3CE6-4EFF-8937-8B090319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C6623A-1C75-4255-BC54-71DB6952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1B0504-587B-4E3A-8EE8-6E159245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6E7458-8822-4A61-A9E6-75BA3C6C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03EF6C-C48A-462A-9C2D-F62CEB54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D03-FB61-4BEF-B079-358605B6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A6609-7395-48B3-B2E6-97CD632B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93CF2-C6AA-4C8C-96DA-9022BB40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D47A6-9172-462D-B18D-886214F7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EB3FD-F1FC-4184-B564-C00C621C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56C11C-3279-4F38-B196-6B5BC0EA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A0BAF6-3FE9-4FC2-ACE8-21D6BD9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3DE6E-6301-406A-A211-E7E3E6DA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D12135-4DEA-40BF-843C-9DDC4E91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1B8FB-FA55-4D0F-BBEE-E2DA1CE6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B2544C-9903-40D8-81F3-376852CC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1D78-14F9-4D2E-BC29-CC4A9DEA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A94FC-1C86-46B0-BD1F-A7A80316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A563C-01A7-4DD8-AF37-12DDFA4F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A8423E-316D-4C6D-A074-EB723FAD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A446B5-4E93-44BC-9368-13919987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680EC3-868F-42FA-807E-3C5637F7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A27EA-026D-4222-BB81-B61F00CB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89F8E3-CAF2-4F8C-B913-950EDAF4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E1B6F-DB68-4182-8C9D-5E775F3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F7A5B-B92D-45E7-B0CF-C8306EE3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28FE8-01A1-49DC-AE93-B2C7EBFB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738B-6D77-4577-A443-A8FBBFF3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DDD2F-B6ED-4A31-A770-60322074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59801-8089-4970-9F00-BB9790A1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CE77B5-33B5-4C68-9309-CB57BE1B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BE3DB9-EF2D-485C-8901-622123A2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E49051-02E5-47A0-BBBD-7965E19C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80BEB0-71AB-499A-9E9B-9760225D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FB8964-D97B-40A8-8830-B61F37E8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9C4C3B-45AB-41D1-AC90-5BF284E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E4629A-0F02-40ED-9BA4-1B328A13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B95678-A608-473B-97D2-0858FDE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54C5-534A-46C3-B157-03D8DF0B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BB35C-23A4-4742-9B67-A4F7B9EB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ED7E38-B1E7-481E-92A5-A4EFFA5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EADDAB-9AC9-46CE-96B8-7EE388C5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E0C1A2-5F84-4F9B-9C2C-2C51156C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7302BC-8186-43D1-9303-89CD5D88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C2ECAC-4C81-4871-BC99-5FB51F54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E1155E-3628-4115-BAD0-0CB075AA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583246-5D2F-4334-8357-EB331B4B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FFAF3F-41B1-434C-9EE6-128A0A0A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79F5F2-D69F-418E-A125-6E170F0C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DFE3-6193-4384-9DEC-385E7B37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6135A-8156-4018-B90B-A57E4F9C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357691-4BB2-4B19-9823-1EBAB7A5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82BFD2-B499-4A4C-9C33-F93ADC25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435C49-6357-431D-AD24-7EA02A6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FED172-9F18-43B7-8BF3-10E6D326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E62AC1-E3C6-4368-991B-E96D03EA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314DCE-0DC2-4A0E-9F80-FCD536F6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29E1AF-8C7A-4551-A3CD-0964971B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39EA02-BFFC-4989-B600-3360C1AE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733302-EF26-4EA6-8A2E-B506663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B0540-9A4D-463C-892B-D795C45A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1EA000-80CE-4517-8FC2-2EF20D2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CCCE53-D4DC-4DC8-8C42-D4A4DF12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D30EC2-474F-471C-9FBC-932CFFC6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12B509-9F0E-4514-8DEB-AB548ED0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A50155-4B03-4E57-B82B-3D4AB6C6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69439C-B877-4F37-901C-6F6602F5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FA3C98-80CB-4AC9-898A-0B6615D1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B2F5F5-7EC6-4650-A7DD-C7E8F1E3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2B20E9-8502-4CFA-9716-D01BCD72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F77BE4-1B1E-48AD-8738-2A97FCA1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67C31-BBAF-43E8-B617-1E92DA30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2A2512-B371-40BA-A5EB-74058668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314314-C8B4-4EF1-A328-DE5A0CF6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1BE564-C2C0-418E-B35C-C380FB4F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F39CA6-A549-40E8-ADB7-D3AE06BB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89AFAD-5AA8-412C-89E2-D208D29B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AB7FE4-6B75-432D-ABC2-936CAE07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4C4351-5EED-4DE6-862A-A52E8837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8DD31D-7856-48D1-8BFC-5222B3BF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5F4C7F-2317-4DF6-AFE8-7641FFD3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EB20891-CF95-4932-ABE4-957ABF73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BA2-669A-4F7D-A105-BFD33425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E86A-50D0-407E-80E2-6682A986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664EBD-4481-446F-95FE-74E387BF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74045F-3065-49B8-8BE9-DEB006AD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66105C-4FE0-4D09-8F29-917EE235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F21703-256C-4413-AA72-FDC029D3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1D7CCC-C1E1-4F76-A4A1-D03A5F04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DB1AEE-F283-4471-B9EC-1BBFE045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1FD05D-F483-416C-8B73-AB892D89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6F21F3-DCAF-4F7D-AECA-CCDF68C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2096DC-DAF7-402F-BCB5-3827A26A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1C89D9-BAB2-4B6B-B801-94487AB7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9D71F-B48A-4C3A-A8B3-C227E172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1DC2E9-E747-4F7D-858C-30F486AC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60589B-9B72-45D1-95E0-FD2B2E62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4B1BA0-C436-4263-8036-38F716F1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0DFADA-A1B1-400B-A326-AE3182FE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4585AA-87C1-4EB9-B40D-3FD3D811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89F113-C42F-47EF-ADCA-FB25EF82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66B496-11A2-4D3A-85B6-85C7D147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623E95-702C-4E40-8997-E50151A8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1E0B10-24DE-4A8B-B32B-732B4324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7C2496-6909-4B81-9F4B-24C2CBE4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BC10-9ECC-410D-92C4-FBE48A5F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F74292-0915-4047-84E0-38905EE7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853E12-C374-43F8-8789-B73EC85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B1A0C3-BD63-40C7-8A16-7453C5B8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20E95D-C8C7-4B2F-B0EF-7F8D5402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D6165F-7028-44F7-9749-4657FBD3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8A9DBF-7AEC-424E-9F7F-54DAA358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A04E4D-0A6F-432A-BBF0-EF147940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CCCB7A-7511-4B61-8D89-8E49639D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04372E-685A-4CA3-B42A-B36AB941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BD71C2-EC84-4AA1-99EF-59ED2090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6BAFA-8957-4C3F-84C9-1C6CFE5A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ED94CF-DD5C-41BE-99A5-CF9CC5E1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6FEAE4-C190-4180-BD9B-A6FFAE7F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72FE71-A2EA-4F24-818C-CB98E91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E27A7D-6610-4410-9930-D1DC226F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055487-32CB-45D6-9563-E93BCE85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1969EA-99D7-4A4B-9091-98477745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A95539-8A16-406C-9688-92A38DA8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2E7A-2806-4F3A-9F8B-13B18754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02989-DFFB-4589-918E-BE61D6C9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A706-D7C2-4B56-B4B4-FE196F9D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A9857-CC33-4DF0-86D9-72D832C8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AA6BD-6D1D-4722-802B-53E6CFA6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BE50-6F47-4C40-A60F-4BA9F56E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DDB-205C-4F79-A1E5-4F4BA844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2D84-6BA3-4C55-9A1D-B261BD30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58AB9-9583-4461-B58C-F13CA06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6522-490D-4CBB-A38E-C27FF24F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354AC-951E-43D0-AE22-AE5C4F0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ACF9-6C23-4314-931F-FD0C2DC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93F9E-8EDD-438C-83C8-E51246F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82214-F1B9-4974-8B86-6B11E708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A63C-6B1A-45A1-9D99-6E8BE5C9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B9176-38C5-47E6-97B5-CBABAE09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0EDFB-0204-4690-A16B-0DF65B6C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6CD-08FA-4775-A8EE-08904698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53D02-3C82-4106-97C3-9A6F24AF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AF53-C9BC-4EFD-B3AD-0C2DC387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9D6E-E778-4BE0-A650-D43C0F03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8AFAF-581B-4BB8-A94A-A8F5FEB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7E7E1-B3E5-4EE2-98CD-1FB7DC23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34C30-AD19-440C-BB45-3B26B020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FFDE1-FA07-4BEF-846F-7CB95B37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A36D-96B4-4D6E-A106-F7438AA7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6B49-C440-4C16-8BA7-156F5B88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7DF4E-F8AF-4208-B586-52F6B766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FE2-94D0-4595-9F6F-B91EBBC4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A0FE-588F-4380-B3DD-2C377368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8FDAD-3488-4C23-ABCE-A94518E7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11D2-01DC-417C-B47F-F3AF9641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E031F-9F1B-409F-A0A1-5B13E2EF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D983-0564-4373-AF3E-6D6641BC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1A400-7070-44B7-BAC1-46A63DB2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9F32-C353-460B-9BA7-BFB7A964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33C9D-BFC0-4111-9069-F15EF1A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7330B-3714-4FB4-92FB-4D839FB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E5BF5-24AE-4ECA-AC27-8F025F2B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78C-0ECF-4CBC-9243-67A0F407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E344E-D690-4ED9-BCDD-3AD71CAE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36D8-2752-4A14-9EBE-5D6DE41A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C5EF-D60F-4377-B91D-861CB1F8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A4D5B-6556-48D6-B127-0116ADE8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6B53E-F24A-4E50-8D40-FFF57F64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FFC7B-F68D-4752-945E-B919CAA6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4EAE9-062C-47F0-9D15-A11082C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79D62-B4BE-4802-B27B-35320A53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F005F-BF4E-482F-A14A-D4301DC3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623B6-9120-4CB9-A6C1-DBA0B12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ABA-729F-4F9B-93CC-A6E68847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1A960-D9B2-4792-8CB5-83E31838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CD1A8-B91B-458A-9AC3-E6F55C6E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B0B5A-B834-46BB-9F70-28408712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39673-1687-4394-971D-0FDFCCD6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2F902-DA30-4C2E-9B28-89A2863C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F6E2E-332D-4E77-A942-264831C8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46CE-2C8B-4166-B42E-BF760C95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C2FD7-7926-4AE6-B5AB-C1CE14EA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122C5-28C5-4776-9257-E600F8B8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1233E-BCED-4BFF-94E5-915B0DCE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BE7-EF80-4C80-BED3-F51E68F3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68DFF-180B-4ABC-B139-5F2F3B55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27269-C263-4AD3-92B3-B2E32594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F3BFB-5547-4FDB-B31A-935B3DF4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D4052-0DDA-4A38-9029-089A9016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190F2-63D4-484A-994F-B1147A40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DD500-D550-473D-8AF5-381E833B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4479F-6157-42DE-905D-1040109A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070D1-149F-4221-905B-AA6DB573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72EFA-AB30-48CC-8D5D-1A20661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EBE47-72A3-43ED-98C3-24ADCA5A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821B-76CA-486C-A5F3-A59D85E0B72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6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9DA4-704C-4E4D-A383-C4776325A23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2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41AA-6596-4873-A127-66EF30086EA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7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3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3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3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40AD-3065-4556-902C-191B7814D50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2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C0EA-9F99-4B3A-B4AA-FB59EAAE75D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8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40BE-FC6A-4A4C-91BC-7039E968BE5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3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9B98-B8FB-4402-BA18-BD3D50FAE9E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78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1703-7E5B-487D-9A45-499F615FC7A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3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4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5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71D8-9430-4AA0-BD21-CE84C55A574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88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5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5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5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BAF5-7AC8-4643-A401-353E7242495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A474-A9FF-4B7B-841D-661974046C6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A60A-97FF-496A-8E4A-302F6844FA5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9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8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9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60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CF0D-F16C-4B82-A687-B38FEC0BDE0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4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6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6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6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C06C-5A8F-41B5-90A5-6A14C75E057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9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6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6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6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B8E1-9F73-4158-9960-9090F7AA54C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4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dt" idx="6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ftr" idx="6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sldNum" idx="6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8721-C6E6-463D-9847-5C9FE75E76D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0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7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7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7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3CA8-667E-42B4-88F3-FB5B709D9C7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2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3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7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7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7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65CC-FBED-4737-8AB0-126F3547635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0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7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7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7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68FB-6B3B-49F9-824C-DA76872784A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3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7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8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9830-DEB1-42F0-8C01-1A218334467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8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8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8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40D2-E94B-43E7-9075-CA849B3F79D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76F1-B187-4C24-AA2A-6E13C1735A5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9C79-24EC-47E0-A93F-3BA36B68CC2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48D2-8AC6-462C-915E-1C9D6FD8454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67CC-7A68-4E44-9F98-9DC33C0ECED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15D2-30D8-494A-BEB3-7162A2C64F4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0EA-1B6D-4C7C-8B0B-8853F65814F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4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1519-919C-4265-8CB2-58D89A13370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23640" y="50760"/>
            <a:ext cx="7740360" cy="684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Государственное автономное профессиональное образовательное учреждение Чувашской Республики </a:t>
            </a: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«Мариинско-Посадский технологический техникум» Министерства образования и молодежной политики Чувашской Республики</a:t>
            </a:r>
            <a:br>
              <a:rPr sz="2200"/>
            </a:br>
            <a:br>
              <a:rPr sz="2200"/>
            </a:br>
            <a:r>
              <a:rPr b="0" lang="ru-RU" sz="2800" spc="-1" strike="noStrike">
                <a:solidFill>
                  <a:srgbClr val="2a5010"/>
                </a:solidFill>
                <a:latin typeface="Times New Roman"/>
              </a:rPr>
              <a:t>ОСОБЕННОСТИ ОБРАБОТКИ НАКЛАДНЫХ КАРМАНОВ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Преподаватель: Васягина Людмила Анатольевна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2a5010"/>
                </a:solidFill>
                <a:latin typeface="Times New Roman"/>
              </a:rPr>
              <a:t>     г. Мариинский Посад 2022</a:t>
            </a: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Шв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99" name="Рисунок 6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Шв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02" name="Рисунок 4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4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05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08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1" name="Рисунок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4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17" name="Рисунок 5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Эпох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20" name="Рисунок 4" descr=""/>
          <p:cNvPicPr/>
          <p:nvPr/>
        </p:nvPicPr>
        <p:blipFill>
          <a:blip r:embed="rId1"/>
          <a:stretch/>
        </p:blipFill>
        <p:spPr>
          <a:xfrm>
            <a:off x="0" y="1068480"/>
            <a:ext cx="9252000" cy="5960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23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26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66760" y="333000"/>
            <a:ext cx="7696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250560" y="1141560"/>
            <a:ext cx="7777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74" name="Рисунок 3" descr=""/>
          <p:cNvPicPr/>
          <p:nvPr/>
        </p:nvPicPr>
        <p:blipFill>
          <a:blip r:embed="rId1"/>
          <a:stretch/>
        </p:blipFill>
        <p:spPr>
          <a:xfrm>
            <a:off x="468360" y="1201680"/>
            <a:ext cx="8675640" cy="5716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29" name="Рисунок 5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32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35" name="Рисунок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38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41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44" name="Рисунок 6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47" name="Рисунок 4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О карманах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50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Физкульт пауз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53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Техника безопасност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56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69608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7f1601"/>
                </a:solidFill>
                <a:latin typeface="Trebuchet MS"/>
              </a:rPr>
              <a:t>Вводная част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179280" y="779400"/>
            <a:ext cx="784080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77" name="Рисунок 3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онтрол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59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онтрол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62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онтрол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65" name="Рисунок 4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онтроль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68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А где всё это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394920" y="114624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571" name="Рисунок 4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Классификац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80" name="Рисунок 3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Терми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83" name="Рисунок 4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Терми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86" name="Рисунок 5" descr=""/>
          <p:cNvPicPr/>
          <p:nvPr/>
        </p:nvPicPr>
        <p:blipFill>
          <a:blip r:embed="rId1"/>
          <a:stretch/>
        </p:blipFill>
        <p:spPr>
          <a:xfrm>
            <a:off x="0" y="836640"/>
            <a:ext cx="10188720" cy="6264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Термин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89" name="Рисунок 4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Фарту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92" name="Рисунок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37600" y="333360"/>
            <a:ext cx="769644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32313"/>
                </a:solidFill>
                <a:latin typeface="Trebuchet MS"/>
              </a:rPr>
              <a:t>Фартук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468000" y="1197000"/>
            <a:ext cx="77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1080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495" name="Рисунок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pic>
        <p:nvPicPr>
          <p:cNvPr id="1496" name="Рисунок 4" descr=""/>
          <p:cNvPicPr/>
          <p:nvPr/>
        </p:nvPicPr>
        <p:blipFill>
          <a:blip r:embed="rId2"/>
          <a:stretch/>
        </p:blipFill>
        <p:spPr>
          <a:xfrm>
            <a:off x="0" y="936720"/>
            <a:ext cx="9144000" cy="5949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8:44:11Z</dcterms:created>
  <dc:creator>Admin</dc:creator>
  <dc:description/>
  <dc:language>en-US</dc:language>
  <cp:lastModifiedBy>Виктор</cp:lastModifiedBy>
  <dcterms:modified xsi:type="dcterms:W3CDTF">2023-02-06T19:08:00Z</dcterms:modified>
  <cp:revision>196</cp:revision>
  <dc:subject/>
  <dc:title>ОТЧЕТ ПО ВОСПИТАТЕЛЬНОЙ РАБОТЕ ГОУ ГИМНАЗИИ №171</dc:title>
</cp:coreProperties>
</file>