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4AA2-A0AF-483C-AE07-358C9657D9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EF22-88C1-4770-9B48-F320D0CA8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D0DF-3B50-4C75-A548-1D441E26B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D8F9-D950-4A34-B0B5-31E78A68C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EDE1-0B95-4F1C-A861-B3E8AED23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8D08-AE95-4A43-9BDD-9C9A7FC05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E7DF-AA5C-4E95-8628-14AAC9444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CD97-AFBD-48C8-9036-368954C19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D3A9-5070-4CEF-9135-E4B0B3F25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2490-EAF5-471D-9689-79E21D224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CB7B-9770-4C26-AFC0-CF5E3999B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F94-A597-467E-A965-0EB2782F0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252-CBF9-4E3D-ABF3-CF975E2B3F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8642-F332-417F-A34E-9A2E0FCFF0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FA29-0683-469E-A359-5715E58566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E58A-B455-4F5E-A735-746E00648E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D677-38A2-4341-98B2-58A9BA79E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0950-0E2D-4E48-B35B-48F6FB286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2A51-BB64-4536-BE7B-B1E885AAA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A60D-D0B4-4782-AFE1-B3358200D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93D4-E84F-4353-8B7E-EE797B147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00FF-56BC-413A-BFA0-EEE28144E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F2D2-76DE-45FE-9B46-FA6F25F47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11F8-45D1-4DE6-8F17-0A339BC6E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3C6A-4785-47C0-A418-79C9BD0D4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0405-E848-4C75-A8C1-C9FE9FACB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820B-203A-4C55-9920-FF55903D1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48C5-6537-4EBF-B0AB-1AAFF6931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C577-CB0F-4C5D-96AE-1C8494799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0E33-63FA-4E27-ABAE-9E81244F8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3BA7-D0A4-4766-B8DC-7B0BAE8BC8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168A-5F75-4420-9231-2E351D0C8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816-E91C-4DF4-8063-A0B8FF0E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0B3-11A1-4956-8632-69B4B86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73C90-CA09-49C7-B23B-27132F7C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ACDC6-21F9-4CFA-8A6A-B84C684F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97261-4DD5-4FF0-8E6F-98465247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204EE-2574-4B0A-8E57-6456DD02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80CF0-B479-4529-B777-E17E6F0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CFFF9-D676-4180-A6FD-C1730F80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5C8CE-8E51-4BB2-855C-19995763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E146E-9D09-4676-9B6E-1E9C0666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84587-B1AA-4C03-9DC9-AA84FAB5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8F00E-3A0E-4BD0-88EA-DBE88D04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1A0-515C-44B2-8F5A-1B1A7EB8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49635-52D4-47A8-9384-0150CDC8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02FB7-DB27-4FE2-B9E1-7397E2F8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879B1-A982-457B-8DFE-9F998559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5C9DC-AFF6-4154-82FD-6F2D4A24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6B144-0871-46F4-82BA-4AB32E1E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1D9DC-7807-44B4-9415-03C65B7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DF67A-D939-4BFB-94AC-C05FCC3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9A1DA-0F23-4780-A957-B1AA433F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EBF5D-F86B-462F-BCE6-D7D940E1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FA23F-114D-4F6D-B842-270CB8E3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A37-24F8-4CC3-89F2-0A33668F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1D2D1-703A-4351-9002-3263F774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F445F-4CA4-4A7F-AD1D-184989DF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27C29-AA43-4A71-B420-810EDC36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AE903-C695-4569-904B-B7A9FE8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5C1E2-8956-4606-96F9-8B90F27A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10341-F159-467D-82A8-674A02F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5C077-0FBB-4DF2-B69F-37FE4D84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05AD5-C9BB-4EDC-B345-B8E7B00B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43416-FEF6-46F2-9D6D-B05F0528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CECB3-3AA4-4533-96F4-0ECD84C6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271-188C-42AD-A5D6-4E5758A3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D53AC-A8A9-4A5A-969D-D7363EA0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AD931-4388-4451-972C-FEC6DFFF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19B13-64D1-4FA9-880C-928014D4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6CE02-3E6C-4CE9-A2B9-881A2E41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3BDC5-71D4-4641-966B-1052DEDC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9EAD0-7370-480B-B03E-F1AAA7A6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F9E80-247E-41FF-ABBF-0FDDADCC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FC1B0-1B36-42F9-A9A6-C896872A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33106-6FFE-420C-8624-1EEADF93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3DD7F-0BF9-46DD-9E86-CB7D9988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EFC5-B5B9-4835-BADD-5ED1CBEA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6934E-1132-4411-BC61-0D374307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4EF78-3E04-4E20-924B-CB1EE35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24309-CE31-4D72-A6BB-DE9B3A29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34F83-39E8-43B0-AA10-EA3926B9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40CE0-7ADB-4637-AB17-CD3171EC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478FB-73C0-497D-920A-97D52EB3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0D138-9312-40FE-8841-62113EAC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103F3-B6BD-4C85-B1DD-342B96BB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BD739-A3F5-4270-A94D-260A4E18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8CB0F-31FD-455C-83D6-18615E88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FB1F-5740-470D-9E66-C1916DE3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4CCB2-7EE7-43D3-B9E1-766C77CC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4A5F1-6436-456C-A765-3EF5391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66EC5-84B8-473D-8755-AC4376B5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E8646-6502-4A62-9194-6DE88BAE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E53B9-137E-4F98-8532-E2DB34A1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9B416-1D37-4263-8B14-9AD07825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36BFC-FF8F-421B-92C7-0C93F7C8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522B0-569E-46A8-BBF7-AB5655A8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8CC63-F8FE-4522-A370-FCE9B90B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D936C-69DD-4C5A-B3CA-5E466A65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DC5C-CB4E-411B-A993-0D6E809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BC94C-2349-4DF5-9F3D-71D486B5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1DBCC-7C8C-4902-916B-F2E2E31E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D2613-8293-4E74-AE38-06DE6595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2D6F7-8457-4AEF-9DFC-858FFA1A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3AFBF-580C-4325-B0DD-3F4928D0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CFCBA-E6C6-4BFE-A303-7D7568DE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058E2-B5BB-4078-8B7B-3F563122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E2C9F-9DF1-45DF-8924-F9C07976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7CF2C-65D2-4D1F-AAFB-5FCD3947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5496BF-A0EE-458B-8B0E-E64E3EBD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B64B-0F12-4C99-84C6-9F97AAB3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0760C-7C55-4F72-B968-F1EAD1D4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28848-8007-4CB9-B1F8-EA55ACFF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9F03F-91EC-4DF7-8939-A0E11F63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67252-93F8-43CF-8F02-FB55AFC3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01686-B201-40F1-8AED-C493D48E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2DA41-EBEB-4A52-9019-B95E1F8A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7CDF5-5FE1-40B3-B1EF-FB830630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2A9BB-7129-40E4-B67D-EA01BD6C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C7F03-487C-4D48-A84C-D68F37A7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643AF-1F1A-449A-B6B9-0A3CFD5F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3CE0-EC7B-4164-9EBA-2D632059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F41E3-413A-4ED3-89EB-777365A2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DA949-2F67-4BE3-857C-B473D389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30F52-BE92-411E-A884-B98730D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5962B-649C-465D-B485-1A0BDE39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1288B-D87D-45E5-870D-BF2D58E9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EC681-455E-4BE2-A155-32222487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6D0C3-F274-4D25-986D-D039DD20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B8322-E496-4AC0-AF46-2B099624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EB41D-B762-4015-8F17-3577ACF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633DB-8C6C-4CC6-AE4E-5628F380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6F5F-0539-4B27-A96C-B6933DE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103B5-0A26-48EA-B551-0A42F911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BA034-0728-4B2D-8E81-0FDA6D73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718EF-2FD7-4D36-A6FE-7E37A88D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AFB90-D604-49F1-9B5F-FF56D7CE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FDC5C-8D51-4DF8-BCD0-875E45DF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26205-4B2D-4BE6-9971-52C11DA4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EE59D-6DFE-43FA-A626-18FF2D9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48A07-6442-4651-8E07-00C755A1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A3C2F-E130-414F-BCB9-0FA2A4D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D3D25-189F-496C-B519-E1716798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B87-E66E-42D4-9ADD-197FCEC9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7EA6-8A69-41F7-B71B-C2BCC562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C75E5-73A6-4538-8BB6-A2D3BF48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DB8D7-5B72-42D6-B620-C8C7F5F3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A2E97-69AA-4694-89D4-1D8BDCE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A6D46-82A4-4860-BD3C-0AE63FE6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247AC-4361-4B17-AB72-88B45231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4D3FE-A55F-44F5-8131-DC7EC0CB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73B05-9B6F-4197-9B47-221C029F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28D8A-BA1B-4DCB-9D64-9F5B3661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EAAF9-3E20-4731-9828-0D48EB79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51D41-4608-42B6-B7F9-2D402F0B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2A16-B74F-4391-B437-4D29644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BD431-DCE6-42E7-94F1-49B736A8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3309F-A354-413A-88BE-98C776EB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7A188C-23B9-423D-BDD3-5DF153CD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B1B27-032A-4AD3-9261-39267F37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A5523-EB6B-4437-8E22-F23D7BE8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AFCD5-3AFF-4933-B857-38AF9912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0B6B1-B8E5-4041-8C7C-837D3E9B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04401-8552-4AF3-A28B-6A73228B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9B71B-11F3-4BE6-B34E-CF3F9578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8DE18-BCEC-4524-888F-544F1426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F21D-864A-49F1-8A41-F985B1D4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13812-8B8F-4D85-9D41-02AB89F4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2EAF6-FBCD-498C-B033-B2A66E62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4F241-BB77-448A-9FD2-9E4BA904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FB201-8DA6-4B3F-8950-DDAF2F99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1E33F-6D9F-4425-AC1C-341DDDD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A7CA93-4832-4A86-9975-E57E65E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D9D65-4CB3-46C0-921D-BA1C4B9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A9B3E-F0FC-48EE-98DB-B91700F2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569BD-AF26-48B3-BC4B-106B1108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4E67E-0CD5-48BB-868D-13A0BCAA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D78C-A481-4EBB-8470-36F69771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750035-C09A-4E71-B86D-5C4E878F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98EF3-0E15-4C9A-8B22-F9FA63D9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B59A06-B208-474A-AF21-60DEDA5A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ABCD5B-09B6-4DBB-B2D7-195C0D38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3988F-7204-4D81-9400-3A7D8D75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C1A861-EA6D-495E-A2A0-E2D61AE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D8560-CC85-4123-8DE5-C749DD11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A5133-2A7F-4D61-B866-1E93DFB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E2E84-477C-4415-A8A3-9A383CB8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7A0282-E1AA-41B1-A289-44888706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CBFF-D0E7-4E9F-9AF3-3231195D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B7B2E9-6412-4290-A8AC-5C7E5DAC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488195-5579-435F-B6D5-D42482D3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FDEF48-05E8-44D5-A4B8-985FECFD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70AD0-0F09-4F7F-9568-0BBBBBB2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205E8-A1F1-4809-B98F-AF3618CB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82261-7E03-4593-A6EB-ED651835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C2C85-BA39-40A1-8F27-48367C61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7B7CF2-BBC7-4541-8C4D-95781413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3BB66-8533-4744-B504-6CFD2D05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1D1DF-4E5E-4976-B9BA-C6F1EA7B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CF47-494B-4E15-8FE6-78719171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BF855-EB93-4623-B13D-3FF9B956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04B297-5FDC-40F6-8AAD-1A54A3E1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55737-5327-4241-B7D6-55820F10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885C85-25A1-48FA-B132-80973FD9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03AC97-8414-4FA4-AE27-84BB74B6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CF36E1-0862-45EB-9B74-1FBC3650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BC067-0125-4552-A3A7-C8C00159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FDFD2E-CFF7-4E6B-98C4-58516AD7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23DCB-D2C5-47ED-9050-8E94621F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D5851-8B41-431C-A334-4551E312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4C8C-E883-49B7-BE92-0B9382A3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B6844-D3F9-42A7-8924-CBEF2C9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4F333-31F5-4168-91FE-B58ECC7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777F56-04DB-4C29-8D67-AB80017D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3A4F9-54D3-4FC6-A986-D1699058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086248-370C-4421-BDD7-91BD1F7B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4D74BA-2D12-4DD7-A135-9A9458EA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F0531F-18D7-4CC2-968C-0F481982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70B60B-D8BB-42B1-833D-87A6EFA6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81C370-D706-404B-99F2-CFAB1FBC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EFF146-DA2A-42EC-BCBB-846E0AAE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EEE6-1F61-4B59-8F4A-0E63427B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8CBD25-5066-416E-8C4B-B3E90384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EBB0CF-8DDE-434B-A75B-E158FCF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E6C4F6-BE81-4BC7-AAA9-9A9945B5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755AC6-59D6-460A-8A8F-2DD9CC6B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5B4E19-8FA6-4737-9FB4-81ADFD61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4C6CA7-7D69-4FC5-8F5F-A784AACA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9901C3-1757-482D-AB27-5D3295F5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11D00F-6F9D-44B0-B3DF-5CAC0F16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261849-64D3-47E7-A137-BEE1B188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F3CFC8-C13E-4EE2-A98C-FA4000CF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8B26-EABB-43C5-A326-52D567A2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2181C1-D1EB-4B7D-BA74-261765CC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4F4E78-349D-495E-9C35-AAC7ECFC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A5718C-3A3C-437F-918A-590C801C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3E18B4-C9FE-4267-A338-5057E15D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8A5BA5-CEBD-4EF9-9668-9FD0E40E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57AC5A-FE3B-4FEF-9A5E-C4934BA6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30BB71-1C80-4FD4-8974-14A0F069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4B500A-CF7F-451C-88EA-4DF5A3DB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0064EE-4FBC-48BB-94F8-3FF96C7C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2C664C-57A8-45A9-95E9-05299AB9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E7F9-F962-4C8E-8F86-BF7D9814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9459A3-2DA5-4A70-A92D-F37CBAAD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5C0B7F-C60B-48A9-A8E2-774780C7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00739-B6E3-4FEE-B82F-CB07640A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99AE2D-6EAE-40E1-9883-7FE87655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F74212-8D68-4B76-8181-CE76024D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B573AD-9282-4E64-BE25-675FB0BE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18B8E8-4AE2-4223-A209-C07D79B6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06E36E-63B3-4D08-83EB-FFDD1EEC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52A9A1-24DB-47B0-A130-92723E25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F21BE4-D3E4-4E74-9971-B31745F7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D6D-63A1-4D5D-AE4F-254A44F3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1202-5A82-4DAE-9BC0-0FC56728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04EEF5-14BC-43DC-9AAE-1775805A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7559EE-DDD0-4399-8E68-A7820348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528845-E081-4F67-A175-F48362FF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B175F4-7D4A-42EB-98CC-BEECA380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BD1DC3-EDB5-41BD-A9F1-19305DE8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14857A-83CF-4088-BC62-3AB23CD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4130B6-B123-4716-9381-7DF4D913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524740-E70F-472D-878D-C2481E58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97FA4B-7F5C-410B-AACA-B4255392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F460F3-A26E-4EA4-8CAC-FFF645FB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EEDE-16B2-4AE3-BD89-D01651BD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CF5E17-D780-498A-A0F4-1B13E1AE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7045AC-6DB5-434A-B4AA-5428506C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36A1FA-1E58-46C0-B609-18AE5F6C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A6476C-5B8D-4719-A27F-B794EA42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71F612-7141-4C70-BF9D-15A203FA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193DF0-D36C-4906-AB4B-DD7AA4B2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2E0079-F9D3-4623-B8D6-B712D8D8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00B505-7101-4E44-B132-548639C3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D7CA8E-1239-4F4E-9280-3B516CDD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211FE1-58C6-4940-A283-8281EA40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EA7A-B08E-4CA3-89ED-6EB511B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D06DC5-7D30-4A56-A90C-A2E5F1A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9381CB-E987-49AE-8962-B473BD41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4AC502-292B-4966-BE95-A44EEC92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3C2712-937F-45CD-9D8E-0AEAB192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CA36A8-3A92-4DB8-A1B1-5FF50F2A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5A6161-F084-43D6-9A3F-EDAF5855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3FC1D7-DCB4-4166-A2A9-B3102D0E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B99027-EF5C-4149-8064-52B059F0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20AD05-42E6-453C-909D-28127B70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009FB0-D101-4125-8B91-298D9E6F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E08C-62E5-440F-9C1E-D909054E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FAC86B-E2D2-4C2B-8F4E-B46DB82C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2DB9B6-2B56-410F-BD27-F9EDF22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D18B66-07FB-43EF-ABC9-3C707167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A14B73-942C-43C4-9225-D0881D94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006C7E-B82C-43E8-AC0E-500B31CB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F04F7D-206E-4FC4-A521-8B51DA42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748B4A-5E4F-448F-8414-343A8662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3372-8DFC-476C-B227-0812BD80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E84A-B17A-4D2E-9B64-246F0B2D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D8010-FCAA-42F5-9552-874527CB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2591B-E219-42FC-A396-80B6BF2C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763F-2568-46FF-9477-FFC81AF2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95B8-28BD-499B-8E02-78EC97D3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89B-8544-4408-AC10-09CE7CEB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763AA-CF6B-4CDF-8286-84AFAD51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AB60-CB85-4414-9FFC-40268139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A484-60F6-47BC-8CC7-07202B2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BB51-0737-4B43-8D63-ABB3F9B9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0020-2FAA-47B6-A708-F39E1B8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15F0-331F-417C-A4B5-749B8762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1A970-81C5-42DD-8CD0-A8659A2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4361F-338A-4A10-B6BC-272DE5AF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562B-AAB9-4009-8DFC-14633D95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4A86-1F6D-44BE-9AB0-016EF1B8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9DC-43BF-467B-9E14-2E1DF3E2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F2ABF-7B1D-4F03-A224-198F681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0062D-8F98-4F62-A719-7CA88556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04DB4-6015-497E-A04B-6687A7AE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A986-2C7E-4E69-B0F0-24CFCD56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C44A1-345F-46F3-BFE1-42A776B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37754-E574-43CC-8FAF-8710571D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5373D-CE41-4FC0-BF81-EEAC4D7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2B1EC-5B7C-48BA-9659-B8A6985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8C1C-B79D-408E-B6B9-9454A1DD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B40C0-2C34-4C2D-B595-2DE8BAB7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5BF-D206-47DF-85A8-1A4BECE7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CA91A-5030-435B-8873-2D718251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CFC8-681B-40D4-9247-AB03B6B8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2BD44-6C2D-45D3-BFAB-0C366583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9E90-69DB-49D7-B92E-62C798E0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53F61-EA12-4604-9570-2997D216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EDBCB-FA41-4268-BFB4-B14708FF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F25E5-2252-44FB-8544-D926CE72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5EFA1-4266-4826-95D0-81DA1A9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51EE-859E-49D6-B2A8-F5258BC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ED11-BF7E-4CA0-952B-E67D4AB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926-F72C-4A4F-A22B-8A6D3D92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A8F38-F7C9-4922-8432-487E0477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4FE9C-B65C-413D-8CA5-6B6BA0AD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3E38-99B2-4858-B6ED-75D8C4DC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2BF59-6EA7-4161-983A-02AB4C72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C4E43-4E92-4705-AD07-6B25BCA3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F7F65-A328-4A16-A4E6-B1E9029F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A96F1-2523-4E12-92E6-2E4784CC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E7C33-B0F5-413E-8B38-C5E70398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CDCBA-3A16-4E7A-B973-033FB44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C63E5-F5B8-4C9C-A41C-7FCB40AF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DCD-DBD4-4991-807E-46CDD53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ECEEA-9FE3-4D1E-95B2-4FDA40D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F9373-3A0F-44E6-8B63-A19ACC8F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E6405-2F1C-4850-93A3-9D2D27CF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75D44-F2DE-4F40-B4B0-DA332020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6D494-F74C-4743-8FFB-1B8EEACB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32D42-6CCA-40D5-91A0-A1ACF006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510DE-27AC-4F5F-BC75-C727DEFC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D88A4-87BF-4C7F-99E4-4384C873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D3A29-7991-46D7-A1EB-B151824C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D7FB5-5ED1-454C-82FA-77B51520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079-9119-4B53-BEDD-985E53CF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CEC77-F34B-40FB-964E-4787A36B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E61DC-528E-4A9D-BA3E-33A72193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B714F-205F-4B53-AEAD-1F87D123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046B7-36F2-4AAE-B9A0-9C669F40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AA52D-1080-4F86-8268-51EF290D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34E0F-CC56-4315-9872-6A0B149B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CEE4E-C31D-4159-AE59-CFEC5699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DF15F-BC85-4FA3-B5EF-0D50FC79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67A4C-9879-40E0-A5C2-35A56F98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69E92-4575-4C22-9507-2324311F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6C82-980C-4F03-B6D3-1D4BC916BFA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6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531F-A97B-4DA6-A27A-5EF5A5642A7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A983-4A61-4846-9FA4-84049CD1291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9132-35F9-46A0-899D-E71249A13D6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2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0C86-238B-45F6-9573-50D82E4C3EB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8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BFAB-AA2B-4B32-A769-3ACCE4E7203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A480-852D-4DDE-B01E-34F39FAAE53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8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F146-E635-4A85-B400-A48D26AEC6C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3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4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5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C2B0-0411-4B3C-B652-A40E86AEF1C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8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5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D3D0-0F43-422F-B590-056492FEF12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F6F6-E9CC-4706-ADF2-C29D70DC318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0FB6-A996-4C51-9D12-46B1F818F61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9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6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5F1F-F039-4A2F-8F19-1CE8EFB4C7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4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6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6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5C90-39B1-4815-9A4D-8F466D77A4A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9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6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6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6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F55B-A1F4-4007-8FF0-8F8F960984C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4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dt" idx="6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ftr" idx="6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sldNum" idx="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A29D-EC3E-469A-8686-FFAB685613B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0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7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7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7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2B04-B441-4B6D-B778-FF477E442D5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7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7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7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4272-7642-44B0-89BC-8FEABA08CEE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0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7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7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7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7A2C-6162-4B40-9492-977BB2D9265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7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8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60B1-E490-4B77-95FD-812EAD4561B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8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8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8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28BC-70F3-433D-94A5-CE81F3E3CF1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9C7D-5953-4399-B578-DA01CAA1095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3637-6A82-4FB6-B605-0E7ECB07C7A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089-D085-4865-9043-2872B76D5C0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A901-1387-4935-A4E2-F2809191FF9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0DFE-7AE5-4640-83FA-3ACF3A79B1B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46CC-55A7-4388-AED6-64181D51E5B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7BF0-3A3A-4733-A5A4-A5D96199239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23640" y="50760"/>
            <a:ext cx="7740360" cy="684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Государственное автономное профессиональное образовательное учреждение Чувашской Республики </a:t>
            </a: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«Мариинско-Посадский технологический техникум» Министерства образования и молодежной политики Чувашской Республики</a:t>
            </a:r>
            <a:br>
              <a:rPr sz="2200"/>
            </a:br>
            <a:br>
              <a:rPr sz="2200"/>
            </a:br>
            <a:r>
              <a:rPr b="0" lang="ru-RU" sz="2800" spc="-1" strike="noStrike">
                <a:solidFill>
                  <a:srgbClr val="2a5010"/>
                </a:solidFill>
                <a:latin typeface="Times New Roman"/>
              </a:rPr>
              <a:t>ОСОБЕННОСТИ ОБРАБОТКИ НАКЛАДНЫХ КАРМАНОВ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Преподаватель: Васягина Людмила Анатольевна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     г. Мариинский Посад 2022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Шв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99" name="Рисунок 6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Шв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02" name="Рисунок 4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05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08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1" name="Рисунок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4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7" name="Рисунок 5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20" name="Рисунок 4" descr=""/>
          <p:cNvPicPr/>
          <p:nvPr/>
        </p:nvPicPr>
        <p:blipFill>
          <a:blip r:embed="rId1"/>
          <a:stretch/>
        </p:blipFill>
        <p:spPr>
          <a:xfrm>
            <a:off x="0" y="1068480"/>
            <a:ext cx="9252000" cy="5960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23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26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66760" y="333000"/>
            <a:ext cx="7696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50560" y="1141560"/>
            <a:ext cx="777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74" name="Рисунок 3" descr=""/>
          <p:cNvPicPr/>
          <p:nvPr/>
        </p:nvPicPr>
        <p:blipFill>
          <a:blip r:embed="rId1"/>
          <a:stretch/>
        </p:blipFill>
        <p:spPr>
          <a:xfrm>
            <a:off x="468360" y="1201680"/>
            <a:ext cx="8675640" cy="5716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29" name="Рисунок 5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32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35" name="Рисунок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38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41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44" name="Рисунок 6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47" name="Рисунок 4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50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Физкульт пауз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53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Техника безопасно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56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69608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f1601"/>
                </a:solidFill>
                <a:latin typeface="Trebuchet MS"/>
              </a:rPr>
              <a:t>Вводная час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179280" y="779400"/>
            <a:ext cx="78408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77" name="Рисунок 3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онтрол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59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онтрол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62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онтрол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65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онтрол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68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А где всё это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71" name="Рисунок 4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лассификац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80" name="Рисунок 3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Терми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83" name="Рисунок 4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Терми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86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10188720" cy="6264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Терми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89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Фарту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92" name="Рисунок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Фарту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95" name="Рисунок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1496" name="Рисунок 4" descr=""/>
          <p:cNvPicPr/>
          <p:nvPr/>
        </p:nvPicPr>
        <p:blipFill>
          <a:blip r:embed="rId2"/>
          <a:stretch/>
        </p:blipFill>
        <p:spPr>
          <a:xfrm>
            <a:off x="0" y="936720"/>
            <a:ext cx="9144000" cy="5949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8:44:11Z</dcterms:created>
  <dc:creator>Admin</dc:creator>
  <dc:description/>
  <dc:language>en-US</dc:language>
  <cp:lastModifiedBy>Виктор</cp:lastModifiedBy>
  <dcterms:modified xsi:type="dcterms:W3CDTF">2023-02-06T19:08:00Z</dcterms:modified>
  <cp:revision>196</cp:revision>
  <dc:subject/>
  <dc:title>ОТЧЕТ ПО ВОСПИТАТЕЛЬНОЙ РАБОТЕ ГОУ ГИМНАЗИИ №171</dc:title>
</cp:coreProperties>
</file>