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394-7FD5-425E-A9DD-B90CC769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AE4-0F3B-487D-9956-7EB926A7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4EA-6A7D-4292-A1AE-13C53CE0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B7C-E531-4A7F-862B-3E22AA8D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72AC-CC29-43D1-8204-16EA7683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991C-2098-486D-8BD8-C3889DE0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BFDE-2FA4-48A7-866B-3B69C17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B91A-A0A6-4D1A-A0EB-764D01B0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0A55-2CA6-4324-ACC4-64EC955F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A9CB-A56A-490B-A9AB-4F9D1DEF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A1B6-CEC1-4958-85EF-7AD74C8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239D-57E5-4B6B-87C9-705523EA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34EB-864F-4950-B020-DB985A4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5BF8-92A3-4955-A46A-37F74C2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BC86-E910-4AB8-AE7F-848AD008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2132-4A86-4A10-98B0-4AD6DE24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12A9-BC00-4778-8C05-0FB7F3A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8871-4C64-4F94-847E-4BA6355F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E318-8065-432C-9541-B88129F9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016A-5B44-46A8-8B3B-9CA54FFA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962B-41E4-4ED5-AB66-AE260476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E3F4-E066-475C-B6F2-FF523342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C6F-83B2-4ADC-AD1B-81AB94CB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0A5CB-2ADF-417D-8243-83D8E04A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1263-C6D6-4430-9BA3-E6D92EE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C70F-98EB-4FA5-ADA5-1F9DF0D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8BA5-2A7B-4301-B7A5-AE9A96D8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EAD4-F545-43FB-9634-E5682A5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E60C-C925-4D23-963E-9D82F18E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42F1-27CC-4849-83A6-F96F91BE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85621-E457-4AA4-AE1E-14C38E89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2A47-DB40-4D39-8585-E45D7256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0969-5BCA-40E5-98C7-F25DD316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6E4-E183-4F39-9588-6209D01B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E09C-1996-4332-9229-EA867920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2308-7CCC-42F8-85C2-46581E3B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32CD-6CBF-4055-BBAE-155635B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CCDBC-E7AA-4A70-BF22-3A3765D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4DC8F-3B67-46E1-8251-700A950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77EA-BF12-4896-9FCF-370169FA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FA6BF-9B3E-459B-ACBB-A52DD8E5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E4D04-9AD6-4AAE-ADA6-221C6891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6A75-543D-46D8-8616-61D30B70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55910-6998-43FA-8EB1-70516F6E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049-11B4-4242-80C6-947D2193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FA67A-2BB3-45B5-84CD-30B38031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96BB2-3AA0-4EB6-988A-895ED654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1AF6-88B0-440B-B833-911AEFF7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4980-F1BF-4071-8CB7-AFAD070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C3663-89C6-4341-9C42-2405A44F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E41FF-EE78-4C06-8A23-8E2931E1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7B3A7-E341-4721-BDA9-64FB5CF1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86058-22FE-4194-88C4-3AD211C3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841D-0A8B-4768-815E-A9FFFBA2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6BD7-F9BB-40C0-9458-C5409067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377-6880-4475-8F62-A72BD269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52DEF-760C-4F0A-8C5F-8E8F4659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A9B-A062-4663-9A88-F998512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DD7-B097-41A9-84C2-757FE66D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28F-B55B-4E84-84AB-7A2D277B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3C4A-AB77-4703-B372-76AC8D8DCED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A00B-4FBB-4C32-B619-078ABE0491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65DE-2A26-4578-83C1-84EABDFE6DF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436C-7231-4207-97FA-BEF48E9859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78F1-E514-4557-9D7B-DF94CA07CFF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6524640" cy="40672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"/>
          <p:cNvSpPr/>
          <p:nvPr/>
        </p:nvSpPr>
        <p:spPr>
          <a:xfrm>
            <a:off x="684360" y="454356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743a"/>
                </a:solidFill>
                <a:latin typeface="Verdana"/>
              </a:rPr>
              <a:t>В какой, по вашему мнению, чайник можно налить больше вод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284560" y="620640"/>
            <a:ext cx="4448160" cy="143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942840" y="2492280"/>
            <a:ext cx="4421160" cy="1763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3152880" y="4210200"/>
            <a:ext cx="1603440" cy="2263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4"/>
          <a:stretch/>
        </p:blipFill>
        <p:spPr>
          <a:xfrm rot="919800">
            <a:off x="6227640" y="2007720"/>
            <a:ext cx="2232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611280" y="76500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Любые два или несколько соединённых между собой сосудов, в которых жидкость может свободно перетекать из одного сосуда в другой, называют </a:t>
            </a: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сообщающимися сосудами</a:t>
            </a:r>
            <a:r>
              <a:rPr b="0" lang="ru-RU" sz="2400" spc="-1" strike="noStrike">
                <a:solidFill>
                  <a:srgbClr val="9a743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738360" y="2997360"/>
            <a:ext cx="765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 </a:t>
            </a: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Сообщающиеся сосуд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сосуды, соединенные между собой ниже поверхности жидкости, так что жидкость может перетекать из одного сосуда в друг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12906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1332000" y="206064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a743a"/>
                </a:solidFill>
                <a:latin typeface="Verdana"/>
              </a:rPr>
              <a:t>Сообщающиеся сосуды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971640" y="2476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743a"/>
                </a:solidFill>
                <a:latin typeface="Verdana"/>
              </a:rPr>
              <a:t>Принцип сообщающихся сосу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203480" y="1341360"/>
            <a:ext cx="6207120" cy="41752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1116000" y="570564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исунок . Установление жидкости на одном уровне в сообщающихся сосуд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rcRect l="1739" t="0" r="4068" b="0"/>
          <a:stretch/>
        </p:blipFill>
        <p:spPr>
          <a:xfrm>
            <a:off x="297000" y="1306440"/>
            <a:ext cx="85629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476360" y="666720"/>
            <a:ext cx="6429240" cy="2762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2448000" y="3573360"/>
            <a:ext cx="4248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203040" y="24444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Жидкости разной плот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9a743a"/>
                </a:solidFill>
                <a:latin typeface="Verdana"/>
              </a:rPr>
              <a:t>в сообщающихся сосуд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4753080" cy="3362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1835280" y="4646520"/>
            <a:ext cx="6495840" cy="152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334800" y="1076400"/>
            <a:ext cx="86536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rcRect l="6339" t="0" r="0" b="0"/>
          <a:stretch/>
        </p:blipFill>
        <p:spPr>
          <a:xfrm>
            <a:off x="971640" y="1052640"/>
            <a:ext cx="2568600" cy="376236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"/>
          <p:cNvSpPr/>
          <p:nvPr/>
        </p:nvSpPr>
        <p:spPr>
          <a:xfrm>
            <a:off x="4067280" y="170028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ообщающихся сосудах находятся ртуть и вода. Высота столба воды равна 78 с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считай, какой высоты столб керосина следует налить в левое колено, чтобы ртуть установилась на одинаковом уров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отность ртути равна 13600 кг/м3, воды — 1000 кг/м3, керосина — 800 кг/м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 (округли до десятых): высота слоя керосина равна _________ с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2556000" y="404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a743a"/>
                </a:solidFill>
                <a:latin typeface="Verdana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18T19:23:36Z</dcterms:created>
  <dc:creator>Евгения</dc:creator>
  <dc:description/>
  <dc:language>en-US</dc:language>
  <cp:lastModifiedBy>Евгения</cp:lastModifiedBy>
  <dcterms:modified xsi:type="dcterms:W3CDTF">2023-02-06T19:13:22Z</dcterms:modified>
  <cp:revision>10</cp:revision>
  <dc:subject/>
  <dc:title>Презентация PowerPoint</dc:title>
</cp:coreProperties>
</file>