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DF8-8689-4596-BDA4-E6478B48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3E6-D9F0-4305-A79E-35A2787F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6D8-91D5-4705-A616-594FAEB0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59C-79A4-48D3-A9D6-9B5D614F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3946-F7BF-4105-BCC3-81100CC2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650E-34E1-416F-8D84-523EBA4C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4E8E-2C86-4935-8008-B68A6609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02A-06D8-46D2-A1B2-CCA7985B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945B-4540-44E4-9344-347F3A6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BC14-A358-41C0-8ED9-89199B11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0B41-549D-4152-B1DC-B052FEB1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2DC-2C16-447E-956C-B99F55F8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6533-4BDD-407F-A60F-6857EA4E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7D36-7928-429C-A8D6-C7424BD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56C0-AD6D-4E5F-AA75-483623CA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24D1-DDC8-4A73-9092-3481A13A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803B-F118-4A8A-A686-7B838E57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5B050-DBC9-4CE6-9D28-C192F1DA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3AD0-629E-4FB5-AF56-9F4FEE1B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2B3A-D155-4369-AFAF-A605E341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7CD0-DD93-40E3-9F1F-7E51051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02DC-1987-4771-9188-8A47D975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CA0-C9E6-47DA-8967-332ABAF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A3FD-7A11-447F-9092-6DA2CCF6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9B32-9323-4002-AB06-8D8823BF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81AF-A9BE-4CE4-B479-801B11F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F3B9-26A1-44AE-A5D4-2EB665C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FDDB-4F0A-4B89-9ECD-FA414D3B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BF26-2683-4F87-8328-2AA50EB9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C7B9-4738-42A0-B1D5-A0E09499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4112-3028-4FBA-80F2-C9F167E4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37A0B-C796-4A3F-8164-16C9DA04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00AB-6FA6-4DDA-8595-6FAA3890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D35-05D7-4781-9016-490A0026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636D-D289-4CA0-8C20-2060B71E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CC09-CC89-442C-BFE7-5068A65C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ADD1-409E-4D33-943B-1EC0EDD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05B4-89B3-4358-AF71-88DBD0E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9F41-DA75-4B88-8683-F0A1582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6ACA-A1DA-4833-B104-E562F12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1139-38BF-48C3-841C-169EDF8C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70F05-3A76-4BF5-8E6C-DD8FCF11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B789F-8404-4D21-9B87-AD6C08E5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8846-526E-4FBF-BFC4-18113862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E4E-0594-42BD-9508-1B6A737D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4633-8C2F-4B95-9CA3-C918D097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65BD-BE5B-47F4-AE5C-B8801F8A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4BC07-8830-418A-ABDD-5A49758C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D63F9-2B24-475E-9D5A-8064798D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0B83-B9CD-4509-B2F5-E543F91E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C4244-ED4C-49E8-94C4-99D4B58B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111C-446D-434C-B731-BFBC3971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26CB3-3173-4014-B451-C8378A7A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90646-24C1-46D0-B31B-FF3A7D71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CFD6-3558-430C-82B9-C95AA5F6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B83-9E9C-4AB7-96D1-396B361E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38BA2-4596-4991-B834-7378A465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B42-0183-4C41-9826-9FB6E3D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053-2A40-4B3B-8A66-135C837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D9A-57DC-4EE9-9626-2837E0BC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8F80-33B8-47D0-8AD3-664DAE326D7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55D5-85F3-4B41-9425-781063D427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97DA-7AB1-44BB-9F8E-017F200F588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A5A8-C101-4278-B4D1-F584303657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1E3B-951C-4AB2-90F6-C0175FE307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524640" cy="40672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"/>
          <p:cNvSpPr/>
          <p:nvPr/>
        </p:nvSpPr>
        <p:spPr>
          <a:xfrm>
            <a:off x="684360" y="454356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743a"/>
                </a:solidFill>
                <a:latin typeface="Verdana"/>
              </a:rPr>
              <a:t>В какой, по вашему мнению, чайник можно налить больше вод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4560" y="620640"/>
            <a:ext cx="4448160" cy="143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942840" y="2492280"/>
            <a:ext cx="4421160" cy="176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3152880" y="4210200"/>
            <a:ext cx="1603440" cy="2263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4"/>
          <a:stretch/>
        </p:blipFill>
        <p:spPr>
          <a:xfrm rot="919800">
            <a:off x="6227640" y="2007720"/>
            <a:ext cx="2232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611280" y="765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Любые два или несколько соединённых между собой сосудов, в которых жидкость может свободно перетекать из одного сосуда в другой, называют </a:t>
            </a: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сообщающимися сосудами</a:t>
            </a:r>
            <a:r>
              <a:rPr b="0" lang="ru-RU" sz="2400" spc="-1" strike="noStrike">
                <a:solidFill>
                  <a:srgbClr val="9a743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738360" y="2997360"/>
            <a:ext cx="765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 </a:t>
            </a: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Сообщающиеся сосуд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сосуды, соединенные между собой ниже поверхности жидкости, так что жидкость может перетекать из одного сосуда в друг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12906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332000" y="206064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a743a"/>
                </a:solidFill>
                <a:latin typeface="Verdana"/>
              </a:rPr>
              <a:t>Сообщающиеся сосуды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971640" y="2476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743a"/>
                </a:solidFill>
                <a:latin typeface="Verdana"/>
              </a:rPr>
              <a:t>Принцип сообщающихся сосу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203480" y="1341360"/>
            <a:ext cx="6207120" cy="41752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1116000" y="57056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унок . Установление жидкости на одном уровне в сообщающихся сосуд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rcRect l="1739" t="0" r="4068" b="0"/>
          <a:stretch/>
        </p:blipFill>
        <p:spPr>
          <a:xfrm>
            <a:off x="297000" y="1306440"/>
            <a:ext cx="8562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476360" y="666720"/>
            <a:ext cx="6429240" cy="2762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2448000" y="3573360"/>
            <a:ext cx="4248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203040" y="24444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Жидкости разной плот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в сообщающихся сосуд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753080" cy="3362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1835280" y="4646520"/>
            <a:ext cx="6495840" cy="152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334800" y="1076400"/>
            <a:ext cx="86536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rcRect l="6339" t="0" r="0" b="0"/>
          <a:stretch/>
        </p:blipFill>
        <p:spPr>
          <a:xfrm>
            <a:off x="971640" y="1052640"/>
            <a:ext cx="2568600" cy="37623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"/>
          <p:cNvSpPr/>
          <p:nvPr/>
        </p:nvSpPr>
        <p:spPr>
          <a:xfrm>
            <a:off x="4067280" y="1700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ообщающихся сосудах находятся ртуть и вода. Высота столба воды равна 78 с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считай, какой высоты столб керосина следует налить в левое колено, чтобы ртуть установилась на одинаковом уров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отность ртути равна 13600 кг/м3, воды — 1000 кг/м3, керосина — 800 кг/м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 (округли до десятых): высота слоя керосина равна _________ с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2556000" y="404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743a"/>
                </a:solidFill>
                <a:latin typeface="Verdana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18T19:23:36Z</dcterms:created>
  <dc:creator>Евгения</dc:creator>
  <dc:description/>
  <dc:language>en-US</dc:language>
  <cp:lastModifiedBy>Евгения</cp:lastModifiedBy>
  <dcterms:modified xsi:type="dcterms:W3CDTF">2023-02-06T19:13:22Z</dcterms:modified>
  <cp:revision>10</cp:revision>
  <dc:subject/>
  <dc:title>Презентация PowerPoint</dc:title>
</cp:coreProperties>
</file>