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1.png" ContentType="image/png"/>
  <Override PartName="/ppt/media/image19.jpeg" ContentType="image/jpeg"/>
  <Override PartName="/ppt/media/image3.jpeg" ContentType="image/jpeg"/>
  <Override PartName="/ppt/media/image24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16.jpeg" ContentType="image/jpeg"/>
  <Override PartName="/ppt/media/image15.jpeg" ContentType="image/jpe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BEAE-37A3-4FB9-8B85-780932EB5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DE82-537F-4F18-9B68-9D025FE39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B973-B07E-438A-AABB-16F45CE93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0847-2856-40EB-8146-22C2AFDFA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0956-6D4C-41B0-8989-5E27E98D9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BC26-A0B7-4C93-BB98-F9157FB2C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3103-092E-4962-AB48-375907734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211E-C33D-48A1-926A-7E945B868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77A7-1ED1-4478-9A53-BCF9B5FD8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7C2A-BD13-4B5E-95E1-733F630E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9997-3C2B-4495-BA77-4EB44184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0E2D-8E9B-41A8-A0AC-61644405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4A9A2-5A2B-4A26-B1F9-C9B9D92635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C:\Users\MSI\AppData\Local\Temp\Rar$DI00.881\Фокина Л. П. Шаблон (фон) презентации. Часть 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4" descr=""/>
          <p:cNvPicPr/>
          <p:nvPr/>
        </p:nvPicPr>
        <p:blipFill>
          <a:blip r:embed="rId2"/>
          <a:stretch/>
        </p:blipFill>
        <p:spPr>
          <a:xfrm>
            <a:off x="1779480" y="1511280"/>
            <a:ext cx="6158160" cy="2835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C:\Users\MSI\Downloads\reading_jpg1.jpg"/>
          <p:cNvPicPr/>
          <p:nvPr/>
        </p:nvPicPr>
        <p:blipFill>
          <a:blip r:embed="rId3"/>
          <a:stretch/>
        </p:blipFill>
        <p:spPr>
          <a:xfrm>
            <a:off x="285840" y="4000680"/>
            <a:ext cx="24620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C:\Users\MSI\AppData\Local\Temp\Rar$DI00.881\Фокина Л. П. Шаблон (фон) презентации. Часть 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C:\Users\MSI\Downloads\014718.jpg"/>
          <p:cNvPicPr/>
          <p:nvPr/>
        </p:nvPicPr>
        <p:blipFill>
          <a:blip r:embed="rId2"/>
          <a:stretch/>
        </p:blipFill>
        <p:spPr>
          <a:xfrm>
            <a:off x="285840" y="2092320"/>
            <a:ext cx="3286080" cy="433692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6"/>
          <p:cNvSpPr/>
          <p:nvPr/>
        </p:nvSpPr>
        <p:spPr>
          <a:xfrm>
            <a:off x="3786120" y="2071800"/>
            <a:ext cx="4929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э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дактор журна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еводчик стих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атир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раматур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C:\Users\MSI\AppData\Local\Temp\Rar$DI00.881\Фокина Л. П. Шаблон (фон) презентации. Часть 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Прямоугольник 8" descr=""/>
          <p:cNvPicPr/>
          <p:nvPr/>
        </p:nvPicPr>
        <p:blipFill>
          <a:blip r:embed="rId2"/>
          <a:stretch/>
        </p:blipFill>
        <p:spPr>
          <a:xfrm>
            <a:off x="2451240" y="1725480"/>
            <a:ext cx="4589280" cy="2797200"/>
          </a:xfrm>
          <a:prstGeom prst="rect">
            <a:avLst/>
          </a:prstGeom>
          <a:ln w="0">
            <a:noFill/>
          </a:ln>
        </p:spPr>
      </p:pic>
      <p:pic>
        <p:nvPicPr>
          <p:cNvPr id="84" name="Прямоугольник 9" descr=""/>
          <p:cNvPicPr/>
          <p:nvPr/>
        </p:nvPicPr>
        <p:blipFill>
          <a:blip r:embed="rId3"/>
          <a:stretch/>
        </p:blipFill>
        <p:spPr>
          <a:xfrm>
            <a:off x="1206360" y="2968560"/>
            <a:ext cx="673128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C:\Users\MSI\AppData\Local\Temp\Rar$DI00.881\Фокина Л. П. Шаблон (фон) презентации. Часть 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C:\Users\MSI\Downloads\181055_original.jpg"/>
          <p:cNvPicPr/>
          <p:nvPr/>
        </p:nvPicPr>
        <p:blipFill>
          <a:blip r:embed="rId2"/>
          <a:stretch/>
        </p:blipFill>
        <p:spPr>
          <a:xfrm>
            <a:off x="500040" y="2000160"/>
            <a:ext cx="3143160" cy="428652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6"/>
          <p:cNvSpPr/>
          <p:nvPr/>
        </p:nvSpPr>
        <p:spPr>
          <a:xfrm>
            <a:off x="3857760" y="2571840"/>
            <a:ext cx="4929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.Я. Маршак писал сказку в годы Великой Отечественной Войны (в1942-1943 годах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ля МХ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C:\Users\MSI\AppData\Local\Temp\Rar$DI00.881\Фокина Л. П. Шаблон (фон) презентации. Часть 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Users\MSI\AppData\Local\Temp\Rar$DI04.803\image1.jpeg"/>
          <p:cNvPicPr/>
          <p:nvPr/>
        </p:nvPicPr>
        <p:blipFill>
          <a:blip r:embed="rId2"/>
          <a:stretch/>
        </p:blipFill>
        <p:spPr>
          <a:xfrm>
            <a:off x="142920" y="142920"/>
            <a:ext cx="885816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C:\Users\MSI\AppData\Local\Temp\Rar$DI00.881\Фокина Л. П. Шаблон (фон) презентации. Часть 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C:\Users\MSI\Downloads\005863.jpg"/>
          <p:cNvPicPr/>
          <p:nvPr/>
        </p:nvPicPr>
        <p:blipFill>
          <a:blip r:embed="rId2"/>
          <a:stretch/>
        </p:blipFill>
        <p:spPr>
          <a:xfrm>
            <a:off x="142920" y="142920"/>
            <a:ext cx="885816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C:\Users\MSI\AppData\Local\Temp\Rar$DI00.881\Фокина Л. П. Шаблон (фон) презентации. Часть 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:\Users\MSI\Downloads\9244_html_1dd423b5.jpg"/>
          <p:cNvPicPr/>
          <p:nvPr/>
        </p:nvPicPr>
        <p:blipFill>
          <a:blip r:embed="rId2"/>
          <a:srcRect l="0" t="0" r="0" b="7974"/>
          <a:stretch/>
        </p:blipFill>
        <p:spPr>
          <a:xfrm>
            <a:off x="142920" y="142920"/>
            <a:ext cx="885816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C:\Users\MSI\AppData\Local\Temp\Rar$DI00.881\Фокина Л. П. Шаблон (фон) презентации. Часть 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C:\Users\MSI\Downloads\96f0ef6e16eb4209f409edbbbc4a3a35.jpg"/>
          <p:cNvPicPr/>
          <p:nvPr/>
        </p:nvPicPr>
        <p:blipFill>
          <a:blip r:embed="rId2"/>
          <a:stretch/>
        </p:blipFill>
        <p:spPr>
          <a:xfrm>
            <a:off x="2786040" y="1785960"/>
            <a:ext cx="350064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C:\Users\MSI\AppData\Local\Temp\Rar$DI00.881\Фокина Л. П. Шаблон (фон) презентации. Часть 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Прямоугольник 5" descr=""/>
          <p:cNvPicPr/>
          <p:nvPr/>
        </p:nvPicPr>
        <p:blipFill>
          <a:blip r:embed="rId2"/>
          <a:stretch/>
        </p:blipFill>
        <p:spPr>
          <a:xfrm>
            <a:off x="1054080" y="1652760"/>
            <a:ext cx="7096320" cy="136512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"/>
          <p:cNvSpPr/>
          <p:nvPr/>
        </p:nvSpPr>
        <p:spPr>
          <a:xfrm>
            <a:off x="1285920" y="3012840"/>
            <a:ext cx="6572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49280">
              <a:lnSpc>
                <a:spcPct val="150000"/>
              </a:lnSpc>
              <a:buClr>
                <a:srgbClr val="7030a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начинается со списка действующих лиц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lnSpc>
                <a:spcPct val="150000"/>
              </a:lnSpc>
              <a:buClr>
                <a:srgbClr val="7030a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состоит из действий (актов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lnSpc>
                <a:spcPct val="150000"/>
              </a:lnSpc>
              <a:buClr>
                <a:srgbClr val="7030a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действия делятся на картин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lnSpc>
                <a:spcPct val="150000"/>
              </a:lnSpc>
              <a:buClr>
                <a:srgbClr val="7030a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имеются краткие ремар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(заметки, подсказки) авт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C:\Users\MSI\AppData\Local\Temp\Rar$DI00.881\Фокина Л. П. Шаблон (фон) презентации. Часть 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Прямоугольник 8" descr=""/>
          <p:cNvPicPr/>
          <p:nvPr/>
        </p:nvPicPr>
        <p:blipFill>
          <a:blip r:embed="rId2"/>
          <a:stretch/>
        </p:blipFill>
        <p:spPr>
          <a:xfrm>
            <a:off x="1547640" y="1328760"/>
            <a:ext cx="5767560" cy="106056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7"/>
          <p:cNvSpPr/>
          <p:nvPr/>
        </p:nvSpPr>
        <p:spPr>
          <a:xfrm>
            <a:off x="428760" y="2286000"/>
            <a:ext cx="842940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нцлер- 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ысшая государственная долж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ашатай- 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человек, объявляющий королевские указ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нтия- 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кидка, одеваемая поверх плать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скрипт- 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споряж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олюция- 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ешение, постановл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одатайство- 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сь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сленичные балаганы- 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стройки для театрализованных представлений во время Маслен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C:\Users\MSI\AppData\Local\Temp\Rar$DI00.881\Фокина Л. П. Шаблон (фон) презентации. Часть 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21"/>
          <p:cNvPicPr/>
          <p:nvPr/>
        </p:nvPicPr>
        <p:blipFill>
          <a:blip r:embed="rId2"/>
          <a:stretch/>
        </p:blipFill>
        <p:spPr>
          <a:xfrm>
            <a:off x="1143000" y="2071800"/>
            <a:ext cx="3357720" cy="3357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C:\Users\MSI\AppData\Local\Temp\Rar$DI12.915\image3.jpeg"/>
          <p:cNvPicPr/>
          <p:nvPr/>
        </p:nvPicPr>
        <p:blipFill>
          <a:blip r:embed="rId3"/>
          <a:srcRect l="15001" t="0" r="0" b="0"/>
          <a:stretch/>
        </p:blipFill>
        <p:spPr>
          <a:xfrm>
            <a:off x="4429080" y="2071800"/>
            <a:ext cx="364320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Users\MSI\AppData\Local\Temp\Rar$DI00.881\Фокина Л. П. Шаблон (фон) презентации. Часть 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4" descr=""/>
          <p:cNvPicPr/>
          <p:nvPr/>
        </p:nvPicPr>
        <p:blipFill>
          <a:blip r:embed="rId2"/>
          <a:stretch/>
        </p:blipFill>
        <p:spPr>
          <a:xfrm>
            <a:off x="1779480" y="1511280"/>
            <a:ext cx="6158160" cy="2835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Users\MSI\Downloads\reading_jpg1.jpg"/>
          <p:cNvPicPr/>
          <p:nvPr/>
        </p:nvPicPr>
        <p:blipFill>
          <a:blip r:embed="rId3"/>
          <a:stretch/>
        </p:blipFill>
        <p:spPr>
          <a:xfrm>
            <a:off x="285840" y="4000680"/>
            <a:ext cx="2462040" cy="2357280"/>
          </a:xfrm>
          <a:prstGeom prst="rect">
            <a:avLst/>
          </a:prstGeom>
          <a:ln w="0">
            <a:noFill/>
          </a:ln>
        </p:spPr>
      </p:pic>
      <p:pic>
        <p:nvPicPr>
          <p:cNvPr id="49" name="музыка.mp3" descr=""/>
          <p:cNvPicPr/>
          <p:nvPr/>
        </p:nvPicPr>
        <p:blipFill>
          <a:blip r:embed="rId4"/>
          <a:stretch/>
        </p:blipFill>
        <p:spPr>
          <a:xfrm>
            <a:off x="8501040" y="6357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9327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C:\Users\MSI\AppData\Local\Temp\Rar$DI00.881\Фокина Л. П. Шаблон (фон) презентации. Часть 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C:\Users\MSI\Downloads\1.jpg"/>
          <p:cNvPicPr/>
          <p:nvPr/>
        </p:nvPicPr>
        <p:blipFill>
          <a:blip r:embed="rId2"/>
          <a:srcRect l="0" t="0" r="0" b="4898"/>
          <a:stretch/>
        </p:blipFill>
        <p:spPr>
          <a:xfrm>
            <a:off x="2928960" y="2928960"/>
            <a:ext cx="3143160" cy="2928960"/>
          </a:xfrm>
          <a:prstGeom prst="rect">
            <a:avLst/>
          </a:prstGeom>
          <a:ln w="0">
            <a:noFill/>
          </a:ln>
        </p:spPr>
      </p:pic>
      <p:pic>
        <p:nvPicPr>
          <p:cNvPr id="116" name="Прямоугольник 8" descr=""/>
          <p:cNvPicPr/>
          <p:nvPr/>
        </p:nvPicPr>
        <p:blipFill>
          <a:blip r:embed="rId3"/>
          <a:stretch/>
        </p:blipFill>
        <p:spPr>
          <a:xfrm>
            <a:off x="817560" y="1603440"/>
            <a:ext cx="7362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Users\MSI\AppData\Local\Temp\Rar$DI00.881\Фокина Л. П. Шаблон (фон) презентации. Часть 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3"/>
          <p:cNvSpPr/>
          <p:nvPr/>
        </p:nvSpPr>
        <p:spPr>
          <a:xfrm>
            <a:off x="1285920" y="2000160"/>
            <a:ext cx="65008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Monotype Corsiva"/>
              </a:rPr>
              <a:t>Давайте разговаривать</a:t>
            </a:r>
            <a:br>
              <a:rPr sz="4400"/>
            </a:br>
            <a:r>
              <a:rPr b="1" i="1" lang="ru-RU" sz="4400" spc="-1" strike="noStrike">
                <a:solidFill>
                  <a:srgbClr val="ff0000"/>
                </a:solidFill>
                <a:latin typeface="Monotype Corsiva"/>
              </a:rPr>
              <a:t>И будем выговаривать</a:t>
            </a:r>
            <a:br>
              <a:rPr sz="4400"/>
            </a:br>
            <a:r>
              <a:rPr b="1" i="1" lang="ru-RU" sz="4400" spc="-1" strike="noStrike">
                <a:solidFill>
                  <a:srgbClr val="ff0000"/>
                </a:solidFill>
                <a:latin typeface="Monotype Corsiva"/>
              </a:rPr>
              <a:t>Все правильно и внятно,</a:t>
            </a:r>
            <a:br>
              <a:rPr sz="4400"/>
            </a:br>
            <a:r>
              <a:rPr b="1" i="1" lang="ru-RU" sz="4400" spc="-1" strike="noStrike">
                <a:solidFill>
                  <a:srgbClr val="ff0000"/>
                </a:solidFill>
                <a:latin typeface="Monotype Corsiva"/>
              </a:rPr>
              <a:t>Чтоб было всем понятн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Users\MSI\AppData\Local\Temp\Rar$DI00.881\Фокина Л. П. Шаблон (фон) презентации. Часть 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571680" y="1785960"/>
            <a:ext cx="8358120" cy="44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Книжек первые страниц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Нас встречают с первых </a:t>
            </a:r>
            <a:r>
              <a:rPr b="1" i="1" lang="en-US" sz="32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И несут нас, точно пт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Облетая целый свет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Книгу любят и храня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Пусть же крепнет с каждым </a:t>
            </a:r>
            <a:r>
              <a:rPr b="1" i="1" lang="en-US" sz="32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год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Дружба книги и реб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                                            </a:t>
            </a:r>
            <a:r>
              <a:rPr b="1" lang="ru-RU" sz="2800" spc="-1" strike="noStrike">
                <a:solidFill>
                  <a:srgbClr val="7030a0"/>
                </a:solidFill>
                <a:latin typeface="Arial"/>
                <a:ea typeface="Times New Roman"/>
              </a:rPr>
              <a:t>С.Я.Марш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C:\Users\MSI\Downloads\73431912_MarshakS.jpg"/>
          <p:cNvPicPr/>
          <p:nvPr/>
        </p:nvPicPr>
        <p:blipFill>
          <a:blip r:embed="rId2"/>
          <a:stretch/>
        </p:blipFill>
        <p:spPr>
          <a:xfrm>
            <a:off x="6500880" y="2000160"/>
            <a:ext cx="228600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Users\MSI\AppData\Local\Temp\Rar$DI00.881\Фокина Л. П. Шаблон (фон) презентации. Часть 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Users\MSI\Downloads\illyustratsi-marshak-stikhi-1.jpg"/>
          <p:cNvPicPr/>
          <p:nvPr/>
        </p:nvPicPr>
        <p:blipFill>
          <a:blip r:embed="rId2"/>
          <a:stretch/>
        </p:blipFill>
        <p:spPr>
          <a:xfrm>
            <a:off x="6000840" y="1785960"/>
            <a:ext cx="2760480" cy="3714840"/>
          </a:xfrm>
          <a:prstGeom prst="rect">
            <a:avLst/>
          </a:prstGeom>
          <a:ln w="0">
            <a:noFill/>
          </a:ln>
        </p:spPr>
      </p:pic>
      <p:sp>
        <p:nvSpPr>
          <p:cNvPr id="60" name="TextBox 5"/>
          <p:cNvSpPr/>
          <p:nvPr/>
        </p:nvSpPr>
        <p:spPr>
          <a:xfrm>
            <a:off x="285840" y="1857240"/>
            <a:ext cx="5786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ама сдавала багаж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иван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емодан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аквояж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ртин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рзин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ртон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маленькую собачон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:\Users\MSI\AppData\Local\Temp\Rar$DI00.881\Фокина Л. П. Шаблон (фон) презентации. Часть 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6"/>
          <p:cNvSpPr/>
          <p:nvPr/>
        </p:nvSpPr>
        <p:spPr>
          <a:xfrm>
            <a:off x="500040" y="2357280"/>
            <a:ext cx="442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Пела ночью мышка в норке: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- Спи, мышонок, замолчи!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Дам тебе я хлебной корки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И огарочек св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4" descr="http://audioskazki.net/wp-content/gallery/marshak/skazka_o_glupom_mjishonke/03_1.jpg"/>
          <p:cNvPicPr/>
          <p:nvPr/>
        </p:nvPicPr>
        <p:blipFill>
          <a:blip r:embed="rId2"/>
          <a:stretch/>
        </p:blipFill>
        <p:spPr>
          <a:xfrm>
            <a:off x="4786200" y="2571840"/>
            <a:ext cx="407196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C:\Users\MSI\AppData\Local\Temp\Rar$DI00.881\Фокина Л. П. Шаблон (фон) презентации. Часть 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Box 5"/>
          <p:cNvSpPr/>
          <p:nvPr/>
        </p:nvSpPr>
        <p:spPr>
          <a:xfrm>
            <a:off x="571680" y="2143080"/>
            <a:ext cx="5786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Мой веселый, звонкий мяч,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Ты куда пустился вскачь?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Желтый, красный, голубой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Не угнаться за тобой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http://im7-tub-ru.yandex.net/i?id=261572245-60-72&amp;n=21"/>
          <p:cNvPicPr/>
          <p:nvPr/>
        </p:nvPicPr>
        <p:blipFill>
          <a:blip r:embed="rId2"/>
          <a:stretch/>
        </p:blipFill>
        <p:spPr>
          <a:xfrm>
            <a:off x="7072200" y="3857760"/>
            <a:ext cx="137160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C:\Users\MSI\AppData\Local\Temp\Rar$DI00.881\Фокина Л. П. Шаблон (фон) презентации. Часть 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"/>
          <p:cNvSpPr/>
          <p:nvPr/>
        </p:nvSpPr>
        <p:spPr>
          <a:xfrm>
            <a:off x="357120" y="1446120"/>
            <a:ext cx="52866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вать цветы легко и прос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тям маленького рост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 тому, кто так высо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легко сорвать цветок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C:\Users\MSI\Downloads\3_93a652899f619ba11d6c9b045ad950f7_1365159588.jpg"/>
          <p:cNvPicPr/>
          <p:nvPr/>
        </p:nvPicPr>
        <p:blipFill>
          <a:blip r:embed="rId2"/>
          <a:srcRect l="3128" t="1924" r="52818" b="8791"/>
          <a:stretch/>
        </p:blipFill>
        <p:spPr>
          <a:xfrm>
            <a:off x="5000760" y="1857240"/>
            <a:ext cx="23716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C:\Users\MSI\AppData\Local\Temp\Rar$DI00.881\Фокина Л. П. Шаблон (фон) презентации. Часть 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C:\Users\MSI\Downloads\_______________._4d84fdfb96a28.jpg"/>
          <p:cNvPicPr/>
          <p:nvPr/>
        </p:nvPicPr>
        <p:blipFill>
          <a:blip r:embed="rId2"/>
          <a:stretch/>
        </p:blipFill>
        <p:spPr>
          <a:xfrm>
            <a:off x="4643280" y="1785960"/>
            <a:ext cx="3286440" cy="4429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C:\Users\MSI\Downloads\170423_900.jpg"/>
          <p:cNvPicPr/>
          <p:nvPr/>
        </p:nvPicPr>
        <p:blipFill>
          <a:blip r:embed="rId3"/>
          <a:stretch/>
        </p:blipFill>
        <p:spPr>
          <a:xfrm>
            <a:off x="500040" y="1857240"/>
            <a:ext cx="3210120" cy="44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7T17:08:03Z</dcterms:created>
  <dc:creator>MSI</dc:creator>
  <dc:description/>
  <dc:language>en-US</dc:language>
  <cp:lastModifiedBy>Пользователь Windows</cp:lastModifiedBy>
  <dcterms:modified xsi:type="dcterms:W3CDTF">2013-12-09T10:24:44Z</dcterms:modified>
  <cp:revision>30</cp:revision>
  <dc:subject/>
  <dc:title>Слайд 1</dc:title>
</cp:coreProperties>
</file>