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1EA2-BCA5-4ADB-B8D3-7240C3A4F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5A59-D72D-434B-B7A6-D87C69B6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BF31B-9A48-4E0F-B2C1-444299B7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17C1E-9043-4DD1-822B-AB93C142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27196-DAE5-4095-A972-5147FA0B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0E34F-7217-46F2-ADDF-0A23D828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9BAF8-F51F-40F3-AC39-C124C542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B6DF92-E923-4620-9082-A237DD19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5BC2B-B97E-49EF-9D90-245DD2DE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564B2-887D-4646-AB53-0AEC3CBF1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EF65B-89F6-48F4-A178-0016F678D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F505A-262A-4ED1-84F3-95E80194E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53DE-385F-4D87-89E6-458774D18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9F6A9E-9A59-448A-B908-A0660F33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20FA79-5F29-4224-8240-5E07366C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DB7C25-DEFC-4992-8897-9BFBF3AC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83600E-F982-4E30-9144-8F65385F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8088C0-DC4B-42D3-8C47-AB8A73F0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E5F9B5-A442-468A-B1D2-73559C33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2B0EA-1651-4EE4-B8BF-7DF29FC8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32A9D7-4D35-428E-9E5A-B2CC2328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585F4-BF93-4542-9FBF-75737D99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980A76-50EA-4F79-847D-23D0204BB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36B8-1542-4F0E-8C17-0ED927DE1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D92739-E99A-4417-9C68-9AD0E12C0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65034-F1CB-4BC2-B35F-D910BE1F9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85D3D-7A30-4412-8561-EB784F0C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CC1D4-1A0C-474B-B0C4-9E0F27CE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6C90C-5A0F-4316-B1CA-EA2F4BF2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787AA-24B9-4AA7-B0D3-1265097B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756BC-263F-496E-9053-6AD2F422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96E92-9DEA-49CD-965D-5FB09714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F3705-FD7C-442F-BADA-70B2DF08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675CB-F01B-4D8D-8996-FBFD305A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7F1D-374C-4680-BEF6-9C52D856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E3799-79B4-4517-8B97-2EE654EA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2D76C-2AB7-469E-A329-83BD2BC05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493A45-4D94-4CE7-B063-BB617708A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49A950-C839-4CE0-96C3-078AA4A4F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7457D-2A01-4D94-BFD8-B6940834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C3C50D-3DBD-4FA8-940B-6B1F3049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B995C0-C519-453C-904A-54B487CD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DD529-26CB-4D63-B0B4-90E364CA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575D56-17A8-439E-8434-C3548F8A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BF5E8A-BB9A-4255-BD37-A50D5038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7163-8EDE-4091-A4CC-65D5D1CB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A92CA0-DBA0-46B1-9EF2-AE6A4379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BF346F-078E-49FF-9A78-402E6637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8B7058-EC39-49F5-8FA9-9CB76218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317D9F-9477-4B7A-9EAF-71559BECF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E3FC98-F16D-44E6-8CF7-CA2E8796F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6573ED-F10E-4A2C-BD06-816B5CFAC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12C3AB-742B-4B4E-899C-16BF223F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43168A-0853-46E5-AA46-3245CA87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6E395B-A45D-4C38-938E-5EF24CF7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E147AC-C260-431E-90CE-9EC84B2A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0B57-C87F-4A10-9785-9603F5BE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6EEA5F-B561-4EBA-AE5B-C39935F1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BA17AA-7191-445F-882E-106B0CEA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80B4B7-B2A9-4504-BF9D-CADBCFD0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96E63F-D95C-4214-A472-83524859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4AC58A-1C5D-42C6-9FDF-F7635099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AE131E-DE70-431B-80EE-51FD70753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3B65A9-188C-40E8-BD23-9E64306E6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C4E388-212B-42C7-8B9B-EA42AF3FA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941D5D-7C45-4BF6-996B-9DA6725A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B76071-8872-43A3-AAB1-35C6DC1E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7D97-933E-47B8-A7A8-D269F406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D01E90-A8DB-4F44-B435-F5E4FA5A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FE0E32-62B8-4F17-84BC-244E950A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8AF88F-A489-44C4-8D27-19752738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ABB0B1-EF7B-4D4B-8E92-52BBB45D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EAD742-32A8-4E0F-8EF2-A5B44811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6A1FE2-D070-4A3A-B8F7-FF0E3F7C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98C40E-5BAB-4A12-99CB-7D4B5E5C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C0640A-2380-4C74-B4BE-4B0CC8BCB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16563F-FB7E-408C-87EA-FC8B1EB3E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572929-A643-4812-BC47-7FEFBF1E7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F1ED-C5CD-4EEE-9F78-B2007BD3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703825-17FF-4F8D-B3E0-30B2550C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193E81-BFD6-40E5-91E7-9F933814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C838A2-7E08-4360-AC03-04D30D40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2D61D5-6652-42B3-B884-7B67F03F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67673B-1094-439F-81AF-97B157C3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CA7246-9D41-4B77-97E9-9A82126A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D76D99-47B5-460E-AA86-A322EFFA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1BD09F-28E7-4759-9447-6D65415E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63CDFD-0305-4E36-B576-6F392344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11CE90-CC7D-44CF-99D8-37C9BB22B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61BA-011E-4687-9B74-CC03EE1E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87E334-31A9-4674-BFE2-664654F6E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93F520-4298-419D-9BE4-610F9D7CB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F5228D-E982-4268-951D-1C483247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F16433-8E9A-43FD-8CE2-0394C847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D29F53-B06C-4D90-9D29-3DCCFD8D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B24587-37DC-4B65-8452-DAE55B63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00218C-7BEF-4BFF-B0FA-3069B124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298E4B-B2BA-4CF8-AA3C-B7FC9E0E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D9B6AB-807E-4B10-BD33-0CEA8AAC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383258-6EE8-49AB-9239-CD06B442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E4BF-2F40-430A-BD27-1CAD1629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994E4B-9D72-48DF-8A83-CE1C75FB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6B4A1E-94A4-40D5-9D6A-D60D0A0B8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412BC6-5C6E-438D-BE6A-54B89B672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59F0D4-EEC9-4295-9BDF-AF47E7A88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A3A7CE-787D-443E-B1C2-E3C4A7C0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B0686B-00C8-45BC-A805-57702C39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0BA3B1-8830-472A-A2E2-4CB48CEC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C85874-1DB2-4250-A521-385CF0DA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20BD1E-6FB7-4DC4-A6EE-6267606A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10AAFF-27C1-4439-BB82-472F2A38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B75E-98CE-4D8D-894D-BEC6D6A5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9AC5-33F3-4820-B40A-890A6082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0D677F-E4AA-49FE-A849-18AFDFEF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6A4076-7041-4A36-B7D4-E4381F2F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885490-B5B9-4E31-A4D0-D5412310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F95B75-8449-4D6F-A032-FC5AC9C8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1B8744-F5DD-4566-9CDC-112938B6E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935390-4B84-4348-B160-89B63A9D1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E5ED9A-1AB8-45F3-9235-7D8E1674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0640A9-9BAA-4721-9D49-B718F94B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0437E0-0D40-40E8-A55A-88B94FA8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D6D4B7-7777-4207-BEB9-A6099143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7BCB-DF10-4CED-A0AC-65737CF4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F8170D-4B0E-4E2E-8F9D-5CE3D0A8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FD8484-9793-466C-B8AA-C47E9FCE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D79207-1871-4DC4-B7D4-33F93C78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F95AA6-6145-4FE6-8C43-C4EB8FFC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2D6226-D660-4661-86C5-27B7ABD2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DC11D4-9CF7-4503-BCBD-AE2C97748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064E9B-67AE-4EDD-BB6F-B64A2DCF3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438BF5-E69E-4AFC-B9F4-9A7642393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766A64-FE1B-4383-803B-CFC61793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03F96B-8F10-4BEE-9D5F-2D420A0C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B41D-2293-4D4E-9C43-77AA16B3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B0CF73-2C9E-462F-B6D3-FB934499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F5ED04-F450-43D1-80BC-FA4B6B30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2E5FAF-2500-45A2-BB20-33786550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0A2387-25ED-4BFA-85DF-43E39A95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83F43B-8CF0-433D-BF8D-AF385DB0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1C280F-9FCE-4DC9-9044-9CCAEA51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0165B9-09F9-4D3C-AA25-60F3E8D9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AB4E2B-2D94-42F2-897E-641A57BDC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8A8F43-E556-4E08-8101-AFEBA282D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3B23AB-373B-4CB9-A188-2DB99DE70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D42F-0FF2-4D7A-8192-268F9A987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D0D4B0-979F-47F8-9581-83F0A62A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AD677F-BAA0-4C36-8F15-B0CFC5EC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43A10A-CA8D-4DB5-94FB-088C7955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1BA20F-43CB-4736-ABCB-7F4BCEA2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42C859-0E8A-422C-B0C4-DA842AF0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766675-7D26-44EA-8C82-A85E4CFF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77E782-8EF7-49E5-99B3-45D4AC9B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3312AB-DB63-4ECC-BD35-0ED87168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806FA9-FCC6-4B77-960B-9488AB3B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3EC801-8C74-45E7-9CD6-C2A90CB6D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76C1-6FFD-427F-B64B-28BF2CE0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4D1825-C709-41F8-AD5F-6E935C1C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12AA09-2883-4A3E-91E3-2050CFF78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38C615-8D61-4EF0-9E21-155D5936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420879-9D8C-4539-9948-122FD147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AA3055-EAC7-418F-B34F-58AA7521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E1BCA1-37DA-418E-8BA7-03AB2E62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7BB0DA-5CDF-4C98-BFB2-F54585A4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993000-5A9B-496C-A5C7-4E32740E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2DF630-7AE3-44CB-938E-6775168B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4370F3-1BE4-49CD-A575-F3833500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22EF0-A093-486A-8B93-75108AA5D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F547E5-4410-449E-9FFD-4B34B792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ECF450-1A63-4E3F-A1A3-A2909F4E5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6C22C7-9491-44FB-891C-A92D2EA42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0A663B-347F-4813-8CE9-769A0F86A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D29FE8-F56B-4545-AB84-40BB422D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50CF1D-B78B-4AF8-855F-4E6CDE29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357B7D-9E86-4E73-AA07-58AEC383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864F25-D051-456D-83FD-5C82EE29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408330-60E5-4AB3-A89C-5F3061F6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B11EED-B810-4875-8449-5663C4DC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AFA60-CB58-4156-886F-AF4125C2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DD884A-598C-4421-958A-46CC4215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DA064B-864A-49C8-AAEF-02FB81D3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09E571-6B05-45A6-93C6-C703CD01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BA2D46-90A4-4803-A4A2-37F315BCF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D49CE9-1996-4B41-987D-9FBCFE469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5D4141-CFF0-4CEC-A23A-8C398485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8DEF37-DFFF-488F-BD2A-3ABD0186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A9F91C-395F-460F-BFF7-2B9B87D4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B49614-B8BB-4E46-957A-9141527A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FC4AB8-16BF-4958-A73F-D2E7E9AB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514E1-FFB1-4AA5-AB29-DFFAC24D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9E9898-C202-4C34-A70F-C1AF8903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78899C-DF9C-4660-A127-A2BB6789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ED3C87-A864-4851-82C8-B05BF99D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32A55D-1EDF-4284-8A18-E4BF0A89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55085D-8E06-4BA8-B313-A04FFEF9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A3370C-E0AF-4BC7-B06E-046D58029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8AE656-0809-4C39-A1FD-9A4B3F983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F1F433-A4EA-4D9B-90C2-7FA5C38F9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31C541-7D7B-4382-8F5C-58B67251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B53FAC-6343-4F3C-AA05-B64E9B3A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0D11B-5C75-4282-A79D-ABBA782C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19380A-08F3-4DD5-B1B9-863E779E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D8E7CB-650B-4C79-981A-8219B8F8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F1DD1B-3EC3-4C97-9303-D8DE5F88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6CFF98-13AB-48C7-849A-3E9CE8CB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9AF073-E104-4DC6-A0A6-155626D9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0AEC66-A767-4143-A120-28728739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7B1C0E-EAAF-439B-91B1-C614328F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C8390A-2F51-4512-9342-5C4F068C9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4444A6-52BC-428E-90D9-D01DC6733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8AE412A-B3FF-46E5-810B-F0396445E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5CBC5-F952-49F0-AFD1-429FB532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981EA2-E6A1-4AE7-B31A-FAE7CDDF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47E34B1-5D96-4A7B-9B06-AF26B516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BF55D4-610A-40B3-A3A0-CB13DFC2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A82361-9BDF-4216-9C74-28B89358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70F22C6-FAAF-4845-9486-977AFE2D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46A5AD6-6353-485F-8EB7-DB8B35D9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81E9FDB-320E-40EA-8144-3B3BA3C2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790980E-03C5-4AA8-ADBE-2821C3DD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1F585DF-0D90-449C-8164-AA721B2B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29C58B-A655-4799-80B3-6C95EF17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7D93-743B-4882-A160-66D9393D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E8CFC-01E9-4A91-846A-E66CB1E7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EA1DEE-7744-438E-90A7-F75AA4DA6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B1DF70A-DB80-43E6-A2FE-C51E9870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C0760F-28E9-4AA6-B75B-98ECB7E6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BAF02A4-80BD-4055-910A-A0B8DBA0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0030C55-87AF-407D-AFF5-8A0BFD8F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FB858C8-CA51-480A-9C89-8EF61ED2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57C5097-8B8F-46BD-98B6-1B2A1377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05DE672-3E05-483B-9F8B-069AF1DC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AFFE82B-65A4-4A21-9EDD-F5174B3F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334474-B4A9-416D-BB56-C02C9119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610FB-4C0B-45E1-8334-76D50C4B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4FC6AC-53AD-4AAC-8905-2084A939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AEBF6C-F319-49A1-A269-26365C7E4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A727574-C462-46D1-991F-455F3F0E8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7C5B6A9-5FB2-4CEC-8F65-5ED4A7BF4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42C2C4-22D1-461E-A6F4-2DB89D9C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4BBB68-DB8D-457B-8358-5EA11569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9238F95-79E9-43E3-AEF6-65CF5520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C7074BA-6769-46E6-9351-78459FDA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A727B6F-20F5-474D-BFD0-F90F19CC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9A814B6-1698-4C23-95A6-8FBC2A87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E8B60-1CC6-4EDD-A9EC-254EEF18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073E8B1-9508-4B8A-9289-8D8FBC92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983D0CD-29B5-48C4-9FB2-BBD64BB6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80AC630-9247-4B4E-9731-E840AD35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B51C0C5-E3F9-41E7-89F6-3FB8D9E41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BF56727-9ACC-416D-8A2C-873F31EA3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94B0234-E201-4244-9E8A-A9D259C4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6A2E839-58CF-41FE-A3A1-6BABB995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61C239E-A8A8-4993-A51F-04FED117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70D54F8-C67A-4985-8067-BD22F70F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CD9B3A1-A5C3-49F4-A928-D6062BFD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C9014-23BC-4D4C-9FA7-A9E527BC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2036751-A34C-4491-8540-9671CE14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5769A7B-00C7-4437-BE47-5753E908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E7BAE6-E119-4C19-8E83-F48C959A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0B58B9D-ACDF-4CE3-BD50-DF5AAEB7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76F49AE-3470-4ABD-A1E8-843262D6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20EADEE-E537-4BE5-AE55-A51B9DA6E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9EF5CCB-A22C-40E7-8E64-BCB778400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1EE98-060C-4A66-92DA-76E2AA91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95A75-ECF0-494E-BD55-64AA2C5D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8A9D5-82AB-476E-B3F0-EAD5F1716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5D907-1ECA-412A-B7E7-B81E9331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BE4C6-0764-4A39-8FB1-5A0C4D37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C82BA-B7A4-492B-A53F-46122153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EECF-91B0-4603-8D81-62B01AA1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041A6-748A-4252-8E71-E0BFB0EB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284D6-28CA-4040-BF19-9F4AD9ED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78021-AC93-4F6F-9ED4-6739A77A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5455C-2DD9-4D9A-9717-126703AD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D5034-57E9-4B82-BA01-4ED2E968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9154B-FCFA-4705-AFD3-7AB15922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3FEE5-C12D-4102-91CF-4EA08708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395E1-7467-46A6-BF41-7DBB394DF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B513B-7C9F-4782-81F4-617961E3C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68278-016F-4B6E-BB4F-C0F96ABB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160B-9ACD-4738-B32B-C7770844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F0B61-78B5-460C-A1FD-66E80DAC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CD2E0-95CB-42BE-A53F-9D94B050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F4F4B-A423-43B2-95D9-8A1B2A17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A7A56-DF58-473B-826F-F34D0DBB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45754-419A-44BF-88D8-B7F38010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E7EB2-0505-46E7-B060-22B0D5BF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DD88F-27D2-4CF9-B57A-03DB2608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4D152-E166-4661-AB7E-6B127A8F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58C8C-C7C3-4A71-AE47-8438FFCA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F5CE8-4326-4D08-B269-78D85CE2F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8BD0-8B1D-40B1-B635-11E68539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430CD-9563-4D6A-8A28-0C9852A14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98EC4-68E5-4ADD-BEDC-B66E39422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B4E4C-7B75-4221-8E5C-C1AAC540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E83B6-43E1-4401-B924-13D3565E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35A2B-BAAB-4446-A510-9B38AD68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B8399-17BC-4469-A7C8-43F89B9F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0D811-FD23-40FA-AA8C-5FFB1985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349B6-5374-4DAA-A015-CC9EAD62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059DF-B7D4-4C80-90B4-659D4E59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CB2E6-C9AE-497A-8F31-8376FC2D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A80B-364B-444A-8A55-67573B60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787E9-04AF-4662-9405-348A7584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5B104-D4AB-4879-BB81-D90F5728C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7FA61-83E7-4553-9D76-F08F9F58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AD991-A647-4F67-B870-FDA241494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7EC61-B1C5-491B-9A5C-7F5EB33B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C3044-F151-4C21-98F6-78C7A500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683C2-D14A-4777-83D3-AA0B3C34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FAE60-713E-422B-B540-E0F322A8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9BA8D-559E-49CF-8AE1-E2CB39CD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A99F7-CE15-4567-A99A-758D231F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37D2-4278-4872-9845-A15E106B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85990-EC63-4312-9648-A5598D4F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CDC03-923F-4DF7-B7ED-D0FE63A0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905A3-1FCE-456D-828C-00A731A0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2DCC6-C643-45CF-A8AD-9570F6E78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22ADC-85F5-43BA-B457-6846AAAFB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4B94F-9749-4547-B82B-AFDA043EE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52D21-586E-40A9-967F-0AF7478C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2E931-FF61-4C03-BEA3-9EEDB3AC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553D0-A771-4F89-BD90-5684186F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E02D1-E244-45FA-BA2E-D8A99609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AFF8-E7A5-4EC0-8399-5C884CA3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B735B-F90B-45E8-89F4-3937C733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5F743-474C-4B19-A129-1B964000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7D06C-408F-43A9-8481-D40E1C19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F9269-7DA7-4BA6-B339-7B7020EC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20D6A-4912-4469-A828-24067731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61EF1-2B71-4326-BEB7-91118FB43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BF2FA-9FBE-4E4B-8546-513448A82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258BA-93A8-4EA7-98E4-DFFD47222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26AA8-3274-4CF8-9D90-A240D436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60EAA-C962-4BFA-A6DE-E353B92A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CB60-0BF7-4E79-9991-4BD3EEEC35B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6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2881-1436-4F29-8542-933670EBA72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2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95AB-F193-4953-AC2F-39629A0015E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7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3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3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3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6D9C-32C3-4502-A698-273F48E7053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62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3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3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3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E9D8-75EC-4FC8-A598-D9A9804F71D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68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4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4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F295-9389-413B-A3C8-9CC80F55A31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73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4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4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4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D922-F47C-42B4-B478-64EC0020261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785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4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4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4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DC21-7E9D-4A66-BC7D-E9E85D81446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83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 type="dt" idx="4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 type="ftr" idx="5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 type="sldNum" idx="5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AF24-3765-4D44-AF9C-B1EDA99EEE7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88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dt" idx="5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ftr" idx="5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 type="sldNum" idx="5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EC7A-B33B-48E7-99E2-D5C242FD96B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94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 type="dt" idx="5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 type="ftr" idx="5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 type="sldNum" idx="5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16DD-4049-4155-BF8C-AB852A6142B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819D-6829-4B0A-B90E-E56FB8FC93D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99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dt" idx="5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 type="ftr" idx="5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 type="sldNum" idx="6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339C-5F06-4480-83EC-8E83580EC5D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4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 type="dt" idx="6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 type="ftr" idx="6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 type="sldNum" idx="6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86D9-B224-49BD-A643-A7BA3B83A17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9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6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6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6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679B-A21F-4B55-BEC2-9589D621D98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14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 type="dt" idx="6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 type="ftr" idx="6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 type="sldNum" idx="6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85A4-07F0-4479-8B01-F5BD82B43DB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20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 type="dt" idx="7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 type="ftr" idx="7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 type="sldNum" idx="7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393F-10DD-4274-AB67-EBF88643DCB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25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3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 type="dt" idx="7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 type="ftr" idx="7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 type="sldNum" idx="7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B29E-9400-4ADA-BD8F-40D1315F717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30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7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 type="dt" idx="7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 type="ftr" idx="7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 type="sldNum" idx="7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2006-3055-49F9-B625-51B9B5B856A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36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 type="dt" idx="7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 type="ftr" idx="8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 type="sldNum" idx="8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F3EF-0CBE-43C6-AD1C-7243C48A28A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4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 type="dt" idx="8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 type="ftr" idx="8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 type="sldNum" idx="8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4D26-1B53-440E-B207-93279A355AC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C54E-EDB0-4B9E-A98E-98B9367F9A4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5C18-17DF-42CF-9168-F9E46A71D39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0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3302-3840-43A1-931B-7008578098D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6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128D-3E31-454F-AF49-989C6243209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7F84-2E65-4880-9512-2A2CDB42129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6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914C-9BBF-4D47-B5CF-27166892DFC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1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2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1E89-B77D-4C1B-9A53-6FCB6C158EC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0" y="31680"/>
            <a:ext cx="7740720" cy="684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2a5010"/>
                </a:solidFill>
                <a:latin typeface="Times New Roman"/>
              </a:rPr>
              <a:t>Государственное автономное профессиональное образовательное учреждение Чувашской Республики </a:t>
            </a:r>
            <a:br>
              <a:rPr sz="2200"/>
            </a:br>
            <a:r>
              <a:rPr b="0" lang="ru-RU" sz="2200" spc="-1" strike="noStrike">
                <a:solidFill>
                  <a:srgbClr val="2a5010"/>
                </a:solidFill>
                <a:latin typeface="Times New Roman"/>
              </a:rPr>
              <a:t>«Мариинско-Посадский технологический техникум» Министерства образования и молодежной политики Чувашской Республики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2a5010"/>
                </a:solidFill>
                <a:latin typeface="Times New Roman"/>
              </a:rPr>
              <a:t>                                      </a:t>
            </a:r>
            <a:r>
              <a:rPr b="1" lang="ru-RU" sz="2200" spc="-1" strike="noStrike">
                <a:solidFill>
                  <a:srgbClr val="2a5010"/>
                </a:solidFill>
                <a:latin typeface="Times New Roman"/>
              </a:rPr>
              <a:t>Индивидуальный проект</a:t>
            </a:r>
            <a:br>
              <a:rPr sz="2200"/>
            </a:br>
            <a:r>
              <a:rPr b="1" lang="ru-RU" sz="2200" spc="-1" strike="noStrike">
                <a:solidFill>
                  <a:srgbClr val="2a5010"/>
                </a:solidFill>
                <a:latin typeface="Times New Roman"/>
              </a:rPr>
              <a:t>                                 на тему: «Декоративные куклы»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2a5010"/>
                </a:solidFill>
                <a:latin typeface="Times New Roman"/>
              </a:rPr>
              <a:t>Выполнила: Васягина Елена Павловна, студент 1 курса, группы №43, профессии Швея.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2a5010"/>
                </a:solidFill>
                <a:latin typeface="Times New Roman"/>
              </a:rPr>
              <a:t>Руководитель: Васягина Людмила Анатольевна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2a5010"/>
                </a:solidFill>
                <a:latin typeface="Times New Roman"/>
              </a:rPr>
              <a:t>     г. Мариинский Посад 2021</a:t>
            </a:r>
            <a:br>
              <a:rPr sz="2200"/>
            </a:b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p:transition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0c226"/>
                </a:solidFill>
                <a:latin typeface="Trebuchet MS"/>
              </a:rPr>
              <a:t>Анализ работы, самооценка проектной деятельности</a:t>
            </a:r>
            <a:br>
              <a:rPr sz="4000"/>
            </a:b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108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Потребовалось минимум усилий, но максимум  фантазий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Сшила куклу за 3 дн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Использовала  остатки материалов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Докупила декоративные элемент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Поэтому стоимость куклы, намного дешевле, чем указано в смет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Кукла принесет в наш дом много радости и добр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Рисунок 1" descr="E:\2020\ТИЛЬДА\IMG_20210410_073807.jpg"/>
          <p:cNvPicPr/>
          <p:nvPr/>
        </p:nvPicPr>
        <p:blipFill>
          <a:blip r:embed="rId1"/>
          <a:stretch/>
        </p:blipFill>
        <p:spPr>
          <a:xfrm>
            <a:off x="468360" y="644400"/>
            <a:ext cx="3816360" cy="5135760"/>
          </a:xfrm>
          <a:prstGeom prst="rect">
            <a:avLst/>
          </a:prstGeom>
          <a:ln w="0">
            <a:noFill/>
          </a:ln>
        </p:spPr>
      </p:pic>
      <p:pic>
        <p:nvPicPr>
          <p:cNvPr id="1484" name="Рисунок 2" descr="E:\2020\ТИЛЬДА\IMG_20210331_165516.jpg"/>
          <p:cNvPicPr/>
          <p:nvPr/>
        </p:nvPicPr>
        <p:blipFill>
          <a:blip r:embed="rId2"/>
          <a:stretch/>
        </p:blipFill>
        <p:spPr>
          <a:xfrm>
            <a:off x="4716360" y="666720"/>
            <a:ext cx="3816360" cy="50896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0c226"/>
                </a:solidFill>
                <a:latin typeface="Trebuchet MS"/>
              </a:rPr>
              <a:t>Заключение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220680" y="1267920"/>
            <a:ext cx="80280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Trebuchet MS"/>
              </a:rPr>
              <a:t>Кукла</a:t>
            </a: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 - знак человека, его игровой символ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В этой роли она фокусирует время, историю культуры, историю страны и народа, отражая их достижение и развити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Кукла рождается не сама: ее создает человек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Она обретает жизнь при помощи воображения и воли своего создател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Кукла сохраняет в своем образе самобытность и характерные черты создающего ее народ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Следуя всем задачам, я достигла цель и изготовила прекрасную текстильную кукл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7696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 </a:t>
            </a:r>
            <a:r>
              <a:rPr b="1" lang="ru-RU" sz="2800" spc="-1" strike="noStrike">
                <a:solidFill>
                  <a:srgbClr val="90c226"/>
                </a:solidFill>
                <a:latin typeface="Trebuchet MS"/>
              </a:rPr>
              <a:t>Цель проекта</a:t>
            </a:r>
            <a:r>
              <a:rPr b="0" lang="ru-RU" sz="2800" spc="-1" strike="noStrike">
                <a:solidFill>
                  <a:srgbClr val="90c226"/>
                </a:solidFill>
                <a:latin typeface="Trebuchet MS"/>
              </a:rPr>
              <a:t>: научиться изготавливать декоративную куклу из ткани </a:t>
            </a:r>
            <a:br>
              <a:rPr sz="28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250560" y="1141560"/>
            <a:ext cx="7777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0152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101520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10152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404040"/>
                </a:solidFill>
                <a:latin typeface="Trebuchet MS"/>
              </a:rPr>
              <a:t>Задачи проекта</a:t>
            </a:r>
            <a:r>
              <a:rPr b="0" lang="ru-RU" sz="3000" spc="-1" strike="noStrike">
                <a:solidFill>
                  <a:srgbClr val="404040"/>
                </a:solidFill>
                <a:latin typeface="Trebuchet MS"/>
              </a:rPr>
              <a:t>: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10152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404040"/>
                </a:solidFill>
                <a:latin typeface="Trebuchet MS"/>
              </a:rPr>
              <a:t>Познакомиться с историей куклы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10152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404040"/>
                </a:solidFill>
                <a:latin typeface="Trebuchet MS"/>
              </a:rPr>
              <a:t>Научиться подбирать и сочетать разные типы тканей и фурнитуры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10152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404040"/>
                </a:solidFill>
                <a:latin typeface="Trebuchet MS"/>
              </a:rPr>
              <a:t>Освоить работу с текстильными материалами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10152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404040"/>
                </a:solidFill>
                <a:latin typeface="Trebuchet MS"/>
              </a:rPr>
              <a:t>Научиться подбирать разные источники информации для выполнения проекта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10152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404040"/>
                </a:solidFill>
                <a:latin typeface="Trebuchet MS"/>
              </a:rPr>
              <a:t>Изготовить декоративную куклу из ткани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101520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69608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7f1601"/>
                </a:solidFill>
                <a:latin typeface="Trebuchet MS"/>
              </a:rPr>
              <a:t>Основная часть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68" name=""/>
          <p:cNvSpPr txBox="1"/>
          <p:nvPr/>
        </p:nvSpPr>
        <p:spPr>
          <a:xfrm>
            <a:off x="107640" y="404280"/>
            <a:ext cx="7840440" cy="567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Декоративная кукла, история создания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Технологическая последовательность выполнения куклы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Выбор модели и экологический анализ проект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Смета для изготовления текстильной куклы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Анализ работы, самооценка проектной деятельност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Декоративная кукла, история создан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0" name=""/>
          <p:cNvSpPr txBox="1"/>
          <p:nvPr/>
        </p:nvSpPr>
        <p:spPr>
          <a:xfrm>
            <a:off x="468000" y="119700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Такая привычная в наше время игрушка как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кукла имеет тысячелетнюю историю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ервое известное упоминание о куклах-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манекенах Египетской царицы Клеопатр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Куклы были защитниками от «</a:t>
            </a:r>
            <a:r>
              <a:rPr b="0" i="1" lang="ru-RU" sz="2400" spc="-1" strike="noStrike">
                <a:solidFill>
                  <a:srgbClr val="404040"/>
                </a:solidFill>
                <a:latin typeface="Trebuchet MS"/>
              </a:rPr>
              <a:t>дурного глаза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» в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колыбельке ребенк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Их обряжали в тканевые наряды по последнем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иску мод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ервая авторская кукла появилась в 1999 году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Звали такую куклу Тильда. Тильда (англ. Tilda)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  —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тряпичная кукла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1472" name="Объект 3" descr="E:\2020\ТИЛЬДА\IMG_20210410_073651.jpg"/>
          <p:cNvPicPr/>
          <p:nvPr/>
        </p:nvPicPr>
        <p:blipFill>
          <a:blip r:embed="rId1"/>
          <a:stretch/>
        </p:blipFill>
        <p:spPr>
          <a:xfrm>
            <a:off x="179280" y="306360"/>
            <a:ext cx="4372200" cy="5904000"/>
          </a:xfrm>
          <a:prstGeom prst="rect">
            <a:avLst/>
          </a:prstGeom>
          <a:ln w="0">
            <a:noFill/>
          </a:ln>
        </p:spPr>
      </p:pic>
      <p:pic>
        <p:nvPicPr>
          <p:cNvPr id="1473" name="Рисунок 4" descr="E:\2020\ТИЛЬДА\IMG_20210410_073658.jpg"/>
          <p:cNvPicPr/>
          <p:nvPr/>
        </p:nvPicPr>
        <p:blipFill>
          <a:blip r:embed="rId2"/>
          <a:stretch/>
        </p:blipFill>
        <p:spPr>
          <a:xfrm>
            <a:off x="4716360" y="306360"/>
            <a:ext cx="4176720" cy="5904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4" name="Рисунок 1" descr="E:\2020\ТИЛЬДА\IMG_20210331_165900.jpg"/>
          <p:cNvPicPr/>
          <p:nvPr/>
        </p:nvPicPr>
        <p:blipFill>
          <a:blip r:embed="rId1"/>
          <a:stretch/>
        </p:blipFill>
        <p:spPr>
          <a:xfrm>
            <a:off x="250920" y="333360"/>
            <a:ext cx="8353440" cy="59752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68407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Технологическая последовательность 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6" name=""/>
          <p:cNvSpPr txBox="1"/>
          <p:nvPr/>
        </p:nvSpPr>
        <p:spPr>
          <a:xfrm>
            <a:off x="-468360" y="1469880"/>
            <a:ext cx="885672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Делаем выкройк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ырезаем с отступом 2-3 мм от строчк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оединяем детал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Набиваем детали синтепоном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ришиваем или рисуем глаз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Шьём одежду и обувь по выкройк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Кукла готова!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108000" y="1557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0c226"/>
                </a:solidFill>
                <a:latin typeface="Trebuchet MS"/>
              </a:rPr>
              <a:t>Выбор модели и экологический анализ проекта</a:t>
            </a:r>
            <a:br>
              <a:rPr sz="4000"/>
            </a:b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324000" y="1964880"/>
            <a:ext cx="8424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Просмотрела разные авторские кукл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Первоначальная идея кукла Тильд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Наброски карандашом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Выбор модели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Не требовала использования большого количества ресурсо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Некоторые материалы  использовала вторично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Проект экологически безвреден и никакого ущерба окружающей среде не нанёс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247680" y="90756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0c226"/>
                </a:solidFill>
                <a:latin typeface="Trebuchet MS"/>
              </a:rPr>
              <a:t>Смета для изготовления текстильной куклы</a:t>
            </a:r>
            <a:br>
              <a:rPr sz="4000"/>
            </a:b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247680" y="1268280"/>
            <a:ext cx="8640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Материалы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1. Ткань (х/б)  Белая 30 см х 270 руб. = 81 руб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                        </a:t>
            </a: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Цветная 20 см х 360 руб. = 72 руб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2. Синтепон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                        </a:t>
            </a: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30 см х 65 руб. = 19,5 руб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3. Лента декоративная/атласна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                        </a:t>
            </a: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1м х 15 руб. = 15 руб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                        </a:t>
            </a: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0,5м х 3 руб. = 1,5 руб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4. Пряжа для волос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                        </a:t>
            </a: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1 шт. х 13 руб. = 13 руб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5. Нитки мулин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                        </a:t>
            </a: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6 шт. x 11 руб. = 66 руб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Trebuchet MS"/>
              </a:rPr>
              <a:t>Итого: 268 руб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0T18:44:11Z</dcterms:created>
  <dc:creator>Admin</dc:creator>
  <dc:description/>
  <dc:language>en-US</dc:language>
  <cp:lastModifiedBy>Виктор</cp:lastModifiedBy>
  <dcterms:modified xsi:type="dcterms:W3CDTF">2023-02-06T18:12:20Z</dcterms:modified>
  <cp:revision>191</cp:revision>
  <dc:subject/>
  <dc:title>ОТЧЕТ ПО ВОСПИТАТЕЛЬНОЙ РАБОТЕ ГОУ ГИМНАЗИИ №171</dc:title>
</cp:coreProperties>
</file>