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B8F9-8AE4-4C23-AC4A-D16CCE62D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2897-7325-4247-B9AB-AE78F121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BB8CB-24C1-44DB-B847-0C2B3ED5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E79683-3996-423B-A1E5-4000210E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EB645F-21A3-45B1-A00C-88D6CCED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F9C32E-B7EF-49AC-87AA-6137FCC8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FCA19-FFEE-4F7D-8C26-214EEF02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2F332-8865-42AD-A149-16826724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D5395-6374-4382-96E9-E2DAAF3F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291FC-5F19-41B7-9EC9-21C430978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63B8E-3454-47A3-85DC-1492268AD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335757-DD5F-4C9C-90AA-5B3F87880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30FD-8C96-4AAF-B14F-FB65AAD0B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3C3D0-0283-478C-B9EF-577BB3C2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9768E-9C94-4243-99F6-410E10E0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BE0A0-5523-4672-9250-821E54AD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286F9-E93B-4E36-938A-2799E3EE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2EB94-63B5-41CE-8A8C-2989601F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90CA3-0703-45A7-8D85-FFC24E65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901D6-3712-484A-87F5-33E691B2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385D05-414E-40AD-8A71-60144DAC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10B05-F9FC-4C61-9ED6-9C2D4ED0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EA2182-57C2-4C39-93C3-BC46C51FC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4E06-D150-46E1-A124-BADCABA7C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24155-8805-4FA8-9D53-90EE7A180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C91D1-D99E-4194-83E8-E9AA39E51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542CE-7FBA-465B-94F4-410F59AE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ACAAD-FD26-4E7F-9217-4E8767FF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07C5D-26C8-4C81-AC9D-9A8A95FB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5F344-5B41-4027-A725-63EC3EAA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70397-915B-47B2-BBB8-284590A7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92B6A-4F6B-4661-924E-04E18545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55240-1B85-4CED-A2AC-492D69F1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230A5-FB86-46E7-B60E-38E3EE81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2E45-AE19-4624-98C5-A255A6C82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741F9-80E7-430F-95A7-1158EB2D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95BB6-96A0-4E80-89D0-8D11FE770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A39B2-FB34-4FAB-94E9-2F9763F4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41264-7C9E-4AC7-BA3F-67CB4D575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2977B0-E885-4D74-A739-90DF0C87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8D8C79-11B5-43AE-9B5A-A0C4F032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FCA71D-35EF-4FC5-890D-1AED51F7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FEFA1C-4E67-47B6-A01F-36FA2E58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95CCF6-BFF0-4E96-B79A-D34BE518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06EA2C-AA48-43D7-AD94-14FA13A8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D833-D1F5-4BA9-9C2C-B62BC650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FC14AC-E18F-4CD4-A076-529759D1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7D3C78-B59F-441B-A9B0-4170CECC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CAEE58-6E39-485F-8848-EF6AD0ED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526D37-A7AE-4180-A243-898BB5F2C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D81D62-EB9A-4576-B80E-5CD93326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A6182E-8CF2-40E6-9600-5DD6A0F53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9AF943-EC7E-47B2-8D40-72E747EA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BFE967-1064-4E00-909B-D7865428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F76586-68CB-4C0B-A04F-6CB1D6CE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6C66CC-D5D1-4070-B9EB-421D3A72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668C-0975-4973-9BEC-C56D310A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E239E2-574C-4A01-9669-CD3986CF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A121AA-D286-4199-B7EB-230983FC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E74531-444A-4515-9ECD-6A983188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8C9F69-7612-4B5C-A20B-07DBB509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7D8835-E9A1-46DF-B390-481AAC7A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613A28-6CE5-4DB7-B19E-F0249017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76E391-94B1-4510-A1CF-E51AC01C9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8EF699-1347-4C39-A400-F3E475FCA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8C55B1-D395-46A6-A2CF-6514841B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4DF88A-918F-42B2-8333-2076C61E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CD43-09BB-4608-8CC6-DD1BAEA6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63A835-D31D-43F6-8FEB-3A3D434D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CB5CC3-561D-4953-B021-43EDF3D2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2AC586-449D-4C66-AEA5-DCFD965D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1F5784-A907-4ACC-A25A-487E99D7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5A00F8-0BB6-4F38-957E-8F8287FD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7179E8-B867-489E-BEB2-156286FD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64DFEC-288D-472A-8EDA-9D9907EB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3E63E0-2E63-4DC8-AE5D-7453C5159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B4B5E7-D352-45E1-8CC9-AF093766A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BF35BD-2DD7-44B9-A3FD-9DDFE82EE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07FE-DF70-4583-AA42-13E2A655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757F9D-4DF8-4F0A-809F-09BD6C2C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9653FB-EF9A-49D6-9C97-8A89E39A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ECBAB4-A557-4C7B-B390-FF358E35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58344E-7B9E-41A7-A949-BC3CCDEB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237E16-EECD-4B87-B4B7-69460FF6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4F405E-035C-494D-834B-D79EB190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158147-9C9C-45AA-AC3D-A5E217FF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C3BE79-28A8-4A2D-B96A-E225E3F1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A6597B-730E-45C4-A033-C0D033FC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96AF93-F99E-42D4-9B9C-85B6C585D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2C61-ACA8-43C4-A3D0-F2654CCB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DA6366-1827-4000-AA35-BDC0E65D6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800DD3-6A57-4DA6-AEC1-E0083ACD4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C2093C-5CC6-4AA1-A598-69B8865F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4BE43F-A68F-4955-B64A-5EF72D57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60B833-11DD-4391-9BCD-9926CB60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B0BB22-785E-4601-AEFE-67DE9D62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6BD853-EC89-494B-8E3B-8076F6BF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27FFCE-AF9D-41E0-B4BE-4074727D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D48767-F590-4A7D-A2EE-3F34B931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EBB690-C269-49DE-88CD-56BAB72D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C543-A124-473F-A5F1-2C59DCDE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3F5CA3-B534-4814-923F-328FB5FC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C107E2-2E1F-42ED-91CF-C69D49F3F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8225FC-EE5A-469E-BCA5-8E4304D93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20A262-4F82-428F-91D2-9E2DB303E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C6175B-A484-498A-8A2B-0F7B76D2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50EF4D-0ED4-4BDD-9D7A-59C33C3C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F68F21-501C-4D80-9881-EBF36EFF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59BCF9-8A5F-487D-9941-87228569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69A7F8-3F0A-4B37-A165-024534E4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723214-31CE-4D14-813A-31C7602A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0A14-FA19-40CA-9B04-AA2F4C8F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59D2-C168-453F-9577-17C6E161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F52041-2974-4585-89DF-99E58C17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62925E-F5CB-4AB5-8A9F-DA2433C0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FFAF43-3E79-41E5-8E18-50066F22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A3F8FE-61E5-44E2-B1BE-FC936E33C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2EAAE9-56B2-483B-AF2C-985FF6369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CE9005-1669-4001-B81F-5D06FE051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C2DA52-B434-42C2-A010-77B1570D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484EA5-C535-406E-A1A1-A2593AC0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4EA92B-ADF1-4171-97A6-9827E3B5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0979D7-C406-4FD8-9BC8-77A8A0F2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4C62-F5A6-4EB9-B45D-C23561A1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65EC76-C773-485D-B73D-909098AF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B00479-5F6F-4713-99E0-3E19ADC3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F88DFB-8846-48D3-AFB7-8DFF2DD1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6DAA0A-FC45-4C5D-A2C2-2C395005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43B810-8961-4663-A2C2-6F146C2B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E04FE1-4154-4361-A83E-7558EC3D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796685-D717-49DB-8A6D-96D756832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40AD6B-7725-4E92-A2E7-288764B6A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54418B-3F8D-4EC0-88C4-620359E3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4B8ABB-1D0D-4D5C-B9C1-C5BAE67F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0A8D-32A6-4978-A492-8307C668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485939-7AD1-48DC-9DCE-569A978C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341A5A-DCDD-4818-8E44-5B4099B1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341E57-44B8-443E-A9B8-C479D9CB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1FC150-5CF4-45CD-B6EE-1C30C0EC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CBF3A1-2B58-4E37-8108-C33B5C36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E04B5E-C1C0-429C-B8CC-9B720ACD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1D4C06-8930-471E-ABED-0517CB89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58DCFC-52EB-440B-8AEF-33FF2FFD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C850E2-B1B8-4098-AA6A-45FB95731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F89C6C-BBE7-435E-8ACC-54D6523D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FAAC-3467-46D7-9795-D10EA832F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16946A-015B-4911-8C59-0DD83D37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2C30FC-01B1-4A89-88AC-32E3E186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330EA7-7B02-4B62-9145-4D52051D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F2BFEE-8B08-4948-A389-B7EA1211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00C617-E2A4-47F5-BE04-995B5AD8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9F1270-813A-44B5-BC7F-893BBC15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D5EDF0-A247-418B-9244-E7DD0A2A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849259-19E7-4FC6-B0D3-AD91BB50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7D46CA-ED2F-4B85-BAB6-1CFB4AD7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CFBE15-2357-41EA-B45D-F7576BB85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6288-7E6F-424A-A8AE-A8C586CEC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7FDA19-4E9C-4C7E-8244-E2D37F7E4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4DD96C-BF21-4CBD-8F03-B91324CFB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E2AD08-170E-4340-A053-B89646A1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2FC511-6154-4B0B-ADC0-C3BF6A08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3B444E-44BB-46AF-BB7E-16882205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B6A8B1-A799-479C-BD63-39C7DD03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73A70A-6D9F-45F3-8D47-B1B4CDBF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D0E7C5-C7FF-470C-B98A-6CD040E8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33FE52-13F0-4B51-913C-6D5C222B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2CFF52-AE00-4B47-9C7C-062F6E46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05DC5-0E4A-4D58-B5A3-090EF9175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0D4A55-0244-4740-A51D-3A3F210F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17644F-03C9-4BC6-88A8-E71FC4FA1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557380-C76C-4111-90D9-5057704B2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C11DCB-1C88-44CB-BB77-A820AB6AA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E31EC4-6F74-46E0-8DCD-3134A315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1CAAC7-F940-4BC2-AF45-51004010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7F605A-8D31-4593-8405-5FF06539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6BAC5E-C059-4B65-AC10-5D19A66B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D7E942-69D0-48FD-8A54-D6BE059B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135049-BE8D-4BDC-8B8C-C421120A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E41C9-D2E5-491E-A455-DEC3919D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8C28E5-05CF-462D-AC6A-D52E9ABB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6F1E69-31FE-4D6D-923D-695C4250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F73EE3-7D2A-47FF-8AB5-2C865017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4A811C-3A85-440A-BCA9-8411DA9CD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2CA0C9-9754-413C-8C7A-7A9DA1924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58FF56-D523-4F56-AC8F-3D7DF8BE4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14F98B-2B2E-464A-9CDD-3964C2ED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E06B83-5E07-4EEF-964E-E270DA0C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56E20F-4C02-4498-9581-80E3913E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2A2B62-7C8A-485A-B1AF-1E865F53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81633-D443-4D00-A09E-798565DF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EB5CB8-A0EA-4F6F-B645-48B9838A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26BC02-AC7F-4F82-93B4-E948B7E3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5CB9C6-A80B-4D4E-B5A0-2E008B78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9D6E5A-FA8E-4685-ABC9-575D68B9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440217-020C-47D2-AD47-B1B9ACD0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D0BA58-D282-465F-B7B4-AFBAA57A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59725A-C15A-4BB4-80A2-50AEFFAA9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1BFCC8-E4CE-4D11-A5A2-3E7203EB7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E5CD29-B961-4597-A998-04230ABA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B23CD1-E326-43B5-BA9A-4D82372A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24433-E75D-4BD8-9B10-8D08B73B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A73757-3F12-4B7B-BAF3-98BFD029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F292DA-0BE1-4DB7-9CE2-48D65DBF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4EF174-88F6-494B-A838-E64B5C54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D5B342-6068-4CE8-98E1-583C3404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C0AB2A-12C7-4D10-B742-D2687834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2C74A4-5ED1-4CA2-A35B-06BD9EB2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325B3C-15B1-45A2-931D-329A951E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786444-2130-4F16-AD5B-91005F8D6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9359A1-D145-40B8-91EF-24E718120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0577840-3BA3-4646-B7B5-F898FB4FE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D3D43-6793-4DFF-990F-966198FF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77BA008-1EAC-47EA-8F92-2F485579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D809B4E-1DFF-4CA2-9BDC-F2943ECD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A3B4275-2FEE-4798-99C2-960A82B0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E1860C-C783-48A5-AD65-B34663E9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7F34AC-AD59-455D-98C5-6C3B9E91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3E525E-FD63-4A4E-9F16-4BEF0297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966AB5-CF87-425E-B0E8-E7AD9368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B320CF-2FDA-4268-AD22-C7C60E2D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B3B599C-72CB-414A-B64C-F5F914C9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CD43CF-91F3-4B7A-8072-E6560D5FD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F913-F6A7-4659-AE5F-5CDA3C12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76288-9B23-452A-B124-2CD10BAC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28D59E-66E9-476C-9468-56F723916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08151F-AD85-4E99-9E0D-C12C81E8D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B338F6-F405-4C2D-94D8-D558F450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8AAEB09-200C-4314-B352-76A1C674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47FC8B1-2FCE-42D8-A14D-EB30D670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A0CA24F-6673-4506-93C7-253EF65F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4B382B-4E38-43FE-B21B-A6FF6302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27ACD0C-5595-4E6B-92DA-FF421BFB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B415041-2229-41E3-A2A4-763F89BF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2EF6D96-49A7-4A6D-A380-60637A20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6A4FD-9BF8-47E7-987D-03C27551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950CF5-22C2-4ADA-BC46-8E045C56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105D3A9-CD52-43B3-ACEC-0A58D5AB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C8E92CB-FEB9-45B1-AE39-B8F759EF4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C8D3861-B53D-4EA0-A96B-44DFF4B6D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0F4CBC0-130E-4000-B8EE-C25EDC03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AC775F2-E532-4812-9447-BFF7D0EE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28E2A87-6A31-4C2B-B368-4350AA13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0F80FA5-5B0F-4249-B249-FD6E5334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70DE23C-5883-4122-9F0D-21D62299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5CDA632-5FB7-49E7-97AA-8C68A576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08865-CC87-4215-B3EF-978AE6D2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82795A-10AF-4566-8CFB-21AE3DDC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8CFAEA-87E9-4F1A-B7EE-F9304AE0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FAFA4A1-7C24-48F2-B4BC-7268794D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EC15035-DD53-4E6C-AC0A-80365E0A4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84174A4-732F-41F7-8DF6-2592400D7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4624902-DFF4-4B24-A7FC-D626EAA36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1DE70F5-E870-45D9-A6C5-1C5E5E95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DE5FF8-E6CC-4FDE-AB97-0F16012F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8A508D5-42B7-4E8C-8D6A-F7DBD7CD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2EEC739-3F44-4DFA-979E-6806FE94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44CE6-08AC-4460-A11A-5EB1426E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DC15F58-0F67-4921-A8B8-B9612AB9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FFBE339-0AA0-483F-BD06-8D17D0D0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7A05FDD-193A-41B4-8700-C5531EC2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76638AB-1166-4504-B36E-22290088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20F4E16-8500-43E3-931F-12FE4F44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C5D3A2A-E40A-4B86-BDEE-6B962448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4E0BE45-8173-4A23-8258-3110E1829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9C7FD-3B85-4E39-8F6A-70F51B41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0F7F3-D9DE-49C0-803F-076B0B80C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C891A-DFB6-4347-A0B3-5720AF947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B210F-0B5D-4F23-82A5-0757C5BFF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9C70C-51A3-434D-AA2B-5418C756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91BCE-3487-4D3D-B960-95488105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2B6C-0E1C-48A2-B974-5DB9F208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056F3-A1B5-4450-8287-3F006466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6E87E-CAC0-42E1-B25F-3741053E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33F58-A312-498D-8C48-03723BA5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C75C0-37A8-42D9-8FBF-96830B60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087E0-9B8D-4803-ABB0-8AF27B78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1AF1E-655F-4FDE-A85D-44D9E04E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0C8CE-370A-4CD9-A7CD-6E4D276F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FF422-13A9-4E4D-95F3-EF2F6CFC5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5B0ED-B452-41EC-A2AF-30717421D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9BABA-C257-4F32-9F51-DCC3B37F4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C541-217B-4C50-8796-B2679830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CFB0F-F3E2-4007-B65D-513C4EEE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1A1BD-BF86-4EE2-886E-1723B010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74809-64A1-4F3E-BE4F-5B5372C3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61C3C-80FF-4273-AFBC-1D116AA3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C037B-B8F1-4047-B7DE-FEB5952D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72C98-9E81-491D-91AE-B10DAC2C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C24E0-F86D-4F23-8FAE-59ABD8A3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9A942-462A-4AFA-8093-723485AE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68429-7B32-4D3C-9C22-3DAA3E9E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319AD-CFBF-4A51-99A0-565FFC8B1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0C64-595A-4C27-A60B-E4A85C38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FC60D-E5EF-4CC3-9902-EC574B08E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8C3ED-AA24-406D-822F-C644C6B57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5ED48-EF5B-466E-BF60-ABD34ECE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52816-6C01-4B0C-97DC-219F31CE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4D3AF-6DF2-45E5-A758-47E8298A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0D02C-AAC8-4B49-87C7-955CD2DD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62082-5557-4496-BF05-B2BF30E3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8EDFE-B79D-4F94-BC71-F818A560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79D6E-C0C3-487B-84EC-CFFCF67C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AB098-61AC-47EF-8590-35907723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4AE3-4954-4783-8500-7434CC5C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4E46D-E9FE-4F07-948F-178DABCF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75C6B-CC3D-4406-9025-F5FA593B2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395E1-2617-4726-85A0-07E98D696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4901C-670A-4589-A657-079181087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58A57-895B-4762-88D8-CBAE9F2F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A05DE-B357-45BB-A89C-4E3E6794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16637-47EC-46B2-8AD9-32A16AD4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E80D5-38B9-4D1C-8CB6-286A2545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95196-36EC-4ACC-B942-4115A834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1D16C-5C35-4A2C-AFBD-76507483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319A-A337-4769-A680-FC068BCC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E398F-30E9-425C-96CD-C64A2C5C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58E93-3469-4BD6-9E99-B9FE50D1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9F0FA-54FB-47AC-8FA8-8C41F7E9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F547A-E6A3-491F-88B6-3100FDED1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666D9-48DC-45C1-963D-88F92AA2A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FF89F-5EA1-4073-9C76-0D35370EF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7D2C1-BA83-49EA-8F0C-FF95541E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1A6AA-85F1-4723-B39A-95012979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C6019-E376-48E5-BB94-40A31ABE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8F33D-ED50-4DFA-AE10-48ECCB2A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E257-F78A-4BCA-BED2-6CBDC7B7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44B8F-70EF-4914-86D1-DAC6F53B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424F6-057D-49B4-A707-6665305D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98C8B-7210-4CF1-B0B5-4DA74F46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2EDE8-368F-4BA2-AAC0-DB85CC54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EA238-2700-43DC-A032-86E587D3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3B567-CB6B-44CD-9AA3-C4E465185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D4A52-DF1D-4D5F-AC33-BAC77F136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5337E-17E2-48D9-9504-FE306FBB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866A21-BF2B-4E0E-8E8C-BCF1B3AB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4C581-FA80-48D8-A92C-1B9F1EA7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1F18-8740-4BE2-A1A2-14675942BC3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6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23D9-2124-43A7-8A5D-FCC028FCB1E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2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E1A7-6B6C-470B-B4A5-474C6D915DD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7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3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3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3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7EA8-F39D-4A4E-B7EC-D1E92137269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62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3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3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3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62B9-6996-42B4-B306-11D5373EA95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68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4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4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77FF-3A7B-4C63-9D61-E4EF2EF25C8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73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4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4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4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ABDF-50E8-415C-8EE8-ADD7FF64C5F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785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4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4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4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994B-0C3C-4F5A-90CB-ECEE4704257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83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 type="dt" idx="4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 type="ftr" idx="5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 type="sldNum" idx="5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811A-2FDB-4F12-869A-98F63C20A5A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88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dt" idx="5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ftr" idx="5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 type="sldNum" idx="5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F4B1-E170-4049-9F20-E4E2517FDEF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94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 type="dt" idx="5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 type="ftr" idx="5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 type="sldNum" idx="5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BF49-A68B-4023-AB89-B40FD08F108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0D28-97B4-4460-AFB0-1CF388D0142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99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dt" idx="5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 type="ftr" idx="5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 type="sldNum" idx="6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7EC9-FF7D-4A4A-BB5C-873B4277334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4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 type="dt" idx="6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 type="ftr" idx="6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 type="sldNum" idx="6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C904-D82A-426B-8AE7-F5A2FD049E2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9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6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6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6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B547-67CC-471E-99F1-AC9DC364DB7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14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 type="dt" idx="6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 type="ftr" idx="6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 type="sldNum" idx="6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6DA3-6E67-4407-B68A-B89EB07FC8D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20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 type="dt" idx="7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 type="ftr" idx="7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 type="sldNum" idx="7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C3C4-1D7E-4475-849E-50935911D02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25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3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 type="dt" idx="7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 type="ftr" idx="7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 type="sldNum" idx="7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7D2C-C857-4099-A544-BA291E43C0E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30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7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 type="dt" idx="7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 type="ftr" idx="7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 type="sldNum" idx="7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42F5-E369-4B2D-A97E-66D7381311E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36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 type="dt" idx="7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 type="ftr" idx="8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 type="sldNum" idx="8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CF66-640C-43E0-8231-BD5D9AE8339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4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 type="dt" idx="8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 type="ftr" idx="8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 type="sldNum" idx="8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81EA-E753-4E7C-90F1-24B122F6C99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EEAB-39F2-4520-9F0A-4A0E19FA1F2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68B2-4625-4420-B89B-32390BD85FE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0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5DA1-DEEE-4B42-B3C1-87FA50B14D5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6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88D8-A476-47DA-8542-CE9146A13F3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CB5F-D7F9-4538-B5E2-E1C9298A788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6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46F9-213F-452E-9F57-0B44E304B97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1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2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4041-C754-4D6B-A6EA-9EB04DF89D3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0" y="31680"/>
            <a:ext cx="7740720" cy="684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2a5010"/>
                </a:solidFill>
                <a:latin typeface="Times New Roman"/>
              </a:rPr>
              <a:t>Государственное автономное профессиональное образовательное учреждение Чувашской Республики </a:t>
            </a:r>
            <a:br>
              <a:rPr sz="2200"/>
            </a:br>
            <a:r>
              <a:rPr b="0" lang="ru-RU" sz="2200" spc="-1" strike="noStrike">
                <a:solidFill>
                  <a:srgbClr val="2a5010"/>
                </a:solidFill>
                <a:latin typeface="Times New Roman"/>
              </a:rPr>
              <a:t>«Мариинско-Посадский технологический техникум» Министерства образования и молодежной политики Чувашской Республики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2a5010"/>
                </a:solidFill>
                <a:latin typeface="Times New Roman"/>
              </a:rPr>
              <a:t>                                      </a:t>
            </a:r>
            <a:r>
              <a:rPr b="1" lang="ru-RU" sz="2200" spc="-1" strike="noStrike">
                <a:solidFill>
                  <a:srgbClr val="2a5010"/>
                </a:solidFill>
                <a:latin typeface="Times New Roman"/>
              </a:rPr>
              <a:t>Индивидуальный проект</a:t>
            </a:r>
            <a:br>
              <a:rPr sz="2200"/>
            </a:br>
            <a:r>
              <a:rPr b="1" lang="ru-RU" sz="2200" spc="-1" strike="noStrike">
                <a:solidFill>
                  <a:srgbClr val="2a5010"/>
                </a:solidFill>
                <a:latin typeface="Times New Roman"/>
              </a:rPr>
              <a:t>                                 на тему: «Декоративные куклы»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2a5010"/>
                </a:solidFill>
                <a:latin typeface="Times New Roman"/>
              </a:rPr>
              <a:t>Выполнила: Васягина Елена Павловна, студент 1 курса, группы №43, профессии Швея.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2a5010"/>
                </a:solidFill>
                <a:latin typeface="Times New Roman"/>
              </a:rPr>
              <a:t>Руководитель: Васягина Людмила Анатольевна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2a5010"/>
                </a:solidFill>
                <a:latin typeface="Times New Roman"/>
              </a:rPr>
              <a:t>     г. Мариинский Посад 2021</a:t>
            </a:r>
            <a:br>
              <a:rPr sz="2200"/>
            </a:b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p:transition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0c226"/>
                </a:solidFill>
                <a:latin typeface="Trebuchet MS"/>
              </a:rPr>
              <a:t>Анализ работы, самооценка проектной деятельности</a:t>
            </a:r>
            <a:br>
              <a:rPr sz="4000"/>
            </a:b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108000" y="1557360"/>
            <a:ext cx="842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Потребовалось минимум усилий, но максимум  фантазий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Сшила куклу за 3 дн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Использовала  остатки материалов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Докупила декоративные элемент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Поэтому стоимость куклы, намного дешевле, чем указано в смет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Кукла принесет в наш дом много радости и добр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Рисунок 1" descr="E:\2020\ТИЛЬДА\IMG_20210410_073807.jpg"/>
          <p:cNvPicPr/>
          <p:nvPr/>
        </p:nvPicPr>
        <p:blipFill>
          <a:blip r:embed="rId1"/>
          <a:stretch/>
        </p:blipFill>
        <p:spPr>
          <a:xfrm>
            <a:off x="468360" y="644400"/>
            <a:ext cx="3816360" cy="5135760"/>
          </a:xfrm>
          <a:prstGeom prst="rect">
            <a:avLst/>
          </a:prstGeom>
          <a:ln w="0">
            <a:noFill/>
          </a:ln>
        </p:spPr>
      </p:pic>
      <p:pic>
        <p:nvPicPr>
          <p:cNvPr id="1484" name="Рисунок 2" descr="E:\2020\ТИЛЬДА\IMG_20210331_165516.jpg"/>
          <p:cNvPicPr/>
          <p:nvPr/>
        </p:nvPicPr>
        <p:blipFill>
          <a:blip r:embed="rId2"/>
          <a:stretch/>
        </p:blipFill>
        <p:spPr>
          <a:xfrm>
            <a:off x="4716360" y="666720"/>
            <a:ext cx="3816360" cy="50896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0c226"/>
                </a:solidFill>
                <a:latin typeface="Trebuchet MS"/>
              </a:rPr>
              <a:t>Заключение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220680" y="1267920"/>
            <a:ext cx="80280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Trebuchet MS"/>
              </a:rPr>
              <a:t>Кукла</a:t>
            </a: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 - знак человека, его игровой символ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В этой роли она фокусирует время, историю культуры, историю страны и народа, отражая их достижение и развити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Кукла рождается не сама: ее создает человек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Она обретает жизнь при помощи воображения и воли своего создател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Кукла сохраняет в своем образе самобытность и характерные черты создающего ее народ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Следуя всем задачам, я достигла цель и изготовила прекрасную текстильную кукл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7696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 </a:t>
            </a:r>
            <a:r>
              <a:rPr b="1" lang="ru-RU" sz="2800" spc="-1" strike="noStrike">
                <a:solidFill>
                  <a:srgbClr val="90c226"/>
                </a:solidFill>
                <a:latin typeface="Trebuchet MS"/>
              </a:rPr>
              <a:t>Цель проекта</a:t>
            </a:r>
            <a:r>
              <a:rPr b="0" lang="ru-RU" sz="2800" spc="-1" strike="noStrike">
                <a:solidFill>
                  <a:srgbClr val="90c226"/>
                </a:solidFill>
                <a:latin typeface="Trebuchet MS"/>
              </a:rPr>
              <a:t>: научиться изготавливать декоративную куклу из ткани </a:t>
            </a:r>
            <a:br>
              <a:rPr sz="28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250560" y="1141560"/>
            <a:ext cx="7777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01520" algn="just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101520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10152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404040"/>
                </a:solidFill>
                <a:latin typeface="Trebuchet MS"/>
              </a:rPr>
              <a:t>Задачи проекта</a:t>
            </a:r>
            <a:r>
              <a:rPr b="0" lang="ru-RU" sz="3000" spc="-1" strike="noStrike">
                <a:solidFill>
                  <a:srgbClr val="404040"/>
                </a:solidFill>
                <a:latin typeface="Trebuchet MS"/>
              </a:rPr>
              <a:t>: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10152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404040"/>
                </a:solidFill>
                <a:latin typeface="Trebuchet MS"/>
              </a:rPr>
              <a:t>Познакомиться с историей куклы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10152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404040"/>
                </a:solidFill>
                <a:latin typeface="Trebuchet MS"/>
              </a:rPr>
              <a:t>Научиться подбирать и сочетать разные типы тканей и фурнитуры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10152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404040"/>
                </a:solidFill>
                <a:latin typeface="Trebuchet MS"/>
              </a:rPr>
              <a:t>Освоить работу с текстильными материалами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10152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404040"/>
                </a:solidFill>
                <a:latin typeface="Trebuchet MS"/>
              </a:rPr>
              <a:t>Научиться подбирать разные источники информации для выполнения проекта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10152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404040"/>
                </a:solidFill>
                <a:latin typeface="Trebuchet MS"/>
              </a:rPr>
              <a:t>Изготовить декоративную куклу из ткани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101520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69608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7f1601"/>
                </a:solidFill>
                <a:latin typeface="Trebuchet MS"/>
              </a:rPr>
              <a:t>Основная часть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68" name=""/>
          <p:cNvSpPr txBox="1"/>
          <p:nvPr/>
        </p:nvSpPr>
        <p:spPr>
          <a:xfrm>
            <a:off x="107640" y="404280"/>
            <a:ext cx="7840440" cy="567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Декоративная кукла, история создания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Технологическая последовательность выполнения куклы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Выбор модели и экологический анализ проект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Смета для изготовления текстильной куклы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Анализ работы, самооценка проектной деятельност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Декоративная кукла, история создан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0" name=""/>
          <p:cNvSpPr txBox="1"/>
          <p:nvPr/>
        </p:nvSpPr>
        <p:spPr>
          <a:xfrm>
            <a:off x="468000" y="119700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Такая привычная в наше время игрушка как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кукла имеет тысячелетнюю историю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ервое известное упоминание о куклах-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манекенах Египетской царицы Клеопатр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Куклы были защитниками от «</a:t>
            </a:r>
            <a:r>
              <a:rPr b="0" i="1" lang="ru-RU" sz="2400" spc="-1" strike="noStrike">
                <a:solidFill>
                  <a:srgbClr val="404040"/>
                </a:solidFill>
                <a:latin typeface="Trebuchet MS"/>
              </a:rPr>
              <a:t>дурного глаза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» в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колыбельке ребенк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Их обряжали в тканевые наряды по последнем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иску мод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ервая авторская кукла появилась в 1999 году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Звали такую куклу Тильда. Тильда (англ. Tilda)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  —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тряпичная кукла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5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1472" name="Объект 3" descr="E:\2020\ТИЛЬДА\IMG_20210410_073651.jpg"/>
          <p:cNvPicPr/>
          <p:nvPr/>
        </p:nvPicPr>
        <p:blipFill>
          <a:blip r:embed="rId1"/>
          <a:stretch/>
        </p:blipFill>
        <p:spPr>
          <a:xfrm>
            <a:off x="179280" y="306360"/>
            <a:ext cx="4372200" cy="5904000"/>
          </a:xfrm>
          <a:prstGeom prst="rect">
            <a:avLst/>
          </a:prstGeom>
          <a:ln w="0">
            <a:noFill/>
          </a:ln>
        </p:spPr>
      </p:pic>
      <p:pic>
        <p:nvPicPr>
          <p:cNvPr id="1473" name="Рисунок 4" descr="E:\2020\ТИЛЬДА\IMG_20210410_073658.jpg"/>
          <p:cNvPicPr/>
          <p:nvPr/>
        </p:nvPicPr>
        <p:blipFill>
          <a:blip r:embed="rId2"/>
          <a:stretch/>
        </p:blipFill>
        <p:spPr>
          <a:xfrm>
            <a:off x="4716360" y="306360"/>
            <a:ext cx="4176720" cy="5904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4" name="Рисунок 1" descr="E:\2020\ТИЛЬДА\IMG_20210331_165900.jpg"/>
          <p:cNvPicPr/>
          <p:nvPr/>
        </p:nvPicPr>
        <p:blipFill>
          <a:blip r:embed="rId1"/>
          <a:stretch/>
        </p:blipFill>
        <p:spPr>
          <a:xfrm>
            <a:off x="250920" y="333360"/>
            <a:ext cx="8353440" cy="59752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68407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0c226"/>
                </a:solidFill>
                <a:latin typeface="Trebuchet MS"/>
              </a:rPr>
              <a:t>Технологическая последовательность 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6" name=""/>
          <p:cNvSpPr txBox="1"/>
          <p:nvPr/>
        </p:nvSpPr>
        <p:spPr>
          <a:xfrm>
            <a:off x="-468360" y="1469880"/>
            <a:ext cx="885672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Делаем выкройк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Вырезаем с отступом 2-3 мм от строчк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оединяем детал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Набиваем детали синтепоном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ришиваем или рисуем глаз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Шьём одежду и обувь по выкройк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Кукла готова!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108000" y="1557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0c226"/>
                </a:solidFill>
                <a:latin typeface="Trebuchet MS"/>
              </a:rPr>
              <a:t>Выбор модели и экологический анализ проекта</a:t>
            </a:r>
            <a:br>
              <a:rPr sz="4000"/>
            </a:b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324000" y="1964880"/>
            <a:ext cx="8424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Просмотрела разные авторские кукл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Первоначальная идея кукла Тильд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Наброски карандашом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Выбор модели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Не требовала использования большого количества ресурсо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Некоторые материалы  использовала вторично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Проект экологически безвреден и никакого ущерба окружающей среде не нанёс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247680" y="90756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0c226"/>
                </a:solidFill>
                <a:latin typeface="Trebuchet MS"/>
              </a:rPr>
              <a:t>Смета для изготовления текстильной куклы</a:t>
            </a:r>
            <a:br>
              <a:rPr sz="4000"/>
            </a:b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247680" y="1268280"/>
            <a:ext cx="8640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Материалы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1. Ткань (х/б)  Белая 30 см х 270 руб. = 81 руб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                        </a:t>
            </a: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Цветная 20 см х 360 руб. = 72 руб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2. Синтепон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                        </a:t>
            </a: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30 см х 65 руб. = 19,5 руб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3. Лента декоративная/атласна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                        </a:t>
            </a: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1м х 15 руб. = 15 руб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                        </a:t>
            </a: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0,5м х 3 руб. = 1,5 руб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4. Пряжа для волос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                        </a:t>
            </a: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1 шт. х 13 руб. = 13 руб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5. Нитки мулин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                        </a:t>
            </a:r>
            <a:r>
              <a:rPr b="0" lang="ru-RU" sz="2400" spc="-1" strike="noStrike">
                <a:solidFill>
                  <a:srgbClr val="7f7f7f"/>
                </a:solidFill>
                <a:latin typeface="Trebuchet MS"/>
              </a:rPr>
              <a:t>6 шт. x 11 руб. = 66 руб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Trebuchet MS"/>
              </a:rPr>
              <a:t>Итого: 268 руб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0T18:44:11Z</dcterms:created>
  <dc:creator>Admin</dc:creator>
  <dc:description/>
  <dc:language>en-US</dc:language>
  <cp:lastModifiedBy>Виктор</cp:lastModifiedBy>
  <dcterms:modified xsi:type="dcterms:W3CDTF">2023-02-06T18:12:20Z</dcterms:modified>
  <cp:revision>191</cp:revision>
  <dc:subject/>
  <dc:title>ОТЧЕТ ПО ВОСПИТАТЕЛЬНОЙ РАБОТЕ ГОУ ГИМНАЗИИ №171</dc:title>
</cp:coreProperties>
</file>