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3.wmf" ContentType="image/x-wmf"/>
  <Override PartName="/ppt/media/image8.jpeg" ContentType="image/jpeg"/>
  <Override PartName="/ppt/media/image11.png" ContentType="image/pn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3DE-0602-4E7B-87ED-FC28D656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B00-A5A6-4C89-AF76-E4457D6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559-B74B-48EF-B54E-4EBE265F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672-8E30-438F-B6FD-D02F6994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05A-3819-41E9-A638-A6E9B06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13B-B437-4EC9-8128-C44BE1F5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C73-AB6D-4BA3-84E4-C16A859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8FF-7E3C-48C8-9691-A0D7BDA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B4F-5159-454C-9894-EBECFED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B7E-115E-4E75-8CE8-5BFDD59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90A-58D6-485D-93E6-A308E8B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4A8-519A-44E1-B633-4D1DA23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60AC-2B63-4558-B715-8B060FD05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ый ча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т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мственное утомл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Оживлял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2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8296200" cy="51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nim092"/>
          <p:cNvPicPr/>
          <p:nvPr/>
        </p:nvPicPr>
        <p:blipFill>
          <a:blip r:embed="rId2"/>
          <a:stretch/>
        </p:blipFill>
        <p:spPr>
          <a:xfrm>
            <a:off x="5410080" y="4572000"/>
            <a:ext cx="288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Соблюдение режима дн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Необходимо соблюдать  правильный режим д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Нужно рационально распределять время для труда и отдыха. При правильном режиме дня  вы все успеваете, у вас хорошее настроение, бодрое с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2.WMF"/>
          <p:cNvPicPr/>
          <p:nvPr/>
        </p:nvPicPr>
        <p:blipFill>
          <a:blip r:embed="rId1">
            <a:lum contrast="62000"/>
          </a:blip>
          <a:stretch/>
        </p:blipFill>
        <p:spPr>
          <a:xfrm>
            <a:off x="5799240" y="3809880"/>
            <a:ext cx="29638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228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4.Рациональное полноценное питание.</a:t>
            </a:r>
            <a:br>
              <a:rPr sz="40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ища- «строительный материал» для растущего организма, поэтому важно полноценно питаться в одни и те же часы. Пища дает энергию для работы сердца, мышц, мозга и других органов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OEM\Рабочий стол\288938-002.jpg"/>
          <p:cNvPicPr/>
          <p:nvPr/>
        </p:nvPicPr>
        <p:blipFill>
          <a:blip r:embed="rId1"/>
          <a:stretch/>
        </p:blipFill>
        <p:spPr>
          <a:xfrm>
            <a:off x="2895480" y="3505320"/>
            <a:ext cx="373392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Итог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так, чтобы у вас не произошло умственного утомления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блюдать режим дня, чередуя труд и отды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пать не менее 10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лноценно питаться, есть овощи и фр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 конечно гулять, любить спорт и активные игр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4"/>
          <p:cNvSpPr/>
          <p:nvPr/>
        </p:nvSpPr>
        <p:spPr>
          <a:xfrm>
            <a:off x="533520" y="609480"/>
            <a:ext cx="5562360" cy="426744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закончен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аю всем здоровья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355.WMF"/>
          <p:cNvPicPr/>
          <p:nvPr/>
        </p:nvPicPr>
        <p:blipFill>
          <a:blip r:embed="rId1"/>
          <a:stretch/>
        </p:blipFill>
        <p:spPr>
          <a:xfrm>
            <a:off x="6324480" y="1676520"/>
            <a:ext cx="219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редстави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3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ООШ №3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якова Флюра Анв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ем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занятия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:«Умственное утомл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OEM\Рабочий стол\320799-004.jpg"/>
          <p:cNvPicPr/>
          <p:nvPr/>
        </p:nvPicPr>
        <p:blipFill>
          <a:blip r:embed="rId1"/>
          <a:stretch/>
        </p:blipFill>
        <p:spPr>
          <a:xfrm>
            <a:off x="3809880" y="2590920"/>
            <a:ext cx="5096160" cy="3736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-152280" y="304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Мы узнаем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Как проявляется умственное утомле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Что делать, чтобы его не допусти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Как снять умственное утомление, если оно наступи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591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4" descr="sovadenstup2"/>
          <p:cNvPicPr/>
          <p:nvPr/>
        </p:nvPicPr>
        <p:blipFill>
          <a:blip r:embed="rId2"/>
          <a:stretch/>
        </p:blipFill>
        <p:spPr>
          <a:xfrm>
            <a:off x="1066680" y="4267080"/>
            <a:ext cx="198144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«Сбрось усталость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ньте, ноги врозь, слегка согнув колени, немного наклонитесь вперед, руки свободно опустите вдоль туловища, расправьте пальцы, склоните голову к груди. Плавно покачивайте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о встряхните головой, руками, но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ми, всем т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яйте в течении 1-2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355.WMF"/>
          <p:cNvPicPr/>
          <p:nvPr/>
        </p:nvPicPr>
        <p:blipFill>
          <a:blip r:embed="rId1"/>
          <a:stretch/>
        </p:blipFill>
        <p:spPr>
          <a:xfrm>
            <a:off x="7340760" y="3143160"/>
            <a:ext cx="180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Calibri"/>
              </a:rPr>
              <a:t>Как избежать утомлен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5"/>
          <p:cNvPicPr/>
          <p:nvPr/>
        </p:nvPicPr>
        <p:blipFill>
          <a:blip r:embed="rId2"/>
          <a:stretch/>
        </p:blipFill>
        <p:spPr>
          <a:xfrm>
            <a:off x="457200" y="4114800"/>
            <a:ext cx="13334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03320"/>
            <a:ext cx="82677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.Полноценный с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43040" y="272520"/>
            <a:ext cx="4343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для человека имеет важн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ремя сна отдыхает головной мозг, внутренние органы, сердце, мышцы расслабляются. Детям 10-12 лет надо спать не менее 12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Documents and Settings\OEM\Рабочий стол\811_wallpaper280.jpg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Прогулки, хорошая вентиляция поме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0081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еобходимо гулять не менее 2 часов в день и обязательно проветривать комнату, так как из-за недостатка кислорода может болеть голова. Заниматься любым видом 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super055"/>
          <p:cNvPicPr/>
          <p:nvPr/>
        </p:nvPicPr>
        <p:blipFill>
          <a:blip r:embed="rId1"/>
          <a:stretch/>
        </p:blipFill>
        <p:spPr>
          <a:xfrm>
            <a:off x="3352680" y="1981080"/>
            <a:ext cx="4667400" cy="463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079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23-02-06T16:48:03Z</dcterms:modified>
  <cp:revision>59</cp:revision>
  <dc:subject/>
  <dc:title>«Умственное утомление»</dc:title>
</cp:coreProperties>
</file>