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3.wmf" ContentType="image/x-wmf"/>
  <Override PartName="/ppt/media/image8.jpeg" ContentType="image/jpeg"/>
  <Override PartName="/ppt/media/image11.png" ContentType="image/pn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37D-2391-46A1-B568-C150C0B1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F6A-D0F6-4036-BC0A-A615B423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940-73E1-488B-99BF-28C01C0E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9E-1DA9-41D7-8274-1A968589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E25-09D8-4A04-ABC2-EB3C05B3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03B-C37B-405F-B243-C928D1F6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EFD-6956-4AFD-9EAD-0214C094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8DF-5198-45C3-9862-10A87B45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B90-D91B-4785-81E3-EE81587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FA8-AC0E-4319-AB54-F2DAD80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499-38E1-4FB8-8BEB-84812DED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D54-810C-42C2-BAFB-DB97863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8275-162E-4480-9657-C80CD7BB1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ный ча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те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Умственное утомл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libri"/>
              </a:rPr>
              <a:t>Оживлял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2" descr=""/>
          <p:cNvPicPr/>
          <p:nvPr/>
        </p:nvPicPr>
        <p:blipFill>
          <a:blip r:embed="rId1"/>
          <a:stretch/>
        </p:blipFill>
        <p:spPr>
          <a:xfrm>
            <a:off x="457200" y="933480"/>
            <a:ext cx="8296200" cy="5192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anim092"/>
          <p:cNvPicPr/>
          <p:nvPr/>
        </p:nvPicPr>
        <p:blipFill>
          <a:blip r:embed="rId2"/>
          <a:stretch/>
        </p:blipFill>
        <p:spPr>
          <a:xfrm>
            <a:off x="5410080" y="4572000"/>
            <a:ext cx="288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4a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Соблюдение режима дн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Необходимо соблюдать  правильный режим д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Calibri"/>
              </a:rPr>
              <a:t>Нужно рационально распределять время для труда и отдыха. При правильном режиме дня  вы все успеваете, у вас хорошее настроение, бодрое состоя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5" descr="2.WMF"/>
          <p:cNvPicPr/>
          <p:nvPr/>
        </p:nvPicPr>
        <p:blipFill>
          <a:blip r:embed="rId1">
            <a:lum contrast="62000"/>
          </a:blip>
          <a:stretch/>
        </p:blipFill>
        <p:spPr>
          <a:xfrm>
            <a:off x="5799240" y="3809880"/>
            <a:ext cx="29638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2289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4.Рациональное полноценное питание.</a:t>
            </a:r>
            <a:br>
              <a:rPr sz="40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ища- «строительный материал» для растущего организма, поэтому важно полноценно питаться в одни и те же часы. Пища дает энергию для работы сердца, мышц, мозга и других органов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OEM\Рабочий стол\288938-002.jpg"/>
          <p:cNvPicPr/>
          <p:nvPr/>
        </p:nvPicPr>
        <p:blipFill>
          <a:blip r:embed="rId1"/>
          <a:stretch/>
        </p:blipFill>
        <p:spPr>
          <a:xfrm>
            <a:off x="2895480" y="3505320"/>
            <a:ext cx="373392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Итог урок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так, чтобы у вас не произошло умственного утомления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блюдать режим дня, чередуя труд и отды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пать не менее 10 час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лноценно питаться, есть овощи и фр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 конечно гулять, любить спорт и активные игр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4"/>
          <p:cNvSpPr/>
          <p:nvPr/>
        </p:nvSpPr>
        <p:spPr>
          <a:xfrm>
            <a:off x="533520" y="609480"/>
            <a:ext cx="5562360" cy="4267440"/>
          </a:xfrm>
          <a:prstGeom prst="ellipse">
            <a:avLst/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86728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закончен!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аю всем здоровья!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355.WMF"/>
          <p:cNvPicPr/>
          <p:nvPr/>
        </p:nvPicPr>
        <p:blipFill>
          <a:blip r:embed="rId1"/>
          <a:stretch/>
        </p:blipFill>
        <p:spPr>
          <a:xfrm>
            <a:off x="6324480" y="1676520"/>
            <a:ext cx="219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представил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3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ООШ №3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якова Флюра Анв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ем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занятия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:«Умственное утомление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OEM\Рабочий стол\320799-004.jpg"/>
          <p:cNvPicPr/>
          <p:nvPr/>
        </p:nvPicPr>
        <p:blipFill>
          <a:blip r:embed="rId1"/>
          <a:stretch/>
        </p:blipFill>
        <p:spPr>
          <a:xfrm>
            <a:off x="3809880" y="2590920"/>
            <a:ext cx="5096160" cy="3736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-152280" y="304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Мы узнаем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Как проявляется умственное утомлени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Что делать, чтобы его не допусти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bf1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bf1de"/>
                </a:solidFill>
                <a:latin typeface="Calibri"/>
              </a:rPr>
              <a:t>Как снять умственное утомление, если оно наступил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591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4" descr="sovadenstup2"/>
          <p:cNvPicPr/>
          <p:nvPr/>
        </p:nvPicPr>
        <p:blipFill>
          <a:blip r:embed="rId2"/>
          <a:stretch/>
        </p:blipFill>
        <p:spPr>
          <a:xfrm>
            <a:off x="1066680" y="4267080"/>
            <a:ext cx="198144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«Сбрось усталость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ньте, ноги врозь, слегка согнув колени, немного наклонитесь вперед, руки свободно опустите вдоль туловища, расправьте пальцы, склоните голову к груди. Плавно покачивайтес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ко встряхните головой, руками, но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ми, всем т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яйте в течении 1-2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355.WMF"/>
          <p:cNvPicPr/>
          <p:nvPr/>
        </p:nvPicPr>
        <p:blipFill>
          <a:blip r:embed="rId1"/>
          <a:stretch/>
        </p:blipFill>
        <p:spPr>
          <a:xfrm>
            <a:off x="7340760" y="3143160"/>
            <a:ext cx="180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7375e"/>
                </a:solidFill>
                <a:latin typeface="Calibri"/>
              </a:rPr>
              <a:t>Как избежать утомлен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5"/>
          <p:cNvPicPr/>
          <p:nvPr/>
        </p:nvPicPr>
        <p:blipFill>
          <a:blip r:embed="rId2"/>
          <a:stretch/>
        </p:blipFill>
        <p:spPr>
          <a:xfrm>
            <a:off x="457200" y="4114800"/>
            <a:ext cx="13334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38120" y="103320"/>
            <a:ext cx="82677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733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1.Полноценный с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343040" y="272520"/>
            <a:ext cx="4343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н для человека имеет важное зна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ремя сна отдыхает головной мозг, внутренние органы, сердце, мышцы расслабляются. Детям 10-12 лет надо спать не менее 12 ча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Documents and Settings\OEM\Рабочий стол\811_wallpaper280.jpg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2.Прогулки, хорошая вентиляция поме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0081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тям необходимо гулять не менее 2 часов в день и обязательно проветривать комнату, так как из-за недостатка кислорода может болеть голова. Заниматься любым видом с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super055"/>
          <p:cNvPicPr/>
          <p:nvPr/>
        </p:nvPicPr>
        <p:blipFill>
          <a:blip r:embed="rId1"/>
          <a:stretch/>
        </p:blipFill>
        <p:spPr>
          <a:xfrm>
            <a:off x="3352680" y="1981080"/>
            <a:ext cx="4667400" cy="4633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e079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</cp:lastModifiedBy>
  <dcterms:modified xsi:type="dcterms:W3CDTF">2023-02-06T16:48:03Z</dcterms:modified>
  <cp:revision>59</cp:revision>
  <dc:subject/>
  <dc:title>«Умственное утомление»</dc:title>
</cp:coreProperties>
</file>