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A443-98BE-4CD5-B489-7EC50199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B400-F2F2-4509-88B0-CE8EFA4A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7B0-26DF-40A6-9CAA-7B340798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721F-C00F-458D-AB35-550E8C22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B3AA-9DCD-4B87-819E-C96802DB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01A3-4800-4DDE-B285-62DB0B29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BD0-673C-4962-A486-85165C70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B670-BEA6-47D5-B751-05B153E5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2CF-348D-4316-972E-E9D57945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F38F-1C00-4284-9354-36C52268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CEC9-E44F-4AF3-8E48-57B8F003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2E16-0810-48B6-B9F1-0520EC4E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DEA6-701F-4752-873D-2264455F7B07}" type="slidenum">
              <a:rPr b="0" lang="ru-RU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eorgia"/>
              </a:rPr>
              <a:t>Дикие животные наших лесов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Ёж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" name="Содержимое 4" descr="еж.jpg"/>
          <p:cNvPicPr/>
          <p:nvPr/>
        </p:nvPicPr>
        <p:blipFill>
          <a:blip r:embed="rId1"/>
          <a:stretch/>
        </p:blipFill>
        <p:spPr>
          <a:xfrm>
            <a:off x="4024440" y="1357200"/>
            <a:ext cx="4551120" cy="4000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ерый ёжик весь в иголках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овно он не зверь, а ёл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оть колюч молчун лесной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Ёжик добрый, а не злой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Бел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" name="Содержимое 4" descr="белка.jpg"/>
          <p:cNvPicPr/>
          <p:nvPr/>
        </p:nvPicPr>
        <p:blipFill>
          <a:blip r:embed="rId1"/>
          <a:stretch/>
        </p:blipFill>
        <p:spPr>
          <a:xfrm>
            <a:off x="3887640" y="946080"/>
            <a:ext cx="3970440" cy="5180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алеко ещё зим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 не для потех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ащит белка в закром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Ягоды, орехи..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нает маленький зверёк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асаться надо в срок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Лос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4" name="Содержимое 4" descr="лось.jpg"/>
          <p:cNvPicPr/>
          <p:nvPr/>
        </p:nvPicPr>
        <p:blipFill>
          <a:blip r:embed="rId1"/>
          <a:stretch/>
        </p:blipFill>
        <p:spPr>
          <a:xfrm>
            <a:off x="3575160" y="928800"/>
            <a:ext cx="5394240" cy="4314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Лось - рога ветвисты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а копыта быстры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Головой качая, он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Задевает небоскло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Медведь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7" name="Содержимое 4" descr="медведь2.jpg"/>
          <p:cNvPicPr/>
          <p:nvPr/>
        </p:nvPicPr>
        <p:blipFill>
          <a:blip r:embed="rId1"/>
          <a:stretch/>
        </p:blipFill>
        <p:spPr>
          <a:xfrm>
            <a:off x="3697200" y="1035000"/>
            <a:ext cx="4875480" cy="4322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 завалам, по оврага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Ходит он хозяйским шаг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юбит мишка сладкий мёд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а малину с веток рвё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300816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Заяц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0" name="Содержимое 4" descr="заяц.jpg"/>
          <p:cNvPicPr/>
          <p:nvPr/>
        </p:nvPicPr>
        <p:blipFill>
          <a:blip r:embed="rId1"/>
          <a:stretch/>
        </p:blipFill>
        <p:spPr>
          <a:xfrm>
            <a:off x="3500280" y="1071720"/>
            <a:ext cx="5268960" cy="4214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катился шум лесной 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д кустом притих косо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Уши длинные прижал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олго эхо провожа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ро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3" name="Содержимое 4" descr="крот.jpg"/>
          <p:cNvPicPr/>
          <p:nvPr/>
        </p:nvPicPr>
        <p:blipFill>
          <a:blip r:embed="rId1"/>
          <a:stretch/>
        </p:blipFill>
        <p:spPr>
          <a:xfrm>
            <a:off x="3441600" y="928800"/>
            <a:ext cx="5227560" cy="4071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ень за днём, за годом год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од подземный роет кро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ве передних быстрых лап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 крота, как две лопат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Лис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6" name="Содержимое 4" descr="лиса2.jpg"/>
          <p:cNvPicPr/>
          <p:nvPr/>
        </p:nvPicPr>
        <p:blipFill>
          <a:blip r:embed="rId1"/>
          <a:stretch/>
        </p:blipFill>
        <p:spPr>
          <a:xfrm>
            <a:off x="3643200" y="1357200"/>
            <a:ext cx="5112000" cy="4500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нает лисонька-лиса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шубе вся её крас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Шубы нет в лесу рыже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веря нет в лесу хитр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абан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ускается тума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сыпается кабан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ет землю у ре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очит острые клык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" name="Содержимое 6" descr="кабан.jpg"/>
          <p:cNvPicPr/>
          <p:nvPr/>
        </p:nvPicPr>
        <p:blipFill>
          <a:blip r:embed="rId1"/>
          <a:stretch/>
        </p:blipFill>
        <p:spPr>
          <a:xfrm>
            <a:off x="3857760" y="728640"/>
            <a:ext cx="482904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Бобр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" name="Содержимое 4" descr="бобр.jpg"/>
          <p:cNvPicPr/>
          <p:nvPr/>
        </p:nvPicPr>
        <p:blipFill>
          <a:blip r:embed="rId1"/>
          <a:stretch/>
        </p:blipFill>
        <p:spPr>
          <a:xfrm>
            <a:off x="4157640" y="857160"/>
            <a:ext cx="4464000" cy="38577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обры - речные жители -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личные строител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 них работа спорится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реке плотина строитс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ол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" name="Содержимое 4" descr="волк.jpg"/>
          <p:cNvPicPr/>
          <p:nvPr/>
        </p:nvPicPr>
        <p:blipFill>
          <a:blip r:embed="rId1"/>
          <a:stretch/>
        </p:blipFill>
        <p:spPr>
          <a:xfrm>
            <a:off x="3575160" y="714240"/>
            <a:ext cx="4948200" cy="4478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ень и ночь по лесу рыщет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ень и ночь добычу ище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Ходит-бродит волк молчком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Уши серые - торчком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2:43:11Z</dcterms:created>
  <dc:creator>admin</dc:creator>
  <dc:description/>
  <dc:language>en-US</dc:language>
  <cp:lastModifiedBy>ASUS</cp:lastModifiedBy>
  <dcterms:modified xsi:type="dcterms:W3CDTF">2023-02-06T16:41:34Z</dcterms:modified>
  <cp:revision>7</cp:revision>
  <dc:subject/>
  <dc:title>Слайд 1</dc:title>
</cp:coreProperties>
</file>