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FAD-0A79-4A08-942B-9C6F8B91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9A98-0AD4-4D9D-8C2B-387F7868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7B0-260C-41DB-9F85-49FA91A5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84A7-2499-4997-B03B-CCA5982D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3241-689C-4C68-A290-ECC603C9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D9B0-B56E-4EAA-A781-C2DD6580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C26-23C9-451D-B412-A248C661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988-8D37-4AED-83AF-AC90BFD1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59F6-AA99-47F7-8E3E-1BD821A6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010-EE68-46F7-A4C1-A80E9CC6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5D2D-D408-48DB-BED0-F3783B83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8AC-05A6-4588-8812-2F7EB1DF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9685-1E81-4C9C-AF27-67AF2DA3F9D7}" type="slidenum">
              <a:rPr b="0" lang="ru-RU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eorgia"/>
              </a:rPr>
              <a:t>Дикие животные наших лесов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Ёж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" name="Содержимое 4" descr="еж.jpg"/>
          <p:cNvPicPr/>
          <p:nvPr/>
        </p:nvPicPr>
        <p:blipFill>
          <a:blip r:embed="rId1"/>
          <a:stretch/>
        </p:blipFill>
        <p:spPr>
          <a:xfrm>
            <a:off x="4024440" y="1357200"/>
            <a:ext cx="4551120" cy="4000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ерый ёжик весь в иголках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ловно он не зверь, а ёл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оть колюч молчун лесной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Ёжик добрый, а не злой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Бел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" name="Содержимое 4" descr="белка.jpg"/>
          <p:cNvPicPr/>
          <p:nvPr/>
        </p:nvPicPr>
        <p:blipFill>
          <a:blip r:embed="rId1"/>
          <a:stretch/>
        </p:blipFill>
        <p:spPr>
          <a:xfrm>
            <a:off x="3887640" y="946080"/>
            <a:ext cx="3970440" cy="5180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алеко ещё зим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о не для потех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ащит белка в закром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Ягоды, орехи..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нает маленький зверёк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асаться надо в срок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Лос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4" name="Содержимое 4" descr="лось.jpg"/>
          <p:cNvPicPr/>
          <p:nvPr/>
        </p:nvPicPr>
        <p:blipFill>
          <a:blip r:embed="rId1"/>
          <a:stretch/>
        </p:blipFill>
        <p:spPr>
          <a:xfrm>
            <a:off x="3575160" y="928800"/>
            <a:ext cx="5394240" cy="4314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Лось - рога ветвисты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а копыта быстры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Головой качая, он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Задевает небосклон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Медведь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7" name="Содержимое 4" descr="медведь2.jpg"/>
          <p:cNvPicPr/>
          <p:nvPr/>
        </p:nvPicPr>
        <p:blipFill>
          <a:blip r:embed="rId1"/>
          <a:stretch/>
        </p:blipFill>
        <p:spPr>
          <a:xfrm>
            <a:off x="3697200" y="1035000"/>
            <a:ext cx="4875480" cy="4322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 завалам, по оврага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Ходит он хозяйским шаг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юбит мишка сладкий мёд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а малину с веток рвё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300816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Заяц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0" name="Содержимое 4" descr="заяц.jpg"/>
          <p:cNvPicPr/>
          <p:nvPr/>
        </p:nvPicPr>
        <p:blipFill>
          <a:blip r:embed="rId1"/>
          <a:stretch/>
        </p:blipFill>
        <p:spPr>
          <a:xfrm>
            <a:off x="3500280" y="1071720"/>
            <a:ext cx="5268960" cy="4214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катился шум лесной 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од кустом притих косо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Уши длинные прижал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олго эхо провожал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ро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3" name="Содержимое 4" descr="крот.jpg"/>
          <p:cNvPicPr/>
          <p:nvPr/>
        </p:nvPicPr>
        <p:blipFill>
          <a:blip r:embed="rId1"/>
          <a:stretch/>
        </p:blipFill>
        <p:spPr>
          <a:xfrm>
            <a:off x="3441600" y="928800"/>
            <a:ext cx="5227560" cy="4071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ень за днём, за годом год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од подземный роет кро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ве передних быстрых лап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 крота, как две лопат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Лис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6" name="Содержимое 4" descr="лиса2.jpg"/>
          <p:cNvPicPr/>
          <p:nvPr/>
        </p:nvPicPr>
        <p:blipFill>
          <a:blip r:embed="rId1"/>
          <a:stretch/>
        </p:blipFill>
        <p:spPr>
          <a:xfrm>
            <a:off x="3643200" y="1357200"/>
            <a:ext cx="5112000" cy="4500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нает лисонька-лиса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шубе вся её крас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Шубы нет в лесу рыжей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веря нет в лесу хитр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абан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ускается тума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сыпается кабан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оет землю у ре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очит острые клык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" name="Содержимое 6" descr="кабан.jpg"/>
          <p:cNvPicPr/>
          <p:nvPr/>
        </p:nvPicPr>
        <p:blipFill>
          <a:blip r:embed="rId1"/>
          <a:stretch/>
        </p:blipFill>
        <p:spPr>
          <a:xfrm>
            <a:off x="3857760" y="728640"/>
            <a:ext cx="482904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Бобр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" name="Содержимое 4" descr="бобр.jpg"/>
          <p:cNvPicPr/>
          <p:nvPr/>
        </p:nvPicPr>
        <p:blipFill>
          <a:blip r:embed="rId1"/>
          <a:stretch/>
        </p:blipFill>
        <p:spPr>
          <a:xfrm>
            <a:off x="4157640" y="857160"/>
            <a:ext cx="4464000" cy="38577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обры - речные жители -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личные строител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 них работа спорится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реке плотина строитс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ол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" name="Содержимое 4" descr="волк.jpg"/>
          <p:cNvPicPr/>
          <p:nvPr/>
        </p:nvPicPr>
        <p:blipFill>
          <a:blip r:embed="rId1"/>
          <a:stretch/>
        </p:blipFill>
        <p:spPr>
          <a:xfrm>
            <a:off x="3575160" y="714240"/>
            <a:ext cx="4948200" cy="4478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ень и ночь по лесу рыщет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ень и ночь добычу ище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Ходит-бродит волк молчком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Уши серые - торчком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2:43:11Z</dcterms:created>
  <dc:creator>admin</dc:creator>
  <dc:description/>
  <dc:language>en-US</dc:language>
  <cp:lastModifiedBy>ASUS</cp:lastModifiedBy>
  <dcterms:modified xsi:type="dcterms:W3CDTF">2023-02-06T16:41:34Z</dcterms:modified>
  <cp:revision>7</cp:revision>
  <dc:subject/>
  <dc:title>Слайд 1</dc:title>
</cp:coreProperties>
</file>