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303-E18A-4471-91CF-0DE8C71B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B4B-1112-46B3-AF9E-6C8A363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AE6-AA8D-458B-9B1A-CA2197B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3CD-0400-44B4-A3BC-B03B7CD0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4B6-5C9C-4610-8D0F-A05659A7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5C8C-B45B-4169-B461-63C832E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63D4-372A-4C0A-8BFB-563501F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EAA6-CD5C-4E2E-9450-734FF00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5C2F-75BD-4A04-A735-46F8B97C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0E1-28E4-413F-A155-D7E06B4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347-8E69-47A6-B6EC-7B3B627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885-D1A9-4318-9284-F252937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A380-02D3-4657-AF09-C433E82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7B0-33AE-4FC8-9762-B46A68B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299B-0AFF-42B1-8D92-EDFDF15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4037-B270-492F-A760-2B33D496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2C1-2778-4F01-ABF8-4E802DCB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59A-3D14-440B-B210-123F0BEA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681-53FD-4A0F-86D6-C2C99152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910-A1E5-4907-8F81-2CD6C695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A4C-EED6-45DD-9124-656D254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488-0804-42CF-BF1F-4CE9152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91A-7648-4A8C-A397-A459FFF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B51-526D-46DB-B946-532CA28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29B-CA29-4F2B-A06D-9E863FA0C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C7D-BF0F-48B1-A224-803C721AC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95280" y="25509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алош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резиновая обувь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Дребеден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– ерунда, чепуха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азел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– вид антилопы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уд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– русская мера в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примерно 16кг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324000"/>
            <a:ext cx="6784920" cy="94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орней Чуковский. Телефон. Страница 4"/>
          <p:cNvPicPr/>
          <p:nvPr/>
        </p:nvPicPr>
        <p:blipFill>
          <a:blip r:embed="rId1"/>
          <a:srcRect l="10477" t="10026" r="0" b="52099"/>
          <a:stretch/>
        </p:blipFill>
        <p:spPr>
          <a:xfrm>
            <a:off x="611280" y="333360"/>
            <a:ext cx="7643880" cy="43210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4" name="TextBox 2"/>
          <p:cNvSpPr/>
          <p:nvPr/>
        </p:nvSpPr>
        <p:spPr>
          <a:xfrm>
            <a:off x="565200" y="333360"/>
            <a:ext cx="4608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eti-online.com_-_telefon.mp3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963720" y="189000"/>
            <a:ext cx="6424560" cy="94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клипарты\Дети\13.jpg"/>
          <p:cNvPicPr/>
          <p:nvPr/>
        </p:nvPicPr>
        <p:blipFill>
          <a:blip r:embed="rId2"/>
          <a:srcRect l="0" t="0" r="24591" b="0"/>
          <a:stretch/>
        </p:blipFill>
        <p:spPr>
          <a:xfrm>
            <a:off x="3276720" y="1197000"/>
            <a:ext cx="21240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в па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лю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</a:t>
            </a:r>
            <a:r>
              <a:rPr b="1" lang="en-US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Итог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задачи ,которые мы ставили в начале урока. Смогли мы их реш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лись сегодня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есь ,что вам особенно уда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пригодится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611280" y="134136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е произведение мы изучили сегодня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 больше всего понрав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ниматься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1187280" y="4869000"/>
            <a:ext cx="561672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ие книги писал дед Корн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л взрослых он и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ут и внуки наши и де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 читать весёлые э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cdns2.freepik.com/free-photo/cute-baby-picture-vector-material_15-5332.jpg"/>
          <p:cNvPicPr/>
          <p:nvPr/>
        </p:nvPicPr>
        <p:blipFill>
          <a:blip r:embed="rId1"/>
          <a:srcRect l="0" t="0" r="73435" b="67210"/>
          <a:stretch/>
        </p:blipFill>
        <p:spPr>
          <a:xfrm>
            <a:off x="395280" y="0"/>
            <a:ext cx="283536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cdns2.freepik.com/free-photo/cute-baby-picture-vector-material_15-5332.jpg"/>
          <p:cNvPicPr/>
          <p:nvPr/>
        </p:nvPicPr>
        <p:blipFill>
          <a:blip r:embed="rId2"/>
          <a:srcRect l="49514" t="31073" r="26336" b="34412"/>
          <a:stretch/>
        </p:blipFill>
        <p:spPr>
          <a:xfrm>
            <a:off x="900000" y="436572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cdns2.freepik.com/free-photo/cute-baby-picture-vector-material_15-5332.jpg"/>
          <p:cNvPicPr/>
          <p:nvPr/>
        </p:nvPicPr>
        <p:blipFill>
          <a:blip r:embed="rId3"/>
          <a:srcRect l="73670" t="0" r="0" b="65485"/>
          <a:stretch/>
        </p:blipFill>
        <p:spPr>
          <a:xfrm>
            <a:off x="826920" y="2205000"/>
            <a:ext cx="2521080" cy="2311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3497760" y="981000"/>
            <a:ext cx="489132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молодец, работ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3419640" y="4653000"/>
            <a:ext cx="462888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мало работаю на уроке, мне над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ть луч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372480" y="2924280"/>
            <a:ext cx="52786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стараюсь, но у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всё получ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отрывок из сказки наизу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ловарн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аппара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овоз без колёс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так чудо-паровоз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 ума ли он сошё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 по морю пошёл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ло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ма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доды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кот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й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ва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8"/>
          <p:cNvCxnSpPr/>
          <p:nvPr/>
        </p:nvCxnSpPr>
        <p:spPr>
          <a:xfrm>
            <a:off x="2700000" y="2565000"/>
            <a:ext cx="21596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>
            <a:off x="2771280" y="3284640"/>
            <a:ext cx="208836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Прямая со стрелкой 12"/>
          <p:cNvCxnSpPr/>
          <p:nvPr/>
        </p:nvCxnSpPr>
        <p:spPr>
          <a:xfrm flipV="1">
            <a:off x="2411280" y="2491920"/>
            <a:ext cx="2448720" cy="144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>
            <a:off x="3058920" y="4508280"/>
            <a:ext cx="1873800" cy="64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Прямая со стрелкой 16"/>
          <p:cNvCxnSpPr/>
          <p:nvPr/>
        </p:nvCxnSpPr>
        <p:spPr>
          <a:xfrm flipV="1">
            <a:off x="2700000" y="4508280"/>
            <a:ext cx="21596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108920" cy="566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7" descr=""/>
          <p:cNvPicPr/>
          <p:nvPr/>
        </p:nvPicPr>
        <p:blipFill>
          <a:blip r:embed="rId1"/>
          <a:stretch/>
        </p:blipFill>
        <p:spPr>
          <a:xfrm>
            <a:off x="817560" y="189000"/>
            <a:ext cx="750888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4" descr=""/>
          <p:cNvPicPr/>
          <p:nvPr/>
        </p:nvPicPr>
        <p:blipFill>
          <a:blip r:embed="rId1"/>
          <a:stretch/>
        </p:blipFill>
        <p:spPr>
          <a:xfrm>
            <a:off x="1895400" y="835200"/>
            <a:ext cx="4876920" cy="175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читать вырази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твечать на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508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PC</cp:lastModifiedBy>
  <dcterms:modified xsi:type="dcterms:W3CDTF">2023-02-01T17:08:00Z</dcterms:modified>
  <cp:revision>23</cp:revision>
  <dc:subject/>
  <dc:title>Слайд 1</dc:title>
</cp:coreProperties>
</file>