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041-30EB-45B6-85FE-EBDF2D2A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378-299A-4397-8451-5FE133F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31D-E46E-4202-929D-1C7B84DA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2AA-0903-4128-8B5E-C117C488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3F13-E634-4682-8748-23A881B4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60C3-7EC4-47E9-8179-1AE9633C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46F2-54D1-42B6-B5EB-CE15BD8F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A320-A62E-459B-B1EC-9399168F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193-51E0-461A-A614-B7290367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E473-85F2-456F-AA84-8D2EECE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F302-F2CA-435C-A5F9-9A01C9B8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016-D3A5-4EA4-AD30-BAC08E13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F61D-C296-47CA-A4F5-4BB0C7F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4AA-1869-4FA2-B894-9AB56FC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473F-D267-4B82-BAA6-D247ADB2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40A-3ECD-48AE-AD95-13BBD4E9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57A9-8E8B-4EF5-9AE2-377565D8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7C7-C0D8-4FFA-AB35-A67E4EDC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D6A-BF04-49FD-96E2-AFE883DB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D7B-397E-447E-BBBC-40517C4E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42C-A023-4806-B9C9-19B5178B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9A6-5F5C-43C5-B138-4BFA5A30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E31-2445-4313-9A2D-A41FAEA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509-2B04-4B04-8C1D-C1C41D88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AD8A-22A3-458A-91BF-05D921EBE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2054-8024-4393-8DBD-87DE5693C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95280" y="255096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алош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резиновая обувь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Дребеден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– ерунда, чепуха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Газел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– вид антилопы.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уд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– русская мера в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примерно 16кг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2" descr=""/>
          <p:cNvPicPr/>
          <p:nvPr/>
        </p:nvPicPr>
        <p:blipFill>
          <a:blip r:embed="rId1"/>
          <a:stretch/>
        </p:blipFill>
        <p:spPr>
          <a:xfrm>
            <a:off x="1316160" y="324000"/>
            <a:ext cx="6784920" cy="94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орней Чуковский. Телефон. Страница 4"/>
          <p:cNvPicPr/>
          <p:nvPr/>
        </p:nvPicPr>
        <p:blipFill>
          <a:blip r:embed="rId1"/>
          <a:srcRect l="10477" t="10026" r="0" b="52099"/>
          <a:stretch/>
        </p:blipFill>
        <p:spPr>
          <a:xfrm>
            <a:off x="611280" y="333360"/>
            <a:ext cx="7643880" cy="43210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4" name="TextBox 2"/>
          <p:cNvSpPr/>
          <p:nvPr/>
        </p:nvSpPr>
        <p:spPr>
          <a:xfrm>
            <a:off x="565200" y="333360"/>
            <a:ext cx="46080" cy="46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eti-online.com_-_telefon.mp3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2" descr=""/>
          <p:cNvPicPr/>
          <p:nvPr/>
        </p:nvPicPr>
        <p:blipFill>
          <a:blip r:embed="rId1"/>
          <a:stretch/>
        </p:blipFill>
        <p:spPr>
          <a:xfrm>
            <a:off x="963720" y="189000"/>
            <a:ext cx="6424560" cy="94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D:\клипарты\Дети\13.jpg"/>
          <p:cNvPicPr/>
          <p:nvPr/>
        </p:nvPicPr>
        <p:blipFill>
          <a:blip r:embed="rId2"/>
          <a:srcRect l="0" t="0" r="24591" b="0"/>
          <a:stretch/>
        </p:blipFill>
        <p:spPr>
          <a:xfrm>
            <a:off x="3276720" y="1197000"/>
            <a:ext cx="21240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в па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ы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лю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Что</a:t>
            </a:r>
            <a:r>
              <a:rPr b="1" lang="en-US" sz="4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кол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Итог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е задачи ,которые мы ставили в начале урока. Смогли мы их реш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учились сегодня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есь ,что вам особенно удало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 пригодится в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611280" y="1341360"/>
            <a:ext cx="612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е произведение мы изучили сегодня на уро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м больше всего понрав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ниматься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ю работу на уро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1187280" y="4869000"/>
            <a:ext cx="561672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ие книги писал дед Корн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л взрослых он и дет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дут и внуки наши и де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 читать весёлые э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http://cdns2.freepik.com/free-photo/cute-baby-picture-vector-material_15-5332.jpg"/>
          <p:cNvPicPr/>
          <p:nvPr/>
        </p:nvPicPr>
        <p:blipFill>
          <a:blip r:embed="rId1"/>
          <a:srcRect l="0" t="0" r="73435" b="67210"/>
          <a:stretch/>
        </p:blipFill>
        <p:spPr>
          <a:xfrm>
            <a:off x="395280" y="0"/>
            <a:ext cx="283536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cdns2.freepik.com/free-photo/cute-baby-picture-vector-material_15-5332.jpg"/>
          <p:cNvPicPr/>
          <p:nvPr/>
        </p:nvPicPr>
        <p:blipFill>
          <a:blip r:embed="rId2"/>
          <a:srcRect l="49514" t="31073" r="26336" b="34412"/>
          <a:stretch/>
        </p:blipFill>
        <p:spPr>
          <a:xfrm>
            <a:off x="900000" y="436572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cdns2.freepik.com/free-photo/cute-baby-picture-vector-material_15-5332.jpg"/>
          <p:cNvPicPr/>
          <p:nvPr/>
        </p:nvPicPr>
        <p:blipFill>
          <a:blip r:embed="rId3"/>
          <a:srcRect l="73670" t="0" r="0" b="65485"/>
          <a:stretch/>
        </p:blipFill>
        <p:spPr>
          <a:xfrm>
            <a:off x="826920" y="2205000"/>
            <a:ext cx="2521080" cy="23115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3497760" y="981000"/>
            <a:ext cx="4891320" cy="1191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молодец, работ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ош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3419640" y="4653000"/>
            <a:ext cx="4628880" cy="173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мало работаю на уроке, мне над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ть луч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3372480" y="2924280"/>
            <a:ext cx="52786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 стараюсь, но у ме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всё получа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отрывок из сказки наизус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ловарные сл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аппара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овоз без колёс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т так чудо-паровоз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с ума ли он сошё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 по морю пошёл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ло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боли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ма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доды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кот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ой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вальн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Прямая со стрелкой 8"/>
          <p:cNvCxnSpPr/>
          <p:nvPr/>
        </p:nvCxnSpPr>
        <p:spPr>
          <a:xfrm>
            <a:off x="2700000" y="2565000"/>
            <a:ext cx="21596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>
            <a:off x="2771280" y="3284640"/>
            <a:ext cx="208836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Прямая со стрелкой 12"/>
          <p:cNvCxnSpPr/>
          <p:nvPr/>
        </p:nvCxnSpPr>
        <p:spPr>
          <a:xfrm flipV="1">
            <a:off x="2411280" y="2491920"/>
            <a:ext cx="2448720" cy="144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>
            <a:off x="3058920" y="4508280"/>
            <a:ext cx="1873800" cy="64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Прямая со стрелкой 16"/>
          <p:cNvCxnSpPr/>
          <p:nvPr/>
        </p:nvCxnSpPr>
        <p:spPr>
          <a:xfrm flipV="1">
            <a:off x="2700000" y="4508280"/>
            <a:ext cx="215964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108920" cy="5662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Объект 7" descr=""/>
          <p:cNvPicPr/>
          <p:nvPr/>
        </p:nvPicPr>
        <p:blipFill>
          <a:blip r:embed="rId1"/>
          <a:stretch/>
        </p:blipFill>
        <p:spPr>
          <a:xfrm>
            <a:off x="817560" y="189000"/>
            <a:ext cx="7508880" cy="61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4" descr=""/>
          <p:cNvPicPr/>
          <p:nvPr/>
        </p:nvPicPr>
        <p:blipFill>
          <a:blip r:embed="rId1"/>
          <a:stretch/>
        </p:blipFill>
        <p:spPr>
          <a:xfrm>
            <a:off x="1895400" y="835200"/>
            <a:ext cx="4876920" cy="175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уро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произведени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читать вырази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прочитан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твечать на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207280" cy="508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PC</cp:lastModifiedBy>
  <dcterms:modified xsi:type="dcterms:W3CDTF">2023-02-01T17:08:00Z</dcterms:modified>
  <cp:revision>23</cp:revision>
  <dc:subject/>
  <dc:title>Слайд 1</dc:title>
</cp:coreProperties>
</file>