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97F-7953-487F-B4E0-63910775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D12-6FC0-428B-A0A8-50010B2F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005-A04B-4BD5-9532-A412C5F2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6C8-8DA5-4C48-9426-C6E24AF9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4A28-9807-4840-94D5-5E4D7D6D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DDF-E0B8-4D25-936A-8E8F0665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2B0-DC17-4376-B13D-7821CF4B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1B7-B7C6-4040-99B4-A344378F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4F3-DAF6-4A4E-8452-A2AB95DD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2CB-021F-4D6F-A9F2-5A333A2E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73D-5D24-40D5-ACFB-70CA7A21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455B-FCA9-4188-B50E-9AE1CBC8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805C30-0C86-46A4-AB37-003B80615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14600" y="1599840"/>
            <a:ext cx="60199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Музыка своего народа и  различные жанры народов ми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1 квалификацио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тегории Дейнега Н. А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«Жанр джазовой музы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жа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англ.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az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— форма музыкального искусства, возникшая в конце XIX — начале XX века в США в результате синтеза африканской и европейской культур и получившая впоследствии повсеместное распростране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86200" y="3276720"/>
            <a:ext cx="4876920" cy="33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«Жанр поп музы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655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-музы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англ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ular musi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— направление современной музыки, вид современной массовой куль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отдельным жанром популярной музыки и самым популярным направлением в современной музы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-музыка включает в себя такие поджанры, как европоп, латина, диско, синтипоп, танцевальная музыка и друг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599160" y="0"/>
            <a:ext cx="254484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«Жанр рок-музы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5715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Рок-музыка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(англ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Rock music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 — обобщающее название ряда направлений популярной музык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ок-музыка имеет большое количество направлений: от достаточно «лёгких» жанров, таких как танцевальный рок-н-ролл, поп-рок, брит-поп, до брутальных и агрессивных жанров - дэт-метала и грайндкора. 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3122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«Жанр электронной музы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6324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музык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широкий музыкальный жанр, обозначающий музыку, созданную с использованием электронных музыкальных инструментов и технологи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музык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ерирует звуками, которые образуются при использовании электронных технологий и электромеханических музыкальных инструментов. Примерами электромеханических музыкальных инструментов могут служить телармониум, орган Хаммонда и электрогитара. Чистый электронный звук получают, применяя такие инструменты как терменвокс, синтезатор и компьют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248520" y="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0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6600ff"/>
                </a:solidFill>
                <a:latin typeface="Arial"/>
              </a:rPr>
              <a:t>Цели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Закрепить и обобщить знания о музыке своего народа и музыке разных народов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Воспитывать любовь к музыке на основе эмоционального восприятия муз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Развивать музыкальную память, кругозор, образное мыш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Фолькло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600200"/>
            <a:ext cx="849636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Фольклор» - народное творч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Fol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 - народ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lor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 - уч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folklor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 - народная мудр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«Жанр русской народной музы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ая народная музыка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берёт начало в фольклоре славянских племён, живших на территории Киевской Рус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этнический состав населения был очень разнородным, русская музыка включала в себя, кроме славянских, также финно-угорские, тюркские и другие прототипы. Народная музыка была больше песенной, чем инструментальной; исполнялись част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ные инструменты в фольклоре используются обычно в быту пастухов или для некоторых видов танцев и песен. Наиболее распространены: струнные инструменты (балалайка, гудок, гусли), духовые инструменты (дудка, жалейка, рожок, кугиклы или флейта Пана). В летописях упоминаются: военные трубы, охотничьи рога, бубны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«Русский народный ансамбл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6600ff"/>
                </a:solidFill>
                <a:latin typeface="Arial"/>
              </a:rPr>
              <a:t>«Жанр классической музыки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лассическая музык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 — свободное от терминологической строгости понятие, употребляющееся, в зависимости от контекста, в различных значениях, имеющее вполне определённый исторический смысл и менее определённый оценочны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3348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«Жанр камерной музы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Камер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вокальная или инструментальная музыка для солиста или небольшого состава исполнителей (камерных) –  хора, ансамбля, оркестра, выступающих на небольших концертных площадках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594360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0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«Симфоническая музы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оническая музы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онятие, характеризующее и объединяющее широкий спектр музыкальных форм и жанров, которые обладают специфическими признаками, атрибутивными свойствами и важнейшими внутренними качествами симфо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роизведени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ставляющим обширный репертуар мировой симфонической музыки, могут быть отнесены сочинения самых различных форм и жанров: симфонии, симфониетты, оперные, сюиты балетные, концерты, симфонические поэмы, фантазии, рапсодии, легенды, каприччио, скерцо, различные симфонические танцы, вариации, попур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имфонический оркес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1:56:17Z</dcterms:created>
  <dc:creator>1</dc:creator>
  <dc:description/>
  <dc:language>en-US</dc:language>
  <cp:lastModifiedBy/>
  <dcterms:modified xsi:type="dcterms:W3CDTF">2023-02-06T07:17:22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