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36A-0493-4734-B134-AA115460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F17-6CF8-41F4-A572-25B8EBEE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61D-A2E9-4005-8FD4-CD3DAD73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B7C3-E7A8-42DF-BF8A-D1DD845A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ABD-5307-4D93-B25D-82846644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134-28AB-4F91-A98D-159A95B8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424-1E2C-44FF-A9E4-016E96D7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AF5-B019-4B0A-8580-96020D09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17E-F82A-4A6B-8082-E9F2E9CB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3B9-2B86-43BB-B76C-78A3BCC7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EEE-4C78-483C-A012-22CE51CD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EB7-19B7-4A7F-9692-F10868B2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AD3E96-181C-42CA-A127-49AD0DE0A5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14600" y="1599840"/>
            <a:ext cx="601992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Музыка своего народа и  различные жанры народов ми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1 квалификацио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тегории Дейнега Н. А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«Жанр джазовой музы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жа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англ.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az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 — форма музыкального искусства, возникшая в конце XIX — начале XX века в США в результате синтеза африканской и европейской культур и получившая впоследствии повсеместное распростране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86200" y="3276720"/>
            <a:ext cx="4876920" cy="336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«Жанр поп музы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655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-музы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англ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pop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ular musi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— направление современной музыки, вид современной массовой куль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отдельным жанром популярной музыки и самым популярным направлением в современной музы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-музыка включает в себя такие поджанры, как европоп, латина, диско, синтипоп, танцевальная музыка и друг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599160" y="0"/>
            <a:ext cx="254484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«Жанр рок-музы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5715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Рок-музыка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 (англ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Rock music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 — обобщающее название ряда направлений популярной музык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ок-музыка имеет большое количество направлений: от достаточно «лёгких» жанров, таких как танцевальный рок-н-ролл, поп-рок, брит-поп, до брутальных и агрессивных жанров - дэт-метала и грайндкора. 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3122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«Жанр электронной музы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6324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музык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широкий музыкальный жанр, обозначающий музыку, созданную с использованием электронных музыкальных инструментов и технологи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SzPct val="102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музык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ерирует звуками, которые образуются при использовании электронных технологий и электромеханических музыкальных инструментов. Примерами электромеханических музыкальных инструментов могут служить телармониум, орган Хаммонда и электрогитара. Чистый электронный звук получают, применяя такие инструменты как терменвокс, синтезатор и компьют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248520" y="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6600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0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6600ff"/>
                </a:solidFill>
                <a:latin typeface="Arial"/>
              </a:rPr>
              <a:t>Цели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Закрепить и обобщить знания о музыке своего народа и музыке разных народов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Воспитывать любовь к музыке на основе эмоционального восприятия музы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Arial"/>
              </a:rPr>
              <a:t>Развивать музыкальную память, кругозор, образное мыш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Фолькло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600200"/>
            <a:ext cx="849636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Фольклор» - народное творч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Folk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 - народ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lor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 - уч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folklor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 - народная мудр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«Жанр русской народной музы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ая народная музыка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берёт начало в фольклоре славянских племён, живших на территории Киевской Рус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этнический состав населения был очень разнородным, русская музыка включала в себя, кроме славянских, также финно-угорские, тюркские и другие прототипы. Народная музыка была больше песенной, чем инструментальной; исполнялись част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ные инструменты в фольклоре используются обычно в быту пастухов или для некоторых видов танцев и песен. Наиболее распространены: струнные инструменты (балалайка, гудок, гусли), духовые инструменты (дудка, жалейка, рожок, кугиклы или флейта Пана). В летописях упоминаются: военные трубы, охотничьи рога, бубны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«Русский народный ансамбл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500" spc="-1" strike="noStrike">
                <a:solidFill>
                  <a:srgbClr val="6600ff"/>
                </a:solidFill>
                <a:latin typeface="Arial"/>
              </a:rPr>
              <a:t>«Жанр классической музыки»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лассическая музык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 — свободное от терминологической строгости понятие, употребляющееся, в зависимости от контекста, в различных значениях, имеющее вполне определённый исторический смысл и менее определённый оценочны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5029200" cy="3348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«Жанр камерной музы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Камер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вокальная или инструментальная музыка для солиста или небольшого состава исполнителей (камерных) –  хора, ансамбля, оркестра, выступающих на небольших концертных площадках</a:t>
            </a: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594360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0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Arial"/>
              </a:rPr>
              <a:t>«Симфоническая музы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оническая музы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понятие, характеризующее и объединяющее широкий спектр музыкальных форм и жанров, которые обладают специфическими признаками, атрибутивными свойствами и важнейшими внутренними качествами симфо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роизведени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ставляющим обширный репертуар мировой симфонической музыки, могут быть отнесены сочинения самых различных форм и жанров: симфонии, симфониетты, оперные, сюиты балетные, концерты, симфонические поэмы, фантазии, рапсодии, легенды, каприччио, скерцо, различные симфонические танцы, вариации, попур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6b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имфонический оркес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1:56:17Z</dcterms:created>
  <dc:creator>1</dc:creator>
  <dc:description/>
  <dc:language>en-US</dc:language>
  <cp:lastModifiedBy/>
  <dcterms:modified xsi:type="dcterms:W3CDTF">2023-02-06T07:17:22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