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477-2887-403E-AA71-E9E24501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92E-466A-457D-9B5A-FDEC6C9D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EBF-220E-409F-992C-B636A612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64B-0884-4EDB-9BC9-3F220027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B390-C67A-4E92-984C-708056E2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BE57-F136-49AE-A635-9A9B34C1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5731-6CC4-4DEF-8723-6B83B485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D853-91B6-4B94-82A6-418D49FD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D592-EE99-4E42-BF8B-F639D535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AA0D-A710-4425-A27C-8976A766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E3ED-2EA4-47A7-9F23-C6BD53BE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D25-9A66-49AF-9348-07E1B4E5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EFE8-5D83-48AE-BA42-FFFB8991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4B70-98A5-4E47-A0D7-08F97514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7CC0-43B9-4F07-9E3A-88F80013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50FA-E32E-4FAE-9FBD-36888CBE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6EDE-E7BB-4BB4-9FF1-86272C14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F20E4-D7F1-44B1-B273-98C890E9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2F85A-E2BF-4CE9-92D9-11CACE87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39AB-C46E-42C3-A600-654FDF9E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14AB-B464-44AC-8DF6-3BE2C8C3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B0F4-26CF-4CA1-9CF0-E9BDA68A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A64-6D49-4073-A6DD-E72D78B7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3929-0521-4AFF-AEDF-AD478786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D4FF1-11D0-485E-8F26-9A674719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11FBD-3DE9-44C6-BCE9-D97EC522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42E3-6543-48B9-A54D-18565DA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DF0D-8E0F-4225-B7D8-04F02F72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390E-2BFE-443D-9D1A-0A7B5343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BA193-DFA0-4189-8284-C3D040155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FC0-0872-45DB-A492-8CAADF4C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DF35-3467-4C09-895F-FB451BEC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43D-CD53-4DBD-BFD3-5EAED786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CB0-3BEB-44E6-94B5-FFC65E6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1F4-B616-446E-911E-164FD06A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29D-0CA2-4A87-A71E-357EC9F6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F631-070B-4070-9F00-7682934C48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4C1E-859B-4E4E-BA7B-414993945C9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C67F-FBD5-4246-8273-D4B5E3571484}" type="slidenum">
              <a:rPr b="1" lang="ru-RU" sz="10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interneturok.ru/lesson/informatika/5-klass/osnovy-raboty-s-tekstovoy-informatsiey/tekst-kak-forma-predstavleniya-informatsii-chast-2-tekstovyy-dokument-tekstovyy-redaktor" TargetMode="External"/><Relationship Id="rId2" Type="http://schemas.openxmlformats.org/officeDocument/2006/relationships/hyperlink" Target="https://file.11klasov.net/8553-informatika-uchebnik-dlja-5-klassa-bosova-ll.html" TargetMode="External"/><Relationship Id="rId3" Type="http://schemas.openxmlformats.org/officeDocument/2006/relationships/hyperlink" Target="https://obrazovanie-gid.ru/soobscheniya/soobschenie-o-tekstovom-redaktore-5-klass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15880" y="249660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Times New Roman"/>
              </a:rPr>
              <a:t>Текстовый редактор. Правила набора текста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114720" y="639720"/>
            <a:ext cx="31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 класс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Информатика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3406680" y="5249880"/>
            <a:ext cx="5367600" cy="1068840"/>
          </a:xfrm>
          <a:prstGeom prst="rect">
            <a:avLst/>
          </a:prstGeom>
          <a:gradFill rotWithShape="0">
            <a:gsLst>
              <a:gs pos="0">
                <a:srgbClr val="00728b"/>
              </a:gs>
              <a:gs pos="100000">
                <a:srgbClr val="009abb"/>
              </a:gs>
            </a:gsLst>
            <a:lin ang="16200000"/>
          </a:gradFill>
          <a:ln w="9360">
            <a:solidFill>
              <a:srgbClr val="0c8c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Автор презентации: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Courier New"/>
                <a:ea typeface="Courier New"/>
              </a:rPr>
              <a:t>Попов Д.С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2323440" y="2006640"/>
            <a:ext cx="479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Monotype Corsiva"/>
                <a:ea typeface="Arial"/>
              </a:rPr>
              <a:t>27 февраля</a:t>
            </a: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Monotype Corsiva"/>
                <a:ea typeface="Arial"/>
              </a:rPr>
              <a:t>Дистанционное обучение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Заголовок 1"/>
          <p:cNvSpPr/>
          <p:nvPr/>
        </p:nvSpPr>
        <p:spPr>
          <a:xfrm>
            <a:off x="0" y="455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Запуск программы Блокнот</a:t>
            </a:r>
            <a:endParaRPr b="0" lang="en-US" sz="4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0" name="Picture 2" descr="Текстовые редакторы и их особенности - 5 КЛАСС"/>
          <p:cNvPicPr/>
          <p:nvPr/>
        </p:nvPicPr>
        <p:blipFill>
          <a:blip r:embed="rId1"/>
          <a:stretch/>
        </p:blipFill>
        <p:spPr>
          <a:xfrm>
            <a:off x="7813800" y="558720"/>
            <a:ext cx="1022400" cy="10224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504720" y="1800360"/>
            <a:ext cx="823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</a:rPr>
              <a:t>После запуска мы видим пустое окно редактора. В нем в рабочее поле можно ввести текст с клавиатуры. Если мы хотим изменить шрифт, размер или начертание части текста, то нам необходимо выделить нужную часть текста, а затем выполнить команду </a:t>
            </a:r>
            <a:r>
              <a:rPr b="0" i="1" lang="ru-RU" sz="1800" spc="-1" strike="noStrike">
                <a:solidFill>
                  <a:srgbClr val="000033"/>
                </a:solidFill>
                <a:latin typeface="Times New Roman"/>
              </a:rPr>
              <a:t>Формат – Шрифт</a:t>
            </a:r>
            <a:r>
              <a:rPr b="0" lang="ru-RU" sz="1800" spc="-1" strike="noStrike">
                <a:solidFill>
                  <a:srgbClr val="000033"/>
                </a:solidFill>
                <a:latin typeface="Times New Roman"/>
              </a:rPr>
              <a:t>. После выполнения этой команды появляется окно, в котором можно вносить изменения. Когда вы выбрали нужный шрифт, начертание и размер, нужно нажать на кнопку ОК.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2" name="Picture 2" descr="Текстовые редакторы и их особенности - 5 КЛАСС"/>
          <p:cNvPicPr/>
          <p:nvPr/>
        </p:nvPicPr>
        <p:blipFill>
          <a:blip r:embed="rId2"/>
          <a:stretch/>
        </p:blipFill>
        <p:spPr>
          <a:xfrm>
            <a:off x="2543040" y="3581280"/>
            <a:ext cx="355932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В чем заключается преимущество создания текстового документа с помощью компьютера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819000" y="2274840"/>
            <a:ext cx="768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Быстро и просто вносятся изменения в текст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Можно делать сколько угодно исправлений; они будут абсолютно незаметны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Можно сделать сколько угодно копий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Можно вставлять в текст рисунки, схемы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Можно сохранять текст в памяти компьютера и использовать его в дальнейшем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82948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решения более сложных задач, например, создания или оформления рассказов, статей, которые содержат такие элементы, как надписи, таблицы, рисунки, схемы, используют более сложные и мощные текстовые редакторы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кстовые процессо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Apple iWork pages, LaTeX, Microsoft Word, OpenOffi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https://static-interneturok.cdnvideo.ru/content/konspekt_image/364008/5a628e6fa31bb204134aba93ec1ca156.jpg"/>
          <p:cNvPicPr/>
          <p:nvPr/>
        </p:nvPicPr>
        <p:blipFill>
          <a:blip r:embed="rId1"/>
          <a:stretch/>
        </p:blipFill>
        <p:spPr>
          <a:xfrm>
            <a:off x="4541760" y="3933720"/>
            <a:ext cx="428472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Основные правила 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набора текста на компьютере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22400" y="1743120"/>
            <a:ext cx="88977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исьменно ответь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666720" y="1814400"/>
            <a:ext cx="799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Что такое текст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Что такое текстовый редактор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Какие текстовые редакторы ты знаешь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Из чего состоит среда текстового редактора Блокнот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Как называются программы, которые используются для создания или оформления статей, рассказов и т.д.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Напишите 5-7 правил набора текста на компьютере, которые вы считаете основными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666720" y="1814400"/>
            <a:ext cx="79916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3200" spc="-1" strike="noStrike">
                <a:solidFill>
                  <a:srgbClr val="000033"/>
                </a:solidFill>
                <a:latin typeface="Times New Roman"/>
                <a:ea typeface="Arial"/>
              </a:rPr>
              <a:t>Напиши эссе на тему </a:t>
            </a:r>
            <a:br>
              <a:rPr sz="3200"/>
            </a:br>
            <a:r>
              <a:rPr b="1" i="1" lang="ru-RU" sz="3200" spc="-1" strike="noStrike">
                <a:solidFill>
                  <a:srgbClr val="000033"/>
                </a:solidFill>
                <a:latin typeface="Times New Roman"/>
                <a:ea typeface="Arial"/>
              </a:rPr>
              <a:t>«Как бы я усовершенствовал </a:t>
            </a:r>
            <a:br>
              <a:rPr sz="3200"/>
            </a:br>
            <a:r>
              <a:rPr b="1" i="1" lang="ru-RU" sz="3200" spc="-1" strike="noStrike">
                <a:solidFill>
                  <a:srgbClr val="000033"/>
                </a:solidFill>
                <a:latin typeface="Times New Roman"/>
                <a:ea typeface="Arial"/>
              </a:rPr>
              <a:t>текстовый редактор Блокнот?» 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ыполненные работы отправить на электронную почту учителя до 06.03.2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Заголовок 1"/>
          <p:cNvSpPr/>
          <p:nvPr/>
        </p:nvSpPr>
        <p:spPr>
          <a:xfrm>
            <a:off x="361800" y="3772080"/>
            <a:ext cx="82296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Удачи в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ыполнении работы!</a:t>
            </a:r>
            <a:endParaRPr b="0" lang="en-US" sz="4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Использованные ресурсы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542880" y="1957320"/>
            <a:ext cx="817236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s://interneturok.ru/lesson/informatika/5-klass/osnovy-raboty-s-tekstovoy-informatsiey/tekst-kak-forma-predstavleniya-informatsii-chast-2-tekstovyy-dokument-tekstovyy-redakto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Times New Roman"/>
                <a:hlinkClick r:id="rId2"/>
              </a:rPr>
              <a:t>https://file.11klasov.net/8553-informatika-uchebnik-dlja-5-klassa-bosova-ll.htm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Times New Roman"/>
                <a:hlinkClick r:id="rId3"/>
              </a:rPr>
              <a:t>https://obrazovanie-gid.ru/soobscheniya/soobschenie-o-tekstovom-redaktore-5-klass.htm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помним, что такое текс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638280" y="1566720"/>
            <a:ext cx="80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Текст 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 это любое текстовое высказывание,     </a:t>
            </a:r>
            <a:br>
              <a:rPr sz="2800"/>
            </a:b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              напечатанное, написанное или </a:t>
            </a:r>
            <a:br>
              <a:rPr sz="2800"/>
            </a:b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              существующее в устной форме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28560" y="3529080"/>
            <a:ext cx="794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Информация, представленная в форме письменного текста, называется 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текстовой информацией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0520" y="866880"/>
            <a:ext cx="8894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48840" cy="63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текстов – одна из самых распространённых сфер применения компьютеро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юбом компьютере установлены программы, предназначенные для создания текстов – 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кстовые редакто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2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Текстовые редакто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– это программы для создания, редактирования, форматирования и организации печати текстовых докумен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овый редактор – очень простая программа для работы с текстом. Рассмотрим более подробно текстовый редактор 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но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Текстовые редакторы и их особенности - 5 КЛАСС"/>
          <p:cNvPicPr/>
          <p:nvPr/>
        </p:nvPicPr>
        <p:blipFill>
          <a:blip r:embed="rId1"/>
          <a:stretch/>
        </p:blipFill>
        <p:spPr>
          <a:xfrm>
            <a:off x="4476600" y="3095640"/>
            <a:ext cx="154944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"/>
          <p:cNvSpPr/>
          <p:nvPr/>
        </p:nvSpPr>
        <p:spPr>
          <a:xfrm>
            <a:off x="447840" y="4800600"/>
            <a:ext cx="783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33"/>
                </a:solidFill>
                <a:latin typeface="Times New Roman"/>
                <a:ea typeface="Arial"/>
              </a:rPr>
              <a:t>Данный редактор является стандартным приложением операционной системы Windows. Он удобен для создания небольших сообщений и текстов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5400" y="55224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ассмотрим подробнее среду текстового редактора Блокнот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Picture 2" descr="Текстовые редакторы и их особенности - 5 КЛАСС"/>
          <p:cNvPicPr/>
          <p:nvPr/>
        </p:nvPicPr>
        <p:blipFill>
          <a:blip r:embed="rId1"/>
          <a:stretch/>
        </p:blipFill>
        <p:spPr>
          <a:xfrm>
            <a:off x="6261120" y="692280"/>
            <a:ext cx="1022400" cy="1022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Текстовые редакторы и их особенности - 5 КЛАСС"/>
          <p:cNvPicPr/>
          <p:nvPr/>
        </p:nvPicPr>
        <p:blipFill>
          <a:blip r:embed="rId2"/>
          <a:stretch/>
        </p:blipFill>
        <p:spPr>
          <a:xfrm>
            <a:off x="1454040" y="1973160"/>
            <a:ext cx="6489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520" y="59976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еда текстового редактора 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локнот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 состоит из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Picture 2" descr="Текстовые редакторы и их особенности - 5 КЛАСС"/>
          <p:cNvPicPr/>
          <p:nvPr/>
        </p:nvPicPr>
        <p:blipFill>
          <a:blip r:embed="rId1"/>
          <a:stretch/>
        </p:blipFill>
        <p:spPr>
          <a:xfrm>
            <a:off x="7813800" y="558720"/>
            <a:ext cx="1022400" cy="10224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4"/>
          <p:cNvSpPr/>
          <p:nvPr/>
        </p:nvSpPr>
        <p:spPr>
          <a:xfrm>
            <a:off x="704880" y="2251080"/>
            <a:ext cx="786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Строки названия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Строки меню команд (команды: </a:t>
            </a:r>
            <a:r>
              <a:rPr b="0" i="1" lang="ru-RU" sz="2400" spc="-1" strike="noStrike">
                <a:solidFill>
                  <a:srgbClr val="000033"/>
                </a:solidFill>
                <a:latin typeface="Times New Roman"/>
              </a:rPr>
              <a:t>Файл, Правка, Формат, Вид, Справка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Рабочего поля (где введен текст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Кнопок, с помощью которых можно свернуть, изменить размер рабочего окна или закрыть текстовый редактор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Полос прокрутки (вертикальной и горизонтальной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1"/>
          <p:cNvSpPr/>
          <p:nvPr/>
        </p:nvSpPr>
        <p:spPr>
          <a:xfrm>
            <a:off x="0" y="455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Запуск программы Блокнот</a:t>
            </a:r>
            <a:endParaRPr b="0" lang="en-US" sz="4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57" name="Picture 2" descr="Текстовые редакторы и их особенности - 5 КЛАСС"/>
          <p:cNvPicPr/>
          <p:nvPr/>
        </p:nvPicPr>
        <p:blipFill>
          <a:blip r:embed="rId1"/>
          <a:stretch/>
        </p:blipFill>
        <p:spPr>
          <a:xfrm>
            <a:off x="7813800" y="558720"/>
            <a:ext cx="1022400" cy="10224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5"/>
          <p:cNvSpPr/>
          <p:nvPr/>
        </p:nvSpPr>
        <p:spPr>
          <a:xfrm>
            <a:off x="514440" y="2409840"/>
            <a:ext cx="823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33"/>
                </a:solidFill>
                <a:latin typeface="Times New Roman"/>
              </a:rPr>
              <a:t>Для запуска программы </a:t>
            </a:r>
            <a:r>
              <a:rPr b="1" lang="ru-RU" sz="3600" spc="-1" strike="noStrike">
                <a:solidFill>
                  <a:srgbClr val="000033"/>
                </a:solidFill>
                <a:latin typeface="Times New Roman"/>
              </a:rPr>
              <a:t>Блокнот</a:t>
            </a:r>
            <a:r>
              <a:rPr b="0" lang="ru-RU" sz="3600" spc="-1" strike="noStrike">
                <a:solidFill>
                  <a:srgbClr val="000033"/>
                </a:solidFill>
                <a:latin typeface="Times New Roman"/>
              </a:rPr>
              <a:t> необходимо выполнить команду 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уск – Программы –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тандартные – Блокнот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3-02-06T17:25:45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