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0B0-A92F-4919-939E-06EA03A8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4F8-6098-4043-80D2-3E109AB3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C05-72C6-4B04-9047-6B5A1305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82A-B436-432D-BE3E-CB571AB7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BB38-7A8B-4D1E-83C9-680A2C74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798C-D95C-4C3D-9694-A808FC1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D9CB-BE0C-4245-B521-2570E737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BFDA-D9C8-40C3-B4DE-FB3F8B02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BDC7-5BAD-4E20-B70B-F3C39588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12F9-BF8E-4BE3-990E-CDA92A9A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5F1E-9CE3-4404-88EA-FB50A8FE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532-FA40-4EFD-BFB2-08417E07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467C-9D47-44FD-97CD-5E31A1F6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F481-4751-41DC-AF63-0CEE1B2A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8116-04E5-447C-BE64-19CD1FAC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1FDB-7099-4589-A50C-05E05962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1B23-D2CB-45AE-A462-CE41EFC7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AF30-EDC2-46E5-A4CB-FBFA8F77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6A77-8ACD-40DD-BEAD-9916571D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7431-C124-4A18-9C3A-9CBDC978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7A7C-82B6-4EA4-AEA1-BE180A8E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F1A9-41D5-4624-964B-F5ADB8C1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684-7B87-493E-89C1-66C169B6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CC32-9EE2-4B9E-957F-3F312B69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FBE50-A366-465B-90ED-7CF0829E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E205-63FE-4587-9348-5386DC8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1B86-B50B-461A-A7AF-765D751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77B3-A419-4E5E-9E48-997D164E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F47E-17FC-47E5-A404-F424D848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BA3C-B81C-4090-988D-65CCB9D2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301-5C94-4174-BEFF-F470935A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A79-03B8-4572-BFE3-8B0C82DF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134-BFDA-46FD-9F58-E8703A3A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17B-9F85-4528-A640-2DF81A32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980-FA02-4EDC-8F39-E3651B8D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906-4D65-42B3-BACC-FD058621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B516-89A9-4EB1-BA5E-06673FEDF8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E7F7-C504-4288-A490-B50CCA6C43D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7669-DB1F-4C1F-A773-8578E0CE75C4}" type="slidenum">
              <a:rPr b="1" lang="ru-RU" sz="10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interneturok.ru/lesson/informatika/5-klass/osnovy-raboty-s-tekstovoy-informatsiey/tekst-kak-forma-predstavleniya-informatsii-chast-2-tekstovyy-dokument-tekstovyy-redaktor" TargetMode="External"/><Relationship Id="rId2" Type="http://schemas.openxmlformats.org/officeDocument/2006/relationships/hyperlink" Target="https://file.11klasov.net/8553-informatika-uchebnik-dlja-5-klassa-bosova-ll.html" TargetMode="External"/><Relationship Id="rId3" Type="http://schemas.openxmlformats.org/officeDocument/2006/relationships/hyperlink" Target="https://obrazovanie-gid.ru/soobscheniya/soobschenie-o-tekstovom-redaktore-5-klass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5880" y="249660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Times New Roman"/>
              </a:rPr>
              <a:t>Текстовый редактор. Правила набора текста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114720" y="639720"/>
            <a:ext cx="31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 класс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нформатика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3406680" y="5249880"/>
            <a:ext cx="5367600" cy="1068840"/>
          </a:xfrm>
          <a:prstGeom prst="rect">
            <a:avLst/>
          </a:prstGeom>
          <a:gradFill rotWithShape="0">
            <a:gsLst>
              <a:gs pos="0">
                <a:srgbClr val="00728b"/>
              </a:gs>
              <a:gs pos="100000">
                <a:srgbClr val="009abb"/>
              </a:gs>
            </a:gsLst>
            <a:lin ang="16200000"/>
          </a:gradFill>
          <a:ln w="9360">
            <a:solidFill>
              <a:srgbClr val="0c8c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Автор презентации: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Попов Д.С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2323440" y="2006640"/>
            <a:ext cx="479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Monotype Corsiva"/>
                <a:ea typeface="Arial"/>
              </a:rPr>
              <a:t>27 февраля</a:t>
            </a: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Monotype Corsiva"/>
                <a:ea typeface="Arial"/>
              </a:rPr>
              <a:t>Дистанционное обучение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Заголовок 1"/>
          <p:cNvSpPr/>
          <p:nvPr/>
        </p:nvSpPr>
        <p:spPr>
          <a:xfrm>
            <a:off x="0" y="455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Запуск программы Блокнот</a:t>
            </a:r>
            <a:endParaRPr b="0" lang="en-US" sz="4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0" name="Picture 2" descr="Текстовые редакторы и их особенности - 5 КЛАСС"/>
          <p:cNvPicPr/>
          <p:nvPr/>
        </p:nvPicPr>
        <p:blipFill>
          <a:blip r:embed="rId1"/>
          <a:stretch/>
        </p:blipFill>
        <p:spPr>
          <a:xfrm>
            <a:off x="7813800" y="558720"/>
            <a:ext cx="1022400" cy="10224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504720" y="1800360"/>
            <a:ext cx="823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</a:rPr>
              <a:t>После запуска мы видим пустое окно редактора. В нем в рабочее поле можно ввести текст с клавиатуры. Если мы хотим изменить шрифт, размер или начертание части текста, то нам необходимо выделить нужную часть текста, а затем выполнить команду 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</a:rPr>
              <a:t>Формат – Шрифт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</a:rPr>
              <a:t>. После выполнения этой команды появляется окно, в котором можно вносить изменения. Когда вы выбрали нужный шрифт, начертание и размер, нужно нажать на кнопку ОК.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2" name="Picture 2" descr="Текстовые редакторы и их особенности - 5 КЛАСС"/>
          <p:cNvPicPr/>
          <p:nvPr/>
        </p:nvPicPr>
        <p:blipFill>
          <a:blip r:embed="rId2"/>
          <a:stretch/>
        </p:blipFill>
        <p:spPr>
          <a:xfrm>
            <a:off x="2543040" y="3581280"/>
            <a:ext cx="35593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В чем заключается преимущество создания текстового документа с помощью компьютера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819000" y="2274840"/>
            <a:ext cx="768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Быстро и просто вносятся изменения в текст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Можно делать сколько угодно исправлений; они будут абсолютно незаметны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Можно сделать сколько угодно копий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Можно вставлять в текст рисунки, схемы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Можно сохранять текст в памяти компьютера и использовать его в дальнейшем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82948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шения более сложных задач, например, создания или оформления рассказов, статей, которые содержат такие элементы, как надписи, таблицы, рисунки, схемы, используют более сложные и мощные текстовые редакторы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кстовые процессо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Apple iWork pages, LaTeX, Microsoft Word, OpenOffi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s://static-interneturok.cdnvideo.ru/content/konspekt_image/364008/5a628e6fa31bb204134aba93ec1ca156.jpg"/>
          <p:cNvPicPr/>
          <p:nvPr/>
        </p:nvPicPr>
        <p:blipFill>
          <a:blip r:embed="rId1"/>
          <a:stretch/>
        </p:blipFill>
        <p:spPr>
          <a:xfrm>
            <a:off x="4541760" y="3933720"/>
            <a:ext cx="428472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Основные правила 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набора текста на компьютере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22400" y="1743120"/>
            <a:ext cx="88977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исьменно 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666720" y="1814400"/>
            <a:ext cx="799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Что такое текст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Что такое текстовый редактор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Какие текстовые редакторы ты знаешь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Из чего состоит среда текстового редактора Блокнот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Как называются программы, которые используются для создания или оформления статей, рассказов и т.д.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Напишите 5-7 правил набора текста на компьютере, которые вы считаете основными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666720" y="1814400"/>
            <a:ext cx="79916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0033"/>
                </a:solidFill>
                <a:latin typeface="Times New Roman"/>
                <a:ea typeface="Arial"/>
              </a:rPr>
              <a:t>Напиши эссе на тему </a:t>
            </a:r>
            <a:br>
              <a:rPr sz="3200"/>
            </a:br>
            <a:r>
              <a:rPr b="1" i="1" lang="ru-RU" sz="3200" spc="-1" strike="noStrike">
                <a:solidFill>
                  <a:srgbClr val="000033"/>
                </a:solidFill>
                <a:latin typeface="Times New Roman"/>
                <a:ea typeface="Arial"/>
              </a:rPr>
              <a:t>«Как бы я усовершенствовал </a:t>
            </a:r>
            <a:br>
              <a:rPr sz="3200"/>
            </a:br>
            <a:r>
              <a:rPr b="1" i="1" lang="ru-RU" sz="3200" spc="-1" strike="noStrike">
                <a:solidFill>
                  <a:srgbClr val="000033"/>
                </a:solidFill>
                <a:latin typeface="Times New Roman"/>
                <a:ea typeface="Arial"/>
              </a:rPr>
              <a:t>текстовый редактор Блокнот?» 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ыполненные работы отправить на электронную почту учителя до 06.03.2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361800" y="3772080"/>
            <a:ext cx="82296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Удачи в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ыполнении работы!</a:t>
            </a:r>
            <a:endParaRPr b="0" lang="en-US" sz="4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Использованные ресурсы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542880" y="1957320"/>
            <a:ext cx="817236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s://interneturok.ru/lesson/informatika/5-klass/osnovy-raboty-s-tekstovoy-informatsiey/tekst-kak-forma-predstavleniya-informatsii-chast-2-tekstovyy-dokument-tekstovyy-redakto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https://file.11klasov.net/8553-informatika-uchebnik-dlja-5-klassa-bosova-ll.htm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Times New Roman"/>
                <a:hlinkClick r:id="rId3"/>
              </a:rPr>
              <a:t>https://obrazovanie-gid.ru/soobscheniya/soobschenie-o-tekstovom-redaktore-5-klass.htm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помним, что такое текс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638280" y="1566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Текст 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 это любое текстовое высказывание,     </a:t>
            </a:r>
            <a:br>
              <a:rPr sz="2800"/>
            </a:b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              напечатанное, написанное или </a:t>
            </a:r>
            <a:br>
              <a:rPr sz="2800"/>
            </a:b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              существующее в устной форме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28560" y="3529080"/>
            <a:ext cx="794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Информация, представленная в форме письменного текста, называется 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текстовой информацией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0520" y="866880"/>
            <a:ext cx="8894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4884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текстов – одна из самых распространённых сфер применения компьютеро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юбом компьютере установлены программы, предназначенные для создания текстов – 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кстовые редакто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2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Текстовые редакто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– это программы для создания, редактирования, форматирования и организации печати текстовых доку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овый редактор – очень простая программа для работы с текстом. Рассмотрим более подробно текстовый редактор 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но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Текстовые редакторы и их особенности - 5 КЛАСС"/>
          <p:cNvPicPr/>
          <p:nvPr/>
        </p:nvPicPr>
        <p:blipFill>
          <a:blip r:embed="rId1"/>
          <a:stretch/>
        </p:blipFill>
        <p:spPr>
          <a:xfrm>
            <a:off x="4476600" y="3095640"/>
            <a:ext cx="154944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447840" y="4800600"/>
            <a:ext cx="78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Данный редактор является стандартным приложением операционной системы Windows. Он удобен для создания небольших сообщений и текстов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5400" y="55224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ассмотрим подробнее среду текстового редактора Блокнот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2" descr="Текстовые редакторы и их особенности - 5 КЛАСС"/>
          <p:cNvPicPr/>
          <p:nvPr/>
        </p:nvPicPr>
        <p:blipFill>
          <a:blip r:embed="rId1"/>
          <a:stretch/>
        </p:blipFill>
        <p:spPr>
          <a:xfrm>
            <a:off x="6261120" y="692280"/>
            <a:ext cx="1022400" cy="1022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Текстовые редакторы и их особенности - 5 КЛАСС"/>
          <p:cNvPicPr/>
          <p:nvPr/>
        </p:nvPicPr>
        <p:blipFill>
          <a:blip r:embed="rId2"/>
          <a:stretch/>
        </p:blipFill>
        <p:spPr>
          <a:xfrm>
            <a:off x="1454040" y="1973160"/>
            <a:ext cx="6489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520" y="59976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еда текстового редактора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локнот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 состоит из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Picture 2" descr="Текстовые редакторы и их особенности - 5 КЛАСС"/>
          <p:cNvPicPr/>
          <p:nvPr/>
        </p:nvPicPr>
        <p:blipFill>
          <a:blip r:embed="rId1"/>
          <a:stretch/>
        </p:blipFill>
        <p:spPr>
          <a:xfrm>
            <a:off x="7813800" y="558720"/>
            <a:ext cx="1022400" cy="10224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4"/>
          <p:cNvSpPr/>
          <p:nvPr/>
        </p:nvSpPr>
        <p:spPr>
          <a:xfrm>
            <a:off x="704880" y="2251080"/>
            <a:ext cx="786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Строки названия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Строки меню команд (команды: </a:t>
            </a:r>
            <a:r>
              <a:rPr b="0" i="1" lang="ru-RU" sz="2400" spc="-1" strike="noStrike">
                <a:solidFill>
                  <a:srgbClr val="000033"/>
                </a:solidFill>
                <a:latin typeface="Times New Roman"/>
              </a:rPr>
              <a:t>Файл, Правка, Формат, Вид, Справка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Рабочего поля (где введен текст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Кнопок, с помощью которых можно свернуть, изменить размер рабочего окна или закрыть текстовый редактор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Полос прокрутки (вертикальной и горизонтальной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1"/>
          <p:cNvSpPr/>
          <p:nvPr/>
        </p:nvSpPr>
        <p:spPr>
          <a:xfrm>
            <a:off x="0" y="455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Запуск программы Блокнот</a:t>
            </a:r>
            <a:endParaRPr b="0" lang="en-US" sz="4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57" name="Picture 2" descr="Текстовые редакторы и их особенности - 5 КЛАСС"/>
          <p:cNvPicPr/>
          <p:nvPr/>
        </p:nvPicPr>
        <p:blipFill>
          <a:blip r:embed="rId1"/>
          <a:stretch/>
        </p:blipFill>
        <p:spPr>
          <a:xfrm>
            <a:off x="7813800" y="558720"/>
            <a:ext cx="1022400" cy="10224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5"/>
          <p:cNvSpPr/>
          <p:nvPr/>
        </p:nvSpPr>
        <p:spPr>
          <a:xfrm>
            <a:off x="514440" y="2409840"/>
            <a:ext cx="823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33"/>
                </a:solidFill>
                <a:latin typeface="Times New Roman"/>
              </a:rPr>
              <a:t>Для запуска программы </a:t>
            </a:r>
            <a:r>
              <a:rPr b="1" lang="ru-RU" sz="3600" spc="-1" strike="noStrike">
                <a:solidFill>
                  <a:srgbClr val="000033"/>
                </a:solidFill>
                <a:latin typeface="Times New Roman"/>
              </a:rPr>
              <a:t>Блокнот</a:t>
            </a:r>
            <a:r>
              <a:rPr b="0" lang="ru-RU" sz="3600" spc="-1" strike="noStrike">
                <a:solidFill>
                  <a:srgbClr val="000033"/>
                </a:solidFill>
                <a:latin typeface="Times New Roman"/>
              </a:rPr>
              <a:t> необходимо выполнить команду 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уск – Программы –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тандартные – Блокнот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3-02-06T17:25:45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