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A85-1202-46AA-BA15-11F1B6A6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DEF-E866-4A5C-89DF-AF574D93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BD3AD-5412-4EBC-9D19-B917D689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C2D19-22A9-429B-B5C7-CC305F88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5A56D-C12B-419C-AE18-C76110E3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0AA5B-4958-4DE1-B8B5-D46478B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0BA9C-E421-47D4-9A00-D83297E2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D1A5E-0734-43DF-92C2-C66C1118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857F7-FC17-478A-A9C6-E288BDDC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7C5D2-B29D-416F-B043-88F5CA62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9A00A-88CB-4A05-9B8A-5502E83C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4855-074B-4B48-9B01-1210221D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556-B4FD-4522-AAAC-0052367B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A998D-0EA0-4B3D-B6B2-CF7E5FC0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CCC4D-28A4-439F-B0B4-9C9CAF2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80D6D-416C-4CDB-8730-3A584FAC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0C764-CE66-400C-BCEB-DB09265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4D69-0719-4169-8ACA-717FDD6B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C8ABD-6B04-408F-88AC-ADA09AD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7B9E4-B213-45F9-992D-26F6B5A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28659-C8B5-4772-A3FB-BA0A3EC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90074-BB34-44AC-A2F4-F24F9463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B7159-870C-4369-A01D-DF459CA8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79B-F2C2-4B5E-A935-99D82DA5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5E75F-D4D4-44B5-A0D1-4A57370F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9A1A6-DC60-4E88-B36A-EBF84084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90F55-15A0-47D1-8CD1-D497FAE8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B4750-BD8A-4459-8706-C8059317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C7A93-7BE4-4A86-A064-5C32DD91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70D65-9578-400D-9901-A5375F2E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154C5-6A44-4715-8277-9DF0A82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1F1D8-7825-4EB4-8451-2369A1D7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A0730-AF52-4EDC-8E25-78A20F3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0EDC-AD9B-48DF-B75D-FE88998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35EB-4425-4A85-8ABD-149B2CC1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CF41B-922F-4EBB-9456-9B2814F9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BCD37-566E-406A-A7EC-40D02EA1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FD256-6A3B-43A2-8004-CAF8323A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D9E30-642C-4787-B905-10940F41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63C11-199B-4181-9998-7DAAC5C0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A4822-5CDC-4F4D-9146-CA0070F7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FD92D-AF22-49D5-8C3B-3CC5F873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D8804-512A-4431-A951-441E796A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C3FC1-6452-460C-8025-FB28E18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DC89B-9D5A-4D94-815E-A7CFE0E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D9FA-2C8E-4E4C-896C-CEEEAA3F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54D9C-7550-4C06-814C-E4C3AE9D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FBD63-8201-47F1-A691-5F88A11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5263D-BA3D-49D4-9A07-7B3EB23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361BA-0FC3-402B-B433-5F448413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4184F-7594-4748-815F-364CD74C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C199-293C-4E85-A288-A6958516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48B0-8ED4-4C10-8493-FBE59452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4E1F-FFA7-4557-A8FB-4E2A7683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C41D-81A8-434C-853F-D3C1BDDC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CA8C-5336-49D7-819D-E92085D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0258-1C97-46BF-983F-619FF45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3D9A-50CB-4EBB-912A-A1C1B58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6336-41BB-477E-A68D-5741D68F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A497-0219-4696-A33F-876A2A82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0FE0-9479-4A5B-BB76-F77CBB99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3C8E-D1A4-43C0-8485-C43F8632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95E82-ED52-4D65-859C-E5DA8645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EE128-33B6-46A1-A585-FF927177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A9EB7-10F2-4419-AD0E-72E7DEA7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9A35A-6F17-48A6-A59F-B64D5031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ABAB2-81B5-4F01-BE83-B7B4961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6DD-E1D9-4AF0-B072-B4CF49A1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F9ADB-2408-4983-86E3-C1B29CF5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147CE-B1B7-48A2-8AA9-879418DB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2439F-FA83-4EA2-8F19-C9D8DE1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52154-C599-4F7F-BF41-E05D1C53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59229-041E-4772-BA0F-C38F7EB2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E485E-3521-44EF-B4DE-78B4178F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2CB6C-1DC0-45A6-A1E0-F4FB8339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35B5F-4C4C-4C46-AC92-19BC0129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21683-E37E-4015-B636-6D3B8DC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7611A-D597-494B-9F4A-0CF5BF7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FE7-4879-4D78-98C1-5436479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B1D257-4B9A-4A4D-99DA-A74FF862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1B052-4902-4465-802F-E308964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68B559-1700-4181-A656-188A813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9639D-F12F-423B-83A5-199624D9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775FD-33DE-411F-9354-BD45E2F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8207D-7CEB-4966-855F-53B2E73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7B6BC4-40D1-4F20-98EA-5D8D24E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D41F3-1568-4BAB-B77F-EF76FD9F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784D2-6BD0-495C-AAFD-D42EA36A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C7E78-9F6D-47CA-BCD0-A7E6C4C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663-A3DA-4A7E-BC44-E09BCDDB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1E457-DBF9-44EE-BB02-33E8378D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99FE1-84B4-412E-BCBC-80176D5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AF0DC-58FB-4C20-97B4-A34A768A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813AC-CC75-470E-B86A-37C83E5E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6810D-6190-45C2-9AE4-AE1F4330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58050-2C9A-45EE-A1FD-B05BA88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16554-8EDB-4893-A4D9-823A639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B2992-E23E-4DCC-A1A5-7098A9B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C38A9-7E14-4AC6-B8E0-014FC22E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834F2-04EC-42AE-B94F-600EB4D8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F67-9597-473C-9958-A4FD3E01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2182B-5F83-4F66-A891-EB08D74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4012-5810-46CD-B7AF-65859E6E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54EF-B7D3-44C4-A322-E3F86139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9C494-C16F-4968-AC74-6AEEE71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0304-B180-4119-BDC4-6FC98787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E9D38-7737-49C3-B5CA-EFE7E379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5889B-F031-4BCE-BDCF-8314CD5D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8000-6B36-478F-8DA8-C91D5E5F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7EC1-8081-457A-BE1B-D14A704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7EEE4-5602-4C3A-AA6D-4B3F70A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5C1-1A23-4975-BFC5-1F6BC71E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B8093-6F39-4B90-8923-48227A46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763C-193A-4815-A21E-C80024E5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D25F-53C2-4290-906A-919FF256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E770B9-E3E3-421C-9986-BC8850C6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F64097-1DD9-491D-9B35-40C3939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D6D02-F9D7-4B79-95C9-200F1D7D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436052-5E1E-4E3D-BB9A-E548587F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D92F1-4A2C-41BC-B8B9-D02779D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6142E-96D7-4544-8C56-321AE8CE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573F7-B820-4F9D-823E-7FD9139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DA1-5C49-4A49-B1B1-4F1547C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96887-3600-4EF7-BAFD-EBCEF3B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B26D04-07C6-4DEA-97E2-FB4ECA0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DF744-A7E2-4301-9DBF-2F206DF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52B93-3750-4086-9522-18C0D5B3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37725-7FC0-473F-90D5-ABC404A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07E31-02FF-453A-906E-E8E77F87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77615-1862-4EB8-85A9-2275D8A6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3690-E3FC-40B5-8F37-42527A7B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6EE59-7105-4D07-9DD2-FD2717D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BD73F-E747-44F0-A4F0-F0AAA525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4BC-E315-4456-ABC4-CBADD738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EE85C-156E-49D9-A82B-FBB6ADDE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53816-CD1A-4D0E-A261-AAAF777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EFA3D-3230-4FB7-AC65-B59D3CBD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554E5-BA44-4DD1-96AA-829DE524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296D6-103B-4C32-8E20-3D71E7DE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766A5-F73A-40B3-9C80-821F3E93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5BBF6-4595-428E-A3C6-9F208DCA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2CEDE-1CD7-4BB4-ACC8-31A4B632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9B02B-2D36-4CD8-BC4C-ED53D803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78B75-F5CA-438D-86C1-BF34DBD5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157D-EC23-4FC7-956E-806E8335573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706E-A098-46B4-9078-147E9D84167F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EDD5-44F6-49BC-8631-28C69A34628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20C-3068-47F7-8DA9-4162E195479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A6D0-52D0-4811-8824-56110A98256F}" type="slidenum">
              <a:rPr b="1" lang="ru-RU" sz="1400" spc="-1" strike="noStrike">
                <a:solidFill>
                  <a:srgbClr val="dedee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A829-FF60-48CB-9247-E6487FBB1989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78B-3C98-4CF9-B89A-3C13BC20951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DE1A-4F46-42F0-B45A-284436B5CAF6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939D-AF98-4B61-B8B6-4E54DE8D8AA8}" type="slidenum">
              <a:rPr b="1" lang="ru-RU" sz="1400" spc="-1" strike="noStrike">
                <a:solidFill>
                  <a:srgbClr val="dedee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4DC8-BD59-49AA-819C-03D637166524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edee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FED-F8F1-406A-A3DE-41A97959B70B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ad010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72605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c956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8da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AD5-679E-44F9-8188-C7A67DC81C5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«Металлы и экология»      Обобщение знаний по теме металлы. Решение задач.</a:t>
            </a:r>
            <a:br>
              <a:rPr sz="3600"/>
            </a:br>
            <a:endParaRPr b="0" lang="en-US" sz="36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32000" y="2743200"/>
            <a:ext cx="4103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dee0"/>
                </a:solidFill>
                <a:latin typeface="Calibri"/>
              </a:rPr>
              <a:t>Урок подготовила учитель химии филиала «Карай-Салтыковский МБОУ «Красивская СОШ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dee0"/>
                </a:solidFill>
                <a:latin typeface="Calibri"/>
              </a:rPr>
              <a:t>Трегубова Е.Ю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8" name="Picture 2" descr="http://www.dv-reclama.ru/upload/iblock/c5b/ekolog_konkurs_2.jpg"/>
          <p:cNvPicPr/>
          <p:nvPr/>
        </p:nvPicPr>
        <p:blipFill>
          <a:blip r:embed="rId1"/>
          <a:stretch/>
        </p:blipFill>
        <p:spPr>
          <a:xfrm>
            <a:off x="108000" y="3068640"/>
            <a:ext cx="459576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Магний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Mg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агний необходим для поддержания структуры рибосом, нуклеиновых кислот и некоторых бел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н участвует в реакциях окислитель- ного фосфорилиро-вания, синтезе белка, обмене нуклеиновых кислот и липидов, в образовании богатых энергией фосфат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1" name="Picture 8" descr="20815"/>
          <p:cNvPicPr/>
          <p:nvPr/>
        </p:nvPicPr>
        <p:blipFill>
          <a:blip r:embed="rId1"/>
          <a:stretch/>
        </p:blipFill>
        <p:spPr>
          <a:xfrm>
            <a:off x="5627520" y="1600200"/>
            <a:ext cx="2308320" cy="2189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7" descr="5"/>
          <p:cNvPicPr/>
          <p:nvPr/>
        </p:nvPicPr>
        <p:blipFill>
          <a:blip r:embed="rId2"/>
          <a:stretch/>
        </p:blipFill>
        <p:spPr>
          <a:xfrm>
            <a:off x="8028000" y="1916280"/>
            <a:ext cx="1025640" cy="158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3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ддержание магния в организме около 42г. Повышенное количество его в оргнизме может вызвать наркотическое состояние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1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85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385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C:\Documents and Settings\Олька\Рабочий стол\Уроки химии\уроки из интернета\Щелочноземеольные металлы\применение соединений кальция 1.bmp"/>
          <p:cNvPicPr/>
          <p:nvPr/>
        </p:nvPicPr>
        <p:blipFill>
          <a:blip r:embed="rId1"/>
          <a:stretch/>
        </p:blipFill>
        <p:spPr>
          <a:xfrm>
            <a:off x="971640" y="1512720"/>
            <a:ext cx="7619760" cy="5310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Кальций (Са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Кальций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Ca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4967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льций, способствует поступлению питательных веществ в клетку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аствует в регуляции деятельности более 300 ферментов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обходим для сокращения мышц, в том числе и сердечной мышц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льций необходим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для нормального свертывания кров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грает важную роль в передаче нервных импульсов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8" name="Picture 11" descr="161004salmon"/>
          <p:cNvPicPr/>
          <p:nvPr/>
        </p:nvPicPr>
        <p:blipFill>
          <a:blip r:embed="rId1"/>
          <a:stretch/>
        </p:blipFill>
        <p:spPr>
          <a:xfrm>
            <a:off x="6915240" y="620640"/>
            <a:ext cx="2246400" cy="158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9" name=""/>
          <p:cNvSpPr txBox="1"/>
          <p:nvPr/>
        </p:nvSpPr>
        <p:spPr>
          <a:xfrm>
            <a:off x="5308200" y="23270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н концентрируется в почках и может дать толчок к развитию мочекаменной болезни; оседает на стенках кровеносных сосудов и способствует развитию стеноза устья аорты. От избытка кальция страдают и мышц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1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320"/>
                            </p:stCondLst>
                            <p:childTnLst>
                              <p:par>
                                <p:cTn id="1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1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1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dee0"/>
                </a:solidFill>
                <a:latin typeface="Bodoni MT Black"/>
              </a:rPr>
              <a:t>   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      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Цинк   </a:t>
            </a:r>
            <a:r>
              <a:rPr b="0" lang="en-US" sz="5400" spc="-1" strike="noStrike">
                <a:solidFill>
                  <a:srgbClr val="dedee0"/>
                </a:solidFill>
                <a:latin typeface="Bodoni MT Black"/>
              </a:rPr>
              <a:t>Zn</a:t>
            </a:r>
            <a:endParaRPr b="0" lang="en-US" sz="5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51920" y="1844640"/>
            <a:ext cx="670572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з всего цинка, содержащегося в организме человека, 65% находится в мышцах, также цинк содержится в костях, входит в плазму, кровь, печень, эритроциты.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дефиците цинка в пище отмечено замедление физического развития (карликовый рост и гипогонадизм)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3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избыточных против нормы количествах цинковые  соединения действуют как яды, вызывая хроническое отравле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2" name="Picture 4" descr="8f150dd39f85b7ba9f5f5fb6d5cfee08[1]"/>
          <p:cNvPicPr/>
          <p:nvPr/>
        </p:nvPicPr>
        <p:blipFill>
          <a:blip r:embed="rId1"/>
          <a:stretch/>
        </p:blipFill>
        <p:spPr>
          <a:xfrm>
            <a:off x="990720" y="5276880"/>
            <a:ext cx="1676160" cy="1184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590582de26ba2ebf3bb9bbec8a0f8faa[1]"/>
          <p:cNvPicPr/>
          <p:nvPr/>
        </p:nvPicPr>
        <p:blipFill>
          <a:blip r:embed="rId2"/>
          <a:stretch/>
        </p:blipFill>
        <p:spPr>
          <a:xfrm>
            <a:off x="4859280" y="52261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f_501i"/>
          <p:cNvPicPr/>
          <p:nvPr/>
        </p:nvPicPr>
        <p:blipFill>
          <a:blip r:embed="rId3"/>
          <a:stretch/>
        </p:blipFill>
        <p:spPr>
          <a:xfrm>
            <a:off x="7740720" y="4589640"/>
            <a:ext cx="1297080" cy="1444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"/>
          <p:cNvPicPr/>
          <p:nvPr/>
        </p:nvPicPr>
        <p:blipFill>
          <a:blip r:embed="rId4"/>
          <a:stretch/>
        </p:blipFill>
        <p:spPr>
          <a:xfrm>
            <a:off x="6934320" y="2819520"/>
            <a:ext cx="2066760" cy="1542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o_509i"/>
          <p:cNvPicPr/>
          <p:nvPr/>
        </p:nvPicPr>
        <p:blipFill>
          <a:blip r:embed="rId5"/>
          <a:stretch/>
        </p:blipFill>
        <p:spPr>
          <a:xfrm>
            <a:off x="7391520" y="914400"/>
            <a:ext cx="143352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0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5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Алюминий   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(Al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люминий играет в организме важную физиологическую роль, – он участвует в образовании фосфатных и белковых комплексов; процессах регенерации костной, соединительной и эпителиальной ткани; оказывает, в зависимости от концентраци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Алюминий в небольших количествах необходим для организма, в случае его избытка этот металл может представлять серьёзную опасность для здоровья. В целом алюминий относят к токсичным (иммунотоксичным) элемента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9" name="Picture 4" descr="C:\Users\Мама\Pictures\i (2).jpg"/>
          <p:cNvPicPr/>
          <p:nvPr/>
        </p:nvPicPr>
        <p:blipFill>
          <a:blip r:embed="rId1"/>
          <a:stretch/>
        </p:blipFill>
        <p:spPr>
          <a:xfrm>
            <a:off x="6732720" y="0"/>
            <a:ext cx="2390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Железо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Fe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848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ходит в организм в виде гемоглобина — важнейшего белка, обеспечивающего транспорт кислорода с кровью ко всем органам человека и животных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Больше всего железа накапливается в печени, поджелудочной железе, сердечной мышце. Переизбыток в конечном итоге становится причиной изменения и самого органа: развивается гепатит, цирроз печени, сахарный диабет, заболевания суставов, нервной системы, сердечные патологии, вплоть до внезапной остановки сердц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2" name="Picture 8" descr="img2994"/>
          <p:cNvPicPr/>
          <p:nvPr/>
        </p:nvPicPr>
        <p:blipFill>
          <a:blip r:embed="rId1"/>
          <a:stretch/>
        </p:blipFill>
        <p:spPr>
          <a:xfrm>
            <a:off x="7505640" y="1440"/>
            <a:ext cx="1638360" cy="169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3" name="Picture 9" descr="20781_2"/>
          <p:cNvPicPr/>
          <p:nvPr/>
        </p:nvPicPr>
        <p:blipFill>
          <a:blip r:embed="rId2"/>
          <a:stretch/>
        </p:blipFill>
        <p:spPr>
          <a:xfrm>
            <a:off x="6545160" y="5084640"/>
            <a:ext cx="2592360" cy="165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659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       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Медь  </a:t>
            </a:r>
            <a:r>
              <a:rPr b="0" lang="en-US" sz="5400" spc="-1" strike="noStrike">
                <a:solidFill>
                  <a:srgbClr val="dedee0"/>
                </a:solidFill>
                <a:latin typeface="Bodoni MT Black"/>
              </a:rPr>
              <a:t>Cu</a:t>
            </a:r>
            <a:r>
              <a:rPr b="0" lang="ru-RU" sz="5400" spc="-1" strike="noStrike">
                <a:solidFill>
                  <a:srgbClr val="dedee0"/>
                </a:solidFill>
                <a:latin typeface="Bodoni MT Black"/>
              </a:rPr>
              <a:t> </a:t>
            </a:r>
            <a:endParaRPr b="0" lang="en-US" sz="5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11280" y="1366560"/>
            <a:ext cx="6627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дь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способствует пластическому обмену, ускоряет восстановление мышечной массы. Она содействует эластичности легких, кожи и кровеносных сосудов.Медь предохраняет от анемии, лейкемии, остеопороза, выпадению волос, язв и отеков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се соли меди ядовиты, поэтому медную посуду лудят, т.е. покрывают слоем олова, чтобы предотвратить возможность образования медных сол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6" name="Picture 7" descr="s_571i"/>
          <p:cNvPicPr/>
          <p:nvPr/>
        </p:nvPicPr>
        <p:blipFill>
          <a:blip r:embed="rId1"/>
          <a:stretch/>
        </p:blipFill>
        <p:spPr>
          <a:xfrm>
            <a:off x="7710480" y="4005360"/>
            <a:ext cx="1433520" cy="159696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s_022i"/>
          <p:cNvPicPr/>
          <p:nvPr/>
        </p:nvPicPr>
        <p:blipFill>
          <a:blip r:embed="rId2"/>
          <a:stretch/>
        </p:blipFill>
        <p:spPr>
          <a:xfrm>
            <a:off x="7451640" y="568440"/>
            <a:ext cx="1433520" cy="1595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sh_500i"/>
          <p:cNvPicPr/>
          <p:nvPr/>
        </p:nvPicPr>
        <p:blipFill>
          <a:blip r:embed="rId3"/>
          <a:stretch/>
        </p:blipFill>
        <p:spPr>
          <a:xfrm>
            <a:off x="7524720" y="2205000"/>
            <a:ext cx="1501920" cy="16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8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8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8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9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Ванадий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V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анадий вызывает острую аллергическую реакцию приводящую к бронхиальной астм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ваются заболевания кров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блюдаются нарушения психик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зникают экземы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1" name="Picture 8" descr="plot"/>
          <p:cNvPicPr/>
          <p:nvPr/>
        </p:nvPicPr>
        <p:blipFill>
          <a:blip r:embed="rId1"/>
          <a:stretch/>
        </p:blipFill>
        <p:spPr>
          <a:xfrm>
            <a:off x="5996160" y="1979640"/>
            <a:ext cx="157140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2" name="Picture 11" descr="derm8b"/>
          <p:cNvPicPr/>
          <p:nvPr/>
        </p:nvPicPr>
        <p:blipFill>
          <a:blip r:embed="rId2"/>
          <a:stretch/>
        </p:blipFill>
        <p:spPr>
          <a:xfrm>
            <a:off x="5815080" y="4313160"/>
            <a:ext cx="1933560" cy="144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3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Кадмий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Cd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94" name="Picture 7" descr="sk03_b"/>
          <p:cNvPicPr/>
          <p:nvPr/>
        </p:nvPicPr>
        <p:blipFill>
          <a:blip r:embed="rId1"/>
          <a:stretch/>
        </p:blipFill>
        <p:spPr>
          <a:xfrm>
            <a:off x="179280" y="198900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148000" y="2060640"/>
            <a:ext cx="3809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токсикация кадмием вызывает головокружение, слабость, тошноту, желудочные боли, появление белка в моче, развитие трахеита, бронхита, отека легких, поражение печени, почек, сердца, нервной систем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6" name="Picture 8" descr="C0029744BG"/>
          <p:cNvPicPr/>
          <p:nvPr/>
        </p:nvPicPr>
        <p:blipFill>
          <a:blip r:embed="rId2"/>
          <a:stretch/>
        </p:blipFill>
        <p:spPr>
          <a:xfrm>
            <a:off x="2340000" y="2060640"/>
            <a:ext cx="2712960" cy="40323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b1a_b1b"/>
          <p:cNvPicPr/>
          <p:nvPr/>
        </p:nvPicPr>
        <p:blipFill>
          <a:blip r:embed="rId3"/>
          <a:stretch/>
        </p:blipFill>
        <p:spPr>
          <a:xfrm>
            <a:off x="179280" y="407664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Хром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Cr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 концентрации хрома в воздухе выше 25 мкг/м3  возникают глубокие поражения дыхательных путей, рак легких, снижении темновой адаптации глаза, поражение желудочно-кишечного тракта, развитие гастрита и язвенной болезней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0" name="Picture 7" descr="8f91cf98-ac8e-49fe-aa61-3296e7220a79"/>
          <p:cNvPicPr/>
          <p:nvPr/>
        </p:nvPicPr>
        <p:blipFill>
          <a:blip r:embed="rId1"/>
          <a:stretch/>
        </p:blipFill>
        <p:spPr>
          <a:xfrm>
            <a:off x="5829480" y="3246480"/>
            <a:ext cx="1904760" cy="1238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1" name="Picture 8" descr="CA0Z6T2T"/>
          <p:cNvPicPr/>
          <p:nvPr/>
        </p:nvPicPr>
        <p:blipFill>
          <a:blip r:embed="rId2"/>
          <a:stretch/>
        </p:blipFill>
        <p:spPr>
          <a:xfrm>
            <a:off x="5364000" y="1722600"/>
            <a:ext cx="3311640" cy="216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Как дожди нас утомили,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астроение на нуле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ы уж солнце позабыли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Что творится на Земле?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Это, верно, небо плачет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И от горя слёзы льёт.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стит ПРИРОДА, не иначе.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Людям за плохой подход.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Знаем, нет плохой погоды,-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е об этом речь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ы забыли, что ПРИРОДУ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адобно БЕРЕЧЬ !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Мы забыли, нашим детям –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В этом мире жить…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И ПРИРОДУ на планете</a:t>
            </a:r>
            <a:br>
              <a:rPr sz="2000"/>
            </a:br>
            <a:r>
              <a:rPr b="1" lang="ru-RU" sz="2000" spc="-1" strike="noStrike">
                <a:solidFill>
                  <a:srgbClr val="dedee0"/>
                </a:solidFill>
                <a:latin typeface="Calibri"/>
              </a:rPr>
              <a:t>Надо СОХРАНИТЬ !</a:t>
            </a:r>
            <a:endParaRPr b="0" lang="en-US" sz="20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30" name="Picture 2" descr="http://4.bp.blogspot.com/-I-2HESWVJMo/T0Z3wILXgQI/AAAAAAAAAFA/ckheK5oHysc/s1600/395261_10150551760183176_334218237_n.jpg"/>
          <p:cNvPicPr/>
          <p:nvPr/>
        </p:nvPicPr>
        <p:blipFill>
          <a:blip r:embed="rId1"/>
          <a:stretch/>
        </p:blipFill>
        <p:spPr>
          <a:xfrm>
            <a:off x="4427640" y="2637000"/>
            <a:ext cx="4770360" cy="3951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http://im5-tub-ru.yandex.net/i?id=132914099-38-72&amp;n=21"/>
          <p:cNvPicPr/>
          <p:nvPr/>
        </p:nvPicPr>
        <p:blipFill>
          <a:blip r:embed="rId2"/>
          <a:stretch/>
        </p:blipFill>
        <p:spPr>
          <a:xfrm>
            <a:off x="5867280" y="18900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Свинец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Pb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603" name="Picture 16" descr="CAXBBD8K"/>
          <p:cNvPicPr/>
          <p:nvPr/>
        </p:nvPicPr>
        <p:blipFill>
          <a:blip r:embed="rId1"/>
          <a:stretch/>
        </p:blipFill>
        <p:spPr>
          <a:xfrm>
            <a:off x="179280" y="1989000"/>
            <a:ext cx="1862280" cy="1501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Свинец вызывает обширные патологические изменения в нервной системе, крови, сосудах</a:t>
            </a: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5" name="Picture 17" descr="18738"/>
          <p:cNvPicPr/>
          <p:nvPr/>
        </p:nvPicPr>
        <p:blipFill>
          <a:blip r:embed="rId2"/>
          <a:stretch/>
        </p:blipFill>
        <p:spPr>
          <a:xfrm>
            <a:off x="179280" y="3645000"/>
            <a:ext cx="1905120" cy="266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6" name="Picture 18" descr="photo02"/>
          <p:cNvPicPr/>
          <p:nvPr/>
        </p:nvPicPr>
        <p:blipFill>
          <a:blip r:embed="rId3"/>
          <a:stretch/>
        </p:blipFill>
        <p:spPr>
          <a:xfrm>
            <a:off x="2340000" y="1989000"/>
            <a:ext cx="2841480" cy="431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69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Никель 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Ni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 Известно, что никель принимает участие в ферментативных реакциях у животных и растений. В организме животных он накапливается в ороговевших тканях, особенно в перьях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вышенное содержание никеля в почвах приводят к эндемическим заболеваниям — у растений появляются уродливые формы, у животных — заболевания глаз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0" name="Picture 6" descr="C:\Users\Мама\Pictures\1365013263_v-kakih-produktah-soderzhitsya-nikel.jpg"/>
          <p:cNvPicPr/>
          <p:nvPr/>
        </p:nvPicPr>
        <p:blipFill>
          <a:blip r:embed="rId1"/>
          <a:stretch/>
        </p:blipFill>
        <p:spPr>
          <a:xfrm>
            <a:off x="4859280" y="2492280"/>
            <a:ext cx="42134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edee0"/>
                </a:solidFill>
                <a:latin typeface="Calibri"/>
              </a:rPr>
              <a:t>Но даже полезные металлы вредны  в больших количествах!</a:t>
            </a:r>
            <a:endParaRPr b="0" lang="en-US" sz="32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612" name="Picture 13" descr="Кальций в молочных продуктах разрушает мозг"/>
          <p:cNvPicPr/>
          <p:nvPr/>
        </p:nvPicPr>
        <p:blipFill>
          <a:blip r:embed="rId1"/>
          <a:stretch/>
        </p:blipFill>
        <p:spPr>
          <a:xfrm>
            <a:off x="1042920" y="1989000"/>
            <a:ext cx="1905120" cy="1428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858920" y="191592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альций в молочных продуктах разрушает моз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Оказалось, что прием пищи с повышенной концентрацией железа повышает риск заболевания раком горла и желудка.</a:t>
            </a:r>
            <a:br>
              <a:rPr sz="24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4" name="Picture 14" descr="Рак от железа (перечень продуктов)"/>
          <p:cNvPicPr/>
          <p:nvPr/>
        </p:nvPicPr>
        <p:blipFill>
          <a:blip r:embed="rId2"/>
          <a:stretch/>
        </p:blipFill>
        <p:spPr>
          <a:xfrm>
            <a:off x="2700360" y="5157720"/>
            <a:ext cx="1871640" cy="133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5" name="Picture 15" descr="ygdf"/>
          <p:cNvPicPr/>
          <p:nvPr/>
        </p:nvPicPr>
        <p:blipFill>
          <a:blip r:embed="rId3"/>
          <a:stretch/>
        </p:blipFill>
        <p:spPr>
          <a:xfrm>
            <a:off x="0" y="2924280"/>
            <a:ext cx="3564000" cy="3405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6" descr="redwein1"/>
          <p:cNvPicPr/>
          <p:nvPr/>
        </p:nvPicPr>
        <p:blipFill>
          <a:blip r:embed="rId4"/>
          <a:stretch/>
        </p:blipFill>
        <p:spPr>
          <a:xfrm>
            <a:off x="2484360" y="3213000"/>
            <a:ext cx="2014560" cy="1478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Выводы: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18" name="Прямоугольник 1"/>
          <p:cNvSpPr/>
          <p:nvPr/>
        </p:nvSpPr>
        <p:spPr>
          <a:xfrm>
            <a:off x="468360" y="890640"/>
            <a:ext cx="835164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1. Работа организма человека невозможна без присутствия ионов различных металлов, которые поступают в организм с продуктами питания , минеральными веществами и водой. Но масса этих ионов должна быть строго сбалансирована, иначе у человека возникают различные заболевания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2. Атмосфера, почва, вода  промышленных городов загрязнена выбросами в тяжелых металлов. Их поставляют цветная металлургия, стекольное и гальваническое производство, выхлопы автотранспорта.… В организме человека накапливаются вредные для него вещества, в том числе и ионы металлов. Они нарушают его работу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dedee0"/>
                </a:solidFill>
                <a:latin typeface="Calibri"/>
              </a:rPr>
              <a:t>Рекомендации: </a:t>
            </a:r>
            <a:r>
              <a:rPr b="0" lang="ru-RU" sz="2800" spc="-1" strike="noStrike">
                <a:solidFill>
                  <a:srgbClr val="dedee0"/>
                </a:solidFill>
                <a:latin typeface="Calibri"/>
              </a:rPr>
              <a:t> Как оградить себя от воздействия тяжелых металлов?</a:t>
            </a: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читается, что расстояние в 1 километр - это зона сильного влияния, а 5 км и более - минимального влияния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сли человек переселяется из опасной зоны, концентрация тяжелых металлов в крови постепенно снижается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ытье рук снижает концентрацию тяжелых металлов на поверхности ладоней почти в 10 раз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e0"/>
                </a:solidFill>
                <a:latin typeface="Calibri"/>
              </a:rPr>
              <a:t>Как оградить себя от воздействия тяжелых металлов.</a:t>
            </a:r>
            <a:endParaRPr b="0" lang="en-US" sz="2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еобходимо чаще проводить влажную уборку с моющими средствам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ля выведения из организма накопившегося свинца необходимо как можно чаще употреблять в пищу молочные продукты, содержащие кальци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ужно больше есть овощей, фруктов и зерновых продуктов. Тогда тяжелые металлы будут оседать в желудочно-кишечном тракте, и выводиться из организма, не всасываяс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1 мая в России объявлен «Днем отказа от курения». Откажитесь от курения!!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Задание на дом: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по учебнику 9 класса (О.С. Габриеляна) повторить тему «Металлы»,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выполнить тестовые задания и решить задачи на бланках  «Домашнее задание»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dee0"/>
                </a:solidFill>
                <a:latin typeface="Calibri"/>
              </a:rPr>
              <a:t>ДАВАЙ ДОКАЖЕМ ЧТО НЕ ЗРЯ НА НАС  НАДЕЕТСЯ ЗЕМЛЯ</a:t>
            </a:r>
            <a:endParaRPr b="0" lang="en-US" sz="36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Сохраним свой дом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5" name="Picture 2" descr="IMG_0030"/>
          <p:cNvPicPr/>
          <p:nvPr/>
        </p:nvPicPr>
        <p:blipFill>
          <a:blip r:embed="rId1"/>
          <a:stretch/>
        </p:blipFill>
        <p:spPr>
          <a:xfrm>
            <a:off x="0" y="0"/>
            <a:ext cx="637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dee0"/>
                </a:solidFill>
                <a:latin typeface="Calibri"/>
              </a:rPr>
              <a:t>Учащиеся постоянно участвуют в субботниках по благоустройству территории.</a:t>
            </a:r>
            <a:endParaRPr b="0" lang="en-US" sz="2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37" name="Picture 2" descr="H:\DCIM\119_PANA\P1190038.JPG"/>
          <p:cNvPicPr/>
          <p:nvPr/>
        </p:nvPicPr>
        <p:blipFill>
          <a:blip r:embed="rId1"/>
          <a:stretch/>
        </p:blipFill>
        <p:spPr>
          <a:xfrm>
            <a:off x="4800600" y="1649520"/>
            <a:ext cx="4343400" cy="39272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H:\DCIM\119_PANA\P1190032.JPG"/>
          <p:cNvPicPr/>
          <p:nvPr/>
        </p:nvPicPr>
        <p:blipFill>
          <a:blip r:embed="rId2"/>
          <a:stretch/>
        </p:blipFill>
        <p:spPr>
          <a:xfrm>
            <a:off x="0" y="2428920"/>
            <a:ext cx="4643280" cy="3929040"/>
          </a:xfrm>
          <a:prstGeom prst="rect">
            <a:avLst/>
          </a:prstGeom>
          <a:ln w="0">
            <a:noFill/>
          </a:ln>
        </p:spPr>
      </p:pic>
      <p:sp>
        <p:nvSpPr>
          <p:cNvPr id="539" name="Прямоугольник 5"/>
          <p:cNvSpPr/>
          <p:nvPr/>
        </p:nvSpPr>
        <p:spPr>
          <a:xfrm>
            <a:off x="346932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dedee0"/>
                </a:solidFill>
                <a:latin typeface="Calibri"/>
              </a:rPr>
              <a:t>Тема урока: </a:t>
            </a:r>
            <a:r>
              <a:rPr b="1" lang="ru-RU" sz="2400" spc="-1" strike="noStrike">
                <a:solidFill>
                  <a:srgbClr val="dedee0"/>
                </a:solidFill>
                <a:latin typeface="Calibri"/>
              </a:rPr>
              <a:t>«Металлы и экология» (Обобщение знаний по теме металлы. Решение задач).</a:t>
            </a:r>
            <a:br>
              <a:rPr sz="2400"/>
            </a:br>
            <a:endParaRPr b="0" lang="en-US" sz="2400" spc="-1" strike="noStrike">
              <a:solidFill>
                <a:srgbClr val="dedee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План урока: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знакомиться со значением  металлов с позиций эколог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шить задач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зучить правила «Как оградить себя от воздействия тяжелых металлов»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62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Натрий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 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Na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43" name="Picture 9" descr="fish_adv"/>
          <p:cNvPicPr/>
          <p:nvPr/>
        </p:nvPicPr>
        <p:blipFill>
          <a:blip r:embed="rId1"/>
          <a:stretch/>
        </p:blipFill>
        <p:spPr>
          <a:xfrm>
            <a:off x="468360" y="1916280"/>
            <a:ext cx="1233360" cy="1584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рий (Na) участвует в образовании желудочного сок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егулирует выделение почками многих продуктов обмена вещест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створ хлорида натрия (0.85-0.9 %)- физиологический раствор применяется для внутривенных вливаний кров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5" name="Picture 10" descr="bread"/>
          <p:cNvPicPr/>
          <p:nvPr/>
        </p:nvPicPr>
        <p:blipFill>
          <a:blip r:embed="rId2"/>
          <a:stretch/>
        </p:blipFill>
        <p:spPr>
          <a:xfrm>
            <a:off x="2340000" y="2060640"/>
            <a:ext cx="2087640" cy="1598400"/>
          </a:xfrm>
          <a:prstGeom prst="rect">
            <a:avLst/>
          </a:prstGeom>
          <a:ln w="0">
            <a:noFill/>
          </a:ln>
        </p:spPr>
      </p:pic>
      <p:sp>
        <p:nvSpPr>
          <p:cNvPr id="546" name="Прямоугольник 1"/>
          <p:cNvSpPr/>
          <p:nvPr/>
        </p:nvSpPr>
        <p:spPr>
          <a:xfrm>
            <a:off x="179280" y="255096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Прямоугольник 2"/>
          <p:cNvSpPr/>
          <p:nvPr/>
        </p:nvSpPr>
        <p:spPr>
          <a:xfrm>
            <a:off x="108000" y="1859040"/>
            <a:ext cx="46800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Избыток натрия в организме может проявляться повышенной возбудимостью. Другими симптомами являются также повышение жажды и потливости. Переизбыток натрия приводит к отекам ног и лица, а также к развитию гипертони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w Cen MT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     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Калий 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  </a:t>
            </a:r>
            <a:r>
              <a:rPr b="1" lang="ru-RU" sz="4400" spc="-1" strike="noStrike">
                <a:solidFill>
                  <a:srgbClr val="dedee0"/>
                </a:solidFill>
                <a:latin typeface="Calibri"/>
              </a:rPr>
              <a:t>(</a:t>
            </a:r>
            <a:r>
              <a:rPr b="1" lang="en-US" sz="4400" spc="-1" strike="noStrike">
                <a:solidFill>
                  <a:srgbClr val="dedee0"/>
                </a:solidFill>
                <a:latin typeface="Tw Cen MT"/>
              </a:rPr>
              <a:t>K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50" name="Picture 11" descr="4905-original"/>
          <p:cNvPicPr/>
          <p:nvPr/>
        </p:nvPicPr>
        <p:blipFill>
          <a:blip r:embed="rId1"/>
          <a:stretch/>
        </p:blipFill>
        <p:spPr>
          <a:xfrm>
            <a:off x="3203640" y="1628640"/>
            <a:ext cx="1428840" cy="16383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32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лий регулирует водный баланс в организме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ормализует ритм сердц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частвует в процессе проведения нервных импульсов и передачи их на иннервируемые орган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пособствует лучшей деятельности головного моз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2" name="Picture 13" descr="xl_25278"/>
          <p:cNvPicPr/>
          <p:nvPr/>
        </p:nvPicPr>
        <p:blipFill>
          <a:blip r:embed="rId2"/>
          <a:stretch/>
        </p:blipFill>
        <p:spPr>
          <a:xfrm>
            <a:off x="25560" y="1628640"/>
            <a:ext cx="2160360" cy="1638360"/>
          </a:xfrm>
          <a:prstGeom prst="rect">
            <a:avLst/>
          </a:prstGeom>
          <a:ln w="0">
            <a:noFill/>
          </a:ln>
        </p:spPr>
      </p:pic>
      <p:sp>
        <p:nvSpPr>
          <p:cNvPr id="553" name="Прямоугольник 1"/>
          <p:cNvSpPr/>
          <p:nvPr/>
        </p:nvSpPr>
        <p:spPr>
          <a:xfrm>
            <a:off x="0" y="2550960"/>
            <a:ext cx="500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Большой избыток калия в организме нарушает работу сердечной мышцы, расстраивает функционирование почек, приводит к отложению солей калия в связках и повышает риск развития мочекаменной болезни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91404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2605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            </a:t>
            </a:r>
            <a:r>
              <a:rPr b="0" lang="ru-RU" sz="4400" spc="-1" strike="noStrike">
                <a:solidFill>
                  <a:srgbClr val="dedee0"/>
                </a:solidFill>
                <a:latin typeface="Calibri"/>
              </a:rPr>
              <a:t>Стронций </a:t>
            </a:r>
            <a:r>
              <a:rPr b="0" lang="en-US" sz="4400" spc="-1" strike="noStrike">
                <a:solidFill>
                  <a:srgbClr val="dedee0"/>
                </a:solidFill>
                <a:latin typeface="Tw Cen MT"/>
              </a:rPr>
              <a:t>(Sr)</a:t>
            </a:r>
            <a:endParaRPr b="0" lang="en-US" sz="4400" spc="-1" strike="noStrike">
              <a:solidFill>
                <a:srgbClr val="dedee0"/>
              </a:solidFill>
              <a:latin typeface="Calibri"/>
            </a:endParaRPr>
          </a:p>
        </p:txBody>
      </p:sp>
      <p:pic>
        <p:nvPicPr>
          <p:cNvPr id="556" name="Объект 4" descr="Воздействие стронций на организм ребенка"/>
          <p:cNvPicPr/>
          <p:nvPr/>
        </p:nvPicPr>
        <p:blipFill>
          <a:blip r:embed="rId1"/>
          <a:stretch/>
        </p:blipFill>
        <p:spPr>
          <a:xfrm>
            <a:off x="-25560" y="1557360"/>
            <a:ext cx="3740400" cy="316692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5"/>
          <p:cNvSpPr/>
          <p:nvPr/>
        </p:nvSpPr>
        <p:spPr>
          <a:xfrm>
            <a:off x="330120" y="2690640"/>
            <a:ext cx="67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w Cen MT"/>
              </a:rPr>
              <a:t>Наиболее ярко негативное влияние стронция на организм человека запечатлено на фото ребенка, который пережил ядерную бомбардировку в Хиросим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Прямоугольник 1"/>
          <p:cNvSpPr/>
          <p:nvPr/>
        </p:nvSpPr>
        <p:spPr>
          <a:xfrm>
            <a:off x="3851280" y="1628640"/>
            <a:ext cx="51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w Cen MT"/>
              </a:rPr>
              <a:t>В медицине стронций - Sr90 - используется для проведения лучевой терапии при опухолях, эрозиях и других поражениях тканей и органов, но так можно лечить только те очаги, которые расположены неглубоко – например, в коже и слизистых оболочках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16:18:14Z</dcterms:created>
  <dc:creator>Игорь Александрович</dc:creator>
  <dc:description/>
  <dc:language>en-US</dc:language>
  <cp:lastModifiedBy>Е.Ю.</cp:lastModifiedBy>
  <dcterms:modified xsi:type="dcterms:W3CDTF">2017-11-14T07:59:03Z</dcterms:modified>
  <cp:revision>51</cp:revision>
  <dc:subject/>
  <dc:title>Давай докажем что не зря на нас  надеется земля</dc:title>
</cp:coreProperties>
</file>