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C82-EDC9-4479-B9D4-C57223CF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7FB-B994-4196-B472-B4D7280F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37DB6-C29B-4DB0-B87C-513434A0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59A3C-727A-4B45-91CF-ECCEAAF5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FDE00-0702-47D4-A12D-D52CA76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03872-2EE7-46D5-A794-7A0055DF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0D543-67C8-4998-879E-D5078D6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EC4F-DD1F-4292-AF7A-B1A424D5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6F68D-D2DF-492C-B5B0-8E27F2D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4E20-9C96-4413-833F-71130C42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F99CA-CE7A-4582-96F5-78A16403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8A5AE-999F-4892-86F6-5AF61275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8F1-9B3F-4523-826E-9D532602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D9DA7-21E7-415C-A1EC-5669F4A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3311B-B807-4A04-9DE5-FA26419F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823D5-413B-4208-A2D3-E25046C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ACB7F-A594-4362-AB61-0D0D09A9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20412-76E5-433D-AC13-CD5AB9D8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E0B2F-6A0B-4BB8-B6ED-32BD4F4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F741B-9409-4A56-8CFB-1552E7F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70255-74E7-47C1-BAE1-ED3CCB5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29FFB-A97E-4A1F-997C-291A4EA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5380-33DA-4AD5-A786-D540559C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C05-E332-4199-8E6D-449DFBA4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B4F2E-849A-4F2F-A033-7F51E80D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5DE2-1744-416F-8796-BFD582E1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D8A9C-0638-44B0-85B0-CB062325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85E7D-7AAC-4953-936F-8F31A286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3292F-2BD8-4709-94B3-5923E9C6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4F2BB-25F8-4A2B-AB15-FFEA700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24D7-3328-4C96-AE60-4118426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49736-0E10-4C8D-A658-95DEE9D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E429-86EF-46CB-BA9D-1B34D39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8DA83-196B-4B14-B3B3-81393FF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EC5-5C26-482E-9791-6D9B0852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B21FE-3C75-40EA-8824-A64E07DE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40BEB-3965-4860-AAEF-73E7801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69FC-2238-4115-8946-CB2EECE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968BF-BFE7-40AD-9262-7AFB4AB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4073D-C304-4E53-90F5-E17287D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7B761-B91F-4865-9A88-92F555B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F83F9-94CF-4540-8C30-851DD97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D62CF-CB9D-470F-8F7C-5BD5897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40028-A564-4292-9EB1-E9518B0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4ADC1-88DC-42E2-9319-69E72FC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5B05-C55D-4747-B98B-9ADD8574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32838-752D-4110-80C0-566C730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8E054-6452-40E3-8A21-593D0116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49C4D-6E06-4F52-9B22-70B0066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5D39B-38A1-4D72-AB08-DB19A90E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00354-28BC-4630-87FB-C2F5C144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A75C-67C9-443E-B476-BDAFAA7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B02-1463-4F89-BF2D-0D1BD03C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C0D3-477B-4C64-87B8-E3560A2B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B0E-0F07-41E2-A60C-F8893969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62FD-CE99-4EBA-8025-4A5E461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C2F-BACA-48A4-916A-A480A41D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A504-D829-45A7-B58B-5805F10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35AD-0AFC-4FE4-8F28-79ED828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676C-F794-476B-81B0-E2CAF0E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2B13-36D9-4887-B76E-18E9B24A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708-B00F-4857-924E-1C295F84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0B00E-A531-48B7-B0DF-BF2762AC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9177E-6ED5-40A2-843F-E1BDE9A9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76738-6B67-4F75-8F52-4DD2C78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63BDC-3FC5-43E7-BAC2-9034C11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D0F3D-B210-4714-A06E-2E503684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8C5-0287-428E-82BE-483E8B64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4E4CE-5AA3-4743-9122-3BF35B0A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0DE7C-636D-4B0D-804F-AC77C22D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00620-2E7D-4021-BE6D-AA625747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C45D2-8DF6-42BB-A213-A024485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4BC2F-3222-4A68-8922-04D5FD79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0004C-8CA6-4D1D-A98F-8C904C28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63CB9-5F96-4E8C-A7EE-0C09AC02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F6036-0E3D-4408-8E3E-B78DEDE2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E7033-FA0C-4DF8-891E-7639BCAE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261A4-E8BE-4076-9109-4895E2CD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812-82D6-47F9-B1A8-9EFB59FE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AF9FC-4624-4146-ABA8-288AE6C7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FF8DC-127B-4D83-8342-3F97DB4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00CEE-A9C5-4ABA-9FEA-9F5D1083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AC315-7E82-46BA-9759-2153E11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106C7-A80D-49F4-B79F-21A31B1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21259-7879-4277-855A-298774E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8705D-E022-48F8-86C8-4A23493B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15B99-CCE0-49F0-9472-77361CCB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87F31-1823-4F89-9EBB-53B8D556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B395D-D50D-412C-9DEA-8D90451B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80D-DCCB-4FCA-806E-2FE8626C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C4AB7-F874-4B6E-B95B-0B83DD0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22651-0151-42FA-823B-49DE369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42ABA-576B-4D31-9DA0-98B04F69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E2A18-B41F-4CD0-B1DD-3F5F9528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89CA9-5293-4E43-8B78-A5B18DC9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59BED-E048-4F0B-9E9B-6C91E89D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F45E1-5DB8-4CEE-87E6-B729A289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7F292-9414-4EDE-A48E-EA3D463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BF297-103B-41F1-89C8-254C1A99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71D14-5EF9-4563-A4EB-32D21BF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43D-5AE1-4734-AC2A-44D163CC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743FC-3A9C-48DB-AE74-5EA5E8FB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CE09-15D2-4D49-B95A-85E935C2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326E-AE7A-4149-8037-B35EB034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E60D-CF1A-44EE-AA57-E9295EB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55DF-9CF4-4C89-B8DC-F026F04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B6BE4-7F2F-4ECF-B0DE-80487C5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235F-BDA1-4FEC-A463-8449DD91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60E6-6A3C-4DBD-9300-0396548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D354-900B-4AD5-B428-A4A88EA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0FB3-10F3-4733-AC94-89A7DC0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03C-D2EF-4D1C-A0D3-17DDF29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17CF-6BF2-474C-B203-5CF88C92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E3C92-065D-4B40-B8EA-D06D3BFC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01C0F-6BEF-4111-B97C-6F6D2662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40FEA-FDB4-4065-96C2-F2EAB910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45170-FDCF-4320-B3FE-1AB4BD1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7E6D3-46B2-40A1-9ACF-C3964E1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A5382-2B27-4B64-8DC4-6CB5B5D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E7C2F-F956-44FF-A609-9322CD2C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9EA61-408A-45F1-8021-FDE4A06B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E48F2-5C9D-4E8E-B765-68C151B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FAD-6F40-45B8-87CB-0E19148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F7C2E-7E3C-4F95-9523-25979D6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D0E29-A846-48E8-8F28-45E3335E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E3835-9AAA-4E0A-AC6C-668A8821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12BF0-CD1C-4366-849D-F57F42A7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C997C-278F-4663-8027-F288736A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1533-A4CB-47E3-9F81-DF7D39A9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F307-2857-40F2-B731-DED73362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FF39-6018-4DE7-9121-B49C14C6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48AAD-4582-487D-80C6-C31CFCEF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6F51B-D7C5-4629-947A-EE1AD1A0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2D3-B164-462A-B5CE-B3384C9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1742-84F3-4570-AAF1-9533B84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D0F4-E0FF-41FB-B7F5-4C34DEA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1B51-7775-4F3D-8FCB-D4D7133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4EF1-A357-449E-8643-B27628D5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4421F-3FBD-4AE8-B5F9-7B53E6B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0234-260D-4FF8-A2AD-10C0C026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8C1D-5203-4A01-9D3C-C151F08B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B66CF-7968-483D-A34F-925FB89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90B35-1968-4211-BAAC-D1EC0DDE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C99A7-63E8-43CE-A4F4-966FB29F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5A6A-67EB-421B-923D-1FF2F0D11C6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621B-5FB9-48BA-BD6C-17B1C6E0C07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961-9668-49F6-88F4-DD596E20A6A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B57-6739-43D3-B4EA-575D486CE14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189-132D-4602-8F9C-4E0ABAB56C58}" type="slidenum">
              <a:rPr b="1" lang="ru-RU" sz="1400" spc="-1" strike="noStrike">
                <a:solidFill>
                  <a:srgbClr val="dedee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213A-A80B-402C-B982-465AFC4E2961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5D06-2439-4BA5-8B84-DFE16334820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9B78-3AAA-47C3-B763-D6EAB0D278A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623-7B74-425C-9F18-38E35D302E69}" type="slidenum">
              <a:rPr b="1" lang="ru-RU" sz="1400" spc="-1" strike="noStrike">
                <a:solidFill>
                  <a:srgbClr val="dedee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2D09-57FF-466D-ACCC-5D4CDFD1CF63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BD4A-A0C0-43A6-8CD7-4AD3F4FE943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F0E-204E-499B-AC5F-06CDAAB02C0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Металлы и экология»      Обобщение знаний по теме металлы. Решение задач.</a:t>
            </a:r>
            <a:br>
              <a:rPr sz="3600"/>
            </a:br>
            <a:endParaRPr b="0" lang="en-US" sz="36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32000" y="2743200"/>
            <a:ext cx="4103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dee0"/>
                </a:solidFill>
                <a:latin typeface="Calibri"/>
              </a:rPr>
              <a:t>Урок подготовила учитель химии филиала «Карай-Салтыковский МБОУ «Красивская СОШ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dee0"/>
                </a:solidFill>
                <a:latin typeface="Calibri"/>
              </a:rPr>
              <a:t>Трегубова Е.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8" name="Picture 2" descr="http://www.dv-reclama.ru/upload/iblock/c5b/ekolog_konkurs_2.jpg"/>
          <p:cNvPicPr/>
          <p:nvPr/>
        </p:nvPicPr>
        <p:blipFill>
          <a:blip r:embed="rId1"/>
          <a:stretch/>
        </p:blipFill>
        <p:spPr>
          <a:xfrm>
            <a:off x="108000" y="3068640"/>
            <a:ext cx="45957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Магний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Mg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агний необходим для поддержания структуры рибосом, нуклеиновых кислот и некоторых бел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н участвует в реакциях окислитель- ного фосфорилиро-вания, синтезе белка, обмене нуклеиновых кислот и липидов, в образовании богатых энергией фосфа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1" name="Picture 8" descr="20815"/>
          <p:cNvPicPr/>
          <p:nvPr/>
        </p:nvPicPr>
        <p:blipFill>
          <a:blip r:embed="rId1"/>
          <a:stretch/>
        </p:blipFill>
        <p:spPr>
          <a:xfrm>
            <a:off x="5627520" y="1600200"/>
            <a:ext cx="2308320" cy="2189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7" descr="5"/>
          <p:cNvPicPr/>
          <p:nvPr/>
        </p:nvPicPr>
        <p:blipFill>
          <a:blip r:embed="rId2"/>
          <a:stretch/>
        </p:blipFill>
        <p:spPr>
          <a:xfrm>
            <a:off x="8028000" y="1916280"/>
            <a:ext cx="1025640" cy="158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3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ддержание магния в организме около 42г. Повышенное количество его в оргнизме может вызвать наркотическое состояни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85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385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C:\Documents and Settings\Олька\Рабочий стол\Уроки химии\уроки из интернета\Щелочноземеольные металлы\применение соединений кальция 1.bmp"/>
          <p:cNvPicPr/>
          <p:nvPr/>
        </p:nvPicPr>
        <p:blipFill>
          <a:blip r:embed="rId1"/>
          <a:stretch/>
        </p:blipFill>
        <p:spPr>
          <a:xfrm>
            <a:off x="971640" y="1512720"/>
            <a:ext cx="7619760" cy="5310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Кальций (Са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Кальций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Ca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4967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льций, способствует поступлению питательных веществ в клетку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аствует в регуляции деятельности более 300 ферментов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обходим для сокращения мышц, в том числе и сердечной мышц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льций необходи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для нормального свертывания кров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грает важную роль в передаче нервных импульсов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8" name="Picture 11" descr="161004salmon"/>
          <p:cNvPicPr/>
          <p:nvPr/>
        </p:nvPicPr>
        <p:blipFill>
          <a:blip r:embed="rId1"/>
          <a:stretch/>
        </p:blipFill>
        <p:spPr>
          <a:xfrm>
            <a:off x="6915240" y="620640"/>
            <a:ext cx="2246400" cy="158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9" name=""/>
          <p:cNvSpPr txBox="1"/>
          <p:nvPr/>
        </p:nvSpPr>
        <p:spPr>
          <a:xfrm>
            <a:off x="5308200" y="23270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н концентрируется в почках и может дать толчок к развитию мочекаменной болезни; оседает на стенках кровеносных сосудов и способствует развитию стеноза устья аорты. От избытка кальция страдают и мышц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320"/>
                            </p:stCondLst>
                            <p:childTnLst>
                              <p:par>
                                <p:cTn id="1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dee0"/>
                </a:solidFill>
                <a:latin typeface="Bodoni MT Black"/>
              </a:rPr>
              <a:t>   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      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Цинк   </a:t>
            </a:r>
            <a:r>
              <a:rPr b="0" lang="en-US" sz="5400" spc="-1" strike="noStrike">
                <a:solidFill>
                  <a:srgbClr val="dedee0"/>
                </a:solidFill>
                <a:latin typeface="Bodoni MT Black"/>
              </a:rPr>
              <a:t>Zn</a:t>
            </a:r>
            <a:endParaRPr b="0" lang="en-US" sz="5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670572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з всего цинка, содержащегося в организме человека, 65% находится в мышцах, также цинк содержится в костях, входит в плазму, кровь, печень, эритроциты.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дефиците цинка в пище отмечено замедление физического развития (карликовый рост и гипогонадизм)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3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избыточных против нормы количествах цинковые  соединения действуют как яды, вызывая хроническое отравле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2" name="Picture 4" descr="8f150dd39f85b7ba9f5f5fb6d5cfee08[1]"/>
          <p:cNvPicPr/>
          <p:nvPr/>
        </p:nvPicPr>
        <p:blipFill>
          <a:blip r:embed="rId1"/>
          <a:stretch/>
        </p:blipFill>
        <p:spPr>
          <a:xfrm>
            <a:off x="990720" y="5276880"/>
            <a:ext cx="1676160" cy="1184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590582de26ba2ebf3bb9bbec8a0f8faa[1]"/>
          <p:cNvPicPr/>
          <p:nvPr/>
        </p:nvPicPr>
        <p:blipFill>
          <a:blip r:embed="rId2"/>
          <a:stretch/>
        </p:blipFill>
        <p:spPr>
          <a:xfrm>
            <a:off x="4859280" y="52261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f_501i"/>
          <p:cNvPicPr/>
          <p:nvPr/>
        </p:nvPicPr>
        <p:blipFill>
          <a:blip r:embed="rId3"/>
          <a:stretch/>
        </p:blipFill>
        <p:spPr>
          <a:xfrm>
            <a:off x="7740720" y="4589640"/>
            <a:ext cx="1297080" cy="1444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"/>
          <p:cNvPicPr/>
          <p:nvPr/>
        </p:nvPicPr>
        <p:blipFill>
          <a:blip r:embed="rId4"/>
          <a:stretch/>
        </p:blipFill>
        <p:spPr>
          <a:xfrm>
            <a:off x="6934320" y="281952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o_509i"/>
          <p:cNvPicPr/>
          <p:nvPr/>
        </p:nvPicPr>
        <p:blipFill>
          <a:blip r:embed="rId5"/>
          <a:stretch/>
        </p:blipFill>
        <p:spPr>
          <a:xfrm>
            <a:off x="7391520" y="914400"/>
            <a:ext cx="143352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0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5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Алюминий   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(Al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люминий играет в организме важную физиологическую роль, – он участвует в образовании фосфатных и белковых комплексов; процессах регенерации костной, соединительной и эпителиальной ткани; оказывает, в зависимости от концентраци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люминий в небольших количествах необходим для организма, в случае его избытка этот металл может представлять серьёзную опасность для здоровья. В целом алюминий относят к токсичным (иммунотоксичным) элемента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9" name="Picture 4" descr="C:\Users\Мама\Pictures\i (2).jpg"/>
          <p:cNvPicPr/>
          <p:nvPr/>
        </p:nvPicPr>
        <p:blipFill>
          <a:blip r:embed="rId1"/>
          <a:stretch/>
        </p:blipFill>
        <p:spPr>
          <a:xfrm>
            <a:off x="6732720" y="0"/>
            <a:ext cx="2390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Железо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Fe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848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ходит в организм в виде гемоглобина — важнейшего белка, обеспечивающего транспорт кислорода с кровью ко всем органам человека и животных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ольше всего железа накапливается в печени, поджелудочной железе, сердечной мышце. Переизбыток в конечном итоге становится причиной изменения и самого органа: развивается гепатит, цирроз печени, сахарный диабет, заболевания суставов, нервной системы, сердечные патологии, вплоть до внезапной остановки сердц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2" name="Picture 8" descr="img2994"/>
          <p:cNvPicPr/>
          <p:nvPr/>
        </p:nvPicPr>
        <p:blipFill>
          <a:blip r:embed="rId1"/>
          <a:stretch/>
        </p:blipFill>
        <p:spPr>
          <a:xfrm>
            <a:off x="7505640" y="1440"/>
            <a:ext cx="1638360" cy="169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3" name="Picture 9" descr="20781_2"/>
          <p:cNvPicPr/>
          <p:nvPr/>
        </p:nvPicPr>
        <p:blipFill>
          <a:blip r:embed="rId2"/>
          <a:stretch/>
        </p:blipFill>
        <p:spPr>
          <a:xfrm>
            <a:off x="6545160" y="5084640"/>
            <a:ext cx="2592360" cy="165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659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       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Медь  </a:t>
            </a:r>
            <a:r>
              <a:rPr b="0" lang="en-US" sz="5400" spc="-1" strike="noStrike">
                <a:solidFill>
                  <a:srgbClr val="dedee0"/>
                </a:solidFill>
                <a:latin typeface="Bodoni MT Black"/>
              </a:rPr>
              <a:t>Cu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 </a:t>
            </a:r>
            <a:endParaRPr b="0" lang="en-US" sz="5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1280" y="1366560"/>
            <a:ext cx="6627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д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способствует пластическому обмену, ускоряет восстановление мышечной массы. Она содействует эластичности легких, кожи и кровеносных сосудов.Медь предохраняет от анемии, лейкемии, остеопороза, выпадению волос, язв и отеков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се соли меди ядовиты, поэтому медную посуду лудят, т.е. покрывают слоем олова, чтобы предотвратить возможность образования медных сол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6" name="Picture 7" descr="s_571i"/>
          <p:cNvPicPr/>
          <p:nvPr/>
        </p:nvPicPr>
        <p:blipFill>
          <a:blip r:embed="rId1"/>
          <a:stretch/>
        </p:blipFill>
        <p:spPr>
          <a:xfrm>
            <a:off x="7710480" y="4005360"/>
            <a:ext cx="1433520" cy="15969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s_022i"/>
          <p:cNvPicPr/>
          <p:nvPr/>
        </p:nvPicPr>
        <p:blipFill>
          <a:blip r:embed="rId2"/>
          <a:stretch/>
        </p:blipFill>
        <p:spPr>
          <a:xfrm>
            <a:off x="7451640" y="568440"/>
            <a:ext cx="1433520" cy="1595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sh_500i"/>
          <p:cNvPicPr/>
          <p:nvPr/>
        </p:nvPicPr>
        <p:blipFill>
          <a:blip r:embed="rId3"/>
          <a:stretch/>
        </p:blipFill>
        <p:spPr>
          <a:xfrm>
            <a:off x="7524720" y="2205000"/>
            <a:ext cx="150192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8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8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8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Ванадий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V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анадий вызывает острую аллергическую реакцию приводящую к бронхиальной астм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ваются заболевания кров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блюдаются нарушения психи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никают экземы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1" name="Picture 8" descr="plot"/>
          <p:cNvPicPr/>
          <p:nvPr/>
        </p:nvPicPr>
        <p:blipFill>
          <a:blip r:embed="rId1"/>
          <a:stretch/>
        </p:blipFill>
        <p:spPr>
          <a:xfrm>
            <a:off x="5996160" y="1979640"/>
            <a:ext cx="15714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2" name="Picture 11" descr="derm8b"/>
          <p:cNvPicPr/>
          <p:nvPr/>
        </p:nvPicPr>
        <p:blipFill>
          <a:blip r:embed="rId2"/>
          <a:stretch/>
        </p:blipFill>
        <p:spPr>
          <a:xfrm>
            <a:off x="5815080" y="4313160"/>
            <a:ext cx="1933560" cy="144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3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Кадмий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Cd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94" name="Picture 7" descr="sk03_b"/>
          <p:cNvPicPr/>
          <p:nvPr/>
        </p:nvPicPr>
        <p:blipFill>
          <a:blip r:embed="rId1"/>
          <a:stretch/>
        </p:blipFill>
        <p:spPr>
          <a:xfrm>
            <a:off x="179280" y="1989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148000" y="2060640"/>
            <a:ext cx="3809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токсикация кадмием вызывает головокружение, слабость, тошноту, желудочные боли, появление белка в моче, развитие трахеита, бронхита, отека легких, поражение печени, почек, сердца, нервной систем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6" name="Picture 8" descr="C0029744BG"/>
          <p:cNvPicPr/>
          <p:nvPr/>
        </p:nvPicPr>
        <p:blipFill>
          <a:blip r:embed="rId2"/>
          <a:stretch/>
        </p:blipFill>
        <p:spPr>
          <a:xfrm>
            <a:off x="2340000" y="2060640"/>
            <a:ext cx="2712960" cy="40323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b1a_b1b"/>
          <p:cNvPicPr/>
          <p:nvPr/>
        </p:nvPicPr>
        <p:blipFill>
          <a:blip r:embed="rId3"/>
          <a:stretch/>
        </p:blipFill>
        <p:spPr>
          <a:xfrm>
            <a:off x="179280" y="407664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Хром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Cr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концентрации хрома в воздухе выше 25 мкг/м3  возникают глубокие поражения дыхательных путей, рак легких, снижении темновой адаптации глаза, поражение желудочно-кишечного тракта, развитие гастрита и язвенной болезней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0" name="Picture 7" descr="8f91cf98-ac8e-49fe-aa61-3296e7220a79"/>
          <p:cNvPicPr/>
          <p:nvPr/>
        </p:nvPicPr>
        <p:blipFill>
          <a:blip r:embed="rId1"/>
          <a:stretch/>
        </p:blipFill>
        <p:spPr>
          <a:xfrm>
            <a:off x="5829480" y="3246480"/>
            <a:ext cx="1904760" cy="1238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1" name="Picture 8" descr="CA0Z6T2T"/>
          <p:cNvPicPr/>
          <p:nvPr/>
        </p:nvPicPr>
        <p:blipFill>
          <a:blip r:embed="rId2"/>
          <a:stretch/>
        </p:blipFill>
        <p:spPr>
          <a:xfrm>
            <a:off x="5364000" y="1722600"/>
            <a:ext cx="3311640" cy="21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Как дожди нас утомили,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астроение на нуле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ы уж солнце позабыли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Что творится на Земле?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Это, верно, небо плачет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И от горя слёзы льёт.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стит ПРИРОДА, не иначе.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Людям за плохой подход.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Знаем, нет плохой погоды,-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е об этом речь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ы забыли, что ПРИРОДУ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адобно БЕРЕЧЬ !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ы забыли, нашим детям –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В этом мире жить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И ПРИРОДУ на планете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адо СОХРАНИТЬ !</a:t>
            </a:r>
            <a:endParaRPr b="0" lang="en-US" sz="20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30" name="Picture 2" descr="http://4.bp.blogspot.com/-I-2HESWVJMo/T0Z3wILXgQI/AAAAAAAAAFA/ckheK5oHysc/s1600/395261_10150551760183176_334218237_n.jpg"/>
          <p:cNvPicPr/>
          <p:nvPr/>
        </p:nvPicPr>
        <p:blipFill>
          <a:blip r:embed="rId1"/>
          <a:stretch/>
        </p:blipFill>
        <p:spPr>
          <a:xfrm>
            <a:off x="4427640" y="2637000"/>
            <a:ext cx="4770360" cy="3951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http://im5-tub-ru.yandex.net/i?id=132914099-38-72&amp;n=21"/>
          <p:cNvPicPr/>
          <p:nvPr/>
        </p:nvPicPr>
        <p:blipFill>
          <a:blip r:embed="rId2"/>
          <a:stretch/>
        </p:blipFill>
        <p:spPr>
          <a:xfrm>
            <a:off x="5867280" y="18900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Свинец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Pb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603" name="Picture 16" descr="CAXBBD8K"/>
          <p:cNvPicPr/>
          <p:nvPr/>
        </p:nvPicPr>
        <p:blipFill>
          <a:blip r:embed="rId1"/>
          <a:stretch/>
        </p:blipFill>
        <p:spPr>
          <a:xfrm>
            <a:off x="179280" y="1989000"/>
            <a:ext cx="1862280" cy="1501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винец вызывает обширные патологические изменения в нервной системе, крови, сосудах</a:t>
            </a: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5" name="Picture 17" descr="18738"/>
          <p:cNvPicPr/>
          <p:nvPr/>
        </p:nvPicPr>
        <p:blipFill>
          <a:blip r:embed="rId2"/>
          <a:stretch/>
        </p:blipFill>
        <p:spPr>
          <a:xfrm>
            <a:off x="179280" y="3645000"/>
            <a:ext cx="1905120" cy="266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6" name="Picture 18" descr="photo02"/>
          <p:cNvPicPr/>
          <p:nvPr/>
        </p:nvPicPr>
        <p:blipFill>
          <a:blip r:embed="rId3"/>
          <a:stretch/>
        </p:blipFill>
        <p:spPr>
          <a:xfrm>
            <a:off x="2340000" y="1989000"/>
            <a:ext cx="284148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Никель 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Ni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Известно, что никель принимает участие в ферментативных реакциях у животных и растений. В организме животных он накапливается в ороговевших тканях, особенно в перьях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вышенное содержание никеля в почвах приводят к эндемическим заболеваниям — у растений появляются уродливые формы, у животных — заболевания глаз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0" name="Picture 6" descr="C:\Users\Мама\Pictures\1365013263_v-kakih-produktah-soderzhitsya-nikel.jpg"/>
          <p:cNvPicPr/>
          <p:nvPr/>
        </p:nvPicPr>
        <p:blipFill>
          <a:blip r:embed="rId1"/>
          <a:stretch/>
        </p:blipFill>
        <p:spPr>
          <a:xfrm>
            <a:off x="4859280" y="2492280"/>
            <a:ext cx="4213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dee0"/>
                </a:solidFill>
                <a:latin typeface="Calibri"/>
              </a:rPr>
              <a:t>Но даже полезные металлы вредны  в больших количествах!</a:t>
            </a:r>
            <a:endParaRPr b="0" lang="en-US" sz="32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612" name="Picture 13" descr="Кальций в молочных продуктах разрушает мозг"/>
          <p:cNvPicPr/>
          <p:nvPr/>
        </p:nvPicPr>
        <p:blipFill>
          <a:blip r:embed="rId1"/>
          <a:stretch/>
        </p:blipFill>
        <p:spPr>
          <a:xfrm>
            <a:off x="1042920" y="1989000"/>
            <a:ext cx="19051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858920" y="191592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льций в молочных продуктах разрушает моз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Оказалось, что прием пищи с повышенной концентрацией железа повышает риск заболевания раком горла и желудка.</a:t>
            </a:r>
            <a:br>
              <a:rPr sz="24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14" descr="Рак от железа (перечень продуктов)"/>
          <p:cNvPicPr/>
          <p:nvPr/>
        </p:nvPicPr>
        <p:blipFill>
          <a:blip r:embed="rId2"/>
          <a:stretch/>
        </p:blipFill>
        <p:spPr>
          <a:xfrm>
            <a:off x="2700360" y="5157720"/>
            <a:ext cx="1871640" cy="133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5" name="Picture 15" descr="ygdf"/>
          <p:cNvPicPr/>
          <p:nvPr/>
        </p:nvPicPr>
        <p:blipFill>
          <a:blip r:embed="rId3"/>
          <a:stretch/>
        </p:blipFill>
        <p:spPr>
          <a:xfrm>
            <a:off x="0" y="2924280"/>
            <a:ext cx="3564000" cy="3405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6" descr="redwein1"/>
          <p:cNvPicPr/>
          <p:nvPr/>
        </p:nvPicPr>
        <p:blipFill>
          <a:blip r:embed="rId4"/>
          <a:stretch/>
        </p:blipFill>
        <p:spPr>
          <a:xfrm>
            <a:off x="2484360" y="3213000"/>
            <a:ext cx="2014560" cy="147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18" name="Прямоугольник 1"/>
          <p:cNvSpPr/>
          <p:nvPr/>
        </p:nvSpPr>
        <p:spPr>
          <a:xfrm>
            <a:off x="468360" y="890640"/>
            <a:ext cx="83516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1. Работа организма человека невозможна без присутствия ионов различных металлов, которые поступают в организм с продуктами питания , минеральными веществами и водой. Но масса этих ионов должна быть строго сбалансирована, иначе у человека возникают различные заболевания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2. Атмосфера, почва, вода  промышленных городов загрязнена выбросами в тяжелых металлов. Их поставляют цветная металлургия, стекольное и гальваническое производство, выхлопы автотранспорта.… В организме человека накапливаются вредные для него вещества, в том числе и ионы металлов. Они нарушают его работу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dedee0"/>
                </a:solidFill>
                <a:latin typeface="Calibri"/>
              </a:rPr>
              <a:t>Рекомендации: </a:t>
            </a:r>
            <a:r>
              <a:rPr b="0" lang="ru-RU" sz="2800" spc="-1" strike="noStrike">
                <a:solidFill>
                  <a:srgbClr val="dedee0"/>
                </a:solidFill>
                <a:latin typeface="Calibri"/>
              </a:rPr>
              <a:t> Как оградить себя от воздействия тяжелых металлов?</a:t>
            </a: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читается, что расстояние в 1 километр - это зона сильного влияния, а 5 км и более - минимального влия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сли человек переселяется из опасной зоны, концентрация тяжелых металлов в крови постепенно снижается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ытье рук снижает концентрацию тяжелых металлов на поверхности ладоней почти в 10 раз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e0"/>
                </a:solidFill>
                <a:latin typeface="Calibri"/>
              </a:rPr>
              <a:t>Как оградить себя от воздействия тяжелых металлов.</a:t>
            </a:r>
            <a:endParaRPr b="0" lang="en-US" sz="2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обходимо чаще проводить влажную уборку с моющими средствам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ля выведения из организма накопившегося свинца необходимо как можно чаще употреблять в пищу молочные продукты, содержащие кальци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ужно больше есть овощей, фруктов и зерновых продуктов. Тогда тяжелые металлы будут оседать в желудочно-кишечном тракте, и выводиться из организма, не всасываяс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1 мая в России объявлен «Днем отказа от курения». Откажитесь от курения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Задание на дом: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по учебнику 9 класса (О.С. Габриеляна) повторить тему «Металлы»,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выполнить тестовые задания и решить задачи на бланках  «Домашнее задание»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dee0"/>
                </a:solidFill>
                <a:latin typeface="Calibri"/>
              </a:rPr>
              <a:t>ДАВАЙ ДОКАЖЕМ ЧТО НЕ ЗРЯ НА НАС  НАДЕЕТСЯ ЗЕМЛЯ</a:t>
            </a:r>
            <a:endParaRPr b="0" lang="en-US" sz="36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охраним свой дом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5" name="Picture 2" descr="IMG_0030"/>
          <p:cNvPicPr/>
          <p:nvPr/>
        </p:nvPicPr>
        <p:blipFill>
          <a:blip r:embed="rId1"/>
          <a:stretch/>
        </p:blipFill>
        <p:spPr>
          <a:xfrm>
            <a:off x="0" y="0"/>
            <a:ext cx="637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e0"/>
                </a:solidFill>
                <a:latin typeface="Calibri"/>
              </a:rPr>
              <a:t>Учащиеся постоянно участвуют в субботниках по благоустройству территории.</a:t>
            </a:r>
            <a:endParaRPr b="0" lang="en-US" sz="2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37" name="Picture 2" descr="H:\DCIM\119_PANA\P1190038.JPG"/>
          <p:cNvPicPr/>
          <p:nvPr/>
        </p:nvPicPr>
        <p:blipFill>
          <a:blip r:embed="rId1"/>
          <a:stretch/>
        </p:blipFill>
        <p:spPr>
          <a:xfrm>
            <a:off x="4800600" y="1649520"/>
            <a:ext cx="4343400" cy="3927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:\DCIM\119_PANA\P1190032.JPG"/>
          <p:cNvPicPr/>
          <p:nvPr/>
        </p:nvPicPr>
        <p:blipFill>
          <a:blip r:embed="rId2"/>
          <a:stretch/>
        </p:blipFill>
        <p:spPr>
          <a:xfrm>
            <a:off x="0" y="2428920"/>
            <a:ext cx="4643280" cy="392904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5"/>
          <p:cNvSpPr/>
          <p:nvPr/>
        </p:nvSpPr>
        <p:spPr>
          <a:xfrm>
            <a:off x="346932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dedee0"/>
                </a:solidFill>
                <a:latin typeface="Calibri"/>
              </a:rPr>
              <a:t>Тема урока: </a:t>
            </a:r>
            <a:r>
              <a:rPr b="1" lang="ru-RU" sz="2400" spc="-1" strike="noStrike">
                <a:solidFill>
                  <a:srgbClr val="dedee0"/>
                </a:solidFill>
                <a:latin typeface="Calibri"/>
              </a:rPr>
              <a:t>«Металлы и экология» (Обобщение знаний по теме металлы. Решение задач).</a:t>
            </a:r>
            <a:br>
              <a:rPr sz="2400"/>
            </a:br>
            <a:endParaRPr b="0" lang="en-US" sz="2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План урока: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знакомиться со значением  металлов с позиций эколог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шить задач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зучить правила «Как оградить себя от воздействия тяжелых металлов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62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Натрий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Na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43" name="Picture 9" descr="fish_adv"/>
          <p:cNvPicPr/>
          <p:nvPr/>
        </p:nvPicPr>
        <p:blipFill>
          <a:blip r:embed="rId1"/>
          <a:stretch/>
        </p:blipFill>
        <p:spPr>
          <a:xfrm>
            <a:off x="468360" y="1916280"/>
            <a:ext cx="1233360" cy="1584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рий (Na) участвует в образовании желудочного со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гулирует выделение почками многих продуктов обмена вещест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створ хлорида натрия (0.85-0.9 %)- физиологический раствор применяется для внутривенных вливаний кров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5" name="Picture 10" descr="bread"/>
          <p:cNvPicPr/>
          <p:nvPr/>
        </p:nvPicPr>
        <p:blipFill>
          <a:blip r:embed="rId2"/>
          <a:stretch/>
        </p:blipFill>
        <p:spPr>
          <a:xfrm>
            <a:off x="2340000" y="2060640"/>
            <a:ext cx="2087640" cy="159840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1"/>
          <p:cNvSpPr/>
          <p:nvPr/>
        </p:nvSpPr>
        <p:spPr>
          <a:xfrm>
            <a:off x="179280" y="255096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Прямоугольник 2"/>
          <p:cNvSpPr/>
          <p:nvPr/>
        </p:nvSpPr>
        <p:spPr>
          <a:xfrm>
            <a:off x="108000" y="1859040"/>
            <a:ext cx="4680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Избыток натрия в организме может проявляться повышенной возбудимостью. Другими симптомами являются также повышение жажды и потливости. Переизбыток натрия приводит к отекам ног и лица, а также к развитию гипертони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Калий 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K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50" name="Picture 11" descr="4905-original"/>
          <p:cNvPicPr/>
          <p:nvPr/>
        </p:nvPicPr>
        <p:blipFill>
          <a:blip r:embed="rId1"/>
          <a:stretch/>
        </p:blipFill>
        <p:spPr>
          <a:xfrm>
            <a:off x="3203640" y="1628640"/>
            <a:ext cx="1428840" cy="16383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3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лий регулирует водный баланс в организме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рмализует ритм сердц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аствует в процессе проведения нервных импульсов и передачи их на иннервируемые орган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пособствует лучшей деятельности головного моз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2" name="Picture 13" descr="xl_25278"/>
          <p:cNvPicPr/>
          <p:nvPr/>
        </p:nvPicPr>
        <p:blipFill>
          <a:blip r:embed="rId2"/>
          <a:stretch/>
        </p:blipFill>
        <p:spPr>
          <a:xfrm>
            <a:off x="25560" y="1628640"/>
            <a:ext cx="2160360" cy="163836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"/>
          <p:cNvSpPr/>
          <p:nvPr/>
        </p:nvSpPr>
        <p:spPr>
          <a:xfrm>
            <a:off x="0" y="2550960"/>
            <a:ext cx="50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Большой избыток калия в организме нарушает работу сердечной мышцы, расстраивает функционирование почек, приводит к отложению солей калия в связках и повышает риск развития мочекаменной болезн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      </a:t>
            </a: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Стронций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(Sr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56" name="Объект 4" descr="Воздействие стронций на организм ребенка"/>
          <p:cNvPicPr/>
          <p:nvPr/>
        </p:nvPicPr>
        <p:blipFill>
          <a:blip r:embed="rId1"/>
          <a:stretch/>
        </p:blipFill>
        <p:spPr>
          <a:xfrm>
            <a:off x="-25560" y="1557360"/>
            <a:ext cx="3740400" cy="316692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5"/>
          <p:cNvSpPr/>
          <p:nvPr/>
        </p:nvSpPr>
        <p:spPr>
          <a:xfrm>
            <a:off x="330120" y="2690640"/>
            <a:ext cx="67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w Cen MT"/>
              </a:rPr>
              <a:t>Наиболее ярко негативное влияние стронция на организм человека запечатлено на фото ребенка, который пережил ядерную бомбардировку в Хиросим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Прямоугольник 1"/>
          <p:cNvSpPr/>
          <p:nvPr/>
        </p:nvSpPr>
        <p:spPr>
          <a:xfrm>
            <a:off x="3851280" y="162864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В медицине стронций - Sr90 - используется для проведения лучевой терапии при опухолях, эрозиях и других поражениях тканей и органов, но так можно лечить только те очаги, которые расположены неглубоко – например, в коже и слизистых оболочка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6:18:14Z</dcterms:created>
  <dc:creator>Игорь Александрович</dc:creator>
  <dc:description/>
  <dc:language>en-US</dc:language>
  <cp:lastModifiedBy>Е.Ю.</cp:lastModifiedBy>
  <dcterms:modified xsi:type="dcterms:W3CDTF">2017-11-14T07:59:03Z</dcterms:modified>
  <cp:revision>51</cp:revision>
  <dc:subject/>
  <dc:title>Давай докажем что не зря на нас  надеется земля</dc:title>
</cp:coreProperties>
</file>