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E21-4AC1-45DD-A262-B4D35CDE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4AF-B393-40D2-A8F4-B20562F5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210-1995-49C0-B715-3A17D34C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DB7-595F-4383-B372-257A0F56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A76D-8DC6-42F1-897E-794F9B9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E684-5625-4F8F-A087-283C389A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32F9-31AE-4F08-93D5-1F579212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F793-BE18-4FF1-90BF-3C6BEDC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EC86-FB12-41A4-9857-6C48A53D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E3C9-AAC4-4F4A-BDD9-7F8F9EA0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DD7E-499B-4437-B3AC-F0F1068F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521-09C2-4605-89CF-C0030A9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5FC9-DC4E-42B0-8539-55E4E153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CE0-0796-4F78-B7E7-EE76B3A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F8CF-6E61-4DB9-B788-2E6C30F2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5E78-3FC6-4C7B-AC56-F2953F40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C97E-9224-49AF-A7F4-56FC3E5E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E156-73DC-4F1F-B384-4AABEBC1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E6A7-75FD-4ECA-8DD9-A2FA0204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8C0E-3CEC-4E91-AC6F-456D9BE1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7E7F-B79D-4F90-AACD-180CBCCE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737B-731A-4751-B1F1-5A4145A7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B3F4-E7FA-4DA7-8BAE-2C5EBE0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0674-C5D3-4B31-9BCD-801AC579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36F6-1FE4-4BD6-A349-AEE8069E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253B1-4FD5-480F-B8D5-6561CF8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47CE6-26A5-4AA3-BFE3-CAFB5B8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5F005-19CD-488A-8920-77629893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49319-6F72-422A-B1C3-6297AA5E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E34AB-36F9-474B-BB14-71F77109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8760-76B7-4C42-9F4C-B6EF5E51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295C-3A7E-40E9-97C9-840F3164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9D0F-6488-46ED-B6A7-1A116ED1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C35-B42E-4580-A22B-EA0096EE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15A51-1D6C-42A3-A007-B06159D9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7264-6DFD-4387-8F69-B3464738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CDE08-60CD-4025-93FF-F713FCD5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1CD6-B38C-45E8-99C3-84EE4AAA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38C75-4E3C-4852-8C3E-939570F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5E11-81F2-4B1F-9990-26C4B4C7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2D0F-EFF1-48B2-BD74-CE8C929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7A45C-7AA5-49D7-8DCE-C28E7373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75A5-03B2-49C8-A565-18605A7F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7B206-83C3-44B6-97C2-A4C85D6F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739-7E05-4F0E-A6B9-C33388F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1849-72A4-4B20-8D83-07C3FE0F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3D00-2672-4C61-8390-93BBEC77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CA67D-9E53-46B4-982C-B6CA465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4B34C-D821-4045-80DE-C91AFA7F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46579-195E-42E5-8154-9C3D838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FF14-2D41-4ADB-8A23-A83FCE3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4541D-0492-4CDA-B857-B4E54D9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7218-653B-4526-AB0A-9CBC631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65F7-E43A-4431-961A-FCB96D32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E4EA-9B1C-4EAD-A488-549B1D49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580-C123-4FD1-82E1-D4594723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9F11-4F93-4A53-8B41-33556A75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0A0-0B77-43F9-B733-7209B02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B81-3BFF-439F-AA93-CC5A3CD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671-3544-4352-BCF7-BA3FD8F9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A204-02C0-419E-8230-12BC8F5E0FE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FF1-0614-40AE-BBA8-197D4C5D22E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30BD-6413-48C8-9F52-E8D78FE59A7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8188-448F-4370-A902-D289E5CE4420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3755-7650-43CF-ACE0-1F88688F5D8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86040" y="364284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ухиной Дианы   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7 Б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2190600" y="2967120"/>
            <a:ext cx="1857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а́мерная музыка (от итал. camera — комната, палата) — музыка, исполняемая небольшим коллективом музыкантов и или вокалистов. При исполнении камерного сочинения каждую партию исполняет только один инструмент (голос), в отличие от оркестровой музыки, где существуют группы инструментов, играющих в унисо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5" name="Управляющая кнопка: далее 3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26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28" name="Управляющая кнопка: назад 4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29" name="Управляющая кнопка: назад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о принятой классификации, в понятие «камерная музыка» включаются дуэты, трио, квартеты, квинтеты, септеты, октеты и нонеты, при самых разнообразных составах инструментов. К камерным относятся также некоторые жанры для соло с аккомпанементом: например, романсы (камерно-вокальный жанр) или инструментальные сонаты (камерно-инструментальный жанр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3" name="Управляющая кнопка: далее 3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34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6" name="Управляющая кнопка: назад 4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37" name="Управляющая кнопка: назад 4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5278320" y="1139760"/>
            <a:ext cx="3548160" cy="2067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Основные исполнители камерной музыки: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СЕРГЕЙ ВАСИЛЬЕВИЧ РАХМАНИНОВ – 1873-1943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ЛЮДВИГ ВАН БЕТХОВЕН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770-1827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ИОГАННЕС БРАМС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833-1897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ЖОРЖ БИЗЕ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838-1875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ИОГАНН СЕБАСТЬЯН БАХ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– 1685-1750</a:t>
            </a:r>
            <a:r>
              <a:rPr b="0" i="1" lang="ru-RU" sz="1200" spc="-1" strike="noStrike">
                <a:solidFill>
                  <a:srgbClr val="ffffff"/>
                </a:solidFill>
                <a:latin typeface="Trebuchet MS"/>
              </a:rPr>
              <a:t>гг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1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43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5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46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248440" y="1139760"/>
            <a:ext cx="3578040" cy="20671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Камерная музыка может быть написана в любом стиле. Её главное отличие в том, что произведения рассчитаны на небольшое количество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музыкантов. По сути, сама по себе "камерная музыка" — уже и есть стиль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0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52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54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55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5291280" y="1139760"/>
            <a:ext cx="3535200" cy="2067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Существует также понятие камерного оркестра — как правило, это сокращённый (не более 15-20 человек) состав струнного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rebuchet MS"/>
              </a:rPr>
              <a:t>оркестра, иногда с добавлением нескольких духовых инструментов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59" name="Рисунок 4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60" name="Управляющая кнопка: далее 5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61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63" name="Управляющая кнопка: назад 6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64" name="Управляющая кнопка: назад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5310360" y="1139760"/>
            <a:ext cx="3516120" cy="20671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Коллектив, исполняющий камерную музыку, называется камерным ансамблем. Как правило, в камерный ансамбль входят от двух до </a:t>
            </a:r>
            <a:br>
              <a:rPr sz="1300"/>
            </a:b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десяти музыкантов, реже — больше. Исторически сложились канонические инструментальные составы некоторых камерных ансамблей, </a:t>
            </a:r>
            <a:br>
              <a:rPr sz="1300"/>
            </a:br>
            <a:r>
              <a:rPr b="0" i="1" lang="ru-RU" sz="1300" spc="-1" strike="noStrike">
                <a:solidFill>
                  <a:srgbClr val="ffffff"/>
                </a:solidFill>
                <a:latin typeface="Trebuchet MS"/>
              </a:rPr>
              <a:t>например, фортепианное трио, струнный квартет и др.</a:t>
            </a:r>
            <a:br>
              <a:rPr sz="1000"/>
            </a:b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68" name="Рисунок 9" descr="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  <p:grpSp>
        <p:nvGrpSpPr>
          <p:cNvPr id="269" name="Управляющая кнопка: далее 10"/>
          <p:cNvGrpSpPr/>
          <p:nvPr/>
        </p:nvGrpSpPr>
        <p:grpSpPr>
          <a:xfrm>
            <a:off x="944640" y="6357960"/>
            <a:ext cx="560160" cy="414360"/>
            <a:chOff x="944640" y="6357960"/>
            <a:chExt cx="560160" cy="414360"/>
          </a:xfrm>
        </p:grpSpPr>
        <p:pic>
          <p:nvPicPr>
            <p:cNvPr id="270" name="Управляющая кнопка: далее 10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944640" y="6357960"/>
              <a:ext cx="5601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971640" y="6381720"/>
              <a:ext cx="504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72" name="Управляющая кнопка: назад 11"/>
          <p:cNvGrpSpPr/>
          <p:nvPr/>
        </p:nvGrpSpPr>
        <p:grpSpPr>
          <a:xfrm>
            <a:off x="298440" y="6357960"/>
            <a:ext cx="560520" cy="414360"/>
            <a:chOff x="298440" y="6357960"/>
            <a:chExt cx="560520" cy="414360"/>
          </a:xfrm>
        </p:grpSpPr>
        <p:pic>
          <p:nvPicPr>
            <p:cNvPr id="273" name="Управляющая кнопка: назад 11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298440" y="6357960"/>
              <a:ext cx="560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24000" y="6381720"/>
              <a:ext cx="50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5:39:02Z</dcterms:created>
  <dc:creator>Пользователь</dc:creator>
  <dc:description/>
  <dc:language>en-US</dc:language>
  <cp:lastModifiedBy>MDD</cp:lastModifiedBy>
  <dcterms:modified xsi:type="dcterms:W3CDTF">2015-11-25T17:33:56Z</dcterms:modified>
  <cp:revision>11</cp:revision>
  <dc:subject/>
  <dc:title>Камерная музыка: стили, жанры, исполнители</dc:title>
</cp:coreProperties>
</file>