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586-9E0D-4D2F-A9F5-FBD5456D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609-2845-4AC5-894D-EE8CAC1C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732-4ACE-4E50-8A87-94954337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F6C-B7F5-414C-A907-8612F3F9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DA7-EC37-47DF-9AC4-2D9CF5F0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23B-0F7F-4CA4-AD33-D5BD51F6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667B-8067-4590-8861-F4A771FC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5F84-AAC6-4C88-9B87-6586518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08A0-DDDF-49FA-81DA-E4C3050D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2BA-2BCC-4456-88CC-4993C1C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6DF-4F7E-4404-9928-87C1A78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BEE-C49A-4B18-B092-F8F7577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B94D-83AF-4B80-8753-939D7EC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66BF-9A2D-4BD2-A907-0768D4C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5F4F-419B-461D-B1A5-223CF68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1C8-1590-42D7-8FE6-41D73A46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D0E6-4E0D-4E57-8971-AD21201E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A217-7524-4640-8B37-2C217BC3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42E5-B6A3-4DEC-BF05-B6F1E8E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C287-AF21-4DBB-B4F8-2410E84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5F54-5881-412E-9279-5D90ED2B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6B96-0461-4267-9207-0661FC0F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8AA-CC1F-40E4-A3A9-9CEECB3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F578-71A3-4EFD-8DAE-C16F951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AFD5-9251-40A9-880C-55CD6B2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0E58-DBF8-4238-8783-6A9DE77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A0D8-9F90-4814-85D9-7ABFC54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E24F-47C4-44C7-912B-DC8C252E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4E68-B2F2-490A-9B3B-7C41F887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8842-9C43-4EA4-BE85-34BA0D2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D1BB-3DEA-4F69-A880-285DB05C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B4B7-0FD1-4C3A-B309-D2A7F8B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ADD9-3CC0-4B34-B7E2-E5C9724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92E-0478-4F44-9B80-54B188D2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064E-1A2A-483E-9ED1-CF807F89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3D88-028A-45BB-AD52-64C8E95D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0C8C-BFD8-4AC7-8A08-2DD9405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DFA7-36ED-4BFB-B7AA-7B9A1F48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A715-FAEA-4285-BB5D-B51361A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064C-E9F7-445C-948A-99F4DDD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7866-2A2B-4868-A87D-D9F412F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3961-FB8A-4F00-BF16-A1D4679C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3705-58E5-4906-84F2-1A706F1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F76D-1B24-45A1-B627-6F193A58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8D3-5543-4D44-8E25-63F1D17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8C03-6721-4771-9EB0-4D0F743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A06B7-B53F-422E-96DB-9E302E6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CCD2-C865-4E1E-BBF9-9D7559EC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9858-BB5E-4A99-936A-D3B8D3A6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2593-C0F9-4231-B5A2-9AA8C43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222A-F270-4976-BEDC-1D9AA5C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AF8F-A0EB-49F6-9E81-198D80B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412C-96F3-42BB-962A-8430CB1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627D-354A-4419-B722-BB55571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8BAA-BA90-42B9-A371-8DDBBD7B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3E9-90FB-440A-B03C-2A5BD554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146E-74BC-4293-A02D-1B4B34FB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3A4-175A-4014-BBE6-691BF9E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86F-3AFE-4B83-8342-25B5444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E57-9FED-4BDF-B3D9-82DE983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0D4F-4D26-4D6A-A3A2-C1808F064E2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DF6-0F24-4F36-B082-06763688E09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54B-A87D-4EE6-B96A-992FEBC3578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D0F-6B32-4BAC-B3DA-D9CD425CD43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F6D-BE49-464A-802C-D119590E99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86040" y="364284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ухиной Дианы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7 Б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21906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а́мерная музыка (от итал. camera — комната, палата) — музыка, исполняемая небольшим коллективом музыкантов и или вокалистов. При исполнении камерного сочинения каждую партию исполняет только один инструмент (голос), в отличие от оркестровой музыки, где существуют группы инструментов, играющих в унисо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5" name="Управляющая кнопка: далее 3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26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28" name="Управляющая кнопка: назад 4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29" name="Управляющая кнопка: назад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принятой классификации, в понятие «камерная музыка» включаются дуэты, трио, квартеты, квинтеты, септеты, октеты и нонеты, при самых разнообразных составах инструментов. К камерным относятся также некоторые жанры для соло с аккомпанементом: например, романсы (камерно-вокальный жанр) или инструментальные сонаты (камерно-инструментальный жан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3" name="Управляющая кнопка: далее 3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34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6" name="Управляющая кнопка: назад 4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37" name="Управляющая кнопка: назад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48160" cy="2067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Основные исполнители камерной музыки: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СЕРГЕЙ ВАСИЛЬЕВИЧ РАХМАНИНОВ – 1873-1943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ЛЮДВИГ ВАН БЕТХОВЕН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770-1827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ИОГАННЕС БРАМС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833-1897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ЖОРЖ БИЗЕ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838-1875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ИОГАНН СЕБАСТЬЯН БАХ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685-1750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43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5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46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248440" y="1139760"/>
            <a:ext cx="3578040" cy="20671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Камерная музыка может быть написана в любом стиле. Её главное отличие в том, что произведения рассчитаны на небольшое количество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музыкантов. По сути, сама по себе "камерная музыка" — уже и есть стиль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52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54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55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5291280" y="1139760"/>
            <a:ext cx="3535200" cy="2067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Существует также понятие камерного оркестра — как правило, это сокращённый (не более 15-20 человек) состав струнного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оркестра, иногда с добавлением нескольких духовых инструментов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60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6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63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64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5310360" y="1139760"/>
            <a:ext cx="3516120" cy="2067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Коллектив, исполняющий камерную музыку, называется камерным ансамблем. Как правило, в камерный ансамбль входят от двух до </a:t>
            </a:r>
            <a:br>
              <a:rPr sz="1300"/>
            </a:b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десяти музыкантов, реже — больше. Исторически сложились канонические инструментальные составы некоторых камерных ансамблей, </a:t>
            </a:r>
            <a:br>
              <a:rPr sz="1300"/>
            </a:b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например, фортепианное трио, струнный квартет и др.</a:t>
            </a:r>
            <a:br>
              <a:rPr sz="1000"/>
            </a:b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8" name="Рисунок 9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69" name="Управляющая кнопка: далее 10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70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72" name="Управляющая кнопка: назад 11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73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5:39:02Z</dcterms:created>
  <dc:creator>Пользователь</dc:creator>
  <dc:description/>
  <dc:language>en-US</dc:language>
  <cp:lastModifiedBy>MDD</cp:lastModifiedBy>
  <dcterms:modified xsi:type="dcterms:W3CDTF">2015-11-25T17:33:56Z</dcterms:modified>
  <cp:revision>11</cp:revision>
  <dc:subject/>
  <dc:title>Камерная музыка: стили, жанры, исполнители</dc:title>
</cp:coreProperties>
</file>