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B489-6E90-4BD5-A7C3-936A443BB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565E-8869-4DFD-AD4B-D050928D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FC9A-90B5-4198-A8B0-969471E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0F13-3080-465E-B09E-F243E98E8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6A47-D53A-4881-8F7E-2BDDF4A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4838-1410-4358-B690-131510ED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7097-7F8D-4731-9C3B-3722C70E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1C51-4718-4EA3-AE43-4A78B990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7D7B-2371-4B2E-8AAD-2DDBFA96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37213-9AC5-4D34-9369-9D864F2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CA07-037B-4A47-A25F-F27A7390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C527-B017-43FF-A701-0DA79D6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1122F-40F8-4085-8B35-1F965147D6F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0"/>
            <a:ext cx="9144000" cy="691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323dc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МАОУ СОШ № 1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                                 </a:t>
            </a:r>
            <a:r>
              <a:rPr b="1" i="1" lang="ru-RU" sz="2400" spc="-1" strike="noStrike">
                <a:solidFill>
                  <a:srgbClr val="2323dc"/>
                </a:solidFill>
                <a:latin typeface="Arial"/>
              </a:rPr>
              <a:t>Т</a:t>
            </a: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ем</a:t>
            </a:r>
            <a:r>
              <a:rPr b="1" i="1" lang="ru-RU" sz="2400" spc="-1" strike="noStrike">
                <a:solidFill>
                  <a:srgbClr val="2323dc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                            </a:t>
            </a:r>
            <a:r>
              <a:rPr b="1" i="1" lang="ru-RU" sz="2400" spc="-1" strike="noStrike">
                <a:solidFill>
                  <a:srgbClr val="2323dc"/>
                </a:solidFill>
                <a:latin typeface="Calibri"/>
              </a:rPr>
              <a:t>« В каждой душе звучит музыка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i="1" lang="ru-RU" sz="1800" spc="-1" strike="noStrike">
                <a:solidFill>
                  <a:srgbClr val="2300d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                                         </a:t>
            </a: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Подготовила ученица 5 «б» класса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                               </a:t>
            </a:r>
            <a:r>
              <a:rPr b="1" i="1" lang="ru-RU" sz="2200" spc="-1" strike="noStrike">
                <a:solidFill>
                  <a:srgbClr val="2300dc"/>
                </a:solidFill>
                <a:latin typeface="Times New Roman"/>
              </a:rPr>
              <a:t>Ерёменко Анастаси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2300dc"/>
                </a:solidFill>
                <a:latin typeface="Calibri"/>
              </a:rPr>
              <a:t>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4140360" y="1125360"/>
            <a:ext cx="3816360" cy="532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361800" y="1125360"/>
            <a:ext cx="36338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47ff"/>
                </a:solidFill>
                <a:latin typeface="Times New Roman"/>
              </a:rPr>
              <a:t>Прежде всего, музыка – это свободное, независимое, безграничное начало, которое вне стилей и правил человеческого разума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b80047"/>
                </a:solidFill>
                <a:latin typeface="Times New Roman"/>
              </a:rPr>
              <a:t>Музыка - это особенное стихийное явление, отражающее состояние ума и души композитора, проявление его психики, настроения, эмоций, любви и страсти, фантазий и впечатлений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4c4c4c"/>
                </a:solidFill>
                <a:latin typeface="Times New Roman"/>
              </a:rPr>
              <a:t>Музыка – это трансформация космической энергии через сознание человека. Это искусство, пожалуй, самое великое и прекрасное искусство в истории человечества! Ничто не может ярче выразить ЭГО и сущность человека, как музыка!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1280" y="115920"/>
            <a:ext cx="873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33cc66"/>
                </a:solidFill>
                <a:latin typeface="Times New Roman"/>
              </a:rPr>
              <a:t>Слово «музыка» в переводе с греческого означает «искусство муз». То есть музыка – это вид искусств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4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4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0"/>
            <a:ext cx="9144000" cy="67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dc2300"/>
                </a:solidFill>
                <a:latin typeface="Calibri Light"/>
              </a:rPr>
              <a:t>Музыка  заставляет людей плакать и смеяться, она трогает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dc2300"/>
                </a:solidFill>
                <a:latin typeface="Calibri"/>
              </a:rPr>
              <a:t>самые чувствительные струны человеческой души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Ветер чуть слышно поёт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Липа вздыхает у сада…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Чуткая музыка всюду живёт –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В шелесте трав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В шуме дубрав –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олько прислушаться надо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Звонко струиться ручей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Падает гром с небосвода –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Это мелодией вечной своей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Мир наполняет природа!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ихие слёзы свои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Ива роняет у брода…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релью приветствует ночь соловьи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Звоном ветвей, песней дождей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Мир наполняет природа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Птицы встречают восход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Ласточка солнышку рада!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Чуткая музыка всюду живёт, -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ae00"/>
                </a:solidFill>
                <a:latin typeface="Times New Roman"/>
              </a:rPr>
              <a:t>Только прислушаться надо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39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2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2000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3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3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3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3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3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3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3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3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3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3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3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3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30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3000"/>
                                        <p:tgtEl>
                                          <p:spTgt spid="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3000"/>
                                        <p:tgtEl>
                                          <p:spTgt spid="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3000"/>
                                        <p:tgtEl>
                                          <p:spTgt spid="4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3000"/>
                                        <p:tgtEl>
                                          <p:spTgt spid="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3000"/>
                                        <p:tgtEl>
                                          <p:spTgt spid="4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3000"/>
                                        <p:tgtEl>
                                          <p:spTgt spid="4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70563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1152360" y="1800360"/>
            <a:ext cx="6480360" cy="48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792000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96720" y="189000"/>
            <a:ext cx="269892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492360" y="189000"/>
            <a:ext cx="523080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3168720" y="2205000"/>
            <a:ext cx="5975280" cy="216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0" y="4370400"/>
            <a:ext cx="579600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 rot="240000">
            <a:off x="468000" y="132948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1)музыка    бывает     грустной,    весёлой   и    душев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)музыка-  это  ритм    нашей   жиз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3)   музыка    может    передать    всё     что   ты    видел  и   чувствова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)    музыка   для   всех   сво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5)музыка-   это    наша  сказка   или   прав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6)музыка  везде  и   повсю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7)она  загадочна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8)музыка   может   передать    настро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9)её  трудно   не  любить    и  не    цен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21:26Z</dcterms:created>
  <dc:creator>Admin</dc:creator>
  <dc:description/>
  <dc:language>en-US</dc:language>
  <cp:lastModifiedBy>Mary Kay</cp:lastModifiedBy>
  <dcterms:modified xsi:type="dcterms:W3CDTF">2015-12-14T18:28:01Z</dcterms:modified>
  <cp:revision>17</cp:revision>
  <dc:subject/>
  <dc:title>Слайд 1</dc:title>
</cp:coreProperties>
</file>