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5E38C2-B117-4B1A-82EF-1FCE20C329FA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6EFC1BB-094A-4FFA-878D-26E24F723D43}">
      <dgm:prSet phldrT="[Текст]"/>
      <dgm:spPr/>
      <dgm:t>
        <a:bodyPr/>
        <a:lstStyle/>
        <a:p>
          <a:r>
            <a:rPr lang="ru-RU" b="1" dirty="0" smtClean="0"/>
            <a:t>1</a:t>
          </a:r>
          <a:endParaRPr lang="ru-RU" b="1" dirty="0"/>
        </a:p>
      </dgm:t>
    </dgm:pt>
    <dgm:pt modelId="{2EA9009A-1E75-4986-969C-B90F6CBA5D6E}" type="parTrans" cxnId="{C409F300-5331-41FB-B6ED-272088B3D102}">
      <dgm:prSet/>
      <dgm:spPr/>
      <dgm:t>
        <a:bodyPr/>
        <a:lstStyle/>
        <a:p>
          <a:endParaRPr lang="ru-RU"/>
        </a:p>
      </dgm:t>
    </dgm:pt>
    <dgm:pt modelId="{DC53B43B-4558-4E69-BF53-9A3966C182C2}" type="sibTrans" cxnId="{C409F300-5331-41FB-B6ED-272088B3D102}">
      <dgm:prSet/>
      <dgm:spPr/>
      <dgm:t>
        <a:bodyPr/>
        <a:lstStyle/>
        <a:p>
          <a:endParaRPr lang="ru-RU"/>
        </a:p>
      </dgm:t>
    </dgm:pt>
    <dgm:pt modelId="{994DF295-E7AB-4770-9E58-780AC83E72AD}">
      <dgm:prSet phldrT="[Текст]" custT="1"/>
      <dgm:spPr/>
      <dgm:t>
        <a:bodyPr/>
        <a:lstStyle/>
        <a:p>
          <a:r>
            <a:rPr lang="ru-RU" sz="2800" b="1" dirty="0" smtClean="0">
              <a:latin typeface="Times New Roman" pitchFamily="18" charset="0"/>
              <a:cs typeface="Times New Roman" pitchFamily="18" charset="0"/>
            </a:rPr>
            <a:t>Образовательная</a:t>
          </a:r>
          <a:r>
            <a:rPr lang="ru-RU" sz="3000" dirty="0" smtClean="0"/>
            <a:t> (</a:t>
          </a:r>
          <a:r>
            <a:rPr lang="ru-RU" sz="3000" b="0" i="0" dirty="0" smtClean="0"/>
            <a:t>Активизировать познавательную активность)</a:t>
          </a:r>
          <a:endParaRPr lang="ru-RU" sz="3000" dirty="0"/>
        </a:p>
      </dgm:t>
    </dgm:pt>
    <dgm:pt modelId="{5745B243-656C-4D0B-8D13-8CB8A2B7D46C}" type="parTrans" cxnId="{6AAF85BA-C13F-4BE8-B481-D4A61B81A5C8}">
      <dgm:prSet/>
      <dgm:spPr/>
      <dgm:t>
        <a:bodyPr/>
        <a:lstStyle/>
        <a:p>
          <a:endParaRPr lang="ru-RU"/>
        </a:p>
      </dgm:t>
    </dgm:pt>
    <dgm:pt modelId="{1178F7FB-88A5-446C-B408-E0CDFEB3DA8B}" type="sibTrans" cxnId="{6AAF85BA-C13F-4BE8-B481-D4A61B81A5C8}">
      <dgm:prSet/>
      <dgm:spPr/>
      <dgm:t>
        <a:bodyPr/>
        <a:lstStyle/>
        <a:p>
          <a:endParaRPr lang="ru-RU"/>
        </a:p>
      </dgm:t>
    </dgm:pt>
    <dgm:pt modelId="{B999B934-C7E5-47A6-B0EC-EC2C68179004}">
      <dgm:prSet phldrT="[Текст]"/>
      <dgm:spPr/>
      <dgm:t>
        <a:bodyPr/>
        <a:lstStyle/>
        <a:p>
          <a:r>
            <a:rPr lang="ru-RU" b="1" dirty="0" smtClean="0"/>
            <a:t>2</a:t>
          </a:r>
          <a:endParaRPr lang="ru-RU" b="1" dirty="0"/>
        </a:p>
      </dgm:t>
    </dgm:pt>
    <dgm:pt modelId="{6EB650A0-1BA9-47BF-86F3-8008CEC897A0}" type="parTrans" cxnId="{133B6520-1777-4270-B6A6-7A354CBEC732}">
      <dgm:prSet/>
      <dgm:spPr/>
      <dgm:t>
        <a:bodyPr/>
        <a:lstStyle/>
        <a:p>
          <a:endParaRPr lang="ru-RU"/>
        </a:p>
      </dgm:t>
    </dgm:pt>
    <dgm:pt modelId="{9833CC54-4905-4B21-8530-1FF65A0D83FA}" type="sibTrans" cxnId="{133B6520-1777-4270-B6A6-7A354CBEC732}">
      <dgm:prSet/>
      <dgm:spPr/>
      <dgm:t>
        <a:bodyPr/>
        <a:lstStyle/>
        <a:p>
          <a:endParaRPr lang="ru-RU"/>
        </a:p>
      </dgm:t>
    </dgm:pt>
    <dgm:pt modelId="{FC7ECB05-09CF-4615-808B-906479D211DE}">
      <dgm:prSet phldrT="[Текст]" custT="1"/>
      <dgm:spPr/>
      <dgm:t>
        <a:bodyPr/>
        <a:lstStyle/>
        <a:p>
          <a:r>
            <a:rPr lang="ru-RU" sz="2800" b="1" dirty="0" smtClean="0">
              <a:latin typeface="Times New Roman" pitchFamily="18" charset="0"/>
              <a:cs typeface="Times New Roman" pitchFamily="18" charset="0"/>
            </a:rPr>
            <a:t>Развивающая</a:t>
          </a:r>
          <a:r>
            <a:rPr lang="ru-RU" sz="2400" dirty="0" smtClean="0"/>
            <a:t> (</a:t>
          </a:r>
          <a:r>
            <a:rPr lang="ru-RU" sz="2400" b="0" i="0" dirty="0" smtClean="0"/>
            <a:t>проводить сравнение - научить учащихся находить различное и сходное, выделять существенные признаки сравниваемых производственных объектов и процессов, устанавливать последовательность в развитии знаний и умений)</a:t>
          </a:r>
          <a:endParaRPr lang="ru-RU" sz="2400" dirty="0"/>
        </a:p>
      </dgm:t>
    </dgm:pt>
    <dgm:pt modelId="{32807618-4613-4BB2-B358-7AA2E34211D5}" type="parTrans" cxnId="{84C1EBB6-134B-44FD-A00F-429C577068F7}">
      <dgm:prSet/>
      <dgm:spPr/>
      <dgm:t>
        <a:bodyPr/>
        <a:lstStyle/>
        <a:p>
          <a:endParaRPr lang="ru-RU"/>
        </a:p>
      </dgm:t>
    </dgm:pt>
    <dgm:pt modelId="{8D98EA58-D64C-43BC-8A09-DFCB44887C51}" type="sibTrans" cxnId="{84C1EBB6-134B-44FD-A00F-429C577068F7}">
      <dgm:prSet/>
      <dgm:spPr/>
      <dgm:t>
        <a:bodyPr/>
        <a:lstStyle/>
        <a:p>
          <a:endParaRPr lang="ru-RU"/>
        </a:p>
      </dgm:t>
    </dgm:pt>
    <dgm:pt modelId="{5B0A5FDD-B675-4EED-82B4-65C27E94617F}">
      <dgm:prSet phldrT="[Текст]"/>
      <dgm:spPr/>
      <dgm:t>
        <a:bodyPr/>
        <a:lstStyle/>
        <a:p>
          <a:r>
            <a:rPr lang="ru-RU" b="1" dirty="0" smtClean="0"/>
            <a:t>3</a:t>
          </a:r>
          <a:endParaRPr lang="ru-RU" b="1" dirty="0"/>
        </a:p>
      </dgm:t>
    </dgm:pt>
    <dgm:pt modelId="{87DDDA01-4A61-453F-ADFE-7F4BD931F3BA}" type="parTrans" cxnId="{711813BD-3D33-4A3D-9D87-1E374A15FF5E}">
      <dgm:prSet/>
      <dgm:spPr/>
      <dgm:t>
        <a:bodyPr/>
        <a:lstStyle/>
        <a:p>
          <a:endParaRPr lang="ru-RU"/>
        </a:p>
      </dgm:t>
    </dgm:pt>
    <dgm:pt modelId="{4EE73580-7C56-447F-B987-CE28FB699A7D}" type="sibTrans" cxnId="{711813BD-3D33-4A3D-9D87-1E374A15FF5E}">
      <dgm:prSet/>
      <dgm:spPr/>
      <dgm:t>
        <a:bodyPr/>
        <a:lstStyle/>
        <a:p>
          <a:endParaRPr lang="ru-RU"/>
        </a:p>
      </dgm:t>
    </dgm:pt>
    <dgm:pt modelId="{18074AF7-4400-477F-82F6-5870899C6CBB}">
      <dgm:prSet phldrT="[Текст]" custT="1"/>
      <dgm:spPr/>
      <dgm:t>
        <a:bodyPr/>
        <a:lstStyle/>
        <a:p>
          <a:r>
            <a:rPr lang="ru-RU" sz="2800" b="1" dirty="0" smtClean="0"/>
            <a:t>Воспитательная</a:t>
          </a:r>
          <a:r>
            <a:rPr lang="ru-RU" sz="2400" dirty="0" smtClean="0"/>
            <a:t> (</a:t>
          </a:r>
          <a:r>
            <a:rPr lang="ru-RU" sz="2400" b="0" i="0" dirty="0" smtClean="0"/>
            <a:t>Научить студентов преодолевать негативные последствия стрессовых производственных ситуаций)</a:t>
          </a:r>
          <a:endParaRPr lang="ru-RU" sz="2400" dirty="0"/>
        </a:p>
      </dgm:t>
    </dgm:pt>
    <dgm:pt modelId="{CE4AEA13-3A2A-447E-B133-8BED6C71062B}" type="parTrans" cxnId="{EE4E75C9-1D27-43F4-BB3E-9FBD9A9DC206}">
      <dgm:prSet/>
      <dgm:spPr/>
      <dgm:t>
        <a:bodyPr/>
        <a:lstStyle/>
        <a:p>
          <a:endParaRPr lang="ru-RU"/>
        </a:p>
      </dgm:t>
    </dgm:pt>
    <dgm:pt modelId="{D2C6F725-A52E-44E2-90C5-C8800608802A}" type="sibTrans" cxnId="{EE4E75C9-1D27-43F4-BB3E-9FBD9A9DC206}">
      <dgm:prSet/>
      <dgm:spPr/>
      <dgm:t>
        <a:bodyPr/>
        <a:lstStyle/>
        <a:p>
          <a:endParaRPr lang="ru-RU"/>
        </a:p>
      </dgm:t>
    </dgm:pt>
    <dgm:pt modelId="{7047FD96-91B9-49A4-BCC7-375AD814DA76}" type="pres">
      <dgm:prSet presAssocID="{055E38C2-B117-4B1A-82EF-1FCE20C329FA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5448BAD-6364-44C9-A7FC-23787954265D}" type="pres">
      <dgm:prSet presAssocID="{D6EFC1BB-094A-4FFA-878D-26E24F723D43}" presName="composite" presStyleCnt="0"/>
      <dgm:spPr/>
    </dgm:pt>
    <dgm:pt modelId="{48125859-787D-4DA8-876C-07D5B4CFCB69}" type="pres">
      <dgm:prSet presAssocID="{D6EFC1BB-094A-4FFA-878D-26E24F723D43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9EFDC9-7B03-42CD-A0C8-F055EE5529A7}" type="pres">
      <dgm:prSet presAssocID="{D6EFC1BB-094A-4FFA-878D-26E24F723D43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4F58687-E175-4D15-9FD8-0787861961C6}" type="pres">
      <dgm:prSet presAssocID="{DC53B43B-4558-4E69-BF53-9A3966C182C2}" presName="sp" presStyleCnt="0"/>
      <dgm:spPr/>
    </dgm:pt>
    <dgm:pt modelId="{4A886E62-183D-4748-AD4A-CE04D8F56D33}" type="pres">
      <dgm:prSet presAssocID="{B999B934-C7E5-47A6-B0EC-EC2C68179004}" presName="composite" presStyleCnt="0"/>
      <dgm:spPr/>
    </dgm:pt>
    <dgm:pt modelId="{F5BACBA6-07E6-432C-B209-F3BDBD37F34E}" type="pres">
      <dgm:prSet presAssocID="{B999B934-C7E5-47A6-B0EC-EC2C68179004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BF84D8E-A69F-408C-9667-E17FE2935E22}" type="pres">
      <dgm:prSet presAssocID="{B999B934-C7E5-47A6-B0EC-EC2C68179004}" presName="descendantText" presStyleLbl="alignAcc1" presStyleIdx="1" presStyleCnt="3" custScaleY="275059" custLinFactNeighborX="617" custLinFactNeighborY="-3101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BA7B8FE-FC65-4FD7-A120-7F2020DC32E4}" type="pres">
      <dgm:prSet presAssocID="{9833CC54-4905-4B21-8530-1FF65A0D83FA}" presName="sp" presStyleCnt="0"/>
      <dgm:spPr/>
    </dgm:pt>
    <dgm:pt modelId="{F69091C3-31F6-42AA-B410-A75B4545D1C0}" type="pres">
      <dgm:prSet presAssocID="{5B0A5FDD-B675-4EED-82B4-65C27E94617F}" presName="composite" presStyleCnt="0"/>
      <dgm:spPr/>
    </dgm:pt>
    <dgm:pt modelId="{9E56C247-6D9E-4DEE-A203-68798832749B}" type="pres">
      <dgm:prSet presAssocID="{5B0A5FDD-B675-4EED-82B4-65C27E94617F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77CA93-8BD4-404C-B01C-B15E24484EAB}" type="pres">
      <dgm:prSet presAssocID="{5B0A5FDD-B675-4EED-82B4-65C27E94617F}" presName="descendantText" presStyleLbl="alignAcc1" presStyleIdx="2" presStyleCnt="3" custScaleY="12912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4C1EBB6-134B-44FD-A00F-429C577068F7}" srcId="{B999B934-C7E5-47A6-B0EC-EC2C68179004}" destId="{FC7ECB05-09CF-4615-808B-906479D211DE}" srcOrd="0" destOrd="0" parTransId="{32807618-4613-4BB2-B358-7AA2E34211D5}" sibTransId="{8D98EA58-D64C-43BC-8A09-DFCB44887C51}"/>
    <dgm:cxn modelId="{9913C5F3-3B05-475D-8AA0-62F7700B0881}" type="presOf" srcId="{D6EFC1BB-094A-4FFA-878D-26E24F723D43}" destId="{48125859-787D-4DA8-876C-07D5B4CFCB69}" srcOrd="0" destOrd="0" presId="urn:microsoft.com/office/officeart/2005/8/layout/chevron2"/>
    <dgm:cxn modelId="{6AAF85BA-C13F-4BE8-B481-D4A61B81A5C8}" srcId="{D6EFC1BB-094A-4FFA-878D-26E24F723D43}" destId="{994DF295-E7AB-4770-9E58-780AC83E72AD}" srcOrd="0" destOrd="0" parTransId="{5745B243-656C-4D0B-8D13-8CB8A2B7D46C}" sibTransId="{1178F7FB-88A5-446C-B408-E0CDFEB3DA8B}"/>
    <dgm:cxn modelId="{1267D2C2-700A-4F58-BABD-3B667A0FCB17}" type="presOf" srcId="{B999B934-C7E5-47A6-B0EC-EC2C68179004}" destId="{F5BACBA6-07E6-432C-B209-F3BDBD37F34E}" srcOrd="0" destOrd="0" presId="urn:microsoft.com/office/officeart/2005/8/layout/chevron2"/>
    <dgm:cxn modelId="{C51FECAD-95CB-4536-B8BE-5841CA7636B4}" type="presOf" srcId="{18074AF7-4400-477F-82F6-5870899C6CBB}" destId="{1477CA93-8BD4-404C-B01C-B15E24484EAB}" srcOrd="0" destOrd="0" presId="urn:microsoft.com/office/officeart/2005/8/layout/chevron2"/>
    <dgm:cxn modelId="{1D095ED2-24DE-40CA-BAEE-75BC3F4025AA}" type="presOf" srcId="{055E38C2-B117-4B1A-82EF-1FCE20C329FA}" destId="{7047FD96-91B9-49A4-BCC7-375AD814DA76}" srcOrd="0" destOrd="0" presId="urn:microsoft.com/office/officeart/2005/8/layout/chevron2"/>
    <dgm:cxn modelId="{ED1F01D3-F1AB-4761-B08F-BFC12E16B308}" type="presOf" srcId="{5B0A5FDD-B675-4EED-82B4-65C27E94617F}" destId="{9E56C247-6D9E-4DEE-A203-68798832749B}" srcOrd="0" destOrd="0" presId="urn:microsoft.com/office/officeart/2005/8/layout/chevron2"/>
    <dgm:cxn modelId="{BA1BF39D-21A5-421D-968F-F15E8965C0BD}" type="presOf" srcId="{FC7ECB05-09CF-4615-808B-906479D211DE}" destId="{3BF84D8E-A69F-408C-9667-E17FE2935E22}" srcOrd="0" destOrd="0" presId="urn:microsoft.com/office/officeart/2005/8/layout/chevron2"/>
    <dgm:cxn modelId="{EE4E75C9-1D27-43F4-BB3E-9FBD9A9DC206}" srcId="{5B0A5FDD-B675-4EED-82B4-65C27E94617F}" destId="{18074AF7-4400-477F-82F6-5870899C6CBB}" srcOrd="0" destOrd="0" parTransId="{CE4AEA13-3A2A-447E-B133-8BED6C71062B}" sibTransId="{D2C6F725-A52E-44E2-90C5-C8800608802A}"/>
    <dgm:cxn modelId="{C409F300-5331-41FB-B6ED-272088B3D102}" srcId="{055E38C2-B117-4B1A-82EF-1FCE20C329FA}" destId="{D6EFC1BB-094A-4FFA-878D-26E24F723D43}" srcOrd="0" destOrd="0" parTransId="{2EA9009A-1E75-4986-969C-B90F6CBA5D6E}" sibTransId="{DC53B43B-4558-4E69-BF53-9A3966C182C2}"/>
    <dgm:cxn modelId="{133B6520-1777-4270-B6A6-7A354CBEC732}" srcId="{055E38C2-B117-4B1A-82EF-1FCE20C329FA}" destId="{B999B934-C7E5-47A6-B0EC-EC2C68179004}" srcOrd="1" destOrd="0" parTransId="{6EB650A0-1BA9-47BF-86F3-8008CEC897A0}" sibTransId="{9833CC54-4905-4B21-8530-1FF65A0D83FA}"/>
    <dgm:cxn modelId="{4270FC8C-2490-423A-8646-EB248EBAB82E}" type="presOf" srcId="{994DF295-E7AB-4770-9E58-780AC83E72AD}" destId="{DE9EFDC9-7B03-42CD-A0C8-F055EE5529A7}" srcOrd="0" destOrd="0" presId="urn:microsoft.com/office/officeart/2005/8/layout/chevron2"/>
    <dgm:cxn modelId="{711813BD-3D33-4A3D-9D87-1E374A15FF5E}" srcId="{055E38C2-B117-4B1A-82EF-1FCE20C329FA}" destId="{5B0A5FDD-B675-4EED-82B4-65C27E94617F}" srcOrd="2" destOrd="0" parTransId="{87DDDA01-4A61-453F-ADFE-7F4BD931F3BA}" sibTransId="{4EE73580-7C56-447F-B987-CE28FB699A7D}"/>
    <dgm:cxn modelId="{622C4778-0906-424A-9965-A507E14613D7}" type="presParOf" srcId="{7047FD96-91B9-49A4-BCC7-375AD814DA76}" destId="{D5448BAD-6364-44C9-A7FC-23787954265D}" srcOrd="0" destOrd="0" presId="urn:microsoft.com/office/officeart/2005/8/layout/chevron2"/>
    <dgm:cxn modelId="{09502553-76EB-409C-A872-5B3DA1C8276A}" type="presParOf" srcId="{D5448BAD-6364-44C9-A7FC-23787954265D}" destId="{48125859-787D-4DA8-876C-07D5B4CFCB69}" srcOrd="0" destOrd="0" presId="urn:microsoft.com/office/officeart/2005/8/layout/chevron2"/>
    <dgm:cxn modelId="{B18904B1-EE06-465F-96FC-89E1FECDBDBE}" type="presParOf" srcId="{D5448BAD-6364-44C9-A7FC-23787954265D}" destId="{DE9EFDC9-7B03-42CD-A0C8-F055EE5529A7}" srcOrd="1" destOrd="0" presId="urn:microsoft.com/office/officeart/2005/8/layout/chevron2"/>
    <dgm:cxn modelId="{6544E414-D6C9-40DC-91A5-407B9C081272}" type="presParOf" srcId="{7047FD96-91B9-49A4-BCC7-375AD814DA76}" destId="{74F58687-E175-4D15-9FD8-0787861961C6}" srcOrd="1" destOrd="0" presId="urn:microsoft.com/office/officeart/2005/8/layout/chevron2"/>
    <dgm:cxn modelId="{3E4AB29B-ADEE-4479-9F29-63D688EF956F}" type="presParOf" srcId="{7047FD96-91B9-49A4-BCC7-375AD814DA76}" destId="{4A886E62-183D-4748-AD4A-CE04D8F56D33}" srcOrd="2" destOrd="0" presId="urn:microsoft.com/office/officeart/2005/8/layout/chevron2"/>
    <dgm:cxn modelId="{322B7F0A-8C99-45EE-9A53-BA2BBBC27A6B}" type="presParOf" srcId="{4A886E62-183D-4748-AD4A-CE04D8F56D33}" destId="{F5BACBA6-07E6-432C-B209-F3BDBD37F34E}" srcOrd="0" destOrd="0" presId="urn:microsoft.com/office/officeart/2005/8/layout/chevron2"/>
    <dgm:cxn modelId="{6C53E18A-E03C-48C5-ACC2-EAD977BC3A9E}" type="presParOf" srcId="{4A886E62-183D-4748-AD4A-CE04D8F56D33}" destId="{3BF84D8E-A69F-408C-9667-E17FE2935E22}" srcOrd="1" destOrd="0" presId="urn:microsoft.com/office/officeart/2005/8/layout/chevron2"/>
    <dgm:cxn modelId="{B85C604A-13D8-4F54-BA80-54A183CFC49E}" type="presParOf" srcId="{7047FD96-91B9-49A4-BCC7-375AD814DA76}" destId="{BBA7B8FE-FC65-4FD7-A120-7F2020DC32E4}" srcOrd="3" destOrd="0" presId="urn:microsoft.com/office/officeart/2005/8/layout/chevron2"/>
    <dgm:cxn modelId="{9C835D09-DF01-4F80-BB90-7589B49DCE2C}" type="presParOf" srcId="{7047FD96-91B9-49A4-BCC7-375AD814DA76}" destId="{F69091C3-31F6-42AA-B410-A75B4545D1C0}" srcOrd="4" destOrd="0" presId="urn:microsoft.com/office/officeart/2005/8/layout/chevron2"/>
    <dgm:cxn modelId="{DF1B51D9-76A4-4BE0-8A1A-B5B6DB4D2888}" type="presParOf" srcId="{F69091C3-31F6-42AA-B410-A75B4545D1C0}" destId="{9E56C247-6D9E-4DEE-A203-68798832749B}" srcOrd="0" destOrd="0" presId="urn:microsoft.com/office/officeart/2005/8/layout/chevron2"/>
    <dgm:cxn modelId="{B29047CA-34DD-4859-99E4-1027430FC640}" type="presParOf" srcId="{F69091C3-31F6-42AA-B410-A75B4545D1C0}" destId="{1477CA93-8BD4-404C-B01C-B15E24484EAB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E682B044-A3FA-4194-A128-0599B872833E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48AA275-0165-4AC5-A86A-6C84E2BCCD51}">
      <dgm:prSet custT="1"/>
      <dgm:spPr/>
      <dgm:t>
        <a:bodyPr/>
        <a:lstStyle/>
        <a:p>
          <a:pPr rtl="0"/>
          <a:r>
            <a:rPr lang="ru-RU" sz="2400" b="1" dirty="0" smtClean="0">
              <a:solidFill>
                <a:schemeClr val="tx1"/>
              </a:solidFill>
            </a:rPr>
            <a:t>Организуется на предприятиях большой и средней мощности.</a:t>
          </a:r>
          <a:endParaRPr lang="ru-RU" sz="2400" b="1" dirty="0">
            <a:solidFill>
              <a:schemeClr val="tx1"/>
            </a:solidFill>
          </a:endParaRPr>
        </a:p>
      </dgm:t>
    </dgm:pt>
    <dgm:pt modelId="{C0376010-2380-4762-AB49-A6C06D8DD872}" type="parTrans" cxnId="{9CAE1BDC-8B85-42B7-A871-4204D125E0E3}">
      <dgm:prSet/>
      <dgm:spPr/>
      <dgm:t>
        <a:bodyPr/>
        <a:lstStyle/>
        <a:p>
          <a:endParaRPr lang="ru-RU"/>
        </a:p>
      </dgm:t>
    </dgm:pt>
    <dgm:pt modelId="{E3C810AD-53B1-4542-9BCC-9922FB502A54}" type="sibTrans" cxnId="{9CAE1BDC-8B85-42B7-A871-4204D125E0E3}">
      <dgm:prSet/>
      <dgm:spPr/>
      <dgm:t>
        <a:bodyPr/>
        <a:lstStyle/>
        <a:p>
          <a:endParaRPr lang="ru-RU"/>
        </a:p>
      </dgm:t>
    </dgm:pt>
    <dgm:pt modelId="{E5959E42-1BC8-4968-AA56-1BBA2B38A5A3}">
      <dgm:prSet custT="1"/>
      <dgm:spPr/>
      <dgm:t>
        <a:bodyPr/>
        <a:lstStyle/>
        <a:p>
          <a:pPr rtl="0"/>
          <a:r>
            <a:rPr lang="ru-RU" sz="2400" b="1" dirty="0" smtClean="0"/>
            <a:t>Предназначен для кулинарной механической обработки овощей и корнеплодов. </a:t>
          </a:r>
          <a:endParaRPr lang="ru-RU" sz="2400" b="1" dirty="0"/>
        </a:p>
      </dgm:t>
    </dgm:pt>
    <dgm:pt modelId="{DA86639B-41B9-49AC-8877-54FAE4E52E94}" type="parTrans" cxnId="{6546C7E0-45A5-4337-AADB-8AC72969030B}">
      <dgm:prSet/>
      <dgm:spPr/>
      <dgm:t>
        <a:bodyPr/>
        <a:lstStyle/>
        <a:p>
          <a:endParaRPr lang="ru-RU"/>
        </a:p>
      </dgm:t>
    </dgm:pt>
    <dgm:pt modelId="{151BD8F4-4FA1-4C03-A56B-26732C3AE187}" type="sibTrans" cxnId="{6546C7E0-45A5-4337-AADB-8AC72969030B}">
      <dgm:prSet/>
      <dgm:spPr/>
      <dgm:t>
        <a:bodyPr/>
        <a:lstStyle/>
        <a:p>
          <a:endParaRPr lang="ru-RU"/>
        </a:p>
      </dgm:t>
    </dgm:pt>
    <dgm:pt modelId="{69A140DF-75A0-4BB8-A125-D5B4628E681D}">
      <dgm:prSet custT="1"/>
      <dgm:spPr/>
      <dgm:t>
        <a:bodyPr/>
        <a:lstStyle/>
        <a:p>
          <a:pPr rtl="0"/>
          <a:r>
            <a:rPr lang="ru-RU" sz="2400" b="1" dirty="0" smtClean="0">
              <a:solidFill>
                <a:schemeClr val="tx1"/>
              </a:solidFill>
            </a:rPr>
            <a:t>При организации рабочих мест в овощном цехе должна быть обеспечена последовательность всех операций технологического процесса и соблюдены санитарные нормы.</a:t>
          </a:r>
          <a:endParaRPr lang="ru-RU" sz="2400" b="1" dirty="0">
            <a:solidFill>
              <a:schemeClr val="tx1"/>
            </a:solidFill>
          </a:endParaRPr>
        </a:p>
      </dgm:t>
    </dgm:pt>
    <dgm:pt modelId="{9D1F8746-903E-4A91-8CEC-31BB9D2EAC48}" type="parTrans" cxnId="{D9A19D5F-CC43-4C81-B519-B01051368E79}">
      <dgm:prSet/>
      <dgm:spPr/>
      <dgm:t>
        <a:bodyPr/>
        <a:lstStyle/>
        <a:p>
          <a:endParaRPr lang="ru-RU"/>
        </a:p>
      </dgm:t>
    </dgm:pt>
    <dgm:pt modelId="{21565DA6-2D42-4299-811A-55FF6A0D9290}" type="sibTrans" cxnId="{D9A19D5F-CC43-4C81-B519-B01051368E79}">
      <dgm:prSet/>
      <dgm:spPr/>
      <dgm:t>
        <a:bodyPr/>
        <a:lstStyle/>
        <a:p>
          <a:endParaRPr lang="ru-RU"/>
        </a:p>
      </dgm:t>
    </dgm:pt>
    <dgm:pt modelId="{7246396F-9845-4201-8559-505F4766ED6D}" type="pres">
      <dgm:prSet presAssocID="{E682B044-A3FA-4194-A128-0599B872833E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5EC4950E-FB13-487B-89D0-EC679DB4DB1A}" type="pres">
      <dgm:prSet presAssocID="{E682B044-A3FA-4194-A128-0599B872833E}" presName="pyramid" presStyleLbl="node1" presStyleIdx="0" presStyleCnt="1"/>
      <dgm:spPr/>
    </dgm:pt>
    <dgm:pt modelId="{698FB186-E9C7-4695-8632-14D18E9F4B82}" type="pres">
      <dgm:prSet presAssocID="{E682B044-A3FA-4194-A128-0599B872833E}" presName="theList" presStyleCnt="0"/>
      <dgm:spPr/>
    </dgm:pt>
    <dgm:pt modelId="{55663455-0E58-4A19-A9DD-A6E4228EF14D}" type="pres">
      <dgm:prSet presAssocID="{C48AA275-0165-4AC5-A86A-6C84E2BCCD51}" presName="aNode" presStyleLbl="fgAcc1" presStyleIdx="0" presStyleCnt="3" custScaleX="140566" custScaleY="560765" custLinFactY="-125930" custLinFactNeighborX="27738" custLinFactNeighborY="-2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61F3429-F1E3-4889-A12A-EDD72C5B236C}" type="pres">
      <dgm:prSet presAssocID="{C48AA275-0165-4AC5-A86A-6C84E2BCCD51}" presName="aSpace" presStyleCnt="0"/>
      <dgm:spPr/>
    </dgm:pt>
    <dgm:pt modelId="{9297E033-C881-4512-8EC4-9CC678CB6AA5}" type="pres">
      <dgm:prSet presAssocID="{E5959E42-1BC8-4968-AA56-1BBA2B38A5A3}" presName="aNode" presStyleLbl="fgAcc1" presStyleIdx="1" presStyleCnt="3" custScaleX="150620" custScaleY="527732" custLinFactY="-11556" custLinFactNeighborX="22864" custLinFactNeighborY="-1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2B05124-0FF8-45AD-BD70-7ABD859F6EDE}" type="pres">
      <dgm:prSet presAssocID="{E5959E42-1BC8-4968-AA56-1BBA2B38A5A3}" presName="aSpace" presStyleCnt="0"/>
      <dgm:spPr/>
    </dgm:pt>
    <dgm:pt modelId="{4C061300-C0E7-4CB3-A696-5C48CF3F9118}" type="pres">
      <dgm:prSet presAssocID="{69A140DF-75A0-4BB8-A125-D5B4628E681D}" presName="aNode" presStyleLbl="fgAcc1" presStyleIdx="2" presStyleCnt="3" custScaleX="197349" custScaleY="837967" custLinFactY="82904" custLinFactNeighborX="475" custLinFactNeighborY="1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7AE4F24-0BF7-4702-A838-5F0B8D33AB72}" type="pres">
      <dgm:prSet presAssocID="{69A140DF-75A0-4BB8-A125-D5B4628E681D}" presName="aSpace" presStyleCnt="0"/>
      <dgm:spPr/>
    </dgm:pt>
  </dgm:ptLst>
  <dgm:cxnLst>
    <dgm:cxn modelId="{958A82C0-88D4-4099-9344-29A1E0BEA723}" type="presOf" srcId="{E5959E42-1BC8-4968-AA56-1BBA2B38A5A3}" destId="{9297E033-C881-4512-8EC4-9CC678CB6AA5}" srcOrd="0" destOrd="0" presId="urn:microsoft.com/office/officeart/2005/8/layout/pyramid2"/>
    <dgm:cxn modelId="{9CAE1BDC-8B85-42B7-A871-4204D125E0E3}" srcId="{E682B044-A3FA-4194-A128-0599B872833E}" destId="{C48AA275-0165-4AC5-A86A-6C84E2BCCD51}" srcOrd="0" destOrd="0" parTransId="{C0376010-2380-4762-AB49-A6C06D8DD872}" sibTransId="{E3C810AD-53B1-4542-9BCC-9922FB502A54}"/>
    <dgm:cxn modelId="{E1981F83-854F-4EDE-9665-7BB429BA5C21}" type="presOf" srcId="{C48AA275-0165-4AC5-A86A-6C84E2BCCD51}" destId="{55663455-0E58-4A19-A9DD-A6E4228EF14D}" srcOrd="0" destOrd="0" presId="urn:microsoft.com/office/officeart/2005/8/layout/pyramid2"/>
    <dgm:cxn modelId="{D9A19D5F-CC43-4C81-B519-B01051368E79}" srcId="{E682B044-A3FA-4194-A128-0599B872833E}" destId="{69A140DF-75A0-4BB8-A125-D5B4628E681D}" srcOrd="2" destOrd="0" parTransId="{9D1F8746-903E-4A91-8CEC-31BB9D2EAC48}" sibTransId="{21565DA6-2D42-4299-811A-55FF6A0D9290}"/>
    <dgm:cxn modelId="{B0410681-8F07-4EBC-B82F-6A28C7F52741}" type="presOf" srcId="{69A140DF-75A0-4BB8-A125-D5B4628E681D}" destId="{4C061300-C0E7-4CB3-A696-5C48CF3F9118}" srcOrd="0" destOrd="0" presId="urn:microsoft.com/office/officeart/2005/8/layout/pyramid2"/>
    <dgm:cxn modelId="{29F71A38-83CB-4EEC-8B43-E98482D3306B}" type="presOf" srcId="{E682B044-A3FA-4194-A128-0599B872833E}" destId="{7246396F-9845-4201-8559-505F4766ED6D}" srcOrd="0" destOrd="0" presId="urn:microsoft.com/office/officeart/2005/8/layout/pyramid2"/>
    <dgm:cxn modelId="{6546C7E0-45A5-4337-AADB-8AC72969030B}" srcId="{E682B044-A3FA-4194-A128-0599B872833E}" destId="{E5959E42-1BC8-4968-AA56-1BBA2B38A5A3}" srcOrd="1" destOrd="0" parTransId="{DA86639B-41B9-49AC-8877-54FAE4E52E94}" sibTransId="{151BD8F4-4FA1-4C03-A56B-26732C3AE187}"/>
    <dgm:cxn modelId="{8AD6D93F-BB0E-4DFB-AAFA-E042A919AA7E}" type="presParOf" srcId="{7246396F-9845-4201-8559-505F4766ED6D}" destId="{5EC4950E-FB13-487B-89D0-EC679DB4DB1A}" srcOrd="0" destOrd="0" presId="urn:microsoft.com/office/officeart/2005/8/layout/pyramid2"/>
    <dgm:cxn modelId="{9C58268F-40F0-46BF-8A75-924A7DFEB5CF}" type="presParOf" srcId="{7246396F-9845-4201-8559-505F4766ED6D}" destId="{698FB186-E9C7-4695-8632-14D18E9F4B82}" srcOrd="1" destOrd="0" presId="urn:microsoft.com/office/officeart/2005/8/layout/pyramid2"/>
    <dgm:cxn modelId="{D0F6F341-63ED-4E00-BAA3-08B9F00B3532}" type="presParOf" srcId="{698FB186-E9C7-4695-8632-14D18E9F4B82}" destId="{55663455-0E58-4A19-A9DD-A6E4228EF14D}" srcOrd="0" destOrd="0" presId="urn:microsoft.com/office/officeart/2005/8/layout/pyramid2"/>
    <dgm:cxn modelId="{0DA464B3-C11E-4638-9F4A-4BEF30BEBEED}" type="presParOf" srcId="{698FB186-E9C7-4695-8632-14D18E9F4B82}" destId="{661F3429-F1E3-4889-A12A-EDD72C5B236C}" srcOrd="1" destOrd="0" presId="urn:microsoft.com/office/officeart/2005/8/layout/pyramid2"/>
    <dgm:cxn modelId="{333EF55A-9C62-4AC2-8907-867BE5E11188}" type="presParOf" srcId="{698FB186-E9C7-4695-8632-14D18E9F4B82}" destId="{9297E033-C881-4512-8EC4-9CC678CB6AA5}" srcOrd="2" destOrd="0" presId="urn:microsoft.com/office/officeart/2005/8/layout/pyramid2"/>
    <dgm:cxn modelId="{C8934FCF-32C9-4D3A-B70B-538107BBDB3F}" type="presParOf" srcId="{698FB186-E9C7-4695-8632-14D18E9F4B82}" destId="{92B05124-0FF8-45AD-BD70-7ABD859F6EDE}" srcOrd="3" destOrd="0" presId="urn:microsoft.com/office/officeart/2005/8/layout/pyramid2"/>
    <dgm:cxn modelId="{17CA57CA-8649-4219-8613-5E66ACD41AF0}" type="presParOf" srcId="{698FB186-E9C7-4695-8632-14D18E9F4B82}" destId="{4C061300-C0E7-4CB3-A696-5C48CF3F9118}" srcOrd="4" destOrd="0" presId="urn:microsoft.com/office/officeart/2005/8/layout/pyramid2"/>
    <dgm:cxn modelId="{5B1A63DC-08D3-41F0-9318-CC5CFE2244F1}" type="presParOf" srcId="{698FB186-E9C7-4695-8632-14D18E9F4B82}" destId="{27AE4F24-0BF7-4702-A838-5F0B8D33AB72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584F7E88-727F-4FC2-88AA-B3A064F020DF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0"/>
      <dgm:spPr/>
    </dgm:pt>
    <dgm:pt modelId="{D110CB92-9D43-4E68-8C9A-52E86147BE6E}">
      <dgm:prSet phldrT="[Текст]" phldr="1"/>
      <dgm:spPr/>
      <dgm:t>
        <a:bodyPr/>
        <a:lstStyle/>
        <a:p>
          <a:endParaRPr lang="ru-RU"/>
        </a:p>
      </dgm:t>
    </dgm:pt>
    <dgm:pt modelId="{29C2D808-C195-459E-91F7-E605DDCFCCBB}" type="parTrans" cxnId="{A735904C-CF51-4017-A7A0-806B90056E1C}">
      <dgm:prSet/>
      <dgm:spPr/>
      <dgm:t>
        <a:bodyPr/>
        <a:lstStyle/>
        <a:p>
          <a:endParaRPr lang="ru-RU"/>
        </a:p>
      </dgm:t>
    </dgm:pt>
    <dgm:pt modelId="{63BB543A-CF8E-4014-959B-CA26671D519C}" type="sibTrans" cxnId="{A735904C-CF51-4017-A7A0-806B90056E1C}">
      <dgm:prSet/>
      <dgm:spPr/>
      <dgm:t>
        <a:bodyPr/>
        <a:lstStyle/>
        <a:p>
          <a:endParaRPr lang="ru-RU"/>
        </a:p>
      </dgm:t>
    </dgm:pt>
    <dgm:pt modelId="{019C33DA-8207-4B96-BA85-2D18BF806070}">
      <dgm:prSet phldrT="[Текст]" phldr="1"/>
      <dgm:spPr/>
      <dgm:t>
        <a:bodyPr/>
        <a:lstStyle/>
        <a:p>
          <a:endParaRPr lang="ru-RU"/>
        </a:p>
      </dgm:t>
    </dgm:pt>
    <dgm:pt modelId="{7396363D-C9A3-4F33-B148-3E4048BFF6B4}" type="parTrans" cxnId="{BC121F34-A912-41B2-8E6A-9E89F3A56F2C}">
      <dgm:prSet/>
      <dgm:spPr/>
      <dgm:t>
        <a:bodyPr/>
        <a:lstStyle/>
        <a:p>
          <a:endParaRPr lang="ru-RU"/>
        </a:p>
      </dgm:t>
    </dgm:pt>
    <dgm:pt modelId="{47015513-2395-4DB7-A3B5-FE69CC69DB69}" type="sibTrans" cxnId="{BC121F34-A912-41B2-8E6A-9E89F3A56F2C}">
      <dgm:prSet/>
      <dgm:spPr/>
      <dgm:t>
        <a:bodyPr/>
        <a:lstStyle/>
        <a:p>
          <a:endParaRPr lang="ru-RU"/>
        </a:p>
      </dgm:t>
    </dgm:pt>
    <dgm:pt modelId="{D553A0F0-EFB2-4A68-A58A-D54B73AD0D6F}">
      <dgm:prSet phldrT="[Текст]" phldr="1"/>
      <dgm:spPr/>
      <dgm:t>
        <a:bodyPr/>
        <a:lstStyle/>
        <a:p>
          <a:endParaRPr lang="ru-RU"/>
        </a:p>
      </dgm:t>
    </dgm:pt>
    <dgm:pt modelId="{90539F97-2E9C-40A4-B073-6843C2E52535}" type="parTrans" cxnId="{8BA62382-78C6-4944-B544-424B229DD397}">
      <dgm:prSet/>
      <dgm:spPr/>
      <dgm:t>
        <a:bodyPr/>
        <a:lstStyle/>
        <a:p>
          <a:endParaRPr lang="ru-RU"/>
        </a:p>
      </dgm:t>
    </dgm:pt>
    <dgm:pt modelId="{67AD3C92-F548-4136-980B-19E86ACB4C6D}" type="sibTrans" cxnId="{8BA62382-78C6-4944-B544-424B229DD397}">
      <dgm:prSet/>
      <dgm:spPr/>
      <dgm:t>
        <a:bodyPr/>
        <a:lstStyle/>
        <a:p>
          <a:endParaRPr lang="ru-RU"/>
        </a:p>
      </dgm:t>
    </dgm:pt>
    <dgm:pt modelId="{C3C28999-E0C7-4488-BB3F-C13BA6325125}" type="pres">
      <dgm:prSet presAssocID="{584F7E88-727F-4FC2-88AA-B3A064F020DF}" presName="compositeShape" presStyleCnt="0">
        <dgm:presLayoutVars>
          <dgm:dir/>
          <dgm:resizeHandles/>
        </dgm:presLayoutVars>
      </dgm:prSet>
      <dgm:spPr/>
    </dgm:pt>
    <dgm:pt modelId="{E9E4D1E2-ADAE-46E5-829E-A7667549D336}" type="pres">
      <dgm:prSet presAssocID="{584F7E88-727F-4FC2-88AA-B3A064F020DF}" presName="pyramid" presStyleLbl="node1" presStyleIdx="0" presStyleCnt="1"/>
      <dgm:spPr/>
    </dgm:pt>
    <dgm:pt modelId="{011E0666-88CA-4243-B89C-67A188E0C05C}" type="pres">
      <dgm:prSet presAssocID="{584F7E88-727F-4FC2-88AA-B3A064F020DF}" presName="theList" presStyleCnt="0"/>
      <dgm:spPr/>
    </dgm:pt>
    <dgm:pt modelId="{3A9DF9CE-4195-4A3C-84F1-AE68D76563B5}" type="pres">
      <dgm:prSet presAssocID="{D110CB92-9D43-4E68-8C9A-52E86147BE6E}" presName="aNode" presStyleLbl="fg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B512416-9249-451E-9EFE-E2529D39746D}" type="pres">
      <dgm:prSet presAssocID="{D110CB92-9D43-4E68-8C9A-52E86147BE6E}" presName="aSpace" presStyleCnt="0"/>
      <dgm:spPr/>
    </dgm:pt>
    <dgm:pt modelId="{1F927BCE-9D3B-4019-AC97-18D8D2A5D728}" type="pres">
      <dgm:prSet presAssocID="{019C33DA-8207-4B96-BA85-2D18BF806070}" presName="aNode" presStyleLbl="fg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E35A0E-325D-45A3-8FB7-97497B4FC25B}" type="pres">
      <dgm:prSet presAssocID="{019C33DA-8207-4B96-BA85-2D18BF806070}" presName="aSpace" presStyleCnt="0"/>
      <dgm:spPr/>
    </dgm:pt>
    <dgm:pt modelId="{190F5059-26A3-43F8-8D13-F63B6F77E251}" type="pres">
      <dgm:prSet presAssocID="{D553A0F0-EFB2-4A68-A58A-D54B73AD0D6F}" presName="aNode" presStyleLbl="fg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70B3767-EE50-442F-A089-8F5CA97F2C52}" type="pres">
      <dgm:prSet presAssocID="{D553A0F0-EFB2-4A68-A58A-D54B73AD0D6F}" presName="aSpace" presStyleCnt="0"/>
      <dgm:spPr/>
    </dgm:pt>
  </dgm:ptLst>
  <dgm:cxnLst>
    <dgm:cxn modelId="{BC121F34-A912-41B2-8E6A-9E89F3A56F2C}" srcId="{584F7E88-727F-4FC2-88AA-B3A064F020DF}" destId="{019C33DA-8207-4B96-BA85-2D18BF806070}" srcOrd="1" destOrd="0" parTransId="{7396363D-C9A3-4F33-B148-3E4048BFF6B4}" sibTransId="{47015513-2395-4DB7-A3B5-FE69CC69DB69}"/>
    <dgm:cxn modelId="{CD64DB2B-47AB-4318-B81C-C3FDCF4567B5}" type="presOf" srcId="{D553A0F0-EFB2-4A68-A58A-D54B73AD0D6F}" destId="{190F5059-26A3-43F8-8D13-F63B6F77E251}" srcOrd="0" destOrd="0" presId="urn:microsoft.com/office/officeart/2005/8/layout/pyramid2"/>
    <dgm:cxn modelId="{8BA62382-78C6-4944-B544-424B229DD397}" srcId="{584F7E88-727F-4FC2-88AA-B3A064F020DF}" destId="{D553A0F0-EFB2-4A68-A58A-D54B73AD0D6F}" srcOrd="2" destOrd="0" parTransId="{90539F97-2E9C-40A4-B073-6843C2E52535}" sibTransId="{67AD3C92-F548-4136-980B-19E86ACB4C6D}"/>
    <dgm:cxn modelId="{E04EF841-B1A1-44EE-B87D-060B72A45126}" type="presOf" srcId="{584F7E88-727F-4FC2-88AA-B3A064F020DF}" destId="{C3C28999-E0C7-4488-BB3F-C13BA6325125}" srcOrd="0" destOrd="0" presId="urn:microsoft.com/office/officeart/2005/8/layout/pyramid2"/>
    <dgm:cxn modelId="{4055D5C4-3A58-4479-8BCD-F85AA5EFF77C}" type="presOf" srcId="{019C33DA-8207-4B96-BA85-2D18BF806070}" destId="{1F927BCE-9D3B-4019-AC97-18D8D2A5D728}" srcOrd="0" destOrd="0" presId="urn:microsoft.com/office/officeart/2005/8/layout/pyramid2"/>
    <dgm:cxn modelId="{AB2BDDC2-4E82-4C69-B855-B2597D5C1FEE}" type="presOf" srcId="{D110CB92-9D43-4E68-8C9A-52E86147BE6E}" destId="{3A9DF9CE-4195-4A3C-84F1-AE68D76563B5}" srcOrd="0" destOrd="0" presId="urn:microsoft.com/office/officeart/2005/8/layout/pyramid2"/>
    <dgm:cxn modelId="{A735904C-CF51-4017-A7A0-806B90056E1C}" srcId="{584F7E88-727F-4FC2-88AA-B3A064F020DF}" destId="{D110CB92-9D43-4E68-8C9A-52E86147BE6E}" srcOrd="0" destOrd="0" parTransId="{29C2D808-C195-459E-91F7-E605DDCFCCBB}" sibTransId="{63BB543A-CF8E-4014-959B-CA26671D519C}"/>
    <dgm:cxn modelId="{949B3BA1-6C0C-4F9E-B497-046832D3386B}" type="presParOf" srcId="{C3C28999-E0C7-4488-BB3F-C13BA6325125}" destId="{E9E4D1E2-ADAE-46E5-829E-A7667549D336}" srcOrd="0" destOrd="0" presId="urn:microsoft.com/office/officeart/2005/8/layout/pyramid2"/>
    <dgm:cxn modelId="{D99E2F52-4DF0-4E06-A5FA-00E9462C28C7}" type="presParOf" srcId="{C3C28999-E0C7-4488-BB3F-C13BA6325125}" destId="{011E0666-88CA-4243-B89C-67A188E0C05C}" srcOrd="1" destOrd="0" presId="urn:microsoft.com/office/officeart/2005/8/layout/pyramid2"/>
    <dgm:cxn modelId="{C1C7458E-AA8C-49F0-B17F-B74373D32098}" type="presParOf" srcId="{011E0666-88CA-4243-B89C-67A188E0C05C}" destId="{3A9DF9CE-4195-4A3C-84F1-AE68D76563B5}" srcOrd="0" destOrd="0" presId="urn:microsoft.com/office/officeart/2005/8/layout/pyramid2"/>
    <dgm:cxn modelId="{4C3251F1-CCCD-4FC5-83FB-51A135E79F2B}" type="presParOf" srcId="{011E0666-88CA-4243-B89C-67A188E0C05C}" destId="{4B512416-9249-451E-9EFE-E2529D39746D}" srcOrd="1" destOrd="0" presId="urn:microsoft.com/office/officeart/2005/8/layout/pyramid2"/>
    <dgm:cxn modelId="{A9E308C2-87CD-4D4F-BF77-1301D4D57ECA}" type="presParOf" srcId="{011E0666-88CA-4243-B89C-67A188E0C05C}" destId="{1F927BCE-9D3B-4019-AC97-18D8D2A5D728}" srcOrd="2" destOrd="0" presId="urn:microsoft.com/office/officeart/2005/8/layout/pyramid2"/>
    <dgm:cxn modelId="{5623A006-0300-4CBC-B476-8E602FFB19B9}" type="presParOf" srcId="{011E0666-88CA-4243-B89C-67A188E0C05C}" destId="{77E35A0E-325D-45A3-8FB7-97497B4FC25B}" srcOrd="3" destOrd="0" presId="urn:microsoft.com/office/officeart/2005/8/layout/pyramid2"/>
    <dgm:cxn modelId="{5C96291D-3561-4FA0-BA92-116E491F45F8}" type="presParOf" srcId="{011E0666-88CA-4243-B89C-67A188E0C05C}" destId="{190F5059-26A3-43F8-8D13-F63B6F77E251}" srcOrd="4" destOrd="0" presId="urn:microsoft.com/office/officeart/2005/8/layout/pyramid2"/>
    <dgm:cxn modelId="{F04854C5-5BE4-45C7-B205-C9564984CA85}" type="presParOf" srcId="{011E0666-88CA-4243-B89C-67A188E0C05C}" destId="{070B3767-EE50-442F-A089-8F5CA97F2C52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48125859-787D-4DA8-876C-07D5B4CFCB69}">
      <dsp:nvSpPr>
        <dsp:cNvPr id="0" name=""/>
        <dsp:cNvSpPr/>
      </dsp:nvSpPr>
      <dsp:spPr>
        <a:xfrm rot="5400000">
          <a:off x="-200526" y="275138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1</a:t>
          </a:r>
          <a:endParaRPr lang="ru-RU" sz="2600" b="1" kern="1200" dirty="0"/>
        </a:p>
      </dsp:txBody>
      <dsp:txXfrm rot="5400000">
        <a:off x="-200526" y="275138"/>
        <a:ext cx="1336844" cy="935791"/>
      </dsp:txXfrm>
    </dsp:sp>
    <dsp:sp modelId="{DE9EFDC9-7B03-42CD-A0C8-F055EE5529A7}">
      <dsp:nvSpPr>
        <dsp:cNvPr id="0" name=""/>
        <dsp:cNvSpPr/>
      </dsp:nvSpPr>
      <dsp:spPr>
        <a:xfrm rot="5400000">
          <a:off x="3993861" y="-2983458"/>
          <a:ext cx="868949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>
              <a:latin typeface="Times New Roman" pitchFamily="18" charset="0"/>
              <a:cs typeface="Times New Roman" pitchFamily="18" charset="0"/>
            </a:rPr>
            <a:t>Образовательная</a:t>
          </a:r>
          <a:r>
            <a:rPr lang="ru-RU" sz="3000" kern="1200" dirty="0" smtClean="0"/>
            <a:t> (</a:t>
          </a:r>
          <a:r>
            <a:rPr lang="ru-RU" sz="3000" b="0" i="0" kern="1200" dirty="0" smtClean="0"/>
            <a:t>Активизировать познавательную активность)</a:t>
          </a:r>
          <a:endParaRPr lang="ru-RU" sz="3000" kern="1200" dirty="0"/>
        </a:p>
      </dsp:txBody>
      <dsp:txXfrm rot="5400000">
        <a:off x="3993861" y="-2983458"/>
        <a:ext cx="868949" cy="6985088"/>
      </dsp:txXfrm>
    </dsp:sp>
    <dsp:sp modelId="{F5BACBA6-07E6-432C-B209-F3BDBD37F34E}">
      <dsp:nvSpPr>
        <dsp:cNvPr id="0" name=""/>
        <dsp:cNvSpPr/>
      </dsp:nvSpPr>
      <dsp:spPr>
        <a:xfrm rot="5400000">
          <a:off x="-200526" y="2230941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2</a:t>
          </a:r>
          <a:endParaRPr lang="ru-RU" sz="2600" b="1" kern="1200" dirty="0"/>
        </a:p>
      </dsp:txBody>
      <dsp:txXfrm rot="5400000">
        <a:off x="-200526" y="2230941"/>
        <a:ext cx="1336844" cy="935791"/>
      </dsp:txXfrm>
    </dsp:sp>
    <dsp:sp modelId="{3BF84D8E-A69F-408C-9667-E17FE2935E22}">
      <dsp:nvSpPr>
        <dsp:cNvPr id="0" name=""/>
        <dsp:cNvSpPr/>
      </dsp:nvSpPr>
      <dsp:spPr>
        <a:xfrm rot="5400000">
          <a:off x="3233274" y="-1297177"/>
          <a:ext cx="2390122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>
              <a:latin typeface="Times New Roman" pitchFamily="18" charset="0"/>
              <a:cs typeface="Times New Roman" pitchFamily="18" charset="0"/>
            </a:rPr>
            <a:t>Развивающая</a:t>
          </a:r>
          <a:r>
            <a:rPr lang="ru-RU" sz="2400" kern="1200" dirty="0" smtClean="0"/>
            <a:t> (</a:t>
          </a:r>
          <a:r>
            <a:rPr lang="ru-RU" sz="2400" b="0" i="0" kern="1200" dirty="0" smtClean="0"/>
            <a:t>проводить сравнение - научить учащихся находить различное и сходное, выделять существенные признаки сравниваемых производственных объектов и процессов, устанавливать последовательность в развитии знаний и умений)</a:t>
          </a:r>
          <a:endParaRPr lang="ru-RU" sz="2400" kern="1200" dirty="0"/>
        </a:p>
      </dsp:txBody>
      <dsp:txXfrm rot="5400000">
        <a:off x="3233274" y="-1297177"/>
        <a:ext cx="2390122" cy="6985088"/>
      </dsp:txXfrm>
    </dsp:sp>
    <dsp:sp modelId="{9E56C247-6D9E-4DEE-A203-68798832749B}">
      <dsp:nvSpPr>
        <dsp:cNvPr id="0" name=""/>
        <dsp:cNvSpPr/>
      </dsp:nvSpPr>
      <dsp:spPr>
        <a:xfrm rot="5400000">
          <a:off x="-200526" y="3845406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3</a:t>
          </a:r>
          <a:endParaRPr lang="ru-RU" sz="2600" b="1" kern="1200" dirty="0"/>
        </a:p>
      </dsp:txBody>
      <dsp:txXfrm rot="5400000">
        <a:off x="-200526" y="3845406"/>
        <a:ext cx="1336844" cy="935791"/>
      </dsp:txXfrm>
    </dsp:sp>
    <dsp:sp modelId="{1477CA93-8BD4-404C-B01C-B15E24484EAB}">
      <dsp:nvSpPr>
        <dsp:cNvPr id="0" name=""/>
        <dsp:cNvSpPr/>
      </dsp:nvSpPr>
      <dsp:spPr>
        <a:xfrm rot="5400000">
          <a:off x="3867303" y="586809"/>
          <a:ext cx="1122065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/>
            <a:t>Воспитательная</a:t>
          </a:r>
          <a:r>
            <a:rPr lang="ru-RU" sz="2400" kern="1200" dirty="0" smtClean="0"/>
            <a:t> (</a:t>
          </a:r>
          <a:r>
            <a:rPr lang="ru-RU" sz="2400" b="0" i="0" kern="1200" dirty="0" smtClean="0"/>
            <a:t>Научить студентов преодолевать негативные последствия стрессовых производственных ситуаций)</a:t>
          </a:r>
          <a:endParaRPr lang="ru-RU" sz="2400" kern="1200" dirty="0"/>
        </a:p>
      </dsp:txBody>
      <dsp:txXfrm rot="5400000">
        <a:off x="3867303" y="586809"/>
        <a:ext cx="1122065" cy="698508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EC4950E-FB13-487B-89D0-EC679DB4DB1A}">
      <dsp:nvSpPr>
        <dsp:cNvPr id="0" name=""/>
        <dsp:cNvSpPr/>
      </dsp:nvSpPr>
      <dsp:spPr>
        <a:xfrm>
          <a:off x="-43812" y="0"/>
          <a:ext cx="5545282" cy="5545282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5663455-0E58-4A19-A9DD-A6E4228EF14D}">
      <dsp:nvSpPr>
        <dsp:cNvPr id="0" name=""/>
        <dsp:cNvSpPr/>
      </dsp:nvSpPr>
      <dsp:spPr>
        <a:xfrm>
          <a:off x="2977282" y="214314"/>
          <a:ext cx="5066607" cy="126631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chemeClr val="tx1"/>
              </a:solidFill>
            </a:rPr>
            <a:t>Организуется на предприятиях большой и средней мощности.</a:t>
          </a:r>
          <a:endParaRPr lang="ru-RU" sz="2400" b="1" kern="1200" dirty="0">
            <a:solidFill>
              <a:schemeClr val="tx1"/>
            </a:solidFill>
          </a:endParaRPr>
        </a:p>
      </dsp:txBody>
      <dsp:txXfrm>
        <a:off x="2977282" y="214314"/>
        <a:ext cx="5066607" cy="1266311"/>
      </dsp:txXfrm>
    </dsp:sp>
    <dsp:sp modelId="{9297E033-C881-4512-8EC4-9CC678CB6AA5}">
      <dsp:nvSpPr>
        <dsp:cNvPr id="0" name=""/>
        <dsp:cNvSpPr/>
      </dsp:nvSpPr>
      <dsp:spPr>
        <a:xfrm>
          <a:off x="2614892" y="1795359"/>
          <a:ext cx="5428997" cy="1191717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/>
            <a:t>Предназначен для кулинарной механической обработки овощей и корнеплодов. </a:t>
          </a:r>
          <a:endParaRPr lang="ru-RU" sz="2400" b="1" kern="1200" dirty="0"/>
        </a:p>
      </dsp:txBody>
      <dsp:txXfrm>
        <a:off x="2614892" y="1795359"/>
        <a:ext cx="5428997" cy="1191717"/>
      </dsp:txXfrm>
    </dsp:sp>
    <dsp:sp modelId="{4C061300-C0E7-4CB3-A696-5C48CF3F9118}">
      <dsp:nvSpPr>
        <dsp:cNvPr id="0" name=""/>
        <dsp:cNvSpPr/>
      </dsp:nvSpPr>
      <dsp:spPr>
        <a:xfrm>
          <a:off x="974389" y="3285066"/>
          <a:ext cx="7113313" cy="1892285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chemeClr val="tx1"/>
              </a:solidFill>
            </a:rPr>
            <a:t>При организации рабочих мест в овощном цехе должна быть обеспечена последовательность всех операций технологического процесса и соблюдены санитарные нормы.</a:t>
          </a:r>
          <a:endParaRPr lang="ru-RU" sz="2400" b="1" kern="1200" dirty="0">
            <a:solidFill>
              <a:schemeClr val="tx1"/>
            </a:solidFill>
          </a:endParaRPr>
        </a:p>
      </dsp:txBody>
      <dsp:txXfrm>
        <a:off x="974389" y="3285066"/>
        <a:ext cx="7113313" cy="1892285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9E4D1E2-ADAE-46E5-829E-A7667549D336}">
      <dsp:nvSpPr>
        <dsp:cNvPr id="0" name=""/>
        <dsp:cNvSpPr/>
      </dsp:nvSpPr>
      <dsp:spPr>
        <a:xfrm>
          <a:off x="940574" y="0"/>
          <a:ext cx="4857784" cy="4857784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A9DF9CE-4195-4A3C-84F1-AE68D76563B5}">
      <dsp:nvSpPr>
        <dsp:cNvPr id="0" name=""/>
        <dsp:cNvSpPr/>
      </dsp:nvSpPr>
      <dsp:spPr>
        <a:xfrm>
          <a:off x="3369466" y="488387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488387"/>
        <a:ext cx="3157559" cy="1149928"/>
      </dsp:txXfrm>
    </dsp:sp>
    <dsp:sp modelId="{1F927BCE-9D3B-4019-AC97-18D8D2A5D728}">
      <dsp:nvSpPr>
        <dsp:cNvPr id="0" name=""/>
        <dsp:cNvSpPr/>
      </dsp:nvSpPr>
      <dsp:spPr>
        <a:xfrm>
          <a:off x="3369466" y="1782057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1782057"/>
        <a:ext cx="3157559" cy="1149928"/>
      </dsp:txXfrm>
    </dsp:sp>
    <dsp:sp modelId="{190F5059-26A3-43F8-8D13-F63B6F77E251}">
      <dsp:nvSpPr>
        <dsp:cNvPr id="0" name=""/>
        <dsp:cNvSpPr/>
      </dsp:nvSpPr>
      <dsp:spPr>
        <a:xfrm>
          <a:off x="3369466" y="3075726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3075726"/>
        <a:ext cx="3157559" cy="114992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FE8-18CC-400C-B320-5B4C1381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066-07D7-4931-BF23-E921C7D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6BF-47C4-45BA-B805-41D4C35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52-7019-450D-82A0-D5CA96A6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A0970-8BF6-48AC-BB4B-654041C9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DE0A8-9493-4BCC-8F3B-F901464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70EF4-EDFD-43EA-87B2-EA42758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A080-F462-4528-97B5-54FC08C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EAD50-74CB-436C-9570-CD23D5C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5244-3218-40C8-9939-83790FF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9E667-DD7B-402C-B2C8-E29FDCE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F0E-12F0-4478-BA9D-68F28C4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4B787-60A2-47B1-A710-6803176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8BAD3-5C24-4BB4-9B42-1B266FC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0683-B7BE-4D4B-8A30-38E826C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EF85-1A80-486D-AF6E-0A2E552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DED31-1345-4AAD-AD55-48FB8DFB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AE4AF-556D-4849-B426-1AAF7A5B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D9226-775E-4B9E-A802-1B574249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1CBD9-0B82-4333-87B7-EC6403A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3F7F7-F7D4-42D9-BF35-8AFA5347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D856D-8E00-4EBA-A28F-4BAA7B6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16E-8145-4E6B-B00C-D9F1BEA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13653-D495-4128-8233-E0E3D8FC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B9D42-1DF7-417F-BEE3-4962B17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A0213-BB8A-4566-816C-48EADDC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ED121-430B-42AC-8273-3CC3901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571FB-25D8-4020-BE8A-EB00DD0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83FC7-9788-4C85-BC1A-E2F4950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8B6D2-7E3D-45F1-9EB6-45E3999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1247-6B23-4A3E-81E8-99E97C78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B90C-025F-486A-9D45-F1D9AF2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E976-EA73-4D42-8B89-3BC318F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331-0361-476B-977F-50B60302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23AA-4ED9-447E-B1AD-9A0607E0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89BD-6153-4615-A02B-FB75311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96C0-300A-4EBF-90A2-C0D14D8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B908-0AA6-4B56-838A-6A67C3EC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D795-FC1F-4442-B96F-26FADD1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FB24-F75E-4ECA-8239-F7095BC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0198-7FF9-440F-B7A1-918E28F2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6407-6F9B-42CF-AEBF-11B5338B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C0827-B916-438A-9212-2B1D817B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3E3F-BA09-4AC0-B004-3FAFF165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E2-120D-4C78-A8B0-D43DE31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6163-46F2-473E-95A7-4BE68A8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256D-0E86-4734-A416-820677FB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DB5A-49AC-4BC2-845E-6C3220F4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6A5E-2505-476E-A85B-B35AF94E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80D1-2BF7-450B-A74A-0B15A049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6825-EB74-4F74-B651-9654F11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9AAA-AF8D-4AAC-A932-A5762E4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F79DF-3013-4E07-869F-DF9FC150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BB55-61C9-489F-8BE9-D09D4EB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192D-9688-4471-91E3-488037A8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8F5-CFB1-4A88-9E11-98C9F22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C44CB-BE53-4A79-B637-F7072684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AB4-31BB-4C34-AD5D-B7CE28B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956-B2FD-4B5C-98C8-880F455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183-99DC-45F0-A23A-0E6DC0A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527d55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527d55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527d55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527d55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527d55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527d55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FC5FA0-B72E-4948-B26A-3E28A9C90D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E9A40F6-EB4E-4F2E-8EC3-6320D33F12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BE91EB-6B9A-4E71-9982-1B624CB1B6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20BC6C-3155-40F3-AA66-333DCB3C3C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1D6AD9-874B-4C41-9784-D69B3BF20B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8280720" cy="27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3" name="Рисунок 3" descr="1125299_74624-700x500.jpg"/>
          <p:cNvPicPr/>
          <p:nvPr/>
        </p:nvPicPr>
        <p:blipFill>
          <a:blip r:embed="rId1"/>
          <a:srcRect l="11408" t="2618" r="14088" b="4140"/>
          <a:stretch/>
        </p:blipFill>
        <p:spPr>
          <a:xfrm>
            <a:off x="3348000" y="314100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716000" y="6000840"/>
            <a:ext cx="3856320" cy="59616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Преподаватель Разжигаева К.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1043640" y="404640"/>
            <a:ext cx="7776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ГАПОУ С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Североуральский политехникум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М.07.Выполнение работ по рабочим профессиям, должностям служа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рофессия «Пова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исциплина: </a:t>
            </a:r>
            <a:r>
              <a:rPr b="1" lang="ru-RU" sz="18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ДК.07.01.Технология приготовления полуфабрикатов для простой кулинарной продукци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рок №: </a:t>
            </a:r>
            <a:r>
              <a:rPr b="1" lang="ru-RU" sz="2000" spc="-1" strike="noStrike">
                <a:solidFill>
                  <a:srgbClr val="ff0066"/>
                </a:solidFill>
                <a:latin typeface="Century Schoolbook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ация механической кулинарной  обработки овощей и грибов. Обработка клубнеплодов, корнепл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48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Технологический процесс обработки картофеля и корнеплодов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699710355"/>
              </p:ext>
            </p:extLst>
          </p:nvPr>
        </p:nvGraphicFramePr>
        <p:xfrm>
          <a:off x="457200" y="1785960"/>
          <a:ext cx="746712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83" name="Скругленный прямоугольник 6"/>
          <p:cNvSpPr/>
          <p:nvPr/>
        </p:nvSpPr>
        <p:spPr>
          <a:xfrm>
            <a:off x="2357280" y="17143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7"/>
          <p:cNvSpPr/>
          <p:nvPr/>
        </p:nvSpPr>
        <p:spPr>
          <a:xfrm>
            <a:off x="2357280" y="24289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т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2357280" y="30718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ч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9"/>
          <p:cNvSpPr/>
          <p:nvPr/>
        </p:nvSpPr>
        <p:spPr>
          <a:xfrm>
            <a:off x="2357280" y="37861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оч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2357280" y="44290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м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2357280" y="51436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Рисунок 5"/>
          <p:cNvSpPr/>
          <p:nvPr/>
        </p:nvSpPr>
        <p:spPr>
          <a:xfrm>
            <a:off x="500040" y="1285920"/>
            <a:ext cx="4000320" cy="44319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7757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Линия обработки картофеля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29120" y="1071720"/>
            <a:ext cx="3642840" cy="25714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57240">
            <a:solidFill>
              <a:srgbClr val="4b734b"/>
            </a:solidFill>
            <a:round/>
          </a:ln>
        </p:spPr>
        <p:txBody>
          <a:bodyPr lIns="90000" rIns="90000" tIns="45000" bIns="45000"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линии обработки картофеля и корнеплодов устанавливают моечную ванну и овощемоечную машин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2" name="Рисунок 7" descr="KK00D87M.KPK1.T500.JPG"/>
          <p:cNvPicPr/>
          <p:nvPr/>
        </p:nvPicPr>
        <p:blipFill>
          <a:blip r:embed="rId2"/>
          <a:stretch/>
        </p:blipFill>
        <p:spPr>
          <a:xfrm>
            <a:off x="5143680" y="3857760"/>
            <a:ext cx="30240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9005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Картофелеочистительная машина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4" name="Содержимое 5" descr="mok.jpg"/>
          <p:cNvPicPr/>
          <p:nvPr/>
        </p:nvPicPr>
        <p:blipFill>
          <a:blip r:embed="rId1"/>
          <a:srcRect l="24091" t="3074" r="22888" b="0"/>
          <a:stretch/>
        </p:blipFill>
        <p:spPr>
          <a:xfrm>
            <a:off x="357120" y="1214280"/>
            <a:ext cx="3071520" cy="4071600"/>
          </a:xfrm>
          <a:prstGeom prst="rect">
            <a:avLst/>
          </a:prstGeom>
          <a:ln w="0">
            <a:noFill/>
          </a:ln>
        </p:spPr>
      </p:pic>
      <p:sp>
        <p:nvSpPr>
          <p:cNvPr id="295" name="Скругленный прямоугольник 6"/>
          <p:cNvSpPr/>
          <p:nvPr/>
        </p:nvSpPr>
        <p:spPr>
          <a:xfrm>
            <a:off x="3357720" y="1000080"/>
            <a:ext cx="5143320" cy="278568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сле машинной очистки картофеля, производят доочистку в ручную при помощи ножа. Доочистка производится на специальных столах: крышка стола имеет углубление, в которое помещают очищенные овощи, и два отверстия: слева – для дочищенных овощей, справа – для от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7" descr="kartof.png"/>
          <p:cNvPicPr/>
          <p:nvPr/>
        </p:nvPicPr>
        <p:blipFill>
          <a:blip r:embed="rId2"/>
          <a:stretch/>
        </p:blipFill>
        <p:spPr>
          <a:xfrm>
            <a:off x="3143160" y="3952800"/>
            <a:ext cx="386208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1864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Дочищенный картофель помещают в ванну или ёмкость с водой и хранят не более 2-3 ч.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8" name="Содержимое 9" descr="DSCF6028.jpg"/>
          <p:cNvPicPr/>
          <p:nvPr/>
        </p:nvPicPr>
        <p:blipFill>
          <a:blip r:embed="rId1"/>
          <a:stretch/>
        </p:blipFill>
        <p:spPr>
          <a:xfrm>
            <a:off x="500040" y="1571760"/>
            <a:ext cx="5285880" cy="4873320"/>
          </a:xfrm>
          <a:prstGeom prst="rect">
            <a:avLst/>
          </a:prstGeom>
          <a:ln w="0">
            <a:noFill/>
          </a:ln>
        </p:spPr>
      </p:pic>
      <p:sp>
        <p:nvSpPr>
          <p:cNvPr id="299" name="Скругленный прямоугольник 10"/>
          <p:cNvSpPr/>
          <p:nvPr/>
        </p:nvSpPr>
        <p:spPr>
          <a:xfrm>
            <a:off x="5929200" y="1857240"/>
            <a:ext cx="2571480" cy="41428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тходы (мезга) от механической обработки картофеля поступают в крахмальное отделение, для получения крахм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829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Линия обработки капусты и зелени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1" name="Содержимое 4" descr="12234761_w640_h640_cid750807_pid5345365-17699140.jpg"/>
          <p:cNvPicPr/>
          <p:nvPr/>
        </p:nvPicPr>
        <p:blipFill>
          <a:blip r:embed="rId1"/>
          <a:srcRect l="7578" t="14670" r="6134" b="16695"/>
          <a:stretch/>
        </p:blipFill>
        <p:spPr>
          <a:xfrm>
            <a:off x="714240" y="1285920"/>
            <a:ext cx="3857400" cy="24285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ryljqzdkdmt28b64hgc7slns0ju33fy3.jpg"/>
          <p:cNvPicPr/>
          <p:nvPr/>
        </p:nvPicPr>
        <p:blipFill>
          <a:blip r:embed="rId2"/>
          <a:srcRect l="5556" t="11471" r="5556" b="13115"/>
          <a:stretch/>
        </p:blipFill>
        <p:spPr>
          <a:xfrm>
            <a:off x="4714920" y="928800"/>
            <a:ext cx="3785760" cy="32857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12234583_w640_h640_cid750807_pid5345201-f0af785d.jpg"/>
          <p:cNvPicPr/>
          <p:nvPr/>
        </p:nvPicPr>
        <p:blipFill>
          <a:blip r:embed="rId3"/>
          <a:stretch/>
        </p:blipFill>
        <p:spPr>
          <a:xfrm>
            <a:off x="5572080" y="4214880"/>
            <a:ext cx="2714400" cy="24285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7"/>
          <p:cNvSpPr/>
          <p:nvPr/>
        </p:nvSpPr>
        <p:spPr>
          <a:xfrm>
            <a:off x="357120" y="4286160"/>
            <a:ext cx="5071680" cy="235692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линии обработки капусты  и зелени устанавливают производственные столы, овощемоечную машину и моечную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Century Schoolbook"/>
              </a:rPr>
              <a:t>Очищенные овощи промывают и в зависимости от назначения часть используют для варки целиком, а остальное нарезают машинным или ручным способом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6" name="Содержимое 9" descr="import_24904_6668.jpg"/>
          <p:cNvPicPr/>
          <p:nvPr/>
        </p:nvPicPr>
        <p:blipFill>
          <a:blip r:embed="rId1"/>
          <a:stretch/>
        </p:blipFill>
        <p:spPr>
          <a:xfrm>
            <a:off x="285840" y="1714320"/>
            <a:ext cx="4023000" cy="48733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0" descr="nnnn.jpg"/>
          <p:cNvPicPr/>
          <p:nvPr/>
        </p:nvPicPr>
        <p:blipFill>
          <a:blip r:embed="rId2"/>
          <a:stretch/>
        </p:blipFill>
        <p:spPr>
          <a:xfrm>
            <a:off x="4357800" y="2000160"/>
            <a:ext cx="4285800" cy="40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Инвентарь и инструменты овощного цеха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9" name="Содержимое 3" descr="20121210180849414_big_.JPG"/>
          <p:cNvPicPr/>
          <p:nvPr/>
        </p:nvPicPr>
        <p:blipFill>
          <a:blip r:embed="rId1"/>
          <a:srcRect l="21062" t="4397" r="26267" b="1789"/>
          <a:stretch/>
        </p:blipFill>
        <p:spPr>
          <a:xfrm>
            <a:off x="214200" y="1428840"/>
            <a:ext cx="2142720" cy="4571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honey5.JPG"/>
          <p:cNvPicPr/>
          <p:nvPr/>
        </p:nvPicPr>
        <p:blipFill>
          <a:blip r:embed="rId2"/>
          <a:stretch/>
        </p:blipFill>
        <p:spPr>
          <a:xfrm>
            <a:off x="2714760" y="1571760"/>
            <a:ext cx="2771280" cy="20714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alveus-line-1064565_6570233.jpg"/>
          <p:cNvPicPr/>
          <p:nvPr/>
        </p:nvPicPr>
        <p:blipFill>
          <a:blip r:embed="rId3"/>
          <a:stretch/>
        </p:blipFill>
        <p:spPr>
          <a:xfrm>
            <a:off x="6000840" y="2286000"/>
            <a:ext cx="2428560" cy="1819080"/>
          </a:xfrm>
          <a:prstGeom prst="rect">
            <a:avLst/>
          </a:prstGeom>
          <a:ln w="0">
            <a:noFill/>
          </a:ln>
        </p:spPr>
      </p:pic>
      <p:sp>
        <p:nvSpPr>
          <p:cNvPr id="312" name="Скругленный прямоугольник 7"/>
          <p:cNvSpPr/>
          <p:nvPr/>
        </p:nvSpPr>
        <p:spPr>
          <a:xfrm>
            <a:off x="571320" y="6143760"/>
            <a:ext cx="2571480" cy="57096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стелл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8"/>
          <p:cNvSpPr/>
          <p:nvPr/>
        </p:nvSpPr>
        <p:spPr>
          <a:xfrm>
            <a:off x="5643720" y="1571760"/>
            <a:ext cx="2857320" cy="6426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entury Schoolbook"/>
              </a:rPr>
              <a:t>Лоток для хранения ово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9"/>
          <p:cNvSpPr/>
          <p:nvPr/>
        </p:nvSpPr>
        <p:spPr>
          <a:xfrm>
            <a:off x="6072120" y="4214880"/>
            <a:ext cx="2642760" cy="121392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entury Schoolbook"/>
              </a:rPr>
              <a:t>Разделочная доска с маркировкой «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0" descr="i (23).jpg"/>
          <p:cNvPicPr/>
          <p:nvPr/>
        </p:nvPicPr>
        <p:blipFill>
          <a:blip r:embed="rId4"/>
          <a:stretch/>
        </p:blipFill>
        <p:spPr>
          <a:xfrm>
            <a:off x="4214880" y="478620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1" descr="nabor_ovown_nogei.jpg"/>
          <p:cNvPicPr/>
          <p:nvPr/>
        </p:nvPicPr>
        <p:blipFill>
          <a:blip r:embed="rId5"/>
          <a:stretch/>
        </p:blipFill>
        <p:spPr>
          <a:xfrm>
            <a:off x="2428920" y="3500280"/>
            <a:ext cx="171432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DSC04596.JPG"/>
          <p:cNvPicPr/>
          <p:nvPr/>
        </p:nvPicPr>
        <p:blipFill>
          <a:blip r:embed="rId1"/>
          <a:stretch/>
        </p:blipFill>
        <p:spPr>
          <a:xfrm>
            <a:off x="507960" y="717480"/>
            <a:ext cx="81277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источники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Золин В.П. Технологическое оборудование предприятий общественного питания.– М.: Издательский центр «Академия», 2015. – 248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Усов В.В. Организация производства и обслуживания на предприятиях общественного питания: учеб. пособие для  нач. проф. образования. – М.: Издательский центр «Академия», 2016. – 432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Елхина В.Д. Механическое оборудование предприятий общественного питания. .– М.: Издательский центр «Академия», 2015. – 336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28880" y="332640"/>
            <a:ext cx="678636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Цель урока: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 Образовательная: 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изучить  общие правила, обработки овощей и грибов, приготовление полуфабрикатов. Ознакомление с технологическим оборудованием, инвентарем используемое для механической кулинарной обработки овощей</a:t>
            </a:r>
            <a:br>
              <a:rPr sz="1800"/>
            </a:b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 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Развивающая: 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развивать интерес к изучаемому материалу, правилам безопасного использования оборудования, творческое мышление, использование профессиональной терминологии в речи  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Воспитательная: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  воспитывать уверенность в себе, самостоятельность при выполнении задания, любовь к своей специальности  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7" name="Рисунок 3" descr="1125299_74624-700x500.jpg"/>
          <p:cNvPicPr/>
          <p:nvPr/>
        </p:nvPicPr>
        <p:blipFill>
          <a:blip r:embed="rId1"/>
          <a:srcRect l="11408" t="2618" r="14088" b="4140"/>
          <a:stretch/>
        </p:blipFill>
        <p:spPr>
          <a:xfrm>
            <a:off x="5471640" y="419364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5940000" y="6165360"/>
            <a:ext cx="2631960" cy="43164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Преподаватель Разжигаева К.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 cap="small">
                <a:solidFill>
                  <a:srgbClr val="000000"/>
                </a:solidFill>
                <a:latin typeface="Century Schoolbook"/>
              </a:rPr>
              <a:t>Вопросы урока: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467640" y="1340640"/>
            <a:ext cx="7632360" cy="5256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Назначение овощного цех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рганизация рабочих мест овощного цех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иды технологического оборудования овощного це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</a:rPr>
              <a:t>Цели урока: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49572814"/>
              </p:ext>
            </p:extLst>
          </p:nvPr>
        </p:nvGraphicFramePr>
        <p:xfrm>
          <a:off x="683640" y="1397160"/>
          <a:ext cx="7920360" cy="505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cap="small">
                <a:solidFill>
                  <a:srgbClr val="000000"/>
                </a:solidFill>
                <a:latin typeface="Century Schoolbook"/>
              </a:rPr>
              <a:t>Овощной цех 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30855972"/>
              </p:ext>
            </p:extLst>
          </p:nvPr>
        </p:nvGraphicFramePr>
        <p:xfrm>
          <a:off x="457200" y="928800"/>
          <a:ext cx="8043480" cy="55450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57160" y="274680"/>
            <a:ext cx="7500600" cy="17967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527d55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800" spc="-1" strike="noStrike" cap="small">
                <a:solidFill>
                  <a:srgbClr val="000000"/>
                </a:solidFill>
                <a:latin typeface="Century Schoolbook"/>
              </a:rPr>
              <a:t>Овощной цех расположен рядом со складом овощехранилищем и имеет удобное сообщение с горячим и холодным цехом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71320" y="2214720"/>
            <a:ext cx="804348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Блок-схема: перфолента 5"/>
          <p:cNvSpPr/>
          <p:nvPr/>
        </p:nvSpPr>
        <p:spPr>
          <a:xfrm>
            <a:off x="3786120" y="3429000"/>
            <a:ext cx="3428640" cy="1856880"/>
          </a:xfrm>
          <a:prstGeom prst="flowChartPunchedTape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вощной це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предварительн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6"/>
          <p:cNvSpPr/>
          <p:nvPr/>
        </p:nvSpPr>
        <p:spPr>
          <a:xfrm>
            <a:off x="571320" y="3786120"/>
            <a:ext cx="2785680" cy="8568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Склад овощехранил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5786280" y="2286000"/>
            <a:ext cx="2356920" cy="8568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Горячий ц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завершающ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8"/>
          <p:cNvSpPr/>
          <p:nvPr/>
        </p:nvSpPr>
        <p:spPr>
          <a:xfrm>
            <a:off x="5643720" y="5429160"/>
            <a:ext cx="2428560" cy="99972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олодный ц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завершающ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право 9"/>
          <p:cNvSpPr/>
          <p:nvPr/>
        </p:nvSpPr>
        <p:spPr>
          <a:xfrm>
            <a:off x="3429000" y="4143240"/>
            <a:ext cx="28548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70" name="Стрелка вверх 16"/>
          <p:cNvSpPr/>
          <p:nvPr/>
        </p:nvSpPr>
        <p:spPr>
          <a:xfrm>
            <a:off x="7072200" y="3214800"/>
            <a:ext cx="285480" cy="213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71" name="Стрелка вниз 17"/>
          <p:cNvSpPr/>
          <p:nvPr/>
        </p:nvSpPr>
        <p:spPr>
          <a:xfrm>
            <a:off x="6858000" y="5072040"/>
            <a:ext cx="213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20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 cap="small">
                <a:solidFill>
                  <a:srgbClr val="000000"/>
                </a:solidFill>
                <a:latin typeface="Century Schoolbook"/>
              </a:rPr>
              <a:t>Оснащение овощного цеха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357200"/>
            <a:ext cx="6929280" cy="51163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3d5e40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Рабочие места оснащаются механическим оборудованием, производственными столами, столами для доочистки картофеля и корнеплодов, моечными ваннами, подтоварниками для овощей, инструментами и инвентарём.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ё оборудование расстанавливают по ходу технологического процесс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Организация рабочих мест овощного цеха 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7840" y="1857240"/>
            <a:ext cx="3642840" cy="14284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76320">
            <a:solidFill>
              <a:srgbClr val="3d5e40"/>
            </a:solidFill>
            <a:round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иния обработки картофеля и корнеплодов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4929120" y="4071960"/>
            <a:ext cx="3642840" cy="128556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entury Schoolbook"/>
              </a:rPr>
              <a:t>Линия обработки свежей капусты и зе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Содержимое 7" descr="tradeboardEqxV1o_img.JPG"/>
          <p:cNvPicPr/>
          <p:nvPr/>
        </p:nvPicPr>
        <p:blipFill>
          <a:blip r:embed="rId1"/>
          <a:stretch/>
        </p:blipFill>
        <p:spPr>
          <a:xfrm>
            <a:off x="571320" y="1500120"/>
            <a:ext cx="4000320" cy="24285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tradeboarddGUKHI_img.jpg"/>
          <p:cNvPicPr/>
          <p:nvPr/>
        </p:nvPicPr>
        <p:blipFill>
          <a:blip r:embed="rId2"/>
          <a:stretch/>
        </p:blipFill>
        <p:spPr>
          <a:xfrm>
            <a:off x="571320" y="4000680"/>
            <a:ext cx="400032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одержимое 4" descr="Stol_montazhnika_radioapparatury.jpg"/>
          <p:cNvPicPr/>
          <p:nvPr/>
        </p:nvPicPr>
        <p:blipFill>
          <a:blip r:embed="rId1"/>
          <a:srcRect l="4409" t="6496" r="4409" b="11692"/>
          <a:stretch/>
        </p:blipFill>
        <p:spPr>
          <a:xfrm>
            <a:off x="500040" y="357120"/>
            <a:ext cx="4428720" cy="4500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929120" y="500040"/>
            <a:ext cx="3500280" cy="27856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4b734b"/>
            </a:solidFill>
            <a:round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ля очистки репчатого лука и чеснока, используют специальные столы с вытяжным устройством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1" name="Рисунок 5" descr="113028_or.jpg"/>
          <p:cNvPicPr/>
          <p:nvPr/>
        </p:nvPicPr>
        <p:blipFill>
          <a:blip r:embed="rId2"/>
          <a:stretch/>
        </p:blipFill>
        <p:spPr>
          <a:xfrm>
            <a:off x="3714840" y="3929040"/>
            <a:ext cx="485748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75</TotalTime>
  <Application>LibreOffice/7.4.7.2$Linux_X86_64 LibreOffice_project/40$Build-2</Application>
  <AppVersion>15.0000</AppVersion>
  <Words>521</Words>
  <Paragraphs>68</Paragraphs>
  <Company>Simart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1:32:39Z</dcterms:created>
  <dc:creator>Skif</dc:creator>
  <dc:description/>
  <dc:language>en-US</dc:language>
  <cp:lastModifiedBy>User</cp:lastModifiedBy>
  <dcterms:modified xsi:type="dcterms:W3CDTF">2023-01-19T20:21:00Z</dcterms:modified>
  <cp:revision>56</cp:revision>
  <dc:subject/>
  <dc:title>Организация работы овощного це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