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339A-39C2-4025-85D2-03F357009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5D267-315A-4A7A-88FF-9A5803F724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1786-07A5-454D-9348-81FB020A6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30E0-E08F-441E-BAA8-FC394EDD8A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54D1C-470F-4BEB-985B-01BE481138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7171-BBED-4282-B500-D31B3783C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5917-4942-4B32-8062-037C595FB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0E0E-509C-4038-950F-14E88AA67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909F1-77D2-4A6D-9F98-B9DD9C6103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F4778-402F-45B8-AC45-57CBC145C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ED7D1-719F-463B-9406-67B826905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659B2-D79F-4147-B75E-7AFDFA706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76526-7B1A-4227-9D00-FDA3E1C19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0F28-DF6E-4F78-8F90-C7CF2845E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DA92-788A-4127-9A78-5534F69EC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40B9-62D1-4979-BD44-6E2628E121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BF1B7-B60A-4BF7-AAA5-C282A52D4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8F419-D892-40D2-89DE-456CF595D6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E2865-EFED-4D47-9017-515C82EEC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3DEC-91BE-4544-B567-5695FD8E64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50144-843B-405B-AC87-7BD92C449B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56B1A-6C9E-40A4-AA48-701D6D30A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C4BE0-A237-4E38-B6F7-53EE383CC5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37B9B-2AF8-43F0-840C-FFDED60F2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508B-3911-48B5-9FE0-10B1E5AF3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3D57-F5F4-445C-8B74-FADD0C79E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4005-7D82-452A-89B3-6E3E2586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D922-1538-4152-8C40-DD548C784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77E1-168E-4D77-A462-AC6CE781B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2494-B770-4524-8DE6-B9E9DEE24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4681-EDCE-416C-A0E1-138E7EAFF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0216-1318-4A7C-8F35-03D41243E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5018-6521-4690-BC3A-3F961EDC2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14B-F198-4688-A0EB-3B5B53AFC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1A3C-B636-41D7-8B2F-4003F07BA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E1FB-C9E2-4800-846B-A7FCA02D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A576-F20C-44ED-9BB1-87B45D67036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53.png"/><Relationship Id="rId4" Type="http://schemas.openxmlformats.org/officeDocument/2006/relationships/image" Target="../media/image4.png"/><Relationship Id="rId5" Type="http://schemas.openxmlformats.org/officeDocument/2006/relationships/image" Target="../media/image39.png"/><Relationship Id="rId6" Type="http://schemas.openxmlformats.org/officeDocument/2006/relationships/image" Target="../media/image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image" Target="../media/image39.png"/><Relationship Id="rId6" Type="http://schemas.openxmlformats.org/officeDocument/2006/relationships/image" Target="../media/image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>
            <a:hlinkClick r:id="" action="ppaction://hlinkshowjump?jump=nextslide"/>
          </p:cNvPr>
          <p:cNvSpPr/>
          <p:nvPr/>
        </p:nvSpPr>
        <p:spPr>
          <a:xfrm>
            <a:off x="892800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793480" y="1116000"/>
            <a:ext cx="31374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кто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Занимательные задания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76360" y="1249200"/>
            <a:ext cx="410364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гра-викто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тельный русский яз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2"/>
          <a:stretch/>
        </p:blipFill>
        <p:spPr>
          <a:xfrm>
            <a:off x="407880" y="367020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1139760" y="249120"/>
            <a:ext cx="7864560" cy="1573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800360" y="2411280"/>
            <a:ext cx="273528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душ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800360" y="406728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л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4"/>
          <a:stretch/>
        </p:blipFill>
        <p:spPr>
          <a:xfrm>
            <a:off x="480960" y="19447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5"/>
          <a:stretch/>
        </p:blipFill>
        <p:spPr>
          <a:xfrm>
            <a:off x="407880" y="287640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tretch/>
        </p:blipFill>
        <p:spPr>
          <a:xfrm>
            <a:off x="480960" y="4535640"/>
            <a:ext cx="146376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1800360" y="320364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ег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800360" y="4859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сё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7"/>
          <a:stretch/>
        </p:blipFill>
        <p:spPr>
          <a:xfrm>
            <a:off x="401760" y="5467320"/>
            <a:ext cx="1616040" cy="1152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1"/>
          <p:cNvSpPr/>
          <p:nvPr/>
        </p:nvSpPr>
        <p:spPr>
          <a:xfrm>
            <a:off x="1800360" y="5796000"/>
            <a:ext cx="237636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м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8"/>
          <a:stretch/>
        </p:blipFill>
        <p:spPr>
          <a:xfrm>
            <a:off x="4900680" y="201132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9"/>
          <a:stretch/>
        </p:blipFill>
        <p:spPr>
          <a:xfrm>
            <a:off x="4889520" y="2803680"/>
            <a:ext cx="166356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10"/>
          <a:stretch/>
        </p:blipFill>
        <p:spPr>
          <a:xfrm>
            <a:off x="5016600" y="3670200"/>
            <a:ext cx="1517400" cy="1150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5"/>
          <p:cNvSpPr/>
          <p:nvPr/>
        </p:nvSpPr>
        <p:spPr>
          <a:xfrm>
            <a:off x="6119640" y="248436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краш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119640" y="4067280"/>
            <a:ext cx="237672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к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119640" y="3203640"/>
            <a:ext cx="237672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par>
              <p:cTn id="219" nodeType="interactiveSeq" fill="hold">
                <p:childTnLst>
                  <p:par>
                    <p:cTn id="220" fill="hold"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24" nodeType="interactiveSeq" fill="hold">
                <p:childTnLst>
                  <p:par>
                    <p:cTn id="225" fill="hold"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29" nodeType="interactiveSeq" fill="hold">
                <p:childTnLst>
                  <p:par>
                    <p:cTn id="230" fill="hold"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34" nodeType="interactiveSeq" fill="hold">
                <p:childTnLst>
                  <p:par>
                    <p:cTn id="235" fill="hold"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39" nodeType="interactiveSeq" fill="hold">
                <p:childTnLst>
                  <p:par>
                    <p:cTn id="240" fill="hold"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44" nodeType="interactiveSeq" fill="hold">
                <p:childTnLst>
                  <p:par>
                    <p:cTn id="245" fill="hold"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49" nodeType="interactiveSeq" fill="hold">
                <p:childTnLst>
                  <p:par>
                    <p:cTn id="250" fill="hold"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54" nodeType="interactiveSeq" fill="hold">
                <p:childTnLst>
                  <p:par>
                    <p:cTn id="255" fill="hold"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1554120" y="249120"/>
            <a:ext cx="7040520" cy="15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500040" y="4316400"/>
            <a:ext cx="3863880" cy="115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585720" y="1652760"/>
            <a:ext cx="6821640" cy="115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5"/>
          <a:stretch/>
        </p:blipFill>
        <p:spPr>
          <a:xfrm>
            <a:off x="4522680" y="2517840"/>
            <a:ext cx="3425760" cy="115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6"/>
          <a:stretch/>
        </p:blipFill>
        <p:spPr>
          <a:xfrm>
            <a:off x="4091040" y="3382920"/>
            <a:ext cx="316368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7"/>
          <a:stretch/>
        </p:blipFill>
        <p:spPr>
          <a:xfrm>
            <a:off x="500040" y="2590920"/>
            <a:ext cx="4218120" cy="115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8"/>
          <a:stretch/>
        </p:blipFill>
        <p:spPr>
          <a:xfrm>
            <a:off x="4017960" y="4248000"/>
            <a:ext cx="3462480" cy="11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9"/>
          <a:stretch/>
        </p:blipFill>
        <p:spPr>
          <a:xfrm>
            <a:off x="500040" y="3456000"/>
            <a:ext cx="370044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590400" y="523800"/>
            <a:ext cx="8839440" cy="54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407960" y="682560"/>
            <a:ext cx="7278840" cy="2206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448000" y="313200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448000" y="514836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у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841320" y="25909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743040" y="3670200"/>
            <a:ext cx="1603440" cy="11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676440" y="4681440"/>
            <a:ext cx="159696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6"/>
          <a:stretch/>
        </p:blipFill>
        <p:spPr>
          <a:xfrm>
            <a:off x="743040" y="5688000"/>
            <a:ext cx="1463760" cy="1150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448000" y="4067280"/>
            <a:ext cx="2376360" cy="57600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ма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19280" y="615636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ук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par>
              <p:cTn id="2" nodeType="interactiveSeq" fill="hold">
                <p:childTnLst>
                  <p:par>
                    <p:cTn id="3" fill="hold"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" nodeType="interactiveSeq" fill="hold">
                <p:childTnLst>
                  <p:par>
                    <p:cTn id="8" fill="hold"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" nodeType="interactiveSeq" fill="hold">
                <p:childTnLst>
                  <p:par>
                    <p:cTn id="13" fill="hold"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" nodeType="interactiveSeq" fill="hold">
                <p:childTnLst>
                  <p:par>
                    <p:cTn id="18" fill="hold"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743040" y="3670200"/>
            <a:ext cx="160344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426960" y="396720"/>
            <a:ext cx="9167760" cy="220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448000" y="3132000"/>
            <a:ext cx="6408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звонкий, твёрд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448000" y="4067280"/>
            <a:ext cx="633708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твёрдый, глух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841320" y="25909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676440" y="4681440"/>
            <a:ext cx="159696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743040" y="5688000"/>
            <a:ext cx="1463760" cy="1150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2448000" y="5219640"/>
            <a:ext cx="633708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мягкий, звон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519280" y="6156360"/>
            <a:ext cx="626580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мягкий, глух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0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par>
              <p:cTn id="23" nodeType="interactiveSeq" fill="hold">
                <p:childTnLst>
                  <p:par>
                    <p:cTn id="24" fill="hold"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8" nodeType="interactiveSeq" fill="hold">
                <p:childTnLst>
                  <p:par>
                    <p:cTn id="29" fill="hold"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3" nodeType="interactiveSeq" fill="hold">
                <p:childTnLst>
                  <p:par>
                    <p:cTn id="34" fill="hold"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8" nodeType="interactiveSeq" fill="hold">
                <p:childTnLst>
                  <p:par>
                    <p:cTn id="39" fill="hold"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1773360" y="249120"/>
            <a:ext cx="6608520" cy="94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160720" y="1258920"/>
            <a:ext cx="2097000" cy="166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4"/>
          <a:stretch/>
        </p:blipFill>
        <p:spPr>
          <a:xfrm>
            <a:off x="216000" y="1258920"/>
            <a:ext cx="1938240" cy="16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5"/>
          <a:stretch/>
        </p:blipFill>
        <p:spPr>
          <a:xfrm>
            <a:off x="1008000" y="1258920"/>
            <a:ext cx="2151000" cy="16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6"/>
          <a:stretch/>
        </p:blipFill>
        <p:spPr>
          <a:xfrm>
            <a:off x="3456000" y="1258920"/>
            <a:ext cx="2152800" cy="166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7"/>
          <a:stretch/>
        </p:blipFill>
        <p:spPr>
          <a:xfrm>
            <a:off x="4608360" y="1258920"/>
            <a:ext cx="2097360" cy="1665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8"/>
          <a:stretch/>
        </p:blipFill>
        <p:spPr>
          <a:xfrm>
            <a:off x="5904000" y="1258920"/>
            <a:ext cx="2152440" cy="166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9"/>
          <a:stretch/>
        </p:blipFill>
        <p:spPr>
          <a:xfrm>
            <a:off x="7345440" y="1258920"/>
            <a:ext cx="2035080" cy="166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10"/>
          <a:stretch/>
        </p:blipFill>
        <p:spPr>
          <a:xfrm>
            <a:off x="414360" y="3260880"/>
            <a:ext cx="2206440" cy="166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11"/>
          <a:stretch/>
        </p:blipFill>
        <p:spPr>
          <a:xfrm>
            <a:off x="1584360" y="3274920"/>
            <a:ext cx="2035080" cy="166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12"/>
          <a:stretch/>
        </p:blipFill>
        <p:spPr>
          <a:xfrm>
            <a:off x="2719440" y="3260880"/>
            <a:ext cx="1981080" cy="166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13"/>
          <a:stretch/>
        </p:blipFill>
        <p:spPr>
          <a:xfrm>
            <a:off x="3736800" y="3260880"/>
            <a:ext cx="2035440" cy="16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14"/>
          <a:stretch/>
        </p:blipFill>
        <p:spPr>
          <a:xfrm>
            <a:off x="4883040" y="3260880"/>
            <a:ext cx="1938600" cy="166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5"/>
          <a:stretch/>
        </p:blipFill>
        <p:spPr>
          <a:xfrm>
            <a:off x="5675400" y="3260880"/>
            <a:ext cx="2152440" cy="166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6"/>
          <a:stretch/>
        </p:blipFill>
        <p:spPr>
          <a:xfrm>
            <a:off x="6912000" y="3274920"/>
            <a:ext cx="2090880" cy="1665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68988E-007 5.86742E-006 L -0.44312 0.12378 E">
                                      <p:cBhvr>
                                        <p:cTn id="4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7816E-006 5.86742E-006 L -0.50031 0.12378 E">
                                      <p:cBhvr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10558E-007 5.76673E-006 L -0.05011 0.13322 E">
                                      <p:cBhvr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8311E-007 5.34089E-006 L 0.15726 0.13322 E">
                                      <p:cBhvr>
                                        <p:cTn id="6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8096E-006 5.86742E-006 L -0.36464 0.12378 E">
                                      <p:cBhvr>
                                        <p:cTn id="6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1973E-006 5.66604E-006 L 0.11441 0.14266 E">
                                      <p:cBhvr>
                                        <p:cTn id="6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3312E-006 5.76673E-006 L 0.57895 0.11413 E">
                                      <p:cBhvr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2225E-006 -2.21313E-006 L -0.67177 0.1523 E">
                                      <p:cBhvr>
                                        <p:cTn id="7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42042E-006 -2.11244E-006 L -0.0643 0.1523 E">
                                      <p:cBhvr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3593E-006 -2.11244E-006 L -0.30744 0.1523 E">
                                      <p:cBhvr>
                                        <p:cTn id="8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7885E-006 -2.31382E-006 L -0.10006 0.15209 E"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0069E-006 -2.21313E-006 L 0.35029 0.1523 E">
                                      <p:cBhvr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1478E-006 -2.11244E-006 L -0.07138 0.13321 E">
                                      <p:cBhvr>
                                        <p:cTn id="9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24929E-006 -2.21313E-006 L 0.35014 0.1523 E">
                                      <p:cBhvr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1189080" y="249120"/>
            <a:ext cx="7778880" cy="94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9080" y="3584520"/>
            <a:ext cx="91551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4"/>
          <a:stretch/>
        </p:blipFill>
        <p:spPr>
          <a:xfrm>
            <a:off x="1457280" y="1566720"/>
            <a:ext cx="641844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5"/>
          <a:stretch/>
        </p:blipFill>
        <p:spPr>
          <a:xfrm>
            <a:off x="2212920" y="2444760"/>
            <a:ext cx="49132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6"/>
          <a:stretch/>
        </p:blipFill>
        <p:spPr>
          <a:xfrm>
            <a:off x="2316240" y="4389480"/>
            <a:ext cx="4572000" cy="1152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341280" y="609480"/>
            <a:ext cx="9253440" cy="1573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160720" y="2843280"/>
            <a:ext cx="1511280" cy="86508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400720" y="2843280"/>
            <a:ext cx="1727280" cy="8650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84120" y="3468600"/>
            <a:ext cx="1652760" cy="138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1030320" y="3468600"/>
            <a:ext cx="1792080" cy="138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1822320" y="3468600"/>
            <a:ext cx="1652760" cy="1389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3365640" y="3529080"/>
            <a:ext cx="303516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tretch/>
        </p:blipFill>
        <p:spPr>
          <a:xfrm>
            <a:off x="384120" y="4979880"/>
            <a:ext cx="184140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1200240" y="4979880"/>
            <a:ext cx="1744560" cy="139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9"/>
          <a:stretch/>
        </p:blipFill>
        <p:spPr>
          <a:xfrm>
            <a:off x="2103480" y="4979880"/>
            <a:ext cx="166356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10"/>
          <a:stretch/>
        </p:blipFill>
        <p:spPr>
          <a:xfrm>
            <a:off x="3029040" y="5181480"/>
            <a:ext cx="342108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2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129" nodeType="interactiveSeq" fill="hold">
                <p:childTnLst>
                  <p:par>
                    <p:cTn id="130" fill="hold"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4" nodeType="interactiveSeq" fill="hold">
                <p:childTnLst>
                  <p:par>
                    <p:cTn id="135" fill="hold"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407880" y="367020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936720" y="324000"/>
            <a:ext cx="8394480" cy="2208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800360" y="2411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800360" y="406728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480960" y="19447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407880" y="287640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480960" y="4535640"/>
            <a:ext cx="1463760" cy="1152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800360" y="320364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ё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800360" y="4859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7"/>
          <a:stretch/>
        </p:blipFill>
        <p:spPr>
          <a:xfrm>
            <a:off x="401760" y="5467320"/>
            <a:ext cx="1616040" cy="1152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1800360" y="5796000"/>
            <a:ext cx="237636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8"/>
          <a:stretch/>
        </p:blipFill>
        <p:spPr>
          <a:xfrm>
            <a:off x="4900680" y="201132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9"/>
          <a:stretch/>
        </p:blipFill>
        <p:spPr>
          <a:xfrm>
            <a:off x="4889520" y="2803680"/>
            <a:ext cx="166356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10"/>
          <a:stretch/>
        </p:blipFill>
        <p:spPr>
          <a:xfrm>
            <a:off x="5016600" y="3670200"/>
            <a:ext cx="151740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6048360" y="248436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дея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119640" y="320364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с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6119640" y="4067280"/>
            <a:ext cx="237672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ъез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8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par>
              <p:cTn id="140" nodeType="interactiveSeq" fill="hold">
                <p:childTnLst>
                  <p:par>
                    <p:cTn id="141" fill="hold"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5" nodeType="interactiveSeq" fill="hold">
                <p:childTnLst>
                  <p:par>
                    <p:cTn id="146" fill="hold"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0" nodeType="interactiveSeq" fill="hold">
                <p:childTnLst>
                  <p:par>
                    <p:cTn id="151" fill="hold"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5" nodeType="interactiveSeq" fill="hold">
                <p:childTnLst>
                  <p:par>
                    <p:cTn id="156" fill="hold"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0" nodeType="interactiveSeq" fill="hold">
                <p:childTnLst>
                  <p:par>
                    <p:cTn id="161" fill="hold"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5" nodeType="interactiveSeq" fill="hold">
                <p:childTnLst>
                  <p:par>
                    <p:cTn id="166" fill="hold"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0" nodeType="interactiveSeq" fill="hold">
                <p:childTnLst>
                  <p:par>
                    <p:cTn id="171" fill="hold"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5" nodeType="interactiveSeq" fill="hold">
                <p:childTnLst>
                  <p:par>
                    <p:cTn id="176" fill="hold"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480960" y="295128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322280" y="249120"/>
            <a:ext cx="7497720" cy="94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727280" y="1403280"/>
            <a:ext cx="324144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уляй соба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00360" y="3348000"/>
            <a:ext cx="547200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звенели птичьи гол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554040" y="933480"/>
            <a:ext cx="156060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49360" y="201132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549360" y="4029120"/>
            <a:ext cx="146196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871640" y="2266920"/>
            <a:ext cx="6408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улице стоит ужасный ж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800360" y="4427640"/>
            <a:ext cx="5543280" cy="57600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абушка встречать вн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549360" y="5108400"/>
            <a:ext cx="161424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1727280" y="5508720"/>
            <a:ext cx="698508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бите книгу – источник знани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par>
              <p:cTn id="181" nodeType="interactiveSeq" fill="hold">
                <p:childTnLst>
                  <p:par>
                    <p:cTn id="182" fill="hold"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86" nodeType="interactiveSeq" fill="hold">
                <p:childTnLst>
                  <p:par>
                    <p:cTn id="187" fill="hold"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91" nodeType="interactiveSeq" fill="hold">
                <p:childTnLst>
                  <p:par>
                    <p:cTn id="192" fill="hold"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96" nodeType="interactiveSeq" fill="hold">
                <p:childTnLst>
                  <p:par>
                    <p:cTn id="197" fill="hold"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01" nodeType="interactiveSeq" fill="hold">
                <p:childTnLst>
                  <p:par>
                    <p:cTn id="202" fill="hold"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1073160" y="249120"/>
            <a:ext cx="8010360" cy="157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81160" y="3382920"/>
            <a:ext cx="407808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4"/>
          <a:stretch/>
        </p:blipFill>
        <p:spPr>
          <a:xfrm>
            <a:off x="291960" y="1944720"/>
            <a:ext cx="306072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792520" y="1944720"/>
            <a:ext cx="329076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6"/>
          <a:stretch/>
        </p:blipFill>
        <p:spPr>
          <a:xfrm>
            <a:off x="3865680" y="3382920"/>
            <a:ext cx="2827080" cy="1152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23:51Z</dcterms:created>
  <dc:creator/>
  <dc:description/>
  <dc:language>en-US</dc:language>
  <cp:lastModifiedBy>UseR</cp:lastModifiedBy>
  <dcterms:modified xsi:type="dcterms:W3CDTF">2023-02-06T07:28:10Z</dcterms:modified>
  <cp:revision>23</cp:revision>
  <dc:subject/>
  <dc:title>Слайд 1</dc:title>
</cp:coreProperties>
</file>