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095C-F8C8-49EC-9B35-1621DE4D1E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2EC4-7947-4FA0-A517-A1ACDB953B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FB0-BC67-47C5-BF4E-EC7AF3CB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C0A-1E2B-4BE2-BBA7-180CFC7B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DEA-E116-4E1A-8224-7996CE34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0AA-8C2E-416D-A907-604F2A06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ED1-137C-4EDD-81DB-9874A41C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4254-500B-4281-BC5D-CEA1E59D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93F-5732-4A2A-B1AA-0957DFFE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927-D532-495B-BE58-391F417C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56C-8387-4AF4-B690-96441595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0BF2-08D2-4637-A82D-AD676A2C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CB2-1787-4A96-B9CB-3F64A8A4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104-5F06-493A-9684-C1001D8F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eff8f9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7163-A012-416A-932F-CB875C35D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Bahnschrift"/>
              </a:rPr>
              <a:t>Урок русского языка в 10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91440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одчиненный принцип пунктуации, который предписывает знаки в предложении ставить в соответствии с оттенками смысла. Применяется тогда, когда именно знак препинания позволяет правильно интерпретировать смысл предложения, а грамматически нередко возможны вариан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762120" y="152280"/>
            <a:ext cx="7467480" cy="1447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Смыслов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05280" y="914400"/>
            <a:ext cx="9448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Кот несся на трех лапах, а четвертой, передней лапой бил петуха по спине (Пауст.)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сли не поставить запятую между двумя определениями, не считая их однородными по контексту, то получится, что у кота три лапы, на которых он несется, и еще четыре передних. Не кот, а осьминог какой–т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3300"/>
                </a:solidFill>
                <a:latin typeface="Arial"/>
              </a:rPr>
              <a:t>Например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8951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Подчиненный принцип пунктуации, который предписывает знаки в предложении ставить в соответствии с особенностями интон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457200" y="228600"/>
            <a:ext cx="8001000" cy="20574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Интонацио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Да. Да! Да?! Да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ите, как по–разному можно произнести одно и то же слово. И смысл совсем разн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Arial"/>
              </a:rPr>
              <a:t>Например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ВИДЫ И ЗНАЧЕНИЯ ЗНАКОВ ПРЕПИ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152640" y="1371600"/>
            <a:ext cx="601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диночные разделяющие знаки</a:t>
            </a:r>
            <a:r>
              <a:rPr b="1" lang="ru-RU" sz="36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ставятся между предложениями, частями сложного предложения, ОЧП, подлежащим и сказуемым и членят текст на отрез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08"/>
          <p:cNvSpPr txBox="1"/>
          <p:nvPr/>
        </p:nvSpPr>
        <p:spPr>
          <a:xfrm>
            <a:off x="4876920" y="586728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02298" dir="11224500" blurRad="0" rotWithShape="0">
                    <a:srgbClr val="808080"/>
                  </a:outerShdw>
                </a:effectLst>
                <a:latin typeface="Times New Roman"/>
              </a:rPr>
              <a:t>-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02298" dir="112245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08" name="Group 44"/>
          <p:cNvGrpSpPr/>
          <p:nvPr/>
        </p:nvGrpSpPr>
        <p:grpSpPr>
          <a:xfrm>
            <a:off x="6933960" y="6019920"/>
            <a:ext cx="1068840" cy="534240"/>
            <a:chOff x="6933960" y="6019920"/>
            <a:chExt cx="1068840" cy="534240"/>
          </a:xfrm>
        </p:grpSpPr>
        <p:sp>
          <p:nvSpPr>
            <p:cNvPr id="109" name="Oval 111"/>
            <p:cNvSpPr/>
            <p:nvPr/>
          </p:nvSpPr>
          <p:spPr>
            <a:xfrm rot="5400000">
              <a:off x="7707240" y="6007680"/>
              <a:ext cx="279360" cy="303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1"/>
            <p:cNvSpPr/>
            <p:nvPr/>
          </p:nvSpPr>
          <p:spPr>
            <a:xfrm rot="5400000">
              <a:off x="6946200" y="6007320"/>
              <a:ext cx="279360" cy="304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rc 47"/>
            <p:cNvSpPr/>
            <p:nvPr/>
          </p:nvSpPr>
          <p:spPr>
            <a:xfrm rot="5670600">
              <a:off x="7548840" y="6075360"/>
              <a:ext cx="144360" cy="75420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fill="none" w="21600" h="42860">
                  <a:moveTo>
                    <a:pt x="77" y="0"/>
                  </a:moveTo>
                  <a:cubicBezTo>
                    <a:pt x="11976" y="43"/>
                    <a:pt x="21600" y="9701"/>
                    <a:pt x="21600" y="21600"/>
                  </a:cubicBezTo>
                  <a:cubicBezTo>
                    <a:pt x="21600" y="32057"/>
                    <a:pt x="14108" y="-24523"/>
                    <a:pt x="3815" y="-22676"/>
                  </a:cubicBezTo>
                </a:path>
                <a:path stroke="0" w="21600" h="42860">
                  <a:moveTo>
                    <a:pt x="77" y="0"/>
                  </a:moveTo>
                  <a:cubicBezTo>
                    <a:pt x="11976" y="43"/>
                    <a:pt x="21600" y="9701"/>
                    <a:pt x="21600" y="21600"/>
                  </a:cubicBezTo>
                  <a:cubicBezTo>
                    <a:pt x="21600" y="32057"/>
                    <a:pt x="14108" y="-24523"/>
                    <a:pt x="3815" y="-22676"/>
                  </a:cubicBezTo>
                  <a:lnTo>
                    <a:pt x="0" y="21600"/>
                  </a:lnTo>
                  <a:lnTo>
                    <a:pt x="77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1"/>
            <p:cNvSpPr/>
            <p:nvPr/>
          </p:nvSpPr>
          <p:spPr>
            <a:xfrm rot="5400000">
              <a:off x="7829280" y="6077160"/>
              <a:ext cx="18936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1"/>
            <p:cNvSpPr/>
            <p:nvPr/>
          </p:nvSpPr>
          <p:spPr>
            <a:xfrm rot="5400000">
              <a:off x="7061760" y="6083280"/>
              <a:ext cx="20016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50"/>
          <p:cNvGrpSpPr/>
          <p:nvPr/>
        </p:nvGrpSpPr>
        <p:grpSpPr>
          <a:xfrm>
            <a:off x="4567320" y="2348640"/>
            <a:ext cx="2066760" cy="2160360"/>
            <a:chOff x="4567320" y="2348640"/>
            <a:chExt cx="2066760" cy="2160360"/>
          </a:xfrm>
        </p:grpSpPr>
        <p:sp>
          <p:nvSpPr>
            <p:cNvPr id="115" name="WordArt 108"/>
            <p:cNvSpPr txBox="1"/>
            <p:nvPr/>
          </p:nvSpPr>
          <p:spPr>
            <a:xfrm rot="19912800">
              <a:off x="4876560" y="2590560"/>
              <a:ext cx="1447560" cy="167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bbe0e3"/>
                  </a:solidFill>
                  <a:effectLst>
                    <a:outerShdw dist="68321" dir="20281825" blurRad="0" rotWithShape="0">
                      <a:srgbClr val="808080"/>
                    </a:outerShdw>
                  </a:effectLst>
                  <a:latin typeface="Times New Roman"/>
                </a:rPr>
                <a:t>,</a:t>
              </a:r>
              <a:endPara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bbe0e3"/>
                </a:solidFill>
                <a:effectLst>
                  <a:outerShdw dist="68321" dir="20281825" blurRad="0" rotWithShape="0">
                    <a:srgbClr val="80808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16" name="Oval 111"/>
            <p:cNvSpPr/>
            <p:nvPr/>
          </p:nvSpPr>
          <p:spPr>
            <a:xfrm rot="3712800">
              <a:off x="5235480" y="2939760"/>
              <a:ext cx="250560" cy="27324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1"/>
            <p:cNvSpPr/>
            <p:nvPr/>
          </p:nvSpPr>
          <p:spPr>
            <a:xfrm rot="3712800">
              <a:off x="5663520" y="2674440"/>
              <a:ext cx="254160" cy="27360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rc 54"/>
            <p:cNvSpPr/>
            <p:nvPr/>
          </p:nvSpPr>
          <p:spPr>
            <a:xfrm rot="3983400">
              <a:off x="5641200" y="2898000"/>
              <a:ext cx="219960" cy="55908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fill="none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</a:path>
                <a:path stroke="0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  <a:lnTo>
                    <a:pt x="0" y="20539"/>
                  </a:lnTo>
                  <a:lnTo>
                    <a:pt x="6686" y="0"/>
                  </a:lnTo>
                  <a:close/>
                </a:path>
              </a:pathLst>
            </a:custGeom>
            <a:solidFill>
              <a:srgbClr val="bbe0e3"/>
            </a:solidFill>
            <a:ln w="38160">
              <a:solidFill>
                <a:srgbClr val="ffffff"/>
              </a:solidFill>
              <a:round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1"/>
            <p:cNvSpPr/>
            <p:nvPr/>
          </p:nvSpPr>
          <p:spPr>
            <a:xfrm rot="3712800">
              <a:off x="5650920" y="2769480"/>
              <a:ext cx="156240" cy="1375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11"/>
            <p:cNvSpPr/>
            <p:nvPr/>
          </p:nvSpPr>
          <p:spPr>
            <a:xfrm rot="3712800">
              <a:off x="5208120" y="3054240"/>
              <a:ext cx="157320" cy="1378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57"/>
          <p:cNvGrpSpPr/>
          <p:nvPr/>
        </p:nvGrpSpPr>
        <p:grpSpPr>
          <a:xfrm>
            <a:off x="5827680" y="1374840"/>
            <a:ext cx="3737520" cy="4108320"/>
            <a:chOff x="5827680" y="1374840"/>
            <a:chExt cx="3737520" cy="4108320"/>
          </a:xfrm>
        </p:grpSpPr>
        <p:sp>
          <p:nvSpPr>
            <p:cNvPr id="122" name="WordArt 108"/>
            <p:cNvSpPr txBox="1"/>
            <p:nvPr/>
          </p:nvSpPr>
          <p:spPr>
            <a:xfrm rot="19900200">
              <a:off x="6477120" y="1752480"/>
              <a:ext cx="2438280" cy="33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66ff"/>
                  </a:solidFill>
                  <a:effectLst>
                    <a:outerShdw dist="64600" dir="20925162" blurRad="0" rotWithShape="0">
                      <a:srgbClr val="808080"/>
                    </a:outerShdw>
                  </a:effectLst>
                  <a:latin typeface="Times New Roman"/>
                </a:rPr>
                <a:t>;</a:t>
              </a:r>
              <a:endPara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ff"/>
                </a:solidFill>
                <a:effectLst>
                  <a:outerShdw dist="64600" dir="20925162" blurRad="0" rotWithShape="0">
                    <a:srgbClr val="80808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23" name="Oval 111"/>
            <p:cNvSpPr/>
            <p:nvPr/>
          </p:nvSpPr>
          <p:spPr>
            <a:xfrm rot="5400000">
              <a:off x="7592760" y="1944360"/>
              <a:ext cx="433080" cy="29592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11"/>
            <p:cNvSpPr/>
            <p:nvPr/>
          </p:nvSpPr>
          <p:spPr>
            <a:xfrm rot="5400000">
              <a:off x="7000200" y="1944720"/>
              <a:ext cx="433080" cy="29556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rc 61"/>
            <p:cNvSpPr/>
            <p:nvPr/>
          </p:nvSpPr>
          <p:spPr>
            <a:xfrm rot="5670600">
              <a:off x="7389000" y="2151720"/>
              <a:ext cx="224280" cy="43020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fill="none" w="21600" h="25128">
                  <a:moveTo>
                    <a:pt x="14739" y="0"/>
                  </a:moveTo>
                  <a:cubicBezTo>
                    <a:pt x="19115" y="4085"/>
                    <a:pt x="21600" y="9802"/>
                    <a:pt x="21600" y="15789"/>
                  </a:cubicBezTo>
                  <a:cubicBezTo>
                    <a:pt x="21600" y="19021"/>
                    <a:pt x="20874" y="22213"/>
                    <a:pt x="19476" y="25127"/>
                  </a:cubicBezTo>
                </a:path>
                <a:path stroke="0" w="21600" h="25128">
                  <a:moveTo>
                    <a:pt x="14739" y="0"/>
                  </a:moveTo>
                  <a:cubicBezTo>
                    <a:pt x="19115" y="4085"/>
                    <a:pt x="21600" y="9802"/>
                    <a:pt x="21600" y="15789"/>
                  </a:cubicBezTo>
                  <a:cubicBezTo>
                    <a:pt x="21600" y="19021"/>
                    <a:pt x="20874" y="22213"/>
                    <a:pt x="19476" y="25127"/>
                  </a:cubicBezTo>
                  <a:lnTo>
                    <a:pt x="0" y="15789"/>
                  </a:lnTo>
                  <a:lnTo>
                    <a:pt x="14739" y="0"/>
                  </a:lnTo>
                  <a:close/>
                </a:path>
              </a:pathLst>
            </a:custGeom>
            <a:solidFill>
              <a:srgbClr val="ff66ff"/>
            </a:solidFill>
            <a:ln w="38160">
              <a:solidFill>
                <a:srgbClr val="ffffff"/>
              </a:solidFill>
              <a:round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11"/>
            <p:cNvSpPr/>
            <p:nvPr/>
          </p:nvSpPr>
          <p:spPr>
            <a:xfrm rot="5400000">
              <a:off x="7627680" y="1971720"/>
              <a:ext cx="292320" cy="22176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11"/>
            <p:cNvSpPr/>
            <p:nvPr/>
          </p:nvSpPr>
          <p:spPr>
            <a:xfrm rot="5400000">
              <a:off x="7025760" y="1981440"/>
              <a:ext cx="308880" cy="221760"/>
            </a:xfrm>
            <a:prstGeom prst="ellipse">
              <a:avLst/>
            </a:prstGeom>
            <a:solidFill>
              <a:srgbClr val="ff66ff"/>
            </a:solidFill>
            <a:ln w="0">
              <a:noFill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09680" y="228600"/>
            <a:ext cx="693432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Эти знаки членят текст на законченные мысли – предложения; знаки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!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?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к значению разделения добавляют смысловые и эмоциональные оттенки восклицания, вопро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-311400" y="62280"/>
            <a:ext cx="3024720" cy="3274200"/>
            <a:chOff x="-311400" y="62280"/>
            <a:chExt cx="3024720" cy="3274200"/>
          </a:xfrm>
        </p:grpSpPr>
        <p:sp>
          <p:nvSpPr>
            <p:cNvPr id="130" name="WordArt 108"/>
            <p:cNvSpPr txBox="1"/>
            <p:nvPr/>
          </p:nvSpPr>
          <p:spPr>
            <a:xfrm rot="19629000">
              <a:off x="271440" y="350640"/>
              <a:ext cx="1859040" cy="269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cc3300"/>
                  </a:solidFill>
                  <a:effectLst>
                    <a:outerShdw dist="64600" dir="20925162" blurRad="0" rotWithShape="0">
                      <a:srgbClr val="808080"/>
                    </a:outerShdw>
                  </a:effectLst>
                  <a:latin typeface="Times New Roman"/>
                </a:rPr>
                <a:t>!</a:t>
              </a:r>
              <a:endPara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3300"/>
                </a:solidFill>
                <a:effectLst>
                  <a:outerShdw dist="64600" dir="20925162" blurRad="0" rotWithShape="0">
                    <a:srgbClr val="80808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31" name="Oval 111"/>
            <p:cNvSpPr/>
            <p:nvPr/>
          </p:nvSpPr>
          <p:spPr>
            <a:xfrm rot="4177800">
              <a:off x="704160" y="604800"/>
              <a:ext cx="242640" cy="22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11"/>
            <p:cNvSpPr/>
            <p:nvPr/>
          </p:nvSpPr>
          <p:spPr>
            <a:xfrm rot="4177800">
              <a:off x="1080360" y="433440"/>
              <a:ext cx="244080" cy="225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rc 8"/>
            <p:cNvSpPr/>
            <p:nvPr/>
          </p:nvSpPr>
          <p:spPr>
            <a:xfrm rot="4448400">
              <a:off x="1038240" y="650520"/>
              <a:ext cx="212760" cy="4590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fill="none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</a:path>
                <a:path stroke="0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  <a:lnTo>
                    <a:pt x="0" y="20539"/>
                  </a:lnTo>
                  <a:lnTo>
                    <a:pt x="6686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11"/>
            <p:cNvSpPr/>
            <p:nvPr/>
          </p:nvSpPr>
          <p:spPr>
            <a:xfrm rot="4177800">
              <a:off x="1072440" y="503640"/>
              <a:ext cx="152280" cy="113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11"/>
            <p:cNvSpPr/>
            <p:nvPr/>
          </p:nvSpPr>
          <p:spPr>
            <a:xfrm rot="4177800">
              <a:off x="683640" y="691920"/>
              <a:ext cx="152280" cy="113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1"/>
          <p:cNvGrpSpPr/>
          <p:nvPr/>
        </p:nvGrpSpPr>
        <p:grpSpPr>
          <a:xfrm>
            <a:off x="487800" y="3581640"/>
            <a:ext cx="2224440" cy="2971440"/>
            <a:chOff x="487800" y="3581640"/>
            <a:chExt cx="2224440" cy="2971440"/>
          </a:xfrm>
        </p:grpSpPr>
        <p:sp>
          <p:nvSpPr>
            <p:cNvPr id="137" name="WordArt 108"/>
            <p:cNvSpPr txBox="1"/>
            <p:nvPr/>
          </p:nvSpPr>
          <p:spPr>
            <a:xfrm rot="20833200">
              <a:off x="761760" y="3733920"/>
              <a:ext cx="1676160" cy="2666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latin typeface="Times New Roman"/>
                </a:rPr>
                <a:t>?</a:t>
              </a:r>
              <a:endPara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138" name="Oval 111"/>
            <p:cNvSpPr/>
            <p:nvPr/>
          </p:nvSpPr>
          <p:spPr>
            <a:xfrm rot="5400000">
              <a:off x="1955880" y="4065480"/>
              <a:ext cx="277560" cy="172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11"/>
            <p:cNvSpPr/>
            <p:nvPr/>
          </p:nvSpPr>
          <p:spPr>
            <a:xfrm rot="5400000">
              <a:off x="1697760" y="4066560"/>
              <a:ext cx="277560" cy="171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rc 15"/>
            <p:cNvSpPr/>
            <p:nvPr/>
          </p:nvSpPr>
          <p:spPr>
            <a:xfrm rot="5670600">
              <a:off x="1829520" y="4370400"/>
              <a:ext cx="149040" cy="306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fill="none" w="25500" h="42139">
                  <a:moveTo>
                    <a:pt x="10586" y="0"/>
                  </a:moveTo>
                  <a:cubicBezTo>
                    <a:pt x="19480" y="2895"/>
                    <a:pt x="25500" y="11186"/>
                    <a:pt x="25500" y="20539"/>
                  </a:cubicBezTo>
                  <a:cubicBezTo>
                    <a:pt x="25500" y="32468"/>
                    <a:pt x="15829" y="-23397"/>
                    <a:pt x="3900" y="-23397"/>
                  </a:cubicBezTo>
                  <a:cubicBezTo>
                    <a:pt x="2591" y="-23397"/>
                    <a:pt x="1286" y="-23516"/>
                    <a:pt x="0" y="-23753"/>
                  </a:cubicBezTo>
                </a:path>
                <a:path stroke="0" w="25500" h="42139">
                  <a:moveTo>
                    <a:pt x="10586" y="0"/>
                  </a:moveTo>
                  <a:cubicBezTo>
                    <a:pt x="19480" y="2895"/>
                    <a:pt x="25500" y="11186"/>
                    <a:pt x="25500" y="20539"/>
                  </a:cubicBezTo>
                  <a:cubicBezTo>
                    <a:pt x="25500" y="32468"/>
                    <a:pt x="15829" y="-23397"/>
                    <a:pt x="3900" y="-23397"/>
                  </a:cubicBezTo>
                  <a:cubicBezTo>
                    <a:pt x="2591" y="-23397"/>
                    <a:pt x="1286" y="-23516"/>
                    <a:pt x="0" y="-23753"/>
                  </a:cubicBezTo>
                  <a:lnTo>
                    <a:pt x="3900" y="20539"/>
                  </a:lnTo>
                  <a:lnTo>
                    <a:pt x="10586" y="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11"/>
            <p:cNvSpPr/>
            <p:nvPr/>
          </p:nvSpPr>
          <p:spPr>
            <a:xfrm rot="5400000">
              <a:off x="1957680" y="4143600"/>
              <a:ext cx="187200" cy="85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11"/>
            <p:cNvSpPr/>
            <p:nvPr/>
          </p:nvSpPr>
          <p:spPr>
            <a:xfrm rot="5400000">
              <a:off x="1694880" y="4147920"/>
              <a:ext cx="198000" cy="86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64600" dir="20925162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3124080" y="54864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0033cc"/>
                </a:solidFill>
                <a:uFillTx/>
                <a:latin typeface="Arial"/>
              </a:rPr>
              <a:t>Многоточие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в конце предложения или при его обрыве указывает на недосказанность мысли. В середине может указывать на недосказанность или обозначать пропуск в цитате. Последнее часто в сочетании со скобками: (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 rot="1924800">
            <a:off x="456840" y="380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1523880" y="380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 rot="19942200">
            <a:off x="2590920" y="380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6"/>
          <p:cNvGrpSpPr/>
          <p:nvPr/>
        </p:nvGrpSpPr>
        <p:grpSpPr>
          <a:xfrm>
            <a:off x="1671480" y="138600"/>
            <a:ext cx="2067120" cy="2161080"/>
            <a:chOff x="1671480" y="138600"/>
            <a:chExt cx="2067120" cy="2161080"/>
          </a:xfrm>
        </p:grpSpPr>
        <p:sp>
          <p:nvSpPr>
            <p:cNvPr id="149" name="WordArt 108"/>
            <p:cNvSpPr txBox="1"/>
            <p:nvPr/>
          </p:nvSpPr>
          <p:spPr>
            <a:xfrm rot="19912800">
              <a:off x="1981080" y="380880"/>
              <a:ext cx="1447920" cy="167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gradFill rotWithShape="0">
                    <a:gsLst>
                      <a:gs pos="0">
                        <a:srgbClr val="eb8d03"/>
                      </a:gs>
                      <a:gs pos="100000">
                        <a:srgbClr val="f5c580"/>
                      </a:gs>
                    </a:gsLst>
                    <a:lin ang="2700000"/>
                  </a:gradFill>
                  <a:effectLst>
                    <a:outerShdw dist="68321" dir="20281825" blurRad="0" rotWithShape="0">
                      <a:srgbClr val="808080"/>
                    </a:outerShdw>
                  </a:effectLst>
                  <a:latin typeface="Times New Roman"/>
                </a:rPr>
                <a:t>,</a:t>
              </a:r>
              <a:endPara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eb8d03"/>
                    </a:gs>
                    <a:gs pos="100000">
                      <a:srgbClr val="f5c580"/>
                    </a:gs>
                  </a:gsLst>
                  <a:lin ang="2700000"/>
                </a:gradFill>
                <a:effectLst>
                  <a:outerShdw dist="68321" dir="20281825" blurRad="0" rotWithShape="0">
                    <a:srgbClr val="80808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0" name="Oval 111"/>
            <p:cNvSpPr/>
            <p:nvPr/>
          </p:nvSpPr>
          <p:spPr>
            <a:xfrm rot="3712800">
              <a:off x="2340000" y="729720"/>
              <a:ext cx="250560" cy="273240"/>
            </a:xfrm>
            <a:prstGeom prst="ellipse">
              <a:avLst/>
            </a:prstGeom>
            <a:gradFill rotWithShape="0">
              <a:gsLst>
                <a:gs pos="0">
                  <a:srgbClr val="eb8d03"/>
                </a:gs>
                <a:gs pos="100000">
                  <a:srgbClr val="f5c580"/>
                </a:gs>
              </a:gsLst>
              <a:lin ang="18900000"/>
            </a:gra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11"/>
            <p:cNvSpPr/>
            <p:nvPr/>
          </p:nvSpPr>
          <p:spPr>
            <a:xfrm rot="3712800">
              <a:off x="2768040" y="464760"/>
              <a:ext cx="254160" cy="273600"/>
            </a:xfrm>
            <a:prstGeom prst="ellipse">
              <a:avLst/>
            </a:prstGeom>
            <a:gradFill rotWithShape="0">
              <a:gsLst>
                <a:gs pos="0">
                  <a:srgbClr val="eb8d03"/>
                </a:gs>
                <a:gs pos="100000">
                  <a:srgbClr val="f5c580"/>
                </a:gs>
              </a:gsLst>
              <a:lin ang="18900000"/>
            </a:gra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rc 10"/>
            <p:cNvSpPr/>
            <p:nvPr/>
          </p:nvSpPr>
          <p:spPr>
            <a:xfrm rot="3983400">
              <a:off x="2746080" y="687960"/>
              <a:ext cx="219960" cy="55908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fill="none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</a:path>
                <a:path stroke="0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  <a:lnTo>
                    <a:pt x="0" y="20539"/>
                  </a:lnTo>
                  <a:lnTo>
                    <a:pt x="6686" y="0"/>
                  </a:lnTo>
                  <a:close/>
                </a:path>
              </a:pathLst>
            </a:custGeom>
            <a:gradFill rotWithShape="0">
              <a:gsLst>
                <a:gs pos="0">
                  <a:srgbClr val="eb8d03"/>
                </a:gs>
                <a:gs pos="100000">
                  <a:srgbClr val="f5c580"/>
                </a:gs>
              </a:gsLst>
              <a:lin ang="18630000"/>
            </a:gradFill>
            <a:ln w="38160">
              <a:solidFill>
                <a:srgbClr val="ffffff"/>
              </a:solidFill>
              <a:round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1"/>
            <p:cNvSpPr/>
            <p:nvPr/>
          </p:nvSpPr>
          <p:spPr>
            <a:xfrm rot="3712800">
              <a:off x="2755440" y="559440"/>
              <a:ext cx="156240" cy="137520"/>
            </a:xfrm>
            <a:prstGeom prst="ellipse">
              <a:avLst/>
            </a:prstGeom>
            <a:gradFill rotWithShape="0">
              <a:gsLst>
                <a:gs pos="0">
                  <a:srgbClr val="eb8d03"/>
                </a:gs>
                <a:gs pos="100000">
                  <a:srgbClr val="f5c580"/>
                </a:gs>
              </a:gsLst>
              <a:lin ang="18900000"/>
            </a:gra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11"/>
            <p:cNvSpPr/>
            <p:nvPr/>
          </p:nvSpPr>
          <p:spPr>
            <a:xfrm rot="3712800">
              <a:off x="2312280" y="844200"/>
              <a:ext cx="157320" cy="137880"/>
            </a:xfrm>
            <a:prstGeom prst="ellipse">
              <a:avLst/>
            </a:prstGeom>
            <a:gradFill rotWithShape="0">
              <a:gsLst>
                <a:gs pos="0">
                  <a:srgbClr val="eb8d03"/>
                </a:gs>
                <a:gs pos="100000">
                  <a:srgbClr val="f5c580"/>
                </a:gs>
              </a:gsLst>
              <a:lin ang="18900000"/>
            </a:gra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3"/>
          <p:cNvGrpSpPr/>
          <p:nvPr/>
        </p:nvGrpSpPr>
        <p:grpSpPr>
          <a:xfrm>
            <a:off x="-2160" y="2455920"/>
            <a:ext cx="4119480" cy="3774600"/>
            <a:chOff x="-2160" y="2455920"/>
            <a:chExt cx="4119480" cy="3774600"/>
          </a:xfrm>
        </p:grpSpPr>
        <p:sp>
          <p:nvSpPr>
            <p:cNvPr id="156" name="WordArt 108"/>
            <p:cNvSpPr txBox="1"/>
            <p:nvPr/>
          </p:nvSpPr>
          <p:spPr>
            <a:xfrm rot="17972400">
              <a:off x="838080" y="2666520"/>
              <a:ext cx="2438640" cy="33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bbe0e3"/>
                    </a:solidFill>
                    <a:miter/>
                  </a:ln>
                  <a:solidFill>
                    <a:srgbClr val="a3fba3"/>
                  </a:solidFill>
                  <a:effectLst>
                    <a:outerShdw dist="64600" dir="20925162" blurRad="0" rotWithShape="0">
                      <a:srgbClr val="808080"/>
                    </a:outerShdw>
                  </a:effectLst>
                  <a:latin typeface="Times New Roman"/>
                </a:rPr>
                <a:t>;</a:t>
              </a:r>
              <a:endParaRPr b="1" i="1" lang="en-US" sz="18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a3fba3"/>
                </a:solidFill>
                <a:effectLst>
                  <a:outerShdw dist="64600" dir="20925162" blurRad="0" rotWithShape="0">
                    <a:srgbClr val="80808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57" name="Oval 111"/>
            <p:cNvSpPr/>
            <p:nvPr/>
          </p:nvSpPr>
          <p:spPr>
            <a:xfrm rot="3472200">
              <a:off x="1225080" y="3002400"/>
              <a:ext cx="432720" cy="295920"/>
            </a:xfrm>
            <a:prstGeom prst="ellipse">
              <a:avLst/>
            </a:prstGeom>
            <a:solidFill>
              <a:srgbClr val="a3fba3"/>
            </a:solidFill>
            <a:ln w="12600">
              <a:solidFill>
                <a:srgbClr val="bbe0e3"/>
              </a:solidFill>
              <a:miter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1"/>
            <p:cNvSpPr/>
            <p:nvPr/>
          </p:nvSpPr>
          <p:spPr>
            <a:xfrm rot="3472200">
              <a:off x="722160" y="3316680"/>
              <a:ext cx="433080" cy="295560"/>
            </a:xfrm>
            <a:prstGeom prst="ellipse">
              <a:avLst/>
            </a:prstGeom>
            <a:solidFill>
              <a:srgbClr val="a3fba3"/>
            </a:solidFill>
            <a:ln w="12600">
              <a:solidFill>
                <a:srgbClr val="bbe0e3"/>
              </a:solidFill>
              <a:miter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rc 17"/>
            <p:cNvSpPr/>
            <p:nvPr/>
          </p:nvSpPr>
          <p:spPr>
            <a:xfrm rot="3742800">
              <a:off x="1213560" y="3332160"/>
              <a:ext cx="223920" cy="4302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fill="none" w="21600" h="25128">
                  <a:moveTo>
                    <a:pt x="14739" y="0"/>
                  </a:moveTo>
                  <a:cubicBezTo>
                    <a:pt x="19115" y="4085"/>
                    <a:pt x="21600" y="9802"/>
                    <a:pt x="21600" y="15789"/>
                  </a:cubicBezTo>
                  <a:cubicBezTo>
                    <a:pt x="21600" y="19021"/>
                    <a:pt x="20874" y="22213"/>
                    <a:pt x="19476" y="25127"/>
                  </a:cubicBezTo>
                </a:path>
                <a:path stroke="0" w="21600" h="25128">
                  <a:moveTo>
                    <a:pt x="14739" y="0"/>
                  </a:moveTo>
                  <a:cubicBezTo>
                    <a:pt x="19115" y="4085"/>
                    <a:pt x="21600" y="9802"/>
                    <a:pt x="21600" y="15789"/>
                  </a:cubicBezTo>
                  <a:cubicBezTo>
                    <a:pt x="21600" y="19021"/>
                    <a:pt x="20874" y="22213"/>
                    <a:pt x="19476" y="25127"/>
                  </a:cubicBezTo>
                  <a:lnTo>
                    <a:pt x="0" y="15789"/>
                  </a:lnTo>
                  <a:lnTo>
                    <a:pt x="14739" y="0"/>
                  </a:lnTo>
                  <a:close/>
                </a:path>
              </a:pathLst>
            </a:custGeom>
            <a:solidFill>
              <a:srgbClr val="a3fba3"/>
            </a:solidFill>
            <a:ln w="38160">
              <a:solidFill>
                <a:srgbClr val="bbe0e3"/>
              </a:solidFill>
              <a:round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1"/>
            <p:cNvSpPr/>
            <p:nvPr/>
          </p:nvSpPr>
          <p:spPr>
            <a:xfrm rot="3472200">
              <a:off x="1259280" y="3051720"/>
              <a:ext cx="292320" cy="221760"/>
            </a:xfrm>
            <a:prstGeom prst="ellipse">
              <a:avLst/>
            </a:prstGeom>
            <a:solidFill>
              <a:srgbClr val="a3fba3"/>
            </a:solidFill>
            <a:ln w="12600">
              <a:solidFill>
                <a:srgbClr val="bbe0e3"/>
              </a:solidFill>
              <a:miter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11"/>
            <p:cNvSpPr/>
            <p:nvPr/>
          </p:nvSpPr>
          <p:spPr>
            <a:xfrm rot="3472200">
              <a:off x="753840" y="3373920"/>
              <a:ext cx="309240" cy="221760"/>
            </a:xfrm>
            <a:prstGeom prst="ellipse">
              <a:avLst/>
            </a:prstGeom>
            <a:solidFill>
              <a:srgbClr val="a3fba3"/>
            </a:solidFill>
            <a:ln w="12600">
              <a:solidFill>
                <a:srgbClr val="bbe0e3"/>
              </a:solidFill>
              <a:miter/>
            </a:ln>
            <a:effectLst>
              <a:outerShdw dist="92520" dir="1523776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895120" y="0"/>
            <a:ext cx="6248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 u="sng">
                <a:solidFill>
                  <a:srgbClr val="0033cc"/>
                </a:solidFill>
                <a:uFillTx/>
                <a:latin typeface="Arial"/>
              </a:rPr>
              <a:t>Запятая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ru-RU" sz="3600" spc="-1" strike="noStrike" u="sng">
                <a:solidFill>
                  <a:srgbClr val="0033cc"/>
                </a:solidFill>
                <a:uFillTx/>
                <a:latin typeface="Arial"/>
              </a:rPr>
              <a:t>точка с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33cc"/>
                </a:solidFill>
                <a:uFillTx/>
                <a:latin typeface="Arial"/>
              </a:rPr>
              <a:t>запятой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в середине предложения членят текст на грамматически и логически равнозначные отрезки и ставятся между частями сложного предложения, однородными членами простого. Обладают разной разделяющей сил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!!! Обратите внимание:</a:t>
            </a:r>
            <a:r>
              <a:rPr b="0" lang="ru-RU" sz="6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Вот основное правило, которым мы (часто интуитивно) пользуемся: </a:t>
            </a:r>
            <a:r>
              <a:rPr b="1" lang="ru-RU" sz="4400" spc="-1" strike="noStrike" u="sng">
                <a:solidFill>
                  <a:srgbClr val="0033cc"/>
                </a:solidFill>
                <a:uFillTx/>
                <a:latin typeface="Arial"/>
              </a:rPr>
              <a:t>ставь точку с запятой тогда, когда запятой мало, а точки мно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5400" spc="-1" strike="noStrike" u="sng">
                <a:solidFill>
                  <a:srgbClr val="0033cc"/>
                </a:solidFill>
                <a:uFillTx/>
                <a:latin typeface="Arial"/>
              </a:rPr>
              <a:t>Запятая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ru-RU" sz="5400" spc="-1" strike="noStrike" u="sng">
                <a:solidFill>
                  <a:srgbClr val="0033cc"/>
                </a:solidFill>
                <a:uFillTx/>
                <a:latin typeface="Arial"/>
              </a:rPr>
              <a:t>тире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 как единый знак употребляется только при прямой речи и цитировании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WordArt 108"/>
          <p:cNvSpPr txBox="1"/>
          <p:nvPr/>
        </p:nvSpPr>
        <p:spPr>
          <a:xfrm>
            <a:off x="4648320" y="487692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02298" dir="11224500" blurRad="0" rotWithShape="0">
                    <a:srgbClr val="808080"/>
                  </a:outerShdw>
                </a:effectLst>
                <a:latin typeface="Times New Roman"/>
              </a:rPr>
              <a:t>-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02298" dir="112245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6781320" y="4952880"/>
            <a:ext cx="1069560" cy="534600"/>
            <a:chOff x="6781320" y="4952880"/>
            <a:chExt cx="1069560" cy="534600"/>
          </a:xfrm>
        </p:grpSpPr>
        <p:sp>
          <p:nvSpPr>
            <p:cNvPr id="168" name="Oval 111"/>
            <p:cNvSpPr/>
            <p:nvPr/>
          </p:nvSpPr>
          <p:spPr>
            <a:xfrm rot="5400000">
              <a:off x="7554960" y="4940640"/>
              <a:ext cx="279360" cy="303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11"/>
            <p:cNvSpPr/>
            <p:nvPr/>
          </p:nvSpPr>
          <p:spPr>
            <a:xfrm rot="5400000">
              <a:off x="6793560" y="4940280"/>
              <a:ext cx="279360" cy="304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rc 15"/>
            <p:cNvSpPr/>
            <p:nvPr/>
          </p:nvSpPr>
          <p:spPr>
            <a:xfrm rot="5670600">
              <a:off x="7396560" y="5008320"/>
              <a:ext cx="144360" cy="754560"/>
            </a:xfrm>
            <a:custGeom>
              <a:avLst/>
              <a:gdLst>
                <a:gd name="textAreaLeft" fmla="*/ 0 w 144360"/>
                <a:gd name="textAreaRight" fmla="*/ 144360 w 144360"/>
                <a:gd name="textAreaTop" fmla="*/ 0 h 754560"/>
                <a:gd name="textAreaBottom" fmla="*/ 754920 h 754560"/>
              </a:gdLst>
              <a:ahLst/>
              <a:rect l="textAreaLeft" t="textAreaTop" r="textAreaRight" b="textAreaBottom"/>
              <a:pathLst>
                <a:path fill="none" w="21600" h="42860">
                  <a:moveTo>
                    <a:pt x="77" y="0"/>
                  </a:moveTo>
                  <a:cubicBezTo>
                    <a:pt x="11976" y="43"/>
                    <a:pt x="21600" y="9701"/>
                    <a:pt x="21600" y="21600"/>
                  </a:cubicBezTo>
                  <a:cubicBezTo>
                    <a:pt x="21600" y="32057"/>
                    <a:pt x="14108" y="-24523"/>
                    <a:pt x="3815" y="-22676"/>
                  </a:cubicBezTo>
                </a:path>
                <a:path stroke="0" w="21600" h="42860">
                  <a:moveTo>
                    <a:pt x="77" y="0"/>
                  </a:moveTo>
                  <a:cubicBezTo>
                    <a:pt x="11976" y="43"/>
                    <a:pt x="21600" y="9701"/>
                    <a:pt x="21600" y="21600"/>
                  </a:cubicBezTo>
                  <a:cubicBezTo>
                    <a:pt x="21600" y="32057"/>
                    <a:pt x="14108" y="-24523"/>
                    <a:pt x="3815" y="-22676"/>
                  </a:cubicBezTo>
                  <a:lnTo>
                    <a:pt x="0" y="21600"/>
                  </a:lnTo>
                  <a:lnTo>
                    <a:pt x="77" y="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11"/>
            <p:cNvSpPr/>
            <p:nvPr/>
          </p:nvSpPr>
          <p:spPr>
            <a:xfrm rot="5400000">
              <a:off x="7677000" y="5010120"/>
              <a:ext cx="18936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11"/>
            <p:cNvSpPr/>
            <p:nvPr/>
          </p:nvSpPr>
          <p:spPr>
            <a:xfrm rot="5400000">
              <a:off x="6909120" y="5016600"/>
              <a:ext cx="20052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  <a:effectLst>
              <a:outerShdw dist="81185" dir="1312197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8"/>
          <p:cNvGrpSpPr/>
          <p:nvPr/>
        </p:nvGrpSpPr>
        <p:grpSpPr>
          <a:xfrm>
            <a:off x="2744280" y="4812840"/>
            <a:ext cx="1597680" cy="1804320"/>
            <a:chOff x="2744280" y="4812840"/>
            <a:chExt cx="1597680" cy="1804320"/>
          </a:xfrm>
        </p:grpSpPr>
        <p:sp>
          <p:nvSpPr>
            <p:cNvPr id="174" name="WordArt 108"/>
            <p:cNvSpPr txBox="1"/>
            <p:nvPr/>
          </p:nvSpPr>
          <p:spPr>
            <a:xfrm rot="21278400">
              <a:off x="2819160" y="4876920"/>
              <a:ext cx="1447560" cy="167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68321" dir="20281825" blurRad="0" rotWithShape="0">
                      <a:srgbClr val="808080"/>
                    </a:outerShdw>
                  </a:effectLst>
                  <a:latin typeface="Times New Roman"/>
                </a:rPr>
                <a:t>,</a:t>
              </a:r>
              <a:endPara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68321" dir="20281825" blurRad="0" rotWithShape="0">
                    <a:srgbClr val="80808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" name="Oval 111"/>
            <p:cNvSpPr/>
            <p:nvPr/>
          </p:nvSpPr>
          <p:spPr>
            <a:xfrm rot="5078400">
              <a:off x="3332880" y="5160600"/>
              <a:ext cx="250560" cy="2732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11"/>
            <p:cNvSpPr/>
            <p:nvPr/>
          </p:nvSpPr>
          <p:spPr>
            <a:xfrm rot="5078400">
              <a:off x="3830040" y="5083200"/>
              <a:ext cx="254160" cy="273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rc 22"/>
            <p:cNvSpPr/>
            <p:nvPr/>
          </p:nvSpPr>
          <p:spPr>
            <a:xfrm rot="5349000">
              <a:off x="3666600" y="5261040"/>
              <a:ext cx="220320" cy="5590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fill="none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</a:path>
                <a:path stroke="0" w="21600" h="36204">
                  <a:moveTo>
                    <a:pt x="6686" y="0"/>
                  </a:moveTo>
                  <a:cubicBezTo>
                    <a:pt x="15580" y="2895"/>
                    <a:pt x="21600" y="11186"/>
                    <a:pt x="21600" y="20539"/>
                  </a:cubicBezTo>
                  <a:cubicBezTo>
                    <a:pt x="21600" y="26462"/>
                    <a:pt x="19167" y="32125"/>
                    <a:pt x="14871" y="-29333"/>
                  </a:cubicBezTo>
                  <a:lnTo>
                    <a:pt x="0" y="20539"/>
                  </a:lnTo>
                  <a:lnTo>
                    <a:pt x="6686" y="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ffffff"/>
              </a:solidFill>
              <a:round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11"/>
            <p:cNvSpPr/>
            <p:nvPr/>
          </p:nvSpPr>
          <p:spPr>
            <a:xfrm rot="5078400">
              <a:off x="3811680" y="5152680"/>
              <a:ext cx="157320" cy="1375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11"/>
            <p:cNvSpPr/>
            <p:nvPr/>
          </p:nvSpPr>
          <p:spPr>
            <a:xfrm rot="5078400">
              <a:off x="3292920" y="5243040"/>
              <a:ext cx="156600" cy="13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  <a:effectLst>
              <a:outerShdw dist="68321" dir="2028182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artoon-Clipart-Free-04"/>
          <p:cNvPicPr/>
          <p:nvPr/>
        </p:nvPicPr>
        <p:blipFill>
          <a:blip r:embed="rId1"/>
          <a:srcRect l="16535" t="0" r="16147" b="6667"/>
          <a:stretch/>
        </p:blipFill>
        <p:spPr>
          <a:xfrm>
            <a:off x="0" y="1371600"/>
            <a:ext cx="395748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0" y="533520"/>
            <a:ext cx="87026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cc"/>
                </a:solidFill>
                <a:latin typeface="Consolas"/>
              </a:rPr>
              <a:t>Принципы русской   </a:t>
            </a:r>
            <a:r>
              <a:rPr b="1" i="1" lang="ru-RU" sz="9600" spc="-1" strike="noStrike">
                <a:solidFill>
                  <a:srgbClr val="0000cc"/>
                </a:solidFill>
                <a:latin typeface="Consolas"/>
              </a:rPr>
              <a:t>пунктуаци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581280" y="52578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Иногда встречается в результате контекстного стечения знаков препинания. Будьте внимательн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!!! Обратите внимание:</a:t>
            </a:r>
            <a:r>
              <a:rPr b="0" lang="ru-RU" sz="6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4191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аибольшая заслуга в упорядочении русской пунктуации в 19 веке принадлежит академику      Я. К. Грот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19720" y="228600"/>
            <a:ext cx="4429080" cy="608796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85840" y="0"/>
            <a:ext cx="5257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Его книга ''Русское правописание'' - результат многолетних исследований истории и принципов русского письма – стала первым в России академическим сводом правил орфографии и пунктуации и выдержала 20 изданий до 1917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80880" y="380880"/>
            <a:ext cx="3738600" cy="563904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5410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ез умения ставить знаки препинания невозможно овладеть письменной речью в целом, поэтому так важно знать 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пунктуацию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– раздел науки о языке, в котором рассказывается об их употреблен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0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438280" cy="384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00400" y="0"/>
            <a:ext cx="5943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А без освоения </a:t>
            </a: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письменной речи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, благодаря которой человеческие знания и опыт передаются из поколения в поколение, невозможно даже представить себе жизнь сегод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post-25-1117488157"/>
          <p:cNvPicPr/>
          <p:nvPr/>
        </p:nvPicPr>
        <p:blipFill>
          <a:blip r:embed="rId1"/>
          <a:stretch/>
        </p:blipFill>
        <p:spPr>
          <a:xfrm>
            <a:off x="304920" y="685800"/>
            <a:ext cx="2209680" cy="334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0033cc"/>
                </a:solidFill>
                <a:latin typeface="Mistral"/>
              </a:rPr>
              <a:t>СЛОВАРИ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80880" y="1600200"/>
            <a:ext cx="3581640" cy="4800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581280" cy="4800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380880" y="1600200"/>
            <a:ext cx="3581640" cy="4800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"/>
          <p:cNvPicPr/>
          <p:nvPr/>
        </p:nvPicPr>
        <p:blipFill>
          <a:blip r:embed="rId4"/>
          <a:stretch/>
        </p:blipFill>
        <p:spPr>
          <a:xfrm>
            <a:off x="4800600" y="1600200"/>
            <a:ext cx="3581280" cy="4876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800600" y="1600200"/>
            <a:ext cx="3581280" cy="4876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380880" y="1600200"/>
            <a:ext cx="358164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tem_3702"/>
          <p:cNvPicPr/>
          <p:nvPr/>
        </p:nvPicPr>
        <p:blipFill>
          <a:blip r:embed="rId1"/>
          <a:stretch/>
        </p:blipFill>
        <p:spPr>
          <a:xfrm>
            <a:off x="990720" y="2936880"/>
            <a:ext cx="7315200" cy="39211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Arial"/>
              </a:rPr>
              <a:t>Успехов вам в освоении сияющих вершин пунктуаци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85800" y="228600"/>
            <a:ext cx="786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cc"/>
                </a:solidFill>
                <a:latin typeface="Times New Roman"/>
              </a:rPr>
              <a:t>Что такое пунктуация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0" y="4448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Wingdings 2"/>
                <a:ea typeface="Wingdings 2"/>
              </a:rPr>
              <a:t></a:t>
            </a:r>
            <a:r>
              <a:rPr b="1" lang="ru-RU" sz="5400" spc="-1" strike="noStrike">
                <a:solidFill>
                  <a:srgbClr val="4f6228"/>
                </a:solidFill>
                <a:latin typeface="Book Antiqua"/>
              </a:rPr>
              <a:t> </a:t>
            </a:r>
            <a:r>
              <a:rPr b="1" lang="ru-RU" sz="5400" spc="-1" strike="noStrike">
                <a:solidFill>
                  <a:srgbClr val="4f6228"/>
                </a:solidFill>
                <a:latin typeface="Book Antiqua"/>
              </a:rPr>
              <a:t>Обратимся к словарю </a:t>
            </a:r>
            <a:r>
              <a:rPr b="1" lang="ru-RU" sz="4800" spc="-1" strike="noStrike">
                <a:solidFill>
                  <a:srgbClr val="4f6228"/>
                </a:solidFill>
                <a:latin typeface="Wingdings 2"/>
                <a:ea typeface="Wingdings 2"/>
              </a:rPr>
              <a:t>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 rot="16200000">
            <a:off x="1822320" y="18586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мологически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 rot="16200000">
            <a:off x="2471400" y="18604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фоэпически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 rot="16200000">
            <a:off x="2974680" y="2003400"/>
            <a:ext cx="26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 rot="16200000">
            <a:off x="3520080" y="181656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овообразовательныйслова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 rot="16200000">
            <a:off x="4172400" y="19580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они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 rot="16200000">
            <a:off x="4820040" y="18867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странн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 rot="16200000">
            <a:off x="5396400" y="19580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они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 rot="16200000">
            <a:off x="4325040" y="21106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они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 rot="16200000">
            <a:off x="4972680" y="20390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странн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 rot="16200000">
            <a:off x="5548680" y="21106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они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 rot="16200000">
            <a:off x="1974600" y="201132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мологически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 rot="16200000">
            <a:off x="2624040" y="201276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фоэпически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 rot="16200000">
            <a:off x="3672360" y="196920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овообразовательныйслова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араллелограмм 17"/>
          <p:cNvSpPr/>
          <p:nvPr/>
        </p:nvSpPr>
        <p:spPr>
          <a:xfrm>
            <a:off x="914400" y="2819520"/>
            <a:ext cx="7500960" cy="714240"/>
          </a:xfrm>
          <a:prstGeom prst="parallelogram">
            <a:avLst>
              <a:gd name="adj" fmla="val 107791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20" descr="paper09a.jpg"/>
          <p:cNvPicPr/>
          <p:nvPr/>
        </p:nvPicPr>
        <p:blipFill>
          <a:blip r:embed="rId2"/>
          <a:stretch/>
        </p:blipFill>
        <p:spPr>
          <a:xfrm>
            <a:off x="2438280" y="762120"/>
            <a:ext cx="2357640" cy="22302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0" descr="paper09a.jpg"/>
          <p:cNvPicPr/>
          <p:nvPr/>
        </p:nvPicPr>
        <p:blipFill>
          <a:blip r:embed="rId3"/>
          <a:stretch/>
        </p:blipFill>
        <p:spPr>
          <a:xfrm>
            <a:off x="4724280" y="457200"/>
            <a:ext cx="2357640" cy="2535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8"/>
          <p:cNvSpPr/>
          <p:nvPr/>
        </p:nvSpPr>
        <p:spPr>
          <a:xfrm rot="16200000">
            <a:off x="1502280" y="1545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фографически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 rot="16200000">
            <a:off x="2027160" y="132552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мологически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 rot="16200000">
            <a:off x="2865240" y="1630080"/>
            <a:ext cx="22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фоэпический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 rot="16200000">
            <a:off x="3596400" y="143244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овообразовательныйслова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"/>
          <p:cNvSpPr/>
          <p:nvPr/>
        </p:nvSpPr>
        <p:spPr>
          <a:xfrm rot="16200000">
            <a:off x="4629600" y="177084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они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 rot="16200000">
            <a:off x="4896360" y="1275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странн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 rot="16200000">
            <a:off x="5963400" y="1808640"/>
            <a:ext cx="16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а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они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5"/>
          <p:cNvSpPr/>
          <p:nvPr/>
        </p:nvSpPr>
        <p:spPr>
          <a:xfrm>
            <a:off x="228600" y="3809880"/>
            <a:ext cx="868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0" y="3581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унктуация (от лат. punctum  ‘точка’) – это    совокупность    знаков     препинания     и    система    выработанных    и    закрепившихся    правил    их    употреб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 чем проявляется общественная функция пунктуац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7" descr="kniga52.jpg"/>
          <p:cNvPicPr/>
          <p:nvPr/>
        </p:nvPicPr>
        <p:blipFill>
          <a:blip r:embed="rId1"/>
          <a:stretch/>
        </p:blipFill>
        <p:spPr>
          <a:xfrm rot="20357400">
            <a:off x="5715000" y="4572000"/>
            <a:ext cx="3076560" cy="2000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05280" y="1371240"/>
            <a:ext cx="9448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Чтобы содержание письма одинаково воспринималось всеми читающими, необходимо, чтобы значение знаков препинания было установлено твёрдо в пределах одного национального языка.</a:t>
            </a: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228600" y="5181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В.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152640" y="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33cc"/>
                </a:solidFill>
                <a:latin typeface="Mistral"/>
              </a:rPr>
              <a:t> </a:t>
            </a:r>
            <a:r>
              <a:rPr b="1" lang="ru-RU" sz="7200" spc="-1" strike="noStrike">
                <a:solidFill>
                  <a:srgbClr val="0033cc"/>
                </a:solidFill>
                <a:latin typeface="Consolas"/>
              </a:rPr>
              <a:t>Знаки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Consolas"/>
              </a:rPr>
              <a:t> </a:t>
            </a:r>
            <a:r>
              <a:rPr b="1" lang="ru-RU" sz="7200" spc="-1" strike="noStrike">
                <a:solidFill>
                  <a:srgbClr val="0033cc"/>
                </a:solidFill>
                <a:latin typeface="Consolas"/>
              </a:rPr>
              <a:t>По силе разума ставятся</a:t>
            </a:r>
            <a:r>
              <a:rPr b="1" lang="ru-RU" sz="8800" spc="-1" strike="noStrike">
                <a:solidFill>
                  <a:srgbClr val="0033cc"/>
                </a:solidFill>
                <a:latin typeface="Mistral"/>
              </a:rPr>
              <a:t>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портрет"/>
          <p:cNvPicPr/>
          <p:nvPr/>
        </p:nvPicPr>
        <p:blipFill>
          <a:blip r:embed="rId1"/>
          <a:stretch/>
        </p:blipFill>
        <p:spPr>
          <a:xfrm>
            <a:off x="3956040" y="298440"/>
            <a:ext cx="4968720" cy="6261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основе русской пунктуации леж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286000" y="990720"/>
            <a:ext cx="4419720" cy="764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 принцип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"/>
          <p:cNvSpPr/>
          <p:nvPr/>
        </p:nvSpPr>
        <p:spPr>
          <a:xfrm>
            <a:off x="228600" y="2590920"/>
            <a:ext cx="4191120" cy="13716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Граммат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"/>
          <p:cNvSpPr/>
          <p:nvPr/>
        </p:nvSpPr>
        <p:spPr>
          <a:xfrm>
            <a:off x="1752480" y="5181480"/>
            <a:ext cx="5791320" cy="1447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нтонацио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4800600" y="2590920"/>
            <a:ext cx="4114800" cy="13716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мысл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 flipH="1">
            <a:off x="3428640" y="1828800"/>
            <a:ext cx="7621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5105520" y="1828800"/>
            <a:ext cx="53316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>
            <a:off x="4572000" y="182880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сновной принцип пунктуации, который предписывает знаки в предложении ставить в соответствии с его грамматическим строением. Таковы, например, знаки в конце предложения, знаки между частями сложного предложения, между однородными членами предложения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914400" y="228600"/>
            <a:ext cx="7391520" cy="13716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Грамматиче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3300"/>
                </a:solidFill>
                <a:latin typeface="Arial"/>
              </a:rPr>
              <a:t>Например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Сегодня быть он обещал, да, видно, почта задержала. (П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тите внимание на запятую после союза «да»: паузы после него нет, а знак ставится, поскольку мы должны выделить вводное слово с двух сторо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Шейде</cp:lastModifiedBy>
  <dcterms:modified xsi:type="dcterms:W3CDTF">2023-02-06T16:33:3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