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98F6-C79C-48CB-905A-164F03EA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43CA-F32D-41E9-895D-17D212E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C3E8-49DC-4754-9293-42C62B13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E0E5-A57C-401B-9862-541B837F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AB8-E91D-4277-AD8B-68260BB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158-EDD3-4952-BF35-12896AB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9E7-C414-4ACE-9679-37C771E3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116-1229-46C6-BF36-C677E675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BCA-6300-492D-806F-92065AF4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B1A5-A0BE-4D49-B86E-FCBB8A6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92EE-2EEB-4487-979A-860A745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ACFD-4562-41C2-B270-3473518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DEBD-2F90-4141-BAAF-70E7E45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469-374C-4635-AFCD-2D76B57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C41-5B46-4AA6-9739-55027D2A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4F4D-3D1C-44D4-B7FA-9D95900B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0B30-AB31-484A-8438-592EEB9B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4CB4-A521-424B-95EB-2F6A3E79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23CC-E697-4122-9657-A0CFF9E2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C9BB-CEB2-4805-BDC1-346CF30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D4FD-66BA-4969-BA6A-45A5C0F6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BEA8-7EA1-4E3E-A55C-960ACEE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6C0B-C9BF-4656-81AC-3F48ECE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A219-C684-418A-A291-0642BC7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C3BC-1EFD-4687-8E86-42965067E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F99A-B845-4B6D-8820-9FEE1345C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логи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клас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38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шите логическую задачу и оформите результат в виде отрез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Катя, Ваня, Рита и Гриша, готовясь к математической олимпиаде, за лето должны были решить по 100 задач. Результаты оказались разными: кто-то решил правильно 98 задач, кто-то – 94 задачи, другие – 88 и 70. Известно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1. Катин результат лучше, чем у Гриши и у Вани, но хуже, чем у Ри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2. Гриша справился с заданием лучше, чем Ван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Определите, кто сколько задач реши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70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88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94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98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08464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445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623736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45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80536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гра «Скрытые слова»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йдите все спрятанные слов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3683160" cy="3571920"/>
        </p:xfrm>
        <a:graphic>
          <a:graphicData uri="http://schemas.openxmlformats.org/drawingml/2006/table">
            <a:tbl>
              <a:tblPr/>
              <a:tblGrid>
                <a:gridCol w="920880"/>
                <a:gridCol w="920520"/>
                <a:gridCol w="920880"/>
                <a:gridCol w="92088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76720" y="1628640"/>
          <a:ext cx="3821040" cy="3529080"/>
        </p:xfrm>
        <a:graphic>
          <a:graphicData uri="http://schemas.openxmlformats.org/drawingml/2006/table">
            <a:tbl>
              <a:tblPr/>
              <a:tblGrid>
                <a:gridCol w="955080"/>
                <a:gridCol w="955440"/>
                <a:gridCol w="955080"/>
                <a:gridCol w="955440"/>
              </a:tblGrid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ешите задачу и заполните таблиц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Тома, Юля, Катя и Вера готовили яблочный пирог. Одна из девочек замешивала тесто, другая раскатывала коржи, третья отмеряла сахар, а четвёртая чистила яблоки. Определите, кто что делал, используя следующие сведен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Юля, девочка со скалкой и девочка, замешивающая тесто, собираются дать по кусочку пирога своим брать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Вера порезала палец, делая свою раб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Катя думает, что её подруга, которая раскатывает коржи, выполняет самую трудную раб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00000" y="2276640"/>
          <a:ext cx="7786440" cy="266508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000"/>
                <a:gridCol w="1557360"/>
                <a:gridCol w="1557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ж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бло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е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9:09:53Z</dcterms:created>
  <dc:creator>user</dc:creator>
  <dc:description/>
  <dc:language>en-US</dc:language>
  <cp:lastModifiedBy>user</cp:lastModifiedBy>
  <dcterms:modified xsi:type="dcterms:W3CDTF">2009-02-10T19:48:02Z</dcterms:modified>
  <cp:revision>3</cp:revision>
  <dc:subject/>
  <dc:title>логика</dc:title>
</cp:coreProperties>
</file>