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821E-5CF6-4AB9-8E73-95E5392B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665B9-F801-4617-8C9B-C4D4E18E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8924-2BA5-497B-A51B-CD61149C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135D-5A31-47C9-AB12-6C64B6E2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6421-4341-4D8B-A133-BE42F9F6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F09-2A25-4A97-9C21-14B002E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D217-0A31-4209-95DF-432613E0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7C1F-A114-4EA9-A138-87E261AE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635C-B498-44E9-A379-917E8FD7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2184-E450-49F1-805A-C95A166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E0B9-BE8F-435F-9096-12405C29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D922-F092-454D-87AF-47BD5ED0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DBE0-D2DF-497B-838C-F7474D61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0379-8CBF-41FF-9473-4CAB9A8F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2FA-2C9A-4848-BC7D-E7AEEAC1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BF78-6356-4724-B396-28B4A305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5E3D-D93D-481F-B384-4E6AD11B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8D98-0BC4-4C76-AA38-E1FCE6D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144C-EB42-40DC-AA38-692D7FC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19AD-35A2-4B7B-B0DE-08756D49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056E0-82BD-4BF9-9699-8D64EF2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73B3-BF00-4F51-AA1E-411AE76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9D2AC-E1D6-4373-B3B2-B74FC0B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46F90-B62A-4BE7-BCDD-C5A6DB4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66BC-4002-40D3-AB7E-CD19613FD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B44-CAB6-4709-BCAD-768AC5A8B9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логика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клас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6381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шите логическую задачу и оформите результат в виде отрез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Катя, Ваня, Рита и Гриша, готовясь к математической олимпиаде, за лето должны были решить по 100 задач. Результаты оказались разными: кто-то решил правильно 98 задач, кто-то – 94 задачи, другие – 88 и 70. Известно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1. Катин результат лучше, чем у Гриши и у Вани, но хуже, чем у Ри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2. Гриша справился с заданием лучше, чем Ван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Определите, кто сколько задач реши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Отв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70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88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94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Garamond"/>
              </a:rPr>
              <a:t>98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084640"/>
            <a:ext cx="23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445000"/>
            <a:ext cx="280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623736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45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805360"/>
            <a:ext cx="316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гра «Скрытые слова»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йдите все спрятанные слов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600200"/>
          <a:ext cx="3683160" cy="3571920"/>
        </p:xfrm>
        <a:graphic>
          <a:graphicData uri="http://schemas.openxmlformats.org/drawingml/2006/table">
            <a:tbl>
              <a:tblPr/>
              <a:tblGrid>
                <a:gridCol w="920880"/>
                <a:gridCol w="920520"/>
                <a:gridCol w="920880"/>
                <a:gridCol w="92088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076720" y="1628640"/>
          <a:ext cx="3821040" cy="3529080"/>
        </p:xfrm>
        <a:graphic>
          <a:graphicData uri="http://schemas.openxmlformats.org/drawingml/2006/table">
            <a:tbl>
              <a:tblPr/>
              <a:tblGrid>
                <a:gridCol w="955080"/>
                <a:gridCol w="955440"/>
                <a:gridCol w="955080"/>
                <a:gridCol w="955440"/>
              </a:tblGrid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ешите задачу и заполните таблицу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Тома, Юля, Катя и Вера готовили яблочный пирог. Одна из девочек замешивала тесто, другая раскатывала коржи, третья отмеряла сахар, а четвёртая чистила яблоки. Определите, кто что делал, используя следующие сведен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Юля, девочка со скалкой и девочка, замешивающая тесто, собираются дать по кусочку пирога своим братья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Вера порезала палец, делая свою рабо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-5360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Garamond"/>
              </a:rPr>
              <a:t>Катя думает, что её подруга, которая раскатывает коржи, выполняет самую трудную рабо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тве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00000" y="2276640"/>
          <a:ext cx="7786440" cy="266508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000"/>
                <a:gridCol w="1557360"/>
                <a:gridCol w="155736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рж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аха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бло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о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Ю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ат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е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9:09:53Z</dcterms:created>
  <dc:creator>user</dc:creator>
  <dc:description/>
  <dc:language>en-US</dc:language>
  <cp:lastModifiedBy>user</cp:lastModifiedBy>
  <dcterms:modified xsi:type="dcterms:W3CDTF">2009-02-10T19:48:02Z</dcterms:modified>
  <cp:revision>3</cp:revision>
  <dc:subject/>
  <dc:title>логика</dc:title>
</cp:coreProperties>
</file>