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097-D2FE-497A-BC25-1F9B5271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D1FE-8B0F-4B3D-A3A3-4D69D2DC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4161-7234-4FB9-9405-41816437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22EC-5D1F-439B-A448-E9D57825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AC0-B078-4194-AAE7-7AC18CAF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693-E66A-46E9-BB2C-C7CB4AB1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C8FE-8C9F-46EC-B0ED-0C5421C1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5456-5C4E-4FC8-8751-C2A72831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7983-40C7-4D1C-865A-7F50548A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07C3-04E6-4E85-BC24-A8F83587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A406-1AD6-4042-B4D7-0C7B1BD9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380-39D0-4AA3-B213-A279F05C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AA6D-0B0B-4C34-A8B5-3F4B57656C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ru.wikipedia.org/wiki/&#1057;&#1082;&#1072;&#1085;&#1076;&#1080;&#1085;&#1072;&#1074;&#1080;&#1103;" TargetMode="External"/><Relationship Id="rId3" Type="http://schemas.openxmlformats.org/officeDocument/2006/relationships/hyperlink" Target="http://ru.wikipedia.org/wiki/XX_&#1074;&#1077;&#1082;" TargetMode="External"/><Relationship Id="rId4" Type="http://schemas.openxmlformats.org/officeDocument/2006/relationships/hyperlink" Target="http://ru.wikipedia.org/wiki/&#1062;&#1077;&#1085;&#1090;&#1088;&#1072;&#1083;&#1100;&#1085;&#1072;&#1103;_&#1045;&#1074;&#1088;&#1086;&#1087;&#1072;" TargetMode="External"/><Relationship Id="rId5" Type="http://schemas.openxmlformats.org/officeDocument/2006/relationships/hyperlink" Target="http://ru.wikipedia.org/wiki/&#1047;&#1072;&#1087;&#1072;&#1076;&#1085;&#1072;&#1103;_&#1045;&#1074;&#1088;&#1086;&#1087;&#1072;" TargetMode="External"/><Relationship Id="rId6" Type="http://schemas.openxmlformats.org/officeDocument/2006/relationships/hyperlink" Target="http://ru.wikipedia.org/wiki/&#1055;&#1086;&#1087;&#1091;&#1083;&#1103;&#1094;&#1080;&#1103;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hyperlink" Target="http://ru.wikipedia.org/wiki/&#1058;&#1072;&#1081;&#1075;&#1072;" TargetMode="External"/><Relationship Id="rId4" Type="http://schemas.openxmlformats.org/officeDocument/2006/relationships/hyperlink" Target="http://ru.wikipedia.org/wiki/&#1051;&#1077;&#1089;&#1086;&#1089;&#1090;&#1077;&#1087;&#1100;" TargetMode="External"/><Relationship Id="rId5" Type="http://schemas.openxmlformats.org/officeDocument/2006/relationships/hyperlink" Target="http://ru.wikipedia.org/wiki/&#1051;&#1077;&#1089;&#1086;&#1090;&#1091;&#1085;&#1076;&#1088;&#1072;" TargetMode="External"/><Relationship Id="rId6" Type="http://schemas.openxmlformats.org/officeDocument/2006/relationships/hyperlink" Target="http://ru.wikipedia.org/wiki/&#1047;&#1072;&#1081;&#1094;&#1099;" TargetMode="External"/><Relationship Id="rId7" Type="http://schemas.openxmlformats.org/officeDocument/2006/relationships/hyperlink" Target="http://ru.wikipedia.org/wiki/&#1058;&#1077;&#1090;&#1077;&#1088;&#1077;&#1074;&#1080;&#1085;&#1099;&#1077;" TargetMode="External"/><Relationship Id="rId8" Type="http://schemas.openxmlformats.org/officeDocument/2006/relationships/hyperlink" Target="http://ru.wikipedia.org/wiki/&#1050;&#1086;&#1089;&#1091;&#1083;&#1103;" TargetMode="External"/><Relationship Id="rId9" Type="http://schemas.openxmlformats.org/officeDocument/2006/relationships/hyperlink" Target="http://ru.wikipedia.org/wiki/&#1050;&#1072;&#1073;&#1072;&#1088;&#1075;&#1072;" TargetMode="External"/><Relationship Id="rId10" Type="http://schemas.openxmlformats.org/officeDocument/2006/relationships/hyperlink" Target="http://ru.wikipedia.org/wiki/&#1057;&#1077;&#1074;&#1077;&#1088;&#1085;&#1099;&#1081;_&#1086;&#1083;&#1077;&#1085;&#1100;" TargetMode="External"/><Relationship Id="rId11" Type="http://schemas.openxmlformats.org/officeDocument/2006/relationships/hyperlink" Target="http://ru.wikipedia.org/wiki/&#1051;&#1080;&#1089;&#1080;&#1094;&#1072;" TargetMode="External"/><Relationship Id="rId12" Type="http://schemas.openxmlformats.org/officeDocument/2006/relationships/hyperlink" Target="http://ru.wikipedia.org/wiki/&#1045;&#1085;&#1086;&#1090;&#1086;&#1074;&#1080;&#1076;&#1085;&#1072;&#1103;_&#1089;&#1086;&#1073;&#1072;&#1082;&#1072;" TargetMode="Externa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hyperlink" Target="http://ru.wikipedia.org/wiki/&#1043;&#1077;&#1088;&#1072;&#1083;&#1100;&#1076;&#1080;&#1082;&#1072;" TargetMode="External"/><Relationship Id="rId4" Type="http://schemas.openxmlformats.org/officeDocument/2006/relationships/hyperlink" Target="http://ru.wikipedia.org/wiki/&#1056;&#1077;&#1078;" TargetMode="External"/><Relationship Id="rId5" Type="http://schemas.openxmlformats.org/officeDocument/2006/relationships/hyperlink" Target="http://ru.wikipedia.org/wiki/&#1043;&#1086;&#1084;&#1077;&#1083;&#1100;" TargetMode="External"/><Relationship Id="rId6" Type="http://schemas.openxmlformats.org/officeDocument/2006/relationships/hyperlink" Target="http://ru.wikipedia.org/wiki/&#1051;&#1077;&#1074;" TargetMode="External"/><Relationship Id="rId7" Type="http://schemas.openxmlformats.org/officeDocument/2006/relationships/hyperlink" Target="http://ru.wikipedia.org/wiki/&#1043;&#1077;&#1088;&#1073;_&#1060;&#1080;&#1085;&#1083;&#1103;&#1085;&#1076;&#1080;&#1080;" TargetMode="External"/><Relationship Id="rId8" Type="http://schemas.openxmlformats.org/officeDocument/2006/relationships/hyperlink" Target="http://ru.wikipedia.org/wiki/&#1059;&#1089;&#1090;&#1100;-&#1050;&#1091;&#1073;&#1080;&#1085;&#1089;&#1082;&#1080;&#1081;_&#1088;&#1072;&#1081;&#1086;&#1085;_&#1042;&#1086;&#1083;&#1086;&#1075;&#1086;&#1076;&#1089;&#1082;&#1086;&#1081;_&#1086;&#1073;&#1083;&#1072;&#1089;&#1090;&#1080;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ы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618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3" descr=""/>
          <p:cNvPicPr/>
          <p:nvPr/>
        </p:nvPicPr>
        <p:blipFill>
          <a:blip r:embed="rId1"/>
          <a:stretch/>
        </p:blipFill>
        <p:spPr>
          <a:xfrm>
            <a:off x="457200" y="0"/>
            <a:ext cx="3005280" cy="1073160"/>
          </a:xfrm>
          <a:prstGeom prst="rect">
            <a:avLst/>
          </a:prstGeom>
          <a:ln w="0">
            <a:noFill/>
          </a:ln>
        </p:spPr>
      </p:pic>
      <p:pic>
        <p:nvPicPr>
          <p:cNvPr id="44" name="Содержимое 6" descr="1.jpg"/>
          <p:cNvPicPr/>
          <p:nvPr/>
        </p:nvPicPr>
        <p:blipFill>
          <a:blip r:embed="rId2"/>
          <a:stretch/>
        </p:blipFill>
        <p:spPr>
          <a:xfrm>
            <a:off x="4286160" y="1285920"/>
            <a:ext cx="3532320" cy="369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звание, скорее всего, связано с праславянским корнем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lys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в котором под влиянием другого праславянского корня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rys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со значением «рыжий, пятнистый») появилось вторичное «r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3005280" cy="115740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4" descr="2.jpg"/>
          <p:cNvPicPr/>
          <p:nvPr/>
        </p:nvPicPr>
        <p:blipFill>
          <a:blip r:embed="rId2"/>
          <a:stretch/>
        </p:blipFill>
        <p:spPr>
          <a:xfrm>
            <a:off x="4429080" y="1420920"/>
            <a:ext cx="3286080" cy="3936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00040" y="142884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ина тела рыси составляет 80—130 см и 70 см в холке. Самцы чаще весят от 18 до 30 кг, а самки весят в среднем 18 кг. Туловище, как у всех рысей, короткое, плотное. Лапы крупные, зимой хорошо опушенные, что позволяет рыси ходить по снегу, не проваливаясь. На ушах длинные кисточки. Хвост короткий, как бы обрубленны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3005280" cy="115740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4" descr="3.jpg"/>
          <p:cNvPicPr/>
          <p:nvPr/>
        </p:nvPicPr>
        <p:blipFill>
          <a:blip r:embed="rId2"/>
          <a:stretch/>
        </p:blipFill>
        <p:spPr>
          <a:xfrm>
            <a:off x="4643280" y="1130400"/>
            <a:ext cx="4000680" cy="3584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ществует множество вариантов окраса рыси, зависящих от географического района, — от рыжевато-бурого до палево-дымчатого, с более или менее выраженной пятнистостью на спине, боках и лапах. На брюхе волосы особенно длинные и мягкие, но не густые и почти всегда чисто белые с редким крапом. Южные формы обычно более рыжие, шерсть у них короче, а лапы мельч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ед рыси типично кошачий, без отпечатков когти задние ступают точно в след передни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6" descr="7.jpg"/>
          <p:cNvPicPr/>
          <p:nvPr/>
        </p:nvPicPr>
        <p:blipFill>
          <a:blip r:embed="rId1"/>
          <a:stretch/>
        </p:blipFill>
        <p:spPr>
          <a:xfrm>
            <a:off x="4714920" y="870120"/>
            <a:ext cx="3357360" cy="4630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3005280" cy="1157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ысь — самый северный из видов кошачьих;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кандинав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на встречается даже за Полярным кругом. Некогда она была весьма обычна по всей Европе, но к середине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XX ве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её истребили в большинстве стран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Центрально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Западной Европ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Сейчас предприняты успешные попытки возродить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популяцию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рыс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6" descr="4.jpg"/>
          <p:cNvPicPr/>
          <p:nvPr/>
        </p:nvPicPr>
        <p:blipFill>
          <a:blip r:embed="rId7"/>
          <a:stretch/>
        </p:blipFill>
        <p:spPr>
          <a:xfrm>
            <a:off x="4389480" y="1214280"/>
            <a:ext cx="4254480" cy="4143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3005280" cy="115740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4" descr="5.jpg"/>
          <p:cNvPicPr/>
          <p:nvPr/>
        </p:nvPicPr>
        <p:blipFill>
          <a:blip r:embed="rId2"/>
          <a:stretch/>
        </p:blipFill>
        <p:spPr>
          <a:xfrm>
            <a:off x="5416560" y="1000080"/>
            <a:ext cx="3486240" cy="3286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1434600"/>
            <a:ext cx="46148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ысь отдает предпочтение глухим темнохвойным лесам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тайг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хотя встречается в самых разных насаждениях, включая горные леса; иногда заходит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лесостеп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лесотундру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Она отлично лазает по деревьям и скалам, хорошо плавает.Также она отлично выживает среди снегов(за полярным кругом)ловя всяких пушных звер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обилии пищи рысь живёт оседло, при недостатке — кочует. В сутки она способна проходить до 30 километров. Основу её рациона составляют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зайц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Также она постоянно охотится на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тетеревиных птиц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мелких грызунов, реже — небольших копытных, вроде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косул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кабарг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пятнистого и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северного олене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изредка нападает на домашних кошек и собак, а в лесу — на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лис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енотовидных соба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других некрупных звер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3005280" cy="115740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4" descr="2.jpg"/>
          <p:cNvPicPr/>
          <p:nvPr/>
        </p:nvPicPr>
        <p:blipFill>
          <a:blip r:embed="rId2"/>
          <a:stretch/>
        </p:blipFill>
        <p:spPr>
          <a:xfrm>
            <a:off x="5099040" y="1100160"/>
            <a:ext cx="3259080" cy="36860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4114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хотится рысь в сумерках. Вопреки распространённым представлениям, она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икогда не прыгает на свою жертву с дерев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но предпочитает подкарауливать дичь в засаде или скрадывать, а затем нападать большими, до 4 м, прыжками. Жертву преследует на дистанции не более 60—80 м, после чего выдыхаетс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 всей осторожности рысь не очень боится людей. Она живёт в созданных ими вторичных лесах, молодняках, на старых лесосеках и гарях; а в бедственные годы заходит в сёла и даже большие город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3005280" cy="115740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4" descr="6.jpg"/>
          <p:cNvPicPr/>
          <p:nvPr/>
        </p:nvPicPr>
        <p:blipFill>
          <a:blip r:embed="rId2"/>
          <a:stretch/>
        </p:blipFill>
        <p:spPr>
          <a:xfrm>
            <a:off x="4311720" y="1571760"/>
            <a:ext cx="4260960" cy="3857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1434600"/>
            <a:ext cx="3543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ысь широко используется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геральдик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символизируя полноту и остроту зрения. Её изображение можно увидеть на гербах или флагах таких городов, как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Реж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Гомел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По некоторым версиям, именно рысь, а не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ле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зображена на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гербе Финлянд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Рысь на гербе имеет и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Усть-Кубинский район Вологод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-за остроты зрения, в честь рыси было названо созвездие Яном Гевелием в 1690 году. Гевелий так комментировал выбор названия: «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 этой части неба встречаются только мелкие звёзды, и нужно иметь рысьи глаза, чтобы их различить и распознат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стрибутив Ubuntu Linux версии 10.04 носит наименование «Сообразительная рысь» (Lucid Lynx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1:37:18Z</dcterms:created>
  <dc:creator>admin</dc:creator>
  <dc:description/>
  <dc:language>en-US</dc:language>
  <cp:lastModifiedBy>ASUS</cp:lastModifiedBy>
  <dcterms:modified xsi:type="dcterms:W3CDTF">2023-02-06T16:38:29Z</dcterms:modified>
  <cp:revision>9</cp:revision>
  <dc:subject/>
  <dc:title>Рысь</dc:title>
</cp:coreProperties>
</file>