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D06-3508-4169-95D3-5E9203B7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44E-54C2-4204-BEBA-325C35D9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F4C-CEA1-4EA4-A292-02429314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9A0-5549-4607-9052-19E0F068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2E6-AE3A-4339-96B7-69F93FE9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437-151C-46F7-8C6F-B055E33A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78B-21FA-4D30-A9DB-1E6EC730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6A3-0C27-4EB5-8E31-7787278B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85D-22C1-493B-B4D8-7C647538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7D8-025F-4513-BE7F-AA9E091D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232-4A26-4F9A-9811-C6B4CFAB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D41-5D8A-4149-9BB8-811EB16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49EA-457E-4310-9D61-D757B88B5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57;&#1082;&#1072;&#1085;&#1076;&#1080;&#1085;&#1072;&#1074;&#1080;&#1103;" TargetMode="External"/><Relationship Id="rId3" Type="http://schemas.openxmlformats.org/officeDocument/2006/relationships/hyperlink" Target="http://ru.wikipedia.org/wiki/XX_&#1074;&#1077;&#1082;" TargetMode="External"/><Relationship Id="rId4" Type="http://schemas.openxmlformats.org/officeDocument/2006/relationships/hyperlink" Target="http://ru.wikipedia.org/wiki/&#1062;&#1077;&#1085;&#1090;&#1088;&#1072;&#1083;&#1100;&#1085;&#1072;&#1103;_&#1045;&#1074;&#1088;&#1086;&#1087;&#1072;" TargetMode="External"/><Relationship Id="rId5" Type="http://schemas.openxmlformats.org/officeDocument/2006/relationships/hyperlink" Target="http://ru.wikipedia.org/wiki/&#1047;&#1072;&#1087;&#1072;&#1076;&#1085;&#1072;&#1103;_&#1045;&#1074;&#1088;&#1086;&#1087;&#1072;" TargetMode="External"/><Relationship Id="rId6" Type="http://schemas.openxmlformats.org/officeDocument/2006/relationships/hyperlink" Target="http://ru.wikipedia.org/wiki/&#1055;&#1086;&#1087;&#1091;&#1083;&#1103;&#1094;&#1080;&#1103;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hyperlink" Target="http://ru.wikipedia.org/wiki/&#1058;&#1072;&#1081;&#1075;&#1072;" TargetMode="External"/><Relationship Id="rId4" Type="http://schemas.openxmlformats.org/officeDocument/2006/relationships/hyperlink" Target="http://ru.wikipedia.org/wiki/&#1051;&#1077;&#1089;&#1086;&#1089;&#1090;&#1077;&#1087;&#1100;" TargetMode="External"/><Relationship Id="rId5" Type="http://schemas.openxmlformats.org/officeDocument/2006/relationships/hyperlink" Target="http://ru.wikipedia.org/wiki/&#1051;&#1077;&#1089;&#1086;&#1090;&#1091;&#1085;&#1076;&#1088;&#1072;" TargetMode="External"/><Relationship Id="rId6" Type="http://schemas.openxmlformats.org/officeDocument/2006/relationships/hyperlink" Target="http://ru.wikipedia.org/wiki/&#1047;&#1072;&#1081;&#1094;&#1099;" TargetMode="External"/><Relationship Id="rId7" Type="http://schemas.openxmlformats.org/officeDocument/2006/relationships/hyperlink" Target="http://ru.wikipedia.org/wiki/&#1058;&#1077;&#1090;&#1077;&#1088;&#1077;&#1074;&#1080;&#1085;&#1099;&#1077;" TargetMode="External"/><Relationship Id="rId8" Type="http://schemas.openxmlformats.org/officeDocument/2006/relationships/hyperlink" Target="http://ru.wikipedia.org/wiki/&#1050;&#1086;&#1089;&#1091;&#1083;&#1103;" TargetMode="External"/><Relationship Id="rId9" Type="http://schemas.openxmlformats.org/officeDocument/2006/relationships/hyperlink" Target="http://ru.wikipedia.org/wiki/&#1050;&#1072;&#1073;&#1072;&#1088;&#1075;&#1072;" TargetMode="External"/><Relationship Id="rId10" Type="http://schemas.openxmlformats.org/officeDocument/2006/relationships/hyperlink" Target="http://ru.wikipedia.org/wiki/&#1057;&#1077;&#1074;&#1077;&#1088;&#1085;&#1099;&#1081;_&#1086;&#1083;&#1077;&#1085;&#1100;" TargetMode="External"/><Relationship Id="rId11" Type="http://schemas.openxmlformats.org/officeDocument/2006/relationships/hyperlink" Target="http://ru.wikipedia.org/wiki/&#1051;&#1080;&#1089;&#1080;&#1094;&#1072;" TargetMode="External"/><Relationship Id="rId12" Type="http://schemas.openxmlformats.org/officeDocument/2006/relationships/hyperlink" Target="http://ru.wikipedia.org/wiki/&#1045;&#1085;&#1086;&#1090;&#1086;&#1074;&#1080;&#1076;&#1085;&#1072;&#1103;_&#1089;&#1086;&#1073;&#1072;&#1082;&#1072;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hyperlink" Target="http://ru.wikipedia.org/wiki/&#1043;&#1077;&#1088;&#1072;&#1083;&#1100;&#1076;&#1080;&#1082;&#1072;" TargetMode="External"/><Relationship Id="rId4" Type="http://schemas.openxmlformats.org/officeDocument/2006/relationships/hyperlink" Target="http://ru.wikipedia.org/wiki/&#1056;&#1077;&#1078;" TargetMode="External"/><Relationship Id="rId5" Type="http://schemas.openxmlformats.org/officeDocument/2006/relationships/hyperlink" Target="http://ru.wikipedia.org/wiki/&#1043;&#1086;&#1084;&#1077;&#1083;&#1100;" TargetMode="External"/><Relationship Id="rId6" Type="http://schemas.openxmlformats.org/officeDocument/2006/relationships/hyperlink" Target="http://ru.wikipedia.org/wiki/&#1051;&#1077;&#1074;" TargetMode="External"/><Relationship Id="rId7" Type="http://schemas.openxmlformats.org/officeDocument/2006/relationships/hyperlink" Target="http://ru.wikipedia.org/wiki/&#1043;&#1077;&#1088;&#1073;_&#1060;&#1080;&#1085;&#1083;&#1103;&#1085;&#1076;&#1080;&#1080;" TargetMode="External"/><Relationship Id="rId8" Type="http://schemas.openxmlformats.org/officeDocument/2006/relationships/hyperlink" Target="http://ru.wikipedia.org/wiki/&#1059;&#1089;&#1090;&#1100;-&#1050;&#1091;&#1073;&#1080;&#1085;&#1089;&#1082;&#1080;&#1081;_&#1088;&#1072;&#1081;&#1086;&#1085;_&#1042;&#1086;&#1083;&#1086;&#1075;&#1086;&#1076;&#1089;&#1082;&#1086;&#1081;_&#1086;&#1073;&#1083;&#1072;&#1089;&#1090;&#1080;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ы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3" descr=""/>
          <p:cNvPicPr/>
          <p:nvPr/>
        </p:nvPicPr>
        <p:blipFill>
          <a:blip r:embed="rId1"/>
          <a:stretch/>
        </p:blipFill>
        <p:spPr>
          <a:xfrm>
            <a:off x="457200" y="0"/>
            <a:ext cx="300528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6" descr="1.jpg"/>
          <p:cNvPicPr/>
          <p:nvPr/>
        </p:nvPicPr>
        <p:blipFill>
          <a:blip r:embed="rId2"/>
          <a:stretch/>
        </p:blipFill>
        <p:spPr>
          <a:xfrm>
            <a:off x="4286160" y="1285920"/>
            <a:ext cx="3532320" cy="369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звание, скорее всего, связано с праславянским корнем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lys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в котором под влиянием другого праславянского корня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rys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со значением «рыжий, пятнистый») появилось вторичное «r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4" descr="2.jpg"/>
          <p:cNvPicPr/>
          <p:nvPr/>
        </p:nvPicPr>
        <p:blipFill>
          <a:blip r:embed="rId2"/>
          <a:stretch/>
        </p:blipFill>
        <p:spPr>
          <a:xfrm>
            <a:off x="4429080" y="1420920"/>
            <a:ext cx="3286080" cy="393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ина тела рыси составляет 80—130 см и 70 см в холке. Самцы чаще весят от 18 до 30 кг, а самки весят в среднем 18 кг. Туловище, как у всех рысей, короткое, плотное. Лапы крупные, зимой хорошо опушенные, что позволяет рыси ходить по снегу, не проваливаясь. На ушах длинные кисточки. Хвост короткий, как бы обрубленны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3.jpg"/>
          <p:cNvPicPr/>
          <p:nvPr/>
        </p:nvPicPr>
        <p:blipFill>
          <a:blip r:embed="rId2"/>
          <a:stretch/>
        </p:blipFill>
        <p:spPr>
          <a:xfrm>
            <a:off x="4643280" y="1130400"/>
            <a:ext cx="4000680" cy="3584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ет множество вариантов окраса рыси, зависящих от географического района, — от рыжевато-бурого до палево-дымчатого, с более или менее выраженной пятнистостью на спине, боках и лапах. На брюхе волосы особенно длинные и мягкие, но не густые и почти всегда чисто белые с редким крапом. Южные формы обычно более рыжие, шерсть у них короче, а лапы мельч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 рыси типично кошачий, без отпечатков когти задние ступают точно в след передн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7.jpg"/>
          <p:cNvPicPr/>
          <p:nvPr/>
        </p:nvPicPr>
        <p:blipFill>
          <a:blip r:embed="rId1"/>
          <a:stretch/>
        </p:blipFill>
        <p:spPr>
          <a:xfrm>
            <a:off x="4714920" y="870120"/>
            <a:ext cx="3357360" cy="4630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ысь — самый северный из видов кошачьих;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кандинав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на встречается даже за Полярным кругом. Некогда она была весьма обычна по всей Европе, но к середин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XX ве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её истребили в большинстве стран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Централь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Западной Европ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Сейчас предприняты успешные попытки возродить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опуляцию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ыс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6" descr="4.jpg"/>
          <p:cNvPicPr/>
          <p:nvPr/>
        </p:nvPicPr>
        <p:blipFill>
          <a:blip r:embed="rId7"/>
          <a:stretch/>
        </p:blipFill>
        <p:spPr>
          <a:xfrm>
            <a:off x="4389480" y="1214280"/>
            <a:ext cx="4254480" cy="414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4" descr="5.jpg"/>
          <p:cNvPicPr/>
          <p:nvPr/>
        </p:nvPicPr>
        <p:blipFill>
          <a:blip r:embed="rId2"/>
          <a:stretch/>
        </p:blipFill>
        <p:spPr>
          <a:xfrm>
            <a:off x="5416560" y="1000080"/>
            <a:ext cx="348624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46148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ысь отдает предпочтение глухим темнохвойным лесам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айг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хотя встречается в самых разных насаждениях, включая горные леса; иногда заходит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состеп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лесотундр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Она отлично лазает по деревьям и скалам, хорошо плавает.Также она отлично выживает среди снегов(за полярным кругом)ловя всяких пушных звер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обилии пищи рысь живёт оседло, при недостатке — кочует. В сутки она способна проходить до 30 километров. Основу её рациона составляют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зайц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Также она постоянно охотится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тетеревиных птиц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мелких грызунов, реже — небольших копытных, врод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осул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кабарг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пятнистого и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северного олене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изредка нападает на домашних кошек и собак, а в лесу —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ли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енотовидных соба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других некрупных звер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2.jpg"/>
          <p:cNvPicPr/>
          <p:nvPr/>
        </p:nvPicPr>
        <p:blipFill>
          <a:blip r:embed="rId2"/>
          <a:stretch/>
        </p:blipFill>
        <p:spPr>
          <a:xfrm>
            <a:off x="5099040" y="1100160"/>
            <a:ext cx="3259080" cy="36860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хотится рысь в сумерках. Вопреки распространённым представлениям, он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когда не прыгает на свою жертву с дере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предпочитает подкарауливать дичь в засаде или скрадывать, а затем нападать большими, до 4 м, прыжками. Жертву преследует на дистанции не более 60—80 м, после чего выдыхает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всей осторожности рысь не очень боится людей. Она живёт в созданных ими вторичных лесах, молодняках, на старых лесосеках и гарях; а в бедственные годы заходит в сёла и даже большие горо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6.jpg"/>
          <p:cNvPicPr/>
          <p:nvPr/>
        </p:nvPicPr>
        <p:blipFill>
          <a:blip r:embed="rId2"/>
          <a:stretch/>
        </p:blipFill>
        <p:spPr>
          <a:xfrm>
            <a:off x="4311720" y="1571760"/>
            <a:ext cx="4260960" cy="3857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543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ысь широко используется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геральдик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символизируя полноту и остроту зрения. Её изображение можно увидеть на гербах или флагах таких городов, ка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еж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Гомел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По некоторым версиям, именно рысь, а н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ле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зображена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гербе Финлянд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Рысь на гербе имеет и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Усть-Кубинский район Вологод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-за остроты зрения, в честь рыси было названо созвездие Яном Гевелием в 1690 году. Гевелий так комментировал выбор названия: «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этой части неба встречаются только мелкие звёзды, и нужно иметь рысьи глаза, чтобы их различить и распознат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стрибутив Ubuntu Linux версии 10.04 носит наименование «Сообразительная рысь» (Lucid Lynx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7:18Z</dcterms:created>
  <dc:creator>admin</dc:creator>
  <dc:description/>
  <dc:language>en-US</dc:language>
  <cp:lastModifiedBy>ASUS</cp:lastModifiedBy>
  <dcterms:modified xsi:type="dcterms:W3CDTF">2023-02-06T16:38:29Z</dcterms:modified>
  <cp:revision>9</cp:revision>
  <dc:subject/>
  <dc:title>Рысь</dc:title>
</cp:coreProperties>
</file>