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B48-CDB9-4FC8-A2DD-09F648C2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BDD-BC90-4255-AD14-246DC8D8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805-4F01-4297-B39F-E00332E8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AFA-5256-4AF0-9225-0A04C989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885-F2D5-480D-8691-666DEF12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CC9-98D2-4E38-A65A-28566292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41E-DB04-46EC-9A72-28DFCA1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8F9-F82E-4538-8999-8851A251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4BB-489C-4845-AF1F-CBC6B36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0E2-3FD6-428C-9FAB-D45D6D0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721-085A-4674-8357-C6A3D5E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B3A-1320-4DA5-903E-B23B9F2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A400-DD1A-4E6E-BBFA-A4451000D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3"/>
          <p:cNvGrpSpPr/>
          <p:nvPr/>
        </p:nvGrpSpPr>
        <p:grpSpPr>
          <a:xfrm>
            <a:off x="396720" y="-23760"/>
            <a:ext cx="8345520" cy="1517760"/>
            <a:chOff x="396720" y="-23760"/>
            <a:chExt cx="8345520" cy="1517760"/>
          </a:xfrm>
        </p:grpSpPr>
        <p:pic>
          <p:nvPicPr>
            <p:cNvPr id="42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96720" y="-23760"/>
              <a:ext cx="83455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Пчелы.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Содержимое 5" descr="FHZL_4001.jpg"/>
          <p:cNvPicPr/>
          <p:nvPr/>
        </p:nvPicPr>
        <p:blipFill>
          <a:blip r:embed="rId2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Пожалуй, все вы любите мед. На самом деле, что может быть слаще меда! В его ароматных  янтарных  каплях будто настой луговых трав, запах июльских липовых рощ, искры  солнца.   И еще  в них  огромный труд  насекомых - медоносных пче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1920flower_1 (27).jpg"/>
          <p:cNvPicPr/>
          <p:nvPr/>
        </p:nvPicPr>
        <p:blipFill>
          <a:blip r:embed="rId1"/>
          <a:stretch/>
        </p:blipFill>
        <p:spPr>
          <a:xfrm>
            <a:off x="457200" y="2852640"/>
            <a:ext cx="4040280" cy="324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7" descr="FHZL_3007.jpg"/>
          <p:cNvPicPr/>
          <p:nvPr/>
        </p:nvPicPr>
        <p:blipFill>
          <a:blip r:embed="rId2"/>
          <a:stretch/>
        </p:blipFill>
        <p:spPr>
          <a:xfrm>
            <a:off x="4643280" y="2852640"/>
            <a:ext cx="4042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2. Медоносные  пчелы  - полезные насекомы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FHZL_3011.jpg"/>
          <p:cNvPicPr/>
          <p:nvPr/>
        </p:nvPicPr>
        <p:blipFill>
          <a:blip r:embed="rId1"/>
          <a:stretch/>
        </p:blipFill>
        <p:spPr>
          <a:xfrm>
            <a:off x="3575160" y="620640"/>
            <a:ext cx="524484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Из  всех насекомых  пчела - одно  из  самых  полезных  для  человека. Она  дает  ему  полезный  и  питательный  мед.  Почти  все  народы  Земли  с  давних  времен  знают  целебные  свойства  меда.  Не  только  народная, но  и  современная  медицина  пользуется  медом  при  лечении  различных  заболеваний. Ложка меда превращается  в каплю здоровья. Притом мед – очень приятное лекарство. Он восстанавливает и придает си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15968"/>
                </a:solidFill>
                <a:latin typeface="Calibri"/>
              </a:rPr>
              <a:t>Кроме меда пчелы вырабатывают воск, который используют для изготовления лекарств, кремов, некоторых сортов бумаги. Еще  весьма  целебны  пчелиный клей- прополис и цветочная пыльца, которые они собирают с растений, маточное молочко. Прополисом пчелы заклеивают в своем жилище от врагов все щели, покрывают им стенки, полируют соты, склеивают  рамки. Прополис состоит, в основном, из зеленоватого смолистого вещества, которое пчелы соскабливают с почек  березы, тополя, осины, каштана, ветлы. Он и пахнет весенним лесом. Прополис обладает свойством убивать некоторые микроорганизмы. Он предохраняет пчел от многих заболеваний. Прополис нашел широкое применение в современной медицине. Им пользуются для лечения ран, ожогов, при обморожениях, применяют при туберкулезе легких, ангинах и заболеваниях кож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FHZL_2002.jpg"/>
          <p:cNvPicPr/>
          <p:nvPr/>
        </p:nvPicPr>
        <p:blipFill>
          <a:blip r:embed="rId1"/>
          <a:stretch/>
        </p:blipFill>
        <p:spPr>
          <a:xfrm>
            <a:off x="4648320" y="1844640"/>
            <a:ext cx="4171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Цветочную пыльцу называют чудо – продуктом. Пчелы собирают ее с весны до  осени. Она, как  и мед, служит пчелам кормом.  Врачи рекомендуют пыльцу при малокровии, истощении, слаб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Как видим, буквально все,  что происходит от пчел, полезно человеку, помогает ему сохранить и укрепить здоровье, восстановить силы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Велика польза этих удивительных насекомых для народного хозяйства. Опыляя растения, они повышают их урожайность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4" descr="FHZL_2013.jpg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Заголовок 1"/>
          <p:cNvGrpSpPr/>
          <p:nvPr/>
        </p:nvGrpSpPr>
        <p:grpSpPr>
          <a:xfrm>
            <a:off x="396720" y="49320"/>
            <a:ext cx="8345520" cy="1444680"/>
            <a:chOff x="396720" y="49320"/>
            <a:chExt cx="8345520" cy="1444680"/>
          </a:xfrm>
        </p:grpSpPr>
        <p:pic>
          <p:nvPicPr>
            <p:cNvPr id="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45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3. Пчелы живут семьями.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Медоносные пчелы живут не поодиночке, а большими семьями. Их, как шмелей, муравьев и ос, и называют поэтому общественными насеком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В семье медоносных пчел  есть родители и дети. Основатель семьи – самка. Семья пчел состоит из матери и ее детей. Все члены семьи находятся в близком родств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Каждая семья пчел живет независимо от других семей. Семья семье, говорят пчеловоды, в долг не дает. В большой пчелиной семье бывает 70 -80 тысяч насекомых. Это примерно столько, сколько жителей в городе. Чтобы такое скопление насекомых могло существовать, каждый член семьи должен иметь свои обязанности и выполнять определенные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Откройте гнездо пчел, и вы увидите в нем непрерывное движение чем-то занятых, копошащихся насекомых. Одни хлопочут над ячейками с личинками, другие надстраивают соты, а многие соприкасаются друг с другом хоботками. Кормовые связи, когда одна пчела делится пищей с другой, очень широко распространены в пчелиной семь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FHZL_4020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396720" y="49320"/>
            <a:ext cx="8345520" cy="1444680"/>
            <a:chOff x="396720" y="49320"/>
            <a:chExt cx="8345520" cy="144468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45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4. Надо ли бояться пчел?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О пчелах иногда рассказывают невероятные истории, будто они нападают на людей, зажаливают животных, и даже описывают случаи, когда пчелы обращали в паническое бегство вооруженных солд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Природа действительно наделила медоносных пчел грозным оружием – жалом и сильнодействующим ядом. От одного ужаления погибает любое насекомое, а от сотен – иногда и живот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Ужаления пчел довольно болезненны, вызывают опухоль, которая у некоторых людей, особенно у тех, которые ужалению подвергаются впервые, может держаться 2-3 дня. Вполне естественно, многие боятся пч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FHZL_4010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1"/>
          <p:cNvGrpSpPr/>
          <p:nvPr/>
        </p:nvGrpSpPr>
        <p:grpSpPr>
          <a:xfrm>
            <a:off x="396720" y="49320"/>
            <a:ext cx="8345520" cy="1444680"/>
            <a:chOff x="396720" y="49320"/>
            <a:chExt cx="8345520" cy="1444680"/>
          </a:xfrm>
        </p:grpSpPr>
        <p:pic>
          <p:nvPicPr>
            <p:cNvPr id="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45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5.Семья пчел весной.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Жизнь и поведение пчел целиком зависят от погодных условий. Они очень хорошо чувствуют приближение весны. Какая-то новая нота появляется в их голосе. Ровный гул пчелиной семьи усиливается  с каждым днем. Пчелы чистят ячейки сот в середине улья и готовят их для яиц. В первые дни матка откладывает всего 20-30 яиц в сутки. Постепенно число откладываемых яиц возраст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Через 3 дня из яйца вылупляется крохотная личинка. Пчелы-кормилицы кладут в ячейку пчелиное молочко. С появлением яиц и личинок пчелы повышают температуру в гнезде до 35 градусов. Только при этом условии идет нормальный рост и развитие личинок. С каждым днем количество яиц, личинок и куколок  растет. А через 3 недели появятся новые пче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6" descr="FHZL_4018.jpg"/>
          <p:cNvPicPr/>
          <p:nvPr/>
        </p:nvPicPr>
        <p:blipFill>
          <a:blip r:embed="rId2"/>
          <a:stretch/>
        </p:blipFill>
        <p:spPr>
          <a:xfrm>
            <a:off x="4648320" y="177336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3:37:03Z</dcterms:created>
  <dc:creator>admin</dc:creator>
  <dc:description/>
  <dc:language>en-US</dc:language>
  <cp:lastModifiedBy>admin</cp:lastModifiedBy>
  <dcterms:modified xsi:type="dcterms:W3CDTF">2012-03-22T15:10:10Z</dcterms:modified>
  <cp:revision>10</cp:revision>
  <dc:subject/>
  <dc:title>Пчелы. </dc:title>
</cp:coreProperties>
</file>