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5E57-F0A8-48DC-81AA-342C64A9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7A93-354E-4BA7-8E10-C908E242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33EC-F79E-42EC-974F-C3059F92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56CF-A415-44FA-A185-1F91BE2F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D817-FFBD-45CF-94CD-D53E2062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77D5-6EF2-40B0-92AE-6B42CE30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F5B2-B1B8-484B-B9A6-37F7EB9D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F5F0-8AAA-483F-81B4-A3F322D9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3577-70D3-4FC9-846A-C0BE01D4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46DC-A89E-4916-A0D3-E5942086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01B6-F96D-4EDD-95C6-DC816F84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E2C8-5C18-487C-9C30-427ED536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6619-EABB-4678-BCD8-6FD4F9EDFC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оловок 3"/>
          <p:cNvGrpSpPr/>
          <p:nvPr/>
        </p:nvGrpSpPr>
        <p:grpSpPr>
          <a:xfrm>
            <a:off x="396720" y="-23760"/>
            <a:ext cx="8345520" cy="1517760"/>
            <a:chOff x="396720" y="-23760"/>
            <a:chExt cx="8345520" cy="1517760"/>
          </a:xfrm>
        </p:grpSpPr>
        <p:pic>
          <p:nvPicPr>
            <p:cNvPr id="42" name="Заголовок 3" descr=""/>
            <p:cNvPicPr/>
            <p:nvPr/>
          </p:nvPicPr>
          <p:blipFill>
            <a:blip r:embed="rId1"/>
            <a:stretch/>
          </p:blipFill>
          <p:spPr>
            <a:xfrm>
              <a:off x="396720" y="-23760"/>
              <a:ext cx="8345520" cy="15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alibri"/>
                </a:rPr>
                <a:t>Пчелы.</a:t>
              </a:r>
              <a:br>
                <a:rPr sz="4400"/>
              </a:b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Содержимое 5" descr="FHZL_4001.jpg"/>
          <p:cNvPicPr/>
          <p:nvPr/>
        </p:nvPicPr>
        <p:blipFill>
          <a:blip r:embed="rId2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Пожалуй, все вы любите мед. На самом деле, что может быть слаще меда! В его ароматных  янтарных  каплях будто настой луговых трав, запах июльских липовых рощ, искры  солнца.   И еще  в них  огромный труд  насекомых - медоносных пче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6" descr="1920flower_1 (27).jpg"/>
          <p:cNvPicPr/>
          <p:nvPr/>
        </p:nvPicPr>
        <p:blipFill>
          <a:blip r:embed="rId1"/>
          <a:stretch/>
        </p:blipFill>
        <p:spPr>
          <a:xfrm>
            <a:off x="457200" y="2852640"/>
            <a:ext cx="4040280" cy="3240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7" descr="FHZL_3007.jpg"/>
          <p:cNvPicPr/>
          <p:nvPr/>
        </p:nvPicPr>
        <p:blipFill>
          <a:blip r:embed="rId2"/>
          <a:stretch/>
        </p:blipFill>
        <p:spPr>
          <a:xfrm>
            <a:off x="4643280" y="2852640"/>
            <a:ext cx="404208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2. Медоносные  пчелы  - полезные насекомые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4" descr="FHZL_3011.jpg"/>
          <p:cNvPicPr/>
          <p:nvPr/>
        </p:nvPicPr>
        <p:blipFill>
          <a:blip r:embed="rId1"/>
          <a:stretch/>
        </p:blipFill>
        <p:spPr>
          <a:xfrm>
            <a:off x="3575160" y="620640"/>
            <a:ext cx="5244840" cy="4176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5968"/>
                </a:solidFill>
                <a:latin typeface="Calibri"/>
              </a:rPr>
              <a:t>Из  всех насекомых  пчела - одно  из  самых  полезных  для  человека. Она  дает  ему  полезный  и  питательный  мед.  Почти  все  народы  Земли  с  давних  времен  знают  целебные  свойства  меда.  Не  только  народная, но  и  современная  медицина  пользуется  медом  при  лечении  различных  заболеваний. Ложка меда превращается  в каплю здоровья. Притом мед – очень приятное лекарство. Он восстанавливает и придает сил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15968"/>
                </a:solidFill>
                <a:latin typeface="Calibri"/>
              </a:rPr>
              <a:t>Кроме меда пчелы вырабатывают воск, который используют для изготовления лекарств, кремов, некоторых сортов бумаги. Еще  весьма  целебны  пчелиный клей- прополис и цветочная пыльца, которые они собирают с растений, маточное молочко. Прополисом пчелы заклеивают в своем жилище от врагов все щели, покрывают им стенки, полируют соты, склеивают  рамки. Прополис состоит, в основном, из зеленоватого смолистого вещества, которое пчелы соскабливают с почек  березы, тополя, осины, каштана, ветлы. Он и пахнет весенним лесом. Прополис обладает свойством убивать некоторые микроорганизмы. Он предохраняет пчел от многих заболеваний. Прополис нашел широкое применение в современной медицине. Им пользуются для лечения ран, ожогов, при обморожениях, применяют при туберкулезе легких, ангинах и заболеваниях кожи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4" descr="FHZL_2002.jpg"/>
          <p:cNvPicPr/>
          <p:nvPr/>
        </p:nvPicPr>
        <p:blipFill>
          <a:blip r:embed="rId1"/>
          <a:stretch/>
        </p:blipFill>
        <p:spPr>
          <a:xfrm>
            <a:off x="4648320" y="1844640"/>
            <a:ext cx="41716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Calibri"/>
              </a:rPr>
              <a:t>Цветочную пыльцу называют чудо – продуктом. Пчелы собирают ее с весны до  осени. Она, как  и мед, служит пчелам кормом.  Врачи рекомендуют пыльцу при малокровии, истощении, слаб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Calibri"/>
              </a:rPr>
              <a:t>Как видим, буквально все,  что происходит от пчел, полезно человеку, помогает ему сохранить и укрепить здоровье, восстановить силы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Calibri"/>
              </a:rPr>
              <a:t>Велика польза этих удивительных насекомых для народного хозяйства. Опыляя растения, они повышают их урожайность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4" descr="FHZL_2013.jpg"/>
          <p:cNvPicPr/>
          <p:nvPr/>
        </p:nvPicPr>
        <p:blipFill>
          <a:blip r:embed="rId1"/>
          <a:stretch/>
        </p:blipFill>
        <p:spPr>
          <a:xfrm>
            <a:off x="4648320" y="2133720"/>
            <a:ext cx="403848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Заголовок 1"/>
          <p:cNvGrpSpPr/>
          <p:nvPr/>
        </p:nvGrpSpPr>
        <p:grpSpPr>
          <a:xfrm>
            <a:off x="396720" y="49320"/>
            <a:ext cx="8345520" cy="1444680"/>
            <a:chOff x="396720" y="49320"/>
            <a:chExt cx="8345520" cy="1444680"/>
          </a:xfrm>
        </p:grpSpPr>
        <p:pic>
          <p:nvPicPr>
            <p:cNvPr id="6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6720" y="49320"/>
              <a:ext cx="834552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3. Пчелы живут семьями.</a:t>
              </a:r>
              <a:br>
                <a:rPr sz="4000"/>
              </a:b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215968"/>
                </a:solidFill>
                <a:latin typeface="Calibri"/>
              </a:rPr>
              <a:t>Медоносные пчелы живут не поодиночке, а большими семьями. Их, как шмелей, муравьев и ос, и называют поэтому общественными насекомы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5968"/>
                </a:solidFill>
                <a:latin typeface="Calibri"/>
              </a:rPr>
              <a:t>В семье медоносных пчел  есть родители и дети. Основатель семьи – самка. Семья пчел состоит из матери и ее детей. Все члены семьи находятся в близком родств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5968"/>
                </a:solidFill>
                <a:latin typeface="Calibri"/>
              </a:rPr>
              <a:t>Каждая семья пчел живет независимо от других семей. Семья семье, говорят пчеловоды, в долг не дает. В большой пчелиной семье бывает 70 -80 тысяч насекомых. Это примерно столько, сколько жителей в городе. Чтобы такое скопление насекомых могло существовать, каждый член семьи должен иметь свои обязанности и выполнять определенные работ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5968"/>
                </a:solidFill>
                <a:latin typeface="Calibri"/>
              </a:rPr>
              <a:t>Откройте гнездо пчел, и вы увидите в нем непрерывное движение чем-то занятых, копошащихся насекомых. Одни хлопочут над ячейками с личинками, другие надстраивают соты, а многие соприкасаются друг с другом хоботками. Кормовые связи, когда одна пчела делится пищей с другой, очень широко распространены в пчелиной семь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4" descr="FHZL_4020.jpg"/>
          <p:cNvPicPr/>
          <p:nvPr/>
        </p:nvPicPr>
        <p:blipFill>
          <a:blip r:embed="rId2"/>
          <a:stretch/>
        </p:blipFill>
        <p:spPr>
          <a:xfrm>
            <a:off x="4648320" y="1700280"/>
            <a:ext cx="40384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Заголовок 1"/>
          <p:cNvGrpSpPr/>
          <p:nvPr/>
        </p:nvGrpSpPr>
        <p:grpSpPr>
          <a:xfrm>
            <a:off x="396720" y="49320"/>
            <a:ext cx="8345520" cy="1444680"/>
            <a:chOff x="396720" y="49320"/>
            <a:chExt cx="8345520" cy="1444680"/>
          </a:xfrm>
        </p:grpSpPr>
        <p:pic>
          <p:nvPicPr>
            <p:cNvPr id="6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6720" y="49320"/>
              <a:ext cx="834552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4. Надо ли бояться пчел?</a:t>
              </a:r>
              <a:br>
                <a:rPr sz="4000"/>
              </a:b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50"/>
                </a:solidFill>
                <a:latin typeface="Calibri"/>
              </a:rPr>
              <a:t>О пчелах иногда рассказывают невероятные истории, будто они нападают на людей, зажаливают животных, и даже описывают случаи, когда пчелы обращали в паническое бегство вооруженных солда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50"/>
                </a:solidFill>
                <a:latin typeface="Calibri"/>
              </a:rPr>
              <a:t>Природа действительно наделила медоносных пчел грозным оружием – жалом и сильнодействующим ядом. От одного ужаления погибает любое насекомое, а от сотен – иногда и животно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0" lang="ru-RU" sz="1600" spc="-1" strike="noStrike">
                <a:solidFill>
                  <a:srgbClr val="00b050"/>
                </a:solidFill>
                <a:latin typeface="Calibri"/>
              </a:rPr>
              <a:t>Ужаления пчел довольно болезненны, вызывают опухоль, которая у некоторых людей, особенно у тех, которые ужалению подвергаются впервые, может держаться 2-3 дня. Вполне естественно, многие боятся пче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4" descr="FHZL_4010.jpg"/>
          <p:cNvPicPr/>
          <p:nvPr/>
        </p:nvPicPr>
        <p:blipFill>
          <a:blip r:embed="rId2"/>
          <a:stretch/>
        </p:blipFill>
        <p:spPr>
          <a:xfrm>
            <a:off x="4648320" y="1700280"/>
            <a:ext cx="403848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Заголовок 1"/>
          <p:cNvGrpSpPr/>
          <p:nvPr/>
        </p:nvGrpSpPr>
        <p:grpSpPr>
          <a:xfrm>
            <a:off x="396720" y="49320"/>
            <a:ext cx="8345520" cy="1444680"/>
            <a:chOff x="396720" y="49320"/>
            <a:chExt cx="8345520" cy="1444680"/>
          </a:xfrm>
        </p:grpSpPr>
        <p:pic>
          <p:nvPicPr>
            <p:cNvPr id="7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96720" y="49320"/>
              <a:ext cx="834552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Calibri"/>
                </a:rPr>
                <a:t>5.Семья пчел весной.</a:t>
              </a:r>
              <a:br>
                <a:rPr sz="4000"/>
              </a:b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5968"/>
                </a:solidFill>
                <a:latin typeface="Calibri"/>
              </a:rPr>
              <a:t>Жизнь и поведение пчел целиком зависят от погодных условий. Они очень хорошо чувствуют приближение весны. Какая-то новая нота появляется в их голосе. Ровный гул пчелиной семьи усиливается  с каждым днем. Пчелы чистят ячейки сот в середине улья и готовят их для яиц. В первые дни матка откладывает всего 20-30 яиц в сутки. Постепенно число откладываемых яиц возраста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5968"/>
                </a:solidFill>
                <a:latin typeface="Calibri"/>
              </a:rPr>
              <a:t>Через 3 дня из яйца вылупляется крохотная личинка. Пчелы-кормилицы кладут в ячейку пчелиное молочко. С появлением яиц и личинок пчелы повышают температуру в гнезде до 35 градусов. Только при этом условии идет нормальный рост и развитие личинок. С каждым днем количество яиц, личинок и куколок  растет. А через 3 недели появятся новые пчел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5968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6" descr="FHZL_4018.jpg"/>
          <p:cNvPicPr/>
          <p:nvPr/>
        </p:nvPicPr>
        <p:blipFill>
          <a:blip r:embed="rId2"/>
          <a:stretch/>
        </p:blipFill>
        <p:spPr>
          <a:xfrm>
            <a:off x="4648320" y="1773360"/>
            <a:ext cx="4038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3:37:03Z</dcterms:created>
  <dc:creator>admin</dc:creator>
  <dc:description/>
  <dc:language>en-US</dc:language>
  <cp:lastModifiedBy>admin</cp:lastModifiedBy>
  <dcterms:modified xsi:type="dcterms:W3CDTF">2012-03-22T15:10:10Z</dcterms:modified>
  <cp:revision>10</cp:revision>
  <dc:subject/>
  <dc:title>Пчелы. </dc:title>
</cp:coreProperties>
</file>