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2C4-EECC-493F-A75B-AFB9644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CC9-2AC2-4AD5-9B2E-03D310E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8FB-3FC2-402D-85B4-197135F7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FA8-8BD8-48AF-A3D0-387EEE3A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B82-B194-4575-9C71-E35473E3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6BF5-A8FA-423F-8CC1-4746C58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31D4-F208-4931-A509-D2E9865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2775-3A1E-4DEC-9FC5-B0CD9A3E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9505-A569-4AB2-A3FD-8433FF10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61E2-D887-47EF-B653-CC0B4C5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FDEE-B6B6-460C-B53D-BD44A9F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A9C-A900-4BB6-9550-A63AD587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7B54-192D-4758-9574-E4EFDF76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1DCD-C98A-4591-B1BE-7D50975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4B4-BB72-4418-B569-22D9111B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26FE-E80D-4AEE-A3AA-4506A483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0832-FD84-4B9E-A110-3F602EE0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73C62-4305-4C9F-9EDA-FCF4D749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BA78D-172B-4958-BE05-36022C77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B45BCD-FC43-4537-93F7-82B811B5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6E0D4F-FA5A-4003-A485-81E6E169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5457A-AC21-46FB-8F0A-C8F4FCC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1CB-BC84-4839-BC1B-44BF6E7A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86467-BE4D-4CC1-AAB0-97AB54AE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57863-EE0C-458E-8B39-A339E3F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52381-01FB-43E2-AC33-5922E66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BEDEC-1BAE-4219-BDC2-BCBD104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FFABE-4DE7-4426-8E97-90E9DBE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FC4A4-BB8A-40D7-9457-5ECD7CAE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65AF7-DB27-44DA-9ACA-64B11197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9F65-BEFB-4C5A-B80C-C46DAFA0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E4AB4-F690-444C-B0B3-B0FDE381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1126-8724-4C97-9856-F4340416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59C-8B69-4C15-8D1E-CAE96F4F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42D3-94DA-4258-8B09-D8FF271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B856-3697-4139-B2C0-AEB5B771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5083-30B0-4F9B-B320-6333AFDE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BA20-888B-423E-8A14-D9013763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11D2F-3EBC-4EFC-AD60-A5C78377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BACB-D7DF-40CF-BD42-0377066A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67C1-894E-415E-8668-17A65780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B03B-E78E-4E35-B12F-F12E5A8C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CD21-DED8-4137-9ACB-7FC8D8C1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CBA1BE-D818-4A86-8D0C-231111F2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50A-0C24-4E2A-A681-1440E277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C14A5-F2E0-4BA6-966D-4EEF0A93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B801EC-C801-44EE-A452-3F981CAA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E79B02-DB49-4E1B-8537-7733BBA1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B11D2-83A5-4428-98D6-9EEED2D1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AB4FB0-5662-4EEA-8E77-39EED860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398CB5-8A80-4118-9A72-E4A6D7D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B2049-41BD-4049-A1F1-67FA39F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79BAC-8BB9-4C44-8FB6-15599CEA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7DF59-A6AC-40BF-B048-127D61BD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94130-9F5C-4C0A-B76B-8D0257C3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456-79A7-4FC7-A406-CC8AB7ED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1C279-7E18-41DA-8352-67487E7B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625B6-24E5-423D-B1BF-93F00A69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9C42D-4769-47A1-8150-7947503F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EE8C1-4B27-4150-9837-6C9FCA3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96937-ACD8-44EA-BC47-04C3AED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7C409-88F7-43C8-827E-F96CA2A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6FF05-0246-4415-B88B-6AFFF064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2C5A0-F923-45F0-95F7-F8DBE072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84F4D-EA5C-499E-A4DE-92EF5BA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1A4C0-4E4C-4A24-971B-DE2A5DE0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F9D-D6F1-41BF-8067-C6636E7B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57316-BEFE-4C81-8876-D4D62F95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5E507-0421-4D6A-91F9-4DF1B07F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298BE-CC9E-4A35-A5E4-3170C8D4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E5A76-3946-4F92-94A6-2B95B9AC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4D04B-DDBA-49B6-99EB-26CEA577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E697E-3C5B-4F9A-84CB-39E8DF31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C5521-2D73-4FD2-BF4A-2CF52754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89CBE-B311-46FA-A54D-5E26A26D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9FBD2F-EB81-490A-B035-81A0BD67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F495EB-4289-4560-BB17-69215E74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804-C00C-4495-BF73-B0FE5AD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A1968C-87CB-4AF4-9B3F-115C6BF8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D9062-7C3B-418A-B834-47FB65B7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71D85-D033-4368-AD5D-ECC468C8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2E69DD-385B-4192-B3CD-4940C866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8E53CE-6104-4E07-ABFD-DFB24BF1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EB6-3A40-4C98-909C-9E9BD358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9D98-0598-41B2-B9F7-78E9273F675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37B4-25BD-4CB8-965A-7D6C1B8500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D0C4-2976-4B9D-8348-7226442BF5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E76-B446-4E5A-ACCB-F44FE93E6B5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0D8-F241-42A2-9CBA-02E73AB344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3545-3AD2-4893-ABCA-899712635AB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3344-783B-43F0-B225-E3DED466F39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714240"/>
            <a:ext cx="61722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ФИГУР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УГОЛЬНИКИ РАЗЛИЧАЮТСЯ ПО ТОМУ, РАВНЫ ЛИ ДЛИНЫ ИХ СТОРОН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СТОРОННИЙ (длины всех трех сторон равны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                        РАЗНОСТОРОННИ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лины хотя бы двух                            (все стороны разн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 равны):                                      длины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Равнобедренный треугольник 3"/>
          <p:cNvSpPr/>
          <p:nvPr/>
        </p:nvSpPr>
        <p:spPr>
          <a:xfrm>
            <a:off x="1143000" y="2286000"/>
            <a:ext cx="106056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Равнобедренный треугольник 4"/>
          <p:cNvSpPr/>
          <p:nvPr/>
        </p:nvSpPr>
        <p:spPr>
          <a:xfrm>
            <a:off x="1143000" y="4929120"/>
            <a:ext cx="1060560" cy="15717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10"/>
          <p:cNvSpPr/>
          <p:nvPr/>
        </p:nvSpPr>
        <p:spPr>
          <a:xfrm>
            <a:off x="5286240" y="6500880"/>
            <a:ext cx="2357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3"/>
          <p:cNvSpPr/>
          <p:nvPr/>
        </p:nvSpPr>
        <p:spPr>
          <a:xfrm flipV="1">
            <a:off x="5285520" y="5214960"/>
            <a:ext cx="50004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6"/>
          <p:cNvSpPr/>
          <p:nvPr/>
        </p:nvSpPr>
        <p:spPr>
          <a:xfrm>
            <a:off x="5786280" y="5214960"/>
            <a:ext cx="1857600" cy="128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УГОЛЬНИ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ИК (все углы прямые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(все стороны равны, углы прямые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оугольник 3"/>
          <p:cNvSpPr/>
          <p:nvPr/>
        </p:nvSpPr>
        <p:spPr>
          <a:xfrm>
            <a:off x="1357200" y="2357280"/>
            <a:ext cx="214308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4"/>
          <p:cNvSpPr/>
          <p:nvPr/>
        </p:nvSpPr>
        <p:spPr>
          <a:xfrm>
            <a:off x="1357200" y="4000680"/>
            <a:ext cx="9144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БО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и лини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и отрез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 линия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хугольни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И ЛИН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: точка А, точка 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: кривая, пряма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олилиния 5"/>
          <p:cNvSpPr/>
          <p:nvPr/>
        </p:nvSpPr>
        <p:spPr>
          <a:xfrm>
            <a:off x="1184400" y="3967200"/>
            <a:ext cx="5035320" cy="1374840"/>
          </a:xfrm>
          <a:custGeom>
            <a:avLst/>
            <a:gdLst/>
            <a:ahLst/>
            <a:rect l="l" t="t" r="r" b="b"/>
            <a:pathLst>
              <a:path w="5035640" h="1375892">
                <a:moveTo>
                  <a:pt x="0" y="631065"/>
                </a:moveTo>
                <a:cubicBezTo>
                  <a:pt x="274749" y="315532"/>
                  <a:pt x="549499" y="0"/>
                  <a:pt x="837127" y="51515"/>
                </a:cubicBezTo>
                <a:cubicBezTo>
                  <a:pt x="1124755" y="103030"/>
                  <a:pt x="1390918" y="873617"/>
                  <a:pt x="1725769" y="940158"/>
                </a:cubicBezTo>
                <a:cubicBezTo>
                  <a:pt x="2060620" y="1006699"/>
                  <a:pt x="2434107" y="392806"/>
                  <a:pt x="2846231" y="450761"/>
                </a:cubicBezTo>
                <a:cubicBezTo>
                  <a:pt x="3258355" y="508716"/>
                  <a:pt x="3833612" y="1199882"/>
                  <a:pt x="4198513" y="1287887"/>
                </a:cubicBezTo>
                <a:cubicBezTo>
                  <a:pt x="4563414" y="1375892"/>
                  <a:pt x="5035640" y="978794"/>
                  <a:pt x="5035640" y="978794"/>
                </a:cubicBezTo>
                <a:lnTo>
                  <a:pt x="5035640" y="97879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7"/>
          <p:cNvSpPr/>
          <p:nvPr/>
        </p:nvSpPr>
        <p:spPr>
          <a:xfrm>
            <a:off x="2286000" y="5857920"/>
            <a:ext cx="471492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И ОТРЕЗ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599840"/>
            <a:ext cx="7467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с началом в точке О.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А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ая соединительная линия 11"/>
          <p:cNvSpPr/>
          <p:nvPr/>
        </p:nvSpPr>
        <p:spPr>
          <a:xfrm>
            <a:off x="1000080" y="4143240"/>
            <a:ext cx="3214800" cy="150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6"/>
          <p:cNvSpPr/>
          <p:nvPr/>
        </p:nvSpPr>
        <p:spPr>
          <a:xfrm>
            <a:off x="1571760" y="2643120"/>
            <a:ext cx="27144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 ЛИ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маная линия АВ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А, В, 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ломаной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АВ, В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нья лома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Прямая соединительная линия 7"/>
          <p:cNvSpPr/>
          <p:nvPr/>
        </p:nvSpPr>
        <p:spPr>
          <a:xfrm flipV="1">
            <a:off x="785160" y="3214440"/>
            <a:ext cx="571320" cy="1857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0"/>
          <p:cNvSpPr/>
          <p:nvPr/>
        </p:nvSpPr>
        <p:spPr>
          <a:xfrm>
            <a:off x="1357200" y="321480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2"/>
          <p:cNvSpPr/>
          <p:nvPr/>
        </p:nvSpPr>
        <p:spPr>
          <a:xfrm flipV="1">
            <a:off x="2286000" y="2428920"/>
            <a:ext cx="1000080" cy="1714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599840"/>
            <a:ext cx="418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               Р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               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В – прямо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ВСА – остры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РКТ – туп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Ромб 9"/>
          <p:cNvSpPr/>
          <p:nvPr/>
        </p:nvSpPr>
        <p:spPr>
          <a:xfrm rot="1072200">
            <a:off x="2711520" y="2596680"/>
            <a:ext cx="1276200" cy="198612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22"/>
          <p:cNvSpPr/>
          <p:nvPr/>
        </p:nvSpPr>
        <p:spPr>
          <a:xfrm flipV="1">
            <a:off x="1000080" y="1999800"/>
            <a:ext cx="785880" cy="42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25"/>
          <p:cNvSpPr/>
          <p:nvPr/>
        </p:nvSpPr>
        <p:spPr>
          <a:xfrm>
            <a:off x="1000080" y="2428920"/>
            <a:ext cx="57168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27"/>
          <p:cNvSpPr/>
          <p:nvPr/>
        </p:nvSpPr>
        <p:spPr>
          <a:xfrm>
            <a:off x="1143000" y="5000760"/>
            <a:ext cx="92880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30"/>
          <p:cNvSpPr/>
          <p:nvPr/>
        </p:nvSpPr>
        <p:spPr>
          <a:xfrm>
            <a:off x="1143000" y="5000760"/>
            <a:ext cx="278604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32"/>
          <p:cNvSpPr/>
          <p:nvPr/>
        </p:nvSpPr>
        <p:spPr>
          <a:xfrm>
            <a:off x="2071800" y="6143760"/>
            <a:ext cx="1857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357800" y="157176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а круга –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О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окружности (круг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ОА, ОВ, ОС, 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ы окружности (круг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етр окружности (круга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Овал 4"/>
          <p:cNvSpPr/>
          <p:nvPr/>
        </p:nvSpPr>
        <p:spPr>
          <a:xfrm>
            <a:off x="1000080" y="2571840"/>
            <a:ext cx="2571840" cy="2500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6"/>
          <p:cNvSpPr/>
          <p:nvPr/>
        </p:nvSpPr>
        <p:spPr>
          <a:xfrm>
            <a:off x="1428120" y="2928960"/>
            <a:ext cx="1819080" cy="176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1"/>
          <p:cNvSpPr/>
          <p:nvPr/>
        </p:nvSpPr>
        <p:spPr>
          <a:xfrm flipH="1">
            <a:off x="1571760" y="3786120"/>
            <a:ext cx="714240" cy="10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3"/>
          <p:cNvSpPr/>
          <p:nvPr/>
        </p:nvSpPr>
        <p:spPr>
          <a:xfrm flipV="1">
            <a:off x="2286000" y="3571560"/>
            <a:ext cx="121428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- это вид много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А, В, С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ы тре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АВ, ВС, АС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треугольни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оугольный треугольник 4"/>
          <p:cNvSpPr/>
          <p:nvPr/>
        </p:nvSpPr>
        <p:spPr>
          <a:xfrm>
            <a:off x="928800" y="3071880"/>
            <a:ext cx="2857320" cy="192888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5640" y="214200"/>
            <a:ext cx="61722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5640" y="1571760"/>
            <a:ext cx="6643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видам угло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Й (есть прямой угол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УГОЛЬНЫЙ                    ТУПОУГОЛЬ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се углы острые):                         (есть тупой угол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Прямоугольный треугольник 3"/>
          <p:cNvSpPr/>
          <p:nvPr/>
        </p:nvSpPr>
        <p:spPr>
          <a:xfrm>
            <a:off x="2786040" y="2571840"/>
            <a:ext cx="914400" cy="91440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Равнобедренный треугольник 4"/>
          <p:cNvSpPr/>
          <p:nvPr/>
        </p:nvSpPr>
        <p:spPr>
          <a:xfrm>
            <a:off x="2857680" y="4929120"/>
            <a:ext cx="1060200" cy="14288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6"/>
          <p:cNvSpPr/>
          <p:nvPr/>
        </p:nvSpPr>
        <p:spPr>
          <a:xfrm>
            <a:off x="6072120" y="5214960"/>
            <a:ext cx="9144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8"/>
          <p:cNvSpPr/>
          <p:nvPr/>
        </p:nvSpPr>
        <p:spPr>
          <a:xfrm>
            <a:off x="7000920" y="6143760"/>
            <a:ext cx="17859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1"/>
          <p:cNvSpPr/>
          <p:nvPr/>
        </p:nvSpPr>
        <p:spPr>
          <a:xfrm>
            <a:off x="6072120" y="5214960"/>
            <a:ext cx="2714760" cy="9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11:22Z</dcterms:created>
  <dc:creator>Владелец</dc:creator>
  <dc:description/>
  <dc:language>en-US</dc:language>
  <cp:lastModifiedBy>ASUS</cp:lastModifiedBy>
  <dcterms:modified xsi:type="dcterms:W3CDTF">2023-02-06T16:39:44Z</dcterms:modified>
  <cp:revision>52</cp:revision>
  <dc:subject/>
  <dc:title>ГЕОМЕТРИЧЕСКИЕ ФИГУРЫ</dc:title>
</cp:coreProperties>
</file>