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5F9-E4D5-4DA7-9C7F-2E61A48A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3BC-117E-487C-93D0-0F35C3C5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C0A-BE61-4070-B028-2C8CA5DF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C0E2-96F5-4DD7-AB9D-64D4B012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9233-88A2-4BD7-8101-515A5F8B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8A3F-64D7-4B83-B169-2B903520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3C03-F55D-483F-8674-5202B869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E771-DC8A-4E78-B053-229ABEBC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50F8-CFC6-49C0-829B-A9879EFB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7368-698D-48E3-B838-341584C7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D37D-5A80-4CC5-9164-EA1E5BF2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5F9-35FB-43BC-AE81-B39E2ACE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2D73-2551-468C-9C5B-51AC0B66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6D1F-3F16-4D00-8B3B-ADEE8787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D2DF-091B-4D35-BB65-2144CB6F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3D62-52AB-4882-929B-0A59EE0A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EFC2-1D8B-4028-A5C3-DA560257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A270E-783D-48BB-9F67-C8449207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41AA9-B99C-4E6C-8A34-1C22C6B6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474BC-FD8B-4C21-A072-920995B6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2E9E9-6E25-4D5F-B80E-C269EE59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66646-EE11-4546-9DBF-8A425C17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6ED-5111-48B2-BCED-E7DD03B7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3D1E9-74E3-4ACF-BEFA-DEF58FBE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3AB2D-3F45-48B6-A680-4F79E2D4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C2173-36A3-4342-A1EC-B49F97CC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B4D32-BABF-4D86-AF5C-69F5FF8C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3C525-C281-42C8-8CEC-AF5240A5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E343E-C4A1-440B-B0F6-A67FD6C3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861A8-DFAC-46E0-BDDA-F221FC9C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3B6F-F15C-4459-AA47-59A6087A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781C-4319-4107-85DD-0527A305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AC9C1-B312-42DE-A9A2-9E5C172F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617-C323-46DA-A5DE-8A04CEC7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E0D33-74F4-4591-BB90-E3DE795C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E6F7C-1CC2-4A8D-BE6C-0843F785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AE14A-C3B6-493F-B995-B9EE78BF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3D81A-BEB4-4A66-9941-B5FF41C0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F29E-63E7-442F-9DBF-C9D2F8E7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ECCDD-42EB-4305-B51E-8B0D1817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429A5-F8D2-4F15-B5E9-B3D25BB7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D2BF6-545C-4C0A-9D69-6DDF44FF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0EFC5-5794-4DC6-9AAA-3B30F103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30208-8F4E-4309-AC5C-646DB022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9F1-2954-4A47-831A-91B7DEDE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3A330-A86B-4808-8D8C-6E811621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435F49-540A-4842-BE1C-E7C5B467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3D612-40FE-4691-B2BA-C9B5B7BC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94F6A-D0E2-4933-9987-2A4E7119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E0820-4080-40DD-AE9D-AE39DAD3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1766D-4E44-42A8-87C8-3225BD66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65E40-52C0-4D39-A79C-3869F263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859E7-C982-4DAD-85DA-87321A10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36095-6AC1-4184-B670-1654C721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2C7D9-3EF0-4949-BAEE-790A3A57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187-7C9A-45F3-9CDB-562F154E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C12EA-F58E-4733-B41F-919F65F5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28C5B-BF5B-4051-8671-25127301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D5785-DD13-41FA-B6DC-88924715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8170F-778E-4516-9958-71EAAEBB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C151EE-12C3-492D-BF00-FDC33A27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22E73-BC6A-4C85-80F7-32C459BC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23BDA8-B12D-442F-88F1-0AE5EDD4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E52809-9E72-4CAA-8178-F8999DCD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0E4139-D7D8-47AA-A9B9-D2FC80C3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5D3DF-9751-467C-ADE5-4E7DC6F9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472-31A2-423B-B888-9FB61D6A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6B932E-D356-43F7-98DD-2EF78ABA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668C5-822E-4B4E-AFEA-B1DAD6FF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AEAC8-66E6-43C9-B4EE-F22746C2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3DAAD5-25B8-406E-B818-B8052E98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DFD3AA-3A5A-429B-B123-3202844F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B3784E-CE97-4C4D-8F2F-1CC450A9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B4AC65-3AE7-4C49-AC87-4C3AB360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CCAB0-2F3A-4355-8D43-5AA22FEB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96D709-81DA-44A8-9819-AB4F7F8F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4FF5D-E178-49D0-90E1-E3875E7E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701-BD8F-461A-836E-FCA33F2A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0F6CEA-F9B4-48CB-B297-D7ED6906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745943-95A3-4156-98BA-76C85CB2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B5825-9694-4625-A28E-EDF68329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368D1-9510-4E83-AD3D-9F787782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E60D78-9256-4AFC-B8AA-8376E438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5CE-C287-46E5-B37A-C1402262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1A75-1638-4033-A38F-E0CA17C4FD7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73B1-0FA2-4CC9-BD17-DBAB8BEED82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9CA9-821A-4B4A-A688-9AD3519F9D7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FCBD-4E1C-4909-B99D-2E866D1A668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988E-9871-451B-B9A0-D43585EACE8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05AC-A9C1-461A-91C2-CB9ED5D40B1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45B4-B5BB-4194-89B9-DD302AC882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714240"/>
            <a:ext cx="6172200" cy="31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Е ФИГУРЫ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УГОЛЬНИКИ РАЗЛИЧАЮТСЯ ПО ТОМУ, РАВНЫ ЛИ ДЛИНЫ ИХ СТОРОН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СТОРОННИЙ (длины всех трех сторон равны)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                        РАЗНОСТОРОННИ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ины хотя бы двух                            (все стороны разной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 равны):                                      длины)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Равнобедренный треугольник 3"/>
          <p:cNvSpPr/>
          <p:nvPr/>
        </p:nvSpPr>
        <p:spPr>
          <a:xfrm>
            <a:off x="1143000" y="2286000"/>
            <a:ext cx="106056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Равнобедренный треугольник 4"/>
          <p:cNvSpPr/>
          <p:nvPr/>
        </p:nvSpPr>
        <p:spPr>
          <a:xfrm>
            <a:off x="1143000" y="4929120"/>
            <a:ext cx="1060560" cy="15717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10"/>
          <p:cNvSpPr/>
          <p:nvPr/>
        </p:nvSpPr>
        <p:spPr>
          <a:xfrm>
            <a:off x="5286240" y="6500880"/>
            <a:ext cx="2357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13"/>
          <p:cNvSpPr/>
          <p:nvPr/>
        </p:nvSpPr>
        <p:spPr>
          <a:xfrm flipV="1">
            <a:off x="5285520" y="5214960"/>
            <a:ext cx="50004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6"/>
          <p:cNvSpPr/>
          <p:nvPr/>
        </p:nvSpPr>
        <p:spPr>
          <a:xfrm>
            <a:off x="5786280" y="5214960"/>
            <a:ext cx="185760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ХУГОЛЬНИКИ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 (все углы прямые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 (все стороны равны, углы прямые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Прямоугольник 3"/>
          <p:cNvSpPr/>
          <p:nvPr/>
        </p:nvSpPr>
        <p:spPr>
          <a:xfrm>
            <a:off x="1357200" y="2357280"/>
            <a:ext cx="2143080" cy="91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4"/>
          <p:cNvSpPr/>
          <p:nvPr/>
        </p:nvSpPr>
        <p:spPr>
          <a:xfrm>
            <a:off x="1357200" y="4000680"/>
            <a:ext cx="914400" cy="91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БОТ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и лини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 и отрезк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аная линия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хугольник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И ЛИНИИ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: точка А, точка 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: кривая, пряма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Полилиния 5"/>
          <p:cNvSpPr/>
          <p:nvPr/>
        </p:nvSpPr>
        <p:spPr>
          <a:xfrm>
            <a:off x="1184400" y="3967200"/>
            <a:ext cx="5035320" cy="1374840"/>
          </a:xfrm>
          <a:custGeom>
            <a:avLst/>
            <a:gdLst/>
            <a:ahLst/>
            <a:rect l="l" t="t" r="r" b="b"/>
            <a:pathLst>
              <a:path w="5035640" h="1375892">
                <a:moveTo>
                  <a:pt x="0" y="631065"/>
                </a:moveTo>
                <a:cubicBezTo>
                  <a:pt x="274749" y="315532"/>
                  <a:pt x="549499" y="0"/>
                  <a:pt x="837127" y="51515"/>
                </a:cubicBezTo>
                <a:cubicBezTo>
                  <a:pt x="1124755" y="103030"/>
                  <a:pt x="1390918" y="873617"/>
                  <a:pt x="1725769" y="940158"/>
                </a:cubicBezTo>
                <a:cubicBezTo>
                  <a:pt x="2060620" y="1006699"/>
                  <a:pt x="2434107" y="392806"/>
                  <a:pt x="2846231" y="450761"/>
                </a:cubicBezTo>
                <a:cubicBezTo>
                  <a:pt x="3258355" y="508716"/>
                  <a:pt x="3833612" y="1199882"/>
                  <a:pt x="4198513" y="1287887"/>
                </a:cubicBezTo>
                <a:cubicBezTo>
                  <a:pt x="4563414" y="1375892"/>
                  <a:pt x="5035640" y="978794"/>
                  <a:pt x="5035640" y="978794"/>
                </a:cubicBezTo>
                <a:lnTo>
                  <a:pt x="5035640" y="97879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7"/>
          <p:cNvSpPr/>
          <p:nvPr/>
        </p:nvSpPr>
        <p:spPr>
          <a:xfrm>
            <a:off x="2286000" y="5857920"/>
            <a:ext cx="4714920" cy="42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 И ОТРЕЗКИ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599840"/>
            <a:ext cx="74674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 с началом в точке О.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А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ая соединительная линия 11"/>
          <p:cNvSpPr/>
          <p:nvPr/>
        </p:nvSpPr>
        <p:spPr>
          <a:xfrm>
            <a:off x="1000080" y="4143240"/>
            <a:ext cx="3214800" cy="150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6"/>
          <p:cNvSpPr/>
          <p:nvPr/>
        </p:nvSpPr>
        <p:spPr>
          <a:xfrm>
            <a:off x="1571760" y="2643120"/>
            <a:ext cx="27144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АНАЯ ЛИ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аная линия АВ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А, В, С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ы ломано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ки АВ, ВС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нья ломан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Прямая соединительная линия 7"/>
          <p:cNvSpPr/>
          <p:nvPr/>
        </p:nvSpPr>
        <p:spPr>
          <a:xfrm flipV="1">
            <a:off x="785160" y="3214440"/>
            <a:ext cx="571320" cy="18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0"/>
          <p:cNvSpPr/>
          <p:nvPr/>
        </p:nvSpPr>
        <p:spPr>
          <a:xfrm>
            <a:off x="1357200" y="3214800"/>
            <a:ext cx="9144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2"/>
          <p:cNvSpPr/>
          <p:nvPr/>
        </p:nvSpPr>
        <p:spPr>
          <a:xfrm flipV="1">
            <a:off x="2286000" y="2428920"/>
            <a:ext cx="1000080" cy="171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599840"/>
            <a:ext cx="418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              Р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             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Ы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В – прямо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ВСА – остры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РКТ – тупо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Ромб 9"/>
          <p:cNvSpPr/>
          <p:nvPr/>
        </p:nvSpPr>
        <p:spPr>
          <a:xfrm rot="1072200">
            <a:off x="2711520" y="2596680"/>
            <a:ext cx="1276200" cy="198612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22"/>
          <p:cNvSpPr/>
          <p:nvPr/>
        </p:nvSpPr>
        <p:spPr>
          <a:xfrm flipV="1">
            <a:off x="1000080" y="1999800"/>
            <a:ext cx="785880" cy="42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25"/>
          <p:cNvSpPr/>
          <p:nvPr/>
        </p:nvSpPr>
        <p:spPr>
          <a:xfrm>
            <a:off x="1000080" y="2428920"/>
            <a:ext cx="57168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27"/>
          <p:cNvSpPr/>
          <p:nvPr/>
        </p:nvSpPr>
        <p:spPr>
          <a:xfrm>
            <a:off x="1143000" y="5000760"/>
            <a:ext cx="92880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30"/>
          <p:cNvSpPr/>
          <p:nvPr/>
        </p:nvSpPr>
        <p:spPr>
          <a:xfrm>
            <a:off x="1143000" y="5000760"/>
            <a:ext cx="278604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32"/>
          <p:cNvSpPr/>
          <p:nvPr/>
        </p:nvSpPr>
        <p:spPr>
          <a:xfrm>
            <a:off x="2071800" y="6143760"/>
            <a:ext cx="1857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357800" y="157176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ца круга –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О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окружности (круга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ки ОА, ОВ, ОС, 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ы окружности (круга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етр окружности (круга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Овал 4"/>
          <p:cNvSpPr/>
          <p:nvPr/>
        </p:nvSpPr>
        <p:spPr>
          <a:xfrm>
            <a:off x="1000080" y="2571840"/>
            <a:ext cx="2571840" cy="2500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ая соединительная линия 6"/>
          <p:cNvSpPr/>
          <p:nvPr/>
        </p:nvSpPr>
        <p:spPr>
          <a:xfrm>
            <a:off x="1428120" y="2928960"/>
            <a:ext cx="1819080" cy="176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11"/>
          <p:cNvSpPr/>
          <p:nvPr/>
        </p:nvSpPr>
        <p:spPr>
          <a:xfrm flipH="1">
            <a:off x="1571760" y="3786120"/>
            <a:ext cx="714240" cy="10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3"/>
          <p:cNvSpPr/>
          <p:nvPr/>
        </p:nvSpPr>
        <p:spPr>
          <a:xfrm flipV="1">
            <a:off x="2286000" y="3571560"/>
            <a:ext cx="121428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- это вид многоуголь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А, В, С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ы треуголь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ки АВ, ВС, АС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ы треуголь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Прямоугольный треугольник 4"/>
          <p:cNvSpPr/>
          <p:nvPr/>
        </p:nvSpPr>
        <p:spPr>
          <a:xfrm>
            <a:off x="928800" y="3071880"/>
            <a:ext cx="2857320" cy="192888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5640" y="214200"/>
            <a:ext cx="61722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ЕУГОЛЬНИКОВ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285640" y="1571760"/>
            <a:ext cx="6643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видам углов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ЫЙ (есть прямой угол)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УГОЛЬНЫЙ                    ТУПОУГОЛЬНЫ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се углы острые):                         (есть тупой угол)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Прямоугольный треугольник 3"/>
          <p:cNvSpPr/>
          <p:nvPr/>
        </p:nvSpPr>
        <p:spPr>
          <a:xfrm>
            <a:off x="2786040" y="2571840"/>
            <a:ext cx="914400" cy="91440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Равнобедренный треугольник 4"/>
          <p:cNvSpPr/>
          <p:nvPr/>
        </p:nvSpPr>
        <p:spPr>
          <a:xfrm>
            <a:off x="2857680" y="4929120"/>
            <a:ext cx="1060200" cy="1428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6"/>
          <p:cNvSpPr/>
          <p:nvPr/>
        </p:nvSpPr>
        <p:spPr>
          <a:xfrm>
            <a:off x="6072120" y="5214960"/>
            <a:ext cx="9144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8"/>
          <p:cNvSpPr/>
          <p:nvPr/>
        </p:nvSpPr>
        <p:spPr>
          <a:xfrm>
            <a:off x="7000920" y="6143760"/>
            <a:ext cx="178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11"/>
          <p:cNvSpPr/>
          <p:nvPr/>
        </p:nvSpPr>
        <p:spPr>
          <a:xfrm>
            <a:off x="6072120" y="5214960"/>
            <a:ext cx="2714760" cy="9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7:11:22Z</dcterms:created>
  <dc:creator>Владелец</dc:creator>
  <dc:description/>
  <dc:language>en-US</dc:language>
  <cp:lastModifiedBy>ASUS</cp:lastModifiedBy>
  <dcterms:modified xsi:type="dcterms:W3CDTF">2023-02-06T16:39:44Z</dcterms:modified>
  <cp:revision>52</cp:revision>
  <dc:subject/>
  <dc:title>ГЕОМЕТРИЧЕСКИЕ ФИГУРЫ</dc:title>
</cp:coreProperties>
</file>