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319-13DE-4F42-8E87-D1B2A498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8F08-9185-4FEC-9592-5C73A498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0941-8254-4593-9047-884DD1B2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2DD-9D8A-4D7B-A406-13F44090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9297-C53A-4322-8AA6-1DAE6629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B653-69DD-44D3-9939-27165220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81B5-79C9-46FD-96BB-0FF12513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C530-846E-4626-A183-D6747EE0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29DD-DF1A-4765-BD8D-2F14C88D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A561-C9CD-4BC8-AE9B-C6F9512E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1897-A828-4259-80FF-0500412C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1B66-D83D-4800-8EF6-A92E5FCD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1FB7-D03A-4AEF-A45C-5AE23E28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6EF6-D0DC-41D5-A287-BE00B323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3B7B-698D-4CA2-967F-68701A52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5E33-6E85-41BE-B2C7-C4FD4AAB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1911-9AEE-4B46-9385-C4C5A89A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47BF-8C9B-4654-AF50-4B0C367B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719-58DB-45AB-9CEC-66BCAD0A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5D9-D88E-4E55-A410-DE234954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6DC-9E73-45AA-915E-53852764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ADB-455A-4698-BA02-DD9C1DB3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C8A-DF12-4482-A153-2891D9FE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656-A051-4608-95A2-4D37CDC1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E86F-8A2F-493F-961B-3FCC137875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963A-C198-4C76-BEA9-B60CBBC857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читель МОУ «Детгородковская СОШ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Столярова С.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192640" y="404640"/>
            <a:ext cx="4590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826920" y="476280"/>
            <a:ext cx="6624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едмет: Алгеб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Класс: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Раздел: «Квадратные уравнени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Тема: «Решение квадратных уравнений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1108440" y="368280"/>
            <a:ext cx="415584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3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+8х-3=0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=64 – 4*3*(-3)=64+36=100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,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2050920" y="1844640"/>
                <a:ext cx="20876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Rectangle 6"/>
          <p:cNvSpPr/>
          <p:nvPr/>
        </p:nvSpPr>
        <p:spPr>
          <a:xfrm>
            <a:off x="1327320" y="2764440"/>
            <a:ext cx="5266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1908000" y="2708280"/>
                <a:ext cx="2476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Rectangle 7"/>
          <p:cNvSpPr/>
          <p:nvPr/>
        </p:nvSpPr>
        <p:spPr>
          <a:xfrm>
            <a:off x="2651040" y="2797200"/>
            <a:ext cx="142884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;  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= -3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Ответ:   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3786120" y="3500280"/>
                <a:ext cx="2494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Rectangle 8"/>
          <p:cNvSpPr/>
          <p:nvPr/>
        </p:nvSpPr>
        <p:spPr>
          <a:xfrm>
            <a:off x="4071960" y="3758040"/>
            <a:ext cx="14400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;  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=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900000" y="53737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i="1" lang="ru-RU" sz="1800" spc="-1" strike="noStrike" u="sng">
                <a:solidFill>
                  <a:srgbClr val="000099"/>
                </a:solidFill>
                <a:uFillTx/>
                <a:latin typeface="Tahoma"/>
              </a:rPr>
              <a:t>Кто попал в «десятку», т.е. получил верный ответ, поставьте в таблице 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Tahoma"/>
              </a:rPr>
              <a:t>10 баллов</a:t>
            </a:r>
            <a:r>
              <a:rPr b="0" i="1" lang="ru-RU" sz="1800" spc="-1" strike="noStrike" u="sng">
                <a:solidFill>
                  <a:srgbClr val="000099"/>
                </a:solidFill>
                <a:uFillTx/>
                <a:latin typeface="Tahoma"/>
              </a:rPr>
              <a:t>. Остальные, кто «не попал» - 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Tahoma"/>
              </a:rPr>
              <a:t>0 балл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Tahoma"/>
              </a:rPr>
              <a:t>Физкультминутк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142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Какой вид спорта требует от спортсмена не только быстроты и ловкости ног, но и зоркости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2643120" y="28576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(Биатлон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5857920" y="3286080"/>
            <a:ext cx="3017880" cy="34322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116000" y="404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Tahoma"/>
              </a:rPr>
              <a:t>Выберете в таблице приведенные квадратные уравнения и решите и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00000" y="1844640"/>
          <a:ext cx="8244000" cy="2176560"/>
        </p:xfrm>
        <a:graphic>
          <a:graphicData uri="http://schemas.openxmlformats.org/drawingml/2006/table">
            <a:tbl>
              <a:tblPr/>
              <a:tblGrid>
                <a:gridCol w="2664000"/>
                <a:gridCol w="2736720"/>
                <a:gridCol w="284328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4х + 3 = 0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4;        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3;        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3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твет: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1, 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1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+ 11х + 30 = 0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-11;        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30;        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-6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твет: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5, 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3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+ 7х + 10 = 0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-7;        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10;        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-5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твет: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-2,  х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4"/>
          <p:cNvSpPr/>
          <p:nvPr/>
        </p:nvSpPr>
        <p:spPr>
          <a:xfrm>
            <a:off x="0" y="402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1116000" y="4581360"/>
            <a:ext cx="770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e93c9"/>
                </a:solidFill>
                <a:latin typeface="Tahoma"/>
              </a:rPr>
              <a:t>Кто решил первым – </a:t>
            </a:r>
            <a:r>
              <a:rPr b="1" i="1" lang="ru-RU" sz="1800" spc="-1" strike="noStrike" u="sng">
                <a:solidFill>
                  <a:srgbClr val="5e93c9"/>
                </a:solidFill>
                <a:uFillTx/>
                <a:latin typeface="Tahoma"/>
              </a:rPr>
              <a:t>10 баллов</a:t>
            </a:r>
            <a:r>
              <a:rPr b="1" i="1" lang="ru-RU" sz="1800" spc="-1" strike="noStrike">
                <a:solidFill>
                  <a:srgbClr val="5e93c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e93c9"/>
                </a:solidFill>
                <a:latin typeface="Tahoma"/>
              </a:rPr>
              <a:t>Кто решил не первым, но верно – </a:t>
            </a:r>
            <a:r>
              <a:rPr b="1" i="1" lang="ru-RU" sz="1800" spc="-1" strike="noStrike" u="sng">
                <a:solidFill>
                  <a:srgbClr val="5e93c9"/>
                </a:solidFill>
                <a:uFillTx/>
                <a:latin typeface="Tahoma"/>
              </a:rPr>
              <a:t>8 баллов</a:t>
            </a:r>
            <a:r>
              <a:rPr b="1" i="1" lang="ru-RU" sz="1800" spc="-1" strike="noStrike">
                <a:solidFill>
                  <a:srgbClr val="5e93c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e93c9"/>
                </a:solidFill>
                <a:latin typeface="Tahoma"/>
              </a:rPr>
              <a:t>Если решено не верно – </a:t>
            </a:r>
            <a:r>
              <a:rPr b="1" i="1" lang="ru-RU" sz="1800" spc="-1" strike="noStrike" u="sng">
                <a:solidFill>
                  <a:srgbClr val="5e93c9"/>
                </a:solidFill>
                <a:uFillTx/>
                <a:latin typeface="Tahoma"/>
              </a:rPr>
              <a:t>0 баллов</a:t>
            </a:r>
            <a:r>
              <a:rPr b="1" i="1" lang="ru-RU" sz="1800" spc="-1" strike="noStrike">
                <a:solidFill>
                  <a:srgbClr val="5e93c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l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Tahoma"/>
              </a:rPr>
              <a:t>Решите уравнения 2-я способам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2" name="Rectangle 1088"/>
          <p:cNvSpPr/>
          <p:nvPr/>
        </p:nvSpPr>
        <p:spPr>
          <a:xfrm>
            <a:off x="395280" y="4686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103"/>
          <p:cNvSpPr/>
          <p:nvPr/>
        </p:nvSpPr>
        <p:spPr>
          <a:xfrm>
            <a:off x="1190520" y="4365720"/>
            <a:ext cx="142416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2 способ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=121-4*(-42)=28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х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,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096"/>
              <p:cNvSpPr txBox="1"/>
              <p:nvPr/>
            </p:nvSpPr>
            <p:spPr>
              <a:xfrm>
                <a:off x="1692360" y="5013360"/>
                <a:ext cx="12286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Rectangle 1105"/>
          <p:cNvSpPr/>
          <p:nvPr/>
        </p:nvSpPr>
        <p:spPr>
          <a:xfrm>
            <a:off x="3567240" y="4365720"/>
            <a:ext cx="159516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2 способ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=1-4*(-12)=1+48=4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х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,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095"/>
              <p:cNvSpPr txBox="1"/>
              <p:nvPr/>
            </p:nvSpPr>
            <p:spPr>
              <a:xfrm>
                <a:off x="4067280" y="5013360"/>
                <a:ext cx="1209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Rectangle 1107"/>
          <p:cNvSpPr/>
          <p:nvPr/>
        </p:nvSpPr>
        <p:spPr>
          <a:xfrm>
            <a:off x="5913000" y="4365720"/>
            <a:ext cx="1121040" cy="9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2 способ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=100-4*9=6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х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,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094"/>
              <p:cNvSpPr txBox="1"/>
              <p:nvPr/>
            </p:nvSpPr>
            <p:spPr>
              <a:xfrm>
                <a:off x="6372360" y="5013360"/>
                <a:ext cx="1180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±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69" name=""/>
          <p:cNvGraphicFramePr/>
          <p:nvPr/>
        </p:nvGraphicFramePr>
        <p:xfrm>
          <a:off x="1187280" y="1557360"/>
          <a:ext cx="6985080" cy="4389480"/>
        </p:xfrm>
        <a:graphic>
          <a:graphicData uri="http://schemas.openxmlformats.org/drawingml/2006/table">
            <a:tbl>
              <a:tblPr/>
              <a:tblGrid>
                <a:gridCol w="2329200"/>
                <a:gridCol w="2327040"/>
                <a:gridCol w="2328840"/>
              </a:tblGrid>
              <a:tr h="731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9070d"/>
                          </a:solidFill>
                          <a:latin typeface="Times New Roman"/>
                          <a:ea typeface="SimSun"/>
                        </a:rPr>
                        <a:t>1 группа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11х-42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9070d"/>
                          </a:solidFill>
                          <a:latin typeface="Times New Roman"/>
                          <a:ea typeface="SimSun"/>
                        </a:rPr>
                        <a:t>2 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х-12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9070d"/>
                          </a:solidFill>
                          <a:latin typeface="Times New Roman"/>
                          <a:ea typeface="SimSun"/>
                        </a:rPr>
                        <a:t>3 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10х+9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спосо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=121-4*(-42)=2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11      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-42     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твет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14,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спосо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=1-4*(-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)=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+48=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-1      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-12     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твет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-4,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спосо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100-4*9=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10      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9     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твет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1,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14,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твет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14,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-4,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твет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-4,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1,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твет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1,   х</a:t>
                      </a:r>
                      <a:r>
                        <a:rPr b="0" lang="ru-RU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4"/>
          <p:cNvSpPr/>
          <p:nvPr/>
        </p:nvSpPr>
        <p:spPr>
          <a:xfrm>
            <a:off x="971640" y="260280"/>
            <a:ext cx="6697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ahoma"/>
              </a:rPr>
              <a:t>Вот последнее состязан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ahoma"/>
              </a:rPr>
              <a:t>Здесь пройдете испыта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ahoma"/>
              </a:rPr>
              <a:t>Три препятствия всег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Tahoma"/>
              </a:rPr>
              <a:t>Будет здесь для вас дан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1025"/>
          <p:cNvSpPr/>
          <p:nvPr/>
        </p:nvSpPr>
        <p:spPr>
          <a:xfrm>
            <a:off x="971640" y="1916280"/>
            <a:ext cx="6624720" cy="28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9070d"/>
                </a:solidFill>
                <a:uFillTx/>
                <a:latin typeface="Tahoma"/>
              </a:rPr>
              <a:t>Первое препятств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з оставшихся уравнений найти и решить неполное квадратное уравнение, у которого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=0, с=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5x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х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ahoma"/>
              </a:rPr>
              <a:t>1,2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Ответ: х =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10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026"/>
              <p:cNvSpPr txBox="1"/>
              <p:nvPr/>
            </p:nvSpPr>
            <p:spPr>
              <a:xfrm>
                <a:off x="4653000" y="3429000"/>
                <a:ext cx="5554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4" name="Rectangle 1028"/>
          <p:cNvSpPr/>
          <p:nvPr/>
        </p:nvSpPr>
        <p:spPr>
          <a:xfrm>
            <a:off x="900000" y="4294080"/>
            <a:ext cx="64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9070d"/>
                </a:solidFill>
                <a:uFillTx/>
                <a:latin typeface="Tahoma"/>
              </a:rPr>
              <a:t>Второе препятств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ти и решить неполное квадратное уравнение, у которого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=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- x =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х*(3х-1)=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х1=0        3х-1=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3х=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х2= 1/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Ответ: х1=0, х2= 1/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025"/>
          <p:cNvSpPr/>
          <p:nvPr/>
        </p:nvSpPr>
        <p:spPr>
          <a:xfrm>
            <a:off x="900000" y="333360"/>
            <a:ext cx="777744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9070d"/>
                </a:solidFill>
                <a:uFillTx/>
                <a:latin typeface="Tahoma"/>
              </a:rPr>
              <a:t>Третье препятств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ить неполное квадратное уравнение, у которого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=0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– 25 =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=2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ahoma"/>
              </a:rPr>
              <a:t>1,2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ahoma"/>
              </a:rPr>
              <a:t>1,2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Ответ: Х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ahoma"/>
              </a:rPr>
              <a:t>1,2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10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026"/>
              <p:cNvSpPr txBox="1"/>
              <p:nvPr/>
            </p:nvSpPr>
            <p:spPr>
              <a:xfrm>
                <a:off x="5292720" y="1582560"/>
                <a:ext cx="647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8" name="Rectangle 10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028"/>
              <p:cNvSpPr txBox="1"/>
              <p:nvPr/>
            </p:nvSpPr>
            <p:spPr>
              <a:xfrm>
                <a:off x="5292720" y="1900080"/>
                <a:ext cx="43164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030"/>
              <p:cNvSpPr txBox="1"/>
              <p:nvPr/>
            </p:nvSpPr>
            <p:spPr>
              <a:xfrm>
                <a:off x="5724360" y="2421000"/>
                <a:ext cx="432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Text Box 1032"/>
          <p:cNvSpPr/>
          <p:nvPr/>
        </p:nvSpPr>
        <p:spPr>
          <a:xfrm>
            <a:off x="1116000" y="3500280"/>
            <a:ext cx="6985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Все ответы верны – 10 балл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2 верных ответа – 5 баллов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Остальные – 0 балл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Tahoma"/>
              </a:rPr>
              <a:t>Финиш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50 – 48 – «5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47 – 45 – «4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44 – 30 – «3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9070d"/>
                </a:solidFill>
                <a:latin typeface="Tahoma"/>
              </a:rPr>
              <a:t>Спасибо за урок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5072040" y="3000240"/>
            <a:ext cx="3857760" cy="1928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Tahoma"/>
              </a:rPr>
              <a:t>Цели работы: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ормирование культуры труда, посредством выполнения грамотной и аккуратной записи уравнения. Развитие умения оценивать свою работ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крепление навыков применения формул при решении квадратных уравне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спитание культуры общения в групповой работ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429240" y="3214800"/>
            <a:ext cx="2571840" cy="1815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Tahoma"/>
              </a:rPr>
              <a:t>Задачи работы: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Для учител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вести до автоматизма умения применять формулы при решении квадратных уравне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Для обучающих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вторить формулы решения квадратных уравнен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валифицировать виды квадратных уравнений и способы их решен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6759720" y="4000680"/>
            <a:ext cx="2233440" cy="28573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Tahoma"/>
              </a:rPr>
              <a:t>Планируемый результат: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Умение решать квадратные уравнения двумя способами (через дискриминант и по теореме Виета), применять полученные знания при решении квадратных неравенств, при построении квадратичных функций, в дальнейшем при изучении физики, химии и при сдаче ГИА и ЕГЭ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94520" y="4000680"/>
            <a:ext cx="1946160" cy="2857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Tahoma"/>
              </a:rPr>
              <a:t>Тема: «Решение квадратных уравнений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771048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одолжить предлож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вадратное уравнение это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лное квадратное уравнение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ведённое квадратное уравнение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шить уравнение – значить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рень уравнения – это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  Неполное квадратное уравнение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0"/>
          <p:cNvSpPr/>
          <p:nvPr/>
        </p:nvSpPr>
        <p:spPr>
          <a:xfrm>
            <a:off x="1042920" y="333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0" y="-254160"/>
            <a:ext cx="1012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2"/>
              <p:cNvSpPr txBox="1"/>
              <p:nvPr/>
            </p:nvSpPr>
            <p:spPr>
              <a:xfrm>
                <a:off x="0" y="-25416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Rectangle 559"/>
          <p:cNvSpPr/>
          <p:nvPr/>
        </p:nvSpPr>
        <p:spPr>
          <a:xfrm>
            <a:off x="0" y="711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564"/>
          <p:cNvSpPr/>
          <p:nvPr/>
        </p:nvSpPr>
        <p:spPr>
          <a:xfrm>
            <a:off x="0" y="-254160"/>
            <a:ext cx="914400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575"/>
          <p:cNvSpPr/>
          <p:nvPr/>
        </p:nvSpPr>
        <p:spPr>
          <a:xfrm>
            <a:off x="0" y="-254160"/>
            <a:ext cx="1012680" cy="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563"/>
              <p:cNvSpPr txBox="1"/>
              <p:nvPr/>
            </p:nvSpPr>
            <p:spPr>
              <a:xfrm>
                <a:off x="0" y="-25416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30" name=""/>
          <p:cNvGraphicFramePr/>
          <p:nvPr/>
        </p:nvGraphicFramePr>
        <p:xfrm>
          <a:off x="-181080" y="1052640"/>
          <a:ext cx="9325080" cy="5805360"/>
        </p:xfrm>
        <a:graphic>
          <a:graphicData uri="http://schemas.openxmlformats.org/drawingml/2006/table">
            <a:tbl>
              <a:tblPr/>
              <a:tblGrid>
                <a:gridCol w="1063800"/>
                <a:gridCol w="1249200"/>
                <a:gridCol w="1174680"/>
                <a:gridCol w="1468440"/>
                <a:gridCol w="2203560"/>
                <a:gridCol w="2165400"/>
              </a:tblGrid>
              <a:tr h="877680"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Урав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орни уравн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800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x</a:t>
                      </a:r>
                      <a:r>
                        <a:rPr b="1" i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x 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94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x</a:t>
                      </a:r>
                      <a:r>
                        <a:rPr b="1" i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– 25 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94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x</a:t>
                      </a:r>
                      <a:r>
                        <a:rPr b="1" i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7x+10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94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x</a:t>
                      </a:r>
                      <a:r>
                        <a:rPr b="1" i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908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800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x</a:t>
                      </a:r>
                      <a:r>
                        <a:rPr b="1" i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5x+6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94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x</a:t>
                      </a:r>
                      <a:r>
                        <a:rPr b="1" i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4x+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94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x</a:t>
                      </a:r>
                      <a:r>
                        <a:rPr b="1" i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4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94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94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76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94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  <a:tr h="379440"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ae4"/>
                    </a:solidFill>
                  </a:tcPr>
                </a:tc>
              </a:tr>
            </a:tbl>
          </a:graphicData>
        </a:graphic>
      </p:graphicFrame>
      <p:sp>
        <p:nvSpPr>
          <p:cNvPr id="131" name="Rectangle 97"/>
          <p:cNvSpPr/>
          <p:nvPr/>
        </p:nvSpPr>
        <p:spPr>
          <a:xfrm>
            <a:off x="0" y="711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900000" y="333360"/>
            <a:ext cx="79930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Кто выполнит задание первым – получает 10 балл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Кто выполнит вторым – получает 8 балл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Кто заполнит третьим – получает 5 балло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Tahoma"/>
              </a:rPr>
              <a:t>Все остальные, выполнившие правильно – получают 2 балла, а у кого есть ошибки – 1 бал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се свои баллы занесите в таблиц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00000" y="3970440"/>
          <a:ext cx="8244000" cy="1371600"/>
        </p:xfrm>
        <a:graphic>
          <a:graphicData uri="http://schemas.openxmlformats.org/drawingml/2006/table">
            <a:tbl>
              <a:tblPr/>
              <a:tblGrid>
                <a:gridCol w="1656000"/>
                <a:gridCol w="1231920"/>
                <a:gridCol w="1339560"/>
                <a:gridCol w="1338480"/>
                <a:gridCol w="1339920"/>
                <a:gridCol w="13381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ал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Rectangle 78"/>
          <p:cNvSpPr/>
          <p:nvPr/>
        </p:nvSpPr>
        <p:spPr>
          <a:xfrm>
            <a:off x="0" y="39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971640" y="404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ahoma"/>
              </a:rPr>
              <a:t>«Стрельба по мишени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900000" y="1047600"/>
            <a:ext cx="8244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Решение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2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-х-3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- 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= 1- 4*2*(-3) = 25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&gt;0;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т.е. уравнение имеет 2 решени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,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1692360" y="2935440"/>
                <a:ext cx="1584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Rectangle 8"/>
          <p:cNvSpPr/>
          <p:nvPr/>
        </p:nvSpPr>
        <p:spPr>
          <a:xfrm>
            <a:off x="1417680" y="3718440"/>
            <a:ext cx="2500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Ответ: 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=1,  х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= -1,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900000" y="4173840"/>
            <a:ext cx="8244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х2-5х+6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25 - 4*7*6=25-168=-143;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;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действительных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ней не имее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решений не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907920" y="190080"/>
            <a:ext cx="8236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№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8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Решение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х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-12х+4=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-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c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=144 - 4*9*4=144-144=0;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=0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значит уравнение имеет одно решение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Х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3"/>
              <p:cNvSpPr txBox="1"/>
              <p:nvPr/>
            </p:nvSpPr>
            <p:spPr>
              <a:xfrm>
                <a:off x="1619280" y="3500280"/>
                <a:ext cx="1224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Rectangle 5"/>
          <p:cNvSpPr/>
          <p:nvPr/>
        </p:nvSpPr>
        <p:spPr>
          <a:xfrm>
            <a:off x="1170360" y="429192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Ответ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х =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2286000" y="4143240"/>
                <a:ext cx="2365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Text Box 7"/>
          <p:cNvSpPr/>
          <p:nvPr/>
        </p:nvSpPr>
        <p:spPr>
          <a:xfrm>
            <a:off x="971640" y="530064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08:28:19Z</dcterms:created>
  <dc:creator>людмила</dc:creator>
  <dc:description/>
  <dc:language>en-US</dc:language>
  <cp:lastModifiedBy>User</cp:lastModifiedBy>
  <dcterms:modified xsi:type="dcterms:W3CDTF">2023-02-06T15:17:18Z</dcterms:modified>
  <cp:revision>15</cp:revision>
  <dc:subject/>
  <dc:title>Слайд 1</dc:title>
</cp:coreProperties>
</file>