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5D6-F49B-427E-B458-ED87550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D44-7C54-4961-868E-E66050E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A88-CA28-4E34-B683-2F830838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2F3-A41E-44AD-8BCA-FDB3F9A5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E75D-A918-4C87-85A1-31D5B423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E78-EA6D-421F-85CD-7DD3D7F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97C-705F-4180-8837-7FD7F40B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EE7-D144-4EBE-A117-01FE3471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409-40DB-4646-9283-118EAD5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BB4-6EDE-4F04-B5A8-CD845246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27B2-6536-4278-B0B7-190BF55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42D-E4C0-44B1-B68D-5B3B3C7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7DD1-CD87-4EDE-B0A2-1B2651C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AC0-41AD-4529-B9AD-97E55A3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51B-F595-4537-8E03-E04D298C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8F3-D854-401A-9FD6-B7994C8C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FF02-69AA-4489-9E8E-DB9B139E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BA7-1AE2-4EE5-9994-2BECA127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C6B-9C60-4E35-9A0B-D8102E1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913-9A2E-403B-A607-9A8EB9D7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A6D-67A1-4D7E-B375-9F8D47D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372-5387-45A6-867C-B4B70F6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D67-11A9-40CF-9903-82BEAF29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782-E7E6-4DE1-8DE4-0907F5B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DAF-AA79-4E90-8083-63D00425BE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FC3-4E15-4537-9F2F-83316D73FE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читель МОУ «Детгородков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толярова С.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192640" y="404640"/>
            <a:ext cx="459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476280"/>
            <a:ext cx="66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едмет: Алгеб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ласс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здел: «Квадратные уравн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ма: «Решение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108440" y="368280"/>
            <a:ext cx="41558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+8х-3=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64 – 4*3*(-3)=64+36=100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050920" y="1844640"/>
                <a:ext cx="2087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6"/>
          <p:cNvSpPr/>
          <p:nvPr/>
        </p:nvSpPr>
        <p:spPr>
          <a:xfrm>
            <a:off x="1327320" y="2764440"/>
            <a:ext cx="526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908000" y="2708280"/>
                <a:ext cx="247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2651040" y="2797200"/>
            <a:ext cx="14288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;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3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 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786120" y="3500280"/>
                <a:ext cx="2494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4071960" y="3758040"/>
            <a:ext cx="1440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;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00000" y="537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Кто попал в «десятку», т.е. получил верный ответ, поставьте в таблице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10 баллов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. Остальные, кто «не попал» -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0 балл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Физкультминут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кой вид спорта требует от спортсмена не только быстроты и ловкости ног, но и зоркост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643120" y="2857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Биатло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857920" y="3286080"/>
            <a:ext cx="3017880" cy="3432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1600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ыберете в таблице приведенные квадратные уравнения и решите 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1844640"/>
          <a:ext cx="8244000" cy="2176560"/>
        </p:xfrm>
        <a:graphic>
          <a:graphicData uri="http://schemas.openxmlformats.org/drawingml/2006/table">
            <a:tbl>
              <a:tblPr/>
              <a:tblGrid>
                <a:gridCol w="2664000"/>
                <a:gridCol w="2736720"/>
                <a:gridCol w="28432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4х + 3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4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3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1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+ 11х + 30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11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0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6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5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+ 7х + 10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7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0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5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2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4"/>
          <p:cNvSpPr/>
          <p:nvPr/>
        </p:nvSpPr>
        <p:spPr>
          <a:xfrm>
            <a:off x="0" y="40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116000" y="4581360"/>
            <a:ext cx="77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Кто решил первым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10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Кто решил не первым, но верно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8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Если решено не верно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0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ahoma"/>
              </a:rPr>
              <a:t>Решите уравнения 2-я способ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Rectangle 1088"/>
          <p:cNvSpPr/>
          <p:nvPr/>
        </p:nvSpPr>
        <p:spPr>
          <a:xfrm>
            <a:off x="39528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103"/>
          <p:cNvSpPr/>
          <p:nvPr/>
        </p:nvSpPr>
        <p:spPr>
          <a:xfrm>
            <a:off x="1190520" y="4365720"/>
            <a:ext cx="142416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=121-4*(-42)=2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096"/>
              <p:cNvSpPr txBox="1"/>
              <p:nvPr/>
            </p:nvSpPr>
            <p:spPr>
              <a:xfrm>
                <a:off x="1692360" y="5013360"/>
                <a:ext cx="1228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Rectangle 1105"/>
          <p:cNvSpPr/>
          <p:nvPr/>
        </p:nvSpPr>
        <p:spPr>
          <a:xfrm>
            <a:off x="3567240" y="4365720"/>
            <a:ext cx="159516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1-4*(-12)=1+48=4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95"/>
              <p:cNvSpPr txBox="1"/>
              <p:nvPr/>
            </p:nvSpPr>
            <p:spPr>
              <a:xfrm>
                <a:off x="4067280" y="5013360"/>
                <a:ext cx="1209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1107"/>
          <p:cNvSpPr/>
          <p:nvPr/>
        </p:nvSpPr>
        <p:spPr>
          <a:xfrm>
            <a:off x="5913000" y="4365720"/>
            <a:ext cx="11210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100-4*9=6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94"/>
              <p:cNvSpPr txBox="1"/>
              <p:nvPr/>
            </p:nvSpPr>
            <p:spPr>
              <a:xfrm>
                <a:off x="6372360" y="5013360"/>
                <a:ext cx="1180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9" name=""/>
          <p:cNvGraphicFramePr/>
          <p:nvPr/>
        </p:nvGraphicFramePr>
        <p:xfrm>
          <a:off x="1187280" y="1557360"/>
          <a:ext cx="6985080" cy="4389480"/>
        </p:xfrm>
        <a:graphic>
          <a:graphicData uri="http://schemas.openxmlformats.org/drawingml/2006/table">
            <a:tbl>
              <a:tblPr/>
              <a:tblGrid>
                <a:gridCol w="2329200"/>
                <a:gridCol w="2327040"/>
                <a:gridCol w="2328840"/>
              </a:tblGrid>
              <a:tr h="73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1 групп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1х-4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2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-1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3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0х+9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=121-4*(-42)=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1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2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=1-4*(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)=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+48=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1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12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00-4*9=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0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9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4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4"/>
          <p:cNvSpPr/>
          <p:nvPr/>
        </p:nvSpPr>
        <p:spPr>
          <a:xfrm>
            <a:off x="971640" y="260280"/>
            <a:ext cx="669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Вот последнее состяз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Здесь пройдете испыт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Три препятствия всег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Будет здесь для вас да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025"/>
          <p:cNvSpPr/>
          <p:nvPr/>
        </p:nvSpPr>
        <p:spPr>
          <a:xfrm>
            <a:off x="971640" y="1916280"/>
            <a:ext cx="662472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Перво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оставшихся уравнений найти и 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=0, с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х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26"/>
              <p:cNvSpPr txBox="1"/>
              <p:nvPr/>
            </p:nvSpPr>
            <p:spPr>
              <a:xfrm>
                <a:off x="4653000" y="3429000"/>
                <a:ext cx="5554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Rectangle 1028"/>
          <p:cNvSpPr/>
          <p:nvPr/>
        </p:nvSpPr>
        <p:spPr>
          <a:xfrm>
            <a:off x="900000" y="4294080"/>
            <a:ext cx="64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Второ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и 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- x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*(3х-1)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1=0        3х-1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х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2= 1/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1=0, х2= 1/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5"/>
          <p:cNvSpPr/>
          <p:nvPr/>
        </p:nvSpPr>
        <p:spPr>
          <a:xfrm>
            <a:off x="900000" y="333360"/>
            <a:ext cx="777744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Треть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=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– 25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26"/>
              <p:cNvSpPr txBox="1"/>
              <p:nvPr/>
            </p:nvSpPr>
            <p:spPr>
              <a:xfrm>
                <a:off x="5292720" y="1582560"/>
                <a:ext cx="647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8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28"/>
              <p:cNvSpPr txBox="1"/>
              <p:nvPr/>
            </p:nvSpPr>
            <p:spPr>
              <a:xfrm>
                <a:off x="5292720" y="1900080"/>
                <a:ext cx="43164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30"/>
              <p:cNvSpPr txBox="1"/>
              <p:nvPr/>
            </p:nvSpPr>
            <p:spPr>
              <a:xfrm>
                <a:off x="5724360" y="2421000"/>
                <a:ext cx="432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1032"/>
          <p:cNvSpPr/>
          <p:nvPr/>
        </p:nvSpPr>
        <p:spPr>
          <a:xfrm>
            <a:off x="1116000" y="3500280"/>
            <a:ext cx="69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Все ответы верны – 10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2 верных ответа – 5 балл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Остальные – 0 балл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Финиш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0 – 48 – «5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7 – 45 – «4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4 – 30 – «3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070d"/>
                </a:solidFill>
                <a:latin typeface="Tahoma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072040" y="3000240"/>
            <a:ext cx="385776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Цели работ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культуры труда, посредством выполнения грамотной и аккуратной записи уравнения. Развитие умения оценивать свою рабо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репление навыков применения формул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ние культуры общения в групповой рабо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571840" cy="1815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Задачи работ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учител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вести до автоматизма умения применять формулы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обучающих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торить формулы решения квадратных уравн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лифицировать виды квадратных уравнений и способы их реш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759720" y="4000680"/>
            <a:ext cx="223344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Планируемый результат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мение решать квадратные уравнения двумя способами (через дискриминант и по теореме Виета), применять полученные знания при решении квадратных неравенств, при построении квадратичных функций, в дальнейшем при изучении физики, химии и при сдаче ГИА и ЕГЭ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94520" y="4000680"/>
            <a:ext cx="194616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Тема: «Решение квадратных уравнений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1048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одолжить предлож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ное уравнение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едён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ить уравнение – значить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рень уравнения –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 Неполное квадратное уравнени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0"/>
          <p:cNvSpPr/>
          <p:nvPr/>
        </p:nvSpPr>
        <p:spPr>
          <a:xfrm>
            <a:off x="104292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-25416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0" y="-2541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Rectangle 559"/>
          <p:cNvSpPr/>
          <p:nvPr/>
        </p:nvSpPr>
        <p:spPr>
          <a:xfrm>
            <a:off x="0" y="711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64"/>
          <p:cNvSpPr/>
          <p:nvPr/>
        </p:nvSpPr>
        <p:spPr>
          <a:xfrm>
            <a:off x="0" y="-25416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75"/>
          <p:cNvSpPr/>
          <p:nvPr/>
        </p:nvSpPr>
        <p:spPr>
          <a:xfrm>
            <a:off x="0" y="-254160"/>
            <a:ext cx="101268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63"/>
              <p:cNvSpPr txBox="1"/>
              <p:nvPr/>
            </p:nvSpPr>
            <p:spPr>
              <a:xfrm>
                <a:off x="0" y="-2541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-181080" y="1052640"/>
          <a:ext cx="9325080" cy="5805360"/>
        </p:xfrm>
        <a:graphic>
          <a:graphicData uri="http://schemas.openxmlformats.org/drawingml/2006/table">
            <a:tbl>
              <a:tblPr/>
              <a:tblGrid>
                <a:gridCol w="1063800"/>
                <a:gridCol w="1249200"/>
                <a:gridCol w="1174680"/>
                <a:gridCol w="1468440"/>
                <a:gridCol w="2203560"/>
                <a:gridCol w="2165400"/>
              </a:tblGrid>
              <a:tr h="877680"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рав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рни уравн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80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x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 25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7x+10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08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80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5x+6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4x+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4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76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97"/>
          <p:cNvSpPr/>
          <p:nvPr/>
        </p:nvSpPr>
        <p:spPr>
          <a:xfrm>
            <a:off x="0" y="711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00000" y="333360"/>
            <a:ext cx="7993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выполнит задание первым – получает 10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выполнит вторым – получает 8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заполнит третьим – получает 5 балл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Все остальные, выполнившие правильно – получают 2 балла, а у кого есть ошибки – 1 бал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се свои баллы занесите в таблиц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3970440"/>
          <a:ext cx="8244000" cy="1371600"/>
        </p:xfrm>
        <a:graphic>
          <a:graphicData uri="http://schemas.openxmlformats.org/drawingml/2006/table">
            <a:tbl>
              <a:tblPr/>
              <a:tblGrid>
                <a:gridCol w="1656000"/>
                <a:gridCol w="1231920"/>
                <a:gridCol w="1339560"/>
                <a:gridCol w="1338480"/>
                <a:gridCol w="1339920"/>
                <a:gridCol w="1338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78"/>
          <p:cNvSpPr/>
          <p:nvPr/>
        </p:nvSpPr>
        <p:spPr>
          <a:xfrm>
            <a:off x="0" y="39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71640" y="404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ahoma"/>
              </a:rPr>
              <a:t>«Стрельба по мишен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900000" y="1047600"/>
            <a:ext cx="8244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Решени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х-3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1- 4*2*(-3) = 25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&gt;0;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т.е. уравнение имеет 2 реше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92360" y="2935440"/>
                <a:ext cx="15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8"/>
          <p:cNvSpPr/>
          <p:nvPr/>
        </p:nvSpPr>
        <p:spPr>
          <a:xfrm>
            <a:off x="1417680" y="3718440"/>
            <a:ext cx="25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1,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1,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900000" y="4173840"/>
            <a:ext cx="82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х2-5х+6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5 - 4*7*6=25-168=-143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;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действительных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ей не имее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решений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907920" y="190080"/>
            <a:ext cx="823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Решени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12х+4=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144 - 4*9*4=144-144=0;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0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значит уравнение имеет одно решени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Х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1619280" y="3500280"/>
                <a:ext cx="122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5"/>
          <p:cNvSpPr/>
          <p:nvPr/>
        </p:nvSpPr>
        <p:spPr>
          <a:xfrm>
            <a:off x="1170360" y="42919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х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2286000" y="4143240"/>
                <a:ext cx="236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971640" y="530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8:28:19Z</dcterms:created>
  <dc:creator>людмила</dc:creator>
  <dc:description/>
  <dc:language>en-US</dc:language>
  <cp:lastModifiedBy>User</cp:lastModifiedBy>
  <dcterms:modified xsi:type="dcterms:W3CDTF">2023-02-06T15:17:18Z</dcterms:modified>
  <cp:revision>15</cp:revision>
  <dc:subject/>
  <dc:title>Слайд 1</dc:title>
</cp:coreProperties>
</file>