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74C-5FCE-4F97-9F34-425701C2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114-2187-4B23-A81D-F730D92E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D1383-BD8B-4EE1-83D0-BB75745A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BF142-2C58-46B9-A951-51C52343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5F0ED-5206-4694-AB06-DF13992A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7FDF2-C3D2-455E-84CC-4FFAEB22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DC0F9-011A-405F-8F58-A415BD8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11336-5646-4C59-8C63-830AD6E7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27FB7-E7EF-4932-881D-E4D044E0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66414-4CC9-4A5A-B9F5-0F6A46F5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0D4FD-D8E8-40AF-995F-765230BF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459-E36C-4B7E-A83B-C4FDBE35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F6B-91A9-4FF8-A8A5-0F4CE437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6370-8244-4F95-913D-90C71BA1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9D4A-44EB-4145-BEE4-99AA6D52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B97F-64B5-4E6D-B77F-F72152BD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A961-6270-4405-B99A-869CBDA4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2160-91E6-4F1E-996A-0F0BAD74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A69B-070D-489B-8F17-B4187952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4796-F9DD-494D-91EC-8442F6F5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84C-3DAD-42CE-9832-86FB99D5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0EAA-0F5E-46F4-B6B0-A19B8CB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CC60-C987-494C-BB77-337E60DA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4F3D-AA0B-491F-8680-485A8531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A456-87F9-4BDE-9807-064F3B2F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2907-2A81-4CA4-B584-36190169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6AB60-28D9-4AA4-859A-D38D68A0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3C68E-717F-472A-B167-DA486586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D4C4B-2861-42BD-AD4A-CC22892A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05EED-B662-43E9-8320-8C465E54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D2CE2-DE25-4A12-90CD-2C4F65A8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DD08-2B65-43D4-95CF-485B29E3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B58E9-EBE5-42DE-99A2-B9BF0F22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62710-DE52-43CA-9C72-9DEDCF95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79523-EB72-41BD-87F0-BC90547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0E4EC-CD96-4C11-BEEC-A545F9D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FD433-A8EE-4CFA-AA30-ECE9A15A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EFE85-0511-4BF7-A552-1FE0F5A4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0D1FA-390F-4B07-A050-F325EE93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F2929-D543-4E54-A1BF-0378D1B8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28B9-6350-4BD4-8680-044B233D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B0FD-83F9-45EF-A1A6-CEEDE8F1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C85-7CC8-4194-96D6-AA8B6B34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B7765-68E3-4C33-BFFB-FA6ACA48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773A1-6986-4671-8BB2-2C2F8976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5238-F817-4AD4-BDAF-161C5A90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523E-D4D7-4F7F-88A8-47897AC2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B4EB-53C0-4B88-AC7C-C98D76DB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661F7-EE33-4931-BD45-4084CF3B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17F9-27C0-4412-8408-E6E91ED7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6611-BE3A-468E-8CC1-81A976EC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C4C1-6B5C-4227-8ECC-B3DE9A4C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F9AAE-1CB7-45A0-8F56-3F216D89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93C-EF89-43C4-9846-D3711C56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131FD-2043-4FC4-8659-7BDC4AE1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78045-16B3-4957-A487-2B282BBF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27AB1-94B4-4B03-BC4F-197765C3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BF40BD-E60D-486C-81F3-F9F0630B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47ADB-6917-4A25-844D-C86D8CFA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F128C-EBF1-424C-9E84-8314F6B3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E9251-3F55-4FB4-A54E-23B60B86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D4D19-CC2C-492E-B314-F1EC3A6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C14AB-9409-4C03-819A-FF3FC84C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51F64-DB3A-44B3-B4C2-E647B5D1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9FF-C599-482C-956B-1D61992A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48AC6-EEDB-49ED-9714-D2ED09E5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C4652-C8BC-464D-8F4A-43F2C162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301F1-189B-487F-82CD-F8B26DF5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0C98C3-7DFA-4D59-B91F-75E95A6D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7D16B-0BF6-4403-8973-7E1A3B42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02718-C01A-46F8-8E4B-953D0040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E3479-F0F1-43D2-BFA2-2F6C0BA2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E58DA-13B6-4455-B97F-9E6A5705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9969F4-B184-41A3-8B43-D31C4563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136BB5-0751-4F2B-AC2A-D3640572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DC6-65F0-451C-87DD-1FEE9C02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BEBCB-A064-481B-83D8-4109BDA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7F1CF-DE40-40AB-8784-303AC6D3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81BB7-887F-4B6A-A9D4-F021EC28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7DB09-1FFD-4EE5-8EC8-28A3C51A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80149-6D97-4F6D-8F02-51190ABF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1920E-C60B-46A5-BFF6-82859288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0E5FF8-29A4-4A39-B41D-96D4D587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CA1465-C184-4FF4-ACCD-CBEEFE19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C944B9-5B80-48C3-8358-66ABAA5D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A9004-675A-4F03-97CF-DBD9F43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58D-5489-4B48-B0EE-04477798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D6E2F5-539D-4C87-82A1-A65B4B93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71BE0-203E-400D-82B7-287CAA69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B4D3E-AC44-4A8F-B8C4-C2EA9E02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9D4D9-F03C-4E23-B81D-9A513BB2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441B0-1F13-484C-B229-13B21368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B3519-EEDD-4ADB-8250-5A8B3392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E9C88-8E12-4E34-BF9A-7C338084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EF931-9690-49E5-84A6-37D54864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DB45D-921A-492A-874B-F6F5B848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EFAF0-C986-41F8-8403-F6FCC4EE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F11-90B6-438D-A53F-65F42BE4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A016B-D2A6-40C4-9C03-1671F221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B2730-E493-4645-AF88-F747404B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9927B-F747-45A2-85AD-4BB029A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EFFF1-AEDE-4884-BCF5-97E7CC76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244B-5A2C-43A5-B2C0-D97E49CD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43F2B-922A-4F00-9480-1E9828BF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4C936-32E4-4159-8473-784F3E70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1AFB4-1123-46AC-9F53-3662BAD8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BAACD-A9B0-49D5-9779-935199A4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5E049-1205-483B-BD5F-4142E62A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6804-7B1B-45B4-B711-F1C9E48C2D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D77C-4F7A-4439-B474-60210AF0DB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A968-DE4E-4B29-971E-D14EC923D8D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D115-1A16-414B-B599-6E42B01FA9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2247-F765-4324-A34B-5D412AFD12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71DA-35F3-40B7-8E14-3DD122DAAEF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77FA-1C73-43EE-910B-B1B34C7624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CC81-405E-4C68-A6E7-8376A92841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0586-F702-4834-A88F-5064DEFCE3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6553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РЕШЕНИЕ  ТЕСТОВЫХ ЗАДАНИЙ И  ПРАКТИЧЕСКИХ ЗАДАЧ  ПО  ТЕМЕ </a:t>
            </a:r>
            <a:br>
              <a:rPr sz="2700"/>
            </a:b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«ЭНЕРГЕТИЧЕСКИЙ ОБМЕН» </a:t>
            </a:r>
            <a:br>
              <a:rPr sz="2700"/>
            </a:br>
            <a:r>
              <a:rPr b="1" i="1" lang="ru-RU" sz="2500" spc="-1" strike="noStrike">
                <a:solidFill>
                  <a:srgbClr val="000000"/>
                </a:solidFill>
                <a:latin typeface="Georgia"/>
              </a:rPr>
              <a:t>(ПОДГОТОВКА К ЕГЭ</a:t>
            </a:r>
            <a:r>
              <a:rPr b="1" i="1" lang="ru-RU" sz="2500" spc="-1" strike="noStrike">
                <a:solidFill>
                  <a:srgbClr val="000000"/>
                </a:solidFill>
                <a:latin typeface="Century Schoolbook"/>
              </a:rPr>
              <a:t>)</a:t>
            </a:r>
            <a:br>
              <a:rPr sz="2500"/>
            </a:br>
            <a:br>
              <a:rPr sz="27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ВТОР: ГРИГОРЯН Л.М., УЧИТЕЛЬ БИОЛОГИИ МБОУ СОШ №5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Г. СУРГУТ</a:t>
            </a:r>
            <a:br>
              <a:rPr sz="2700"/>
            </a:br>
            <a:br>
              <a:rPr sz="2700"/>
            </a:br>
            <a:br>
              <a:rPr sz="2700"/>
            </a:b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685800" y="1258200"/>
            <a:ext cx="746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ход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оисходит окисление органических веществ до конечных продуктов углекислого газа и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биологическое окисление происходит медленно, последовательно в процессе нескольких реакций, а горение – быстрый процесс в виде одной реа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горении вся энергия выделяется в виде тепла, а при биологическом окислении часть энергии аккумулируется в молекулах АТФ в виде энергии химических связ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1109520" y="1600200"/>
          <a:ext cx="6997680" cy="4511520"/>
        </p:xfrm>
        <a:graphic>
          <a:graphicData uri="http://schemas.openxmlformats.org/drawingml/2006/table">
            <a:tbl>
              <a:tblPr/>
              <a:tblGrid>
                <a:gridCol w="2874960"/>
                <a:gridCol w="4122720"/>
              </a:tblGrid>
              <a:tr h="451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Подготовитель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 Бескислородный 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. Кислородный этап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 – расщепление органических веществ до моном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 – происходит в мембранах крист митохонд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 – образуется 2 молекулы молочной 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 – синтезируется 36 молекул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 – синтезируется 2 молекулы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 – АТФ не образу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5" name="Rectangle 24"/>
          <p:cNvSpPr/>
          <p:nvPr/>
        </p:nvSpPr>
        <p:spPr>
          <a:xfrm>
            <a:off x="468360" y="33588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оотнесите процессы, происходя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етке, с этап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ого обме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720" y="2268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СТАНОВИТЕ СООТВЕТСТВИЕ МЕЖДУ НАЗВАНИЕМ ВЕЩЕСТВА И ЕГО ФУНКЦИЕЙ В ЭНЕРГЕТИЧЕСКОМ ОБМЕНЕ: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762120" y="1643040"/>
          <a:ext cx="7619760" cy="400068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40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1. Глюк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2. АТ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3. Этиловый спир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4. Молочн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5. АТФ-синтета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А –источник энергии в клет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Б – исходное вещество для диссимиля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В – продукт бр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Г – фер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Raavi"/>
                        </a:rPr>
                        <a:t>Д – продукт неполного расщепления глюк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295280" y="304920"/>
            <a:ext cx="7315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Установите последовательность этапов окисления молекул крахмала в ходе энергетического обмена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бразование молекул ПВК (пировиноградной кислоты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расщепление молекул крахмала до дисахарид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образование углекислого газа и в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образование молекул глюк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762120" y="404280"/>
            <a:ext cx="76197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Выберите три характеристики, относящие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ислородному этапу обмена вещест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исходит в цитоплазме клет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оисходит в митохондр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вершается образованием молочной кислоты или этилового спир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нергетический эффект – 2 молекулы АТ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вершается образованием АТФ, двуокиси углерода и в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нергетический эффект – 36 молекул АТ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ЭНЕРГЕТИЧЕСКИЙ ОБМЕН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Прямоугольник 6"/>
          <p:cNvSpPr/>
          <p:nvPr/>
        </p:nvSpPr>
        <p:spPr>
          <a:xfrm>
            <a:off x="685800" y="914400"/>
            <a:ext cx="769608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решить задачу на энергетический обмен, нужно ВЫУЧИТЬ этапы обмена, уравнения реакции и четко называть соотношения количеств веществ в этих реакция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я реакций этапов энергетического об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– подготов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ы → моно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– гликолиз (бескислород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2АДФ+2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2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2АТФ+2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– кислор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6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36АДФ+36 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6С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42 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+36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уммарное уравнение:</a:t>
            </a:r>
            <a:br>
              <a:rPr sz="2000"/>
            </a:b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6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+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8АДФ+38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6С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44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+38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1295280" y="9140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кислению подверглос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молекулы глюкоз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это расходовалос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молекул кислород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ите, сколько молекул воды и углекислого газа выделилось при эт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6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+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8АДФ+38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6С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44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+38АТ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АДФ+38Н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+38АТ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227160"/>
            <a:ext cx="7620120" cy="419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изу подверглось две молекулы глюкозы, окислению только одна. Определите количество образованных молекул АТФ и выделившихся молекул углекислого газа при этом,</a:t>
            </a:r>
            <a:br>
              <a:rPr sz="22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решения используйте 2 этап (ГЛИКОЛИЗА) и  3  этап (КИСЛОРОДНОГО) ЭНЕРГЕТИЧЕСКОГО ОБМЕНА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ЭТАП – ГЛИКОЛИЗ (БЕСКИСЛОРОДНЫЙ)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2АДФ+2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2С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2АТФ+2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– КИСЛОРОДНЫЙ</a:t>
            </a:r>
            <a:br>
              <a:rPr sz="1800"/>
            </a:b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С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6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36АДФ+36 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4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6СО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42 Н</a:t>
            </a:r>
            <a:r>
              <a:rPr b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+36АТФ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РЕШЕНИЕ: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63520" y="1066680"/>
            <a:ext cx="804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шения используем уравнения 2 этапа (гликолиза) и 3  этапа  (кислородного)энергетического обмена.   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При гликолизе одной молекулы глюкозы образуется 2   молекулы АТФ, а при окислении 36 АТФ. По условию задачи гликолизу подверглось 2 молекулы глюкоз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∙2=4 молекулы АТФ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кислению только 1 молекула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+36=40 АТ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Углекислый газ образуется только на 3 этапе, при полном     окислении одной молекулы глюкозы образуется 6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40 АТФ; 6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процессе гликолиза образовалось 68 молекул пировиноградной кислоты (ПВК). Определите, какое количество молекул глюкозы подверглось расщеплению и сколько молекул АТФ образовалось при полном окислении. Ответ поясни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ЗАНЯТИЯ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ить и систематизировать знания  по теме «Энергетический обмен», научиться применять их при решен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х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 и тестовых заданий ЕГЭ  по биолог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263520" y="914040"/>
            <a:ext cx="804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ликолизе одна молекула глюкозы расщепляется с образованием 2-х молекул ПВК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АДФ+2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С</a:t>
            </a:r>
            <a:r>
              <a:rPr b="1" i="1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</a:t>
            </a:r>
            <a:r>
              <a:rPr b="1" i="1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</a:t>
            </a:r>
            <a:r>
              <a:rPr b="1" i="1" lang="ru-RU" sz="24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АТФ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гликолизу подверглось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 : 2 = 3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глюкоз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полном окислении одной молекулы глюкозы образуется 38 молекул АТФ (2 молекулы при гликолизе и 36 молекул при гидролизе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и полном окислении 34-х молекул глюкозы образуетс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 × 38 = 129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АТФ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 молекулы глюкозы подверглось расщеплению,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292 молекулы АТ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лось при полном окисл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990720" y="838080"/>
            <a:ext cx="6852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гидролиза образовалось 972 молекулы АТФ. Определите, какое количество молекул глюкозы подверглось расщеплению и сколько молекул АТФ образовалось в результате гликолиза и полного окисления. Ответ поясни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63160" y="914040"/>
            <a:ext cx="819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при гидролизе (кислородный этап ) из одной молекулы         глюкозы образуется 36 молекул АТФ, следовательно, гидролизу подверглось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2 : 36 = 27 молекул глюкозы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гликолизе одна молекула глюкозы расщепляется до 2-х молекул ПВК с образованием 2-х молекул АТФ, поэтому количество молекул АТФ равно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×2 = 54 молекул АТФ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и полном окислении одной молекулы глюкозы образуется 38 молекул АТФ, следовательно, при полном окислении 27 молекул глюкозы образуется 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× 38 = 1026 молекул АТФ (или 972 + 54 = 1026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молекул глюкозы подверглось расщеплению; 54 АТФ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лось в результате гликолиза и 1026 АТФ образовалось в результате полного окисления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263160" y="609480"/>
            <a:ext cx="827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процессе диссимиляции произошло расщепление 7 моль глюкозы, из которых полному расщеплению подверглось только 2. Определите: а) сколько моль молочной кислоты и СО2 при этом образовалось? б) сколько АТФ при этом синтезировано? в) сколько и в каком виде энергии запасено в этих молекулах АТФ? г) сколько О2 при этом израсходован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РЕШЕНИЕ: 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→ 2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+ 2 АТФ - НЕПОЛНОЕ ОКИСЛЕНИЕ </a:t>
            </a:r>
            <a:br>
              <a:rPr sz="2000"/>
            </a:b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+ 6 </a:t>
            </a:r>
            <a:r>
              <a:rPr b="0" i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О</a:t>
            </a:r>
            <a:r>
              <a:rPr b="0" i="1" lang="ru-RU" sz="2000" spc="-1" strike="noStrike" baseline="-25000">
                <a:solidFill>
                  <a:srgbClr val="575f6d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→ 6 </a:t>
            </a:r>
            <a:r>
              <a:rPr b="1" i="1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2000" spc="-1" strike="noStrike" baseline="-25000">
                <a:solidFill>
                  <a:srgbClr val="575f6d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+ 6 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+ 38 АТФ – ПОЛНОЕ ОКИСЛЕНИЕ </a:t>
            </a: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63160" y="228600"/>
            <a:ext cx="81183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сл.задачи 7 моль  глюкозы , из которых полному расщеплению подверглось только 2 находим 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2=5 моль глюкозы подверглось не полному расщеплению – коэффициент в 1уравнении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2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2 АТФ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6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38 АТФ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авнению находим требуемые вещества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бразовалось 10 моль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2 мол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интезировано АТФ: 10 + 76 = 86 АТФ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интезировано энергии 86 · 30,6 кДж = 2631,6 кДж; запасается в виде макроэргических связей в молекуле АТФ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зрасходовано 12 мол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10 моль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2 мол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86 АТФ; 2631,6 кДж энергии (запасается в виде макроэргических связей в молекуле АТФ); 12 моль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228240" y="129492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результате диссимиляции в клетке образовалось 5 моль молочной кислоты и 27 моль углекислого газа. Определите: а) сколько всего моль глюкозы израсходовано? б) сколько из них подверглось полному расщеплению, а сколько гликолизу? в) сколько энергии запасено? г) Сколько моль кислорода пошло на окислени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440" y="304920"/>
            <a:ext cx="746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0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2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АТФ - неполное окислени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6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 </a:t>
            </a: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8 АТФ – полное окисление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к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ет 27 моль, а молочная кислота 5 моль, находим 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:2=2,5 – коэффициент в1уравнени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:6=4,5 – коэффициент во 2 уравнени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2 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2 АТФ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6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6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6 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18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,5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38 АТФ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равнения находим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Израсходовано 7 моль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лному расщеплению подверглось - 4,5 моль глюкозы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ому расщеплению подверглось 2,5 мол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Энергии запасено: (5+ 171) · 30,6 кДж = 5385,6 кДж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Израсходован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7 моль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Израсходовано 7 моль глюкозы б. Неполному расщеплению подверглось 2,5 моль глюкозы, полному расщеплению подверглось 4,5 моль глюкозы в. синтезировано 176 АТФ, аккумулировано 5385,6 кДж энергии. г. Израсходовано 27 моль кислород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В процессе гликолиза образовалось 42 молекулы пировиноградной кислоты. Какое количество молекул глюкозы подверглось расщеплению и сколько молекул АТФ образуется при полном окислении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63160" y="304920"/>
            <a:ext cx="819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42 ПВК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кол-во глюкозы, кол-во АТФ при полном окислен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 гликолизе одна молекула глюкозы расщепляется с образованием 2-х молекул пировиноградной кислоты (ПВК), следовательно, гликолизу подверглось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: 2 = 21 молекула глюкозы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 полном окислении одной молекулы глюкозы (бескислородный этап-2АТФ и кислородный этап- 36 АТФ) образуется 38 молекул АТФ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окислении 21 молекулы образуетс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х 38 = 798 молекул АТФ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 молекула глюкозы, 798 молекул АТФ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63520" y="1066680"/>
            <a:ext cx="834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Мышцы ног при беге со средней скоростью расходуют за 1 минуту 24 кДж энерг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: а) сколько всего граммов глюкозы израсходуют мышцы ног за 25 минут бега, если кислород доставляется кровью к мышцам в достаточном количестве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копится ли в мышцах молочная кислот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АЙТЕ  ОПРЕДЕЛЕНИЯ ГЛАВНЫМ 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ЯМ ТЕМЫ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371240" y="16002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етаболиз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таболиз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диссимиляция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наболизм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ссимиляция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ТФ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митохондрии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723920" y="1598760"/>
            <a:ext cx="29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фермент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етеротроф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втотроф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наэроб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аэроб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ликолиз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еакция фосфорилир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160" y="91404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Мышцы ног при беге со средней скоростью расходуют за 1 минуту 24 кДж энергии; t бега = 25 ми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а ) m 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ислород доставляется кровью к мышцам в достаточном количестве)-? б) накопится ли в мышцах молочная кислот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 25 мин. бега расход энергии в мышцах составит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00 кДЖ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акое количество энергии может выделить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: 30,6 =  20 АТ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6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12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О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6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С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 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Н</a:t>
            </a:r>
            <a:r>
              <a:rPr b="1" i="1" lang="ru-RU" sz="2000" spc="-1" strike="noStrike" baseline="-30000">
                <a:solidFill>
                  <a:srgbClr val="333333"/>
                </a:solidFill>
                <a:latin typeface="Georgia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333333"/>
                </a:solidFill>
                <a:latin typeface="Georgia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АТФ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(глюкозы) = 180 г/моль, при полном окислении 1 моль глюкозы образуется 38 АТФ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ы) =180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8 = 95 г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) 95 г; б) нет, т.к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статочн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1295280" y="2286000"/>
          <a:ext cx="5715000" cy="91440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51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Э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ф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за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×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Е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общ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9" name="Прямоугольник 4"/>
          <p:cNvSpPr/>
          <p:nvPr/>
        </p:nvSpPr>
        <p:spPr>
          <a:xfrm>
            <a:off x="838080" y="3808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.Какое из двух типов брожения – спиртовое или молочнокислое является энергетически более эффективным? Эффективность рассчитать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5"/>
          <p:cNvSpPr/>
          <p:nvPr/>
        </p:nvSpPr>
        <p:spPr>
          <a:xfrm>
            <a:off x="990720" y="41148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, запасённая в 1 моль АТФ, составляет 30,6 кДж/мо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общая – 150 кДж/моль (спиртовое брожение); энергия общая – 210 кДж/моль (молочнокислое брожение). Ответ поясн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6"/>
          <p:cNvSpPr/>
          <p:nvPr/>
        </p:nvSpPr>
        <p:spPr>
          <a:xfrm>
            <a:off x="685800" y="3367080"/>
            <a:ext cx="7086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де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Georgia"/>
              </a:rPr>
              <a:t>зап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– запасённая энергия; 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Georgia"/>
              </a:rPr>
              <a:t>общ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– общая энерг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75f6d"/>
                </a:solidFill>
                <a:latin typeface="Georgia"/>
              </a:rPr>
              <a:t>РЕШЕНИЕ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63160" y="762120"/>
            <a:ext cx="819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спиртовое и молочнокислое брожение протекает в анаэробных условиях (без кислорода), и в результате синтезируется 2 моль АТФ, т.е. 2 х 30,6  кДж/моль = 61,2 кДж/мо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эффективность спиртового брож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п. бр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1, 2 кДж/моль : 15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/моль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 =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,8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эффективность молочнокислого брож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мол. бр.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1, 2 кДж/моль : 21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/моль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9,1%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энергетически более эффективным является спиртовое брож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467480" cy="11462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6" name="Содержимое 3" descr="http://im8-tub-ru.yandex.net/i?id=288610410-58-72&amp;n=21"/>
          <p:cNvPicPr/>
          <p:nvPr/>
        </p:nvPicPr>
        <p:blipFill>
          <a:blip r:embed="rId2"/>
          <a:stretch/>
        </p:blipFill>
        <p:spPr>
          <a:xfrm>
            <a:off x="2057400" y="236232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ВСПОМНИТЕ ВЕЩЕСТВО, СВЯЗАННОЕ </a:t>
            </a: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 ВСЕМИ ВЫПИСАННЫМИ СЛОВАМИ, ОПРЕДЕЛИТЕ ЕГО РОЛЬ В КЛЕТКЕ?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447920" y="251460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н, рибоза, энергия,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остатка фосфорной кислоты, митохондрия, аккумулятор, макроэргическая связь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14" descr="сканирование0006"/>
          <p:cNvPicPr/>
          <p:nvPr/>
        </p:nvPicPr>
        <p:blipFill>
          <a:blip r:embed="rId1"/>
          <a:srcRect l="0" t="25011" r="0" b="0"/>
          <a:stretch/>
        </p:blipFill>
        <p:spPr>
          <a:xfrm>
            <a:off x="533520" y="45720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2.  ЗАПОЛНИТЕ ПРОПУСКИ И СОСТАВЬТЕ СХЕМУ СТРОЕНИЯ МОЛЕКУЛЫ АТФ </a:t>
            </a:r>
            <a:br>
              <a:rPr sz="40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63160" y="1598760"/>
            <a:ext cx="7813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зинтрифосфат (АТФ) является ________. В состав молекулы АТФ входят азотистое основание -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,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 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________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ри остатка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    _______ .</a:t>
            </a:r>
            <a:r>
              <a:rPr b="0" i="1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и третий остатки фосфорной кислоты  присоединяются связью, богатой энергией. Такая связь называется 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 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ЗИНТРИФОСФАТ (АТФ) ЯВЛЯЕТСЯ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УКЛЕОТИДОМ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СТАВ МОЛЕКУЛЫ АТФ ВХОДЯТ АЗОТИСТОЕ ОСНОВАНИЕ -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ЕНИ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 -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ИБОЗА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РИ ОСТАТКА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СФОРНОЙ КИСЛОТЫ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И ТРЕТИЙ ОСТАТКИ ФОСФОРНОЙ КИСЛОТЫ ПРИСОЕДИНЯЮТСЯ СВЯЗЬЮ, БОГАТОЙ ЭНЕРГИЕЙ. ТАКАЯ СВЯЗЬ НАЗЫВАЕТСЯ  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КРОЭРГ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8" name="Picture 14" descr="сканирование0006"/>
          <p:cNvPicPr/>
          <p:nvPr/>
        </p:nvPicPr>
        <p:blipFill>
          <a:blip r:embed="rId1"/>
          <a:srcRect l="0" t="25011" r="0" b="0"/>
          <a:stretch/>
        </p:blipFill>
        <p:spPr>
          <a:xfrm>
            <a:off x="1143000" y="2743200"/>
            <a:ext cx="6858000" cy="30481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4" descr="сканирование0006"/>
          <p:cNvPicPr/>
          <p:nvPr/>
        </p:nvPicPr>
        <p:blipFill>
          <a:blip r:embed="rId2"/>
          <a:srcRect l="0" t="25011" r="0" b="0"/>
          <a:stretch/>
        </p:blipFill>
        <p:spPr>
          <a:xfrm>
            <a:off x="1295280" y="2895480"/>
            <a:ext cx="6858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ЭТАПЫ ЭНЕРГЕТИЧЕСКОГО ОБМЕ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23924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4"/>
          <p:cNvSpPr/>
          <p:nvPr/>
        </p:nvSpPr>
        <p:spPr>
          <a:xfrm>
            <a:off x="1143000" y="762120"/>
            <a:ext cx="71629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зад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 в чем сходство и различия   процессов  окисления глюкозы в клетке и горения, если их можно выразить общим суммарны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О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6СО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6Н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+ Эн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р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2-17T16:07:32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