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CBA-6C5B-4991-A265-5FA2B0FF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36B-26C9-40E1-9031-9F880997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B1C24-B959-4AE0-A6C4-CC50320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FD494-7FB7-4B83-963B-1D5DFAFC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AC0E3-CC29-46F1-A7BE-604BD19E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053CE-F7AA-4A8E-AFC1-8A6366AC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D93D9-321C-4768-9BB6-8544E1F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13FFB-936A-49FE-97C0-F54347F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F781E-C242-4C01-9CB8-C11B6977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A2E96-064A-48B9-A666-6AE83777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6026F-0226-49D0-92DF-131FA0BF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464-412B-443F-B8A0-26E2E1FB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27D-A3BC-42F3-AF05-BBF6043C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3B18-FF04-484F-81D5-DE1E37DE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F2A8-5E62-4B6C-9AB1-B843883D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BE9E-89E5-401A-BDFF-6D70ACE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FCD0-7D62-428B-A971-AF6A4672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749C-C83E-4884-A3EF-EAF04F1E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3FC3-1A7D-46B0-AF10-6166924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0389-28EF-4CFD-AAE7-907B096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45C-68CE-4B66-B8E4-635F0106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EBF0-E59A-408C-B42C-265815F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49E5-064C-457A-8FF1-DD20A90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DA15-CCE7-4FDC-9402-A5613FD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3048-EE38-4C21-8224-22C66300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6FD8-3BE5-4E50-8186-68CA938C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19F62-9ACC-4493-B769-67D77CB9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20C4F-FE99-4BB6-886A-BD1E307B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4B1DC-94AA-4EAD-94CD-10E3D996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2A380-BD36-41A7-B25D-45CD5F5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3D19C-E77A-47A2-A646-6CEE426D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B35-CCB2-43E2-ADC3-0360BB5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04463-CB54-46BA-AD72-2CD841E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7DF95-8EA9-4126-9638-42BF496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01665-8D28-4A4E-8496-F1ADC08D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AF4DA-AB77-4371-BB2E-121710D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7F7E2-C283-4A1A-A152-2D0425CB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3D0BF-C08C-4567-BC2B-88A15DF6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D069A-AD6A-4E35-92EC-ED8503B9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BCEE-9F96-4D66-956F-99334AAB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1D9E-05E7-4627-9FAE-6B56AD25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B0A1-BA02-4AA5-928A-8226DD69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ED7-2285-4A13-8109-4A6EBE9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66D6-0476-4FC2-9FED-EFE6F57F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D74C-AFBB-4201-AE97-108A210C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FC3C-4C89-43D3-BD89-8C0735A6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5E03D-0BC7-42E2-B4FE-085CD6D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674B-FE85-4663-9A6D-AAFB337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2235-7C8F-4BC9-9836-D8BCFB60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E94F-5CD9-4C96-9B74-9FBAD17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861E-FBC3-451B-AF15-E72A243B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B4F7-1517-4939-A035-372D2E5D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FD0AB-D206-4959-AE94-0098FB4E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DCF-DAA5-4405-8B1B-10D594B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A699E-DE9D-4A77-AC15-30F0493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B9682-6000-4874-94EB-7E8F1D74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9EAA6-C124-46B8-B6A4-035EA2AB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EC972-5D75-4FFE-A18B-184BDD4D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F164F-8768-4087-8D91-16B7902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6991E-2A5A-4781-86F3-FE3B06A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2634F-3D1C-403F-A89E-E9CD15C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C8C58-CEC8-4F10-A0CE-F6D0F5C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2637B-B000-405B-A641-421F0034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71DA1-D9DB-4259-A75F-1582312D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A5E-A4D0-44CE-BEA4-B178793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FED04-0CFF-40CE-BE48-60B5663D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75DE7-CE2B-4FCD-B661-48B0C6DF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1A3AD-89BE-41E9-AE96-0097DBD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B152E-85F0-4CCD-A61F-DAD866B5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3DECB-9900-403A-BAE8-88CD918D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B619E-6D27-48DA-AA74-DC3404AF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EE3D0-4F22-4255-B6C2-6BECDDF5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1B40B-0CF2-42B5-B8C5-CA29C135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A7E23-8930-43FE-833A-FD7BAE0B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A35D0-9EC5-4741-95D7-94EB7A5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C23-EEFD-48CB-A05F-42799F9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466D0-167B-4B5F-83FD-7DC141F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BE811-885F-4D50-A1E3-B47D7861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A22E6-3F19-4B9A-AAFA-28EB5162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4816E-4C75-488B-A75C-FF4A689C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D86DD-B5A9-45DA-8D87-E8927FDA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22E34-2351-4B41-9EBE-2251BFDC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67AAA-4065-42D0-A6F4-27881E21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8E624-8EF8-475F-B66B-40C0A75C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83CE1-C692-4456-BC52-8947423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3C729-A255-4845-AA30-793EFFC4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5C6-7F31-41EE-B363-CC64EAE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FAE9A-83CE-4550-8488-57C09E1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64167-B958-44B3-9F49-1AC678B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E8AAB-1FA4-4AA0-87F8-0616FB1E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4147A-BE4E-44DE-A05A-912BE00F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7DA3BB-FBC2-48B8-ADC7-C7FC19A6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85BCD-6F80-4116-A697-C35C37FF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29D98-4CA5-4601-9E35-4F9B5910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DBA0-AEAA-4418-8DA7-92E4A966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12AC2-C76B-4FB8-9D7D-849F959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E687-34E0-477B-9598-CD29F263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5D5-0778-4317-95BC-688880EC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9C32-F9BB-4DCE-A092-1321A292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DEA1-5143-4CA0-91B1-6817280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82776-DB16-40C5-98D3-2E96854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229A-9A44-4826-8558-B9D0A3B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0AF71-638A-4B51-A4C2-4F794E2C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8AB4B-BDE1-498D-9D8C-59F6909D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3767-000D-4A53-8D0C-27E63C7B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E5BAB-9620-477D-9B55-6408B230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2241C-5853-497B-99EF-3E1041DD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D5E4-F405-498F-9641-7249078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130C-4A36-442D-AF76-DCC8B82AF5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0D47-5526-4EF5-9BDB-2F22CE7641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BCFD-679B-421E-BF33-8DDE0974BC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48B-FE98-44AE-B85A-B6494E175C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E83-0C70-4BFB-8903-E4437172C1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6836-96E5-4210-8B67-0D76FAD381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5857-61EF-4847-BB95-97BC2AC361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57B6-73B4-4786-96D0-2641E18078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0A4-12F8-43CE-AFD0-D7C4E84163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553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ЕНИЕ  ТЕСТОВЫХ ЗАДАНИЙ И  ПРАКТИЧЕСКИХ ЗАДАЧ  ПО  ТЕМЕ </a:t>
            </a:r>
            <a:br>
              <a:rPr sz="27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ЭНЕРГЕТИЧЕСКИЙ ОБМЕН» </a:t>
            </a:r>
            <a:br>
              <a:rPr sz="2700"/>
            </a:br>
            <a:r>
              <a:rPr b="1" i="1" lang="ru-RU" sz="2500" spc="-1" strike="noStrike">
                <a:solidFill>
                  <a:srgbClr val="000000"/>
                </a:solidFill>
                <a:latin typeface="Georgia"/>
              </a:rPr>
              <a:t>(ПОДГОТОВКА К ЕГЭ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)</a:t>
            </a:r>
            <a:br>
              <a:rPr sz="2500"/>
            </a:br>
            <a:br>
              <a:rPr sz="27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ВТОР: ГРИГОРЯН Л.М., УЧИТЕЛЬ БИОЛОГИИ МБОУ СОШ №5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Г. СУРГУТ</a:t>
            </a:r>
            <a:br>
              <a:rPr sz="2700"/>
            </a:br>
            <a:br>
              <a:rPr sz="2700"/>
            </a:br>
            <a:br>
              <a:rPr sz="27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685800" y="1258200"/>
            <a:ext cx="746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од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исходит окисление органических веществ до конечных продуктов углекислого газа и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биологическое окисление происходит медленно, последовательно в процессе нескольких реакций, а горение – быстрый процесс в виде одной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горении вся энергия выделяется в виде тепла, а при биологическом окислении часть энергии аккумулируется в молекулах АТФ в виде энергии химических связ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1109520" y="1600200"/>
          <a:ext cx="6997680" cy="4511520"/>
        </p:xfrm>
        <a:graphic>
          <a:graphicData uri="http://schemas.openxmlformats.org/drawingml/2006/table">
            <a:tbl>
              <a:tblPr/>
              <a:tblGrid>
                <a:gridCol w="2874960"/>
                <a:gridCol w="4122720"/>
              </a:tblGrid>
              <a:tr h="451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Подготовитель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Бескислород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Кислородный эта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 – расщепление органических веществ до моном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 – происходит в мембранах крист митохонд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– образуется 2 молекулы молочной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 – синтезируется 36 молекул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 – синтезируется 2 молекулы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 – АТФ не образу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5" name="Rectangle 24"/>
          <p:cNvSpPr/>
          <p:nvPr/>
        </p:nvSpPr>
        <p:spPr>
          <a:xfrm>
            <a:off x="468360" y="33588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оотнесите процессы, происходя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етке, с этап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ого обм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2268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АНОВИТЕ СООТВЕТСТВИЕ МЕЖДУ НАЗВАНИЕМ ВЕЩЕСТВА И ЕГО ФУНКЦИЕЙ В ЭНЕРГЕТИЧЕСКОМ ОБМЕНЕ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762120" y="1643040"/>
          <a:ext cx="7619760" cy="400068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40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1. Глюк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2. АТ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3. Этиловый спи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4. Молочн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5. АТФ-синтет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А –источник энергии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Б – исходное вещество для диссимиля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В – продукт бр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Г – фер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Д – продукт неполного расщепления глюк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295280" y="304920"/>
            <a:ext cx="7315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Установите последовательность этапов окисления молекул крахмала в ходе энергетического обмен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бразование молекул ПВК (пировиноградной кислоты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расщепление молекул крахмала до дисахарид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образование углекислого газа и в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образование молекул глюк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762120" y="404280"/>
            <a:ext cx="76197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ыберите три характеристики, относящие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ислородному этапу обмена вещест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исходит в цитоплазме клет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исходит в митохондр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вершается образованием молочной кислоты или этилового спир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нергетический эффект – 2 молекулы АТ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вершается образованием АТФ, двуокиси углерода и в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нергетический эффект – 36 молекул АТ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ЭНЕРГЕТИЧЕСКИЙ ОБМЕН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Прямоугольник 6"/>
          <p:cNvSpPr/>
          <p:nvPr/>
        </p:nvSpPr>
        <p:spPr>
          <a:xfrm>
            <a:off x="685800" y="914400"/>
            <a:ext cx="76960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шить задачу на энергетический обмен, нужно ВЫУЧИТЬ этапы обмена, уравнения реакции и четко называть соотношения количеств веществ в этих реакция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реакций этапов энергетического об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ы → моно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гликолиз (бескислоро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ДФ+2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2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ТФ+2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– кисло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36АДФ+36 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2 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6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уммарное уравнение:</a:t>
            </a:r>
            <a:br>
              <a:rPr sz="2000"/>
            </a:b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+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8АДФ+38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4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8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295280" y="9140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кислению подвергло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олекулы глюкоз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это расходовало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молекул кислород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е, сколько молекул воды и углекислого газа выделилось при э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+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8АДФ+38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4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8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АДФ+38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+38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227160"/>
            <a:ext cx="7620120" cy="419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изу подверглось две молекулы глюкозы, окислению только одна. Определите количество образованных молекул АТФ и выделившихся молекул углекислого газа при этом,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решения используйте 2 этап (ГЛИКОЛИЗА) и  3  этап (КИСЛОРОДНОГО) ЭНЕРГЕТИЧЕСКОГО ОБМЕ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ЭТАП – ГЛИКОЛИЗ (БЕСКИСЛОРОДНЫЙ)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ДФ+2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2С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ТФ+2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– КИСЛОРОДНЫЙ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С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36АДФ+36 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2 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6АТФ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РЕШЕНИЕ: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63520" y="1066680"/>
            <a:ext cx="804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используем уравнения 2 этапа (гликолиза) и 3  этапа  (кислородного)энергетического обмена.   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При гликолизе одной молекулы глюкозы образуется 2   молекулы АТФ, а при окислении 36 АТФ. По условию задачи гликолизу подверглось 2 молекулы глюкоз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∙2=4 молекулы АТФ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кислению только 1 молекула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36=40 АТ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Углекислый газ образуется только на 3 этапе, при полном     окислении одной молекулы глюкозы образуется 6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40 АТФ; 6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роцессе гликолиза образовалось 68 молекул пировиноградной кислоты (ПВК). Определите, какое количество молекул глюкозы подверглось расщеплению и сколько молекул АТФ образовалось при полном окислении. Ответ поясни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ЗАНЯТ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и систематизировать знания  по теме «Энергетический обмен», научиться применять их при решен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х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 и тестовых заданий ЕГЭ  по биолог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63520" y="914040"/>
            <a:ext cx="804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ликолизе одна молекула глюкозы расщепляется с образованием 2-х молекул ПВК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ДФ+2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С</a:t>
            </a:r>
            <a:r>
              <a:rPr b="1" i="1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1" i="1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АТ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гликолизу подверглось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 : 2 = 3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глюкоз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полном окислении одной молекулы глюкозы образуется 38 молекул АТФ (2 молекулы при гликолизе и 36 молекул при гидролиз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и полном окислении 34-х молекул глюкозы образу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 × 38 = 129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АТ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 молекулы глюкозы подверглось расщеплению,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292 молекулы АТ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лось при полном окисл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990720" y="838080"/>
            <a:ext cx="6852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гидролиза образовалось 972 молекулы АТФ. Определите, какое количество молекул глюкозы подверглось расщеплению и сколько молекул АТФ образовалось в результате гликолиза и полного окисления. Ответ поясни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63160" y="914040"/>
            <a:ext cx="819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при гидролизе (кислородный этап ) из одной молекулы         глюкозы образуется 36 молекул АТФ, следовательно, гидролизу подверглось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2 : 36 = 27 молекул глюкозы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гликолизе одна молекула глюкозы расщепляется до 2-х молекул ПВК с образованием 2-х молекул АТФ, поэтому количество молекул АТФ равно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×2 = 54 молекул АТФ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и полном окислении одной молекулы глюкозы образуется 38 молекул АТФ, следовательно, при полном окислении 27 молекул глюкозы образуется 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× 38 = 1026 молекул АТФ (или 972 + 54 = 1026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молекул глюкозы подверглось расщеплению; 54 АТФ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лось в результате гликолиза и 1026 АТФ образовалось в результате полного окислени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63160" y="609480"/>
            <a:ext cx="827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процессе диссимиляции произошло расщепление 7 моль глюкозы, из которых полному расщеплению подверглось только 2. Определите: а) сколько моль молочной кислоты и СО2 при этом образовалось? б) сколько АТФ при этом синтезировано? в) сколько и в каком виде энергии запасено в этих молекулах АТФ? г) сколько О2 при этом израсходован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РЕШЕНИЕ: 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→ 2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+ 2 АТФ - НЕПОЛНОЕ ОКИСЛЕНИЕ 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+ 6 </a:t>
            </a:r>
            <a:r>
              <a:rPr b="0" i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25000">
                <a:solidFill>
                  <a:srgbClr val="575f6d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→ 6 </a:t>
            </a:r>
            <a:r>
              <a:rPr b="1" i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575f6d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+ 6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+ 38 АТФ – ПОЛНОЕ ОКИСЛЕНИЕ 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63160" y="228600"/>
            <a:ext cx="811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сл.задачи 7 моль  глюкозы , из которых полному расщеплению подверглось только 2 находим 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2=5 моль глюкозы подверглось не полному расщеплению – коэффициент в 1уравнени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2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2 АТ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38 АТ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авнению находим требуемые веществ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разовалось 10 моль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интезировано АТФ: 10 + 76 = 86 АТФ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интезировано энергии 86 · 30,6 кДж = 2631,6 кДж; запасается в виде макроэргических связей в молекуле АТФ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зрасходовано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0 моль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86 АТФ; 2631,6 кДж энергии (запасается в виде макроэргических связей в молекуле АТФ);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28240" y="129492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результате диссимиляции в клетке образовалось 5 моль молочной кислоты и 27 моль углекислого газа. Определите: а) сколько всего моль глюкозы израсходовано? б) сколько из них подверглось полному расщеплению, а сколько гликолизу? в) сколько энергии запасено? г) Сколько моль кислорода пошло на окислени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440" y="3049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2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АТФ - неполное окислени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6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 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8 АТФ – полное окислен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27 моль, а молочная кислота 5 моль, находим 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2=2,5 – коэффициент в1уравнени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:6=4,5 – коэффициент во 2 уравнени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2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2 АТФ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6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6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6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38 АТФ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равнения находим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расходовано 7 моль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лному расщеплению подверглось - 4,5 моль глюкозы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му расщеплению подверглось 2,5 мол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Энергии запасено: (5+ 171) · 30,6 кДж = 5385,6 кДж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зрасходован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7 моль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Израсходовано 7 моль глюкозы б. Неполному расщеплению подверглось 2,5 моль глюкозы, полному расщеплению подверглось 4,5 моль глюкозы в. синтезировано 176 АТФ, аккумулировано 5385,6 кДж энергии. г. Израсходовано 27 моль кислор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 процессе гликолиза образовалось 42 молекулы пировиноградной кислоты. Какое количество молекул глюкозы подверглось расщеплению и сколько молекул АТФ образуется при полном окислении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63160" y="304920"/>
            <a:ext cx="819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42 ПВ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кол-во глюкозы, кол-во АТФ при полном окислен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гликолизе одна молекула глюкозы расщепляется с образованием 2-х молекул пировиноградной кислоты (ПВК), следовательно, гликолизу подверглось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: 2 = 21 молекула глюкозы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 полном окислении одной молекулы глюкозы (бескислородный этап-2АТФ и кислородный этап- 36 АТФ) образуется 38 молекул АТФ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окислении 21 молекулы образуетс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х 38 = 798 молекул АТФ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 молекула глюкозы, 798 молекул АТ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63520" y="1066680"/>
            <a:ext cx="834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ышцы ног при беге со средней скоростью расходуют за 1 минуту 24 кДж энерг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: а) сколько всего граммов глюкозы израсходуют мышцы ног за 25 минут бега, если кислород доставляется кровью к мышцам в достаточном количестве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копится ли в мышцах молочная кислот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ЙТЕ  ОПРЕДЕЛЕНИЯ ГЛАВНЫМ 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М ТЕМЫ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371240" y="16002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етаболиз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таболиз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иссимиляция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наболиз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ссимиляци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ТФ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итохондри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723920" y="1598760"/>
            <a:ext cx="29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фермент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теротроф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троф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наэроб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эроб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ликолиз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еакция фосфорилир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160" y="91404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Мышцы ног при беге со средней скоростью расходуют за 1 минуту 24 кДж энергии; t бега = 25 ми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а ) m 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ислород доставляется кровью к мышцам в достаточном количестве)-? б) накопится ли в мышцах молочная кислот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 25 мин. бега расход энергии в мышцах составит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00 кДЖ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акое количество энергии может выдели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: 30,6 =  20 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6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 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АТ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(глюкозы) = 180 г/моль, при полном окислении 1 моль глюкозы образуется 38 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ы) =180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8 = 95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95 г; б) нет, т.к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таточн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1295280" y="2286000"/>
          <a:ext cx="5715000" cy="91440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51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ф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за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×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общ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9" name="Прямоугольник 4"/>
          <p:cNvSpPr/>
          <p:nvPr/>
        </p:nvSpPr>
        <p:spPr>
          <a:xfrm>
            <a:off x="838080" y="3808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.Какое из двух типов брожения – спиртовое или молочнокислое является энергетически более эффективным? Эффективность рассчитать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990720" y="41148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, запасённая в 1 моль АТФ, составляет 30,6 кДж/м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общая – 150 кДж/моль (спиртовое брожение); энергия общая – 210 кДж/моль (молочнокислое брожение).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685800" y="336708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де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Georgia"/>
              </a:rPr>
              <a:t>зап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– запасённая энергия; 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Georgia"/>
              </a:rPr>
              <a:t>общ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– общая энерг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РЕШЕНИЕ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63160" y="762120"/>
            <a:ext cx="819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спиртовое и молочнокислое брожение протекает в анаэробных условиях (без кислорода), и в результате синтезируется 2 моль АТФ, т.е. 2 х 30,6  кДж/моль = 61,2 кДж/м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эффективность спиртового брож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. бр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1, 2 кДж/моль : 15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/моль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 =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,8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ффективность молочнокислого брож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ол. бр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1, 2 кДж/моль : 2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/моль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9,1%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энергетически более эффективным является спиртовое брож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146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6" name="Содержимое 3" descr="http://im8-tub-ru.yandex.net/i?id=288610410-58-72&amp;n=21"/>
          <p:cNvPicPr/>
          <p:nvPr/>
        </p:nvPicPr>
        <p:blipFill>
          <a:blip r:embed="rId2"/>
          <a:stretch/>
        </p:blipFill>
        <p:spPr>
          <a:xfrm>
            <a:off x="2057400" y="236232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СПОМНИТЕ ВЕЩЕСТВО, СВЯЗАННОЕ 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 ВСЕМИ ВЫПИСАННЫМИ СЛОВАМИ, ОПРЕДЕЛИТЕ ЕГО РОЛЬ В КЛЕТКЕ?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47920" y="25146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н, рибоза, энергия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остатка фосфорной кислоты, митохондрия, аккумулятор, макроэргическая связь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14" descr="сканирование0006"/>
          <p:cNvPicPr/>
          <p:nvPr/>
        </p:nvPicPr>
        <p:blipFill>
          <a:blip r:embed="rId1"/>
          <a:srcRect l="0" t="25011" r="0" b="0"/>
          <a:stretch/>
        </p:blipFill>
        <p:spPr>
          <a:xfrm>
            <a:off x="533520" y="45720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2.  ЗАПОЛНИТЕ ПРОПУСКИ И СОСТАВЬТЕ СХЕМУ СТРОЕНИЯ МОЛЕКУЛЫ АТФ </a:t>
            </a:r>
            <a:br>
              <a:rPr sz="40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63160" y="1598760"/>
            <a:ext cx="7813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зинтрифосфат (АТФ) является ________. В состав молекулы АТФ входят азотистое основание -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,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________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и остатка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    _______ .</a:t>
            </a:r>
            <a:r>
              <a:rPr b="0" i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и третий остатки фосфорной кислоты  присоединяются связью, богатой энергией. Такая связь называется 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 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ЗИНТРИФОСФАТ (АТФ) ЯВЛЯЕТС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УКЛЕОТИДОМ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СТАВ МОЛЕКУЛЫ АТФ ВХОДЯТ АЗОТИСТОЕ ОСНОВАНИЕ -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ЕНИ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 -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ИБОЗА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И ОСТАТКА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СФОРНОЙ КИСЛОТЫ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И ТРЕТИЙ ОСТАТКИ ФОСФОРНОЙ КИСЛОТЫ ПРИСОЕДИНЯЮТСЯ СВЯЗЬЮ, БОГАТОЙ ЭНЕРГИЕЙ. ТАКАЯ СВЯЗЬ НАЗЫВАЕТСЯ 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РОЭРГ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14" descr="сканирование0006"/>
          <p:cNvPicPr/>
          <p:nvPr/>
        </p:nvPicPr>
        <p:blipFill>
          <a:blip r:embed="rId1"/>
          <a:srcRect l="0" t="25011" r="0" b="0"/>
          <a:stretch/>
        </p:blipFill>
        <p:spPr>
          <a:xfrm>
            <a:off x="1143000" y="274320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4" descr="сканирование0006"/>
          <p:cNvPicPr/>
          <p:nvPr/>
        </p:nvPicPr>
        <p:blipFill>
          <a:blip r:embed="rId2"/>
          <a:srcRect l="0" t="25011" r="0" b="0"/>
          <a:stretch/>
        </p:blipFill>
        <p:spPr>
          <a:xfrm>
            <a:off x="1295280" y="2895480"/>
            <a:ext cx="6858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ЭТАПЫ ЭНЕРГЕТИЧЕСКОГО ОБМЕ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1143000" y="762120"/>
            <a:ext cx="71629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 в чем сходство и различия   процессов  окисления глюкозы в клетке и горения, если их можно выразить общим суммарны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О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СО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Н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+ Э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2-17T16:07:32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