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30.jpeg" ContentType="image/jpeg"/>
  <Override PartName="/ppt/media/image31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12.jpeg" ContentType="image/jpeg"/>
  <Override PartName="/ppt/media/image34.jpeg" ContentType="image/jpeg"/>
  <Override PartName="/ppt/media/image37.png" ContentType="image/png"/>
  <Override PartName="/ppt/media/image11.png" ContentType="image/png"/>
  <Override PartName="/ppt/media/image5.jpeg" ContentType="image/jpeg"/>
  <Override PartName="/ppt/media/image26.jpeg" ContentType="image/jpeg"/>
  <Override PartName="/ppt/media/image9.png" ContentType="image/png"/>
  <Override PartName="/ppt/media/image39.png" ContentType="image/png"/>
  <Override PartName="/ppt/media/image35.png" ContentType="image/png"/>
  <Override PartName="/ppt/media/image43.jpeg" ContentType="image/jpe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8.png" ContentType="image/png"/>
  <Override PartName="/ppt/media/image14.jpeg" ContentType="image/jpeg"/>
  <Override PartName="/ppt/media/image41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19.jpeg" ContentType="image/jpeg"/>
  <Override PartName="/ppt/media/image4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C20B-1995-452E-8129-61C0672E8D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CA1F-B0A2-4FCF-BD68-7D7F45DF48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CF3-8EE0-4E19-8FA4-402E3B82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A01-F817-41DF-96B7-43396662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BF266-D906-48FD-8DEE-C646DF7F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F5688-2F35-4C68-9C77-E5539EAE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A671D-1C88-4690-97DF-EF10ED9A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4C9F2-CD81-4707-A0F0-F5AE38FA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CA89C-939B-4831-A9B6-72D41C3F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F75D9-FAFE-464F-873E-F1C8D7B1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E89DC-59D8-4423-BBDD-D5B4FB62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DA9AE-1B4F-4899-A9AC-6EC8EDD0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692FF-DFB0-41E4-B2E3-2A9C5655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8BE-8C97-4324-92CD-9CA91975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6CE-18E0-4620-AF9A-C0B57EB5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9066-7A28-4572-976A-98FE5BD2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DEDB-7973-4B4C-BF3D-E41078AB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714A-35E1-4554-9700-4766C4DD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AA06-EA80-48BE-84DE-36AFD37E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F323-21A2-4B78-958D-2B0ADF8D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E22F-880F-4AE3-90C0-21DC91D1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013E-C546-42E6-8D78-F836F687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F8B-1528-44D9-BE5E-EA8EEB0C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A8BD-4FA4-4940-8D61-FB298E55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607B-61C4-4AD6-A143-D2464A61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17A4-4FC6-4A78-AB93-E807E2E8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D80B-50AB-4FDC-A613-D1D4FBE2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C77F-762C-47C9-B68E-B2D28531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04409-3C73-475A-8B72-96E290E9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F0718-B0C3-4903-9237-7C8291F4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46E4-DA38-4EEF-AC7D-1767DBF1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A063C-A5C7-45B2-A52E-A785AD6B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65043-E374-455C-91A6-B73D3908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6AA-FDAB-4999-A85F-37F1DA69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BEF36-189E-4D38-B985-91C144CA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21BF5-154A-4BBC-AE7A-E979FE48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B8BCB-F726-46D1-95FA-308DB410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F0912-206D-4CE8-9F7F-2FB11E8F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AE177-34AA-4E2E-9696-4142FFF5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B2E58-D517-459E-BEC3-F29290DF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66EE5-CA32-4A61-8A4E-4331C0AE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1BB8F-8BEB-49EC-8521-AB955E68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92D38-861A-4522-BE1D-10F1CB9F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646E1-42B9-4D51-BB96-1B712DD9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710-9B24-4DF1-9AD6-AB1E2A01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13FEB-D1E1-4B7B-85CB-7BFAFF24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CE674-F8EF-4E07-AD3A-FE413BCC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DA645-CEC2-4C14-A566-EA6986D4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D434-3C9A-4744-81A4-A8A411DC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B61C9-CD1A-4AD4-B404-D8E998C6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98015-3EE7-4958-88BD-5DA8A78B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FC27D-F4D8-497B-8508-B60E32E4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94108-AF63-4FA6-8477-684769E2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E68B3-C2A5-4A8D-AD73-B2DDD6AB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14AEB-4D65-4B47-A017-0F6CEC6F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198D-DB99-4B55-91D3-11373C1E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0A30F-68B3-4508-B48C-4DC722A6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CB63B-FE6E-466B-801D-C3178D77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DD6A0-B431-4C35-9F68-48BB131C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46927-1C25-4DA9-8641-56709ADD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07040-02EA-4E5C-B90D-E81CF3B5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AEA54-9FA9-430E-8B12-982B5E7F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02111-3E68-4CAA-BCA2-E453F472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775AB-A6C4-4906-9284-54CCE9DD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3F5C5-8DE4-4E14-9A41-C59BDD20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4D47C-2E9C-4A4E-B697-86FAE704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3B8-FC1D-4812-93D5-D0A8D29A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44875-9757-4A14-8C9E-2189AB27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67ECE-5B2B-45F4-A48D-EEF370F3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781D0-DF42-4ED8-9C3F-968E11EE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C6962-147F-4A04-9096-1565A024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75708-7BBB-4101-AD6E-24151254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2C085-A4A5-45A0-B834-311F100F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EE5E5-6EEB-4A1A-9017-E8207D13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DBBCA-C804-443E-98BA-17D2DFF4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A049A-6642-4FE2-8F13-36119109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C08FA-4F44-4011-BF1A-7A4B004E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22B-AD85-4263-B7A7-0CD36D4F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A111E-B56F-48DC-911B-712BBE6C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10DC4-1915-4328-889B-B16BCBB0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B8A55-C094-4434-A9FA-ECEFC0BA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E4EB9-0397-4D96-A44D-6EA74F2F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E84AE-87B7-46BF-BD1C-2B1193E6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CFE7C-32FD-4510-850F-93A335C3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390DE-604C-4CDF-9E63-599260BE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FB360-095B-4059-B759-0529FD24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CF9F9-D7D4-46A4-8B96-BB23BB2C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41C7B-33A6-4048-8289-53BAC9BB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F61-4B80-4D6A-985A-4BCDF9DC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EFAD4-3592-40D6-94B7-80662914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EE91B-2124-41DE-94B5-1B801550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1027A-2D0A-4C59-9561-89542768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D225B-33A2-4B10-9481-5DF1C682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32907-7E76-40E6-97A2-5A1070F0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8208F-6E67-451A-BD1D-33DAE68C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B99B4-9335-40D1-9328-FB053F07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FE513-4D3B-4F0D-A3AC-4AEE60BD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A0176-0ED3-404D-BEBF-A6F78A7F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7AFF8-2D8B-4D47-9708-259AB5A2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FE2-2291-4167-8B1F-7709DB9D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C434B-6084-4929-831E-FD02816F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D6BC2-2A98-4871-A586-4C3253DF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B8F2D-C528-4C81-BEB3-643E6827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2B4F3-9CBF-45F8-895A-EC6F5714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05C64-9C3B-4FF2-BE1B-25ADCB48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D8CAD-6831-4965-A292-17DA575C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33BF2-AE42-4288-93A8-5172DC5C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01651-FF2D-48C2-9E58-4F7C3F36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48207-AA8C-4EDA-89BF-D7BF5749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C94E5-64CF-43A8-A3F1-0B1DE741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30B2-E3D2-46CC-B763-602419EC085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B284-DC48-42BB-8C18-D2498DD37EA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DA88-F53D-4759-918E-80212435775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4410-43A0-4996-B2D1-8BEF3E09C18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F941-DBE7-454F-8A79-FA2B8AC4339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3010-8B89-4022-8DC0-79A3F147A8A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7278-ECB6-4A4B-93BC-D0AFA34B37A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F5DE-D244-4497-944F-33E6F307502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4BFE-98A5-4A75-8BB0-00F487F5176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C:\Users\admin\Desktop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2600" y="328680"/>
            <a:ext cx="8985240" cy="1493640"/>
          </a:xfrm>
          <a:prstGeom prst="rect">
            <a:avLst/>
          </a:prstGeom>
          <a:ln w="0">
            <a:noFill/>
          </a:ln>
        </p:spPr>
      </p:pic>
      <p:pic>
        <p:nvPicPr>
          <p:cNvPr id="427" name="Содержимое 3" descr="kumis03.jpg"/>
          <p:cNvPicPr/>
          <p:nvPr/>
        </p:nvPicPr>
        <p:blipFill>
          <a:blip r:embed="rId2"/>
          <a:stretch/>
        </p:blipFill>
        <p:spPr>
          <a:xfrm>
            <a:off x="1633680" y="155412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55600" y="652320"/>
            <a:ext cx="8437680" cy="1140120"/>
          </a:xfrm>
          <a:prstGeom prst="rect">
            <a:avLst/>
          </a:prstGeom>
          <a:ln w="0">
            <a:noFill/>
          </a:ln>
        </p:spPr>
      </p:pic>
      <p:pic>
        <p:nvPicPr>
          <p:cNvPr id="429" name="Содержимое 3" descr="9f12466ba92e.jpg"/>
          <p:cNvPicPr/>
          <p:nvPr/>
        </p:nvPicPr>
        <p:blipFill>
          <a:blip r:embed="rId2"/>
          <a:stretch/>
        </p:blipFill>
        <p:spPr>
          <a:xfrm>
            <a:off x="2743200" y="2389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1" name="Содержимое 3" descr="138-1.jpg"/>
          <p:cNvPicPr/>
          <p:nvPr/>
        </p:nvPicPr>
        <p:blipFill>
          <a:blip r:embed="rId2"/>
          <a:stretch/>
        </p:blipFill>
        <p:spPr>
          <a:xfrm>
            <a:off x="2743200" y="255096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33" name="Содержимое 3" descr="64eb20c76413.jpg"/>
          <p:cNvPicPr/>
          <p:nvPr/>
        </p:nvPicPr>
        <p:blipFill>
          <a:blip r:embed="rId2"/>
          <a:stretch/>
        </p:blipFill>
        <p:spPr>
          <a:xfrm>
            <a:off x="2743200" y="2389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5" name="Содержимое 3" descr="0651.jpg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7" name="Содержимое 3" descr="otvarnaya-kuryatina-s-kartoshkoi-po-bashkirski_1290201149_0.jpg"/>
          <p:cNvPicPr/>
          <p:nvPr/>
        </p:nvPicPr>
        <p:blipFill>
          <a:blip r:embed="rId2"/>
          <a:stretch/>
        </p:blipFill>
        <p:spPr>
          <a:xfrm>
            <a:off x="2076480" y="2103480"/>
            <a:ext cx="5143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39" name="Содержимое 3" descr="bishbarmak-sup-salma-425874.jpg"/>
          <p:cNvPicPr/>
          <p:nvPr/>
        </p:nvPicPr>
        <p:blipFill>
          <a:blip r:embed="rId2"/>
          <a:stretch/>
        </p:blipFill>
        <p:spPr>
          <a:xfrm>
            <a:off x="2266920" y="20304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41" name="Содержимое 3" descr="1300780740.jpg"/>
          <p:cNvPicPr/>
          <p:nvPr/>
        </p:nvPicPr>
        <p:blipFill>
          <a:blip r:embed="rId2"/>
          <a:stretch/>
        </p:blipFill>
        <p:spPr>
          <a:xfrm>
            <a:off x="1790640" y="167472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3" name="Содержимое 3" descr="043.jpg"/>
          <p:cNvPicPr/>
          <p:nvPr/>
        </p:nvPicPr>
        <p:blipFill>
          <a:blip r:embed="rId1"/>
          <a:stretch/>
        </p:blipFill>
        <p:spPr>
          <a:xfrm>
            <a:off x="4076640" y="2962440"/>
            <a:ext cx="11430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45" name="Содержимое 3" descr="068.jpg"/>
          <p:cNvPicPr/>
          <p:nvPr/>
        </p:nvPicPr>
        <p:blipFill>
          <a:blip r:embed="rId2"/>
          <a:stretch/>
        </p:blipFill>
        <p:spPr>
          <a:xfrm>
            <a:off x="3143160" y="1554120"/>
            <a:ext cx="3009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C:\Users\admin\Desktop\6a064bab103514954c8e88c031a2f29e6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7" name="Содержимое 3" descr="1967_1000.jp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Заголовок 1" descr=""/>
          <p:cNvPicPr/>
          <p:nvPr/>
        </p:nvPicPr>
        <p:blipFill>
          <a:blip r:embed="rId1"/>
          <a:stretch/>
        </p:blipFill>
        <p:spPr>
          <a:xfrm>
            <a:off x="225360" y="281160"/>
            <a:ext cx="8437680" cy="1309680"/>
          </a:xfrm>
          <a:prstGeom prst="rect">
            <a:avLst/>
          </a:prstGeom>
          <a:ln w="0">
            <a:noFill/>
          </a:ln>
        </p:spPr>
      </p:pic>
      <p:pic>
        <p:nvPicPr>
          <p:cNvPr id="449" name="Содержимое 3" descr="441.jpg"/>
          <p:cNvPicPr/>
          <p:nvPr/>
        </p:nvPicPr>
        <p:blipFill>
          <a:blip r:embed="rId2"/>
          <a:stretch/>
        </p:blipFill>
        <p:spPr>
          <a:xfrm>
            <a:off x="4076640" y="2962440"/>
            <a:ext cx="11430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420840" y="281160"/>
            <a:ext cx="8242200" cy="1309680"/>
          </a:xfrm>
          <a:prstGeom prst="rect">
            <a:avLst/>
          </a:prstGeom>
          <a:ln w="0">
            <a:noFill/>
          </a:ln>
        </p:spPr>
      </p:pic>
      <p:pic>
        <p:nvPicPr>
          <p:cNvPr id="451" name="Содержимое 3" descr="7867.jpg"/>
          <p:cNvPicPr/>
          <p:nvPr/>
        </p:nvPicPr>
        <p:blipFill>
          <a:blip r:embed="rId2"/>
          <a:stretch/>
        </p:blipFill>
        <p:spPr>
          <a:xfrm>
            <a:off x="2266920" y="2236680"/>
            <a:ext cx="47624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be-BY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</a:t>
            </a:r>
            <a:r>
              <a:rPr b="0" lang="be-BY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һөт һәм һөттән яһалған ризыҡтар</a:t>
            </a:r>
            <a:br>
              <a:rPr sz="4400"/>
            </a:br>
            <a:r>
              <a:rPr b="0" lang="be-BY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итле ризыҡтар</a:t>
            </a:r>
            <a:br>
              <a:rPr sz="4400"/>
            </a:br>
            <a:r>
              <a:rPr b="0" lang="be-BY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көндәлек ризығы – иген аҙыҡтары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5" name=""/>
          <p:cNvGraphicFramePr/>
          <p:nvPr/>
        </p:nvGraphicFramePr>
        <p:xfrm>
          <a:off x="5143680" y="1857240"/>
          <a:ext cx="3071520" cy="371520"/>
        </p:xfrm>
        <a:graphic>
          <a:graphicData uri="http://schemas.openxmlformats.org/drawingml/2006/table">
            <a:tbl>
              <a:tblPr/>
              <a:tblGrid>
                <a:gridCol w="850680"/>
                <a:gridCol w="800280"/>
                <a:gridCol w="709560"/>
                <a:gridCol w="711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143080" y="2286000"/>
          <a:ext cx="6072120" cy="37152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14240"/>
                <a:gridCol w="714600"/>
                <a:gridCol w="857160"/>
                <a:gridCol w="785880"/>
                <a:gridCol w="714240"/>
                <a:gridCol w="714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928800" y="2714760"/>
          <a:ext cx="6595920" cy="371520"/>
        </p:xfrm>
        <a:graphic>
          <a:graphicData uri="http://schemas.openxmlformats.org/drawingml/2006/table">
            <a:tbl>
              <a:tblPr/>
              <a:tblGrid>
                <a:gridCol w="571320"/>
                <a:gridCol w="642960"/>
                <a:gridCol w="785880"/>
                <a:gridCol w="785880"/>
                <a:gridCol w="714240"/>
                <a:gridCol w="714600"/>
                <a:gridCol w="857160"/>
                <a:gridCol w="760320"/>
                <a:gridCol w="763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2857680" y="3143160"/>
          <a:ext cx="6095880" cy="371520"/>
        </p:xfrm>
        <a:graphic>
          <a:graphicData uri="http://schemas.openxmlformats.org/drawingml/2006/table">
            <a:tbl>
              <a:tblPr/>
              <a:tblGrid>
                <a:gridCol w="857160"/>
                <a:gridCol w="666720"/>
                <a:gridCol w="762120"/>
                <a:gridCol w="857160"/>
                <a:gridCol w="785880"/>
                <a:gridCol w="64296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3714840" y="3643200"/>
          <a:ext cx="3071880" cy="371520"/>
        </p:xfrm>
        <a:graphic>
          <a:graphicData uri="http://schemas.openxmlformats.org/drawingml/2006/table">
            <a:tbl>
              <a:tblPr/>
              <a:tblGrid>
                <a:gridCol w="642960"/>
                <a:gridCol w="785880"/>
                <a:gridCol w="857160"/>
                <a:gridCol w="785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1" descr="46f4c6542deb.jpg"/>
          <p:cNvPicPr/>
          <p:nvPr/>
        </p:nvPicPr>
        <p:blipFill>
          <a:blip r:embed="rId1"/>
          <a:stretch/>
        </p:blipFill>
        <p:spPr>
          <a:xfrm>
            <a:off x="500040" y="285840"/>
            <a:ext cx="3652920" cy="321444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2" descr="0761.jpg"/>
          <p:cNvPicPr/>
          <p:nvPr/>
        </p:nvPicPr>
        <p:blipFill>
          <a:blip r:embed="rId2"/>
          <a:stretch/>
        </p:blipFill>
        <p:spPr>
          <a:xfrm>
            <a:off x="4429080" y="1071720"/>
            <a:ext cx="4429080" cy="4214520"/>
          </a:xfrm>
          <a:prstGeom prst="rect">
            <a:avLst/>
          </a:prstGeom>
          <a:ln w="0">
            <a:noFill/>
          </a:ln>
        </p:spPr>
      </p:pic>
      <p:pic>
        <p:nvPicPr>
          <p:cNvPr id="462" name="Рисунок 3" descr="831774_7360-800x600.jpg"/>
          <p:cNvPicPr/>
          <p:nvPr/>
        </p:nvPicPr>
        <p:blipFill>
          <a:blip r:embed="rId3"/>
          <a:stretch/>
        </p:blipFill>
        <p:spPr>
          <a:xfrm>
            <a:off x="642960" y="3857760"/>
            <a:ext cx="3448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56760" y="1554120"/>
            <a:ext cx="8634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2" descr="C:\Users\admin\Desktop\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98440" y="133200"/>
            <a:ext cx="8699400" cy="2043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8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ba-RU" sz="8800" spc="-1" strike="noStrike">
                <a:solidFill>
                  <a:srgbClr val="7030a0"/>
                </a:solidFill>
                <a:latin typeface="Franklin Gothic Book"/>
              </a:rPr>
              <a:t>Отҡорҙар</a:t>
            </a:r>
            <a:r>
              <a:rPr b="0" lang="ba-RU" sz="88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</a:t>
            </a:r>
            <a:r>
              <a:rPr b="0" lang="ba-RU" sz="8800" spc="-1" strike="noStrike">
                <a:solidFill>
                  <a:srgbClr val="ffff00"/>
                </a:solidFill>
                <a:latin typeface="Franklin Gothic Book"/>
              </a:rPr>
              <a:t>Тапҡырҙар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669960" y="1920960"/>
            <a:ext cx="8486640" cy="3065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9" name="Содержимое 3" descr="1111(2).jpg"/>
          <p:cNvPicPr/>
          <p:nvPr/>
        </p:nvPicPr>
        <p:blipFill>
          <a:blip r:embed="rId1"/>
          <a:stretch/>
        </p:blipFill>
        <p:spPr>
          <a:xfrm>
            <a:off x="1790640" y="1808280"/>
            <a:ext cx="57150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0632.jpg"/>
          <p:cNvPicPr/>
          <p:nvPr/>
        </p:nvPicPr>
        <p:blipFill>
          <a:blip r:embed="rId2"/>
          <a:stretch/>
        </p:blipFill>
        <p:spPr>
          <a:xfrm>
            <a:off x="3143160" y="1554120"/>
            <a:ext cx="3009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225360" y="353880"/>
            <a:ext cx="8437680" cy="1157400"/>
          </a:xfrm>
          <a:prstGeom prst="rect">
            <a:avLst/>
          </a:prstGeom>
          <a:ln w="0">
            <a:noFill/>
          </a:ln>
        </p:spPr>
      </p:pic>
      <p:pic>
        <p:nvPicPr>
          <p:cNvPr id="423" name="Содержимое 3" descr="091-maslo1.jpg"/>
          <p:cNvPicPr/>
          <p:nvPr/>
        </p:nvPicPr>
        <p:blipFill>
          <a:blip r:embed="rId2"/>
          <a:stretch/>
        </p:blipFill>
        <p:spPr>
          <a:xfrm>
            <a:off x="1155600" y="1741320"/>
            <a:ext cx="69850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5" name="Содержимое 3" descr="d181d0bad0b0d0bdd0b8d180d0bed0b2d0b0d0bdd0b8d0b50507.jpg"/>
          <p:cNvPicPr/>
          <p:nvPr/>
        </p:nvPicPr>
        <p:blipFill>
          <a:blip r:embed="rId1"/>
          <a:stretch/>
        </p:blipFill>
        <p:spPr>
          <a:xfrm>
            <a:off x="3251160" y="1554120"/>
            <a:ext cx="279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1:32:51Z</dcterms:created>
  <dc:creator>ДИЛЯ</dc:creator>
  <dc:description/>
  <dc:language>en-US</dc:language>
  <cp:lastModifiedBy>admin</cp:lastModifiedBy>
  <dcterms:modified xsi:type="dcterms:W3CDTF">2021-05-16T17:47:03Z</dcterms:modified>
  <cp:revision>35</cp:revision>
  <dc:subject/>
  <dc:title>“Башҡорт   милли  аштары”, Ҡылымдың  үткән  заман формаһы.</dc:title>
</cp:coreProperties>
</file>