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9.png" ContentType="image/png"/>
  <Override PartName="/ppt/media/image39.png" ContentType="image/png"/>
  <Override PartName="/ppt/media/image35.png" ContentType="image/png"/>
  <Override PartName="/ppt/media/image43.jpeg" ContentType="image/jpeg"/>
  <Override PartName="/ppt/media/image20.png" ContentType="image/png"/>
  <Override PartName="/ppt/media/image36.jpeg" ContentType="image/jpeg"/>
  <Override PartName="/ppt/media/image4.jpeg" ContentType="image/jpeg"/>
  <Override PartName="/ppt/media/image40.png" ContentType="image/png"/>
  <Override PartName="/ppt/media/image8.png" ContentType="image/png"/>
  <Override PartName="/ppt/media/image14.jpeg" ContentType="image/jpeg"/>
  <Override PartName="/ppt/media/image41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4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2762-5A38-4AC6-BB09-767827A6F9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0114-7B4F-44D5-92AB-FCA80959C0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EE2-15E9-42BA-8EC4-49E45663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5B0-4478-4567-8C81-91096E2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68B77-27C4-45F4-9754-A569210B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B9704-2E03-4979-9EB5-0834800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F0BA0-9A0E-41E1-AC4D-13D13050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37E02-8DDE-4177-BFF7-092C53E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D69A5-DB3F-4A63-9799-994785DF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0E773-3942-4403-91D9-E8F729F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78040-6436-4CDA-836B-396D28F9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D76FD-E929-457A-8F90-41B0A433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46FBA-BCBF-49D3-ADC6-25899A9E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390-96D5-4BD0-B382-B0306389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17E-A48A-4908-B157-A99D2AE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21F8-3E0F-476A-9897-1FB28AF1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7FA-A38F-49BA-9F80-30ED66A4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2453-1999-4014-805F-16809D55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AFA9-4A49-48F5-8D29-480A2D8B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FACE-BD59-4D8B-AC13-7EE4A10D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5E8A-5F48-41FF-B837-F2D7089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6D1E-198F-4FCF-910D-6CDDF81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88A-7E40-4FA8-B576-95B26B7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376-BCDF-45DD-B68A-5EED097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D572-B630-41EB-8856-A9DD115A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C7A-ED0B-4C60-ADC5-1C8DDBDA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5F7-E712-4022-8965-147AF9A8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AFD9-5FA2-4A24-9489-23B1400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7696-72CA-408A-AA48-4A13902C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9173-7D81-4F77-97E9-B90A5976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FA5D-05CD-40F2-8081-2CFE8F3A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F0CF-1776-4BC3-96E5-124674F6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22D9-E83A-42FC-89C2-5801EE30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524-91EF-409E-BA6F-66F2A97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5F22-446E-4275-8BF4-4AD23D0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86BC-6276-497A-9970-E4D0589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A78D6-F283-44AF-A715-D6DF9CF1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D37B-365F-47F9-98B8-E48346B3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B9D89-C35E-488E-89E5-E412366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3B72-09A9-440F-8233-682E5CF7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681F-770B-4D02-9A8A-D83B5AB3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9048-A0EB-4044-965D-9AD75CDC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BCB3-F672-4A7A-B95A-2E92084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DE25-012A-4827-A386-08358CD8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AB4-8867-4EFD-BD4D-E4FFF9F6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2132-0E49-42F2-B2E1-7B48D6E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C5D7-9555-4E7E-AE46-745F7FA5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1AEF-6236-42F2-85E6-662DF95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95F2-F495-49DE-BE77-D048755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B338-825D-4153-AF88-4F6ADCB2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AA62-4466-41FA-AED2-B3633EFE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A5DC-4BEB-4055-8084-8282FC03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BBE1-C73C-4420-B288-61996F3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36E05-D376-48BF-9C0A-AE38EAEF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A606B-A792-4BEB-8295-24B6108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9E5-A171-4F00-A3E8-F6171DD1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82A61-F75B-4990-B3FC-4DD6841F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241F-459E-4DAD-913A-CC601588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E811-0029-4B37-BEB8-E14F824D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F10B-DB8D-4CA3-A5A6-DCFEB9EB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668D-84D1-4EEE-B8CB-408CB7A6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B0AC-BC53-4AA1-B9AF-1D997CC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9D6B8-F2D4-4F3B-B77A-989CD457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964FB-5422-4109-9688-CE55EF76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5AA70-1B6F-4FD5-AC19-A9326E97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DEF66-20BA-42AA-9A80-C3DB78EE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5CB5-3088-411D-9C5B-B423AEB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09AF-2579-4615-8482-AE43FAC3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E864-35EC-4702-A781-CBE0F38B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2ADFE-3075-4F54-B6C7-F3B8C066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B385D-B3C3-4A7E-9983-2AF2052E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8464A-3D9C-4AFD-866A-FBC3E921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93BC-FFF1-46E2-B35A-9D9092D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50C0-7FCC-4D69-9CB7-D90ECCC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0BCB-78A2-487C-A012-F6B5B6B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9483-C84F-462E-A838-E194D6FA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CADDB-4199-456C-B5E0-288FAC6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525-6FE6-4B4C-94B1-29A9EAFC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25AA-0E5D-4CD9-8F61-0B73683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3BF20-93C1-48F8-9B46-39A5410C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9395-7E48-4322-BAF0-C97A2557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8AF1-C593-4FD3-A052-59714ED8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E45E-B33A-4EF7-BE57-8142D49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E22D-E642-485B-AD53-7C6AD42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8DA3A-D8F0-4C52-B557-7E38DF90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D3AA3-0236-4F09-A44F-539E5304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0703-AFC5-4400-9653-9B3F0410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1F3C1-8E5A-4160-93D2-65238714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9AB-F64B-451E-B118-CDAD3E79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C272-E879-4302-B846-7DE23EC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5D3B-CEFF-494E-BD2E-3D7E42C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BC12-2FC0-4E46-B4D3-29B78F25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08C7F-5134-4008-AD52-5F84DED3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D914-F7F9-49C9-BA3C-7A0C8792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EE940-C05E-41F8-85C9-75089F19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6B788-F08D-4350-A78E-535B99C9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03B6-00F4-454B-BEF4-54714B95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65BDE-5E4E-4730-B656-E4C59C6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8F64-1737-4A8D-8762-E08F8784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694-CF32-4234-859F-5AB6711D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593C6-1410-4309-99A5-068418F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FDD0A-27E1-4617-9AFA-98E96221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2855F-A6A7-4026-A59E-642EAAB9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F3453-9093-4243-A2F5-1F93A257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FF7BC-1362-4F14-B11B-7212763C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C848D-5CE8-446C-AFAA-6E07B5F1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9E867-F71D-44ED-84B7-0ED51D84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B5332-663A-4A21-940F-CCF4FD3A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5D90B-680D-4B33-BD49-1ECE2CF8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524C6-4FBE-4CE7-BC85-A57BD651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7812-8163-4264-AEA4-E56484769E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653B-9CDB-4CF9-A1CF-823133FCD02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D334-DE13-4179-B5EF-6B0D362070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5029-B95D-462E-B541-8E4D53C4113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09D-4B8A-4EC0-B085-31E4DE3E6A3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1603-A4C3-450D-BC20-FC94B02C20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4AD1-F902-475F-903E-07AF6EDF8C5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2E8C-F8AE-43EA-998F-9CEDC8DDFB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98E8-4B56-4996-B9B9-0BAEE446F8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Users\admin\Desktop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2600" y="328680"/>
            <a:ext cx="8985240" cy="149364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3" descr="kumis03.jpg"/>
          <p:cNvPicPr/>
          <p:nvPr/>
        </p:nvPicPr>
        <p:blipFill>
          <a:blip r:embed="rId2"/>
          <a:stretch/>
        </p:blipFill>
        <p:spPr>
          <a:xfrm>
            <a:off x="1633680" y="155412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255600" y="652320"/>
            <a:ext cx="8437680" cy="1140120"/>
          </a:xfrm>
          <a:prstGeom prst="rect">
            <a:avLst/>
          </a:prstGeom>
          <a:ln w="0">
            <a:noFill/>
          </a:ln>
        </p:spPr>
      </p:pic>
      <p:pic>
        <p:nvPicPr>
          <p:cNvPr id="429" name="Содержимое 3" descr="9f12466ba92e.jpg"/>
          <p:cNvPicPr/>
          <p:nvPr/>
        </p:nvPicPr>
        <p:blipFill>
          <a:blip r:embed="rId2"/>
          <a:stretch/>
        </p:blipFill>
        <p:spPr>
          <a:xfrm>
            <a:off x="2743200" y="2389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1" name="Содержимое 3" descr="138-1.jpg"/>
          <p:cNvPicPr/>
          <p:nvPr/>
        </p:nvPicPr>
        <p:blipFill>
          <a:blip r:embed="rId2"/>
          <a:stretch/>
        </p:blipFill>
        <p:spPr>
          <a:xfrm>
            <a:off x="2743200" y="25509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Содержимое 3" descr="64eb20c76413.jpg"/>
          <p:cNvPicPr/>
          <p:nvPr/>
        </p:nvPicPr>
        <p:blipFill>
          <a:blip r:embed="rId2"/>
          <a:stretch/>
        </p:blipFill>
        <p:spPr>
          <a:xfrm>
            <a:off x="2743200" y="2389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5" name="Содержимое 3" descr="0651.jpg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7" name="Содержимое 3" descr="otvarnaya-kuryatina-s-kartoshkoi-po-bashkirski_1290201149_0.jpg"/>
          <p:cNvPicPr/>
          <p:nvPr/>
        </p:nvPicPr>
        <p:blipFill>
          <a:blip r:embed="rId2"/>
          <a:stretch/>
        </p:blipFill>
        <p:spPr>
          <a:xfrm>
            <a:off x="2076480" y="2103480"/>
            <a:ext cx="5143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Содержимое 3" descr="bishbarmak-sup-salma-425874.jpg"/>
          <p:cNvPicPr/>
          <p:nvPr/>
        </p:nvPicPr>
        <p:blipFill>
          <a:blip r:embed="rId2"/>
          <a:stretch/>
        </p:blipFill>
        <p:spPr>
          <a:xfrm>
            <a:off x="2266920" y="203040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41" name="Содержимое 3" descr="1300780740.jpg"/>
          <p:cNvPicPr/>
          <p:nvPr/>
        </p:nvPicPr>
        <p:blipFill>
          <a:blip r:embed="rId2"/>
          <a:stretch/>
        </p:blipFill>
        <p:spPr>
          <a:xfrm>
            <a:off x="1790640" y="167472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3" name="Содержимое 3" descr="043.jpg"/>
          <p:cNvPicPr/>
          <p:nvPr/>
        </p:nvPicPr>
        <p:blipFill>
          <a:blip r:embed="rId1"/>
          <a:stretch/>
        </p:blipFill>
        <p:spPr>
          <a:xfrm>
            <a:off x="4076640" y="2962440"/>
            <a:ext cx="1143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3" descr="068.jpg"/>
          <p:cNvPicPr/>
          <p:nvPr/>
        </p:nvPicPr>
        <p:blipFill>
          <a:blip r:embed="rId2"/>
          <a:stretch/>
        </p:blipFill>
        <p:spPr>
          <a:xfrm>
            <a:off x="3143160" y="155412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Users\admin\Desktop\6a064bab103514954c8e88c031a2f29e6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7" name="Содержимое 3" descr="1967_1000.jpg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225360" y="281160"/>
            <a:ext cx="8437680" cy="1309680"/>
          </a:xfrm>
          <a:prstGeom prst="rect">
            <a:avLst/>
          </a:prstGeom>
          <a:ln w="0">
            <a:noFill/>
          </a:ln>
        </p:spPr>
      </p:pic>
      <p:pic>
        <p:nvPicPr>
          <p:cNvPr id="449" name="Содержимое 3" descr="441.jpg"/>
          <p:cNvPicPr/>
          <p:nvPr/>
        </p:nvPicPr>
        <p:blipFill>
          <a:blip r:embed="rId2"/>
          <a:stretch/>
        </p:blipFill>
        <p:spPr>
          <a:xfrm>
            <a:off x="4076640" y="2962440"/>
            <a:ext cx="1143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242200" cy="130968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7867.jpg"/>
          <p:cNvPicPr/>
          <p:nvPr/>
        </p:nvPicPr>
        <p:blipFill>
          <a:blip r:embed="rId2"/>
          <a:stretch/>
        </p:blipFill>
        <p:spPr>
          <a:xfrm>
            <a:off x="2266920" y="2236680"/>
            <a:ext cx="4762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e-BY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</a:t>
            </a: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һөт һәм һөттән яһалған ризыҡтар</a:t>
            </a:r>
            <a:br>
              <a:rPr sz="4400"/>
            </a:b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итле ризыҡтар</a:t>
            </a:r>
            <a:br>
              <a:rPr sz="4400"/>
            </a:br>
            <a:r>
              <a:rPr b="0" lang="be-BY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көндәлек ризығы – иген аҙыҡтары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5" name=""/>
          <p:cNvGraphicFramePr/>
          <p:nvPr/>
        </p:nvGraphicFramePr>
        <p:xfrm>
          <a:off x="5143680" y="1857240"/>
          <a:ext cx="3071520" cy="371520"/>
        </p:xfrm>
        <a:graphic>
          <a:graphicData uri="http://schemas.openxmlformats.org/drawingml/2006/table">
            <a:tbl>
              <a:tblPr/>
              <a:tblGrid>
                <a:gridCol w="850680"/>
                <a:gridCol w="800280"/>
                <a:gridCol w="709560"/>
                <a:gridCol w="711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143080" y="2286000"/>
          <a:ext cx="6072120" cy="37152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14240"/>
                <a:gridCol w="714600"/>
                <a:gridCol w="857160"/>
                <a:gridCol w="785880"/>
                <a:gridCol w="714240"/>
                <a:gridCol w="71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928800" y="2714760"/>
          <a:ext cx="6595920" cy="371520"/>
        </p:xfrm>
        <a:graphic>
          <a:graphicData uri="http://schemas.openxmlformats.org/drawingml/2006/table">
            <a:tbl>
              <a:tblPr/>
              <a:tblGrid>
                <a:gridCol w="571320"/>
                <a:gridCol w="642960"/>
                <a:gridCol w="785880"/>
                <a:gridCol w="785880"/>
                <a:gridCol w="714240"/>
                <a:gridCol w="714600"/>
                <a:gridCol w="857160"/>
                <a:gridCol w="760320"/>
                <a:gridCol w="763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2857680" y="3143160"/>
          <a:ext cx="6095880" cy="371520"/>
        </p:xfrm>
        <a:graphic>
          <a:graphicData uri="http://schemas.openxmlformats.org/drawingml/2006/table">
            <a:tbl>
              <a:tblPr/>
              <a:tblGrid>
                <a:gridCol w="857160"/>
                <a:gridCol w="666720"/>
                <a:gridCol w="762120"/>
                <a:gridCol w="857160"/>
                <a:gridCol w="785880"/>
                <a:gridCol w="64296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3714840" y="3643200"/>
          <a:ext cx="3071880" cy="371520"/>
        </p:xfrm>
        <a:graphic>
          <a:graphicData uri="http://schemas.openxmlformats.org/drawingml/2006/table">
            <a:tbl>
              <a:tblPr/>
              <a:tblGrid>
                <a:gridCol w="642960"/>
                <a:gridCol w="785880"/>
                <a:gridCol w="857160"/>
                <a:gridCol w="785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1" descr="46f4c6542deb.jpg"/>
          <p:cNvPicPr/>
          <p:nvPr/>
        </p:nvPicPr>
        <p:blipFill>
          <a:blip r:embed="rId1"/>
          <a:stretch/>
        </p:blipFill>
        <p:spPr>
          <a:xfrm>
            <a:off x="500040" y="285840"/>
            <a:ext cx="3652920" cy="32144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" descr="0761.jpg"/>
          <p:cNvPicPr/>
          <p:nvPr/>
        </p:nvPicPr>
        <p:blipFill>
          <a:blip r:embed="rId2"/>
          <a:stretch/>
        </p:blipFill>
        <p:spPr>
          <a:xfrm>
            <a:off x="4429080" y="1071720"/>
            <a:ext cx="4429080" cy="421452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3" descr="831774_7360-800x600.jpg"/>
          <p:cNvPicPr/>
          <p:nvPr/>
        </p:nvPicPr>
        <p:blipFill>
          <a:blip r:embed="rId3"/>
          <a:stretch/>
        </p:blipFill>
        <p:spPr>
          <a:xfrm>
            <a:off x="642960" y="3857760"/>
            <a:ext cx="3448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56760" y="1554120"/>
            <a:ext cx="8634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admin\Desktop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98440" y="133200"/>
            <a:ext cx="8699400" cy="2043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8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ba-RU" sz="8800" spc="-1" strike="noStrike">
                <a:solidFill>
                  <a:srgbClr val="7030a0"/>
                </a:solidFill>
                <a:latin typeface="Franklin Gothic Book"/>
              </a:rPr>
              <a:t>Отҡорҙар</a:t>
            </a:r>
            <a:r>
              <a:rPr b="0" lang="ba-RU" sz="88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</a:t>
            </a:r>
            <a:r>
              <a:rPr b="0" lang="ba-RU" sz="8800" spc="-1" strike="noStrike">
                <a:solidFill>
                  <a:srgbClr val="ffff00"/>
                </a:solidFill>
                <a:latin typeface="Franklin Gothic Book"/>
              </a:rPr>
              <a:t>Тапҡырҙар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669960" y="1920960"/>
            <a:ext cx="8486640" cy="306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Содержимое 3" descr="1111(2).jpg"/>
          <p:cNvPicPr/>
          <p:nvPr/>
        </p:nvPicPr>
        <p:blipFill>
          <a:blip r:embed="rId1"/>
          <a:stretch/>
        </p:blipFill>
        <p:spPr>
          <a:xfrm>
            <a:off x="1790640" y="1808280"/>
            <a:ext cx="57150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0632.jpg"/>
          <p:cNvPicPr/>
          <p:nvPr/>
        </p:nvPicPr>
        <p:blipFill>
          <a:blip r:embed="rId2"/>
          <a:stretch/>
        </p:blipFill>
        <p:spPr>
          <a:xfrm>
            <a:off x="3143160" y="155412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225360" y="353880"/>
            <a:ext cx="8437680" cy="115740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3" descr="091-maslo1.jpg"/>
          <p:cNvPicPr/>
          <p:nvPr/>
        </p:nvPicPr>
        <p:blipFill>
          <a:blip r:embed="rId2"/>
          <a:stretch/>
        </p:blipFill>
        <p:spPr>
          <a:xfrm>
            <a:off x="1155600" y="1741320"/>
            <a:ext cx="6985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Содержимое 3" descr="d181d0bad0b0d0bdd0b8d180d0bed0b2d0b0d0bdd0b8d0b50507.jpg"/>
          <p:cNvPicPr/>
          <p:nvPr/>
        </p:nvPicPr>
        <p:blipFill>
          <a:blip r:embed="rId1"/>
          <a:stretch/>
        </p:blipFill>
        <p:spPr>
          <a:xfrm>
            <a:off x="3251160" y="1554120"/>
            <a:ext cx="279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1:32:51Z</dcterms:created>
  <dc:creator>ДИЛЯ</dc:creator>
  <dc:description/>
  <dc:language>en-US</dc:language>
  <cp:lastModifiedBy>admin</cp:lastModifiedBy>
  <dcterms:modified xsi:type="dcterms:W3CDTF">2021-05-16T17:47:03Z</dcterms:modified>
  <cp:revision>35</cp:revision>
  <dc:subject/>
  <dc:title>“Башҡорт   милли  аштары”, Ҡылымдың  үткән  заман формаһы.</dc:title>
</cp:coreProperties>
</file>