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9.png" ContentType="image/png"/>
  <Override PartName="/ppt/media/image40.jpeg" ContentType="image/jpeg"/>
  <Override PartName="/ppt/media/image44.jpeg" ContentType="image/jpeg"/>
  <Override PartName="/ppt/media/image37.jpeg" ContentType="image/jpeg"/>
  <Override PartName="/ppt/media/image50.jpeg" ContentType="image/jpeg"/>
  <Override PartName="/ppt/media/image13.png" ContentType="image/png"/>
  <Override PartName="/ppt/media/image41.jpeg" ContentType="image/jpeg"/>
  <Override PartName="/ppt/media/image45.jpeg" ContentType="image/jpeg"/>
  <Override PartName="/ppt/media/image31.jpeg" ContentType="image/jpeg"/>
  <Override PartName="/ppt/media/image48.jpeg" ContentType="image/jpeg"/>
  <Override PartName="/ppt/media/image46.jpeg" ContentType="image/jpeg"/>
  <Override PartName="/ppt/media/image51.jpeg" ContentType="image/jpeg"/>
  <Override PartName="/ppt/media/image30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8.jpeg" ContentType="image/jpeg"/>
  <Override PartName="/ppt/media/image28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348-4FC1-4470-B361-50EA42DC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813-4410-4D68-B4AA-C8529BD3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900-351C-473D-B8DA-8D5F2A11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B9A-2BF8-4E69-BD10-193FA52B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A111-90F6-45DA-AD89-34CD1649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860A-286C-412C-8888-BCF20BF7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7116-45CF-43CF-8E0E-34E68FD2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46F5-C919-4DB5-84FD-06840A15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1B21-23E4-46F0-960F-FA935266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C1C7-AF53-4E22-8E4A-4A226600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2799-0E9C-470D-A01F-9942D23C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CCB-5FCE-4571-B82B-CD7ABC0F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2D19-0F8C-41BA-979C-E39C81F5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D8DE-35E8-4457-A25D-3E375D5D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1581-2FAB-44F8-A9D7-224FBC05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5B39-0EEB-4F4E-A068-5733C518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72A8-84FE-4144-90EE-0895638F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3B8-B279-4D64-B1B3-C34AC10D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01D-FA78-4FBF-ABDB-DD1A78A5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B46-9A07-4C9E-B51D-9BC78980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E95-7740-4DCE-8D64-FA3AF18A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DCE-9C23-4E4C-98D8-936D5E42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5FA-1154-47B2-8780-F5435498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773-BC5C-46C1-8952-5C3470C2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480" y="3759120"/>
                <a:ext cx="72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3200"/>
                <a:ext cx="1336680" cy="150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4280" y="973800"/>
                <a:ext cx="83772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BE7F-E19B-4EB4-9E43-3D10FE5A6197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480" y="3759120"/>
                <a:ext cx="72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3200"/>
                <a:ext cx="1336680" cy="150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4280" y="973800"/>
                <a:ext cx="83772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59760" y="1428120"/>
              <a:ext cx="1106280" cy="1095840"/>
              <a:chOff x="5459760" y="1428120"/>
              <a:chExt cx="1106280" cy="109584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9760" y="1428120"/>
                <a:ext cx="1106280" cy="109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680" y="1605600"/>
                <a:ext cx="75384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4360"/>
              <a:ext cx="855000" cy="845640"/>
              <a:chOff x="5627160" y="1404360"/>
              <a:chExt cx="855000" cy="84564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4360"/>
                <a:ext cx="855000" cy="84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9720" y="1544400"/>
                <a:ext cx="57600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4480" y="1874880"/>
              <a:ext cx="621720" cy="631080"/>
              <a:chOff x="5244480" y="1874880"/>
              <a:chExt cx="621720" cy="63108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4480" y="1874880"/>
                <a:ext cx="621720" cy="63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0320" y="1983240"/>
                <a:ext cx="41760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11880" y="1791360"/>
              <a:ext cx="508320" cy="511920"/>
              <a:chOff x="5411880" y="1791360"/>
              <a:chExt cx="508320" cy="51192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11880" y="1791360"/>
                <a:ext cx="508320" cy="5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8640" y="1885680"/>
                <a:ext cx="3398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65680"/>
              <a:ext cx="280800" cy="279720"/>
              <a:chOff x="4718160" y="2065680"/>
              <a:chExt cx="280800" cy="2797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65680"/>
                <a:ext cx="280800" cy="2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3240" y="2118600"/>
                <a:ext cx="177840" cy="17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5600" y="993600"/>
              <a:ext cx="280800" cy="285840"/>
              <a:chOff x="6105600" y="993600"/>
              <a:chExt cx="280800" cy="28584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5600" y="993600"/>
                <a:ext cx="28080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9600" y="1053360"/>
                <a:ext cx="177840" cy="17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2960" y="1881000"/>
              <a:ext cx="221040" cy="220320"/>
              <a:chOff x="5052960" y="1881000"/>
              <a:chExt cx="221040" cy="2203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2960" y="1881000"/>
                <a:ext cx="221040" cy="22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099040" y="1925640"/>
                <a:ext cx="1368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23600" y="1064880"/>
              <a:ext cx="221040" cy="220320"/>
              <a:chOff x="6123600" y="1064880"/>
              <a:chExt cx="221040" cy="22032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23600" y="1064880"/>
                <a:ext cx="221040" cy="22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7880" y="1110600"/>
                <a:ext cx="1368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D707-780E-4AA1-9679-366D10438D9C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85;&#1072;&#1075;&#1088;&#1091;&#1076;&#1085;&#1086;&#1077;%20&#1091;&#1082;&#1088;&#1072;&#1096;&#1077;&#1085;&#1080;&#1077;%20&#1090;&#1072;&#1090;&#1072;&#1088;&#1089;&#1082;&#1086;&#1081;%20&#1085;&#1072;&#1094;&#1080;&#1086;&#1085;&#1072;&#1083;&#1100;&#1085;&#1086;&#1081;%20&#1086;&#1076;&#1077;&#1078;&#1076;&#1099;&amp;noreask=1&amp;pos=12&amp;lr=43&amp;rpt=simage&amp;family=yes&amp;uinfo=ww-1282-wh-645-fw-1057-fh-448-pd-1.0499999523162841&amp;img_url=http://lit.convdocs.org/tw_files2/urls_1/246/d-245284/7z-docs/4_html_m5120deba.png" TargetMode="External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54277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атарский национальный костюм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2400" spc="-1" strike="noStrike">
              <a:solidFill>
                <a:srgbClr val="404040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714920" y="571680"/>
            <a:ext cx="39337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1262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ю – женское нагрудное украшение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8" name="Объект 5" descr="http://rushkolnik.ru/tw_files2/urls_3/1136/d-1135265/7z-docs/4_html_m5120deba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600200"/>
            <a:ext cx="550548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58920" y="907560"/>
            <a:ext cx="50418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ышное нагрудное украшение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ю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которое нашивается на платье. Представляет собой широкую ленту галуна, унизанную металлическими бляхами, брошками, монетами, самоцветами и бухарскими пряжками. Это украшение носят преимущественно замужние женщины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684360" y="752400"/>
            <a:ext cx="2178000" cy="3057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6380280" y="4149720"/>
            <a:ext cx="23400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чиги  ( читек) – национальная обувь.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br>
              <a:rPr sz="2800"/>
            </a:b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жаная мозаика- один из традиционных видов татарского народного искусства – находит применение в создании цветной узорной обуви</a:t>
            </a:r>
            <a:br>
              <a:rPr sz="28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3" name="Рисунок 4" descr="http://www.621.metallostroy.ru/etn_portret/img/tatar17.jpg"/>
          <p:cNvPicPr/>
          <p:nvPr/>
        </p:nvPicPr>
        <p:blipFill>
          <a:blip r:embed="rId1"/>
          <a:stretch/>
        </p:blipFill>
        <p:spPr>
          <a:xfrm>
            <a:off x="2195640" y="2781360"/>
            <a:ext cx="42480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зорные кожаные ичиги были составной частью ансамбля костюма женщин и мужчин представителей татарской феодальной знати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5" name="Объект 3" descr="http://witkom.ucoz.ru/_ph/38/2/750856191.jpg"/>
          <p:cNvPicPr/>
          <p:nvPr/>
        </p:nvPicPr>
        <p:blipFill>
          <a:blip r:embed="rId1"/>
          <a:stretch/>
        </p:blipFill>
        <p:spPr>
          <a:xfrm>
            <a:off x="2411280" y="2492280"/>
            <a:ext cx="42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229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стюм высших сословий отличался драгоценностью материалов (тканей, нитей), усложненностью кроя, деталей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6012000" y="2205000"/>
            <a:ext cx="197316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40000" y="274320"/>
            <a:ext cx="454644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енский костюм состоял из свободной расширяющейся книзу просторной рубахи (кульмек), сшитой из однотонных тканей –атласа, тафты, парчи, шелка, сатина со стоячим воротом и разрезом на груди и камзола.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Камзол надевался поверх кульмека и представлял собой удлиненный жилет, плотно облегающий тело до талии  и широкими фалдами  к низу. Ее шили из тяжелых тканей: бархата, сукна, парчи и т.д.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орта, подол, рукава могли быть украшены позументом, галуном, птичьими перьями и мехом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енщины носили однотонные штаны. </a:t>
            </a: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258920" y="525600"/>
            <a:ext cx="252108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079520" y="476280"/>
            <a:ext cx="4606920" cy="564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новой мужского татарского костюма является рубаха и штаны. В татарском костюме рубаха была намного длиннее и шире. Ее шили очень свободной, с длиной до колен. Рукава были широкие и длинные. Рубаха никогда не имела пояса. В татарских костюмах разрез делали на правой стороне груди. Этим и отличается их крой от русских рубах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таны татарского костюма, если судить по крою, представляли собой поясную одежду, характерную для тюркоязычных народов. Ее называют штанами с широким шагом. Полосатая ткань использовалась для пошива мужских брюк татарского костюма.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7" name="Рисунок 4" descr="http://stranamasterov.ru/img4/i2012/08/28/tatary.jpg"/>
          <p:cNvPicPr/>
          <p:nvPr/>
        </p:nvPicPr>
        <p:blipFill>
          <a:blip r:embed="rId1"/>
          <a:srcRect l="47732" t="0" r="6400" b="0"/>
          <a:stretch/>
        </p:blipFill>
        <p:spPr>
          <a:xfrm>
            <a:off x="1476360" y="765000"/>
            <a:ext cx="2173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43280" y="476280"/>
            <a:ext cx="4043520" cy="564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ольшой популярностью в 19-20 веке пользовались передники. Мусульманские женщины предпочитали носить домотканые, с узорами, полихромные, иногда даже ковровые и тамбуром передники. Их они надевали сверху рубахи.                     Часто передники богато украшались тамбурной вышивкой. Это входило в приданое невесты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9" name="Рисунок 4" descr="http://nailtimler.com/articles_page/pic_articles/tatar_odezhda_2.jpg"/>
          <p:cNvPicPr/>
          <p:nvPr/>
        </p:nvPicPr>
        <p:blipFill>
          <a:blip r:embed="rId1"/>
          <a:srcRect l="9412" t="0" r="4877" b="0"/>
          <a:stretch/>
        </p:blipFill>
        <p:spPr>
          <a:xfrm>
            <a:off x="971640" y="692280"/>
            <a:ext cx="31687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3" descr="http://tatarile.org/news/sites/tatarile.org.news/files/styles/large-photo/public/news/357/main/alyapkych.jpg"/>
          <p:cNvPicPr/>
          <p:nvPr/>
        </p:nvPicPr>
        <p:blipFill>
          <a:blip r:embed="rId1"/>
          <a:stretch/>
        </p:blipFill>
        <p:spPr>
          <a:xfrm>
            <a:off x="4140360" y="3213000"/>
            <a:ext cx="2890800" cy="34560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4" descr="http://www.narodko.ru/file/0001/0834.jpg"/>
          <p:cNvPicPr/>
          <p:nvPr/>
        </p:nvPicPr>
        <p:blipFill>
          <a:blip r:embed="rId2"/>
          <a:srcRect l="27097" t="10441" r="18576" b="0"/>
          <a:stretch/>
        </p:blipFill>
        <p:spPr>
          <a:xfrm>
            <a:off x="7236000" y="430200"/>
            <a:ext cx="1458720" cy="37908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http://culturemap.ru/upload/img/776_91.1119426429.13761.jpg"/>
          <p:cNvPicPr/>
          <p:nvPr/>
        </p:nvPicPr>
        <p:blipFill>
          <a:blip r:embed="rId3"/>
          <a:srcRect l="1897" t="1458" r="2407" b="4852"/>
          <a:stretch/>
        </p:blipFill>
        <p:spPr>
          <a:xfrm>
            <a:off x="468360" y="382680"/>
            <a:ext cx="35272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1625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404040"/>
                </a:solidFill>
                <a:latin typeface="Verdana"/>
              </a:rPr>
              <a:t>Калфак – татарский женский      головной убор</a:t>
            </a:r>
            <a:br>
              <a:rPr sz="2900"/>
            </a:br>
            <a:endParaRPr b="0" lang="en-US" sz="29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03480" y="1557000"/>
            <a:ext cx="3224160" cy="456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радиционном татарском костюме головные уборы по праву занимают особое место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огда его украшали полоской позумента со спускающимися на лоб кистями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архатные калфаки разных размеров  и цвета украшались орнаментами золотошвейной вышивкой, но и шитьем  жемчугом, бисером, аппликацией и т.д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5" name="Рисунок 6" descr="http://www.museum.ru/imgB.asp?5580"/>
          <p:cNvPicPr/>
          <p:nvPr/>
        </p:nvPicPr>
        <p:blipFill>
          <a:blip r:embed="rId1"/>
          <a:stretch/>
        </p:blipFill>
        <p:spPr>
          <a:xfrm>
            <a:off x="6443640" y="2421000"/>
            <a:ext cx="2232000" cy="28796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7" descr="http://vmeste-mir.ru/content/uploads/11/tmk-kalf01.jpg"/>
          <p:cNvPicPr/>
          <p:nvPr/>
        </p:nvPicPr>
        <p:blipFill>
          <a:blip r:embed="rId2"/>
          <a:stretch/>
        </p:blipFill>
        <p:spPr>
          <a:xfrm>
            <a:off x="395280" y="1557360"/>
            <a:ext cx="2305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Объект 3" descr="http://www.mrkm.ru/images/2/34.jpg"/>
          <p:cNvPicPr/>
          <p:nvPr/>
        </p:nvPicPr>
        <p:blipFill>
          <a:blip r:embed="rId1"/>
          <a:stretch/>
        </p:blipFill>
        <p:spPr>
          <a:xfrm>
            <a:off x="5508720" y="600120"/>
            <a:ext cx="3004920" cy="26766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http://www.artinfo.ru/bank/big/i98d8101.jpg"/>
          <p:cNvPicPr/>
          <p:nvPr/>
        </p:nvPicPr>
        <p:blipFill>
          <a:blip r:embed="rId2"/>
          <a:stretch/>
        </p:blipFill>
        <p:spPr>
          <a:xfrm>
            <a:off x="1763640" y="619200"/>
            <a:ext cx="2720880" cy="285732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7" descr="http://allphoto.in.ua/photo/54/es2013822.jpg"/>
          <p:cNvPicPr/>
          <p:nvPr/>
        </p:nvPicPr>
        <p:blipFill>
          <a:blip r:embed="rId3"/>
          <a:stretch/>
        </p:blipFill>
        <p:spPr>
          <a:xfrm>
            <a:off x="755640" y="3787920"/>
            <a:ext cx="3218040" cy="25794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9" descr="http://aboutkazan.com/images/kazan-tatars-national-costumes-views-9.jpg"/>
          <p:cNvPicPr/>
          <p:nvPr/>
        </p:nvPicPr>
        <p:blipFill>
          <a:blip r:embed="rId4"/>
          <a:stretch/>
        </p:blipFill>
        <p:spPr>
          <a:xfrm>
            <a:off x="4932360" y="3478320"/>
            <a:ext cx="244800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юбетейка – мужской головной убор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1979640" y="2262240"/>
            <a:ext cx="50403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881600" y="3094200"/>
            <a:ext cx="3290760" cy="2869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915840" y="3716280"/>
            <a:ext cx="3230640" cy="2089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95280" y="274680"/>
            <a:ext cx="469116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ужские головные уборы  шили из различных плотных тканей и также богато украшались вышивкой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28652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3:59:10Z</dcterms:created>
  <dc:creator>Клара</dc:creator>
  <dc:description/>
  <dc:language>en-US</dc:language>
  <cp:lastModifiedBy>admin</cp:lastModifiedBy>
  <dcterms:modified xsi:type="dcterms:W3CDTF">2021-04-15T18:01:53Z</dcterms:modified>
  <cp:revision>13</cp:revision>
  <dc:subject/>
  <dc:title>Татарский национальный костюм</dc:title>
</cp:coreProperties>
</file>