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6D4-9FFD-4232-940D-0A1A2385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342-C106-46CC-9064-D0BF9817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28354-2124-4935-8467-4772F6B4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A9B31-F5B3-477B-9560-A9627ACA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F5965-8684-44EB-B686-4933E731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AB64C-5F72-439C-9FED-D622BAC7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BD85C-F63C-4AF6-9182-7A13A24A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A0D66-2781-414E-9B4B-4313357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5E6B8-87F8-45E4-8F7A-AC5E15C0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2B8E3-6E6A-4C99-8B22-1FF3A785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06342-8B54-46CD-8FBB-EF94740C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919-921F-42EE-BA0F-8E2EC930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C50-0850-4E44-8CC8-870B9904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0398-C6F3-47CE-8F61-1788BA0B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437C-78D0-4733-8359-38360E78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F226-7A41-41FB-A41A-9724A7B8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302B-3A84-46E9-A2FF-72714342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FD69-386A-465A-9C2B-0837025E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1F18-A4BE-43BF-9BE6-5A298BE9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CC3E-4577-4687-B60D-DB62F60B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686-1884-49EB-A9DC-E2E2E46C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2A22-D5F6-4D2C-B979-4F6BDBC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5611-91E6-44B7-AB4B-EA7C2B53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71E2-FF1B-4EB8-B03B-23450600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4B29-6D2A-4AB4-9407-7E32A2FB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F9AA-DCA5-45EC-A7B2-9B2C2F3C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D8CE-013F-4756-B744-4AAD60A4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AEF6-E444-4DBE-AA0F-ACFDBDCC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DF35-A52D-46E2-94C6-E47D9131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FE0E-3D07-4498-B67B-2C3174B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CF9C-7643-403C-AE6B-5DDB385A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354-1A1A-4BC4-97D7-8415B816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5669-C67E-49E2-82D2-C03242E4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2593-07B9-476E-9B20-4D219D6B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B69A-520D-4CCF-9B37-43E42BEB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2B3C-5C7D-4E44-81A5-436266E4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9182-AA2A-4178-8AE6-100FF424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85B6-A958-4EBC-A087-E3289187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F475-F413-4689-9729-E1810056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CBA7-364E-45FC-BA23-7F3208AB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1EAF-81B4-40A5-9B26-2D898CAF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AFEB-4CC7-4CFE-9D87-943BD6B3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4E8-92F0-4C6D-852A-AED1BF98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AA8C-5082-4145-9DE8-3B601560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66253-20E5-44F7-A403-B67AD259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8103-8093-49AD-B5DF-4C372245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653B-02C0-4D7A-A15D-884EEA8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C93C7-95B9-4679-A9F1-DD786DD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FD8D-C8D0-4228-99DD-F82FA05A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4640C-7FD8-4C8D-A07C-73DDD65B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F513-BDA9-42D8-AE48-9408E3FD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89F5-0216-40F5-B905-74C02624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F003-5BCB-4D09-8AED-311C12A9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2DE-8E0F-47C5-9369-EB1B804C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A5FBA-2E10-465E-B1A5-186691D7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F99A8-AA38-421E-A777-841FACB2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16A8E-3998-492D-A08E-7F0B09A6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EC040-5B25-4685-8C26-1305275B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57695-6C79-451B-99F9-F92A5144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8779-8E56-4655-B433-494DC4DB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4F055-504E-4EC1-879F-D10BB462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5EEE0-82BC-4201-A0A5-978B813A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016C1-B81A-4E70-AB33-38ADF7C5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A1DEE-6DDF-4EB5-9FBA-C33C79C3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136-CCCF-4747-A4C4-5B369F3F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99DE2-4520-47F9-AEA4-F0C7AC31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E7BE5-3F43-4DFF-982B-A42A8F0C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E4AFA-DA2B-47F1-94E1-763166EF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ECCB3-03A6-48CA-80C3-2A0A4955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3E495-F38D-433D-84A8-B294A9CC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016B2-9E52-49FF-A33C-AF9C5E98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F2F1C-FD33-474E-BE30-FEA5BE47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EA40F-4A62-4FED-874E-6F1A516C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70F3-E514-4F99-A017-DF236A74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B89DB-D0D5-4509-8F26-2E6590DA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A91-5304-4C43-BD16-0F586765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AC934-5F30-435D-BBEA-C18BF8CF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80AE4-5438-4A63-8DF1-440BEF05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90C16-09BB-425B-8B36-D13D91E5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9541E-D976-4866-9D42-A5D92DF4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0209D-D767-4B25-9A9A-A4ADA3AD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4C00F-630D-4A2A-902B-D439E1AB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BFAE8-7352-4701-8680-50DFB986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A440-1DF4-4CD9-983A-A7DC564B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AFD29-E8D0-4C39-9269-B3FB214A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8ED99-26FC-4282-9523-684B671F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367-C504-4C34-990E-DBD7B38C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8E8B-D98D-4443-961A-A4C1F03B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48ECE-54F5-419F-ABAF-A003DFA3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67967-66B8-4EFA-B207-5E218EC3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C3BC0-82CD-4F31-966D-16CCFFF7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8972C-D7A8-4DDF-81A9-DC6291CF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71C8-756E-49A3-A255-4BF9C084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0A710-4505-4740-846E-EB207775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E1E8A-D807-4DF1-A8E0-9E76BBE2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D67AB-0FA1-4D74-AC78-BF16C4B1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A099C-2708-486F-B8A0-6F5353AC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455-CE89-40F1-86C2-707ADB9B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3A75C-88F5-4E53-9D7E-96415B41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CB772-03DF-44A5-A4DA-8F2DE2F8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B4F3-7A65-4EFB-A81E-6DFD035E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83127-21B4-45A5-B785-5366D945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A0665-45EE-4470-BF7C-029FF7F4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3998-9FF5-4211-9187-41190184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FC0D5-0356-47BB-A6DA-9913EB70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33262-DB85-45C9-A928-FE197285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B4DDC-B4E6-4530-BCE1-6091099D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81EA5-F711-43CF-999B-9F65097D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CC9D-70FE-4B25-BB89-62791A0B3E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97D0-D740-4748-9D1E-CC3BE6ECE349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F7F2-63A0-40E7-B735-915B142632A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270B-879E-4D53-AD84-93B485274304}" type="slidenum">
              <a:rPr b="0" lang="ru-RU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7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F519-B03E-4081-BF31-FF427B1A323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57A1-76C4-48AC-9DAE-52C220E8ADD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C702-239C-40C5-A856-57A7B9C6C44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908F-35CD-46A6-B00C-6955612CD370}" type="slidenum">
              <a:rPr b="0" lang="ru-RU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5423-FFA4-4882-8B0F-A114673E486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68000" y="2176560"/>
            <a:ext cx="404172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5600" spc="-1" strike="noStrike">
                <a:solidFill>
                  <a:srgbClr val="000000"/>
                </a:solidFill>
                <a:latin typeface="Arial"/>
              </a:rPr>
              <a:t>Габдулла Тукай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5600" spc="-1" strike="noStrike">
                <a:solidFill>
                  <a:srgbClr val="000000"/>
                </a:solidFill>
                <a:latin typeface="Arial"/>
              </a:rPr>
              <a:t>(1886-1913</a:t>
            </a:r>
            <a:r>
              <a:rPr b="0" i="1" lang="tt-RU" sz="5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габдкллатукайфото"/>
          <p:cNvPicPr/>
          <p:nvPr/>
        </p:nvPicPr>
        <p:blipFill>
          <a:blip r:embed="rId1"/>
          <a:stretch/>
        </p:blipFill>
        <p:spPr>
          <a:xfrm>
            <a:off x="4502160" y="333360"/>
            <a:ext cx="42940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Казанда   Печән    базарын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D:\Documents\Рисунки\Г.Т\DSC03928.JPG"/>
          <p:cNvPicPr/>
          <p:nvPr/>
        </p:nvPicPr>
        <p:blipFill>
          <a:blip r:embed="rId1"/>
          <a:stretch/>
        </p:blipFill>
        <p:spPr>
          <a:xfrm>
            <a:off x="3995640" y="1125360"/>
            <a:ext cx="4681800" cy="5256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250920" y="1125360"/>
            <a:ext cx="34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tt-RU" sz="3600" spc="-1" strike="noStrike">
                <a:solidFill>
                  <a:srgbClr val="000000"/>
                </a:solidFill>
                <a:latin typeface="Calibri"/>
              </a:rPr>
              <a:t>Асрарга  бала  бирәм,  кем  ала? ”- дип  ямщик  кычкырып  йөргәндә, бер агай  мине  үзенә алып  киткән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Казан  шәһәре – Яңа  Бистәдә яшә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5184720" cy="51134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179280" y="1413000"/>
            <a:ext cx="316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Яңа әтисе – Мөхәммәтвәли тирече,базарда сатуч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Әнисе  Газизә  кәләпүшләр тегә. Алар малайны яхшы карыйл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Габдулла Казанда яшәгән й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Һөнәрче йортының эчке күрене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054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Юллар   Өчиледән – Кырлайг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D:\Documents\Рисунки\Г.Т\DSC03997.JPG"/>
          <p:cNvPicPr/>
          <p:nvPr/>
        </p:nvPicPr>
        <p:blipFill>
          <a:blip r:embed="rId1"/>
          <a:stretch/>
        </p:blipFill>
        <p:spPr>
          <a:xfrm>
            <a:off x="2627280" y="1268280"/>
            <a:ext cx="6121440" cy="51850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250920" y="1557360"/>
            <a:ext cx="230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ырлай   авылы  кешесе  Сә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ъди  абзый  Габдулланы  улл</a:t>
            </a: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ыкка  ал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ырлайда  Габдулла  яшәгән  йорт күрене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D:\Documents\Рисунки\Г.Т\DSC03965.JPG"/>
          <p:cNvPicPr/>
          <p:nvPr/>
        </p:nvPicPr>
        <p:blipFill>
          <a:blip r:embed="rId1"/>
          <a:stretch/>
        </p:blipFill>
        <p:spPr>
          <a:xfrm>
            <a:off x="3708360" y="1341360"/>
            <a:ext cx="5059440" cy="53276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7"/>
          <p:cNvSpPr/>
          <p:nvPr/>
        </p:nvSpPr>
        <p:spPr>
          <a:xfrm>
            <a:off x="324000" y="1341360"/>
            <a:ext cx="338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Сәг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ъ</a:t>
            </a: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ди  абзый йортында  һәрвакыт  чисталык,  икмәк, бәрәңге,  сөт- катык  булган.  Кечкенә Апушның  тамагы  тук булган. Бер елдан  соң бу  гаиләдә   аларның  малайлары туган һәм  кечкенә  Апуш  бала  карашк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Кырлайда  яшәгән  йор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D:\Documents\Рисунки\Г.Т\DSC04006.JPG"/>
          <p:cNvPicPr/>
          <p:nvPr/>
        </p:nvPicPr>
        <p:blipFill>
          <a:blip r:embed="rId1"/>
          <a:stretch/>
        </p:blipFill>
        <p:spPr>
          <a:xfrm>
            <a:off x="826920" y="1341360"/>
            <a:ext cx="7677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7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Кырлай - минем дө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яга күзем ачылган урын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D:\Documents\Рисунки\Г.Т\DSC03985.JPG"/>
          <p:cNvPicPr/>
          <p:nvPr/>
        </p:nvPicPr>
        <p:blipFill>
          <a:blip r:embed="rId1"/>
          <a:stretch/>
        </p:blipFill>
        <p:spPr>
          <a:xfrm>
            <a:off x="2916360" y="1341360"/>
            <a:ext cx="5688000" cy="48992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179280" y="1341360"/>
            <a:ext cx="259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Кырлайда  мәдрәсәгә  укырга йөри  башлый  һәм  беренче  дәресләрне  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Кырлайдагы  музей – йор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28036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Тукай  Ура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ьск  </a:t>
            </a: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шәһәрендә  апасында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D:\Documents\Рисунки\Г.Т\DSC04018.JPG"/>
          <p:cNvPicPr/>
          <p:nvPr/>
        </p:nvPicPr>
        <p:blipFill>
          <a:blip r:embed="rId1"/>
          <a:stretch/>
        </p:blipFill>
        <p:spPr>
          <a:xfrm>
            <a:off x="539640" y="1341360"/>
            <a:ext cx="4608720" cy="51120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5580000" y="1484280"/>
            <a:ext cx="338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Әтисе  белән бертуган апасы Газизә  һәм  җизнәсе  Габдулланы Ура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ьск  шәһәренә  алып китәлә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43960" cy="1000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D:\Documents\Рисунки\Г.Т\DSC04068.JPG"/>
          <p:cNvPicPr/>
          <p:nvPr/>
        </p:nvPicPr>
        <p:blipFill>
          <a:blip r:embed="rId2"/>
          <a:stretch/>
        </p:blipFill>
        <p:spPr>
          <a:xfrm>
            <a:off x="4103640" y="1604880"/>
            <a:ext cx="4465800" cy="4513320"/>
          </a:xfrm>
          <a:prstGeom prst="rect">
            <a:avLst/>
          </a:prstGeom>
          <a:ln w="0">
            <a:noFill/>
          </a:ln>
        </p:spPr>
      </p:pic>
      <p:grpSp>
        <p:nvGrpSpPr>
          <p:cNvPr id="394" name="TextBox 4"/>
          <p:cNvGrpSpPr/>
          <p:nvPr/>
        </p:nvGrpSpPr>
        <p:grpSpPr>
          <a:xfrm>
            <a:off x="396720" y="1627200"/>
            <a:ext cx="3595680" cy="4048200"/>
            <a:chOff x="396720" y="1627200"/>
            <a:chExt cx="3595680" cy="4048200"/>
          </a:xfrm>
        </p:grpSpPr>
        <p:pic>
          <p:nvPicPr>
            <p:cNvPr id="395" name="TextBox 4" descr=""/>
            <p:cNvPicPr/>
            <p:nvPr/>
          </p:nvPicPr>
          <p:blipFill>
            <a:blip r:embed="rId3"/>
            <a:stretch/>
          </p:blipFill>
          <p:spPr>
            <a:xfrm>
              <a:off x="396720" y="1627200"/>
              <a:ext cx="3595680" cy="40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01760" y="1636560"/>
              <a:ext cx="35845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2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1" lang="tt-RU" sz="3200" spc="-1" strike="noStrike">
                  <a:solidFill>
                    <a:srgbClr val="000000"/>
                  </a:solidFill>
                  <a:latin typeface="Calibri"/>
                </a:rPr>
                <a:t>Халык  зур  ул, көчле  ул, дәртле  ул, моңлы ул,                әдип  ул,  шагыйр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ь  ул»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Габдулла Тукай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Шүрәле”поэм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D:\Documents\Рисунки\Г.Т\DSC04034.JPG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1.Г.Тукай кая туг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Н)Кырл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О)Өчи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П)Кушлавы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2. Габдулла кайсы авылны”Дөньяга күзем ачылган урын” дип ат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) Кырл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Б) Өчи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В) К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3. Кырлайдан соң ул кая кит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П)К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)Ураль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С)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4.Өчиледән Габдулланы бабасы кая җибәр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) К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В) Мәскә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К) Ураль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5. Габдулла туган авыл кайсы районда урнашк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С) Түбән К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Т) Ар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У) Балт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Тукай исә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Җыры күңелләрдә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Яшәсәк тә үзен күрмичә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Тукай килә моңлы сазын уйнап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Шагыйрьләргә тынгы бирмичә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000000"/>
                </a:solidFill>
                <a:latin typeface="Arial"/>
              </a:rPr>
              <a:t>Габдулла Тукай Түбән Кама районының Өчиле авылында туган. Шәрифә карчыкта ул гомеренең иң күңелле мизгелләрен уздыра.  Без быел аның “Су анасы”, “Кәҗә белән сарык” әкиятләрен укыдык.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000000"/>
                </a:solidFill>
                <a:latin typeface="Arial"/>
              </a:rPr>
              <a:t>Габдулла Тукай Арча районының Кушлавыч авылында туган. Шәрифә карчыкта ул гомеренең иң күңелсез мизгелләрен уздыра.  Без быел аның “Шүрәле”, “Пар ат” әсәрләрен укыдык.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Г. Тукайның  туган  авылы - Кушлавы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6661440" cy="4810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Шәрифә  карчыкта яшәү</a:t>
            </a:r>
            <a:r>
              <a:rPr b="0" lang="tt-RU" sz="4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D:\Documents\Рисунки\Г.Т\DSC03957.JPG"/>
          <p:cNvPicPr/>
          <p:nvPr/>
        </p:nvPicPr>
        <p:blipFill>
          <a:blip r:embed="rId1"/>
          <a:stretch/>
        </p:blipFill>
        <p:spPr>
          <a:xfrm>
            <a:off x="3851280" y="1557360"/>
            <a:ext cx="4902120" cy="4267080"/>
          </a:xfrm>
          <a:prstGeom prst="rect">
            <a:avLst/>
          </a:prstGeom>
          <a:ln w="0">
            <a:noFill/>
          </a:ln>
        </p:spPr>
      </p:pic>
      <p:sp>
        <p:nvSpPr>
          <p:cNvPr id="403" name="TextBox 4"/>
          <p:cNvSpPr/>
          <p:nvPr/>
        </p:nvSpPr>
        <p:spPr>
          <a:xfrm>
            <a:off x="179280" y="1557360"/>
            <a:ext cx="33847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Мин бу  карчык   өендә  кадерсез, артык  бер   бала булганлыктан,  ул мине тәрбияләмәгән, тәрбияләү  түгел, ачык  йөз  дә күрсәтмәгән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Габдулланы әнисе  Саснага алдыра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D:\Documents\Рисунки\Г.Т\DSC03958.JPG"/>
          <p:cNvPicPr/>
          <p:nvPr/>
        </p:nvPicPr>
        <p:blipFill>
          <a:blip r:embed="rId1"/>
          <a:stretch/>
        </p:blipFill>
        <p:spPr>
          <a:xfrm>
            <a:off x="4211640" y="2011320"/>
            <a:ext cx="4392720" cy="45133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324000" y="1989000"/>
            <a:ext cx="36716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Үги  әтиемнең  һәм әниемнең  мине  сөюе,  миңа  чәй  янында кәрәзле  балны  ак  күмәчкә  ягып  бирүе,  минем  шунда куанганнарым,  биш  минутлык  төш  шикелле  генә,  әле  дә  булса хәтеремдә...” (Г.Тука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43588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Кечкенә Габдулла -  ятим  бала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755640" y="1268280"/>
            <a:ext cx="34574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Үз әнисе  исән  чагы  ахры:                             Оекбашы җылы күренә.           Бәхетсезлек сизеп, моңсуланып  Утырган  ул сәке түренә</a:t>
            </a: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(Н. Шаммат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1\Documents\NBOr0-LzSe4.jpg"/>
          <p:cNvPicPr/>
          <p:nvPr/>
        </p:nvPicPr>
        <p:blipFill>
          <a:blip r:embed="rId1"/>
          <a:stretch/>
        </p:blipFill>
        <p:spPr>
          <a:xfrm>
            <a:off x="4788000" y="1197000"/>
            <a:ext cx="3960720" cy="5124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Габдулланы бабай гаиләсенә – Өчилегә  кайтарып  бирәлә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D:\Documents\Рисунки\Г.Т\DSC03959.JPG"/>
          <p:cNvPicPr/>
          <p:nvPr/>
        </p:nvPicPr>
        <p:blipFill>
          <a:blip r:embed="rId1"/>
          <a:stretch/>
        </p:blipFill>
        <p:spPr>
          <a:xfrm>
            <a:off x="468360" y="1600200"/>
            <a:ext cx="5040360" cy="49975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5724360" y="1844640"/>
            <a:ext cx="30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Габдуллага  бик  күп  гаиләдә  булырга, авылдан  авылга, кулдан   кулга йөрергә  туры килгән. Бабай, үги  әбинең    киңәше белән, аны  я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щикка утыртып, Казанга  озатка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1:12:25Z</dcterms:created>
  <dc:creator>1</dc:creator>
  <dc:description/>
  <dc:language>en-US</dc:language>
  <cp:lastModifiedBy>admin</cp:lastModifiedBy>
  <dcterms:modified xsi:type="dcterms:W3CDTF">2021-02-24T17:14:33Z</dcterms:modified>
  <cp:revision>176</cp:revision>
  <dc:subject/>
  <dc:title>Габдулла Тукайга – 125 яшь.</dc:title>
</cp:coreProperties>
</file>