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7F3C-0E3B-4E5B-A478-DED881AA0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9A30-CD42-4069-A8D2-BD270ACB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56042-3C6A-4D07-BE87-8275C0DE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53FDA-9510-4559-9624-F2FA0C5D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4FA99-6DB9-4FE0-9541-0D392AD8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15684-18BD-417B-B322-7658A464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EF226-2826-4614-B3DE-2E1A2AFC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D05F2-EAEE-494B-8B04-ADDC9668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EDF9A-0997-4E4B-822F-FF915529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F7A12-0C76-4345-947E-691131E19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12CA6-AB4F-48A3-98F9-AF5F972B2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A7B3-7DFD-49E5-8149-75F52E2A8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8106-D91B-49EC-86C1-79A10E7D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39F2-0412-419D-8E87-D8C015BC0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4B79-A057-486F-98AA-75C78C95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C19E-80B2-44D5-9789-DC543832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865D-706F-4ECC-8C07-B55475D8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86EB-6587-40BC-8A8E-258A2847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08AA-F946-4B0B-8724-9F6D3491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3828-F18D-41EF-A1BA-0264F43D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119F-08DC-4FAA-A040-DAA219F9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86C5-5EEF-418E-9B12-0B730C0E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4216-1AFA-4400-88AA-A2E67455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D24E-C4A8-4C48-B303-49EECEB5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FC9C-3F47-4B5B-8675-C8D91F2C2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A024-2274-4DA8-A440-ED537D756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165DB-FAAC-4FF7-AEB5-4EA777B9C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12E66-6273-479B-B94A-1C875C70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43D06-A2FD-4659-998C-292FE9E0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14233-7226-4A10-9614-474F84E2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041F2-5BA8-4488-8ED5-D04FA351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E5F2-95E1-4BF7-9724-3C605BD7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F9F11-0727-4E6F-885F-476FE706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53B33-C9B6-45DF-A041-0F732176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BFAB2-EEF7-4FA5-9103-0A11FE70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EEF1C-9939-4F80-AFEA-70BFF928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9F6D1-FC0F-4E5D-A112-B8CB9412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A55E3-3B5E-4DE9-A6CB-081BA41C7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67F1B-35F9-429D-8D69-FF8777749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9E40E-0531-47AD-931A-ACDE47223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C5E77-9FE2-4F65-8FB7-0F9937E3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11C63-0543-4A11-A5BE-EF06A3C2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6032-1BE5-4A8B-908F-556F4B29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94908-8064-4CCD-BA6D-1EE865CA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6CDA8-270D-4EA0-A1DA-BBA5ECD0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35CF0-2D6F-4B2D-8B11-DAF03B7F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793D1-0499-4073-B91C-E8172D89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0959D-B781-4802-BFCF-C68EE9DD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67957-24FA-49FB-A989-4F029B2B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48ADD-2EE9-4C34-8715-8DDD745E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04120-74FD-47CE-B60B-86BE07EC4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B6094-5B08-4C63-A7FE-18DF51BC7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21F0C-F5E7-4AE4-848F-256BF551F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E483-71AE-4073-B1EB-1F003D6F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D0066-7D47-4AE6-B943-98090E7D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5A41E-6755-4D01-A9FB-44BAAA7A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1C415-D79B-4BE5-858E-A5CA5B46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F129E-6EBF-4D25-9630-1275CFC5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A4221-C45C-4035-A704-882B3688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692CA-E934-4760-AFF8-758AAF02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A573A-B49D-469C-B883-FF23A57F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0B137-3105-467E-9F8E-A70E1617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ABD57-291D-4D01-866D-312D225D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51CD7-BAED-46D4-BE31-1BCDCA30E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07BB-A59D-4164-9C1E-246D37B4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0BA6D-47DD-45F3-B1E7-A90154EC5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3A078-58C4-41C0-8D47-07762AC07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97D15-CACB-4735-8192-D4C1B3F6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08B41-487E-4A6E-B5EE-10F05B91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94AC9-8BCD-40BC-82F8-4E81AC3A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35D42-3C63-4494-A0F4-62D45655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3BAE6-54EB-49D6-AA8F-5B5F59A5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4A808-76A8-42FD-8907-FB31C2D7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065A1-DD72-4C62-9AFC-14A27CD1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90660-E648-416D-8C08-DF7EA88C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2689-3DE1-40AC-A19C-574143AC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85B1F-0666-4D74-9A90-22646E74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66C7F-ABC4-42D5-942A-F7A0C013D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34911-4C7E-4E0D-82DB-257ED35DE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259E6-A7DA-405E-877D-2926B77E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6E60F-A902-49A5-9C13-CB5355D1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715CB-371C-41D3-8958-C272B792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CA7E4-9817-4BE3-ABCC-CCB332D4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E8136-8574-42AD-8D16-C2CA983C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27330-97EE-4E55-AFCA-D4286D8E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85E61-A102-4E64-B544-8964820B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90F4-F0A6-4D31-807B-EA53F470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A0C36-6387-4F9A-BE63-5BD44752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C4620-A570-43CC-937C-5C5828C9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9E3BA-BEBE-4CDA-B3AE-9CF9BDFE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E77F4-1DBB-4A9F-919E-DD468930C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E7FD7-AA1A-425D-987E-AB9E49A2F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D44C9-B6CD-4B73-BB14-B6EBEA2D7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CF80A-27D3-4F89-AED6-0DD9791B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D4EF3-9FBF-4FC3-99C9-5466A0B9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9F6B6-8349-44DE-B0CF-668F5722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74034-0E40-42DB-881F-3A24F21F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B004-C47C-4365-BCD9-DA58B615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F389C-37E2-4C4B-99F8-911B6F7C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81BAF-C602-4438-94AB-F33CDAE8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F6442-73AF-46CD-82E2-F50C6DF0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AF286-E74D-4502-9F2B-EBBA0E8D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A8D37-F435-47CA-84EE-838B31F6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2726A-4630-490F-B94B-E7512CB4F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15AA3-3DB5-47EB-B1E0-40CBB40B2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9AABE-AA21-440C-8E04-506C57E8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902DD-3D82-435B-A57B-948FDB94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6F965-FA0F-4038-B0FB-7EDAA006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C3F2-6BD6-43CB-8F07-D2EF64B511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41C8-9DB8-44F9-960C-18D40BB4A35F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CD75-7E49-4AB6-A4CC-A584299AAE8B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88DD-3745-4CF0-A307-7B9B7D12CDE0}" type="slidenum">
              <a:rPr b="0" lang="ru-RU" sz="1400" spc="-1" strike="noStrike">
                <a:solidFill>
                  <a:srgbClr val="dde9e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ая соединительная линия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7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Равнобедренный треугольник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7C7C-DB53-4F39-9033-BE04370C7E92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ая соединительная линия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Равнобедренный треугольник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AAA7-9043-4F35-8EC8-1AB817105E95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ая соединительная линия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Равнобедренный треугольник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A6A3-A66B-4926-B6DF-936810CC0133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ая соединительная линия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Равнобедренный треугольник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C664-1CFB-416C-AEC5-AC57610FD485}" type="slidenum">
              <a:rPr b="0" lang="ru-RU" sz="1400" spc="-1" strike="noStrike">
                <a:solidFill>
                  <a:srgbClr val="dde9e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ая соединительная линия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Равнобедренный треугольник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ая соединительная линия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643D-7BDD-430D-933D-3DBEED964A8C}" type="slidenum">
              <a:rPr b="0" lang="ru-RU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68000" y="2176560"/>
            <a:ext cx="4041720" cy="30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5600" spc="-1" strike="noStrike">
                <a:solidFill>
                  <a:srgbClr val="000000"/>
                </a:solidFill>
                <a:latin typeface="Arial"/>
              </a:rPr>
              <a:t>Габдулла Тукай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5600" spc="-1" strike="noStrike">
                <a:solidFill>
                  <a:srgbClr val="000000"/>
                </a:solidFill>
                <a:latin typeface="Arial"/>
              </a:rPr>
              <a:t>(1886-1913</a:t>
            </a:r>
            <a:r>
              <a:rPr b="0" i="1" lang="tt-RU" sz="5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7" descr="габдкллатукайфото"/>
          <p:cNvPicPr/>
          <p:nvPr/>
        </p:nvPicPr>
        <p:blipFill>
          <a:blip r:embed="rId1"/>
          <a:stretch/>
        </p:blipFill>
        <p:spPr>
          <a:xfrm>
            <a:off x="4502160" y="333360"/>
            <a:ext cx="4294080" cy="6264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00"/>
                </a:solidFill>
                <a:latin typeface="Arial"/>
              </a:rPr>
              <a:t>Казанда   Печән    базарынд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2" descr="D:\Documents\Рисунки\Г.Т\DSC03928.JPG"/>
          <p:cNvPicPr/>
          <p:nvPr/>
        </p:nvPicPr>
        <p:blipFill>
          <a:blip r:embed="rId1"/>
          <a:stretch/>
        </p:blipFill>
        <p:spPr>
          <a:xfrm>
            <a:off x="3995640" y="1125360"/>
            <a:ext cx="4681800" cy="5256360"/>
          </a:xfrm>
          <a:prstGeom prst="rect">
            <a:avLst/>
          </a:prstGeom>
          <a:ln w="0">
            <a:noFill/>
          </a:ln>
        </p:spPr>
      </p:pic>
      <p:sp>
        <p:nvSpPr>
          <p:cNvPr id="415" name="TextBox 4"/>
          <p:cNvSpPr/>
          <p:nvPr/>
        </p:nvSpPr>
        <p:spPr>
          <a:xfrm>
            <a:off x="250920" y="1125360"/>
            <a:ext cx="345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tt-RU" sz="3600" spc="-1" strike="noStrike">
                <a:solidFill>
                  <a:srgbClr val="000000"/>
                </a:solidFill>
                <a:latin typeface="Calibri"/>
              </a:rPr>
              <a:t>Асрарга  бала  бирәм,  кем  ала? ”- дип  ямщик  кычкырып  йөргәндә, бер агай  мине  үзенә алып  киткән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67564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00"/>
                </a:solidFill>
                <a:latin typeface="Arial"/>
              </a:rPr>
              <a:t>Казан  шәһәре – Яңа  Бистәдә яшә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3" descr=""/>
          <p:cNvPicPr/>
          <p:nvPr/>
        </p:nvPicPr>
        <p:blipFill>
          <a:blip r:embed="rId1"/>
          <a:stretch/>
        </p:blipFill>
        <p:spPr>
          <a:xfrm>
            <a:off x="3564000" y="1268280"/>
            <a:ext cx="5184720" cy="5113440"/>
          </a:xfrm>
          <a:prstGeom prst="rect">
            <a:avLst/>
          </a:prstGeom>
          <a:ln w="0">
            <a:noFill/>
          </a:ln>
        </p:spPr>
      </p:pic>
      <p:sp>
        <p:nvSpPr>
          <p:cNvPr id="418" name="TextBox 6"/>
          <p:cNvSpPr/>
          <p:nvPr/>
        </p:nvSpPr>
        <p:spPr>
          <a:xfrm>
            <a:off x="179280" y="1413000"/>
            <a:ext cx="316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Calibri"/>
              </a:rPr>
              <a:t>Яңа әтисе – Мөхәммәтвәли тирече,базарда сатуч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Calibri"/>
              </a:rPr>
              <a:t>Әнисе  Газизә  кәләпүшләр тегә. Алар малайны яхшы карыйла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00"/>
                </a:solidFill>
                <a:latin typeface="Arial"/>
              </a:rPr>
              <a:t>Габдулла Казанда яшәгән йор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353440" cy="5111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00"/>
                </a:solidFill>
                <a:latin typeface="Arial"/>
              </a:rPr>
              <a:t>Һөнәрче йортының эчке күрене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7705440" cy="5112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00"/>
                </a:solidFill>
                <a:latin typeface="Arial"/>
              </a:rPr>
              <a:t>Юллар   Өчиледән – Кырлайга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2" descr="D:\Documents\Рисунки\Г.Т\DSC03997.JPG"/>
          <p:cNvPicPr/>
          <p:nvPr/>
        </p:nvPicPr>
        <p:blipFill>
          <a:blip r:embed="rId1"/>
          <a:stretch/>
        </p:blipFill>
        <p:spPr>
          <a:xfrm>
            <a:off x="2627280" y="1268280"/>
            <a:ext cx="6121440" cy="5185080"/>
          </a:xfrm>
          <a:prstGeom prst="rect">
            <a:avLst/>
          </a:prstGeom>
          <a:ln w="0">
            <a:noFill/>
          </a:ln>
        </p:spPr>
      </p:pic>
      <p:sp>
        <p:nvSpPr>
          <p:cNvPr id="425" name="TextBox 4"/>
          <p:cNvSpPr/>
          <p:nvPr/>
        </p:nvSpPr>
        <p:spPr>
          <a:xfrm>
            <a:off x="250920" y="1557360"/>
            <a:ext cx="2305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Arial"/>
              </a:rPr>
              <a:t>Кырлай   авылы  кешесе  Сә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ъди  абзый  Габдулланы  улл</a:t>
            </a:r>
            <a:r>
              <a:rPr b="1" lang="tt-RU" sz="3200" spc="-1" strike="noStrike">
                <a:solidFill>
                  <a:srgbClr val="000000"/>
                </a:solidFill>
                <a:latin typeface="Arial"/>
              </a:rPr>
              <a:t>ыкка  ала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Arial"/>
              </a:rPr>
              <a:t>Кырлайда  Габдулла  яшәгән  йорт күрене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2" descr="D:\Documents\Рисунки\Г.Т\DSC03965.JPG"/>
          <p:cNvPicPr/>
          <p:nvPr/>
        </p:nvPicPr>
        <p:blipFill>
          <a:blip r:embed="rId1"/>
          <a:stretch/>
        </p:blipFill>
        <p:spPr>
          <a:xfrm>
            <a:off x="3708360" y="1341360"/>
            <a:ext cx="5059440" cy="5327640"/>
          </a:xfrm>
          <a:prstGeom prst="rect">
            <a:avLst/>
          </a:prstGeom>
          <a:ln w="0">
            <a:noFill/>
          </a:ln>
        </p:spPr>
      </p:pic>
      <p:sp>
        <p:nvSpPr>
          <p:cNvPr id="428" name="TextBox 7"/>
          <p:cNvSpPr/>
          <p:nvPr/>
        </p:nvSpPr>
        <p:spPr>
          <a:xfrm>
            <a:off x="324000" y="1341360"/>
            <a:ext cx="338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Calibri"/>
              </a:rPr>
              <a:t>Сәг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ъ</a:t>
            </a:r>
            <a:r>
              <a:rPr b="1" lang="tt-RU" sz="2400" spc="-1" strike="noStrike">
                <a:solidFill>
                  <a:srgbClr val="000000"/>
                </a:solidFill>
                <a:latin typeface="Calibri"/>
              </a:rPr>
              <a:t>ди  абзый йортында  һәрвакыт  чисталык,  икмәк, бәрәңге,  сөт- катык  булган.  Кечкенә Апушның  тамагы  тук булган. Бер елдан  соң бу  гаиләдә   аларның  малайлары туган һәм  кечкенә  Апуш  бала  карашк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00"/>
                </a:solidFill>
                <a:latin typeface="Arial"/>
              </a:rPr>
              <a:t>Кырлайда  яшәгән  йор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2" descr="D:\Documents\Рисунки\Г.Т\DSC04006.JPG"/>
          <p:cNvPicPr/>
          <p:nvPr/>
        </p:nvPicPr>
        <p:blipFill>
          <a:blip r:embed="rId1"/>
          <a:stretch/>
        </p:blipFill>
        <p:spPr>
          <a:xfrm>
            <a:off x="826920" y="1341360"/>
            <a:ext cx="7677360" cy="5256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73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7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00"/>
                </a:solidFill>
                <a:latin typeface="Arial"/>
              </a:rPr>
              <a:t>Кырлай - минем дөн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lang="tt-RU" sz="3600" spc="-1" strike="noStrike">
                <a:solidFill>
                  <a:srgbClr val="000000"/>
                </a:solidFill>
                <a:latin typeface="Arial"/>
              </a:rPr>
              <a:t>яга күзем ачылган урын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2" descr="D:\Documents\Рисунки\Г.Т\DSC03985.JPG"/>
          <p:cNvPicPr/>
          <p:nvPr/>
        </p:nvPicPr>
        <p:blipFill>
          <a:blip r:embed="rId1"/>
          <a:stretch/>
        </p:blipFill>
        <p:spPr>
          <a:xfrm>
            <a:off x="2916360" y="1341360"/>
            <a:ext cx="5688000" cy="4899240"/>
          </a:xfrm>
          <a:prstGeom prst="rect">
            <a:avLst/>
          </a:prstGeom>
          <a:ln w="0">
            <a:noFill/>
          </a:ln>
        </p:spPr>
      </p:pic>
      <p:sp>
        <p:nvSpPr>
          <p:cNvPr id="433" name="TextBox 4"/>
          <p:cNvSpPr/>
          <p:nvPr/>
        </p:nvSpPr>
        <p:spPr>
          <a:xfrm>
            <a:off x="179280" y="1341360"/>
            <a:ext cx="2592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Кырлайда  мәдрәсәгә  укырга йөри  башлый  һәм  беренче  дәресләрне  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00"/>
                </a:solidFill>
                <a:latin typeface="Arial"/>
              </a:rPr>
              <a:t>Кырлайдагы  музей – йор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828036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000000"/>
                </a:solidFill>
                <a:latin typeface="Arial"/>
              </a:rPr>
              <a:t>Тукай  Урал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ьск  </a:t>
            </a:r>
            <a:r>
              <a:rPr b="1" lang="tt-RU" sz="4800" spc="-1" strike="noStrike">
                <a:solidFill>
                  <a:srgbClr val="000000"/>
                </a:solidFill>
                <a:latin typeface="Arial"/>
              </a:rPr>
              <a:t>шәһәрендә  апасында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2" descr="D:\Documents\Рисунки\Г.Т\DSC04018.JPG"/>
          <p:cNvPicPr/>
          <p:nvPr/>
        </p:nvPicPr>
        <p:blipFill>
          <a:blip r:embed="rId1"/>
          <a:stretch/>
        </p:blipFill>
        <p:spPr>
          <a:xfrm>
            <a:off x="539640" y="1341360"/>
            <a:ext cx="4608720" cy="5112000"/>
          </a:xfrm>
          <a:prstGeom prst="rect">
            <a:avLst/>
          </a:prstGeom>
          <a:ln w="0">
            <a:noFill/>
          </a:ln>
        </p:spPr>
      </p:pic>
      <p:sp>
        <p:nvSpPr>
          <p:cNvPr id="438" name="TextBox 4"/>
          <p:cNvSpPr/>
          <p:nvPr/>
        </p:nvSpPr>
        <p:spPr>
          <a:xfrm>
            <a:off x="5580000" y="1484280"/>
            <a:ext cx="338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Calibri"/>
              </a:rPr>
              <a:t>Әтисе  белән бертуган апасы Газизә  һәм  җизнәсе  Габдулланы Урал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ьск  шәһәренә  алып китәлә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Заголовок 1" descr=""/>
          <p:cNvPicPr/>
          <p:nvPr/>
        </p:nvPicPr>
        <p:blipFill>
          <a:blip r:embed="rId1"/>
          <a:stretch/>
        </p:blipFill>
        <p:spPr>
          <a:xfrm>
            <a:off x="298440" y="262080"/>
            <a:ext cx="8643960" cy="1000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D:\Documents\Рисунки\Г.Т\DSC04068.JPG"/>
          <p:cNvPicPr/>
          <p:nvPr/>
        </p:nvPicPr>
        <p:blipFill>
          <a:blip r:embed="rId2"/>
          <a:stretch/>
        </p:blipFill>
        <p:spPr>
          <a:xfrm>
            <a:off x="4103640" y="1604880"/>
            <a:ext cx="4465800" cy="4513320"/>
          </a:xfrm>
          <a:prstGeom prst="rect">
            <a:avLst/>
          </a:prstGeom>
          <a:ln w="0">
            <a:noFill/>
          </a:ln>
        </p:spPr>
      </p:pic>
      <p:grpSp>
        <p:nvGrpSpPr>
          <p:cNvPr id="394" name="TextBox 4"/>
          <p:cNvGrpSpPr/>
          <p:nvPr/>
        </p:nvGrpSpPr>
        <p:grpSpPr>
          <a:xfrm>
            <a:off x="396720" y="1627200"/>
            <a:ext cx="3595680" cy="4048200"/>
            <a:chOff x="396720" y="1627200"/>
            <a:chExt cx="3595680" cy="4048200"/>
          </a:xfrm>
        </p:grpSpPr>
        <p:pic>
          <p:nvPicPr>
            <p:cNvPr id="395" name="TextBox 4" descr=""/>
            <p:cNvPicPr/>
            <p:nvPr/>
          </p:nvPicPr>
          <p:blipFill>
            <a:blip r:embed="rId3"/>
            <a:stretch/>
          </p:blipFill>
          <p:spPr>
            <a:xfrm>
              <a:off x="396720" y="1627200"/>
              <a:ext cx="3595680" cy="404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401760" y="1636560"/>
              <a:ext cx="35845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t-RU" sz="3200" spc="-1" strike="noStrike">
                  <a:solidFill>
                    <a:srgbClr val="000000"/>
                  </a:solidFill>
                  <a:latin typeface="Calibri"/>
                </a:rPr>
                <a:t>“</a:t>
              </a:r>
              <a:r>
                <a:rPr b="1" lang="tt-RU" sz="3200" spc="-1" strike="noStrike">
                  <a:solidFill>
                    <a:srgbClr val="000000"/>
                  </a:solidFill>
                  <a:latin typeface="Calibri"/>
                </a:rPr>
                <a:t>Халык  зур  ул, көчле  ул, дәртле  ул, моңлы ул,                әдип  ул,  шагыйр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ь  ул»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Габдулла Тукай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tt-RU" sz="5400" spc="-1" strike="noStrike">
                <a:solidFill>
                  <a:srgbClr val="000000"/>
                </a:solidFill>
                <a:latin typeface="Arial"/>
              </a:rPr>
              <a:t>Шүрәле”поэма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D:\Documents\Рисунки\Г.Т\DSC04034.JPG"/>
          <p:cNvPicPr/>
          <p:nvPr/>
        </p:nvPicPr>
        <p:blipFill>
          <a:blip r:embed="rId1"/>
          <a:stretch/>
        </p:blipFill>
        <p:spPr>
          <a:xfrm>
            <a:off x="684360" y="1268280"/>
            <a:ext cx="7921440" cy="49690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Arial"/>
              </a:rPr>
              <a:t>1.Г.Тукай кая туга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Н)Кырл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О)Өчи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П)Кушлавы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Arial"/>
              </a:rPr>
              <a:t>2. Габдулла кайсы авылны”Дөньяга күзем ачылган урын” дип аты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А) Кырл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Б) Өчи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В) Каз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Arial"/>
              </a:rPr>
              <a:t>3. Кырлайдан соң ул кая китә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П)Каз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Р)Ураль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С)Петербу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Arial"/>
              </a:rPr>
              <a:t>4.Өчиледән Габдулланы бабасы кая җибәрә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А) Каз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В) Мәскә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К) Ураль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Arial"/>
              </a:rPr>
              <a:t>5. Габдулла туган авыл кайсы районда урнашка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С) Түбән К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Т) Ар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У) Балт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Тукай исә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Җыры күңелләрдә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Яшәсәк тә үзен күрмичә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Тукай килә моңлы сазын уйнап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Шагыйрьләргә тынгы бирмичә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4400" spc="-1" strike="noStrike">
                <a:solidFill>
                  <a:srgbClr val="000000"/>
                </a:solidFill>
                <a:latin typeface="Arial"/>
              </a:rPr>
              <a:t>Габдулла Тукай Түбән Кама районының Өчиле авылында туган. Шәрифә карчыкта ул гомеренең иң күңелле мизгелләрен уздыра.  Без быел аның “Су анасы”, “Кәҗә белән сарык” әкиятләрен укыдык.</a:t>
            </a:r>
            <a:r>
              <a:rPr b="0" lang="tt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4400" spc="-1" strike="noStrike">
                <a:solidFill>
                  <a:srgbClr val="000000"/>
                </a:solidFill>
                <a:latin typeface="Arial"/>
              </a:rPr>
              <a:t>Габдулла Тукай Арча районының Кушлавыч авылында туган. Шәрифә карчыкта ул гомеренең иң күңелсез мизгелләрен уздыра.  Без быел аның “Шүрәле”, “Пар ат” әсәрләрен укыдык.</a:t>
            </a:r>
            <a:r>
              <a:rPr b="0" lang="tt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000000"/>
                </a:solidFill>
                <a:latin typeface="Arial"/>
              </a:rPr>
              <a:t>Г. Тукайның  туган  авылы - Кушлавы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2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6661440" cy="48103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t-RU" sz="4400" spc="-1" strike="noStrike">
                <a:solidFill>
                  <a:srgbClr val="000000"/>
                </a:solidFill>
                <a:latin typeface="Arial"/>
              </a:rPr>
              <a:t>Шәрифә  карчыкта яшәү</a:t>
            </a:r>
            <a:r>
              <a:rPr b="0" lang="tt-RU" sz="4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2" descr="D:\Documents\Рисунки\Г.Т\DSC03957.JPG"/>
          <p:cNvPicPr/>
          <p:nvPr/>
        </p:nvPicPr>
        <p:blipFill>
          <a:blip r:embed="rId1"/>
          <a:stretch/>
        </p:blipFill>
        <p:spPr>
          <a:xfrm>
            <a:off x="3851280" y="1557360"/>
            <a:ext cx="4902120" cy="4267080"/>
          </a:xfrm>
          <a:prstGeom prst="rect">
            <a:avLst/>
          </a:prstGeom>
          <a:ln w="0">
            <a:noFill/>
          </a:ln>
        </p:spPr>
      </p:pic>
      <p:sp>
        <p:nvSpPr>
          <p:cNvPr id="403" name="TextBox 4"/>
          <p:cNvSpPr/>
          <p:nvPr/>
        </p:nvSpPr>
        <p:spPr>
          <a:xfrm>
            <a:off x="179280" y="1557360"/>
            <a:ext cx="338472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tt-RU" sz="2800" spc="-1" strike="noStrike">
                <a:solidFill>
                  <a:srgbClr val="000000"/>
                </a:solidFill>
                <a:latin typeface="Calibri"/>
              </a:rPr>
              <a:t>Мин бу  карчык   өендә  кадерсез, артык  бер   бала булганлыктан,  ул мине тәрбияләмәгән, тәрбияләү  түгел, ачык  йөз  дә күрсәтмәгән..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15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000000"/>
                </a:solidFill>
                <a:latin typeface="Arial"/>
              </a:rPr>
              <a:t>Габдулланы әнисе  Саснага алдыра.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2" descr="D:\Documents\Рисунки\Г.Т\DSC03958.JPG"/>
          <p:cNvPicPr/>
          <p:nvPr/>
        </p:nvPicPr>
        <p:blipFill>
          <a:blip r:embed="rId1"/>
          <a:stretch/>
        </p:blipFill>
        <p:spPr>
          <a:xfrm>
            <a:off x="4211640" y="2011320"/>
            <a:ext cx="4392720" cy="4513320"/>
          </a:xfrm>
          <a:prstGeom prst="rect">
            <a:avLst/>
          </a:prstGeom>
          <a:ln w="0">
            <a:noFill/>
          </a:ln>
        </p:spPr>
      </p:pic>
      <p:sp>
        <p:nvSpPr>
          <p:cNvPr id="406" name="TextBox 4"/>
          <p:cNvSpPr/>
          <p:nvPr/>
        </p:nvSpPr>
        <p:spPr>
          <a:xfrm>
            <a:off x="324000" y="1989000"/>
            <a:ext cx="367164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tt-RU" sz="2400" spc="-1" strike="noStrike">
                <a:solidFill>
                  <a:srgbClr val="000000"/>
                </a:solidFill>
                <a:latin typeface="Calibri"/>
              </a:rPr>
              <a:t>Үги  әтиемнең  һәм әниемнең  мине  сөюе,  миңа  чәй  янында кәрәзле  балны  ак  күмәчкә  ягып  бирүе,  минем  шунда куанганнарым,  биш  минутлык  төш  шикелле  генә,  әле  дә  булса хәтеремдә...” (Г.Тука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43588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00"/>
                </a:solidFill>
                <a:latin typeface="Arial"/>
              </a:rPr>
              <a:t>Кечкенә Габдулла -  ятим  бала</a:t>
            </a: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5"/>
          <p:cNvSpPr/>
          <p:nvPr/>
        </p:nvSpPr>
        <p:spPr>
          <a:xfrm>
            <a:off x="755640" y="1268280"/>
            <a:ext cx="345744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tt-RU" sz="2800" spc="-1" strike="noStrike">
                <a:solidFill>
                  <a:srgbClr val="000000"/>
                </a:solidFill>
                <a:latin typeface="Calibri"/>
              </a:rPr>
              <a:t>Үз әнисе  исән  чагы  ахры:                             Оекбашы җылы күренә.           Бәхетсезлек сизеп, моңсуланып  Утырган  ул сәке түренә</a:t>
            </a:r>
            <a:r>
              <a:rPr b="0" lang="tt-RU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Calibri"/>
              </a:rPr>
              <a:t>(Н. Шамматов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2" descr="C:\Users\1\Documents\NBOr0-LzSe4.jpg"/>
          <p:cNvPicPr/>
          <p:nvPr/>
        </p:nvPicPr>
        <p:blipFill>
          <a:blip r:embed="rId1"/>
          <a:stretch/>
        </p:blipFill>
        <p:spPr>
          <a:xfrm>
            <a:off x="4788000" y="1197000"/>
            <a:ext cx="3960720" cy="51246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00"/>
                </a:solidFill>
                <a:latin typeface="Arial"/>
              </a:rPr>
              <a:t>Габдулланы бабай гаиләсенә – Өчилегә  кайтарып  бирәлә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D:\Documents\Рисунки\Г.Т\DSC03959.JPG"/>
          <p:cNvPicPr/>
          <p:nvPr/>
        </p:nvPicPr>
        <p:blipFill>
          <a:blip r:embed="rId1"/>
          <a:stretch/>
        </p:blipFill>
        <p:spPr>
          <a:xfrm>
            <a:off x="468360" y="1600200"/>
            <a:ext cx="5040360" cy="4997520"/>
          </a:xfrm>
          <a:prstGeom prst="rect">
            <a:avLst/>
          </a:prstGeom>
          <a:ln w="0">
            <a:noFill/>
          </a:ln>
        </p:spPr>
      </p:pic>
      <p:sp>
        <p:nvSpPr>
          <p:cNvPr id="412" name="TextBox 4"/>
          <p:cNvSpPr/>
          <p:nvPr/>
        </p:nvSpPr>
        <p:spPr>
          <a:xfrm>
            <a:off x="5724360" y="1844640"/>
            <a:ext cx="309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Calibri"/>
              </a:rPr>
              <a:t>Габдуллага  бик  күп  гаиләдә  булырга, авылдан  авылга, кулдан   кулга йөрергә  туры килгән. Бабай, үги  әбинең    киңәше белән, аны  ям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щикка утыртып, Казанга  озаткан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1:12:25Z</dcterms:created>
  <dc:creator>1</dc:creator>
  <dc:description/>
  <dc:language>en-US</dc:language>
  <cp:lastModifiedBy>admin</cp:lastModifiedBy>
  <dcterms:modified xsi:type="dcterms:W3CDTF">2021-02-24T17:14:33Z</dcterms:modified>
  <cp:revision>176</cp:revision>
  <dc:subject/>
  <dc:title>Габдулла Тукайга – 125 яшь.</dc:title>
</cp:coreProperties>
</file>