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A47-4728-4C49-BFA3-185D27BB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9AC-307A-4470-8C31-098E458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012-C248-4A47-AC9B-F65B3C01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A82-F6FE-4678-BC83-3CEB1BAF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A077-1F23-44F8-8262-013D54D6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8522E-99C4-4CBC-BD86-32B2A96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6825A-E945-4C53-94F5-7E515BB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459F4-3F4E-41C5-8F6D-DCAA2E3C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BF918-5FEC-4266-BFB8-9DFB91D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EBE60-5055-4EA8-B473-145DC834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88C55-7B35-4EFC-847E-D20EC35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67D-6238-400E-A3CC-A96A4F8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424CC-2E68-42B4-86A9-142ABE9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0BAD-A00E-4498-8FC7-C9EB584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5964-C081-445E-A79F-1430DCE2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8A8A6-F59A-4FD4-BEC8-47D7CADC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CFC3C-20B9-440F-9978-814BF001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5008-04D6-44C9-81DB-BC1B921C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1ED4-1FC4-406C-967B-6FCBC167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1C47-6C1D-4BD8-A930-4E09B79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1E56-2E91-432D-9ABB-28759BA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0872-2921-4E90-A5BA-FEB0AE9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FB2-42B7-499C-9637-C597D0B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301A-70A7-47B4-883E-97F27A27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7306-7908-488D-87DF-FB3E45B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C531-6F56-4970-A75A-8112AC8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A060-E8CB-4FC2-8743-CC47458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435D-B02D-452F-80AA-01D48AAB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3F26-29DA-4119-9AA3-BAADCA00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F89E-958C-480C-B192-45A9A754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01C3-ED89-476C-A995-B941ADEF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8BAC-6925-4095-80D9-3C79A783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541E-D33D-4954-A974-7D5713E1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000-E129-4B75-8B6A-4D74E632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58B4-CCF2-43DF-B5E9-2DFDC68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8482-8FF8-44A6-9DD3-D561282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9F8A-01EB-43C7-897E-53657E0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77D5-97BB-49AC-BF0B-9419C2B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8317-A9E3-43C0-B2F9-F0B17986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A90F-A193-4188-94B2-F1F31F4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1B04-3572-41AE-8684-18FCD806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BA0D-5FA7-45C9-A25D-47231463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FE46-58A2-4E32-A7F4-E507B3FB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BCD-EB01-43C5-90AA-60CF04A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CAE-F85C-45D3-9778-DE0DFBB3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06B-C192-4DD3-83E8-51E59B6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A62-B315-48F4-B11C-3B6AE8F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83B-55FE-4635-A32C-3D487E7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0BD-F8B0-4029-AFAC-9E25766D3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ED2-53CC-4C53-9F76-D049E52ED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915-FA7F-4EDC-84E2-04D10B5ED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C6BD-CAA3-4716-ACDD-391F7387A2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8.xml"/><Relationship Id="rId8" Type="http://schemas.openxmlformats.org/officeDocument/2006/relationships/slide" Target="slide12.xml"/><Relationship Id="rId9" Type="http://schemas.openxmlformats.org/officeDocument/2006/relationships/slide" Target="slide10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826920" y="126828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ина окружност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щадь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уг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245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988640"/>
            <a:ext cx="7354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площади кру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52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5"/>
                <p:cNvSpPr txBox="1"/>
                <p:nvPr/>
              </p:nvSpPr>
              <p:spPr>
                <a:xfrm>
                  <a:off x="3143160" y="5143320"/>
                  <a:ext cx="25628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00080" y="2000160"/>
            <a:ext cx="7128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длины окруж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58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5"/>
                <p:cNvSpPr txBox="1"/>
                <p:nvPr/>
              </p:nvSpPr>
              <p:spPr>
                <a:xfrm>
                  <a:off x="3071520" y="5286240"/>
                  <a:ext cx="2786040" cy="88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76360" y="25992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74883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угла правильного много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8604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64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5"/>
                <p:cNvSpPr txBox="1"/>
                <p:nvPr/>
              </p:nvSpPr>
              <p:spPr>
                <a:xfrm>
                  <a:off x="2928600" y="5071680"/>
                  <a:ext cx="29498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п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п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Задача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площадь кольца, ограниченного двумя окружностями с общим центром и радиусами 3 см и 7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3635280" y="4365720"/>
            <a:ext cx="2160720" cy="2158920"/>
          </a:xfrm>
          <a:prstGeom prst="ellipse">
            <a:avLst/>
          </a:prstGeom>
          <a:solidFill>
            <a:srgbClr val="993366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4067280" y="4797360"/>
            <a:ext cx="12967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4716360" y="4941720"/>
            <a:ext cx="9352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4716360" y="5445000"/>
            <a:ext cx="43200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8459640" y="6381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db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8459640" y="5950080"/>
            <a:ext cx="36036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db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976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66920" y="14130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7976"/>
                </a:solidFill>
                <a:latin typeface="Arial"/>
              </a:rPr>
              <a:t>Веер имеет форму кругового сектора. Найдите площадь этого сектора и длину дуги, которую образует развернутый веер, если радиус равен 30 см, а градусная мера угла 1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Веер"/>
          <p:cNvPicPr/>
          <p:nvPr/>
        </p:nvPicPr>
        <p:blipFill>
          <a:blip r:embed="rId1"/>
          <a:stretch/>
        </p:blipFill>
        <p:spPr>
          <a:xfrm rot="19700400">
            <a:off x="0" y="1268280"/>
            <a:ext cx="4038480" cy="2524320"/>
          </a:xfrm>
          <a:prstGeom prst="rect">
            <a:avLst/>
          </a:prstGeom>
          <a:ln w="0">
            <a:noFill/>
          </a:ln>
        </p:spPr>
      </p:pic>
      <p:sp>
        <p:nvSpPr>
          <p:cNvPr id="277" name="Line 18"/>
          <p:cNvSpPr/>
          <p:nvPr/>
        </p:nvSpPr>
        <p:spPr>
          <a:xfrm flipV="1">
            <a:off x="2484360" y="1628280"/>
            <a:ext cx="115092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 flipH="1">
            <a:off x="468360" y="3357720"/>
            <a:ext cx="20160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20"/>
          <p:cNvSpPr/>
          <p:nvPr/>
        </p:nvSpPr>
        <p:spPr>
          <a:xfrm flipV="1" rot="11203200">
            <a:off x="461160" y="1196640"/>
            <a:ext cx="3048120" cy="2716200"/>
          </a:xfrm>
          <a:custGeom>
            <a:avLst/>
            <a:gdLst>
              <a:gd name="textAreaLeft" fmla="*/ 0 w 3048120"/>
              <a:gd name="textAreaRight" fmla="*/ 3048480 w 3048120"/>
              <a:gd name="textAreaTop" fmla="*/ -360 h 2716200"/>
              <a:gd name="textAreaBottom" fmla="*/ 2716200 h 2716200"/>
            </a:gdLst>
            <a:ahLst/>
            <a:rect l="textAreaLeft" t="textAreaTop" r="textAreaRight" b="textAreaBottom"/>
            <a:pathLst>
              <a:path fill="none" w="32201" h="29384">
                <a:moveTo>
                  <a:pt x="-1" y="2780"/>
                </a:moveTo>
                <a:cubicBezTo>
                  <a:pt x="3235" y="957"/>
                  <a:pt x="6886" y="-1"/>
                  <a:pt x="10601" y="0"/>
                </a:cubicBezTo>
                <a:cubicBezTo>
                  <a:pt x="22530" y="0"/>
                  <a:pt x="32201" y="9670"/>
                  <a:pt x="32201" y="21600"/>
                </a:cubicBezTo>
                <a:cubicBezTo>
                  <a:pt x="32201" y="24261"/>
                  <a:pt x="31708" y="26900"/>
                  <a:pt x="30749" y="29383"/>
                </a:cubicBezTo>
              </a:path>
              <a:path stroke="0" w="32201" h="29384">
                <a:moveTo>
                  <a:pt x="-1" y="2780"/>
                </a:moveTo>
                <a:cubicBezTo>
                  <a:pt x="3235" y="957"/>
                  <a:pt x="6886" y="-1"/>
                  <a:pt x="10601" y="0"/>
                </a:cubicBezTo>
                <a:cubicBezTo>
                  <a:pt x="22530" y="0"/>
                  <a:pt x="32201" y="9670"/>
                  <a:pt x="32201" y="21600"/>
                </a:cubicBezTo>
                <a:cubicBezTo>
                  <a:pt x="32201" y="24261"/>
                  <a:pt x="31708" y="26900"/>
                  <a:pt x="30749" y="29383"/>
                </a:cubicBezTo>
                <a:lnTo>
                  <a:pt x="10601" y="21600"/>
                </a:lnTo>
                <a:lnTo>
                  <a:pt x="-1" y="278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1042920" y="76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2" name="Picture 29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13640" cy="566748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31"/>
          <p:cNvSpPr/>
          <p:nvPr/>
        </p:nvSpPr>
        <p:spPr>
          <a:xfrm>
            <a:off x="4859280" y="404640"/>
            <a:ext cx="2158920" cy="2160720"/>
          </a:xfrm>
          <a:prstGeom prst="octagon">
            <a:avLst>
              <a:gd name="adj" fmla="val 2928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2"/>
          <p:cNvSpPr/>
          <p:nvPr/>
        </p:nvSpPr>
        <p:spPr>
          <a:xfrm>
            <a:off x="179280" y="1844640"/>
            <a:ext cx="2159280" cy="1871640"/>
          </a:xfrm>
          <a:prstGeom prst="triangle">
            <a:avLst>
              <a:gd name="adj" fmla="val 50000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3"/>
          <p:cNvSpPr/>
          <p:nvPr/>
        </p:nvSpPr>
        <p:spPr>
          <a:xfrm rot="3198000">
            <a:off x="1871280" y="-135000"/>
            <a:ext cx="2952720" cy="2880000"/>
          </a:xfrm>
          <a:prstGeom prst="pentagon">
            <a:avLst/>
          </a:prstGeom>
          <a:solidFill>
            <a:srgbClr val="6666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>
            <a:off x="1042920" y="4265640"/>
            <a:ext cx="2592360" cy="2592360"/>
          </a:xfrm>
          <a:prstGeom prst="ellipse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5"/>
          <p:cNvSpPr/>
          <p:nvPr/>
        </p:nvSpPr>
        <p:spPr>
          <a:xfrm>
            <a:off x="3348000" y="2708280"/>
            <a:ext cx="3024360" cy="2952720"/>
          </a:xfrm>
          <a:prstGeom prst="diamond">
            <a:avLst/>
          </a:prstGeom>
          <a:solidFill>
            <a:srgbClr val="ff99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6"/>
          <p:cNvSpPr/>
          <p:nvPr/>
        </p:nvSpPr>
        <p:spPr>
          <a:xfrm rot="1682400">
            <a:off x="6011640" y="4698720"/>
            <a:ext cx="2519280" cy="215892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7"/>
          <p:cNvSpPr/>
          <p:nvPr/>
        </p:nvSpPr>
        <p:spPr>
          <a:xfrm rot="11979000">
            <a:off x="6659640" y="2060280"/>
            <a:ext cx="2232000" cy="2235240"/>
          </a:xfrm>
          <a:prstGeom prst="ellipse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26771 -0.07871 E">
                                      <p:cBhvr>
                                        <p:cTn id="44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6701 0.34097 E">
                                      <p:cBhvr>
                                        <p:cTn id="445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45659 0.38981 E">
                                      <p:cBhvr>
                                        <p:cTn id="447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7 L 0.29948 0.18912 E">
                                      <p:cBhvr>
                                        <p:cTn id="449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73611 -0.25856 E">
                                      <p:cBhvr>
                                        <p:cTn id="45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0.48837 -0.40532 E">
                                      <p:cBhvr>
                                        <p:cTn id="45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ля домашн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1.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Найдите площади секторов, на которые разбивают круг два радиуса длиной 4 м, а угол между ними равен 36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2.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Найдите длины дуг, на которые разбивают окружность два радиуса длиной 6 дм, если угол между ними равен 7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3.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лощадь кольца, ограниченного двумя окружностями с общим центром и радиусами 3 см и 7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ериметр квадрата, вписанного в окружность, равен 48 см. Найдите сторону правильного пятиугольника, вписанного в ту же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51"/>
          <p:cNvGrpSpPr/>
          <p:nvPr/>
        </p:nvGrpSpPr>
        <p:grpSpPr>
          <a:xfrm>
            <a:off x="2268360" y="2491920"/>
            <a:ext cx="5040000" cy="3169080"/>
            <a:chOff x="2268360" y="2491920"/>
            <a:chExt cx="5040000" cy="3169080"/>
          </a:xfrm>
        </p:grpSpPr>
        <p:sp>
          <p:nvSpPr>
            <p:cNvPr id="184" name="Rectangle 9"/>
            <p:cNvSpPr/>
            <p:nvPr/>
          </p:nvSpPr>
          <p:spPr>
            <a:xfrm>
              <a:off x="3565080" y="2852640"/>
              <a:ext cx="576360" cy="5749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3565080" y="4726080"/>
              <a:ext cx="57636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437080" y="4726080"/>
              <a:ext cx="57600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5437080" y="2852640"/>
              <a:ext cx="576000" cy="5749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4500360" y="3789360"/>
              <a:ext cx="57636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49"/>
            <p:cNvGrpSpPr/>
            <p:nvPr/>
          </p:nvGrpSpPr>
          <p:grpSpPr>
            <a:xfrm>
              <a:off x="2268360" y="2491920"/>
              <a:ext cx="5040000" cy="1295640"/>
              <a:chOff x="2268360" y="2491920"/>
              <a:chExt cx="5040000" cy="1295640"/>
            </a:xfrm>
          </p:grpSpPr>
          <p:sp>
            <p:nvSpPr>
              <p:cNvPr id="190" name="AutoShape 12">
                <a:hlinkClick r:id="rId2" action="ppaction://hlinksldjump"/>
              </p:cNvPr>
              <p:cNvSpPr/>
              <p:nvPr/>
            </p:nvSpPr>
            <p:spPr>
              <a:xfrm rot="10800000">
                <a:off x="4141080" y="2491920"/>
                <a:ext cx="1295640" cy="1295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e0c6fa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19">
                <a:hlinkClick r:id="rId3" action="ppaction://hlinksldjump"/>
              </p:cNvPr>
              <p:cNvSpPr/>
              <p:nvPr/>
            </p:nvSpPr>
            <p:spPr>
              <a:xfrm rot="10800000">
                <a:off x="6012720" y="2491920"/>
                <a:ext cx="1295640" cy="1295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e0c6fa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20">
                <a:hlinkClick r:id="rId4" action="ppaction://hlinksldjump"/>
              </p:cNvPr>
              <p:cNvSpPr/>
              <p:nvPr/>
            </p:nvSpPr>
            <p:spPr>
              <a:xfrm rot="10800000">
                <a:off x="2268360" y="2491920"/>
                <a:ext cx="1295280" cy="1295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e0c6fa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50"/>
            <p:cNvGrpSpPr/>
            <p:nvPr/>
          </p:nvGrpSpPr>
          <p:grpSpPr>
            <a:xfrm>
              <a:off x="2268360" y="3429000"/>
              <a:ext cx="5040000" cy="2232000"/>
              <a:chOff x="2268360" y="3429000"/>
              <a:chExt cx="5040000" cy="2232000"/>
            </a:xfrm>
          </p:grpSpPr>
          <p:sp>
            <p:nvSpPr>
              <p:cNvPr id="194" name="AutoShape 10">
                <a:hlinkClick r:id="rId5" action="ppaction://hlinksldjump"/>
              </p:cNvPr>
              <p:cNvSpPr/>
              <p:nvPr/>
            </p:nvSpPr>
            <p:spPr>
              <a:xfrm rot="10800000">
                <a:off x="5076720" y="3429000"/>
                <a:ext cx="129528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11">
                <a:hlinkClick r:id="rId6" action="ppaction://hlinksldjump"/>
              </p:cNvPr>
              <p:cNvSpPr/>
              <p:nvPr/>
            </p:nvSpPr>
            <p:spPr>
              <a:xfrm rot="10800000">
                <a:off x="4141080" y="4365720"/>
                <a:ext cx="129564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99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13">
                <a:hlinkClick r:id="rId7" action="ppaction://hlinksldjump"/>
              </p:cNvPr>
              <p:cNvSpPr/>
              <p:nvPr/>
            </p:nvSpPr>
            <p:spPr>
              <a:xfrm rot="10800000">
                <a:off x="3204360" y="3429000"/>
                <a:ext cx="129564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18">
                <a:hlinkClick r:id="rId8" action="ppaction://hlinksldjump"/>
              </p:cNvPr>
              <p:cNvSpPr/>
              <p:nvPr/>
            </p:nvSpPr>
            <p:spPr>
              <a:xfrm rot="10800000">
                <a:off x="6012720" y="4365720"/>
                <a:ext cx="129564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23">
                <a:hlinkClick r:id="rId9" action="ppaction://hlinksldjump"/>
              </p:cNvPr>
              <p:cNvSpPr/>
              <p:nvPr/>
            </p:nvSpPr>
            <p:spPr>
              <a:xfrm rot="10800000">
                <a:off x="2268360" y="4365720"/>
                <a:ext cx="129528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Rectangle 34"/>
            <p:cNvSpPr/>
            <p:nvPr/>
          </p:nvSpPr>
          <p:spPr>
            <a:xfrm>
              <a:off x="6373440" y="3789360"/>
              <a:ext cx="57636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5"/>
            <p:cNvSpPr/>
            <p:nvPr/>
          </p:nvSpPr>
          <p:spPr>
            <a:xfrm>
              <a:off x="2628720" y="3789360"/>
              <a:ext cx="57600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WordArt 38"/>
          <p:cNvSpPr txBox="1"/>
          <p:nvPr/>
        </p:nvSpPr>
        <p:spPr>
          <a:xfrm>
            <a:off x="1042920" y="404640"/>
            <a:ext cx="7201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тор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2268360" y="2852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4140360" y="2852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№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6012000" y="2852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2">
            <a:hlinkClick r:id="rId13" action="ppaction://hlinksldjump"/>
          </p:cNvPr>
          <p:cNvSpPr/>
          <p:nvPr/>
        </p:nvSpPr>
        <p:spPr>
          <a:xfrm>
            <a:off x="3203640" y="378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5076720" y="378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2268360" y="472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4140360" y="4724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№ 7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6012000" y="4724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042920" y="76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12" name="Picture 29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6713640" cy="56674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31"/>
          <p:cNvSpPr/>
          <p:nvPr/>
        </p:nvSpPr>
        <p:spPr>
          <a:xfrm>
            <a:off x="4859280" y="404640"/>
            <a:ext cx="2158920" cy="2160720"/>
          </a:xfrm>
          <a:prstGeom prst="octagon">
            <a:avLst>
              <a:gd name="adj" fmla="val 2928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2"/>
          <p:cNvSpPr/>
          <p:nvPr/>
        </p:nvSpPr>
        <p:spPr>
          <a:xfrm>
            <a:off x="179280" y="1844640"/>
            <a:ext cx="2159280" cy="1871640"/>
          </a:xfrm>
          <a:prstGeom prst="triangle">
            <a:avLst>
              <a:gd name="adj" fmla="val 50000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3"/>
          <p:cNvSpPr/>
          <p:nvPr/>
        </p:nvSpPr>
        <p:spPr>
          <a:xfrm rot="3198000">
            <a:off x="1871280" y="-135000"/>
            <a:ext cx="2952720" cy="2880000"/>
          </a:xfrm>
          <a:prstGeom prst="pentagon">
            <a:avLst/>
          </a:prstGeom>
          <a:solidFill>
            <a:srgbClr val="6666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1042920" y="4265640"/>
            <a:ext cx="2592360" cy="2592360"/>
          </a:xfrm>
          <a:prstGeom prst="ellipse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5"/>
          <p:cNvSpPr/>
          <p:nvPr/>
        </p:nvSpPr>
        <p:spPr>
          <a:xfrm>
            <a:off x="3348000" y="2708280"/>
            <a:ext cx="3024360" cy="2952720"/>
          </a:xfrm>
          <a:prstGeom prst="diamond">
            <a:avLst/>
          </a:prstGeom>
          <a:solidFill>
            <a:srgbClr val="ff99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6"/>
          <p:cNvSpPr/>
          <p:nvPr/>
        </p:nvSpPr>
        <p:spPr>
          <a:xfrm rot="1682400">
            <a:off x="6011640" y="4698720"/>
            <a:ext cx="2519280" cy="215892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 rot="11979000">
            <a:off x="6659640" y="2060280"/>
            <a:ext cx="2232000" cy="2235240"/>
          </a:xfrm>
          <a:prstGeom prst="ellipse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26771 -0.07871 E">
                                      <p:cBhvr>
                                        <p:cTn id="10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6701 0.34097 E">
                                      <p:cBhvr>
                                        <p:cTn id="10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45659 0.38981 E">
                                      <p:cBhvr>
                                        <p:cTn id="11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7 L 0.29948 0.18912 E">
                                      <p:cBhvr>
                                        <p:cTn id="11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73611 -0.25856 E">
                                      <p:cBhvr>
                                        <p:cTn id="11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0.48837 -0.40532 E">
                                      <p:cBhvr>
                                        <p:cTn id="11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826920" y="126828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ина окружност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щадь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уг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1800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4000"/>
            </a:b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формулируйте определение правильного многоугольника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8459640" y="6165720"/>
            <a:ext cx="432000" cy="549360"/>
          </a:xfrm>
          <a:custGeom>
            <a:avLst/>
            <a:gdLst>
              <a:gd name="textAreaLeft" fmla="*/ 57600 w 432000"/>
              <a:gd name="textAreaRight" fmla="*/ 374400 w 432000"/>
              <a:gd name="textAreaTop" fmla="*/ 96120 h 549360"/>
              <a:gd name="textAreaBottom" fmla="*/ 3985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a7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57880" y="285840"/>
            <a:ext cx="3610080" cy="4991040"/>
          </a:xfrm>
          <a:prstGeom prst="rect">
            <a:avLst/>
          </a:prstGeom>
          <a:ln w="9360">
            <a:solidFill>
              <a:srgbClr val="bc9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6840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площади сек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rId2" action="ppaction://hlinksldjump"/>
          </p:cNvPr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29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5"/>
                <p:cNvSpPr txBox="1"/>
                <p:nvPr/>
              </p:nvSpPr>
              <p:spPr>
                <a:xfrm>
                  <a:off x="3429000" y="5143320"/>
                  <a:ext cx="214308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3080" y="107136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2852640"/>
            <a:ext cx="5257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Какая точка называется центром правильного многоугольника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8459640" y="6165720"/>
            <a:ext cx="432000" cy="549360"/>
          </a:xfrm>
          <a:custGeom>
            <a:avLst/>
            <a:gdLst>
              <a:gd name="textAreaLeft" fmla="*/ 57600 w 432000"/>
              <a:gd name="textAreaRight" fmla="*/ 374400 w 432000"/>
              <a:gd name="textAreaTop" fmla="*/ 96120 h 549360"/>
              <a:gd name="textAreaBottom" fmla="*/ 3985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a7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5214960" y="571680"/>
            <a:ext cx="3776760" cy="3929040"/>
          </a:xfrm>
          <a:prstGeom prst="rect">
            <a:avLst/>
          </a:prstGeom>
          <a:ln w="9360">
            <a:solidFill>
              <a:srgbClr val="bc9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03280" y="62028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1992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длины дуги окруж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39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5"/>
                <p:cNvSpPr txBox="1"/>
                <p:nvPr/>
              </p:nvSpPr>
              <p:spPr>
                <a:xfrm>
                  <a:off x="3429000" y="5059800"/>
                  <a:ext cx="2097000" cy="122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680" y="856800"/>
            <a:ext cx="245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4248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Чему равно  приближенное значение</a:t>
            </a:r>
            <a:r>
              <a:rPr b="1" i="1" lang="el-GR" sz="4000" spc="-1" strike="noStrike">
                <a:solidFill>
                  <a:srgbClr val="000000"/>
                </a:solidFill>
                <a:latin typeface="Garamond"/>
              </a:rPr>
              <a:t> π</a:t>
            </a: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8459640" y="6165720"/>
            <a:ext cx="432000" cy="549360"/>
          </a:xfrm>
          <a:custGeom>
            <a:avLst/>
            <a:gdLst>
              <a:gd name="textAreaLeft" fmla="*/ 57600 w 432000"/>
              <a:gd name="textAreaRight" fmla="*/ 374400 w 432000"/>
              <a:gd name="textAreaTop" fmla="*/ 96120 h 549360"/>
              <a:gd name="textAreaBottom" fmla="*/ 3985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a7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7"/>
          <p:cNvGrpSpPr/>
          <p:nvPr/>
        </p:nvGrpSpPr>
        <p:grpSpPr>
          <a:xfrm>
            <a:off x="4429080" y="1857240"/>
            <a:ext cx="4572000" cy="2286000"/>
            <a:chOff x="4429080" y="1857240"/>
            <a:chExt cx="4572000" cy="2286000"/>
          </a:xfrm>
        </p:grpSpPr>
        <p:sp>
          <p:nvSpPr>
            <p:cNvPr id="245" name="Скругленный прямоугольник 4"/>
            <p:cNvSpPr/>
            <p:nvPr/>
          </p:nvSpPr>
          <p:spPr>
            <a:xfrm>
              <a:off x="4429080" y="185724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5"/>
                <p:cNvSpPr txBox="1"/>
                <p:nvPr/>
              </p:nvSpPr>
              <p:spPr>
                <a:xfrm>
                  <a:off x="4500360" y="2142720"/>
                  <a:ext cx="1865520" cy="170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Object 6"/>
                <p:cNvSpPr txBox="1"/>
                <p:nvPr/>
              </p:nvSpPr>
              <p:spPr>
                <a:xfrm>
                  <a:off x="6786360" y="2643120"/>
                  <a:ext cx="2184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≈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0:19:54Z</dcterms:created>
  <dc:creator>Оля</dc:creator>
  <dc:description/>
  <dc:language>en-US</dc:language>
  <cp:lastModifiedBy>User</cp:lastModifiedBy>
  <dcterms:modified xsi:type="dcterms:W3CDTF">2023-02-01T17:52:56Z</dcterms:modified>
  <cp:revision>70</cp:revision>
  <dc:subject/>
  <dc:title>Слайд 1</dc:title>
</cp:coreProperties>
</file>