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8C55-22E2-4CF3-B512-3D0E1DC7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860-19AA-41F5-AB33-C76B3C16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DA5-BDFB-4D5A-92D9-50CCFF7D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1E9-A896-4885-81E2-C3436B9F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0C7A1-A5EB-4BEF-9134-A327758B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E59E1-1CBE-4B5A-AE0A-18D54FBA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6B02C-0FE4-4D09-8831-FE7E429F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26962-C18C-469C-BC25-2C312730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F1C6B-A70A-42D4-A417-B842AE73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79784-3CF8-485B-AF20-9A3F8F4C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56CBF-3DA5-4034-95A5-DDECB96C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C3D-1D64-487A-B962-5FAB8984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3212-FE45-4BFF-B602-E4EC1B02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9C89C-9D6A-48AC-95A3-EDE6157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6224D-EE92-40D5-AF41-414D3CAA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AD835-C323-4AC0-A559-3EACB30E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6B9C1-88E8-4AFF-B46E-3F1FAE54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376E-EBD4-4713-B8E0-6B7E76E1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1040-CAFA-4A4F-8E35-7BCCB1F2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23A4-F810-4933-B088-344E3482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3702B-5214-4DA5-97F7-9E8F74AA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5AE0-DF81-4F96-9D14-50F49DD9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239-5BF1-4C1D-87E7-C4708CA2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85C7-42CF-4652-A9D3-8769C5D0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D668-C7CD-4D14-8D46-7C30DDDD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99587-19CC-472C-B260-2B360FB2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468C1-1516-431B-80FC-F86E177F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5125-E6FE-48E5-94B0-016A580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7687-E158-44A5-8E6E-4B89F278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3D11-7018-4514-9E2E-59837435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FBB90-5863-438B-B8CA-AA855118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6DB8F-B567-4355-898E-5C8B64E3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034BC-59F5-466C-A818-07184591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1B6-E490-4ABA-9EFA-9086BF47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466D-268A-4CF5-AADD-0BDB6CD7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840DC-D189-4E9E-9614-DD3ADD82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6C1F-05C1-4BD7-B380-CECF50F3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1257-0CA9-4A9E-A6E3-52AD0438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7301-9638-44DF-AD02-BFF3D568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3BDD-BE4D-4DD5-9135-E5450CF9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9304A-6BE8-470E-A4B0-EFCC87D2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A675-BB11-4D95-A089-EA9F3A3B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D6E4-BDC5-49E9-B80E-0A989C1A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3D4-06B4-475D-BA58-E9C265EA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1B2-CCD6-445D-9D44-267283F5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7EF-3C1B-4D7F-8CEC-1A9DE08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FDF-B0E2-4423-A62B-84F3101C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217-9C40-4FFC-B2D3-72B794B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7D33-9B91-438F-90CC-E0675F760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873E-ED24-4E39-B891-FBA1DF783A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2E6E-CD4A-45FA-BFEF-849D1FC7C4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B7E5-15E8-4AB5-81E6-4975F9DF63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8.xml"/><Relationship Id="rId8" Type="http://schemas.openxmlformats.org/officeDocument/2006/relationships/slide" Target="slide12.xml"/><Relationship Id="rId9" Type="http://schemas.openxmlformats.org/officeDocument/2006/relationships/slide" Target="slide10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10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826920" y="1268280"/>
            <a:ext cx="7632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ина окружност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щадь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уг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245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71640" y="1988640"/>
            <a:ext cx="7354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площади кру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8388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52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5"/>
                <p:cNvSpPr txBox="1"/>
                <p:nvPr/>
              </p:nvSpPr>
              <p:spPr>
                <a:xfrm>
                  <a:off x="3143160" y="5143320"/>
                  <a:ext cx="25628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πR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00080" y="2000160"/>
            <a:ext cx="7128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длины окруж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8388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58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5"/>
                <p:cNvSpPr txBox="1"/>
                <p:nvPr/>
              </p:nvSpPr>
              <p:spPr>
                <a:xfrm>
                  <a:off x="3071520" y="5286240"/>
                  <a:ext cx="2786040" cy="88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С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R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76360" y="25992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748836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угла правильного многоугольн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8604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64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Object 5"/>
                <p:cNvSpPr txBox="1"/>
                <p:nvPr/>
              </p:nvSpPr>
              <p:spPr>
                <a:xfrm>
                  <a:off x="2928600" y="5071680"/>
                  <a:ext cx="294984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п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п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e>
                        <m:sup>
                          <m:r>
                            <m:t xml:space="preserve">°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Задача №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йдите площадь кольца, ограниченного двумя окружностями с общим центром и радиусами 3 см и 7 с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4"/>
          <p:cNvSpPr/>
          <p:nvPr/>
        </p:nvSpPr>
        <p:spPr>
          <a:xfrm>
            <a:off x="3635280" y="4365720"/>
            <a:ext cx="2160720" cy="2158920"/>
          </a:xfrm>
          <a:prstGeom prst="ellipse">
            <a:avLst/>
          </a:prstGeom>
          <a:solidFill>
            <a:srgbClr val="993366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"/>
          <p:cNvSpPr/>
          <p:nvPr/>
        </p:nvSpPr>
        <p:spPr>
          <a:xfrm>
            <a:off x="4067280" y="4797360"/>
            <a:ext cx="12967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 flipV="1">
            <a:off x="4716360" y="4941720"/>
            <a:ext cx="93528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7"/>
          <p:cNvSpPr/>
          <p:nvPr/>
        </p:nvSpPr>
        <p:spPr>
          <a:xfrm>
            <a:off x="4716360" y="5445000"/>
            <a:ext cx="432000" cy="50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8459640" y="638172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db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8459640" y="5950080"/>
            <a:ext cx="36036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db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976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066920" y="141300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7976"/>
                </a:solidFill>
                <a:latin typeface="Arial"/>
              </a:rPr>
              <a:t>Веер имеет форму кругового сектора. Найдите площадь этого сектора и длину дуги, которую образует развернутый веер, если радиус равен 30 см, а градусная мера угла 1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Веер"/>
          <p:cNvPicPr/>
          <p:nvPr/>
        </p:nvPicPr>
        <p:blipFill>
          <a:blip r:embed="rId1"/>
          <a:stretch/>
        </p:blipFill>
        <p:spPr>
          <a:xfrm rot="19700400">
            <a:off x="0" y="1268280"/>
            <a:ext cx="4038480" cy="2524320"/>
          </a:xfrm>
          <a:prstGeom prst="rect">
            <a:avLst/>
          </a:prstGeom>
          <a:ln w="0">
            <a:noFill/>
          </a:ln>
        </p:spPr>
      </p:pic>
      <p:sp>
        <p:nvSpPr>
          <p:cNvPr id="277" name="Line 18"/>
          <p:cNvSpPr/>
          <p:nvPr/>
        </p:nvSpPr>
        <p:spPr>
          <a:xfrm flipV="1">
            <a:off x="2484360" y="1628280"/>
            <a:ext cx="115092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 flipH="1">
            <a:off x="468360" y="3357720"/>
            <a:ext cx="201600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rc 20"/>
          <p:cNvSpPr/>
          <p:nvPr/>
        </p:nvSpPr>
        <p:spPr>
          <a:xfrm flipV="1" rot="11203200">
            <a:off x="461160" y="1196640"/>
            <a:ext cx="3048120" cy="2716200"/>
          </a:xfrm>
          <a:custGeom>
            <a:avLst/>
            <a:gdLst>
              <a:gd name="textAreaLeft" fmla="*/ 0 w 3048120"/>
              <a:gd name="textAreaRight" fmla="*/ 3048480 w 3048120"/>
              <a:gd name="textAreaTop" fmla="*/ -360 h 2716200"/>
              <a:gd name="textAreaBottom" fmla="*/ 2716200 h 2716200"/>
            </a:gdLst>
            <a:ahLst/>
            <a:rect l="textAreaLeft" t="textAreaTop" r="textAreaRight" b="textAreaBottom"/>
            <a:pathLst>
              <a:path fill="none" w="32201" h="29384">
                <a:moveTo>
                  <a:pt x="-1" y="2780"/>
                </a:moveTo>
                <a:cubicBezTo>
                  <a:pt x="3235" y="957"/>
                  <a:pt x="6886" y="-1"/>
                  <a:pt x="10601" y="0"/>
                </a:cubicBezTo>
                <a:cubicBezTo>
                  <a:pt x="22530" y="0"/>
                  <a:pt x="32201" y="9670"/>
                  <a:pt x="32201" y="21600"/>
                </a:cubicBezTo>
                <a:cubicBezTo>
                  <a:pt x="32201" y="24261"/>
                  <a:pt x="31708" y="26900"/>
                  <a:pt x="30749" y="29383"/>
                </a:cubicBezTo>
              </a:path>
              <a:path stroke="0" w="32201" h="29384">
                <a:moveTo>
                  <a:pt x="-1" y="2780"/>
                </a:moveTo>
                <a:cubicBezTo>
                  <a:pt x="3235" y="957"/>
                  <a:pt x="6886" y="-1"/>
                  <a:pt x="10601" y="0"/>
                </a:cubicBezTo>
                <a:cubicBezTo>
                  <a:pt x="22530" y="0"/>
                  <a:pt x="32201" y="9670"/>
                  <a:pt x="32201" y="21600"/>
                </a:cubicBezTo>
                <a:cubicBezTo>
                  <a:pt x="32201" y="24261"/>
                  <a:pt x="31708" y="26900"/>
                  <a:pt x="30749" y="29383"/>
                </a:cubicBezTo>
                <a:lnTo>
                  <a:pt x="10601" y="21600"/>
                </a:lnTo>
                <a:lnTo>
                  <a:pt x="-1" y="278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1042920" y="765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5"/>
              <p:cNvSpPr txBox="1"/>
              <p:nvPr/>
            </p:nvSpPr>
            <p:spPr>
              <a:xfrm>
                <a:off x="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2" name="Picture 29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713640" cy="566748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31"/>
          <p:cNvSpPr/>
          <p:nvPr/>
        </p:nvSpPr>
        <p:spPr>
          <a:xfrm>
            <a:off x="4859280" y="404640"/>
            <a:ext cx="2158920" cy="2160720"/>
          </a:xfrm>
          <a:prstGeom prst="octagon">
            <a:avLst>
              <a:gd name="adj" fmla="val 2928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2"/>
          <p:cNvSpPr/>
          <p:nvPr/>
        </p:nvSpPr>
        <p:spPr>
          <a:xfrm>
            <a:off x="179280" y="1844640"/>
            <a:ext cx="2159280" cy="1871640"/>
          </a:xfrm>
          <a:prstGeom prst="triangle">
            <a:avLst>
              <a:gd name="adj" fmla="val 50000"/>
            </a:avLst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3"/>
          <p:cNvSpPr/>
          <p:nvPr/>
        </p:nvSpPr>
        <p:spPr>
          <a:xfrm rot="3198000">
            <a:off x="1871280" y="-135000"/>
            <a:ext cx="2952720" cy="2880000"/>
          </a:xfrm>
          <a:prstGeom prst="pentagon">
            <a:avLst/>
          </a:prstGeom>
          <a:solidFill>
            <a:srgbClr val="6666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4"/>
          <p:cNvSpPr/>
          <p:nvPr/>
        </p:nvSpPr>
        <p:spPr>
          <a:xfrm>
            <a:off x="1042920" y="4265640"/>
            <a:ext cx="2592360" cy="2592360"/>
          </a:xfrm>
          <a:prstGeom prst="ellipse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5"/>
          <p:cNvSpPr/>
          <p:nvPr/>
        </p:nvSpPr>
        <p:spPr>
          <a:xfrm>
            <a:off x="3348000" y="2708280"/>
            <a:ext cx="3024360" cy="2952720"/>
          </a:xfrm>
          <a:prstGeom prst="diamond">
            <a:avLst/>
          </a:prstGeom>
          <a:solidFill>
            <a:srgbClr val="ff99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6"/>
          <p:cNvSpPr/>
          <p:nvPr/>
        </p:nvSpPr>
        <p:spPr>
          <a:xfrm rot="1682400">
            <a:off x="6011640" y="4698720"/>
            <a:ext cx="2519280" cy="215892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80008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7"/>
          <p:cNvSpPr/>
          <p:nvPr/>
        </p:nvSpPr>
        <p:spPr>
          <a:xfrm rot="11979000">
            <a:off x="6659640" y="2060280"/>
            <a:ext cx="2232000" cy="2235240"/>
          </a:xfrm>
          <a:prstGeom prst="ellipse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0.26771 -0.07871 E">
                                      <p:cBhvr>
                                        <p:cTn id="441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06701 0.34097 E">
                                      <p:cBhvr>
                                        <p:cTn id="445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0.45659 0.38981 E">
                                      <p:cBhvr>
                                        <p:cTn id="447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7 L 0.29948 0.18912 E">
                                      <p:cBhvr>
                                        <p:cTn id="449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-0.73611 -0.25856 E">
                                      <p:cBhvr>
                                        <p:cTn id="45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0.48837 -0.40532 E">
                                      <p:cBhvr>
                                        <p:cTn id="453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ля домашне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1.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Найдите площади секторов, на которые разбивают круг два радиуса длиной 4 м, а угол между ними равен 36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2. 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</a:rPr>
              <a:t>Найдите длины дуг, на которые разбивают окружность два радиуса длиной 6 дм, если угол между ними равен 72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3.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площадь кольца, ограниченного двумя окружностями с общим центром и радиусами 3 см и 7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Периметр квадрата, вписанного в окружность, равен 48 см. Найдите сторону правильного пятиугольника, вписанного в ту же окру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51"/>
          <p:cNvGrpSpPr/>
          <p:nvPr/>
        </p:nvGrpSpPr>
        <p:grpSpPr>
          <a:xfrm>
            <a:off x="2268360" y="2491920"/>
            <a:ext cx="5040000" cy="3169080"/>
            <a:chOff x="2268360" y="2491920"/>
            <a:chExt cx="5040000" cy="3169080"/>
          </a:xfrm>
        </p:grpSpPr>
        <p:sp>
          <p:nvSpPr>
            <p:cNvPr id="184" name="Rectangle 9"/>
            <p:cNvSpPr/>
            <p:nvPr/>
          </p:nvSpPr>
          <p:spPr>
            <a:xfrm>
              <a:off x="3565080" y="2852640"/>
              <a:ext cx="576360" cy="5749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3565080" y="4726080"/>
              <a:ext cx="57636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"/>
            <p:cNvSpPr/>
            <p:nvPr/>
          </p:nvSpPr>
          <p:spPr>
            <a:xfrm>
              <a:off x="5437080" y="4726080"/>
              <a:ext cx="57600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6"/>
            <p:cNvSpPr/>
            <p:nvPr/>
          </p:nvSpPr>
          <p:spPr>
            <a:xfrm>
              <a:off x="5437080" y="2852640"/>
              <a:ext cx="576000" cy="5749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7"/>
            <p:cNvSpPr/>
            <p:nvPr/>
          </p:nvSpPr>
          <p:spPr>
            <a:xfrm>
              <a:off x="4500360" y="3789360"/>
              <a:ext cx="57636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49"/>
            <p:cNvGrpSpPr/>
            <p:nvPr/>
          </p:nvGrpSpPr>
          <p:grpSpPr>
            <a:xfrm>
              <a:off x="2268360" y="2491920"/>
              <a:ext cx="5040000" cy="1295640"/>
              <a:chOff x="2268360" y="2491920"/>
              <a:chExt cx="5040000" cy="1295640"/>
            </a:xfrm>
          </p:grpSpPr>
          <p:sp>
            <p:nvSpPr>
              <p:cNvPr id="190" name="AutoShape 12">
                <a:hlinkClick r:id="rId2" action="ppaction://hlinksldjump"/>
              </p:cNvPr>
              <p:cNvSpPr/>
              <p:nvPr/>
            </p:nvSpPr>
            <p:spPr>
              <a:xfrm rot="10800000">
                <a:off x="4141080" y="2491920"/>
                <a:ext cx="1295640" cy="129564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e0c6fa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19">
                <a:hlinkClick r:id="rId3" action="ppaction://hlinksldjump"/>
              </p:cNvPr>
              <p:cNvSpPr/>
              <p:nvPr/>
            </p:nvSpPr>
            <p:spPr>
              <a:xfrm rot="10800000">
                <a:off x="6012720" y="2491920"/>
                <a:ext cx="1295640" cy="129564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e0c6fa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20">
                <a:hlinkClick r:id="rId4" action="ppaction://hlinksldjump"/>
              </p:cNvPr>
              <p:cNvSpPr/>
              <p:nvPr/>
            </p:nvSpPr>
            <p:spPr>
              <a:xfrm rot="10800000">
                <a:off x="2268360" y="2491920"/>
                <a:ext cx="1295280" cy="129564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e0c6fa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50"/>
            <p:cNvGrpSpPr/>
            <p:nvPr/>
          </p:nvGrpSpPr>
          <p:grpSpPr>
            <a:xfrm>
              <a:off x="2268360" y="3429000"/>
              <a:ext cx="5040000" cy="2232000"/>
              <a:chOff x="2268360" y="3429000"/>
              <a:chExt cx="5040000" cy="2232000"/>
            </a:xfrm>
          </p:grpSpPr>
          <p:sp>
            <p:nvSpPr>
              <p:cNvPr id="194" name="AutoShape 10">
                <a:hlinkClick r:id="rId5" action="ppaction://hlinksldjump"/>
              </p:cNvPr>
              <p:cNvSpPr/>
              <p:nvPr/>
            </p:nvSpPr>
            <p:spPr>
              <a:xfrm rot="10800000">
                <a:off x="5076720" y="3429000"/>
                <a:ext cx="129528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11">
                <a:hlinkClick r:id="rId6" action="ppaction://hlinksldjump"/>
              </p:cNvPr>
              <p:cNvSpPr/>
              <p:nvPr/>
            </p:nvSpPr>
            <p:spPr>
              <a:xfrm rot="10800000">
                <a:off x="4141080" y="4365720"/>
                <a:ext cx="129564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99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13">
                <a:hlinkClick r:id="rId7" action="ppaction://hlinksldjump"/>
              </p:cNvPr>
              <p:cNvSpPr/>
              <p:nvPr/>
            </p:nvSpPr>
            <p:spPr>
              <a:xfrm rot="10800000">
                <a:off x="3204360" y="3429000"/>
                <a:ext cx="129564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b3"/>
                  </a:gs>
                  <a:gs pos="100000">
                    <a:srgbClr val="ff99cc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18">
                <a:hlinkClick r:id="rId8" action="ppaction://hlinksldjump"/>
              </p:cNvPr>
              <p:cNvSpPr/>
              <p:nvPr/>
            </p:nvSpPr>
            <p:spPr>
              <a:xfrm rot="10800000">
                <a:off x="6012720" y="4365720"/>
                <a:ext cx="129564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23">
                <a:hlinkClick r:id="rId9" action="ppaction://hlinksldjump"/>
              </p:cNvPr>
              <p:cNvSpPr/>
              <p:nvPr/>
            </p:nvSpPr>
            <p:spPr>
              <a:xfrm rot="10800000">
                <a:off x="2268360" y="4365720"/>
                <a:ext cx="1295280" cy="129528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ff99"/>
                  </a:gs>
                </a:gsLst>
                <a:path path="rect">
                  <a:fillToRect l="50000" t="50000" r="50000" b="50000"/>
                </a:path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Rectangle 34"/>
            <p:cNvSpPr/>
            <p:nvPr/>
          </p:nvSpPr>
          <p:spPr>
            <a:xfrm>
              <a:off x="6373440" y="3789360"/>
              <a:ext cx="57636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5"/>
            <p:cNvSpPr/>
            <p:nvPr/>
          </p:nvSpPr>
          <p:spPr>
            <a:xfrm>
              <a:off x="2628720" y="3789360"/>
              <a:ext cx="576000" cy="574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WordArt 38"/>
          <p:cNvSpPr txBox="1"/>
          <p:nvPr/>
        </p:nvSpPr>
        <p:spPr>
          <a:xfrm>
            <a:off x="1042920" y="404640"/>
            <a:ext cx="7201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тор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2268360" y="2852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4140360" y="285264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№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6012000" y="2852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2">
            <a:hlinkClick r:id="rId13" action="ppaction://hlinksldjump"/>
          </p:cNvPr>
          <p:cNvSpPr/>
          <p:nvPr/>
        </p:nvSpPr>
        <p:spPr>
          <a:xfrm>
            <a:off x="3203640" y="3789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3"/>
          <p:cNvSpPr/>
          <p:nvPr/>
        </p:nvSpPr>
        <p:spPr>
          <a:xfrm>
            <a:off x="5076720" y="3789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4"/>
          <p:cNvSpPr/>
          <p:nvPr/>
        </p:nvSpPr>
        <p:spPr>
          <a:xfrm>
            <a:off x="2268360" y="472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"/>
          <p:cNvSpPr/>
          <p:nvPr/>
        </p:nvSpPr>
        <p:spPr>
          <a:xfrm>
            <a:off x="4140360" y="4724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№ 7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7"/>
          <p:cNvSpPr/>
          <p:nvPr/>
        </p:nvSpPr>
        <p:spPr>
          <a:xfrm>
            <a:off x="6012000" y="4724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№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042920" y="7650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12" name="Picture 29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6713640" cy="566748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31"/>
          <p:cNvSpPr/>
          <p:nvPr/>
        </p:nvSpPr>
        <p:spPr>
          <a:xfrm>
            <a:off x="4859280" y="404640"/>
            <a:ext cx="2158920" cy="2160720"/>
          </a:xfrm>
          <a:prstGeom prst="octagon">
            <a:avLst>
              <a:gd name="adj" fmla="val 29287"/>
            </a:avLst>
          </a:prstGeom>
          <a:solidFill>
            <a:srgbClr val="ff00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2"/>
          <p:cNvSpPr/>
          <p:nvPr/>
        </p:nvSpPr>
        <p:spPr>
          <a:xfrm>
            <a:off x="179280" y="1844640"/>
            <a:ext cx="2159280" cy="1871640"/>
          </a:xfrm>
          <a:prstGeom prst="triangle">
            <a:avLst>
              <a:gd name="adj" fmla="val 50000"/>
            </a:avLst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3"/>
          <p:cNvSpPr/>
          <p:nvPr/>
        </p:nvSpPr>
        <p:spPr>
          <a:xfrm rot="3198000">
            <a:off x="1871280" y="-135000"/>
            <a:ext cx="2952720" cy="2880000"/>
          </a:xfrm>
          <a:prstGeom prst="pentagon">
            <a:avLst/>
          </a:prstGeom>
          <a:solidFill>
            <a:srgbClr val="6666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4"/>
          <p:cNvSpPr/>
          <p:nvPr/>
        </p:nvSpPr>
        <p:spPr>
          <a:xfrm>
            <a:off x="1042920" y="4265640"/>
            <a:ext cx="2592360" cy="2592360"/>
          </a:xfrm>
          <a:prstGeom prst="ellipse">
            <a:avLst/>
          </a:prstGeom>
          <a:solidFill>
            <a:srgbClr val="ffff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5"/>
          <p:cNvSpPr/>
          <p:nvPr/>
        </p:nvSpPr>
        <p:spPr>
          <a:xfrm>
            <a:off x="3348000" y="2708280"/>
            <a:ext cx="3024360" cy="2952720"/>
          </a:xfrm>
          <a:prstGeom prst="diamond">
            <a:avLst/>
          </a:prstGeom>
          <a:solidFill>
            <a:srgbClr val="ff99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6"/>
          <p:cNvSpPr/>
          <p:nvPr/>
        </p:nvSpPr>
        <p:spPr>
          <a:xfrm rot="1682400">
            <a:off x="6011640" y="4698720"/>
            <a:ext cx="2519280" cy="2158920"/>
          </a:xfrm>
          <a:prstGeom prst="hexagon">
            <a:avLst>
              <a:gd name="adj" fmla="val 29173"/>
              <a:gd name="vf" fmla="val 115470"/>
            </a:avLst>
          </a:prstGeom>
          <a:solidFill>
            <a:srgbClr val="80008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 rot="11979000">
            <a:off x="6659640" y="2060280"/>
            <a:ext cx="2232000" cy="2235240"/>
          </a:xfrm>
          <a:prstGeom prst="ellipse">
            <a:avLst/>
          </a:prstGeom>
          <a:solidFill>
            <a:srgbClr val="ff66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-0.26771 -0.07871 E">
                                      <p:cBhvr>
                                        <p:cTn id="104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6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06701 0.34097 E">
                                      <p:cBhvr>
                                        <p:cTn id="10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0.45659 0.38981 E">
                                      <p:cBhvr>
                                        <p:cTn id="11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7 L 0.29948 0.18912 E">
                                      <p:cBhvr>
                                        <p:cTn id="112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-0.73611 -0.25856 E">
                                      <p:cBhvr>
                                        <p:cTn id="11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0.48837 -0.40532 E">
                                      <p:cBhvr>
                                        <p:cTn id="11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826920" y="1268280"/>
            <a:ext cx="76327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ина окружност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лощадь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уга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180036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1</a:t>
            </a:r>
            <a:br>
              <a:rPr sz="4000"/>
            </a:b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3068280"/>
            <a:ext cx="482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формулируйте определение правильного многоугольника</a:t>
            </a: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AutoShape 6">
            <a:hlinkClick r:id="rId1" action="ppaction://hlinksldjump"/>
          </p:cNvPr>
          <p:cNvSpPr/>
          <p:nvPr/>
        </p:nvSpPr>
        <p:spPr>
          <a:xfrm>
            <a:off x="8459640" y="6165720"/>
            <a:ext cx="432000" cy="549360"/>
          </a:xfrm>
          <a:custGeom>
            <a:avLst/>
            <a:gdLst>
              <a:gd name="textAreaLeft" fmla="*/ 57600 w 432000"/>
              <a:gd name="textAreaRight" fmla="*/ 374400 w 432000"/>
              <a:gd name="textAreaTop" fmla="*/ 96120 h 549360"/>
              <a:gd name="textAreaBottom" fmla="*/ 3985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a7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57880" y="285840"/>
            <a:ext cx="3610080" cy="4991040"/>
          </a:xfrm>
          <a:prstGeom prst="rect">
            <a:avLst/>
          </a:prstGeom>
          <a:ln w="9360">
            <a:solidFill>
              <a:srgbClr val="bc9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87640" y="47592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6840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площади сек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rId2" action="ppaction://hlinksldjump"/>
          </p:cNvPr>
          <p:cNvSpPr/>
          <p:nvPr/>
        </p:nvSpPr>
        <p:spPr>
          <a:xfrm>
            <a:off x="8388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29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5"/>
                <p:cNvSpPr txBox="1"/>
                <p:nvPr/>
              </p:nvSpPr>
              <p:spPr>
                <a:xfrm>
                  <a:off x="3429000" y="5143320"/>
                  <a:ext cx="2143080" cy="121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0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3080" y="107136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360" y="2852640"/>
            <a:ext cx="5257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Какая точка называется центром правильного многоугольника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8459640" y="6165720"/>
            <a:ext cx="432000" cy="549360"/>
          </a:xfrm>
          <a:custGeom>
            <a:avLst/>
            <a:gdLst>
              <a:gd name="textAreaLeft" fmla="*/ 57600 w 432000"/>
              <a:gd name="textAreaRight" fmla="*/ 374400 w 432000"/>
              <a:gd name="textAreaTop" fmla="*/ 96120 h 549360"/>
              <a:gd name="textAreaBottom" fmla="*/ 3985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a7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5214960" y="571680"/>
            <a:ext cx="3776760" cy="3929040"/>
          </a:xfrm>
          <a:prstGeom prst="rect">
            <a:avLst/>
          </a:prstGeom>
          <a:ln w="9360">
            <a:solidFill>
              <a:srgbClr val="bc95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03280" y="62028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19928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апишите формулу для нахождения длины дуги окружност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8388360" y="6165720"/>
            <a:ext cx="431640" cy="576360"/>
          </a:xfrm>
          <a:custGeom>
            <a:avLst/>
            <a:gdLst>
              <a:gd name="textAreaLeft" fmla="*/ 57600 w 431640"/>
              <a:gd name="textAreaRight" fmla="*/ 374040 w 43164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Группа 6"/>
          <p:cNvGrpSpPr/>
          <p:nvPr/>
        </p:nvGrpSpPr>
        <p:grpSpPr>
          <a:xfrm>
            <a:off x="2643120" y="4786200"/>
            <a:ext cx="3429000" cy="1785960"/>
            <a:chOff x="2643120" y="4786200"/>
            <a:chExt cx="3429000" cy="1785960"/>
          </a:xfrm>
        </p:grpSpPr>
        <p:sp>
          <p:nvSpPr>
            <p:cNvPr id="239" name="Горизонтальный свиток 4"/>
            <p:cNvSpPr/>
            <p:nvPr/>
          </p:nvSpPr>
          <p:spPr>
            <a:xfrm>
              <a:off x="2643120" y="4786200"/>
              <a:ext cx="3429000" cy="1785960"/>
            </a:xfrm>
            <a:prstGeom prst="horizontalScroll">
              <a:avLst>
                <a:gd name="adj" fmla="val 12500"/>
              </a:avLst>
            </a:prstGeom>
            <a:solidFill>
              <a:srgbClr val="c2e49c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" name="Object 5"/>
                <p:cNvSpPr txBox="1"/>
                <p:nvPr/>
              </p:nvSpPr>
              <p:spPr>
                <a:xfrm>
                  <a:off x="3429000" y="5059800"/>
                  <a:ext cx="2097000" cy="122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π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0</m:t>
                          </m:r>
                        </m:den>
                      </m:f>
                      <m:r>
                        <m:t xml:space="preserve">⋅</m:t>
                      </m:r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14680" y="856800"/>
            <a:ext cx="245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42483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Чему равно  приближенное значение</a:t>
            </a:r>
            <a:r>
              <a:rPr b="1" i="1" lang="el-GR" sz="4000" spc="-1" strike="noStrike">
                <a:solidFill>
                  <a:srgbClr val="000000"/>
                </a:solidFill>
                <a:latin typeface="Garamond"/>
              </a:rPr>
              <a:t> π</a:t>
            </a:r>
            <a:r>
              <a:rPr b="1" i="1" lang="ru-RU" sz="4000" spc="-1" strike="noStrike">
                <a:solidFill>
                  <a:srgbClr val="000000"/>
                </a:solidFill>
                <a:latin typeface="Garamond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8459640" y="6165720"/>
            <a:ext cx="432000" cy="549360"/>
          </a:xfrm>
          <a:custGeom>
            <a:avLst/>
            <a:gdLst>
              <a:gd name="textAreaLeft" fmla="*/ 57600 w 432000"/>
              <a:gd name="textAreaRight" fmla="*/ 374400 w 432000"/>
              <a:gd name="textAreaTop" fmla="*/ 96120 h 549360"/>
              <a:gd name="textAreaBottom" fmla="*/ 39852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a72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Группа 7"/>
          <p:cNvGrpSpPr/>
          <p:nvPr/>
        </p:nvGrpSpPr>
        <p:grpSpPr>
          <a:xfrm>
            <a:off x="4429080" y="1857240"/>
            <a:ext cx="4572000" cy="2286000"/>
            <a:chOff x="4429080" y="1857240"/>
            <a:chExt cx="4572000" cy="2286000"/>
          </a:xfrm>
        </p:grpSpPr>
        <p:sp>
          <p:nvSpPr>
            <p:cNvPr id="245" name="Скругленный прямоугольник 4"/>
            <p:cNvSpPr/>
            <p:nvPr/>
          </p:nvSpPr>
          <p:spPr>
            <a:xfrm>
              <a:off x="4429080" y="1857240"/>
              <a:ext cx="4572000" cy="228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c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5"/>
                <p:cNvSpPr txBox="1"/>
                <p:nvPr/>
              </p:nvSpPr>
              <p:spPr>
                <a:xfrm>
                  <a:off x="4500360" y="2142720"/>
                  <a:ext cx="1865520" cy="170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Object 6"/>
                <p:cNvSpPr txBox="1"/>
                <p:nvPr/>
              </p:nvSpPr>
              <p:spPr>
                <a:xfrm>
                  <a:off x="6786360" y="2643120"/>
                  <a:ext cx="21844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≈</m:t>
                      </m:r>
                      <m:r>
                        <m:t xml:space="preserve">3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0:19:54Z</dcterms:created>
  <dc:creator>Оля</dc:creator>
  <dc:description/>
  <dc:language>en-US</dc:language>
  <cp:lastModifiedBy>User</cp:lastModifiedBy>
  <dcterms:modified xsi:type="dcterms:W3CDTF">2023-02-01T17:52:56Z</dcterms:modified>
  <cp:revision>70</cp:revision>
  <dc:subject/>
  <dc:title>Слайд 1</dc:title>
</cp:coreProperties>
</file>