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7DFE-961F-49A8-BFBE-8BB90C35FC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B840-CBD7-4F63-83B5-4458BC3F669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8AC8-A579-48AE-92A4-72569A56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68A8-0FAF-4354-A6CD-AD46B593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97F4-57B8-4A8F-B66E-DDC5AF5CF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D6AA-1899-4E7B-B7DE-B752BC7D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8971-200D-419D-9FA3-C9E3135C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F932-B0B7-4335-89ED-E5271F9E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9450-20FD-4B68-A6D9-084AA67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C17A-1F08-4E43-836F-B220EB4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2160-B0E5-4725-A75C-48CC020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709B-89A0-47B2-8E55-0B618B9E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8147-1ACB-4B76-A9F5-05073B7E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7D71-84B5-4567-86F8-908D48E4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645D-AF38-4FDB-BE07-C70F4F99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DF58-564E-4742-BD52-8943AC61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03A-370C-4860-8639-CCB92E19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F301-C49D-4D05-9300-BDC39B53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E67E-8640-4371-BCD3-294FB0EF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42F1-337A-4882-94FC-D8899148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BD4D8-DF7D-4A51-A3DC-4A98F902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209C-B88A-41B9-90B2-F6010E43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3906-77BA-4848-A442-AC30FAE4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A517-CBEE-40AE-83DA-7FE081A4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138D-8E7B-467F-9F20-E40B708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D93F-5067-4730-B5A8-DFA2F81B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A09-669D-4906-8B17-9280AEC4E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8BF5-BAA9-4F0A-86AD-F1150417D6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Открытый урок русского  языка</a:t>
            </a:r>
            <a:br>
              <a:rPr sz="3200"/>
            </a:b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о 2 «И» классе </a:t>
            </a:r>
            <a:br>
              <a:rPr sz="3200"/>
            </a:br>
            <a:r>
              <a:rPr b="1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4400" spc="-1" strike="noStrike" u="sng">
                <a:solidFill>
                  <a:srgbClr val="c00000"/>
                </a:solidFill>
                <a:uFillTx/>
                <a:latin typeface="Arial"/>
              </a:rPr>
              <a:t>Тема: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«Правописание мягкого знака в конце и середине слова перед другими согласными»</a:t>
            </a:r>
            <a:br>
              <a:rPr sz="4400"/>
            </a:br>
            <a:br>
              <a:rPr sz="1800"/>
            </a:br>
            <a:br>
              <a:rPr sz="1800"/>
            </a:b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ко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зве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п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ден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,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- угол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и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D:\НАТАЛЬЯ\ИНТЕРНЕТ\ФОНЫ\ШАБЛОНЫ ДЛЯ СОСТАВЛЕНИЯ КОЛЛАЖЕЙ\852a05802de65efc8e0ef4ca46d0dd6a_30_12_2008_0453034001230666147_unknow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D:\НАТАЛЬЯ\ИНТЕРНЕТ\КАРТИНКИ\РАСТЕНИЯ, ЦВЕТЫ\2f641a2b6c43.jpg"/>
          <p:cNvPicPr/>
          <p:nvPr/>
        </p:nvPicPr>
        <p:blipFill>
          <a:blip r:embed="rId2"/>
          <a:stretch/>
        </p:blipFill>
        <p:spPr>
          <a:xfrm>
            <a:off x="1547640" y="-387360"/>
            <a:ext cx="6480360" cy="775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D:\НАТАЛЬЯ\ИНТЕРНЕТ\КАРТИНКИ\НОВЫЙ ГОД\174efd0b3c3f.png"/>
          <p:cNvPicPr/>
          <p:nvPr/>
        </p:nvPicPr>
        <p:blipFill>
          <a:blip r:embed="rId3"/>
          <a:stretch/>
        </p:blipFill>
        <p:spPr>
          <a:xfrm>
            <a:off x="6132600" y="5008680"/>
            <a:ext cx="863640" cy="107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&amp;iecy;&amp;lcy;&amp;ocy;&amp;chcy;&amp;ncy;&amp;ycy;&amp;iecy; &amp;shcy;&amp;acy;&amp;rcy;&amp;ycy; &amp;vcy; &amp;vcy;&amp;iecy;&amp;kcy;&amp;tcy;&amp;ocy;&amp;rcy;&amp;iecy;"/>
          <p:cNvPicPr/>
          <p:nvPr/>
        </p:nvPicPr>
        <p:blipFill>
          <a:blip r:embed="rId4"/>
          <a:stretch/>
        </p:blipFill>
        <p:spPr>
          <a:xfrm>
            <a:off x="1330200" y="3975120"/>
            <a:ext cx="3919680" cy="471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User\Desktop\christmas_balls - копия.jpg"/>
          <p:cNvPicPr/>
          <p:nvPr/>
        </p:nvPicPr>
        <p:blipFill>
          <a:blip r:embed="rId5"/>
          <a:stretch/>
        </p:blipFill>
        <p:spPr>
          <a:xfrm rot="1260000">
            <a:off x="5661000" y="2873520"/>
            <a:ext cx="1089000" cy="128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C:\Users\User\Desktop\christmas_balls - копия.jpg"/>
          <p:cNvPicPr/>
          <p:nvPr/>
        </p:nvPicPr>
        <p:blipFill>
          <a:blip r:embed="rId6"/>
          <a:stretch/>
        </p:blipFill>
        <p:spPr>
          <a:xfrm rot="1301400">
            <a:off x="4303800" y="728640"/>
            <a:ext cx="1336680" cy="1241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C:\Users\User\Desktop\christmas_balls - копия (2).jpg"/>
          <p:cNvPicPr/>
          <p:nvPr/>
        </p:nvPicPr>
        <p:blipFill>
          <a:blip r:embed="rId7"/>
          <a:stretch/>
        </p:blipFill>
        <p:spPr>
          <a:xfrm rot="1263600">
            <a:off x="4064040" y="2161800"/>
            <a:ext cx="1244520" cy="12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C:\Users\User\Desktop\christmas_balls - копия (3).jpg"/>
          <p:cNvPicPr/>
          <p:nvPr/>
        </p:nvPicPr>
        <p:blipFill>
          <a:blip r:embed="rId8"/>
          <a:stretch/>
        </p:blipFill>
        <p:spPr>
          <a:xfrm rot="1455600">
            <a:off x="4390920" y="4141800"/>
            <a:ext cx="1106640" cy="136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C:\Users\User\Desktop\christmas_balls.jpg"/>
          <p:cNvPicPr/>
          <p:nvPr/>
        </p:nvPicPr>
        <p:blipFill>
          <a:blip r:embed="rId9"/>
          <a:stretch/>
        </p:blipFill>
        <p:spPr>
          <a:xfrm rot="1489200">
            <a:off x="2774520" y="2889360"/>
            <a:ext cx="1065240" cy="1203120"/>
          </a:xfrm>
          <a:prstGeom prst="rect">
            <a:avLst/>
          </a:prstGeom>
          <a:ln w="0">
            <a:noFill/>
          </a:ln>
        </p:spPr>
      </p:pic>
      <p:pic>
        <p:nvPicPr>
          <p:cNvPr id="143" name="B4EEF63F.mp3" descr=""/>
          <p:cNvPicPr/>
          <p:nvPr/>
        </p:nvPicPr>
        <p:blipFill>
          <a:blip r:embed="rId10"/>
          <a:stretch/>
        </p:blipFill>
        <p:spPr>
          <a:xfrm>
            <a:off x="8459640" y="6086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D:\НАТАЛЬЯ\ИНТЕРНЕТ\КАРТИНКИ\РАЗНОЕ ПОЛЕЗНОЕ\39d5374f5a83.png"/>
          <p:cNvPicPr/>
          <p:nvPr/>
        </p:nvPicPr>
        <p:blipFill>
          <a:blip r:embed="rId11"/>
          <a:stretch/>
        </p:blipFill>
        <p:spPr>
          <a:xfrm>
            <a:off x="4641840" y="-44280"/>
            <a:ext cx="4606920" cy="1517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D:\НАТАЛЬЯ\ИНТЕРНЕТ\КАРТИНКИ\РАЗНОЕ ПОЛЕЗНОЕ\39d5374f5a83.png"/>
          <p:cNvPicPr/>
          <p:nvPr/>
        </p:nvPicPr>
        <p:blipFill>
          <a:blip r:embed="rId12"/>
          <a:stretch/>
        </p:blipFill>
        <p:spPr>
          <a:xfrm>
            <a:off x="0" y="-73080"/>
            <a:ext cx="482112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Натали - Новогодние Игрушки.mp3" descr=""/>
          <p:cNvPicPr/>
          <p:nvPr/>
        </p:nvPicPr>
        <p:blipFill>
          <a:blip r:embed="rId13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658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4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4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4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4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4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4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4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4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4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4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4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5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375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6750"/>
                            </p:stCondLst>
                            <p:childTnLst>
                              <p:par>
                                <p:cTn id="99" nodeType="after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7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75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7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75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7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7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75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5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50" autoRev="1" fill="hold"/>
                                        <p:tgtEl>
                                          <p:spTgt spid="1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9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1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2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3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6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8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9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0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92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22623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1042920" y="2560680"/>
            <a:ext cx="6985080" cy="22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2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09" name="зыка_-_Чайковсий_-_Вальс_Цветов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minus_U_lesa_na_opushke_(vmusice.net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l_219[1]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TextBox 3"/>
          <p:cNvSpPr/>
          <p:nvPr/>
        </p:nvSpPr>
        <p:spPr>
          <a:xfrm>
            <a:off x="2627280" y="5373720"/>
            <a:ext cx="42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Garamond"/>
              </a:rPr>
              <a:t>ЗИМА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61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3035160" y="1417680"/>
            <a:ext cx="6337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Декаб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Январ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d0d0d"/>
                </a:solidFill>
                <a:latin typeface="Garamond"/>
              </a:rPr>
              <a:t>Февраль</a:t>
            </a:r>
            <a:endParaRPr b="0" lang="en-US" sz="7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Угол-уголь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Банка-баньк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Рисунок 3" descr=""/>
          <p:cNvPicPr/>
          <p:nvPr/>
        </p:nvPicPr>
        <p:blipFill>
          <a:blip r:embed="rId1"/>
          <a:stretch/>
        </p:blipFill>
        <p:spPr>
          <a:xfrm>
            <a:off x="4643280" y="115920"/>
            <a:ext cx="4367520" cy="3479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367520" cy="2943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345960" y="189000"/>
            <a:ext cx="8547120" cy="648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13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Я е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орехи. Е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- хвойное дерево. Угол</a:t>
            </a:r>
            <a:r>
              <a:rPr b="1" lang="ru-RU" sz="5200" spc="-1" strike="noStrike">
                <a:solidFill>
                  <a:srgbClr val="ff0000"/>
                </a:solidFill>
                <a:latin typeface="Garamond"/>
              </a:rPr>
              <a:t>ь 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свалили в уго</a:t>
            </a:r>
            <a:r>
              <a:rPr b="1" lang="ru-RU" sz="5200" spc="-1" strike="noStrike">
                <a:solidFill>
                  <a:srgbClr val="c6d9f1"/>
                </a:solidFill>
                <a:latin typeface="Garamond"/>
              </a:rPr>
              <a:t>л</a:t>
            </a:r>
            <a:r>
              <a:rPr b="1" lang="ru-RU" sz="5200" spc="-1" strike="noStrike">
                <a:solidFill>
                  <a:srgbClr val="ffffff"/>
                </a:solidFill>
                <a:latin typeface="Garamond"/>
              </a:rPr>
              <a:t> сарая.</a:t>
            </a:r>
            <a:endParaRPr b="0" lang="en-US" sz="5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816360" cy="22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..льто, м...дведь, ..ктябрь,  учит..льница, в..р..бей, т..традь, м..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П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то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дведь, 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ктябрь,  учи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ница, в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р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о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бей, т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традь, м</a:t>
            </a: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а</a:t>
            </a:r>
            <a:r>
              <a:rPr b="1" lang="ru-RU" sz="4800" spc="-1" strike="noStrike">
                <a:solidFill>
                  <a:srgbClr val="eeece1"/>
                </a:solidFill>
                <a:latin typeface="Garamond"/>
              </a:rPr>
              <a:t>льчик.</a:t>
            </a:r>
            <a:endParaRPr b="1" lang="en-US" sz="4800" spc="-1" strike="noStrike">
              <a:solidFill>
                <a:srgbClr val="eeece1"/>
              </a:solidFill>
              <a:latin typeface="Garamond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5148360" y="38736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 u="sng">
                <a:solidFill>
                  <a:srgbClr val="e6b9b8"/>
                </a:solidFill>
                <a:uFillTx/>
                <a:latin typeface="Garamond"/>
              </a:rPr>
              <a:t>Работа в паре</a:t>
            </a:r>
            <a:br>
              <a:rPr sz="4400"/>
            </a:br>
            <a:r>
              <a:rPr b="1" i="1" lang="ru-RU" sz="3600" spc="-1" strike="noStrike">
                <a:solidFill>
                  <a:srgbClr val="00b0f0"/>
                </a:solidFill>
                <a:latin typeface="Garamond"/>
              </a:rPr>
              <a:t>Запиши слова с «ь» в середине слова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26920" y="2133360"/>
            <a:ext cx="763272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онь-...,зверь-…., пень-…., уголь-….,окунь-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4284720" y="3637080"/>
            <a:ext cx="4751280" cy="3220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8:47:38Z</dcterms:created>
  <dc:creator>Кондаковы</dc:creator>
  <dc:description/>
  <dc:language>en-US</dc:language>
  <cp:lastModifiedBy>Учитель</cp:lastModifiedBy>
  <dcterms:modified xsi:type="dcterms:W3CDTF">2022-12-13T15:28:53Z</dcterms:modified>
  <cp:revision>57</cp:revision>
  <dc:subject/>
  <dc:title>Зима  Зимний Зимовать</dc:title>
</cp:coreProperties>
</file>