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3E64-6353-472B-80DC-FC2901DF00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F327-EBE3-4423-9C1C-ADF8728B547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8F6E-ED69-4361-A121-A8863491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3560-D9B1-488F-8103-3C50840A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9D9F-A605-4E81-A884-9B869F93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FE76-0196-44F1-BE8B-A404306C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BBA-01F0-47C8-9334-760B989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484E-01B7-4A9C-8775-1F7BF62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CA4B-4929-466F-A5D8-F19FCDBF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3948-DF77-463B-AFFB-4A61E239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B0D-3A2E-4EF9-B349-5862AB5D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86B0-442C-40C6-B4B4-4193A837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59A3-212F-4128-8918-D7FFC74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B7B2-503B-45CC-A1F8-278BA5B9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5A37-5545-4A58-B39E-E2AE258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5790-50AB-45DC-817D-8623882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5F12-E958-4270-B23B-C84771D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2C6C-C1DA-425F-B4C4-5C26DCF7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2028-E53E-407F-A268-AE3E336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1375-C311-4913-BBC2-9692B51A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A718-1D6B-4C45-9D99-819402F4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BFBD-FEB3-4BA1-96F7-994FD016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BC58-DD94-4D1A-9848-F632BF1E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C145-09E3-4DFF-812C-51ED974B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B3C2-193B-459D-B9D3-5F92E3A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7420-58F9-4DB7-9CFB-98D9E16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ED8-CD09-4589-BDD2-DDB8DEAB4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1129-CA78-4670-AF43-9D185D1F7A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Открытый урок русского  языка</a:t>
            </a: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о 2 «И» классе </a:t>
            </a:r>
            <a:br>
              <a:rPr sz="32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«Правописание мягкого знака в конце и середине слова перед другими согласными»</a:t>
            </a:r>
            <a:br>
              <a:rPr sz="44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Учитель:Бадмаева А.В. МАОУ СОШ №8 г.Улан-Удэ</a:t>
            </a:r>
            <a:endParaRPr b="1" lang="en-US" sz="1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НАТАЛЬЯ\ИНТЕРНЕТ\ФОНЫ\ШАБЛОНЫ ДЛЯ СОСТАВЛЕНИЯ КОЛЛАЖЕЙ\852a05802de65efc8e0ef4ca46d0dd6a_30_12_2008_0453034001230666147_unkn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НАТАЛЬЯ\ИНТЕРНЕТ\КАРТИНКИ\РАСТЕНИЯ, ЦВЕТЫ\2f641a2b6c43.jpg"/>
          <p:cNvPicPr/>
          <p:nvPr/>
        </p:nvPicPr>
        <p:blipFill>
          <a:blip r:embed="rId2"/>
          <a:stretch/>
        </p:blipFill>
        <p:spPr>
          <a:xfrm>
            <a:off x="1547640" y="-387360"/>
            <a:ext cx="6480360" cy="775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НАТАЛЬЯ\ИНТЕРНЕТ\КАРТИНКИ\НОВЫЙ ГОД\174efd0b3c3f.png"/>
          <p:cNvPicPr/>
          <p:nvPr/>
        </p:nvPicPr>
        <p:blipFill>
          <a:blip r:embed="rId3"/>
          <a:stretch/>
        </p:blipFill>
        <p:spPr>
          <a:xfrm>
            <a:off x="6132600" y="5008680"/>
            <a:ext cx="863640" cy="107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&amp;iecy;&amp;lcy;&amp;ocy;&amp;chcy;&amp;ncy;&amp;ycy;&amp;iecy; &amp;shcy;&amp;acy;&amp;rcy;&amp;ycy; &amp;vcy; &amp;vcy;&amp;iecy;&amp;kcy;&amp;tcy;&amp;ocy;&amp;rcy;&amp;iecy;"/>
          <p:cNvPicPr/>
          <p:nvPr/>
        </p:nvPicPr>
        <p:blipFill>
          <a:blip r:embed="rId4"/>
          <a:stretch/>
        </p:blipFill>
        <p:spPr>
          <a:xfrm>
            <a:off x="1330200" y="3975120"/>
            <a:ext cx="391968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User\Desktop\christmas_balls - копия.jpg"/>
          <p:cNvPicPr/>
          <p:nvPr/>
        </p:nvPicPr>
        <p:blipFill>
          <a:blip r:embed="rId5"/>
          <a:stretch/>
        </p:blipFill>
        <p:spPr>
          <a:xfrm rot="1260000">
            <a:off x="5661000" y="2873520"/>
            <a:ext cx="1089000" cy="12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User\Desktop\christmas_balls - копия.jpg"/>
          <p:cNvPicPr/>
          <p:nvPr/>
        </p:nvPicPr>
        <p:blipFill>
          <a:blip r:embed="rId6"/>
          <a:stretch/>
        </p:blipFill>
        <p:spPr>
          <a:xfrm rot="1301400">
            <a:off x="4303800" y="728640"/>
            <a:ext cx="133668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User\Desktop\christmas_balls - копия (2).jpg"/>
          <p:cNvPicPr/>
          <p:nvPr/>
        </p:nvPicPr>
        <p:blipFill>
          <a:blip r:embed="rId7"/>
          <a:stretch/>
        </p:blipFill>
        <p:spPr>
          <a:xfrm rot="1263600">
            <a:off x="4064040" y="2161800"/>
            <a:ext cx="1244520" cy="12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User\Desktop\christmas_balls - копия (3).jpg"/>
          <p:cNvPicPr/>
          <p:nvPr/>
        </p:nvPicPr>
        <p:blipFill>
          <a:blip r:embed="rId8"/>
          <a:stretch/>
        </p:blipFill>
        <p:spPr>
          <a:xfrm rot="1455600">
            <a:off x="4390920" y="4141800"/>
            <a:ext cx="1106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User\Desktop\christmas_balls.jpg"/>
          <p:cNvPicPr/>
          <p:nvPr/>
        </p:nvPicPr>
        <p:blipFill>
          <a:blip r:embed="rId9"/>
          <a:stretch/>
        </p:blipFill>
        <p:spPr>
          <a:xfrm rot="1489200">
            <a:off x="2774520" y="2889360"/>
            <a:ext cx="1065240" cy="1203120"/>
          </a:xfrm>
          <a:prstGeom prst="rect">
            <a:avLst/>
          </a:prstGeom>
          <a:ln w="0">
            <a:noFill/>
          </a:ln>
        </p:spPr>
      </p:pic>
      <p:pic>
        <p:nvPicPr>
          <p:cNvPr id="143" name="B4EEF63F.mp3" descr=""/>
          <p:cNvPicPr/>
          <p:nvPr/>
        </p:nvPicPr>
        <p:blipFill>
          <a:blip r:embed="rId10"/>
          <a:stretch/>
        </p:blipFill>
        <p:spPr>
          <a:xfrm>
            <a:off x="8459640" y="6086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НАТАЛЬЯ\ИНТЕРНЕТ\КАРТИНКИ\РАЗНОЕ ПОЛЕЗНОЕ\39d5374f5a83.png"/>
          <p:cNvPicPr/>
          <p:nvPr/>
        </p:nvPicPr>
        <p:blipFill>
          <a:blip r:embed="rId11"/>
          <a:stretch/>
        </p:blipFill>
        <p:spPr>
          <a:xfrm>
            <a:off x="4641840" y="-44280"/>
            <a:ext cx="4606920" cy="151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НАТАЛЬЯ\ИНТЕРНЕТ\КАРТИНКИ\РАЗНОЕ ПОЛЕЗНОЕ\39d5374f5a83.png"/>
          <p:cNvPicPr/>
          <p:nvPr/>
        </p:nvPicPr>
        <p:blipFill>
          <a:blip r:embed="rId12"/>
          <a:stretch/>
        </p:blipFill>
        <p:spPr>
          <a:xfrm>
            <a:off x="0" y="-73080"/>
            <a:ext cx="482112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Натали - Новогодние Игрушки.mp3" descr=""/>
          <p:cNvPicPr/>
          <p:nvPr/>
        </p:nvPicPr>
        <p:blipFill>
          <a:blip r:embed="rId1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58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6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2623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42920" y="2560680"/>
            <a:ext cx="6985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09" name="зыка_-_Чайковсий_-_Вальс_Цветов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minus_U_lesa_na_opushke_(vmusice.net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l_219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3"/>
          <p:cNvSpPr/>
          <p:nvPr/>
        </p:nvSpPr>
        <p:spPr>
          <a:xfrm>
            <a:off x="2627280" y="537372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Garamond"/>
              </a:rPr>
              <a:t>ЗИМА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035160" y="1417680"/>
            <a:ext cx="6337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Декаб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Янва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Феврал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Угол-у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Банка-бань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367520" cy="347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367520" cy="29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45960" y="189000"/>
            <a:ext cx="8547120" cy="64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13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Я е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орехи. Е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- хвойное дерево. Уго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 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свалили в уго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сарая.</a:t>
            </a:r>
            <a:endParaRPr b="0" lang="en-US" sz="5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16360" cy="22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..льто, м...дведь, ..ктябрь,  учит..льница, в..р..бей, т..традь, м..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то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дведь, 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тябрь,  учи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ница, в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бей, 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традь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e6b9b8"/>
                </a:solidFill>
                <a:uFillTx/>
                <a:latin typeface="Garamond"/>
              </a:rPr>
              <a:t>Работа в паре</a:t>
            </a:r>
            <a:br>
              <a:rPr sz="4400"/>
            </a:br>
            <a:r>
              <a:rPr b="1" i="1" lang="ru-RU" sz="3600" spc="-1" strike="noStrike">
                <a:solidFill>
                  <a:srgbClr val="00b0f0"/>
                </a:solidFill>
                <a:latin typeface="Garamond"/>
              </a:rPr>
              <a:t>Запиши слова с «ь» в середине слов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213336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онь-...,зверь-…., пень-…., уголь-….,окунь-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4284720" y="3637080"/>
            <a:ext cx="475128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47:38Z</dcterms:created>
  <dc:creator>Кондаковы</dc:creator>
  <dc:description/>
  <dc:language>en-US</dc:language>
  <cp:lastModifiedBy>Учитель</cp:lastModifiedBy>
  <dcterms:modified xsi:type="dcterms:W3CDTF">2023-02-06T15:38:31Z</dcterms:modified>
  <cp:revision>58</cp:revision>
  <dc:subject/>
  <dc:title>Зима  Зимний Зимовать</dc:title>
</cp:coreProperties>
</file>