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7620-43A6-4382-92B1-AFEEAB3695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79B9-9050-4D54-A5F2-20C61E87C19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216B-5A56-464B-920D-0AC62437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F80A-0922-4F3A-A6DD-95CF58CE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3F7B-7526-441D-A2E7-71A37440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921D-ED6A-48FD-87AF-58E0F251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6968-0BF5-4EAD-B702-ABD5F425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7762-4D97-48B6-957B-B526A60A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577E-CA83-4D30-8F4F-D952BE5A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CCEB-404B-4E83-B6A3-8E7E8787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9AF9-A13A-4585-AADD-C9F4FE1A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A263-678A-42A2-94C5-CD1906F0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8A6F-8C7B-4BFA-9199-7317034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53B7-B821-4F59-9DBD-9E638B19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D001-5C0D-400E-8B67-7FCAADC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9A75-3420-4D2E-9A6A-FA16FED5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0817-7837-489D-990D-6DCC5AB6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E86F-FA5C-4980-889E-008F4D41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DB31-7325-4A19-88CC-7D0D2352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13CE-A84D-46DB-8889-707DC0FF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153A-0BEC-4630-84FE-91BB8908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C0895-143E-4D5A-B142-F39C8296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11DB-E74A-43D1-8973-2BE9B4B2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643F-9B8E-49E8-A9B0-0090FEF0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E56E-C56A-45B4-AAC0-DA68A78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0038-29BF-4FB7-AF8B-D4C0F554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C64E-279C-4E60-AF4C-49573AD8C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0696-773B-4B4E-982E-70F7E94C38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Открытый урок русского  языка</a:t>
            </a:r>
            <a:br>
              <a:rPr sz="3200"/>
            </a:b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о 2 «И» классе </a:t>
            </a:r>
            <a:br>
              <a:rPr sz="3200"/>
            </a:b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Тема: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«Правописание мягкого знака в конце и середине слова перед другими согласными»</a:t>
            </a:r>
            <a:br>
              <a:rPr sz="44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Учитель:Бадмаева А.В. МАОУ СОШ №8 г.Улан-Удэ</a:t>
            </a:r>
            <a:endParaRPr b="1" lang="en-US" sz="1800" spc="-1" strike="noStrike">
              <a:solidFill>
                <a:srgbClr val="eeece1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о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ко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звер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звер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п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п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д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д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угол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 угол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.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D:\НАТАЛЬЯ\ИНТЕРНЕТ\ФОНЫ\ШАБЛОНЫ ДЛЯ СОСТАВЛЕНИЯ КОЛЛАЖЕЙ\852a05802de65efc8e0ef4ca46d0dd6a_30_12_2008_0453034001230666147_unknow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D:\НАТАЛЬЯ\ИНТЕРНЕТ\КАРТИНКИ\РАСТЕНИЯ, ЦВЕТЫ\2f641a2b6c43.jpg"/>
          <p:cNvPicPr/>
          <p:nvPr/>
        </p:nvPicPr>
        <p:blipFill>
          <a:blip r:embed="rId2"/>
          <a:stretch/>
        </p:blipFill>
        <p:spPr>
          <a:xfrm>
            <a:off x="1547640" y="-387360"/>
            <a:ext cx="6480360" cy="775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D:\НАТАЛЬЯ\ИНТЕРНЕТ\КАРТИНКИ\НОВЫЙ ГОД\174efd0b3c3f.png"/>
          <p:cNvPicPr/>
          <p:nvPr/>
        </p:nvPicPr>
        <p:blipFill>
          <a:blip r:embed="rId3"/>
          <a:stretch/>
        </p:blipFill>
        <p:spPr>
          <a:xfrm>
            <a:off x="6132600" y="5008680"/>
            <a:ext cx="863640" cy="1077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&amp;iecy;&amp;lcy;&amp;ocy;&amp;chcy;&amp;ncy;&amp;ycy;&amp;iecy; &amp;shcy;&amp;acy;&amp;rcy;&amp;ycy; &amp;vcy; &amp;vcy;&amp;iecy;&amp;kcy;&amp;tcy;&amp;ocy;&amp;rcy;&amp;iecy;"/>
          <p:cNvPicPr/>
          <p:nvPr/>
        </p:nvPicPr>
        <p:blipFill>
          <a:blip r:embed="rId4"/>
          <a:stretch/>
        </p:blipFill>
        <p:spPr>
          <a:xfrm>
            <a:off x="1330200" y="3975120"/>
            <a:ext cx="3919680" cy="471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Users\User\Desktop\christmas_balls - копия.jpg"/>
          <p:cNvPicPr/>
          <p:nvPr/>
        </p:nvPicPr>
        <p:blipFill>
          <a:blip r:embed="rId5"/>
          <a:stretch/>
        </p:blipFill>
        <p:spPr>
          <a:xfrm rot="1260000">
            <a:off x="5661000" y="2873520"/>
            <a:ext cx="1089000" cy="128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Users\User\Desktop\christmas_balls - копия.jpg"/>
          <p:cNvPicPr/>
          <p:nvPr/>
        </p:nvPicPr>
        <p:blipFill>
          <a:blip r:embed="rId6"/>
          <a:stretch/>
        </p:blipFill>
        <p:spPr>
          <a:xfrm rot="1301400">
            <a:off x="4303800" y="728640"/>
            <a:ext cx="1336680" cy="124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Users\User\Desktop\christmas_balls - копия (2).jpg"/>
          <p:cNvPicPr/>
          <p:nvPr/>
        </p:nvPicPr>
        <p:blipFill>
          <a:blip r:embed="rId7"/>
          <a:stretch/>
        </p:blipFill>
        <p:spPr>
          <a:xfrm rot="1263600">
            <a:off x="4064040" y="2161800"/>
            <a:ext cx="1244520" cy="128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:\Users\User\Desktop\christmas_balls - копия (3).jpg"/>
          <p:cNvPicPr/>
          <p:nvPr/>
        </p:nvPicPr>
        <p:blipFill>
          <a:blip r:embed="rId8"/>
          <a:stretch/>
        </p:blipFill>
        <p:spPr>
          <a:xfrm rot="1455600">
            <a:off x="4390920" y="4141800"/>
            <a:ext cx="1106640" cy="136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User\Desktop\christmas_balls.jpg"/>
          <p:cNvPicPr/>
          <p:nvPr/>
        </p:nvPicPr>
        <p:blipFill>
          <a:blip r:embed="rId9"/>
          <a:stretch/>
        </p:blipFill>
        <p:spPr>
          <a:xfrm rot="1489200">
            <a:off x="2774520" y="2889360"/>
            <a:ext cx="1065240" cy="1203120"/>
          </a:xfrm>
          <a:prstGeom prst="rect">
            <a:avLst/>
          </a:prstGeom>
          <a:ln w="0">
            <a:noFill/>
          </a:ln>
        </p:spPr>
      </p:pic>
      <p:pic>
        <p:nvPicPr>
          <p:cNvPr id="143" name="B4EEF63F.mp3" descr=""/>
          <p:cNvPicPr/>
          <p:nvPr/>
        </p:nvPicPr>
        <p:blipFill>
          <a:blip r:embed="rId10"/>
          <a:stretch/>
        </p:blipFill>
        <p:spPr>
          <a:xfrm>
            <a:off x="8459640" y="6086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D:\НАТАЛЬЯ\ИНТЕРНЕТ\КАРТИНКИ\РАЗНОЕ ПОЛЕЗНОЕ\39d5374f5a83.png"/>
          <p:cNvPicPr/>
          <p:nvPr/>
        </p:nvPicPr>
        <p:blipFill>
          <a:blip r:embed="rId11"/>
          <a:stretch/>
        </p:blipFill>
        <p:spPr>
          <a:xfrm>
            <a:off x="4641840" y="-44280"/>
            <a:ext cx="4606920" cy="151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D:\НАТАЛЬЯ\ИНТЕРНЕТ\КАРТИНКИ\РАЗНОЕ ПОЛЕЗНОЕ\39d5374f5a83.png"/>
          <p:cNvPicPr/>
          <p:nvPr/>
        </p:nvPicPr>
        <p:blipFill>
          <a:blip r:embed="rId12"/>
          <a:stretch/>
        </p:blipFill>
        <p:spPr>
          <a:xfrm>
            <a:off x="0" y="-73080"/>
            <a:ext cx="482112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Натали - Новогодние Игрушки.mp3" descr=""/>
          <p:cNvPicPr/>
          <p:nvPr/>
        </p:nvPicPr>
        <p:blipFill>
          <a:blip r:embed="rId13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658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4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4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4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4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4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4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25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99" nodeType="after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7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79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3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8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6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8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226237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1042920" y="2560680"/>
            <a:ext cx="698508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2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09" name="зыка_-_Чайковсий_-_Вальс_Цветов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minus_U_lesa_na_opushke_(vmusice.net)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l_219[1]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TextBox 3"/>
          <p:cNvSpPr/>
          <p:nvPr/>
        </p:nvSpPr>
        <p:spPr>
          <a:xfrm>
            <a:off x="2627280" y="5373720"/>
            <a:ext cx="42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Garamond"/>
              </a:rPr>
              <a:t>ЗИМА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61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1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3035160" y="1417680"/>
            <a:ext cx="6337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d0d0d"/>
                </a:solidFill>
                <a:latin typeface="Garamond"/>
              </a:rPr>
              <a:t>Декабрь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d0d0d"/>
                </a:solidFill>
                <a:latin typeface="Garamond"/>
              </a:rPr>
              <a:t>Январь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d0d0d"/>
                </a:solidFill>
                <a:latin typeface="Garamond"/>
              </a:rPr>
              <a:t>Февраль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Угол-угол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Банка-баньк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4643280" y="115920"/>
            <a:ext cx="4367520" cy="347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367520" cy="294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345960" y="189000"/>
            <a:ext cx="8547120" cy="648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13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Я е</a:t>
            </a:r>
            <a:r>
              <a:rPr b="1" lang="ru-RU" sz="5200" spc="-1" strike="noStrike">
                <a:solidFill>
                  <a:srgbClr val="c6d9f1"/>
                </a:solidFill>
                <a:latin typeface="Garamond"/>
              </a:rPr>
              <a:t>л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 орехи. Ел</a:t>
            </a:r>
            <a:r>
              <a:rPr b="1" lang="ru-RU" sz="52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 - хвойное дерево. Угол</a:t>
            </a:r>
            <a:r>
              <a:rPr b="1" lang="ru-RU" sz="5200" spc="-1" strike="noStrike">
                <a:solidFill>
                  <a:srgbClr val="ff0000"/>
                </a:solidFill>
                <a:latin typeface="Garamond"/>
              </a:rPr>
              <a:t>ь 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свалили в уго</a:t>
            </a:r>
            <a:r>
              <a:rPr b="1" lang="ru-RU" sz="5200" spc="-1" strike="noStrike">
                <a:solidFill>
                  <a:srgbClr val="c6d9f1"/>
                </a:solidFill>
                <a:latin typeface="Garamond"/>
              </a:rPr>
              <a:t>л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 сарая.</a:t>
            </a:r>
            <a:endParaRPr b="0" lang="en-US" sz="5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4859280" y="4365720"/>
            <a:ext cx="3816360" cy="225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П..льто, м...дведь, ..ктябрь,  учит..льница, в..р..бей, т..традь, м..льчик.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5148360" y="38736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П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льто, м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дведь, 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тябрь,  учит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льница, в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р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бей, т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традь, м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льчик.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5148360" y="38736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e6b9b8"/>
                </a:solidFill>
                <a:uFillTx/>
                <a:latin typeface="Garamond"/>
              </a:rPr>
              <a:t>Работа в паре</a:t>
            </a:r>
            <a:br>
              <a:rPr sz="4400"/>
            </a:br>
            <a:r>
              <a:rPr b="1" i="1" lang="ru-RU" sz="3600" spc="-1" strike="noStrike">
                <a:solidFill>
                  <a:srgbClr val="00b0f0"/>
                </a:solidFill>
                <a:latin typeface="Garamond"/>
              </a:rPr>
              <a:t>Запиши слова с «ь» в середине слова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26920" y="2133360"/>
            <a:ext cx="7632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Конь-...,зверь-…., пень-…., уголь-….,окунь-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4284720" y="3637080"/>
            <a:ext cx="4751280" cy="322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8:47:38Z</dcterms:created>
  <dc:creator>Кондаковы</dc:creator>
  <dc:description/>
  <dc:language>en-US</dc:language>
  <cp:lastModifiedBy>Учитель</cp:lastModifiedBy>
  <dcterms:modified xsi:type="dcterms:W3CDTF">2023-02-06T15:38:31Z</dcterms:modified>
  <cp:revision>58</cp:revision>
  <dc:subject/>
  <dc:title>Зима  Зимний Зимовать</dc:title>
</cp:coreProperties>
</file>